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D80F-8663-401A-91A1-573239722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7AEE-ED13-471D-8FE1-8BCADAB1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03E8-2772-4A96-9A82-ACC78105D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9296-7161-4372-932B-9CF555997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66A8-23D2-411F-9BE0-A6B2E96A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5399-A4CD-4199-ABA0-D9036AFC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C980-D73B-466E-9860-BE1FFF03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61F2-AAE1-474D-B1AA-9AD80D82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B6B6-EBE8-4DFB-A824-02650CE9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A001-096C-4B26-B2D4-11F44A97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6744-1281-4A49-9ABF-2A19DAD1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E244-8499-4323-B3FA-F9F14773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C596-9DE0-4E9E-B77C-F928AFA41B2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99"/>
                </a:solidFill>
                <a:latin typeface="Arial"/>
              </a:rPr>
              <a:t>Урок математики в 9 классе </a:t>
            </a:r>
            <a:br>
              <a:rPr sz="3600"/>
            </a:br>
            <a:r>
              <a:rPr b="0" lang="ru-RU" sz="3600" spc="-1" strike="noStrike">
                <a:solidFill>
                  <a:srgbClr val="ffff99"/>
                </a:solidFill>
                <a:latin typeface="Arial"/>
              </a:rPr>
              <a:t>с элементами краеведения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итова Е. В., учитель математи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БОУ «Средняя общеобразовательная школа №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кроссворд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2800440" y="1185840"/>
            <a:ext cx="354312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V</a:t>
            </a: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. Решение задач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Задача 1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 Найти сотый член арифметической прогрессии (а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, если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i="1" lang="ru-RU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= - 2,5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а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= - 0,5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ff"/>
                </a:solidFill>
                <a:uFillTx/>
                <a:latin typeface="Arial"/>
                <a:hlinkClick r:id="rId1" action="ppaction://hlinksldjump"/>
              </a:rPr>
              <a:t>Ответ: (а</a:t>
            </a:r>
            <a:r>
              <a:rPr b="0" lang="ru-RU" sz="3200" spc="-1" strike="noStrike" u="sng" baseline="-25000">
                <a:solidFill>
                  <a:srgbClr val="00ffff"/>
                </a:solidFill>
                <a:uFillTx/>
                <a:latin typeface="Arial"/>
                <a:hlinkClick r:id="rId2" action="ppaction://hlinksldjump"/>
              </a:rPr>
              <a:t>100</a:t>
            </a:r>
            <a:r>
              <a:rPr b="0" lang="ru-RU" sz="3200" spc="-1" strike="noStrike" u="sng" baseline="-25000">
                <a:solidFill>
                  <a:srgbClr val="00ffff"/>
                </a:solidFill>
                <a:uFillTx/>
                <a:latin typeface="Arial"/>
                <a:hlinkClick r:id="rId3" action="ppaction://hlinksldjump"/>
              </a:rPr>
              <a:t> = - 5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ffff99"/>
                </a:solidFill>
                <a:latin typeface="Arial"/>
              </a:rPr>
              <a:t>А теперь давайте рассмотрим компьютерное решение задач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Задача 1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Для нахождения сотого члена откроем файл в программе Microsoft Ехсеl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полним числовые данные: в ячейку А1 по условию введем число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–2,5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ячейку А2 введем число с разностью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- 0,5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,т.е число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-3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делим ячейки, добиваясь тоненького крестика в нижнем правом углу ячейки А2 и нажимая на правую клавишу мыши, движением вниз ведем до 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так, видим на пересечении число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- 5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вет совпал с решением при использовании форму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Arial"/>
              </a:rPr>
              <a:t>I </a:t>
            </a:r>
            <a:r>
              <a:rPr b="1" lang="ru-RU" sz="2800" spc="-1" strike="noStrike" u="sng">
                <a:solidFill>
                  <a:srgbClr val="ffff99"/>
                </a:solidFill>
                <a:uFillTx/>
                <a:latin typeface="Arial"/>
              </a:rPr>
              <a:t> тип задач : Вычисление </a:t>
            </a:r>
            <a:r>
              <a:rPr b="1" lang="en-US" sz="2800" spc="-1" strike="noStrike" u="sng">
                <a:solidFill>
                  <a:srgbClr val="ffff99"/>
                </a:solidFill>
                <a:uFillTx/>
                <a:latin typeface="Arial"/>
              </a:rPr>
              <a:t>n</a:t>
            </a:r>
            <a:r>
              <a:rPr b="1" lang="ru-RU" sz="2800" spc="-1" strike="noStrike" u="sng">
                <a:solidFill>
                  <a:srgbClr val="ffff99"/>
                </a:solidFill>
                <a:uFillTx/>
                <a:latin typeface="Arial"/>
              </a:rPr>
              <a:t>-го члена арифметической прогрессии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. Найдите 24 член арифметической прогрессии, в которой а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= 3,7;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= 4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( а</a:t>
            </a:r>
            <a:r>
              <a:rPr b="1" i="1" lang="ru-RU" sz="1400" spc="-1" strike="noStrike" baseline="-25000">
                <a:solidFill>
                  <a:srgbClr val="ffffff"/>
                </a:solidFill>
                <a:latin typeface="Arial"/>
              </a:rPr>
              <a:t>24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= 95,7          Площадь Кемеровской обл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составляет 95,7 км</a:t>
            </a:r>
            <a:r>
              <a:rPr b="1" i="1" lang="ru-RU" sz="1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Вычислите а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, если а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= - 1;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= 3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14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= 32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32км</a:t>
            </a:r>
            <a:r>
              <a:rPr b="1" i="1" lang="ru-RU" sz="1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– площадь самого большого озера Большой Берчикуль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. Вычислите а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, если а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= - 0,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+3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= 2,2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2,2км</a:t>
            </a:r>
            <a:r>
              <a:rPr b="1" i="1" lang="ru-RU" sz="1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– площадь самого маленького озера Малый Берчикуль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4. Найдите 25 и 42 члены арифметической прогрессии, заданной формулой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n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– го член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= 4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+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ru-RU" sz="1400" spc="-1" strike="noStrike" baseline="-25000">
                <a:solidFill>
                  <a:srgbClr val="ffffff"/>
                </a:solidFill>
                <a:latin typeface="Arial"/>
              </a:rPr>
              <a:t>25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= 101; у</a:t>
            </a:r>
            <a:r>
              <a:rPr b="1" lang="ru-RU" sz="1400" spc="-1" strike="noStrike" baseline="-25000">
                <a:solidFill>
                  <a:srgbClr val="ffffff"/>
                </a:solidFill>
                <a:latin typeface="Arial"/>
              </a:rPr>
              <a:t>42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= 170    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Горная Шория занимает южную часть Кемеровской обл. Ее горный массив вытянулся с запада на восток  на 101 км и с севера на юг – на 170км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5. Арифметическая прогрессия задана условиями: а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= 3, а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</a:rPr>
              <a:t>+1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= а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+5. Найдите номер чле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этой прогрессии равного 123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= 25     25км – это длина самой маленькой реки Кемеровской обл. - Чулым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6. Арифметическая прогрессия задана условиями: а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= 31, а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</a:rPr>
              <a:t>+1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= а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n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 3. Найдите номер члена этой прогрессии, равного – 8.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= 14    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Более 14 млрд. тонн - запасы каменного угля для открытой добычи находятся в недрах Кузбасса. Основные запасы сосредоточены в Ерунаковском, Мрасском, Томусинском и Бачатском районах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7. Какое четное натуральное число стоит на 780 месте арифметической прогрессии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(а</a:t>
            </a:r>
            <a:r>
              <a:rPr b="1" i="1" lang="ru-RU" sz="1400" spc="-1" strike="noStrike" baseline="-25000">
                <a:solidFill>
                  <a:srgbClr val="ffffff"/>
                </a:solidFill>
                <a:latin typeface="Arial"/>
              </a:rPr>
              <a:t>780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= 1560,  Наивысшая точка хребта горной Шории – гора - голец Пустанг («Ледяная гора») высотой 1560м, представленная гранитным массивом. По нему поднимаются шесть отдельных вершин, разделенных седловинами. Его склоны покрыты тайгой и мохово – кустарниковой тундрой)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98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98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98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98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98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98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98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98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98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898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98" fill="hold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98" fill="hold"/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98" fill="hold"/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98" fill="hold"/>
                                        <p:tgtEl>
                                          <p:spTgt spid="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98" fill="hold"/>
                                        <p:tgtEl>
                                          <p:spTgt spid="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99"/>
                </a:solidFill>
                <a:uFillTx/>
                <a:latin typeface="Arial"/>
              </a:rPr>
              <a:t>I I</a:t>
            </a:r>
            <a:r>
              <a:rPr b="1" lang="ru-RU" sz="3200" spc="-1" strike="noStrike" u="sng">
                <a:solidFill>
                  <a:srgbClr val="ffff99"/>
                </a:solidFill>
                <a:uFillTx/>
                <a:latin typeface="Arial"/>
              </a:rPr>
              <a:t> тип задач: Вычисление суммы </a:t>
            </a:r>
            <a:r>
              <a:rPr b="1" i="1" lang="en-US" sz="3200" spc="-1" strike="noStrike" u="sng">
                <a:solidFill>
                  <a:srgbClr val="ffff99"/>
                </a:solidFill>
                <a:uFillTx/>
                <a:latin typeface="Arial"/>
              </a:rPr>
              <a:t>n </a:t>
            </a:r>
            <a:r>
              <a:rPr b="1" lang="ru-RU" sz="3200" spc="-1" strike="noStrike" u="sng">
                <a:solidFill>
                  <a:srgbClr val="ffff99"/>
                </a:solidFill>
                <a:uFillTx/>
                <a:latin typeface="Arial"/>
              </a:rPr>
              <a:t>первых членов арифметической прогрессии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. Найдите сумму 113 членов арифметической прогрессии, в которой а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= 1502;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= 1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ru-RU" sz="1400" spc="-1" strike="noStrike" baseline="-25000">
                <a:solidFill>
                  <a:srgbClr val="ffffff"/>
                </a:solidFill>
                <a:latin typeface="Arial"/>
              </a:rPr>
              <a:t>113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= 245662          Общая протяженность рек Кемеровской обл составляет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245662км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Найдите сумму 14 членов арифметической прогрессии, в которой а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= 14;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= 3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ru-RU" sz="1400" spc="-1" strike="noStrike" baseline="-25000">
                <a:solidFill>
                  <a:srgbClr val="ffffff"/>
                </a:solidFill>
                <a:latin typeface="Arial"/>
              </a:rPr>
              <a:t>14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=469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469км – длина реки Кия - второй по величине в Кемеровской обл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. В арифметической прогрессии а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= 10,3;  а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</a:rPr>
              <a:t>20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= 76. Найдите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ru-RU" sz="1400" spc="-1" strike="noStrike" baseline="-25000">
                <a:solidFill>
                  <a:srgbClr val="ffffff"/>
                </a:solidFill>
                <a:latin typeface="Arial"/>
              </a:rPr>
              <a:t>20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= 863    самая длинная из рек Кемеровской обл – Томь составляет 863км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4.  Найдите сумму всех натуральных чисел с 8 по 32 включительн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Сумма 500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    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Кедровых лесов в Кемеровской области немного. Они составляют около 4% от всей площади, покрытой лесами. Кедр сибирский… «Будто боярин в дорогой шубе», - говорит о нем писатель Д.Н. Мамин – Сибиряк Сколько лет живет кедр, мы узнали, вычислив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сумму всех натуральных чисел с 8 по 32 включительно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. Таким образом мы определили, что живет кедр до 500 лет и почти всю жизнь, начиная с 30 – 50 лет, он плодоносит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5. В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ычислите сумму 68 членов арифметической прогрессии, заданной формулой 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ru-RU" sz="1400" spc="-1" strike="noStrike" baseline="-25000">
                <a:solidFill>
                  <a:srgbClr val="ffffff"/>
                </a:solidFill>
                <a:latin typeface="Arial"/>
              </a:rPr>
              <a:t>68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=603,5    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примерно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600кг -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таков урожай орехов с 1 га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6. Вычислите сумму 128 членов арифметической прогрессии, заданной рекуррентным способом: а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= 35, а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</a:rPr>
              <a:t>+1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= а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+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ru-RU" sz="1400" spc="-1" strike="noStrike" baseline="-25000">
                <a:solidFill>
                  <a:srgbClr val="ffffff"/>
                </a:solidFill>
                <a:latin typeface="Arial"/>
              </a:rPr>
              <a:t>128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=61376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     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Горный рельеф Кемеровской обл. занимает  61376км</a:t>
            </a:r>
            <a:r>
              <a:rPr b="1" i="1" lang="ru-RU" sz="1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99"/>
                </a:solidFill>
                <a:uFillTx/>
                <a:latin typeface="Arial"/>
              </a:rPr>
              <a:t>Задача 3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ть дарит каждой из пяти своих дочерей в день ее рождения, начиная с пяти лет, столько книг, сколько дочери лет. Возрасты пяти дочерей составляют арифметическую прогрессию, разность которой равна двум. Сколько лет было каждой дочери, когда у них составилась библиотека общей численностью в четыреста девяносто пять (495) книг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Итог урок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умаляя достоинства аналитического решения данных задач, отметим все – таки преимущества компьютерного реше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лгоритм решения отличается предельной простотой и одновременно наглядностью динамики событ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грамма Microsoft  Ехсеl позволяет легко внести изменения в начальные условия задач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реализации компьютерного решения задач необходимо иметь следующие умения и навык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здавать фай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носить данные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пользовать функции выделения, копирования и автосуммирова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одить формул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хранять файл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лгебра: Учеб. для 9кл. общеобразоват. учреждений А.Г. Мордкович и др.- М.:,2014, изд. «Мнемозин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алицкий М.Л., Гольдман А.М. Сборник задач по алгебре для 8-9 классов: Уч. пособие для учащихся школ и классов с углубленным изучением математики. –М.: Просвещение,1999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усев В.А., Мордкович А.Г. Математика: Алгебра: Геометрия: Прил.: Справ. материалы: Уч. пособие для учащихся. – М.: Просвещение,198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Цель урока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Учебная цель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закрепить знания, полученные учащимися на предыдущих уроках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нятие последовательн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хождение членов последовательности по заданным формула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шать задачи на нахождение сумм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демонстрировать преимущества представленных решений задач по теме «Арифметическая прогрессия» при помощи программы Microsoft Exce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робное описание компьютерных решений этих же задач с помощью широко распространенных программ Microsoft Offic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пробация алгоритма компьютерного решения задач с учащимися 9 класс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77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оспитательная цель: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вива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выки делового общен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спитывать чувство товарищества, взаимовыручки, самостоятельного принятия решения (кроссворд, работа в парах, работа по группам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спитывать чувство любви к своему родному кра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99"/>
                </a:solidFill>
                <a:latin typeface="Arial"/>
              </a:rPr>
              <a:t>Оборудование: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2153880" y="2529360"/>
            <a:ext cx="4837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рточки устного счет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рточки для работы в группах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99"/>
                </a:solidFill>
                <a:latin typeface="Arial"/>
              </a:rPr>
              <a:t>На уроке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еделим этапы алгоритма компьютерного решения и продемонстрируем преимущества представленных решений задач по теме «Арифметическая прогрессия» при помощи программы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crosoft Officce Ex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Повторение 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ределение арифметической прогресс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ормулы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го члена арифметической прогресс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ормулы суммы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первых членов арифметической прогресс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йства членов арифметической прогресс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Решить устно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Найти пятый , десятый член последова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Найти третий и пятый члены последователь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= 3 *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.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Найти номер члена последовательно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ru-RU" sz="2400" spc="-1" strike="noStrike" baseline="-20000">
                <a:solidFill>
                  <a:srgbClr val="ffffff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= n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10n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вного –2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Перечислить члены последовательности, стоящие между x</a:t>
            </a:r>
            <a:r>
              <a:rPr b="0" lang="ru-RU" sz="2400" spc="-1" strike="noStrike" baseline="-20000">
                <a:solidFill>
                  <a:srgbClr val="ffffff"/>
                </a:solidFill>
                <a:latin typeface="Arial"/>
              </a:rPr>
              <a:t>n-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x</a:t>
            </a:r>
            <a:r>
              <a:rPr b="0" lang="ru-RU" sz="2400" spc="-1" strike="noStrike" baseline="-20000">
                <a:solidFill>
                  <a:srgbClr val="ffffff"/>
                </a:solidFill>
                <a:latin typeface="Arial"/>
              </a:rPr>
              <a:t>n+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4" descr="C:\Documents and Settings\Kiska\Рабочий стол\Новая папка\Урок математики в 9-м классе по теме_ _Арифметическая прогрессия_ __ Фестиваль "/>
          <p:cNvPicPr/>
          <p:nvPr/>
        </p:nvPicPr>
        <p:blipFill>
          <a:blip r:embed="rId1"/>
          <a:stretch/>
        </p:blipFill>
        <p:spPr>
          <a:xfrm>
            <a:off x="3419640" y="2205000"/>
            <a:ext cx="799920" cy="33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Решить кроссворд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о горизонта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Первый из двух рядом стоящих членов последователь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Разность одинаковых членов последователь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Способ задания последователь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Число в арифметической прогрессии, показывающее на сколько одно число больше или меньше другог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Элементы, из которых состоит последовательн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 Натуральное число, обозначающее место члена в последователь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99"/>
                </a:solidFill>
                <a:uFillTx/>
                <a:latin typeface="Arial"/>
              </a:rPr>
              <a:t>По вертикали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Функция, заданная на множестве натуральных чисе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. Вид последовательно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. Последовательность, содержащая конечное число член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8:57:41Z</dcterms:created>
  <dc:creator>Мокшина Алина</dc:creator>
  <dc:description/>
  <dc:language>en-US</dc:language>
  <cp:lastModifiedBy>user</cp:lastModifiedBy>
  <dcterms:modified xsi:type="dcterms:W3CDTF">2017-01-09T05:16:28Z</dcterms:modified>
  <cp:revision>12</cp:revision>
  <dc:subject/>
  <dc:title>Урок математики в 9 классе </dc:title>
</cp:coreProperties>
</file>