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9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17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1.jpeg" ContentType="image/jpeg"/>
  <Override PartName="/ppt/media/image19.jpeg" ContentType="image/jpeg"/>
  <Override PartName="/ppt/media/image25.png" ContentType="image/png"/>
  <Override PartName="/ppt/media/image60.png" ContentType="image/png"/>
  <Override PartName="/ppt/media/image62.png" ContentType="image/png"/>
  <Override PartName="/ppt/media/image27.gif" ContentType="image/gif"/>
  <Override PartName="/ppt/media/image26.png" ContentType="image/png"/>
  <Override PartName="/ppt/media/image63.png" ContentType="image/png"/>
  <Override PartName="/ppt/media/image28.gif" ContentType="image/gif"/>
  <Override PartName="/ppt/media/image64.png" ContentType="image/png"/>
  <Override PartName="/ppt/media/image77.png" ContentType="image/png"/>
  <Override PartName="/ppt/media/image65.png" ContentType="image/png"/>
  <Override PartName="/ppt/media/image76.gif" ContentType="image/gif"/>
  <Override PartName="/ppt/media/image69.jpeg" ContentType="image/jpeg"/>
  <Override PartName="/ppt/media/image75.png" ContentType="image/png"/>
  <Override PartName="/ppt/media/image74.png" ContentType="image/png"/>
  <Override PartName="/ppt/media/image16.jpeg" ContentType="image/jpeg"/>
  <Override PartName="/ppt/media/image73.png" ContentType="image/png"/>
  <Override PartName="/ppt/media/image71.jpeg" ContentType="image/jpeg"/>
  <Override PartName="/ppt/media/image72.jpeg" ContentType="image/jpeg"/>
  <Override PartName="/ppt/media/image68.png" ContentType="image/png"/>
  <Override PartName="/ppt/media/image2.jpeg" ContentType="image/jpeg"/>
  <Override PartName="/ppt/media/image31.png" ContentType="image/png"/>
  <Override PartName="/ppt/media/image7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5.png" ContentType="image/png"/>
  <Override PartName="/ppt/media/image7.png" ContentType="image/png"/>
  <Override PartName="/ppt/media/image3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0.jpeg" ContentType="image/jpeg"/>
  <Override PartName="/ppt/media/image29.png" ContentType="image/png"/>
  <Override PartName="/ppt/media/image18.png" ContentType="image/png"/>
  <Override PartName="/ppt/media/image3.gif" ContentType="image/gif"/>
  <Override PartName="/ppt/media/image6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39A-39B7-406A-AD46-73CFECC3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C60-0BF5-4460-A0A7-49A8F613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EF7-BF8B-4402-9BAB-A8A829C7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969-3ECA-4B15-8422-C971E2E3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F15-628B-42C5-B01D-35FA8E9F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048-2FD1-42CB-BDB9-845B6DCA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A55-BAB9-433E-AC6E-26F97E35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044-BA62-48EB-B292-4087E16F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5DF-5883-4B67-AF71-621F337A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2E9-AF78-4BC9-B37B-8458951F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FBF-2438-4DD4-AA10-9E814030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8E9-A71C-4F86-88DA-155DC8F7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1CB8D-B82C-412B-AA59-8D97B3F8216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2.png"/><Relationship Id="rId9" Type="http://schemas.openxmlformats.org/officeDocument/2006/relationships/image" Target="../media/image52.png"/><Relationship Id="rId10" Type="http://schemas.openxmlformats.org/officeDocument/2006/relationships/image" Target="../media/image52.png"/><Relationship Id="rId11" Type="http://schemas.openxmlformats.org/officeDocument/2006/relationships/image" Target="../media/image52.png"/><Relationship Id="rId12" Type="http://schemas.openxmlformats.org/officeDocument/2006/relationships/image" Target="../media/image52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2.png"/><Relationship Id="rId16" Type="http://schemas.openxmlformats.org/officeDocument/2006/relationships/image" Target="../media/image52.png"/><Relationship Id="rId17" Type="http://schemas.openxmlformats.org/officeDocument/2006/relationships/image" Target="../media/image52.png"/><Relationship Id="rId18" Type="http://schemas.openxmlformats.org/officeDocument/2006/relationships/image" Target="../media/image52.png"/><Relationship Id="rId1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70.png"/><Relationship Id="rId4" Type="http://schemas.openxmlformats.org/officeDocument/2006/relationships/image" Target="../media/image70.pn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05228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14400" y="838080"/>
            <a:ext cx="7315200" cy="281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русского язы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 2 "Б" класс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4191120"/>
            <a:ext cx="7010640" cy="63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 "ШКОЛА 2100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2" name=""/>
          <p:cNvCxnSpPr/>
          <p:nvPr/>
        </p:nvCxnSpPr>
        <p:spPr>
          <a:xfrm flipV="1">
            <a:off x="3358800" y="3430440"/>
            <a:ext cx="1786680" cy="64332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 flipV="1">
            <a:off x="1715760" y="3644640"/>
            <a:ext cx="1572480" cy="100080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>
            <a:off x="931320" y="2215440"/>
            <a:ext cx="2929320" cy="78660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flipV="1">
            <a:off x="2080800" y="2057040"/>
            <a:ext cx="3336120" cy="28800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209680" y="685800"/>
            <a:ext cx="5429520" cy="5430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429000" y="5029200"/>
            <a:ext cx="2819520" cy="11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86360" y="2438280"/>
            <a:ext cx="3090960" cy="109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029200" y="762120"/>
            <a:ext cx="369108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2057400" y="0"/>
            <a:ext cx="708660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1752480" y="990720"/>
            <a:ext cx="2590920" cy="124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447920" y="2514600"/>
            <a:ext cx="2523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21120000">
            <a:off x="760320" y="1220760"/>
            <a:ext cx="779148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дня ли гусениц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усю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7800" y="3505320"/>
            <a:ext cx="3124080" cy="256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3657600"/>
            <a:ext cx="26668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609480"/>
            <a:ext cx="70866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ДНОКОРЕННЫМИ СЛОВ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зываются близкие по смыслу слова с одинаковым корн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352680"/>
            <a:ext cx="8001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о найти корен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нужно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добрат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как можно больше однокоренных сл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посмотреть, какая часть в них является общ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778120" y="4800600"/>
            <a:ext cx="636588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42920" y="1341360"/>
            <a:ext cx="4176720" cy="2158920"/>
          </a:xfrm>
          <a:prstGeom prst="cloudCallout">
            <a:avLst>
              <a:gd name="adj1" fmla="val 74819"/>
              <a:gd name="adj2" fmla="val 3566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дох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42160" y="1557360"/>
            <a:ext cx="2028600" cy="4192560"/>
            <a:chOff x="5942160" y="1557360"/>
            <a:chExt cx="2028600" cy="41925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6156360" y="2492280"/>
              <a:ext cx="163836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42160" y="1557360"/>
              <a:ext cx="2028600" cy="122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05080" y="4940280"/>
            <a:ext cx="638280" cy="147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476360" y="4005360"/>
            <a:ext cx="638280" cy="1476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924360" y="3646440"/>
            <a:ext cx="143820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fill="hold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0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 -6 L 1.32948 -6 C 0.00781999999999994 0.00624000000000002 0.01233 0.00948 0.01719 0.02751 C 0.01806 0.03676 0.01736 0.04717 0.01927 0.05549 C 0.02066 0.06196 0.02327 0.06566 0.02535 0.07075 C 0.02952 0.08092 0.02743 0.07584 0.03143 0.08601 C 0.03264 0.08925 0.0349 0.08786 0.03663 0.08855 C 0.04341 0.09017 0.06632 0.09295 0.07118 0.09364 C 0.07292 0.09433 0.07466 0.09503 0.07622 0.09595 C 0.0783 0.09734 0.08229 0.10104 0.08229 0.10127 C 0.08334 0.10266 0.0842 0.10474 0.08542 0.10613 C 0.08733 0.10844 0.09132 0.11121 0.09132 0.11144 C 0.09202 0.11376 0.09288 0.11607 0.09341 0.11884 C 0.09393 0.12115 0.09462 0.1267 0.09462 0.12694 E">
                                      <p:cBhvr>
                                        <p:cTn id="31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3492360" y="2421000"/>
            <a:ext cx="1944720" cy="1774800"/>
            <a:chOff x="3492360" y="2421000"/>
            <a:chExt cx="1944720" cy="17748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492360" y="2421000"/>
              <a:ext cx="194472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3637080" y="2709720"/>
              <a:ext cx="1218960" cy="11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90800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995640" y="414972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07672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059280" y="1341360"/>
            <a:ext cx="580680" cy="1666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2268360" y="41511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4606920" y="1955880"/>
            <a:ext cx="1666800" cy="581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5148360" y="371628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4651200" y="1477800"/>
            <a:ext cx="446400" cy="11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5076720" y="2565360"/>
            <a:ext cx="1235160" cy="50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5005440" y="3646440"/>
            <a:ext cx="1224000" cy="565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4599000" y="4070520"/>
            <a:ext cx="425520" cy="115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3419640" y="4006800"/>
            <a:ext cx="43812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tretch/>
        </p:blipFill>
        <p:spPr>
          <a:xfrm>
            <a:off x="2436840" y="2484360"/>
            <a:ext cx="1208160" cy="496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7"/>
          <a:stretch/>
        </p:blipFill>
        <p:spPr>
          <a:xfrm>
            <a:off x="2268360" y="3502080"/>
            <a:ext cx="1285920" cy="48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8"/>
          <a:stretch/>
        </p:blipFill>
        <p:spPr>
          <a:xfrm>
            <a:off x="3695760" y="1486080"/>
            <a:ext cx="45540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dur="indefinite" fill="hold">
                      <p:stCondLst>
                        <p:cond delay="0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39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42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1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124000" y="260280"/>
            <a:ext cx="743040" cy="1000080"/>
            <a:chOff x="2124000" y="260280"/>
            <a:chExt cx="743040" cy="10000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2124000" y="260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195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50920" y="260280"/>
            <a:ext cx="742680" cy="1000080"/>
            <a:chOff x="250920" y="260280"/>
            <a:chExt cx="742680" cy="100008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2220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372360" y="260280"/>
            <a:ext cx="742680" cy="1000080"/>
            <a:chOff x="6372360" y="260280"/>
            <a:chExt cx="742680" cy="100008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3723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443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356000" y="260280"/>
            <a:ext cx="743040" cy="1000080"/>
            <a:chOff x="4356000" y="260280"/>
            <a:chExt cx="743040" cy="100008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4356000" y="260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427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79280" y="3645000"/>
            <a:ext cx="743040" cy="1000080"/>
            <a:chOff x="179280" y="3645000"/>
            <a:chExt cx="743040" cy="1000080"/>
          </a:xfrm>
        </p:grpSpPr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179280" y="364500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50920" y="400536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03640" y="1916280"/>
            <a:ext cx="743040" cy="1000080"/>
            <a:chOff x="3203640" y="1916280"/>
            <a:chExt cx="743040" cy="100008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3203640" y="1916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274920" y="227664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195640" y="3645000"/>
            <a:ext cx="742680" cy="1000080"/>
            <a:chOff x="2195640" y="3645000"/>
            <a:chExt cx="742680" cy="1000080"/>
          </a:xfrm>
        </p:grpSpPr>
        <p:pic>
          <p:nvPicPr>
            <p:cNvPr id="181" name="" descr=""/>
            <p:cNvPicPr/>
            <p:nvPr/>
          </p:nvPicPr>
          <p:blipFill>
            <a:blip r:embed="rId7"/>
            <a:stretch/>
          </p:blipFill>
          <p:spPr>
            <a:xfrm>
              <a:off x="2195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266920" y="400536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667640" y="1916280"/>
            <a:ext cx="743040" cy="1000080"/>
            <a:chOff x="7667640" y="1916280"/>
            <a:chExt cx="743040" cy="1000080"/>
          </a:xfrm>
        </p:grpSpPr>
        <p:pic>
          <p:nvPicPr>
            <p:cNvPr id="184" name="" descr=""/>
            <p:cNvPicPr/>
            <p:nvPr/>
          </p:nvPicPr>
          <p:blipFill>
            <a:blip r:embed="rId8"/>
            <a:stretch/>
          </p:blipFill>
          <p:spPr>
            <a:xfrm>
              <a:off x="7667640" y="1916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738920" y="227664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580000" y="1916280"/>
            <a:ext cx="743040" cy="1000080"/>
            <a:chOff x="5580000" y="1916280"/>
            <a:chExt cx="743040" cy="1000080"/>
          </a:xfrm>
        </p:grpSpPr>
        <p:pic>
          <p:nvPicPr>
            <p:cNvPr id="187" name="" descr=""/>
            <p:cNvPicPr/>
            <p:nvPr/>
          </p:nvPicPr>
          <p:blipFill>
            <a:blip r:embed="rId9"/>
            <a:stretch/>
          </p:blipFill>
          <p:spPr>
            <a:xfrm>
              <a:off x="5580000" y="1916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651640" y="227664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187280" y="1916280"/>
            <a:ext cx="743040" cy="1000080"/>
            <a:chOff x="1187280" y="1916280"/>
            <a:chExt cx="743040" cy="1000080"/>
          </a:xfrm>
        </p:grpSpPr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1187280" y="1916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258920" y="227664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400960" y="260280"/>
            <a:ext cx="743040" cy="1000080"/>
            <a:chOff x="8400960" y="260280"/>
            <a:chExt cx="743040" cy="1000080"/>
          </a:xfrm>
        </p:grpSpPr>
        <p:pic>
          <p:nvPicPr>
            <p:cNvPr id="193" name="" descr=""/>
            <p:cNvPicPr/>
            <p:nvPr/>
          </p:nvPicPr>
          <p:blipFill>
            <a:blip r:embed="rId11"/>
            <a:stretch/>
          </p:blipFill>
          <p:spPr>
            <a:xfrm>
              <a:off x="8400960" y="260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847260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659640" y="3645000"/>
            <a:ext cx="743040" cy="1000080"/>
            <a:chOff x="6659640" y="3645000"/>
            <a:chExt cx="743040" cy="1000080"/>
          </a:xfrm>
        </p:grpSpPr>
        <p:pic>
          <p:nvPicPr>
            <p:cNvPr id="196" name="" descr=""/>
            <p:cNvPicPr/>
            <p:nvPr/>
          </p:nvPicPr>
          <p:blipFill>
            <a:blip r:embed="rId12"/>
            <a:stretch/>
          </p:blipFill>
          <p:spPr>
            <a:xfrm>
              <a:off x="6659640" y="364500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730920" y="400536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356000" y="3645000"/>
            <a:ext cx="743040" cy="1000080"/>
            <a:chOff x="4356000" y="3645000"/>
            <a:chExt cx="743040" cy="1000080"/>
          </a:xfrm>
        </p:grpSpPr>
        <p:pic>
          <p:nvPicPr>
            <p:cNvPr id="199" name="" descr=""/>
            <p:cNvPicPr/>
            <p:nvPr/>
          </p:nvPicPr>
          <p:blipFill>
            <a:blip r:embed="rId13"/>
            <a:stretch/>
          </p:blipFill>
          <p:spPr>
            <a:xfrm>
              <a:off x="4356000" y="364500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427640" y="400536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400960" y="3645000"/>
            <a:ext cx="743040" cy="1000080"/>
            <a:chOff x="8400960" y="3645000"/>
            <a:chExt cx="743040" cy="1000080"/>
          </a:xfrm>
        </p:grpSpPr>
        <p:pic>
          <p:nvPicPr>
            <p:cNvPr id="202" name="" descr=""/>
            <p:cNvPicPr/>
            <p:nvPr/>
          </p:nvPicPr>
          <p:blipFill>
            <a:blip r:embed="rId14"/>
            <a:stretch/>
          </p:blipFill>
          <p:spPr>
            <a:xfrm>
              <a:off x="8400960" y="364500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72600" y="400536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116000" y="5300640"/>
            <a:ext cx="743040" cy="1000080"/>
            <a:chOff x="1116000" y="5300640"/>
            <a:chExt cx="743040" cy="1000080"/>
          </a:xfrm>
        </p:grpSpPr>
        <p:pic>
          <p:nvPicPr>
            <p:cNvPr id="205" name="" descr=""/>
            <p:cNvPicPr/>
            <p:nvPr/>
          </p:nvPicPr>
          <p:blipFill>
            <a:blip r:embed="rId15"/>
            <a:stretch/>
          </p:blipFill>
          <p:spPr>
            <a:xfrm>
              <a:off x="1116000" y="530064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18728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524720" y="5373720"/>
            <a:ext cx="743040" cy="1000080"/>
            <a:chOff x="7524720" y="5373720"/>
            <a:chExt cx="743040" cy="1000080"/>
          </a:xfrm>
        </p:grpSpPr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7524720" y="537372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96360" y="573408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508720" y="5373720"/>
            <a:ext cx="742680" cy="1000080"/>
            <a:chOff x="5508720" y="5373720"/>
            <a:chExt cx="742680" cy="1000080"/>
          </a:xfrm>
        </p:grpSpPr>
        <p:pic>
          <p:nvPicPr>
            <p:cNvPr id="211" name="" descr=""/>
            <p:cNvPicPr/>
            <p:nvPr/>
          </p:nvPicPr>
          <p:blipFill>
            <a:blip r:embed="rId17"/>
            <a:stretch/>
          </p:blipFill>
          <p:spPr>
            <a:xfrm>
              <a:off x="5508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580000" y="573408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03640" y="5300640"/>
            <a:ext cx="743040" cy="1000080"/>
            <a:chOff x="3203640" y="5300640"/>
            <a:chExt cx="743040" cy="1000080"/>
          </a:xfrm>
        </p:grpSpPr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3203640" y="530064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27492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dur="indefinite" fill="hold">
                      <p:stCondLst>
                        <p:cond delay="0"/>
                      </p:stCondLst>
                      <p:childTnLst>
                        <p:par>
                          <p:cTn id="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4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56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59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60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6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62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dur="indefinite" fill="hold">
                            <p:stCondLst>
                              <p:cond delay="9500"/>
                            </p:stCondLst>
                            <p:childTnLst>
                              <p:par>
                                <p:cTn id="627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dur="indefinite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dur="indefinite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50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50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2" dur="5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50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50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1" dur="50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4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0" dur="50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dur="indefinite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3" dur="1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1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1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1" dur="1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3" dur="1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5" dur="1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7" dur="1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dur="indefinite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dur="indefinite" fill="hold">
                            <p:stCondLst>
                              <p:cond delay="17500"/>
                            </p:stCondLst>
                            <p:childTnLst>
                              <p:par>
                                <p:cTn id="717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1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2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dur="indefinite" fill="hold">
                            <p:stCondLst>
                              <p:cond delay="18500"/>
                            </p:stCondLst>
                            <p:childTnLst>
                              <p:par>
                                <p:cTn id="72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dur="indefinite" fill="hold">
                            <p:stCondLst>
                              <p:cond delay="19000"/>
                            </p:stCondLst>
                            <p:childTnLst>
                              <p:par>
                                <p:cTn id="72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dur="indefinite" fill="hold">
                            <p:stCondLst>
                              <p:cond delay="19500"/>
                            </p:stCondLst>
                            <p:childTnLst>
                              <p:par>
                                <p:cTn id="73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7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8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dur="indefinite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1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6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dur="indefinite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dur="indefinite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4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dur="indefinite" fill="hold">
                            <p:stCondLst>
                              <p:cond delay="22500"/>
                            </p:stCondLst>
                            <p:childTnLst>
                              <p:par>
                                <p:cTn id="757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8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dur="indefinite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1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dur="indefinite" fill="hold">
                            <p:stCondLst>
                              <p:cond delay="23500"/>
                            </p:stCondLst>
                            <p:childTnLst>
                              <p:par>
                                <p:cTn id="76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6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76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dur="indefinite" fill="hold">
                            <p:stCondLst>
                              <p:cond delay="24500"/>
                            </p:stCondLst>
                            <p:childTnLst>
                              <p:par>
                                <p:cTn id="77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4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7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8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-1268280" y="890640"/>
            <a:ext cx="11018880" cy="2482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-1065240" y="1432080"/>
            <a:ext cx="10744200" cy="2558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-1004760" y="1774800"/>
            <a:ext cx="10148760" cy="2589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-614520" y="1916280"/>
            <a:ext cx="10288800" cy="3450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rcRect l="-725" t="7506" r="0" b="3974"/>
          <a:stretch/>
        </p:blipFill>
        <p:spPr>
          <a:xfrm>
            <a:off x="-828720" y="2782800"/>
            <a:ext cx="10261800" cy="312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-1440" y="3141720"/>
            <a:ext cx="9756720" cy="3147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rcRect l="0" t="0" r="829" b="2531"/>
          <a:stretch/>
        </p:blipFill>
        <p:spPr>
          <a:xfrm>
            <a:off x="393840" y="3573360"/>
            <a:ext cx="8959680" cy="2676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867280" y="4724280"/>
            <a:ext cx="360360" cy="3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4797360"/>
            <a:ext cx="936360" cy="35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700000">
            <a:off x="5003280" y="4221000"/>
            <a:ext cx="936720" cy="358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5581080" y="4005000"/>
            <a:ext cx="936720" cy="3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9560000">
            <a:off x="6154560" y="4294080"/>
            <a:ext cx="936720" cy="358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960000">
            <a:off x="6302520" y="4938840"/>
            <a:ext cx="936360" cy="35856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820000">
            <a:off x="5869080" y="5374440"/>
            <a:ext cx="936360" cy="358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720000">
            <a:off x="5147640" y="5303880"/>
            <a:ext cx="936720" cy="358920"/>
          </a:xfrm>
          <a:prstGeom prst="ellipse">
            <a:avLst/>
          </a:prstGeom>
          <a:solidFill>
            <a:srgbClr val="99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6227640" y="4581360"/>
            <a:ext cx="1847880" cy="1990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rot="1860000">
            <a:off x="7095600" y="5660640"/>
            <a:ext cx="648000" cy="28728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7880000">
            <a:off x="7454880" y="4943520"/>
            <a:ext cx="936720" cy="3585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dur="indefinite" fill="hold">
                      <p:stCondLst>
                        <p:cond delay="0"/>
                      </p:stCondLst>
                      <p:childTnLst>
                        <p:par>
                          <p:cTn id="7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82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83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83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84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85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85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86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86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87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8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88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dur="indefinite" fill="hold">
                            <p:stCondLst>
                              <p:cond delay="9500"/>
                            </p:stCondLst>
                            <p:childTnLst>
                              <p:par>
                                <p:cTn id="89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dur="indefinite" fill="hold">
                      <p:stCondLst>
                        <p:cond delay="indefinite"/>
                      </p:stCondLst>
                      <p:childTnLst>
                        <p:par>
                          <p:cTn id="9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0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6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9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8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1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4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6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5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2676600" cy="2695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2676240" cy="2695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796000" y="3427560"/>
            <a:ext cx="2676600" cy="26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dur="indefinite" fill="hold">
                      <p:stCondLst>
                        <p:cond delay="0"/>
                      </p:stCondLst>
                      <p:childTnLst>
                        <p:par>
                          <p:cTn id="9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2" dur="indefinite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L 2.77457 -6 C -0.00832999999999995 0.00185000000000013 -0.01805 0.00347 -0.02621 0.00647 C -0.03281 0.00902 -0.04583 0.01526 -0.04583 0.01526 C -0.05278 0.02266 -0.05746 0.03352 -0.06545 0.03699 C -0.06771 0.04069 -0.06927 0.04508 -0.07205 0.04786 C -0.07378 0.04971 -0.07656 0.04878 -0.07864 0.05017 C -0.08107 0.05179 -0.08333 0.0541 -0.08524 0.05665 C -0.08993 0.06289 -0.09253 0.06913 -0.09826 0.07422 C -0.10225 0.08902 -0.09653 0.07121 -0.10816 0.08948 C -0.1092 0.0911 -0.10868 0.0941 -0.10972 0.09595 C -0.11146 0.09942 -0.11441 0.1015 -0.11632 0.10474 C -0.12864 0.12485 -0.11927 0.11537 -0.12951 0.12439 C -0.13107 0.12809 -0.13246 0.13179 -0.13437 0.13526 C -0.13576 0.1378 -0.13802 0.13919 -0.13923 0.14173 C -0.14028 0.14381 -0.13958 0.14705 -0.14097 0.14844 C -0.14271 0.15029 -0.14531 0.14982 -0.14757 0.15052 C -0.14913 0.15352 -0.15104 0.15607 -0.15243 0.1593 C -0.1533 0.16139 -0.15295 0.16393 -0.15399 0.16578 C -0.15521 0.16786 -0.15764 0.16832 -0.15903 0.17017 C -0.16198 0.1741 -0.16475 0.17873 -0.16719 0.18335 C -0.17482 0.19745 -0.18073 0.21225 -0.1901 0.22474 C -0.19375 0.24323 -0.18871 0.22335 -0.2 0.24439 C -0.20208 0.24832 -0.20295 0.25341 -0.20486 0.25757 C -0.20972 0.26867 -0.21701 0.27607 -0.22118 0.28809 C -0.22344 0.30497 -0.22882 0.31283 -0.23437 0.3274 C -0.23732 0.34821 -0.23333 0.32902 -0.24097 0.34705 C -0.24479 0.35607 -0.24566 0.36624 -0.24913 0.37549 C -0.25278 0.39468 -0.25503 0.41364 -0.26059 0.43214 C -0.26111 0.43653 -0.26128 0.44115 -0.26232 0.44532 C -0.26285 0.44786 -0.26493 0.44925 -0.26545 0.45179 C -0.26805 0.46312 -0.26719 0.47769 -0.26719 0.48902 E">
                                      <p:cBhvr>
                                        <p:cTn id="1013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4.62428 -7 C 0.00746000000000002 0.00670999999999999 0.01389 0.00694 0.02292 0.00879 C 0.03316 0.01318 0.05417 0.0148 0.06389 0.02197 C 0.07691 0.03145 0.07899 0.03815 0.0934 0.04162 C 0.10156 0.04856 0.11007 0.04971 0.11962 0.05249 C 0.13368 0.06174 0.15017 0.06289 0.16545 0.06544 C 0.17535 0.06705 0.19496 0.06983 0.19496 0.06983 C 0.22153 0.07908 0.25 0.07746 0.27691 0.07862 C 0.32292 0.08509 0.31042 0.0844 0.3934 0.07653 C 0.42048 0.07399 0.44618 0.0511 0.47205 0.04162 C 0.47482 0.03931 0.47726 0.03653 0.48021 0.03492 C 0.48489 0.03214 0.49062 0.03214 0.49496 0.02844 C 0.5066 0.01827 0.49167 0.03052 0.50972 0.01966 C 0.51146 0.0185 0.51285 0.01665 0.51458 0.01526 C 0.51667 0.01364 0.51892 0.01203 0.52118 0.01087 C 0.52673 0.00786 0.53212 0.00578 0.53767 0.00231 C 0.54687 -0.0104 0.53732 0.00023 0.55243 -0.00647 C 0.56337 -0.01133 0.55382 -0.01086 0.55885 -0.01086 E">
                                      <p:cBhvr>
                                        <p:cTn id="101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 -18 L -5.78035 -7 C -0.000519999999999854 -0.0261199999999997 -0.00018 -0.05248 -0.00156 -0.07861 C -0.00174 -0.08231 -0.00643 -0.09826 -0.00816 -0.10242 C -0.01007 -0.10705 -0.01476 -0.1156 -0.01476 -0.1156 C -0.01649 -0.12578 -0.02031 -0.13133 -0.02465 -0.13965 C -0.02726 -0.15399 -0.03143 -0.16439 -0.03941 -0.17456 C -0.03993 -0.17734 -0.04132 -0.18682 -0.04254 -0.18982 C -0.04549 -0.19792 -0.05122 -0.2037 -0.05417 -0.21179 C -0.0625 -0.23491 -0.06979 -0.26034 -0.08681 -0.27491 C -0.09393 -0.2874 -0.10174 -0.30127 -0.1099 -0.31214 C -0.11233 -0.31537 -0.11563 -0.31768 -0.11806 -0.32092 C -0.12708 -0.33318 -0.11858 -0.32971 -0.13281 -0.34266 C -0.14358 -0.35237 -0.15434 -0.36046 -0.16563 -0.36878 C -0.175 -0.37549 -0.18542 -0.39098 -0.19514 -0.39514 C -0.20469 -0.3993 -0.19844 -0.3963 -0.21302 -0.40601 C -0.22778 -0.41595 -0.23993 -0.43422 -0.25573 -0.44092 C -0.26458 -0.44925 -0.26893 -0.45248 -0.27708 -0.45849 C -0.28507 -0.46451 -0.29028 -0.47144 -0.3 -0.47144 E">
                                      <p:cBhvr>
                                        <p:cTn id="101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9" dur="indefinite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 -6 L -4.39306 -6 C 0.0171900000000003 0.00739999999999963 0.03177 0.02313 0.04913 0.03053 C 0.07569 0.05573 0.09844 0.08648 0.12118 0.11792 C 0.13733 0.14012 0.11337 0.1096 0.12621 0.13087 C 0.12917 0.13573 0.1342 0.13781 0.13767 0.14197 C 0.1467 0.15261 0.15243 0.16694 0.16389 0.17249 C 0.16944 0.17989 0.17604 0.18521 0.18194 0.19214 C 0.18542 0.19607 0.18837 0.2007 0.19167 0.20509 C 0.1934 0.2074 0.1967 0.2118 0.1967 0.2118 C 0.20104 0.22983 0.19375 0.20394 0.20486 0.22474 C 0.20625 0.22729 0.20538 0.23099 0.20642 0.23353 C 0.20764 0.23631 0.20989 0.23792 0.21146 0.24024 C 0.21545 0.24648 0.2191 0.25318 0.22292 0.25966 C 0.22847 0.26914 0.23281 0.27954 0.23924 0.2881 C 0.24271 0.30151 0.23837 0.28902 0.24583 0.29896 C 0.25017 0.30474 0.25226 0.31422 0.25573 0.32093 C 0.25955 0.33665 0.26441 0.34128 0.27049 0.35376 C 0.27465 0.37064 0.26892 0.34914 0.27535 0.36671 C 0.28073 0.38151 0.28108 0.39931 0.28524 0.4148 C 0.28715 0.43053 0.29271 0.44694 0.2934 0.4629 C 0.29392 0.47446 0.2934 0.48625 0.2934 0.49781 E">
                                      <p:cBhvr>
                                        <p:cTn id="1020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7.16763 -6 C -0.0116399999999999 0.0104100000000003 -0.02743 0.01133 -0.04098 0.01318 C -0.04914 0.01665 -0.05417 0.01758 -0.06059 0.02613 C -0.06216 0.02821 -0.06337 0.03122 -0.06546 0.03261 C -0.06806 0.03423 -0.07101 0.03423 -0.07379 0.03492 C -0.0849 0.04509 -0.07969 0.04209 -0.08855 0.04579 C -0.09445 0.0511 -0.09948 0.05434 -0.1066 0.05665 C -0.11059 0.06544 -0.11302 0.06405 -0.11962 0.06775 C -0.13351 0.07561 -0.14723 0.08001 -0.16233 0.08301 C -0.21372 0.08162 -0.26511 0.08209 -0.31632 0.07862 C -0.32153 0.07839 -0.32605 0.07376 -0.33108 0.07191 C -0.33716 0.06983 -0.34306 0.06775 -0.34914 0.06544 C -0.38091 0.05365 -0.41285 0.04209 -0.44427 0.02844 C -0.45122 0.02544 -0.45677 0.01804 -0.46389 0.01527 C -0.47882 0.00949 -0.49306 0.00093 -0.50816 -0.00439 C -0.51632 -0.00739 -0.52535 -0.00786 -0.53282 -0.01317 E">
                                      <p:cBhvr>
                                        <p:cTn id="10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7.63006 -6 C 0.00138999999999978 -0.0284300000000002 -0.00312 -0.06381 0.0099 -0.08947 C 0.01094 -0.09387 0.01059 -0.09942 0.01302 -0.10265 C 0.0191 -0.11051 0.02535 -0.12115 0.02952 -0.13109 C 0.03351 -0.14034 0.03646 -0.15028 0.04097 -0.1593 C 0.04861 -0.17433 0.05816 -0.18774 0.06563 -0.203 C 0.06875 -0.20947 0.07118 -0.2171 0.07535 -0.22265 C 0.08056 -0.22959 0.08455 -0.23653 0.08854 -0.24462 C 0.09063 -0.25942 0.09167 -0.25965 0.10157 -0.26635 C 0.10591 -0.27491 0.10851 -0.27375 0.11476 -0.27953 C 0.11858 -0.28693 0.12136 -0.29179 0.12778 -0.29479 C 0.14254 -0.30959 0.13629 -0.30404 0.14584 -0.31213 C 0.14966 -0.31999 0.15226 -0.32254 0.15903 -0.32531 C 0.16424 -0.33225 0.17101 -0.33965 0.17709 -0.34497 C 0.19028 -0.35676 0.17309 -0.33641 0.18681 -0.35144 C 0.204 -0.3704 0.17448 -0.34242 0.20157 -0.36693 C 0.22535 -0.38843 0.20434 -0.37849 0.21806 -0.38427 C 0.22604 -0.39236 0.23091 -0.40069 0.24097 -0.40393 C 0.24653 -0.40878 0.25087 -0.4104 0.25729 -0.41271 C 0.2632 -0.41803 0.27032 -0.42288 0.27709 -0.42566 C 0.28021 -0.4319 0.28299 -0.43375 0.28681 -0.43884 E">
                                      <p:cBhvr>
                                        <p:cTn id="102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6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0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3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92360" y="1341360"/>
            <a:ext cx="5688000" cy="1943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ерегит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92360" y="4005360"/>
            <a:ext cx="5832360" cy="1152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ре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276640" cy="2656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843280" y="2205000"/>
            <a:ext cx="1298520" cy="5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dur="indefinite" fill="hold">
                      <p:stCondLst>
                        <p:cond delay="0"/>
                      </p:stCondLst>
                      <p:childTnLst>
                        <p:par>
                          <p:cTn id="10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467480" y="525780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762120" y="0"/>
            <a:ext cx="7162560" cy="190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сьмо  по  памяти.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ю вьюга бел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ела снеж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 из снега сдел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10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жный д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10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400800" y="2970360"/>
            <a:ext cx="3111480" cy="3887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743200" y="289548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3657600"/>
            <a:ext cx="198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3733920"/>
            <a:ext cx="198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4956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495680"/>
            <a:ext cx="1981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464832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 rot="12660000">
            <a:off x="2714760" y="3018600"/>
            <a:ext cx="1334880" cy="1222560"/>
          </a:xfrm>
          <a:custGeom>
            <a:avLst/>
            <a:gdLst>
              <a:gd name="textAreaLeft" fmla="*/ 350280 w 1334880"/>
              <a:gd name="textAreaRight" fmla="*/ 1334880 w 1334880"/>
              <a:gd name="textAreaTop" fmla="*/ 0 h 1222560"/>
              <a:gd name="textAreaBottom" fmla="*/ 611280 h 122256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 rot="12780000">
            <a:off x="2134800" y="3922560"/>
            <a:ext cx="1724040" cy="1162080"/>
          </a:xfrm>
          <a:custGeom>
            <a:avLst/>
            <a:gdLst>
              <a:gd name="textAreaLeft" fmla="*/ 861840 w 1724040"/>
              <a:gd name="textAreaRight" fmla="*/ 1724040 w 1724040"/>
              <a:gd name="textAreaTop" fmla="*/ 0 h 1162080"/>
              <a:gd name="textAreaBottom" fmla="*/ 581040 h 11620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dur="indefinite" fill="hold">
                      <p:stCondLst>
                        <p:cond delay="0"/>
                      </p:stCondLst>
                      <p:childTnLst>
                        <p:par>
                          <p:cTn id="10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dur="indefinite" fill="hold">
                      <p:stCondLst>
                        <p:cond delay="indefinite"/>
                      </p:stCondLst>
                      <p:childTnLst>
                        <p:par>
                          <p:cTn id="10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dur="indefinite" fill="hold">
                      <p:stCondLst>
                        <p:cond delay="indefinite"/>
                      </p:stCondLst>
                      <p:childTnLst>
                        <p:par>
                          <p:cTn id="10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dur="indefinite" fill="hold">
                      <p:stCondLst>
                        <p:cond delay="indefinite"/>
                      </p:stCondLst>
                      <p:childTnLst>
                        <p:par>
                          <p:cTn id="10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dur="indefinite" fill="hold">
                      <p:stCondLst>
                        <p:cond delay="indefinite"/>
                      </p:stCondLst>
                      <p:childTnLst>
                        <p:par>
                          <p:cTn id="10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dur="indefinite" fill="hold">
                      <p:stCondLst>
                        <p:cond delay="indefinite"/>
                      </p:stCondLst>
                      <p:childTnLst>
                        <p:par>
                          <p:cTn id="10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dur="indefinite" fill="hold">
                      <p:stCondLst>
                        <p:cond delay="indefinite"/>
                      </p:stCondLst>
                      <p:childTnLst>
                        <p:par>
                          <p:cTn id="10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dur="indefinite" fill="hold">
                      <p:stCondLst>
                        <p:cond delay="indefinite"/>
                      </p:stCondLst>
                      <p:childTnLst>
                        <p:par>
                          <p:cTn id="10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dur="indefinite" fill="hold">
                      <p:stCondLst>
                        <p:cond delay="indefinite"/>
                      </p:stCondLst>
                      <p:childTnLst>
                        <p:par>
                          <p:cTn id="1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dur="indefinite" fill="hold">
                      <p:stCondLst>
                        <p:cond delay="indefinite"/>
                      </p:stCondLst>
                      <p:childTnLst>
                        <p:par>
                          <p:cTn id="1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99120" y="2700360"/>
            <a:ext cx="3800520" cy="380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720720"/>
            <a:ext cx="4176720" cy="3060720"/>
          </a:xfrm>
          <a:prstGeom prst="cloudCallout">
            <a:avLst>
              <a:gd name="adj1" fmla="val 74810"/>
              <a:gd name="adj2" fmla="val 3074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440000"/>
            <a:ext cx="270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950e"/>
                </a:solidFill>
                <a:latin typeface="Arial"/>
              </a:rPr>
              <a:t>Привет, сосе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950e"/>
                </a:solidFill>
                <a:latin typeface="Arial"/>
              </a:rPr>
              <a:t>Улыбнись мне в 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950e"/>
                </a:solidFill>
                <a:latin typeface="Arial"/>
              </a:rPr>
              <a:t>Я хочу, чтобы ты не грусти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950e"/>
                </a:solidFill>
                <a:latin typeface="Arial"/>
              </a:rPr>
              <a:t>Всем улыбку свою дари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914400" y="609480"/>
            <a:ext cx="739152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мостоятельная  работа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66680" y="2362320"/>
            <a:ext cx="666756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по учебнику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пражнение 120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710400" y="4297320"/>
            <a:ext cx="22892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627280" y="537372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684360" y="260280"/>
            <a:ext cx="8135640" cy="15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прав ?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1252440" cy="1371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0" y="4981680"/>
            <a:ext cx="1224000" cy="1876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08000" y="2276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00a2"/>
                </a:solidFill>
                <a:latin typeface="Arial"/>
              </a:rPr>
              <a:t>Корень – это общая  часть  всех 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92360" y="366552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00a2"/>
                </a:solidFill>
                <a:latin typeface="Arial"/>
              </a:rPr>
              <a:t>Корень –это главная  часть 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495288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00a2"/>
                </a:solidFill>
                <a:latin typeface="Arial"/>
              </a:rPr>
              <a:t>Корень – это общая часть однокоренных   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dur="indefinite" fill="hold">
                      <p:stCondLst>
                        <p:cond delay="indefinite"/>
                      </p:stCondLst>
                      <p:childTnLst>
                        <p:par>
                          <p:cTn id="1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dur="indefinite" fill="hold">
                      <p:stCondLst>
                        <p:cond delay="indefinite"/>
                      </p:stCondLst>
                      <p:childTnLst>
                        <p:par>
                          <p:cTn id="1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dur="indefinite" fill="hold">
                      <p:stCondLst>
                        <p:cond delay="indefinite"/>
                      </p:stCondLst>
                      <p:childTnLst>
                        <p:par>
                          <p:cTn id="1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dur="indefinite" fill="hold">
                      <p:stCondLst>
                        <p:cond delay="indefinite"/>
                      </p:stCondLst>
                      <p:childTnLst>
                        <p:par>
                          <p:cTn id="1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2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 rot="360000">
            <a:off x="1755360" y="302760"/>
            <a:ext cx="54864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И Т О 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052280" cy="1143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762120" y="167652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Какое задание понравилос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480" y="2590920"/>
            <a:ext cx="7696440" cy="25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. Какое задание было самым трудны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ёгки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4800600"/>
            <a:ext cx="75438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.О чем не знали, а на уроке узнал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dur="indefinite" fill="hold">
                      <p:stCondLst>
                        <p:cond delay="0"/>
                      </p:stCondLst>
                      <p:childTnLst>
                        <p:par>
                          <p:cTn id="1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dur="indefinite" fill="hold">
                      <p:stCondLst>
                        <p:cond delay="indefinite"/>
                      </p:stCondLst>
                      <p:childTnLst>
                        <p:par>
                          <p:cTn id="1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dur="indefinite" fill="hold">
                      <p:stCondLst>
                        <p:cond delay="indefinite"/>
                      </p:stCondLst>
                      <p:childTnLst>
                        <p:par>
                          <p:cTn id="1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dur="indefinite" fill="hold">
                      <p:stCondLst>
                        <p:cond delay="indefinite"/>
                      </p:stCondLst>
                      <p:childTnLst>
                        <p:par>
                          <p:cTn id="1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 rot="540000">
            <a:off x="21960" y="36360"/>
            <a:ext cx="7010280" cy="17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Домашнее  зад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867280" y="3962520"/>
            <a:ext cx="105264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514600" y="1828800"/>
            <a:ext cx="583884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пр.100,101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учить правило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пр.103(дид.мат.)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90720" y="182880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3352680" cy="3048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7467480" y="0"/>
            <a:ext cx="16765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dur="indefinite" fill="hold">
                      <p:stCondLst>
                        <p:cond delay="0"/>
                      </p:stCondLst>
                      <p:childTnLst>
                        <p:par>
                          <p:cTn id="1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828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981080" y="685800"/>
            <a:ext cx="65534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флекси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rcRect l="0" t="4981" r="0" b="4856"/>
          <a:stretch/>
        </p:blipFill>
        <p:spPr>
          <a:xfrm>
            <a:off x="228600" y="2133720"/>
            <a:ext cx="1060560" cy="10666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1066680" cy="10666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5"/>
          <a:srcRect l="-6955" t="0" r="0" b="0"/>
          <a:stretch/>
        </p:blipFill>
        <p:spPr>
          <a:xfrm>
            <a:off x="228600" y="5334120"/>
            <a:ext cx="1085760" cy="1017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1525320" y="1984320"/>
            <a:ext cx="671400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ы считаете, что урок прошёл для в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лодотворно, с пользой. Вы научилис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можете помочь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3352680"/>
            <a:ext cx="685800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ы считаете, что науч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ыделять корень в словах, можете подобрать однокоренные сл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но иногда вам ещё нуж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257800"/>
            <a:ext cx="601956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Вы считаете, что было тру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6477120" y="2970360"/>
            <a:ext cx="31114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 rot="19860000">
            <a:off x="1066680" y="1523880"/>
            <a:ext cx="5106960" cy="26701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ЛОДЦЫ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2895840" cy="22384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1676520" y="2970360"/>
            <a:ext cx="311148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066680" y="0"/>
            <a:ext cx="7543800" cy="4419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ед,  весёлый,заморозить, 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елье,веселиться, мороз,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еденный, морозный, обедать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5029200"/>
            <a:ext cx="19810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МЕ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124080" y="4952880"/>
            <a:ext cx="2514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МЕ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5880" y="4876920"/>
            <a:ext cx="222912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ЙСТВИЕ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МЕ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dur="indefinite" fill="hold">
                      <p:stCondLst>
                        <p:cond delay="indefinite"/>
                      </p:stCondLst>
                      <p:childTnLst>
                        <p:par>
                          <p:cTn id="1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dur="indefinite" fill="hold">
                      <p:stCondLst>
                        <p:cond delay="indefinite"/>
                      </p:stCondLst>
                      <p:childTnLst>
                        <p:par>
                          <p:cTn id="1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dur="indefinite" fill="hold">
                      <p:stCondLst>
                        <p:cond delay="indefinite"/>
                      </p:stCondLst>
                      <p:childTnLst>
                        <p:par>
                          <p:cTn id="1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762120" y="1828800"/>
            <a:ext cx="1828800" cy="434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743200" y="1752480"/>
            <a:ext cx="2571840" cy="426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ед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ёл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оз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715000" y="1905120"/>
            <a:ext cx="2666880" cy="411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ед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ить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ороз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dur="indefinite" fill="hold">
                      <p:stCondLst>
                        <p:cond delay="indefinite"/>
                      </p:stCondLst>
                      <p:childTnLst>
                        <p:par>
                          <p:cTn id="1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dur="indefinite" fill="hold">
                      <p:stCondLst>
                        <p:cond delay="indefinite"/>
                      </p:stCondLst>
                      <p:childTnLst>
                        <p:par>
                          <p:cTn id="1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dur="indefinite" fill="hold">
                      <p:stCondLst>
                        <p:cond delay="indefinite"/>
                      </p:stCondLst>
                      <p:childTnLst>
                        <p:par>
                          <p:cTn id="1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7  декабря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Классная работ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2133720" cy="271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65920" y="3632040"/>
            <a:ext cx="2133360" cy="266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05920" y="0"/>
            <a:ext cx="838080" cy="6859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838080" cy="6859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308480" y="-4302000"/>
            <a:ext cx="5331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308480" y="2022120"/>
            <a:ext cx="5335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602160" y="2521080"/>
            <a:ext cx="19796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101880"/>
            <a:ext cx="82296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ный диктант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14400" y="91440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762120" y="2895480"/>
            <a:ext cx="183816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яб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01520" y="2819520"/>
            <a:ext cx="1587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6576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276720" y="990720"/>
            <a:ext cx="261936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581280" y="3124080"/>
            <a:ext cx="1704960" cy="58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8098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38098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50000" y="2743200"/>
            <a:ext cx="158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362320" y="3886200"/>
            <a:ext cx="1665000" cy="161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838080" y="5562720"/>
            <a:ext cx="1524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егир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49600" y="5257800"/>
            <a:ext cx="158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16080" y="6019920"/>
            <a:ext cx="311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105520" y="3962520"/>
            <a:ext cx="1523880" cy="1501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010280" y="5334120"/>
            <a:ext cx="1028880" cy="63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я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387920" y="4800600"/>
            <a:ext cx="158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5943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324480" y="914400"/>
            <a:ext cx="213372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553080" y="3124080"/>
            <a:ext cx="1600200" cy="6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рог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73392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540200" y="2895480"/>
            <a:ext cx="1587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1676520" cy="2638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057400" y="38088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0000" y="360360"/>
            <a:ext cx="4176720" cy="3240000"/>
          </a:xfrm>
          <a:prstGeom prst="cloudCallout">
            <a:avLst>
              <a:gd name="adj1" fmla="val -35333"/>
              <a:gd name="adj2" fmla="val 5784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3060720"/>
            <a:ext cx="4176720" cy="3060720"/>
          </a:xfrm>
          <a:prstGeom prst="cloudCallout">
            <a:avLst>
              <a:gd name="adj1" fmla="val -97916"/>
              <a:gd name="adj2" fmla="val -2937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86040" y="1260360"/>
            <a:ext cx="31543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мотри в корень!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0000" y="3843360"/>
            <a:ext cx="3240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ень учения горек, а плоды его слад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272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9747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 rot="360000">
            <a:off x="915480" y="-1080"/>
            <a:ext cx="7162920" cy="4800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Наблюдение на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коренными  словам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438280" y="4495680"/>
            <a:ext cx="5534280" cy="152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ень слова.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95280" y="404640"/>
            <a:ext cx="813744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МЬЯ СЛОВ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1752480"/>
            <a:ext cx="2724120" cy="2438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174840"/>
            <a:ext cx="2057400" cy="3683160"/>
          </a:xfrm>
          <a:custGeom>
            <a:avLst/>
            <a:gdLst/>
            <a:ahLst/>
            <a:rect l="l" t="t" r="r" b="b"/>
            <a:pathLst>
              <a:path w="992" h="2112">
                <a:moveTo>
                  <a:pt x="560" y="160"/>
                </a:moveTo>
                <a:cubicBezTo>
                  <a:pt x="312" y="912"/>
                  <a:pt x="64" y="1664"/>
                  <a:pt x="32" y="1888"/>
                </a:cubicBezTo>
                <a:cubicBezTo>
                  <a:pt x="0" y="2112"/>
                  <a:pt x="304" y="1488"/>
                  <a:pt x="368" y="1504"/>
                </a:cubicBezTo>
                <a:cubicBezTo>
                  <a:pt x="432" y="1520"/>
                  <a:pt x="384" y="1984"/>
                  <a:pt x="416" y="1984"/>
                </a:cubicBezTo>
                <a:cubicBezTo>
                  <a:pt x="448" y="1984"/>
                  <a:pt x="464" y="1504"/>
                  <a:pt x="560" y="1504"/>
                </a:cubicBezTo>
                <a:cubicBezTo>
                  <a:pt x="656" y="1504"/>
                  <a:pt x="992" y="2056"/>
                  <a:pt x="992" y="1984"/>
                </a:cubicBezTo>
                <a:cubicBezTo>
                  <a:pt x="992" y="1912"/>
                  <a:pt x="616" y="1376"/>
                  <a:pt x="560" y="1072"/>
                </a:cubicBezTo>
                <a:cubicBezTo>
                  <a:pt x="504" y="768"/>
                  <a:pt x="632" y="320"/>
                  <a:pt x="656" y="160"/>
                </a:cubicBezTo>
                <a:cubicBezTo>
                  <a:pt x="680" y="0"/>
                  <a:pt x="692" y="56"/>
                  <a:pt x="704" y="112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57600" y="56386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-ход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76520" y="19051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9320" y="2895480"/>
            <a:ext cx="1780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5120" y="3886200"/>
            <a:ext cx="17143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562720" y="190512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19920" y="2971800"/>
            <a:ext cx="2286000" cy="4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715000" y="388620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685800"/>
            <a:ext cx="7696080" cy="342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Корень - это общая 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родственных сл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514600" cy="2590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571500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533520"/>
            <a:ext cx="756936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Посадим»     слово – корень    СА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304920" y="2970360"/>
            <a:ext cx="3111480" cy="3887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rot="1200000">
            <a:off x="3593160" y="1184400"/>
            <a:ext cx="1166760" cy="794880"/>
          </a:xfrm>
          <a:custGeom>
            <a:avLst/>
            <a:gdLst>
              <a:gd name="textAreaLeft" fmla="*/ 288720 w 1166760"/>
              <a:gd name="textAreaRight" fmla="*/ 1166760 w 1166760"/>
              <a:gd name="textAreaTop" fmla="*/ 0 h 794880"/>
              <a:gd name="textAreaBottom" fmla="*/ 482760 h 794880"/>
            </a:gdLst>
            <a:ahLst/>
            <a:rect l="textAreaLeft" t="textAreaTop" r="textAreaRight" b="textAreaBottom"/>
            <a:pathLst>
              <a:path stroke="0" w="21600" h="21600">
                <a:moveTo>
                  <a:pt x="5264" y="1527"/>
                </a:moveTo>
                <a:arcTo wR="10800" hR="10800" stAng="-7250210" swAng="7971366"/>
                <a:lnTo>
                  <a:pt x="10800" y="10800"/>
                </a:lnTo>
                <a:close/>
              </a:path>
              <a:path fill="none" w="21600" h="21600">
                <a:moveTo>
                  <a:pt x="5264" y="1527"/>
                </a:moveTo>
                <a:arcTo wR="10800" hR="10800" stAng="-7250210" swAng="797136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8-12T04:19:34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