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1.wmf" ContentType="image/x-wmf"/>
  <Override PartName="/ppt/media/image55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49.png" ContentType="image/png"/>
  <Override PartName="/ppt/media/image47.png" ContentType="image/png"/>
  <Override PartName="/ppt/media/image46.png" ContentType="image/png"/>
  <Override PartName="/ppt/media/image45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9.png" ContentType="image/png"/>
  <Override PartName="/ppt/media/image35.png" ContentType="image/png"/>
  <Override PartName="/ppt/media/image33.png" ContentType="image/png"/>
  <Override PartName="/ppt/media/image32.png" ContentType="image/png"/>
  <Override PartName="/ppt/media/image17.png" ContentType="image/png"/>
  <Override PartName="/ppt/media/image21.png" ContentType="image/png"/>
  <Override PartName="/ppt/media/image58.png" ContentType="image/png"/>
  <Override PartName="/ppt/media/image57.png" ContentType="image/png"/>
  <Override PartName="/ppt/media/image20.png" ContentType="image/png"/>
  <Override PartName="/ppt/media/image22.png" ContentType="image/png"/>
  <Override PartName="/ppt/media/image59.png" ContentType="image/png"/>
  <Override PartName="/ppt/media/image24.png" ContentType="image/png"/>
  <Override PartName="/ppt/media/image11.jpeg" ContentType="image/jpeg"/>
  <Override PartName="/ppt/media/image19.jpeg" ContentType="image/jpeg"/>
  <Override PartName="/ppt/media/image25.png" ContentType="image/png"/>
  <Override PartName="/ppt/media/image60.png" ContentType="image/png"/>
  <Override PartName="/ppt/media/image62.png" ContentType="image/png"/>
  <Override PartName="/ppt/media/image27.gif" ContentType="image/gif"/>
  <Override PartName="/ppt/media/image26.png" ContentType="image/png"/>
  <Override PartName="/ppt/media/image63.png" ContentType="image/png"/>
  <Override PartName="/ppt/media/image28.gif" ContentType="image/gif"/>
  <Override PartName="/ppt/media/image64.png" ContentType="image/png"/>
  <Override PartName="/ppt/media/image77.png" ContentType="image/png"/>
  <Override PartName="/ppt/media/image65.png" ContentType="image/png"/>
  <Override PartName="/ppt/media/image76.gif" ContentType="image/gif"/>
  <Override PartName="/ppt/media/image69.jpeg" ContentType="image/jpeg"/>
  <Override PartName="/ppt/media/image75.png" ContentType="image/png"/>
  <Override PartName="/ppt/media/image74.png" ContentType="image/png"/>
  <Override PartName="/ppt/media/image16.jpeg" ContentType="image/jpeg"/>
  <Override PartName="/ppt/media/image73.png" ContentType="image/png"/>
  <Override PartName="/ppt/media/image71.jpeg" ContentType="image/jpeg"/>
  <Override PartName="/ppt/media/image72.jpeg" ContentType="image/jpeg"/>
  <Override PartName="/ppt/media/image68.png" ContentType="image/png"/>
  <Override PartName="/ppt/media/image2.jpeg" ContentType="image/jpeg"/>
  <Override PartName="/ppt/media/image31.png" ContentType="image/png"/>
  <Override PartName="/ppt/media/image70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15.png" ContentType="image/png"/>
  <Override PartName="/ppt/media/image7.png" ContentType="image/png"/>
  <Override PartName="/ppt/media/image37.png" ContentType="image/png"/>
  <Override PartName="/ppt/media/image4.png" ContentType="image/png"/>
  <Override PartName="/ppt/media/image12.jpeg" ContentType="image/jpeg"/>
  <Override PartName="/ppt/media/image34.png" ContentType="image/png"/>
  <Override PartName="/ppt/media/image23.png" ContentType="image/png"/>
  <Override PartName="/ppt/media/image13.jpeg" ContentType="image/jpeg"/>
  <Override PartName="/ppt/media/image44.png" ContentType="image/png"/>
  <Override PartName="/ppt/media/image61.png" ContentType="image/png"/>
  <Override PartName="/ppt/media/image5.jpeg" ContentType="image/jpeg"/>
  <Override PartName="/ppt/media/image50.png" ContentType="image/png"/>
  <Override PartName="/ppt/media/image10.jpeg" ContentType="image/jpeg"/>
  <Override PartName="/ppt/media/image29.png" ContentType="image/png"/>
  <Override PartName="/ppt/media/image18.png" ContentType="image/png"/>
  <Override PartName="/ppt/media/image3.gif" ContentType="image/gif"/>
  <Override PartName="/ppt/media/image6.png" ContentType="image/png"/>
  <Override PartName="/ppt/media/image14.jpeg" ContentType="image/jpeg"/>
  <Override PartName="/ppt/media/image54.png" ContentType="image/png"/>
  <Override PartName="/ppt/media/image8.png" ContentType="image/png"/>
  <Override PartName="/ppt/media/image38.png" ContentType="image/png"/>
  <Override PartName="/ppt/media/image36.png" ContentType="image/png"/>
  <Override PartName="/ppt/media/image9.jpeg" ContentType="image/jpeg"/>
  <Override PartName="/ppt/media/image4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06CC-5887-4CF0-98B1-D5E765EFF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FF38-F091-4470-ACDB-9CEEF82C0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3C9A-3D5E-4528-BCD2-8EE5A9177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DE24-0F85-4824-800C-EBDE21FF1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3C6E-CFE0-40E5-AA06-9AFCEDE82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F49E-5C47-46BB-9C2E-8BD873692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7C43-1466-4DBA-82DC-56510DAA8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57F2-288E-4171-A4B9-6691DAC76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652A-FBD4-42D7-BCD8-CA4181A05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790D-403D-46AA-890B-A834E980B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80E5-D25B-46D8-A322-F77CECD93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EDAB-5A3B-4087-8E52-9344D986D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05A083-696A-4D4F-AD9C-F64C2FF2AC91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png"/><Relationship Id="rId3" Type="http://schemas.openxmlformats.org/officeDocument/2006/relationships/image" Target="../media/image27.gi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image" Target="../media/image28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image" Target="../media/image43.png"/><Relationship Id="rId11" Type="http://schemas.openxmlformats.org/officeDocument/2006/relationships/image" Target="../media/image44.png"/><Relationship Id="rId12" Type="http://schemas.openxmlformats.org/officeDocument/2006/relationships/image" Target="../media/image45.png"/><Relationship Id="rId13" Type="http://schemas.openxmlformats.org/officeDocument/2006/relationships/image" Target="../media/image46.png"/><Relationship Id="rId14" Type="http://schemas.openxmlformats.org/officeDocument/2006/relationships/image" Target="../media/image47.png"/><Relationship Id="rId15" Type="http://schemas.openxmlformats.org/officeDocument/2006/relationships/image" Target="../media/image48.png"/><Relationship Id="rId16" Type="http://schemas.openxmlformats.org/officeDocument/2006/relationships/image" Target="../media/image49.png"/><Relationship Id="rId17" Type="http://schemas.openxmlformats.org/officeDocument/2006/relationships/image" Target="../media/image50.png"/><Relationship Id="rId18" Type="http://schemas.openxmlformats.org/officeDocument/2006/relationships/image" Target="../media/image51.png"/><Relationship Id="rId1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2.png"/><Relationship Id="rId3" Type="http://schemas.openxmlformats.org/officeDocument/2006/relationships/image" Target="../media/image52.png"/><Relationship Id="rId4" Type="http://schemas.openxmlformats.org/officeDocument/2006/relationships/image" Target="../media/image52.png"/><Relationship Id="rId5" Type="http://schemas.openxmlformats.org/officeDocument/2006/relationships/image" Target="../media/image52.png"/><Relationship Id="rId6" Type="http://schemas.openxmlformats.org/officeDocument/2006/relationships/image" Target="../media/image52.png"/><Relationship Id="rId7" Type="http://schemas.openxmlformats.org/officeDocument/2006/relationships/image" Target="../media/image52.png"/><Relationship Id="rId8" Type="http://schemas.openxmlformats.org/officeDocument/2006/relationships/image" Target="../media/image52.png"/><Relationship Id="rId9" Type="http://schemas.openxmlformats.org/officeDocument/2006/relationships/image" Target="../media/image52.png"/><Relationship Id="rId10" Type="http://schemas.openxmlformats.org/officeDocument/2006/relationships/image" Target="../media/image52.png"/><Relationship Id="rId11" Type="http://schemas.openxmlformats.org/officeDocument/2006/relationships/image" Target="../media/image52.png"/><Relationship Id="rId12" Type="http://schemas.openxmlformats.org/officeDocument/2006/relationships/image" Target="../media/image52.png"/><Relationship Id="rId13" Type="http://schemas.openxmlformats.org/officeDocument/2006/relationships/image" Target="../media/image52.png"/><Relationship Id="rId14" Type="http://schemas.openxmlformats.org/officeDocument/2006/relationships/image" Target="../media/image52.png"/><Relationship Id="rId15" Type="http://schemas.openxmlformats.org/officeDocument/2006/relationships/image" Target="../media/image52.png"/><Relationship Id="rId16" Type="http://schemas.openxmlformats.org/officeDocument/2006/relationships/image" Target="../media/image52.png"/><Relationship Id="rId17" Type="http://schemas.openxmlformats.org/officeDocument/2006/relationships/image" Target="../media/image52.png"/><Relationship Id="rId18" Type="http://schemas.openxmlformats.org/officeDocument/2006/relationships/image" Target="../media/image52.png"/><Relationship Id="rId19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image" Target="../media/image56.png"/><Relationship Id="rId5" Type="http://schemas.openxmlformats.org/officeDocument/2006/relationships/image" Target="../media/image57.png"/><Relationship Id="rId6" Type="http://schemas.openxmlformats.org/officeDocument/2006/relationships/image" Target="../media/image58.png"/><Relationship Id="rId7" Type="http://schemas.openxmlformats.org/officeDocument/2006/relationships/image" Target="../media/image59.png"/><Relationship Id="rId8" Type="http://schemas.openxmlformats.org/officeDocument/2006/relationships/image" Target="../media/image60.png"/><Relationship Id="rId9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6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7.png"/><Relationship Id="rId3" Type="http://schemas.openxmlformats.org/officeDocument/2006/relationships/image" Target="../media/image68.png"/><Relationship Id="rId4" Type="http://schemas.openxmlformats.org/officeDocument/2006/relationships/image" Target="../media/image69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wmf"/><Relationship Id="rId3" Type="http://schemas.openxmlformats.org/officeDocument/2006/relationships/image" Target="../media/image66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wmf"/><Relationship Id="rId3" Type="http://schemas.openxmlformats.org/officeDocument/2006/relationships/image" Target="../media/image70.png"/><Relationship Id="rId4" Type="http://schemas.openxmlformats.org/officeDocument/2006/relationships/image" Target="../media/image70.png"/><Relationship Id="rId5" Type="http://schemas.openxmlformats.org/officeDocument/2006/relationships/image" Target="../media/image71.jpeg"/><Relationship Id="rId6" Type="http://schemas.openxmlformats.org/officeDocument/2006/relationships/image" Target="../media/image72.jpeg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73.png"/><Relationship Id="rId4" Type="http://schemas.openxmlformats.org/officeDocument/2006/relationships/image" Target="../media/image74.png"/><Relationship Id="rId5" Type="http://schemas.openxmlformats.org/officeDocument/2006/relationships/image" Target="../media/image75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6.gif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7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2438280"/>
            <a:ext cx="105228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914400" y="838080"/>
            <a:ext cx="7315200" cy="2819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9400ed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рок русского язык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9400ed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9400ed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9400ed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о 2 "Б" классе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9400ed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838080" y="4191120"/>
            <a:ext cx="7010640" cy="637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С "ШКОЛА 2100"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3000" fill="hold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12" name=""/>
          <p:cNvCxnSpPr/>
          <p:nvPr/>
        </p:nvCxnSpPr>
        <p:spPr>
          <a:xfrm flipV="1">
            <a:off x="3358800" y="3430440"/>
            <a:ext cx="1786680" cy="643320"/>
          </a:xfrm>
          <a:prstGeom prst="straightConnector1">
            <a:avLst/>
          </a:prstGeom>
          <a:ln w="9360">
            <a:solidFill>
              <a:srgbClr val="99ccff"/>
            </a:solidFill>
            <a:miter/>
            <a:tailEnd len="med" type="triangle" w="med"/>
          </a:ln>
        </p:spPr>
      </p:cxnSp>
      <p:cxnSp>
        <p:nvCxnSpPr>
          <p:cNvPr id="113" name=""/>
          <p:cNvCxnSpPr/>
          <p:nvPr/>
        </p:nvCxnSpPr>
        <p:spPr>
          <a:xfrm flipH="1" flipV="1">
            <a:off x="1715760" y="3644640"/>
            <a:ext cx="1572480" cy="1000800"/>
          </a:xfrm>
          <a:prstGeom prst="straightConnector1">
            <a:avLst/>
          </a:prstGeom>
          <a:ln w="9360">
            <a:solidFill>
              <a:srgbClr val="99ccff"/>
            </a:solidFill>
            <a:miter/>
            <a:tailEnd len="med" type="triangle" w="med"/>
          </a:ln>
        </p:spPr>
      </p:cxnSp>
      <p:cxnSp>
        <p:nvCxnSpPr>
          <p:cNvPr id="114" name=""/>
          <p:cNvCxnSpPr/>
          <p:nvPr/>
        </p:nvCxnSpPr>
        <p:spPr>
          <a:xfrm flipH="1" flipV="1">
            <a:off x="931320" y="2215440"/>
            <a:ext cx="2929320" cy="786600"/>
          </a:xfrm>
          <a:prstGeom prst="straightConnector1">
            <a:avLst/>
          </a:prstGeom>
          <a:ln w="9360">
            <a:solidFill>
              <a:srgbClr val="99ccff"/>
            </a:solidFill>
            <a:miter/>
            <a:tailEnd len="med" type="triangle" w="med"/>
          </a:ln>
        </p:spPr>
      </p:cxnSp>
      <p:cxnSp>
        <p:nvCxnSpPr>
          <p:cNvPr id="115" name=""/>
          <p:cNvCxnSpPr/>
          <p:nvPr/>
        </p:nvCxnSpPr>
        <p:spPr>
          <a:xfrm flipV="1">
            <a:off x="2080800" y="2057040"/>
            <a:ext cx="3336120" cy="288000"/>
          </a:xfrm>
          <a:prstGeom prst="straightConnector1">
            <a:avLst/>
          </a:prstGeom>
          <a:ln w="9360">
            <a:solidFill>
              <a:srgbClr val="99ccff"/>
            </a:solidFill>
            <a:miter/>
            <a:tailEnd len="med" type="triangle" w="med"/>
          </a:ln>
        </p:spPr>
      </p:cxn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57400" cy="16002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2209680" y="685800"/>
            <a:ext cx="5429520" cy="54309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3429000" y="5029200"/>
            <a:ext cx="2819520" cy="11462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86360" y="2438280"/>
            <a:ext cx="3090960" cy="10908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5029200" y="762120"/>
            <a:ext cx="3691080" cy="12952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7"/>
          <a:stretch/>
        </p:blipFill>
        <p:spPr>
          <a:xfrm>
            <a:off x="2057400" y="0"/>
            <a:ext cx="7086600" cy="762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3" name="" descr=""/>
          <p:cNvPicPr/>
          <p:nvPr/>
        </p:nvPicPr>
        <p:blipFill>
          <a:blip r:embed="rId8"/>
          <a:stretch/>
        </p:blipFill>
        <p:spPr>
          <a:xfrm>
            <a:off x="1752480" y="990720"/>
            <a:ext cx="2590920" cy="12492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9"/>
          <a:stretch/>
        </p:blipFill>
        <p:spPr>
          <a:xfrm>
            <a:off x="1447920" y="2514600"/>
            <a:ext cx="2523960" cy="121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dur="indefinite" fill="hold">
                      <p:stCondLst>
                        <p:cond delay="indefinite"/>
                      </p:stCondLst>
                      <p:childTnLst>
                        <p:par>
                          <p:cTn id="2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dur="indefinite" fill="hold">
                      <p:stCondLst>
                        <p:cond delay="indefinite"/>
                      </p:stCondLst>
                      <p:childTnLst>
                        <p:par>
                          <p:cTn id="2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dur="indefinite" fill="hold">
                      <p:stCondLst>
                        <p:cond delay="indefinite"/>
                      </p:stCondLst>
                      <p:childTnLst>
                        <p:par>
                          <p:cTn id="2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dur="indefinite" fill="hold">
                      <p:stCondLst>
                        <p:cond delay="indefinite"/>
                      </p:stCondLst>
                      <p:childTnLst>
                        <p:par>
                          <p:cTn id="2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dur="indefinite" fill="hold">
                      <p:stCondLst>
                        <p:cond delay="indefinite"/>
                      </p:stCondLst>
                      <p:childTnLst>
                        <p:par>
                          <p:cTn id="2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dur="indefinite" fill="hold">
                      <p:stCondLst>
                        <p:cond delay="indefinite"/>
                      </p:stCondLst>
                      <p:childTnLst>
                        <p:par>
                          <p:cTn id="2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 rot="21120000">
            <a:off x="760320" y="1220760"/>
            <a:ext cx="7791480" cy="1752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9400ed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одня ли гусеница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9400ed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9400ed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            </a:t>
            </a: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9400ed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усю?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9400ed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762120" y="4191120"/>
            <a:ext cx="1828800" cy="16383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5257800" y="3505320"/>
            <a:ext cx="3124080" cy="25621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685800" y="3657600"/>
            <a:ext cx="2666880" cy="2590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dur="indefinite" fill="hold">
                      <p:stCondLst>
                        <p:cond delay="indefinite"/>
                      </p:stCondLst>
                      <p:childTnLst>
                        <p:par>
                          <p:cTn id="2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 fill="hold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dur="indefinite" fill="hold">
                      <p:stCondLst>
                        <p:cond delay="indefinite"/>
                      </p:stCondLst>
                      <p:childTnLst>
                        <p:par>
                          <p:cTn id="2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1" dur="1000" fill="hold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85800" y="609480"/>
            <a:ext cx="7086600" cy="253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ОДНОКОРЕННЫМИ СЛОВАМ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называются близкие по смыслу слова с одинаковым корне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3352680"/>
            <a:ext cx="800100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тобы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авильно найти корень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 нужно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подобрать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 как можно больше однокоренных слов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и посмотреть, какая часть в них является общ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7086600" y="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2778120" y="4800600"/>
            <a:ext cx="6365880" cy="131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dur="indefinite" fill="hold">
                      <p:stCondLst>
                        <p:cond delay="indefinite"/>
                      </p:stCondLst>
                      <p:childTnLst>
                        <p:par>
                          <p:cTn id="2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0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dur="indefinite" fill="hold">
                      <p:stCondLst>
                        <p:cond delay="indefinite"/>
                      </p:stCondLst>
                      <p:childTnLst>
                        <p:par>
                          <p:cTn id="2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5" dur="8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6" dur="8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" dur="8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042920" y="1341360"/>
            <a:ext cx="4176720" cy="2158920"/>
          </a:xfrm>
          <a:prstGeom prst="cloudCallout">
            <a:avLst>
              <a:gd name="adj1" fmla="val 74819"/>
              <a:gd name="adj2" fmla="val 35662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ш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р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тдохну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5942160" y="1557360"/>
            <a:ext cx="2028600" cy="4192560"/>
            <a:chOff x="5942160" y="1557360"/>
            <a:chExt cx="2028600" cy="4192560"/>
          </a:xfrm>
        </p:grpSpPr>
        <p:pic>
          <p:nvPicPr>
            <p:cNvPr id="138" name="" descr=""/>
            <p:cNvPicPr/>
            <p:nvPr/>
          </p:nvPicPr>
          <p:blipFill>
            <a:blip r:embed="rId1"/>
            <a:stretch/>
          </p:blipFill>
          <p:spPr>
            <a:xfrm>
              <a:off x="6156360" y="2492280"/>
              <a:ext cx="1638360" cy="325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" descr=""/>
            <p:cNvPicPr/>
            <p:nvPr/>
          </p:nvPicPr>
          <p:blipFill>
            <a:blip r:embed="rId2"/>
            <a:stretch/>
          </p:blipFill>
          <p:spPr>
            <a:xfrm>
              <a:off x="5942160" y="1557360"/>
              <a:ext cx="2028600" cy="1222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3205080" y="4940280"/>
            <a:ext cx="638280" cy="14763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1476360" y="4005360"/>
            <a:ext cx="638280" cy="14763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5"/>
          <a:stretch/>
        </p:blipFill>
        <p:spPr>
          <a:xfrm>
            <a:off x="3924360" y="3646440"/>
            <a:ext cx="1438200" cy="128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8" dur="indefinite" restart="never" fill="hold">
          <p:childTnLst>
            <p:seq>
              <p:cTn id="279" dur="indefinite" nodeType="mainSeq">
                <p:childTnLst>
                  <p:par>
                    <p:cTn id="280" dur="indefinite" fill="hold">
                      <p:stCondLst>
                        <p:cond delay="0"/>
                      </p:stCondLst>
                      <p:childTnLst>
                        <p:par>
                          <p:cTn id="2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dur="indefinite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29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 fill="hold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 fill="hold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301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318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 -6 L 1.32948 -6 C 0.00781999999999994 0.00624000000000002 0.01233 0.00948 0.01719 0.02751 C 0.01806 0.03676 0.01736 0.04717 0.01927 0.05549 C 0.02066 0.06196 0.02327 0.06566 0.02535 0.07075 C 0.02952 0.08092 0.02743 0.07584 0.03143 0.08601 C 0.03264 0.08925 0.0349 0.08786 0.03663 0.08855 C 0.04341 0.09017 0.06632 0.09295 0.07118 0.09364 C 0.07292 0.09433 0.07466 0.09503 0.07622 0.09595 C 0.0783 0.09734 0.08229 0.10104 0.08229 0.10127 C 0.08334 0.10266 0.0842 0.10474 0.08542 0.10613 C 0.08733 0.10844 0.09132 0.11121 0.09132 0.11144 C 0.09202 0.11376 0.09288 0.11607 0.09341 0.11884 C 0.09393 0.12115 0.09462 0.1267 0.09462 0.12694 E">
                                      <p:cBhvr>
                                        <p:cTn id="319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"/>
          <p:cNvGrpSpPr/>
          <p:nvPr/>
        </p:nvGrpSpPr>
        <p:grpSpPr>
          <a:xfrm>
            <a:off x="3492360" y="2421000"/>
            <a:ext cx="1944720" cy="1774800"/>
            <a:chOff x="3492360" y="2421000"/>
            <a:chExt cx="1944720" cy="177480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tretch/>
          </p:blipFill>
          <p:spPr>
            <a:xfrm>
              <a:off x="3492360" y="2421000"/>
              <a:ext cx="1944720" cy="177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" descr=""/>
            <p:cNvPicPr/>
            <p:nvPr/>
          </p:nvPicPr>
          <p:blipFill>
            <a:blip r:embed="rId2"/>
            <a:stretch/>
          </p:blipFill>
          <p:spPr>
            <a:xfrm>
              <a:off x="3637080" y="2709720"/>
              <a:ext cx="1218960" cy="1181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4067280" y="907920"/>
            <a:ext cx="581040" cy="16671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1908000" y="2997360"/>
            <a:ext cx="1667160" cy="5810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3995640" y="4149720"/>
            <a:ext cx="581040" cy="16668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5076720" y="2997360"/>
            <a:ext cx="1667160" cy="5810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3059280" y="1341360"/>
            <a:ext cx="580680" cy="16668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8"/>
          <a:stretch/>
        </p:blipFill>
        <p:spPr>
          <a:xfrm>
            <a:off x="2268360" y="4151160"/>
            <a:ext cx="1667160" cy="5810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9"/>
          <a:stretch/>
        </p:blipFill>
        <p:spPr>
          <a:xfrm>
            <a:off x="4606920" y="1955880"/>
            <a:ext cx="1666800" cy="5810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10"/>
          <a:stretch/>
        </p:blipFill>
        <p:spPr>
          <a:xfrm>
            <a:off x="5148360" y="3716280"/>
            <a:ext cx="581040" cy="16668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11"/>
          <a:stretch/>
        </p:blipFill>
        <p:spPr>
          <a:xfrm>
            <a:off x="4651200" y="1477800"/>
            <a:ext cx="446400" cy="11145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12"/>
          <a:stretch/>
        </p:blipFill>
        <p:spPr>
          <a:xfrm>
            <a:off x="5076720" y="2565360"/>
            <a:ext cx="1235160" cy="5079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13"/>
          <a:stretch/>
        </p:blipFill>
        <p:spPr>
          <a:xfrm>
            <a:off x="5005440" y="3646440"/>
            <a:ext cx="1224000" cy="5652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14"/>
          <a:stretch/>
        </p:blipFill>
        <p:spPr>
          <a:xfrm>
            <a:off x="4599000" y="4070520"/>
            <a:ext cx="425520" cy="11523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15"/>
          <a:stretch/>
        </p:blipFill>
        <p:spPr>
          <a:xfrm>
            <a:off x="3419640" y="4006800"/>
            <a:ext cx="438120" cy="11509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16"/>
          <a:stretch/>
        </p:blipFill>
        <p:spPr>
          <a:xfrm>
            <a:off x="2436840" y="2484360"/>
            <a:ext cx="1208160" cy="4968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17"/>
          <a:stretch/>
        </p:blipFill>
        <p:spPr>
          <a:xfrm>
            <a:off x="2268360" y="3502080"/>
            <a:ext cx="1285920" cy="4874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18"/>
          <a:stretch/>
        </p:blipFill>
        <p:spPr>
          <a:xfrm>
            <a:off x="3695760" y="1486080"/>
            <a:ext cx="455400" cy="1139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dur="indefinite" fill="hold">
                      <p:stCondLst>
                        <p:cond delay="0"/>
                      </p:stCondLst>
                      <p:childTnLst>
                        <p:par>
                          <p:cTn id="3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 fill="hold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 fill="hold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337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 fill="hold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343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 fill="hold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349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 fill="hold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355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 fill="hold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dur="indefinite" fill="hold">
                            <p:stCondLst>
                              <p:cond delay="3500"/>
                            </p:stCondLst>
                            <p:childTnLst>
                              <p:par>
                                <p:cTn id="361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367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 fill="hold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dur="indefinite" fill="hold">
                            <p:stCondLst>
                              <p:cond delay="4500"/>
                            </p:stCondLst>
                            <p:childTnLst>
                              <p:par>
                                <p:cTn id="373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 fill="hold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dur="indefinite" fill="hold">
                            <p:stCondLst>
                              <p:cond delay="5000"/>
                            </p:stCondLst>
                            <p:childTnLst>
                              <p:par>
                                <p:cTn id="379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 fill="hold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dur="indefinite" fill="hold">
                            <p:stCondLst>
                              <p:cond delay="5500"/>
                            </p:stCondLst>
                            <p:childTnLst>
                              <p:par>
                                <p:cTn id="385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500" fill="hold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dur="indefinite" fill="hold">
                            <p:stCondLst>
                              <p:cond delay="6000"/>
                            </p:stCondLst>
                            <p:childTnLst>
                              <p:par>
                                <p:cTn id="391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 fill="hold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dur="indefinite" fill="hold">
                            <p:stCondLst>
                              <p:cond delay="6500"/>
                            </p:stCondLst>
                            <p:childTnLst>
                              <p:par>
                                <p:cTn id="397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 fill="hold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dur="indefinite" fill="hold">
                            <p:stCondLst>
                              <p:cond delay="7000"/>
                            </p:stCondLst>
                            <p:childTnLst>
                              <p:par>
                                <p:cTn id="403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" fill="hold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dur="indefinite" fill="hold">
                            <p:stCondLst>
                              <p:cond delay="7500"/>
                            </p:stCondLst>
                            <p:childTnLst>
                              <p:par>
                                <p:cTn id="409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dur="indefinite" fill="hold">
                            <p:stCondLst>
                              <p:cond delay="8000"/>
                            </p:stCondLst>
                            <p:childTnLst>
                              <p:par>
                                <p:cTn id="415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 fill="hold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dur="indefinite" fill="hold">
                            <p:stCondLst>
                              <p:cond delay="8500"/>
                            </p:stCondLst>
                            <p:childTnLst>
                              <p:par>
                                <p:cTn id="421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 fill="hold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dur="indefinite" fill="hold">
                            <p:stCondLst>
                              <p:cond delay="9000"/>
                            </p:stCondLst>
                            <p:childTnLst>
                              <p:par>
                                <p:cTn id="427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8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29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30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1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32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3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3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5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36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7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3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9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0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1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2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dur="indefinite" fill="hold">
                            <p:stCondLst>
                              <p:cond delay="11000"/>
                            </p:stCondLst>
                            <p:childTnLst>
                              <p:par>
                                <p:cTn id="444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44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6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44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8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44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0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45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2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45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4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45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6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45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8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45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dur="indefinite" fill="hold">
                            <p:stCondLst>
                              <p:cond delay="12000"/>
                            </p:stCondLst>
                            <p:childTnLst>
                              <p:par>
                                <p:cTn id="461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2" dur="1000" fill="hold"/>
                                        <p:tgtEl>
                                          <p:spTgt spid="1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dur="indefinite" fill="hold">
                            <p:stCondLst>
                              <p:cond delay="13000"/>
                            </p:stCondLst>
                            <p:childTnLst>
                              <p:par>
                                <p:cTn id="464" dur="indefinite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5" dur="500" fill="hold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8" dur="500" fill="hold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1" dur="500" fill="hold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4" dur="500" fill="hold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7" dur="500" fill="hold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0" dur="500" fill="hold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3" dur="500" fill="hold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6" dur="500" fill="hold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9" dur="500" fill="hold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2" dur="500" fill="hold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5" dur="500" fill="hold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8" dur="500" fill="hold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1" dur="500" fill="hold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4" dur="500" fill="hold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7" dur="500" fill="hold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0" dur="500" fill="hold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3" dur="500" fill="hold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2124000" y="260280"/>
            <a:ext cx="743040" cy="1000080"/>
            <a:chOff x="2124000" y="260280"/>
            <a:chExt cx="743040" cy="1000080"/>
          </a:xfrm>
        </p:grpSpPr>
        <p:pic>
          <p:nvPicPr>
            <p:cNvPr id="163" name="" descr=""/>
            <p:cNvPicPr/>
            <p:nvPr/>
          </p:nvPicPr>
          <p:blipFill>
            <a:blip r:embed="rId1"/>
            <a:stretch/>
          </p:blipFill>
          <p:spPr>
            <a:xfrm>
              <a:off x="2124000" y="260280"/>
              <a:ext cx="7430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2195640" y="620640"/>
              <a:ext cx="360360" cy="289080"/>
            </a:xfrm>
            <a:custGeom>
              <a:avLst/>
              <a:gdLst>
                <a:gd name="textAreaLeft" fmla="*/ 148320 w 360360"/>
                <a:gd name="textAreaRight" fmla="*/ 212040 w 360360"/>
                <a:gd name="textAreaTop" fmla="*/ 119160 h 289080"/>
                <a:gd name="textAreaBottom" fmla="*/ 16992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250920" y="260280"/>
            <a:ext cx="742680" cy="1000080"/>
            <a:chOff x="250920" y="260280"/>
            <a:chExt cx="742680" cy="1000080"/>
          </a:xfrm>
        </p:grpSpPr>
        <p:pic>
          <p:nvPicPr>
            <p:cNvPr id="166" name="" descr=""/>
            <p:cNvPicPr/>
            <p:nvPr/>
          </p:nvPicPr>
          <p:blipFill>
            <a:blip r:embed="rId2"/>
            <a:stretch/>
          </p:blipFill>
          <p:spPr>
            <a:xfrm>
              <a:off x="250920" y="260280"/>
              <a:ext cx="7426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322200" y="620640"/>
              <a:ext cx="360360" cy="289080"/>
            </a:xfrm>
            <a:custGeom>
              <a:avLst/>
              <a:gdLst>
                <a:gd name="textAreaLeft" fmla="*/ 148320 w 360360"/>
                <a:gd name="textAreaRight" fmla="*/ 212040 w 360360"/>
                <a:gd name="textAreaTop" fmla="*/ 119160 h 289080"/>
                <a:gd name="textAreaBottom" fmla="*/ 16992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6372360" y="260280"/>
            <a:ext cx="742680" cy="1000080"/>
            <a:chOff x="6372360" y="260280"/>
            <a:chExt cx="742680" cy="1000080"/>
          </a:xfrm>
        </p:grpSpPr>
        <p:pic>
          <p:nvPicPr>
            <p:cNvPr id="169" name="" descr=""/>
            <p:cNvPicPr/>
            <p:nvPr/>
          </p:nvPicPr>
          <p:blipFill>
            <a:blip r:embed="rId3"/>
            <a:stretch/>
          </p:blipFill>
          <p:spPr>
            <a:xfrm>
              <a:off x="6372360" y="260280"/>
              <a:ext cx="7426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6443640" y="620640"/>
              <a:ext cx="360360" cy="289080"/>
            </a:xfrm>
            <a:custGeom>
              <a:avLst/>
              <a:gdLst>
                <a:gd name="textAreaLeft" fmla="*/ 148320 w 360360"/>
                <a:gd name="textAreaRight" fmla="*/ 212040 w 360360"/>
                <a:gd name="textAreaTop" fmla="*/ 119160 h 289080"/>
                <a:gd name="textAreaBottom" fmla="*/ 16992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356000" y="260280"/>
            <a:ext cx="743040" cy="1000080"/>
            <a:chOff x="4356000" y="260280"/>
            <a:chExt cx="743040" cy="1000080"/>
          </a:xfrm>
        </p:grpSpPr>
        <p:pic>
          <p:nvPicPr>
            <p:cNvPr id="172" name="" descr=""/>
            <p:cNvPicPr/>
            <p:nvPr/>
          </p:nvPicPr>
          <p:blipFill>
            <a:blip r:embed="rId4"/>
            <a:stretch/>
          </p:blipFill>
          <p:spPr>
            <a:xfrm>
              <a:off x="4356000" y="260280"/>
              <a:ext cx="7430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4427640" y="620640"/>
              <a:ext cx="360360" cy="289080"/>
            </a:xfrm>
            <a:custGeom>
              <a:avLst/>
              <a:gdLst>
                <a:gd name="textAreaLeft" fmla="*/ 148320 w 360360"/>
                <a:gd name="textAreaRight" fmla="*/ 212040 w 360360"/>
                <a:gd name="textAreaTop" fmla="*/ 119160 h 289080"/>
                <a:gd name="textAreaBottom" fmla="*/ 16992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79280" y="3645000"/>
            <a:ext cx="743040" cy="1000080"/>
            <a:chOff x="179280" y="3645000"/>
            <a:chExt cx="743040" cy="1000080"/>
          </a:xfrm>
        </p:grpSpPr>
        <p:pic>
          <p:nvPicPr>
            <p:cNvPr id="175" name="" descr=""/>
            <p:cNvPicPr/>
            <p:nvPr/>
          </p:nvPicPr>
          <p:blipFill>
            <a:blip r:embed="rId5"/>
            <a:stretch/>
          </p:blipFill>
          <p:spPr>
            <a:xfrm>
              <a:off x="179280" y="3645000"/>
              <a:ext cx="7430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250920" y="4005360"/>
              <a:ext cx="360360" cy="288720"/>
            </a:xfrm>
            <a:custGeom>
              <a:avLst/>
              <a:gdLst>
                <a:gd name="textAreaLeft" fmla="*/ 148320 w 360360"/>
                <a:gd name="textAreaRight" fmla="*/ 212040 w 360360"/>
                <a:gd name="textAreaTop" fmla="*/ 118800 h 288720"/>
                <a:gd name="textAreaBottom" fmla="*/ 169920 h 28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3203640" y="1916280"/>
            <a:ext cx="743040" cy="1000080"/>
            <a:chOff x="3203640" y="1916280"/>
            <a:chExt cx="743040" cy="1000080"/>
          </a:xfrm>
        </p:grpSpPr>
        <p:pic>
          <p:nvPicPr>
            <p:cNvPr id="178" name="" descr=""/>
            <p:cNvPicPr/>
            <p:nvPr/>
          </p:nvPicPr>
          <p:blipFill>
            <a:blip r:embed="rId6"/>
            <a:stretch/>
          </p:blipFill>
          <p:spPr>
            <a:xfrm>
              <a:off x="3203640" y="1916280"/>
              <a:ext cx="7430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3274920" y="2276640"/>
              <a:ext cx="360360" cy="288720"/>
            </a:xfrm>
            <a:custGeom>
              <a:avLst/>
              <a:gdLst>
                <a:gd name="textAreaLeft" fmla="*/ 148320 w 360360"/>
                <a:gd name="textAreaRight" fmla="*/ 212040 w 360360"/>
                <a:gd name="textAreaTop" fmla="*/ 118800 h 288720"/>
                <a:gd name="textAreaBottom" fmla="*/ 169920 h 28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2195640" y="3645000"/>
            <a:ext cx="742680" cy="1000080"/>
            <a:chOff x="2195640" y="3645000"/>
            <a:chExt cx="742680" cy="1000080"/>
          </a:xfrm>
        </p:grpSpPr>
        <p:pic>
          <p:nvPicPr>
            <p:cNvPr id="181" name="" descr=""/>
            <p:cNvPicPr/>
            <p:nvPr/>
          </p:nvPicPr>
          <p:blipFill>
            <a:blip r:embed="rId7"/>
            <a:stretch/>
          </p:blipFill>
          <p:spPr>
            <a:xfrm>
              <a:off x="2195640" y="3645000"/>
              <a:ext cx="7426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2266920" y="4005360"/>
              <a:ext cx="360360" cy="288720"/>
            </a:xfrm>
            <a:custGeom>
              <a:avLst/>
              <a:gdLst>
                <a:gd name="textAreaLeft" fmla="*/ 148320 w 360360"/>
                <a:gd name="textAreaRight" fmla="*/ 212040 w 360360"/>
                <a:gd name="textAreaTop" fmla="*/ 118800 h 288720"/>
                <a:gd name="textAreaBottom" fmla="*/ 169920 h 28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667640" y="1916280"/>
            <a:ext cx="743040" cy="1000080"/>
            <a:chOff x="7667640" y="1916280"/>
            <a:chExt cx="743040" cy="1000080"/>
          </a:xfrm>
        </p:grpSpPr>
        <p:pic>
          <p:nvPicPr>
            <p:cNvPr id="184" name="" descr=""/>
            <p:cNvPicPr/>
            <p:nvPr/>
          </p:nvPicPr>
          <p:blipFill>
            <a:blip r:embed="rId8"/>
            <a:stretch/>
          </p:blipFill>
          <p:spPr>
            <a:xfrm>
              <a:off x="7667640" y="1916280"/>
              <a:ext cx="7430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7738920" y="2276640"/>
              <a:ext cx="360360" cy="288720"/>
            </a:xfrm>
            <a:custGeom>
              <a:avLst/>
              <a:gdLst>
                <a:gd name="textAreaLeft" fmla="*/ 148320 w 360360"/>
                <a:gd name="textAreaRight" fmla="*/ 212040 w 360360"/>
                <a:gd name="textAreaTop" fmla="*/ 118800 h 288720"/>
                <a:gd name="textAreaBottom" fmla="*/ 169920 h 28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5580000" y="1916280"/>
            <a:ext cx="743040" cy="1000080"/>
            <a:chOff x="5580000" y="1916280"/>
            <a:chExt cx="743040" cy="1000080"/>
          </a:xfrm>
        </p:grpSpPr>
        <p:pic>
          <p:nvPicPr>
            <p:cNvPr id="187" name="" descr=""/>
            <p:cNvPicPr/>
            <p:nvPr/>
          </p:nvPicPr>
          <p:blipFill>
            <a:blip r:embed="rId9"/>
            <a:stretch/>
          </p:blipFill>
          <p:spPr>
            <a:xfrm>
              <a:off x="5580000" y="1916280"/>
              <a:ext cx="7430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5651640" y="2276640"/>
              <a:ext cx="360360" cy="288720"/>
            </a:xfrm>
            <a:custGeom>
              <a:avLst/>
              <a:gdLst>
                <a:gd name="textAreaLeft" fmla="*/ 148320 w 360360"/>
                <a:gd name="textAreaRight" fmla="*/ 212040 w 360360"/>
                <a:gd name="textAreaTop" fmla="*/ 118800 h 288720"/>
                <a:gd name="textAreaBottom" fmla="*/ 169920 h 28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1187280" y="1916280"/>
            <a:ext cx="743040" cy="1000080"/>
            <a:chOff x="1187280" y="1916280"/>
            <a:chExt cx="743040" cy="1000080"/>
          </a:xfrm>
        </p:grpSpPr>
        <p:pic>
          <p:nvPicPr>
            <p:cNvPr id="190" name="" descr=""/>
            <p:cNvPicPr/>
            <p:nvPr/>
          </p:nvPicPr>
          <p:blipFill>
            <a:blip r:embed="rId10"/>
            <a:stretch/>
          </p:blipFill>
          <p:spPr>
            <a:xfrm>
              <a:off x="1187280" y="1916280"/>
              <a:ext cx="7430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1258920" y="2276640"/>
              <a:ext cx="360360" cy="288720"/>
            </a:xfrm>
            <a:custGeom>
              <a:avLst/>
              <a:gdLst>
                <a:gd name="textAreaLeft" fmla="*/ 148320 w 360360"/>
                <a:gd name="textAreaRight" fmla="*/ 212040 w 360360"/>
                <a:gd name="textAreaTop" fmla="*/ 118800 h 288720"/>
                <a:gd name="textAreaBottom" fmla="*/ 169920 h 28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8400960" y="260280"/>
            <a:ext cx="743040" cy="1000080"/>
            <a:chOff x="8400960" y="260280"/>
            <a:chExt cx="743040" cy="1000080"/>
          </a:xfrm>
        </p:grpSpPr>
        <p:pic>
          <p:nvPicPr>
            <p:cNvPr id="193" name="" descr=""/>
            <p:cNvPicPr/>
            <p:nvPr/>
          </p:nvPicPr>
          <p:blipFill>
            <a:blip r:embed="rId11"/>
            <a:stretch/>
          </p:blipFill>
          <p:spPr>
            <a:xfrm>
              <a:off x="8400960" y="260280"/>
              <a:ext cx="7430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8472600" y="620640"/>
              <a:ext cx="360360" cy="289080"/>
            </a:xfrm>
            <a:custGeom>
              <a:avLst/>
              <a:gdLst>
                <a:gd name="textAreaLeft" fmla="*/ 148320 w 360360"/>
                <a:gd name="textAreaRight" fmla="*/ 212040 w 360360"/>
                <a:gd name="textAreaTop" fmla="*/ 119160 h 289080"/>
                <a:gd name="textAreaBottom" fmla="*/ 16992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6659640" y="3645000"/>
            <a:ext cx="743040" cy="1000080"/>
            <a:chOff x="6659640" y="3645000"/>
            <a:chExt cx="743040" cy="1000080"/>
          </a:xfrm>
        </p:grpSpPr>
        <p:pic>
          <p:nvPicPr>
            <p:cNvPr id="196" name="" descr=""/>
            <p:cNvPicPr/>
            <p:nvPr/>
          </p:nvPicPr>
          <p:blipFill>
            <a:blip r:embed="rId12"/>
            <a:stretch/>
          </p:blipFill>
          <p:spPr>
            <a:xfrm>
              <a:off x="6659640" y="3645000"/>
              <a:ext cx="7430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6730920" y="4005360"/>
              <a:ext cx="360360" cy="288720"/>
            </a:xfrm>
            <a:custGeom>
              <a:avLst/>
              <a:gdLst>
                <a:gd name="textAreaLeft" fmla="*/ 148320 w 360360"/>
                <a:gd name="textAreaRight" fmla="*/ 212040 w 360360"/>
                <a:gd name="textAreaTop" fmla="*/ 118800 h 288720"/>
                <a:gd name="textAreaBottom" fmla="*/ 169920 h 28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4356000" y="3645000"/>
            <a:ext cx="743040" cy="1000080"/>
            <a:chOff x="4356000" y="3645000"/>
            <a:chExt cx="743040" cy="1000080"/>
          </a:xfrm>
        </p:grpSpPr>
        <p:pic>
          <p:nvPicPr>
            <p:cNvPr id="199" name="" descr=""/>
            <p:cNvPicPr/>
            <p:nvPr/>
          </p:nvPicPr>
          <p:blipFill>
            <a:blip r:embed="rId13"/>
            <a:stretch/>
          </p:blipFill>
          <p:spPr>
            <a:xfrm>
              <a:off x="4356000" y="3645000"/>
              <a:ext cx="7430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4427640" y="4005360"/>
              <a:ext cx="360360" cy="288720"/>
            </a:xfrm>
            <a:custGeom>
              <a:avLst/>
              <a:gdLst>
                <a:gd name="textAreaLeft" fmla="*/ 148320 w 360360"/>
                <a:gd name="textAreaRight" fmla="*/ 212040 w 360360"/>
                <a:gd name="textAreaTop" fmla="*/ 118800 h 288720"/>
                <a:gd name="textAreaBottom" fmla="*/ 169920 h 28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8400960" y="3645000"/>
            <a:ext cx="743040" cy="1000080"/>
            <a:chOff x="8400960" y="3645000"/>
            <a:chExt cx="743040" cy="1000080"/>
          </a:xfrm>
        </p:grpSpPr>
        <p:pic>
          <p:nvPicPr>
            <p:cNvPr id="202" name="" descr=""/>
            <p:cNvPicPr/>
            <p:nvPr/>
          </p:nvPicPr>
          <p:blipFill>
            <a:blip r:embed="rId14"/>
            <a:stretch/>
          </p:blipFill>
          <p:spPr>
            <a:xfrm>
              <a:off x="8400960" y="3645000"/>
              <a:ext cx="7430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8472600" y="4005360"/>
              <a:ext cx="360360" cy="288720"/>
            </a:xfrm>
            <a:custGeom>
              <a:avLst/>
              <a:gdLst>
                <a:gd name="textAreaLeft" fmla="*/ 148320 w 360360"/>
                <a:gd name="textAreaRight" fmla="*/ 212040 w 360360"/>
                <a:gd name="textAreaTop" fmla="*/ 118800 h 288720"/>
                <a:gd name="textAreaBottom" fmla="*/ 169920 h 28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1116000" y="5300640"/>
            <a:ext cx="743040" cy="1000080"/>
            <a:chOff x="1116000" y="5300640"/>
            <a:chExt cx="743040" cy="1000080"/>
          </a:xfrm>
        </p:grpSpPr>
        <p:pic>
          <p:nvPicPr>
            <p:cNvPr id="205" name="" descr=""/>
            <p:cNvPicPr/>
            <p:nvPr/>
          </p:nvPicPr>
          <p:blipFill>
            <a:blip r:embed="rId15"/>
            <a:stretch/>
          </p:blipFill>
          <p:spPr>
            <a:xfrm>
              <a:off x="1116000" y="5300640"/>
              <a:ext cx="7430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1187280" y="5661000"/>
              <a:ext cx="360360" cy="289080"/>
            </a:xfrm>
            <a:custGeom>
              <a:avLst/>
              <a:gdLst>
                <a:gd name="textAreaLeft" fmla="*/ 148320 w 360360"/>
                <a:gd name="textAreaRight" fmla="*/ 212040 w 360360"/>
                <a:gd name="textAreaTop" fmla="*/ 119160 h 289080"/>
                <a:gd name="textAreaBottom" fmla="*/ 16992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7524720" y="5373720"/>
            <a:ext cx="743040" cy="1000080"/>
            <a:chOff x="7524720" y="5373720"/>
            <a:chExt cx="743040" cy="1000080"/>
          </a:xfrm>
        </p:grpSpPr>
        <p:pic>
          <p:nvPicPr>
            <p:cNvPr id="208" name="" descr=""/>
            <p:cNvPicPr/>
            <p:nvPr/>
          </p:nvPicPr>
          <p:blipFill>
            <a:blip r:embed="rId16"/>
            <a:stretch/>
          </p:blipFill>
          <p:spPr>
            <a:xfrm>
              <a:off x="7524720" y="5373720"/>
              <a:ext cx="7430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7596360" y="5734080"/>
              <a:ext cx="360360" cy="288720"/>
            </a:xfrm>
            <a:custGeom>
              <a:avLst/>
              <a:gdLst>
                <a:gd name="textAreaLeft" fmla="*/ 148320 w 360360"/>
                <a:gd name="textAreaRight" fmla="*/ 212040 w 360360"/>
                <a:gd name="textAreaTop" fmla="*/ 118800 h 288720"/>
                <a:gd name="textAreaBottom" fmla="*/ 169920 h 28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5508720" y="5373720"/>
            <a:ext cx="742680" cy="1000080"/>
            <a:chOff x="5508720" y="5373720"/>
            <a:chExt cx="742680" cy="1000080"/>
          </a:xfrm>
        </p:grpSpPr>
        <p:pic>
          <p:nvPicPr>
            <p:cNvPr id="211" name="" descr=""/>
            <p:cNvPicPr/>
            <p:nvPr/>
          </p:nvPicPr>
          <p:blipFill>
            <a:blip r:embed="rId17"/>
            <a:stretch/>
          </p:blipFill>
          <p:spPr>
            <a:xfrm>
              <a:off x="5508720" y="5373720"/>
              <a:ext cx="74268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5580000" y="5734080"/>
              <a:ext cx="360360" cy="288720"/>
            </a:xfrm>
            <a:custGeom>
              <a:avLst/>
              <a:gdLst>
                <a:gd name="textAreaLeft" fmla="*/ 148320 w 360360"/>
                <a:gd name="textAreaRight" fmla="*/ 212040 w 360360"/>
                <a:gd name="textAreaTop" fmla="*/ 118800 h 288720"/>
                <a:gd name="textAreaBottom" fmla="*/ 169920 h 28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3203640" y="5300640"/>
            <a:ext cx="743040" cy="1000080"/>
            <a:chOff x="3203640" y="5300640"/>
            <a:chExt cx="743040" cy="1000080"/>
          </a:xfrm>
        </p:grpSpPr>
        <p:pic>
          <p:nvPicPr>
            <p:cNvPr id="214" name="" descr=""/>
            <p:cNvPicPr/>
            <p:nvPr/>
          </p:nvPicPr>
          <p:blipFill>
            <a:blip r:embed="rId18"/>
            <a:stretch/>
          </p:blipFill>
          <p:spPr>
            <a:xfrm>
              <a:off x="3203640" y="5300640"/>
              <a:ext cx="7430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3274920" y="5661000"/>
              <a:ext cx="360360" cy="289080"/>
            </a:xfrm>
            <a:custGeom>
              <a:avLst/>
              <a:gdLst>
                <a:gd name="textAreaLeft" fmla="*/ 148320 w 360360"/>
                <a:gd name="textAreaRight" fmla="*/ 212040 w 360360"/>
                <a:gd name="textAreaTop" fmla="*/ 119160 h 289080"/>
                <a:gd name="textAreaBottom" fmla="*/ 169920 h 2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dur="indefinite" fill="hold">
                      <p:stCondLst>
                        <p:cond delay="0"/>
                      </p:stCondLst>
                      <p:childTnLst>
                        <p:par>
                          <p:cTn id="5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9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 fill="hold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525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 fill="hold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531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 fill="hold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537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 fill="hold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543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 fill="hold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549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 fill="hold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555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 fill="hold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dur="indefinite" fill="hold">
                            <p:stCondLst>
                              <p:cond delay="3500"/>
                            </p:stCondLst>
                            <p:childTnLst>
                              <p:par>
                                <p:cTn id="561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500" fill="hold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567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0" fill="hold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dur="indefinite" fill="hold">
                            <p:stCondLst>
                              <p:cond delay="5000"/>
                            </p:stCondLst>
                            <p:childTnLst>
                              <p:par>
                                <p:cTn id="573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500" fill="hold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dur="indefinite" fill="hold">
                            <p:stCondLst>
                              <p:cond delay="5500"/>
                            </p:stCondLst>
                            <p:childTnLst>
                              <p:par>
                                <p:cTn id="579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500" fill="hold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dur="indefinite" fill="hold">
                            <p:stCondLst>
                              <p:cond delay="6000"/>
                            </p:stCondLst>
                            <p:childTnLst>
                              <p:par>
                                <p:cTn id="585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500" fill="hold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dur="indefinite" fill="hold">
                            <p:stCondLst>
                              <p:cond delay="6500"/>
                            </p:stCondLst>
                            <p:childTnLst>
                              <p:par>
                                <p:cTn id="591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500" fill="hold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dur="indefinite" fill="hold">
                            <p:stCondLst>
                              <p:cond delay="7000"/>
                            </p:stCondLst>
                            <p:childTnLst>
                              <p:par>
                                <p:cTn id="597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500" fill="hold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dur="indefinite" fill="hold">
                            <p:stCondLst>
                              <p:cond delay="7500"/>
                            </p:stCondLst>
                            <p:childTnLst>
                              <p:par>
                                <p:cTn id="603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500" fill="hold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dur="indefinite" fill="hold">
                            <p:stCondLst>
                              <p:cond delay="8000"/>
                            </p:stCondLst>
                            <p:childTnLst>
                              <p:par>
                                <p:cTn id="609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500" fill="hold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dur="indefinite" fill="hold">
                            <p:stCondLst>
                              <p:cond delay="8500"/>
                            </p:stCondLst>
                            <p:childTnLst>
                              <p:par>
                                <p:cTn id="615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500" fill="hold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dur="indefinite" fill="hold">
                            <p:stCondLst>
                              <p:cond delay="9000"/>
                            </p:stCondLst>
                            <p:childTnLst>
                              <p:par>
                                <p:cTn id="621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500" fill="hold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dur="indefinite" fill="hold">
                            <p:stCondLst>
                              <p:cond delay="9500"/>
                            </p:stCondLst>
                            <p:childTnLst>
                              <p:par>
                                <p:cTn id="627" dur="indefinite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2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dur="indefinite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3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1" dur="indefinite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3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dur="indefinite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3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dur="indefinite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3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dur="indefinite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3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9" dur="indefinite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4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1" dur="indefinite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4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dur="indefinite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4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5" dur="indefinite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4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dur="indefinite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9" dur="indefinite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5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1" dur="indefinite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52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3" dur="indefinite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5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dur="indefinite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5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7" dur="indefinite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5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dur="indefinite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60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1" dur="indefinite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6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dur="indefinite" fill="hold">
                            <p:stCondLst>
                              <p:cond delay="12500"/>
                            </p:stCondLst>
                            <p:childTnLst>
                              <p:par>
                                <p:cTn id="664" dur="indefinite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5" dur="1000" fill="hold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6" dur="500" autoRev="1" fill="hold"/>
                                        <p:tgtEl>
                                          <p:spTgt spid="17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67" dur="indefinite" nodeType="with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8" dur="1000" fill="hold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9" dur="500" autoRev="1" fill="hold"/>
                                        <p:tgtEl>
                                          <p:spTgt spid="20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70" dur="indefinite" nodeType="with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1" dur="1000" fill="hold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2" dur="500" autoRev="1" fill="hold"/>
                                        <p:tgtEl>
                                          <p:spTgt spid="1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73" dur="indefinite" nodeType="with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4" dur="1000" fill="hold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5" dur="500" autoRev="1" fill="hold"/>
                                        <p:tgtEl>
                                          <p:spTgt spid="1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76" dur="indefinite" nodeType="with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7" dur="1000" fill="hold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8" dur="500" autoRev="1" fill="hold"/>
                                        <p:tgtEl>
                                          <p:spTgt spid="1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79" dur="indefinite" nodeType="with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0" dur="1000" fill="hold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1" dur="500" autoRev="1" fill="hold"/>
                                        <p:tgtEl>
                                          <p:spTgt spid="2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82" dur="indefinite" nodeType="with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3" dur="1000" fill="hold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4" dur="500" autoRev="1" fill="hold"/>
                                        <p:tgtEl>
                                          <p:spTgt spid="1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85" dur="indefinite" nodeType="with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6" dur="1000" fill="hold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7" dur="500" autoRev="1" fill="hold"/>
                                        <p:tgtEl>
                                          <p:spTgt spid="1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88" dur="indefinite" nodeType="with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9" dur="1000" fill="hold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0" dur="500" autoRev="1" fill="hold"/>
                                        <p:tgtEl>
                                          <p:spTgt spid="20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dur="indefinite" fill="hold">
                            <p:stCondLst>
                              <p:cond delay="15500"/>
                            </p:stCondLst>
                            <p:childTnLst>
                              <p:par>
                                <p:cTn id="692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3" dur="1000" fill="hold"/>
                                        <p:tgtEl>
                                          <p:spTgt spid="16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94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5" dur="1000" fill="hold"/>
                                        <p:tgtEl>
                                          <p:spTgt spid="18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96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7" dur="1000" fill="hold"/>
                                        <p:tgtEl>
                                          <p:spTgt spid="18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98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9" dur="1000" fill="hold"/>
                                        <p:tgtEl>
                                          <p:spTgt spid="21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00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01" dur="1000" fill="hold"/>
                                        <p:tgtEl>
                                          <p:spTgt spid="1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02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03" dur="1000" fill="hold"/>
                                        <p:tgtEl>
                                          <p:spTgt spid="18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04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05" dur="1000" fill="hold"/>
                                        <p:tgtEl>
                                          <p:spTgt spid="1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06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07" dur="1000" fill="hold"/>
                                        <p:tgtEl>
                                          <p:spTgt spid="2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dur="indefinite" fill="hold">
                            <p:stCondLst>
                              <p:cond delay="16500"/>
                            </p:stCondLst>
                            <p:childTnLst>
                              <p:par>
                                <p:cTn id="709" dur="indefinite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0" dur="500" fill="hold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dur="indefinite" fill="hold">
                            <p:stCondLst>
                              <p:cond delay="17000"/>
                            </p:stCondLst>
                            <p:childTnLst>
                              <p:par>
                                <p:cTn id="713" dur="indefinite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4" dur="500" fill="hold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dur="indefinite" fill="hold">
                            <p:stCondLst>
                              <p:cond delay="17500"/>
                            </p:stCondLst>
                            <p:childTnLst>
                              <p:par>
                                <p:cTn id="717" dur="indefinite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8" dur="500" fill="hold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dur="indefinite" fill="hold">
                            <p:stCondLst>
                              <p:cond delay="18000"/>
                            </p:stCondLst>
                            <p:childTnLst>
                              <p:par>
                                <p:cTn id="721" dur="indefinite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2" dur="500" fill="hold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dur="indefinite" fill="hold">
                            <p:stCondLst>
                              <p:cond delay="18500"/>
                            </p:stCondLst>
                            <p:childTnLst>
                              <p:par>
                                <p:cTn id="725" dur="indefinite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6" dur="500" fill="hold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dur="indefinite" fill="hold">
                            <p:stCondLst>
                              <p:cond delay="19000"/>
                            </p:stCondLst>
                            <p:childTnLst>
                              <p:par>
                                <p:cTn id="729" dur="indefinite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0" dur="500" fill="hold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dur="indefinite" fill="hold">
                            <p:stCondLst>
                              <p:cond delay="19500"/>
                            </p:stCondLst>
                            <p:childTnLst>
                              <p:par>
                                <p:cTn id="733" dur="indefinite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4" dur="500" fill="hold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dur="indefinite" fill="hold">
                            <p:stCondLst>
                              <p:cond delay="20000"/>
                            </p:stCondLst>
                            <p:childTnLst>
                              <p:par>
                                <p:cTn id="737" dur="indefinite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8" dur="500" fill="hold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dur="indefinite" fill="hold">
                            <p:stCondLst>
                              <p:cond delay="20500"/>
                            </p:stCondLst>
                            <p:childTnLst>
                              <p:par>
                                <p:cTn id="741" dur="indefinite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2" dur="500" fill="hold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dur="indefinite" fill="hold">
                            <p:stCondLst>
                              <p:cond delay="21000"/>
                            </p:stCondLst>
                            <p:childTnLst>
                              <p:par>
                                <p:cTn id="745" dur="indefinite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6" dur="500" fill="hold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dur="indefinite" fill="hold">
                            <p:stCondLst>
                              <p:cond delay="21500"/>
                            </p:stCondLst>
                            <p:childTnLst>
                              <p:par>
                                <p:cTn id="749" dur="indefinite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0" dur="500" fill="hold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dur="indefinite" fill="hold">
                            <p:stCondLst>
                              <p:cond delay="22000"/>
                            </p:stCondLst>
                            <p:childTnLst>
                              <p:par>
                                <p:cTn id="753" dur="indefinite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4" dur="500" fill="hold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dur="indefinite" fill="hold">
                            <p:stCondLst>
                              <p:cond delay="22500"/>
                            </p:stCondLst>
                            <p:childTnLst>
                              <p:par>
                                <p:cTn id="757" dur="indefinite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8" dur="500" fill="hold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dur="indefinite" fill="hold">
                            <p:stCondLst>
                              <p:cond delay="23000"/>
                            </p:stCondLst>
                            <p:childTnLst>
                              <p:par>
                                <p:cTn id="761" dur="indefinite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2" dur="500" fill="hold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dur="indefinite" fill="hold">
                            <p:stCondLst>
                              <p:cond delay="23500"/>
                            </p:stCondLst>
                            <p:childTnLst>
                              <p:par>
                                <p:cTn id="765" dur="indefinite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6" dur="500" fill="hold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dur="indefinite" fill="hold">
                            <p:stCondLst>
                              <p:cond delay="24000"/>
                            </p:stCondLst>
                            <p:childTnLst>
                              <p:par>
                                <p:cTn id="769" dur="indefinite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0" dur="500" fill="hold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dur="indefinite" fill="hold">
                            <p:stCondLst>
                              <p:cond delay="24500"/>
                            </p:stCondLst>
                            <p:childTnLst>
                              <p:par>
                                <p:cTn id="773" dur="indefinite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4" dur="500" fill="hold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dur="indefinite" fill="hold">
                            <p:stCondLst>
                              <p:cond delay="25000"/>
                            </p:stCondLst>
                            <p:childTnLst>
                              <p:par>
                                <p:cTn id="777" dur="indefinite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8" dur="500" fill="hold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-1268280" y="890640"/>
            <a:ext cx="11018880" cy="24829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-1065240" y="1432080"/>
            <a:ext cx="10744200" cy="25588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-1004760" y="1774800"/>
            <a:ext cx="10148760" cy="25891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4"/>
          <a:stretch/>
        </p:blipFill>
        <p:spPr>
          <a:xfrm>
            <a:off x="-614520" y="1916280"/>
            <a:ext cx="10288800" cy="34509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5"/>
          <a:srcRect l="-725" t="7506" r="0" b="3974"/>
          <a:stretch/>
        </p:blipFill>
        <p:spPr>
          <a:xfrm>
            <a:off x="-828720" y="2782800"/>
            <a:ext cx="10261800" cy="31244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6"/>
          <a:stretch/>
        </p:blipFill>
        <p:spPr>
          <a:xfrm>
            <a:off x="-1440" y="3141720"/>
            <a:ext cx="9756720" cy="31478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7"/>
          <a:srcRect l="0" t="0" r="829" b="2531"/>
          <a:stretch/>
        </p:blipFill>
        <p:spPr>
          <a:xfrm>
            <a:off x="393840" y="3573360"/>
            <a:ext cx="8959680" cy="26766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5867280" y="4724280"/>
            <a:ext cx="360360" cy="3589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788000" y="4797360"/>
            <a:ext cx="936360" cy="358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rot="2700000">
            <a:off x="5003280" y="4221000"/>
            <a:ext cx="936720" cy="3589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5400000">
            <a:off x="5581080" y="4005000"/>
            <a:ext cx="936720" cy="3589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rot="19560000">
            <a:off x="6154560" y="4294080"/>
            <a:ext cx="936720" cy="358920"/>
          </a:xfrm>
          <a:prstGeom prst="ellipse">
            <a:avLst/>
          </a:prstGeom>
          <a:solidFill>
            <a:srgbClr val="008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rot="960000">
            <a:off x="6302520" y="4938840"/>
            <a:ext cx="936360" cy="358560"/>
          </a:xfrm>
          <a:prstGeom prst="ellipse">
            <a:avLst/>
          </a:prstGeom>
          <a:solidFill>
            <a:srgbClr val="00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rot="14820000">
            <a:off x="5869080" y="5374440"/>
            <a:ext cx="936360" cy="35892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rot="18720000">
            <a:off x="5147640" y="5303880"/>
            <a:ext cx="936720" cy="358920"/>
          </a:xfrm>
          <a:prstGeom prst="ellipse">
            <a:avLst/>
          </a:prstGeom>
          <a:solidFill>
            <a:srgbClr val="9900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8"/>
          <a:stretch/>
        </p:blipFill>
        <p:spPr>
          <a:xfrm>
            <a:off x="6227640" y="4581360"/>
            <a:ext cx="1847880" cy="19908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 rot="1860000">
            <a:off x="7095600" y="5660640"/>
            <a:ext cx="648000" cy="287280"/>
          </a:xfrm>
          <a:prstGeom prst="ellipse">
            <a:avLst/>
          </a:prstGeom>
          <a:solidFill>
            <a:srgbClr val="008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17880000">
            <a:off x="7454880" y="4943520"/>
            <a:ext cx="936720" cy="358560"/>
          </a:xfrm>
          <a:prstGeom prst="ellipse">
            <a:avLst/>
          </a:prstGeom>
          <a:solidFill>
            <a:srgbClr val="008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dur="indefinite" fill="hold">
                      <p:stCondLst>
                        <p:cond delay="0"/>
                      </p:stCondLst>
                      <p:childTnLst>
                        <p:par>
                          <p:cTn id="7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8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500" fill="hold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790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500" fill="hold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796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500" fill="hold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80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500" fill="hold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80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0" dur="500" fill="hold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81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6" dur="500" fill="hold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820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2" dur="500" fill="hold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dur="indefinite" fill="hold">
                            <p:stCondLst>
                              <p:cond delay="3500"/>
                            </p:stCondLst>
                            <p:childTnLst>
                              <p:par>
                                <p:cTn id="826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831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1000" fill="hold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dur="indefinite" fill="hold">
                            <p:stCondLst>
                              <p:cond delay="5000"/>
                            </p:stCondLst>
                            <p:childTnLst>
                              <p:par>
                                <p:cTn id="838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2" dur="500" fill="hold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dur="indefinite" fill="hold">
                            <p:stCondLst>
                              <p:cond delay="5500"/>
                            </p:stCondLst>
                            <p:childTnLst>
                              <p:par>
                                <p:cTn id="844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8" dur="500" fill="hold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dur="indefinite" fill="hold">
                            <p:stCondLst>
                              <p:cond delay="6000"/>
                            </p:stCondLst>
                            <p:childTnLst>
                              <p:par>
                                <p:cTn id="850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4" dur="500" fill="hold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dur="indefinite" fill="hold">
                            <p:stCondLst>
                              <p:cond delay="6500"/>
                            </p:stCondLst>
                            <p:childTnLst>
                              <p:par>
                                <p:cTn id="856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0" dur="500" fill="hold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dur="indefinite" fill="hold">
                            <p:stCondLst>
                              <p:cond delay="7000"/>
                            </p:stCondLst>
                            <p:childTnLst>
                              <p:par>
                                <p:cTn id="862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6" dur="500" fill="hold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dur="indefinite" fill="hold">
                            <p:stCondLst>
                              <p:cond delay="7500"/>
                            </p:stCondLst>
                            <p:childTnLst>
                              <p:par>
                                <p:cTn id="868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2" dur="500" fill="hold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dur="indefinite" fill="hold">
                            <p:stCondLst>
                              <p:cond delay="8000"/>
                            </p:stCondLst>
                            <p:childTnLst>
                              <p:par>
                                <p:cTn id="874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8" dur="500" fill="hold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dur="indefinite" fill="hold">
                            <p:stCondLst>
                              <p:cond delay="8500"/>
                            </p:stCondLst>
                            <p:childTnLst>
                              <p:par>
                                <p:cTn id="880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4" dur="500" fill="hold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dur="indefinite" fill="hold">
                            <p:stCondLst>
                              <p:cond delay="9000"/>
                            </p:stCondLst>
                            <p:childTnLst>
                              <p:par>
                                <p:cTn id="886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0" dur="500" fill="hold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dur="indefinite" fill="hold">
                            <p:stCondLst>
                              <p:cond delay="9500"/>
                            </p:stCondLst>
                            <p:childTnLst>
                              <p:par>
                                <p:cTn id="892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5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8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0" dur="2000" fill="hold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1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4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6" dur="2000" fill="hold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7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0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2" dur="2000" fill="hold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3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6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8" dur="2000" fill="hold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9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2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4" dur="2000" fill="hold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5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8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0" dur="2000" fill="hold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1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dur="indefinite" fill="hold">
                      <p:stCondLst>
                        <p:cond delay="indefinite"/>
                      </p:stCondLst>
                      <p:childTnLst>
                        <p:par>
                          <p:cTn id="9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6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7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9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0" dur="1000" fill="hold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2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3" dur="1000" fill="hold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5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6" dur="1000" fill="hold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8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9" dur="1000" fill="hold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1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2" dur="1000" fill="hold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4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5" dur="1000" fill="hold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7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8" dur="1000" fill="hold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0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61" dur="1000" fill="hold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3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64" dur="1000" fill="hold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6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67" dur="1000" fill="hold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9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0" dur="1000" fill="hold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3" dur="1000" fill="hold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5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6" dur="1000" fill="hold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8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9" dur="1000" fill="hold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1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82" dur="1000" fill="hold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4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85" dur="1000" fill="hold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7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88" dur="1000" fill="hold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900000" y="3573360"/>
            <a:ext cx="2676600" cy="26956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3276720" y="549360"/>
            <a:ext cx="2676240" cy="26953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5796000" y="3427560"/>
            <a:ext cx="2676600" cy="269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0" dur="indefinite" restart="never" nodeType="tmRoot">
          <p:childTnLst>
            <p:seq>
              <p:cTn id="991" dur="indefinite" nodeType="mainSeq">
                <p:childTnLst>
                  <p:par>
                    <p:cTn id="992" dur="indefinite" fill="hold">
                      <p:stCondLst>
                        <p:cond delay="0"/>
                      </p:stCondLst>
                      <p:childTnLst>
                        <p:par>
                          <p:cTn id="9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94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8" dur="1000" fill="hold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0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4" dur="1000" fill="hold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6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0" dur="1000" fill="hold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2" dur="indefinite" nodeType="afterEffect" fill="hold" presetClass="path" presetID="0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 -6 L 2.77457 -6 C -0.00832999999999995 0.00185000000000013 -0.01805 0.00347 -0.02621 0.00647 C -0.03281 0.00902 -0.04583 0.01526 -0.04583 0.01526 C -0.05278 0.02266 -0.05746 0.03352 -0.06545 0.03699 C -0.06771 0.04069 -0.06927 0.04508 -0.07205 0.04786 C -0.07378 0.04971 -0.07656 0.04878 -0.07864 0.05017 C -0.08107 0.05179 -0.08333 0.0541 -0.08524 0.05665 C -0.08993 0.06289 -0.09253 0.06913 -0.09826 0.07422 C -0.10225 0.08902 -0.09653 0.07121 -0.10816 0.08948 C -0.1092 0.0911 -0.10868 0.0941 -0.10972 0.09595 C -0.11146 0.09942 -0.11441 0.1015 -0.11632 0.10474 C -0.12864 0.12485 -0.11927 0.11537 -0.12951 0.12439 C -0.13107 0.12809 -0.13246 0.13179 -0.13437 0.13526 C -0.13576 0.1378 -0.13802 0.13919 -0.13923 0.14173 C -0.14028 0.14381 -0.13958 0.14705 -0.14097 0.14844 C -0.14271 0.15029 -0.14531 0.14982 -0.14757 0.15052 C -0.14913 0.15352 -0.15104 0.15607 -0.15243 0.1593 C -0.1533 0.16139 -0.15295 0.16393 -0.15399 0.16578 C -0.15521 0.16786 -0.15764 0.16832 -0.15903 0.17017 C -0.16198 0.1741 -0.16475 0.17873 -0.16719 0.18335 C -0.17482 0.19745 -0.18073 0.21225 -0.1901 0.22474 C -0.19375 0.24323 -0.18871 0.22335 -0.2 0.24439 C -0.20208 0.24832 -0.20295 0.25341 -0.20486 0.25757 C -0.20972 0.26867 -0.21701 0.27607 -0.22118 0.28809 C -0.22344 0.30497 -0.22882 0.31283 -0.23437 0.3274 C -0.23732 0.34821 -0.23333 0.32902 -0.24097 0.34705 C -0.24479 0.35607 -0.24566 0.36624 -0.24913 0.37549 C -0.25278 0.39468 -0.25503 0.41364 -0.26059 0.43214 C -0.26111 0.43653 -0.26128 0.44115 -0.26232 0.44532 C -0.26285 0.44786 -0.26493 0.44925 -0.26545 0.45179 C -0.26805 0.46312 -0.26719 0.47769 -0.26719 0.48902 E">
                                      <p:cBhvr>
                                        <p:cTn id="1013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4" dur="indefinite" nodeType="withEffect" fill="hold" presetClass="path" presetID="0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 -6 L 4.62428 -7 C 0.00746000000000002 0.00670999999999999 0.01389 0.00694 0.02292 0.00879 C 0.03316 0.01318 0.05417 0.0148 0.06389 0.02197 C 0.07691 0.03145 0.07899 0.03815 0.0934 0.04162 C 0.10156 0.04856 0.11007 0.04971 0.11962 0.05249 C 0.13368 0.06174 0.15017 0.06289 0.16545 0.06544 C 0.17535 0.06705 0.19496 0.06983 0.19496 0.06983 C 0.22153 0.07908 0.25 0.07746 0.27691 0.07862 C 0.32292 0.08509 0.31042 0.0844 0.3934 0.07653 C 0.42048 0.07399 0.44618 0.0511 0.47205 0.04162 C 0.47482 0.03931 0.47726 0.03653 0.48021 0.03492 C 0.48489 0.03214 0.49062 0.03214 0.49496 0.02844 C 0.5066 0.01827 0.49167 0.03052 0.50972 0.01966 C 0.51146 0.0185 0.51285 0.01665 0.51458 0.01526 C 0.51667 0.01364 0.51892 0.01203 0.52118 0.01087 C 0.52673 0.00786 0.53212 0.00578 0.53767 0.00231 C 0.54687 -0.0104 0.53732 0.00023 0.55243 -0.00647 C 0.56337 -0.01133 0.55382 -0.01086 0.55885 -0.01086 E">
                                      <p:cBhvr>
                                        <p:cTn id="1015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6" dur="indefinite" nodeType="withEffect" fill="hold" presetClass="path" presetID="0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3889 -18 L -5.78035 -7 C -0.000519999999999854 -0.0261199999999997 -0.00018 -0.05248 -0.00156 -0.07861 C -0.00174 -0.08231 -0.00643 -0.09826 -0.00816 -0.10242 C -0.01007 -0.10705 -0.01476 -0.1156 -0.01476 -0.1156 C -0.01649 -0.12578 -0.02031 -0.13133 -0.02465 -0.13965 C -0.02726 -0.15399 -0.03143 -0.16439 -0.03941 -0.17456 C -0.03993 -0.17734 -0.04132 -0.18682 -0.04254 -0.18982 C -0.04549 -0.19792 -0.05122 -0.2037 -0.05417 -0.21179 C -0.0625 -0.23491 -0.06979 -0.26034 -0.08681 -0.27491 C -0.09393 -0.2874 -0.10174 -0.30127 -0.1099 -0.31214 C -0.11233 -0.31537 -0.11563 -0.31768 -0.11806 -0.32092 C -0.12708 -0.33318 -0.11858 -0.32971 -0.13281 -0.34266 C -0.14358 -0.35237 -0.15434 -0.36046 -0.16563 -0.36878 C -0.175 -0.37549 -0.18542 -0.39098 -0.19514 -0.39514 C -0.20469 -0.3993 -0.19844 -0.3963 -0.21302 -0.40601 C -0.22778 -0.41595 -0.23993 -0.43422 -0.25573 -0.44092 C -0.26458 -0.44925 -0.26893 -0.45248 -0.27708 -0.45849 C -0.28507 -0.46451 -0.29028 -0.47144 -0.3 -0.47144 E">
                                      <p:cBhvr>
                                        <p:cTn id="1017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dur="indefinite" fill="hold">
                            <p:stCondLst>
                              <p:cond delay="9000"/>
                            </p:stCondLst>
                            <p:childTnLst>
                              <p:par>
                                <p:cTn id="1019" dur="indefinite" nodeType="afterEffect" fill="hold" presetClass="path" presetID="0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 -6 L -4.39306 -6 C 0.0171900000000003 0.00739999999999963 0.03177 0.02313 0.04913 0.03053 C 0.07569 0.05573 0.09844 0.08648 0.12118 0.11792 C 0.13733 0.14012 0.11337 0.1096 0.12621 0.13087 C 0.12917 0.13573 0.1342 0.13781 0.13767 0.14197 C 0.1467 0.15261 0.15243 0.16694 0.16389 0.17249 C 0.16944 0.17989 0.17604 0.18521 0.18194 0.19214 C 0.18542 0.19607 0.18837 0.2007 0.19167 0.20509 C 0.1934 0.2074 0.1967 0.2118 0.1967 0.2118 C 0.20104 0.22983 0.19375 0.20394 0.20486 0.22474 C 0.20625 0.22729 0.20538 0.23099 0.20642 0.23353 C 0.20764 0.23631 0.20989 0.23792 0.21146 0.24024 C 0.21545 0.24648 0.2191 0.25318 0.22292 0.25966 C 0.22847 0.26914 0.23281 0.27954 0.23924 0.2881 C 0.24271 0.30151 0.23837 0.28902 0.24583 0.29896 C 0.25017 0.30474 0.25226 0.31422 0.25573 0.32093 C 0.25955 0.33665 0.26441 0.34128 0.27049 0.35376 C 0.27465 0.37064 0.26892 0.34914 0.27535 0.36671 C 0.28073 0.38151 0.28108 0.39931 0.28524 0.4148 C 0.28715 0.43053 0.29271 0.44694 0.2934 0.4629 C 0.29392 0.47446 0.2934 0.48625 0.2934 0.49781 E">
                                      <p:cBhvr>
                                        <p:cTn id="1020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1" dur="indefinite" nodeType="withEffect" fill="hold" presetClass="path" presetID="0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 -6 L 7.16763 -6 C -0.0116399999999999 0.0104100000000003 -0.02743 0.01133 -0.04098 0.01318 C -0.04914 0.01665 -0.05417 0.01758 -0.06059 0.02613 C -0.06216 0.02821 -0.06337 0.03122 -0.06546 0.03261 C -0.06806 0.03423 -0.07101 0.03423 -0.07379 0.03492 C -0.0849 0.04509 -0.07969 0.04209 -0.08855 0.04579 C -0.09445 0.0511 -0.09948 0.05434 -0.1066 0.05665 C -0.11059 0.06544 -0.11302 0.06405 -0.11962 0.06775 C -0.13351 0.07561 -0.14723 0.08001 -0.16233 0.08301 C -0.21372 0.08162 -0.26511 0.08209 -0.31632 0.07862 C -0.32153 0.07839 -0.32605 0.07376 -0.33108 0.07191 C -0.33716 0.06983 -0.34306 0.06775 -0.34914 0.06544 C -0.38091 0.05365 -0.41285 0.04209 -0.44427 0.02844 C -0.45122 0.02544 -0.45677 0.01804 -0.46389 0.01527 C -0.47882 0.00949 -0.49306 0.00093 -0.50816 -0.00439 C -0.51632 -0.00739 -0.52535 -0.00786 -0.53282 -0.01317 E">
                                      <p:cBhvr>
                                        <p:cTn id="1022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3" dur="indefinite" nodeType="withEffect" fill="hold" presetClass="path" presetID="0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 -7 L 7.63006 -6 C 0.00138999999999978 -0.0284300000000002 -0.00312 -0.06381 0.0099 -0.08947 C 0.01094 -0.09387 0.01059 -0.09942 0.01302 -0.10265 C 0.0191 -0.11051 0.02535 -0.12115 0.02952 -0.13109 C 0.03351 -0.14034 0.03646 -0.15028 0.04097 -0.1593 C 0.04861 -0.17433 0.05816 -0.18774 0.06563 -0.203 C 0.06875 -0.20947 0.07118 -0.2171 0.07535 -0.22265 C 0.08056 -0.22959 0.08455 -0.23653 0.08854 -0.24462 C 0.09063 -0.25942 0.09167 -0.25965 0.10157 -0.26635 C 0.10591 -0.27491 0.10851 -0.27375 0.11476 -0.27953 C 0.11858 -0.28693 0.12136 -0.29179 0.12778 -0.29479 C 0.14254 -0.30959 0.13629 -0.30404 0.14584 -0.31213 C 0.14966 -0.31999 0.15226 -0.32254 0.15903 -0.32531 C 0.16424 -0.33225 0.17101 -0.33965 0.17709 -0.34497 C 0.19028 -0.35676 0.17309 -0.33641 0.18681 -0.35144 C 0.204 -0.3704 0.17448 -0.34242 0.20157 -0.36693 C 0.22535 -0.38843 0.20434 -0.37849 0.21806 -0.38427 C 0.22604 -0.39236 0.23091 -0.40069 0.24097 -0.40393 C 0.24653 -0.40878 0.25087 -0.4104 0.25729 -0.41271 C 0.2632 -0.41803 0.27032 -0.42288 0.27709 -0.42566 C 0.28021 -0.4319 0.28299 -0.43375 0.28681 -0.43884 E">
                                      <p:cBhvr>
                                        <p:cTn id="1024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dur="indefinite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26" dur="indefinite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27" dur="500" fill="hold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9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0" dur="500" fill="hold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2" dur="indefinite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3" dur="500" fill="hold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1692360" y="1341360"/>
            <a:ext cx="5688000" cy="194328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9400ed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Берегите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9400ed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1692360" y="4005360"/>
            <a:ext cx="5832360" cy="115236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9400ed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зрение!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9400ed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3348000" y="1844640"/>
            <a:ext cx="2276640" cy="265608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2843280" y="2205000"/>
            <a:ext cx="1298520" cy="59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dur="indefinite" fill="hold">
                      <p:stCondLst>
                        <p:cond delay="0"/>
                      </p:stCondLst>
                      <p:childTnLst>
                        <p:par>
                          <p:cTn id="10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1" dur="1000" fill="hold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5" dur="1000" fill="hold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9" dur="500" fill="hold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3" dur="500" fill="hold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5" dur="indefinite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56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7467480" y="5257800"/>
            <a:ext cx="1052640" cy="11430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 txBox="1"/>
          <p:nvPr/>
        </p:nvSpPr>
        <p:spPr>
          <a:xfrm>
            <a:off x="762120" y="0"/>
            <a:ext cx="7162560" cy="1901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исьмо  по  памяти.</a:t>
            </a:r>
            <a:endParaRPr b="0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4" name=""/>
          <p:cNvSpPr/>
          <p:nvPr/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9840"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11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емлю вьюга бел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11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мела снежко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11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ы из снега сдела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10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вухэтажный дом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spcBef>
                <a:spcPts val="10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6400800" y="2970360"/>
            <a:ext cx="3111480" cy="388764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2743200" y="2895480"/>
            <a:ext cx="1219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85800" y="3657600"/>
            <a:ext cx="1981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62120" y="3733920"/>
            <a:ext cx="1981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09480" y="4495680"/>
            <a:ext cx="7621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62520" y="4495680"/>
            <a:ext cx="1981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962520" y="4648320"/>
            <a:ext cx="2057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 rot="12660000">
            <a:off x="2714760" y="3018600"/>
            <a:ext cx="1334880" cy="1222560"/>
          </a:xfrm>
          <a:custGeom>
            <a:avLst/>
            <a:gdLst>
              <a:gd name="textAreaLeft" fmla="*/ 350280 w 1334880"/>
              <a:gd name="textAreaRight" fmla="*/ 1334880 w 1334880"/>
              <a:gd name="textAreaTop" fmla="*/ 0 h 1222560"/>
              <a:gd name="textAreaBottom" fmla="*/ 611280 h 1222560"/>
            </a:gdLst>
            <a:ahLst/>
            <a:rect l="textAreaLeft" t="textAreaTop" r="textAreaRight" b="textAreaBottom"/>
            <a:pathLst>
              <a:path stroke="0" w="21600" h="21600">
                <a:moveTo>
                  <a:pt x="21600" y="10800"/>
                </a:moveTo>
                <a:arcTo wR="10800" hR="10800" stAng="0" swAng="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 rot="12780000">
            <a:off x="2134800" y="3922560"/>
            <a:ext cx="1724040" cy="1162080"/>
          </a:xfrm>
          <a:custGeom>
            <a:avLst/>
            <a:gdLst>
              <a:gd name="textAreaLeft" fmla="*/ 861840 w 1724040"/>
              <a:gd name="textAreaRight" fmla="*/ 1724040 w 1724040"/>
              <a:gd name="textAreaTop" fmla="*/ 0 h 1162080"/>
              <a:gd name="textAreaBottom" fmla="*/ 581040 h 1162080"/>
            </a:gdLst>
            <a:ahLst/>
            <a:rect l="textAreaLeft" t="textAreaTop" r="textAreaRight" b="textAreaBottom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7" dur="indefinite" restart="never" nodeType="tmRoot">
          <p:childTnLst>
            <p:seq>
              <p:cTn id="1058" dur="indefinite" nodeType="mainSeq">
                <p:childTnLst>
                  <p:par>
                    <p:cTn id="1059" dur="indefinite" fill="hold">
                      <p:stCondLst>
                        <p:cond delay="0"/>
                      </p:stCondLst>
                      <p:childTnLst>
                        <p:par>
                          <p:cTn id="10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3" dur="2000" fill="hold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dur="indefinite" fill="hold">
                      <p:stCondLst>
                        <p:cond delay="indefinite"/>
                      </p:stCondLst>
                      <p:childTnLst>
                        <p:par>
                          <p:cTn id="10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8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dur="indefinite" fill="hold">
                      <p:stCondLst>
                        <p:cond delay="indefinite"/>
                      </p:stCondLst>
                      <p:childTnLst>
                        <p:par>
                          <p:cTn id="10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3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dur="indefinite" fill="hold">
                      <p:stCondLst>
                        <p:cond delay="indefinite"/>
                      </p:stCondLst>
                      <p:childTnLst>
                        <p:par>
                          <p:cTn id="10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8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dur="indefinite" fill="hold">
                      <p:stCondLst>
                        <p:cond delay="indefinite"/>
                      </p:stCondLst>
                      <p:childTnLst>
                        <p:par>
                          <p:cTn id="10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3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dur="indefinite" fill="hold">
                      <p:stCondLst>
                        <p:cond delay="indefinite"/>
                      </p:stCondLst>
                      <p:childTnLst>
                        <p:par>
                          <p:cTn id="10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8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dur="indefinite" fill="hold">
                      <p:stCondLst>
                        <p:cond delay="indefinite"/>
                      </p:stCondLst>
                      <p:childTnLst>
                        <p:par>
                          <p:cTn id="10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3" dur="2000" fill="hold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2000" fill="hold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dur="indefinite" fill="hold">
                      <p:stCondLst>
                        <p:cond delay="indefinite"/>
                      </p:stCondLst>
                      <p:childTnLst>
                        <p:par>
                          <p:cTn id="10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1" dur="2000" fill="hold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dur="indefinite" fill="hold">
                      <p:stCondLst>
                        <p:cond delay="indefinite"/>
                      </p:stCondLst>
                      <p:childTnLst>
                        <p:par>
                          <p:cTn id="11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6" dur="2000" fill="hold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9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dur="indefinite" fill="hold">
                      <p:stCondLst>
                        <p:cond delay="indefinite"/>
                      </p:stCondLst>
                      <p:childTnLst>
                        <p:par>
                          <p:cTn id="11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4" dur="500" fill="hold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7" dur="500" fill="hold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199120" y="2700360"/>
            <a:ext cx="3800520" cy="38098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042920" y="720720"/>
            <a:ext cx="4176720" cy="3060720"/>
          </a:xfrm>
          <a:prstGeom prst="cloudCallout">
            <a:avLst>
              <a:gd name="adj1" fmla="val 74810"/>
              <a:gd name="adj2" fmla="val 3074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79640" y="1440000"/>
            <a:ext cx="2700360" cy="22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950e"/>
                </a:solidFill>
                <a:latin typeface="Arial"/>
              </a:rPr>
              <a:t>Привет, сосед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950e"/>
                </a:solidFill>
                <a:latin typeface="Arial"/>
              </a:rPr>
              <a:t>Улыбнись мне в отв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950e"/>
                </a:solidFill>
                <a:latin typeface="Arial"/>
              </a:rPr>
              <a:t>Я хочу, чтобы ты не грустил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950e"/>
                </a:solidFill>
                <a:latin typeface="Arial"/>
              </a:rPr>
              <a:t>Всем улыбку свою дарил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73160"/>
            <a:ext cx="8229600" cy="15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 txBox="1"/>
          <p:nvPr/>
        </p:nvSpPr>
        <p:spPr>
          <a:xfrm>
            <a:off x="914400" y="609480"/>
            <a:ext cx="7391520" cy="1828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cc3300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амостоятельная  работа</a:t>
            </a:r>
            <a:endParaRPr b="0" lang="en-US" sz="1800" spc="1" strike="noStrike">
              <a:ln w="9360">
                <a:solidFill>
                  <a:srgbClr val="cc3300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1066680" y="2362320"/>
            <a:ext cx="6667560" cy="20574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бота по учебнику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пражнение 120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6710400" y="4297320"/>
            <a:ext cx="228924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2627280" y="5373720"/>
            <a:ext cx="53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 txBox="1"/>
          <p:nvPr/>
        </p:nvSpPr>
        <p:spPr>
          <a:xfrm>
            <a:off x="684360" y="260280"/>
            <a:ext cx="8135640" cy="1584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996633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то прав ?</a:t>
            </a:r>
            <a:endParaRPr b="0" lang="en-US" sz="1800" spc="1" strike="noStrike">
              <a:ln w="9360">
                <a:solidFill>
                  <a:srgbClr val="996633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0" y="1828800"/>
            <a:ext cx="1143000" cy="1295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0" y="3276720"/>
            <a:ext cx="1252440" cy="13716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4"/>
          <a:stretch/>
        </p:blipFill>
        <p:spPr>
          <a:xfrm>
            <a:off x="0" y="4981680"/>
            <a:ext cx="1224000" cy="187632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908000" y="2276640"/>
            <a:ext cx="69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a200a2"/>
                </a:solidFill>
                <a:latin typeface="Arial"/>
              </a:rPr>
              <a:t>Корень – это общая  часть  всех  с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692360" y="3665520"/>
            <a:ext cx="727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a200a2"/>
                </a:solidFill>
                <a:latin typeface="Arial"/>
              </a:rPr>
              <a:t>Корень –это главная  часть  предлож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600200" y="4952880"/>
            <a:ext cx="7058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a200a2"/>
                </a:solidFill>
                <a:latin typeface="Arial"/>
              </a:rPr>
              <a:t>Корень – это общая часть однокоренных    с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8" dur="indefinite" restart="never" nodeType="tmRoot">
          <p:childTnLst>
            <p:seq>
              <p:cTn id="1119" dur="indefinite" nodeType="mainSeq">
                <p:childTnLst>
                  <p:par>
                    <p:cTn id="1120" dur="indefinite" fill="hold">
                      <p:stCondLst>
                        <p:cond delay="indefinite"/>
                      </p:stCondLst>
                      <p:childTnLst>
                        <p:par>
                          <p:cTn id="11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8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dur="indefinite" fill="hold">
                      <p:stCondLst>
                        <p:cond delay="indefinite"/>
                      </p:stCondLst>
                      <p:childTnLst>
                        <p:par>
                          <p:cTn id="11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3" dur="2000" fill="hold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dur="indefinite" fill="hold">
                      <p:stCondLst>
                        <p:cond delay="indefinite"/>
                      </p:stCondLst>
                      <p:childTnLst>
                        <p:par>
                          <p:cTn id="11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8" dur="2000" fill="hold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dur="indefinite" fill="hold">
                      <p:stCondLst>
                        <p:cond delay="indefinite"/>
                      </p:stCondLst>
                      <p:childTnLst>
                        <p:par>
                          <p:cTn id="11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2" dur="2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5" dur="2000" fill="hold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 txBox="1"/>
          <p:nvPr/>
        </p:nvSpPr>
        <p:spPr>
          <a:xfrm rot="360000">
            <a:off x="1755360" y="302760"/>
            <a:ext cx="5486400" cy="9144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e3e02"/>
                    </a:gs>
                    <a:gs pos="100000">
                      <a:srgbClr val="ffe701"/>
                    </a:gs>
                  </a:gsLst>
                  <a:lin ang="5400000"/>
                </a:gradFill>
                <a:latin typeface="Impact"/>
              </a:rPr>
              <a:t>И Т О 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e3e02"/>
                  </a:gs>
                  <a:gs pos="100000">
                    <a:srgbClr val="ffe701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304920" y="0"/>
            <a:ext cx="1052280" cy="114300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3"/>
          <a:stretch/>
        </p:blipFill>
        <p:spPr>
          <a:xfrm>
            <a:off x="7620120" y="0"/>
            <a:ext cx="1523880" cy="160020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 txBox="1"/>
          <p:nvPr/>
        </p:nvSpPr>
        <p:spPr>
          <a:xfrm>
            <a:off x="762120" y="1676520"/>
            <a:ext cx="7924680" cy="1295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1.Какое задание понравилось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09480" y="2590920"/>
            <a:ext cx="7696440" cy="2590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2. Какое задание было самым трудным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Лёгким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762120" y="4800600"/>
            <a:ext cx="7543800" cy="1447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3.О чем не знали, а на уроке узнали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147" dur="indefinite" restart="never" nodeType="tmRoot">
          <p:childTnLst>
            <p:seq>
              <p:cTn id="1148" dur="indefinite" nodeType="mainSeq">
                <p:childTnLst>
                  <p:par>
                    <p:cTn id="1149" dur="indefinite" fill="hold">
                      <p:stCondLst>
                        <p:cond delay="0"/>
                      </p:stCondLst>
                      <p:childTnLst>
                        <p:par>
                          <p:cTn id="11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3" dur="2000" fill="hold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dur="indefinite" fill="hold">
                      <p:stCondLst>
                        <p:cond delay="indefinite"/>
                      </p:stCondLst>
                      <p:childTnLst>
                        <p:par>
                          <p:cTn id="11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1" dur="500" fill="hold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dur="indefinite" fill="hold">
                      <p:stCondLst>
                        <p:cond delay="indefinite"/>
                      </p:stCondLst>
                      <p:childTnLst>
                        <p:par>
                          <p:cTn id="11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9" dur="500" fill="hold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dur="indefinite" fill="hold">
                      <p:stCondLst>
                        <p:cond delay="indefinite"/>
                      </p:stCondLst>
                      <p:childTnLst>
                        <p:par>
                          <p:cTn id="11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7" dur="500" fill="hold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 txBox="1"/>
          <p:nvPr/>
        </p:nvSpPr>
        <p:spPr>
          <a:xfrm rot="540000">
            <a:off x="21960" y="36360"/>
            <a:ext cx="7010280" cy="1738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e3e02"/>
                    </a:gs>
                    <a:gs pos="100000">
                      <a:srgbClr val="ffe701"/>
                    </a:gs>
                  </a:gsLst>
                  <a:lin ang="5400000"/>
                </a:gradFill>
                <a:latin typeface="Impact"/>
              </a:rPr>
              <a:t>Домашнее  задание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e3e02"/>
                  </a:gs>
                  <a:gs pos="100000">
                    <a:srgbClr val="ffe701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5867280" y="3962520"/>
            <a:ext cx="1052640" cy="114300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 txBox="1"/>
          <p:nvPr/>
        </p:nvSpPr>
        <p:spPr>
          <a:xfrm>
            <a:off x="2514600" y="1828800"/>
            <a:ext cx="5838840" cy="1676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пр.100,101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ыучить правило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пр.103(дид.мат.)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990720" y="1828800"/>
            <a:ext cx="129528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563924" dir="14050137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ВСЕ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563924" dir="14050137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5"/>
          <a:stretch/>
        </p:blipFill>
        <p:spPr>
          <a:xfrm>
            <a:off x="0" y="3809880"/>
            <a:ext cx="3352680" cy="304812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6"/>
          <a:stretch/>
        </p:blipFill>
        <p:spPr>
          <a:xfrm>
            <a:off x="7467480" y="0"/>
            <a:ext cx="1676520" cy="19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8" dur="indefinite" restart="never" nodeType="tmRoot">
          <p:childTnLst>
            <p:seq>
              <p:cTn id="1179" dur="indefinite" nodeType="mainSeq">
                <p:childTnLst>
                  <p:par>
                    <p:cTn id="1180" dur="indefinite" fill="hold">
                      <p:stCondLst>
                        <p:cond delay="0"/>
                      </p:stCondLst>
                      <p:childTnLst>
                        <p:par>
                          <p:cTn id="11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4" dur="2000" fill="hold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76520" cy="18288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 txBox="1"/>
          <p:nvPr/>
        </p:nvSpPr>
        <p:spPr>
          <a:xfrm>
            <a:off x="1981080" y="685800"/>
            <a:ext cx="655344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9400ed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ефлексия.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9400ed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3"/>
          <a:srcRect l="0" t="4981" r="0" b="4856"/>
          <a:stretch/>
        </p:blipFill>
        <p:spPr>
          <a:xfrm>
            <a:off x="228600" y="2133720"/>
            <a:ext cx="1060560" cy="106668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pic>
        <p:nvPicPr>
          <p:cNvPr id="286" name="" descr=""/>
          <p:cNvPicPr/>
          <p:nvPr/>
        </p:nvPicPr>
        <p:blipFill>
          <a:blip r:embed="rId4"/>
          <a:stretch/>
        </p:blipFill>
        <p:spPr>
          <a:xfrm>
            <a:off x="228600" y="3657600"/>
            <a:ext cx="1066680" cy="106668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pic>
        <p:nvPicPr>
          <p:cNvPr id="287" name="" descr=""/>
          <p:cNvPicPr/>
          <p:nvPr/>
        </p:nvPicPr>
        <p:blipFill>
          <a:blip r:embed="rId5"/>
          <a:srcRect l="-6955" t="0" r="0" b="0"/>
          <a:stretch/>
        </p:blipFill>
        <p:spPr>
          <a:xfrm>
            <a:off x="228600" y="5334120"/>
            <a:ext cx="1085760" cy="101736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sp>
        <p:nvSpPr>
          <p:cNvPr id="288" name=""/>
          <p:cNvSpPr/>
          <p:nvPr/>
        </p:nvSpPr>
        <p:spPr>
          <a:xfrm>
            <a:off x="1525320" y="1984320"/>
            <a:ext cx="6714000" cy="119124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Вы считаете, что урок прошёл для ва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плодотворно, с пользой. Вы научились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можете помочь друг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295280" y="3352680"/>
            <a:ext cx="6858000" cy="15570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Arial"/>
              </a:rPr>
              <a:t>Вы считаете, что научил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333cc"/>
                </a:solidFill>
                <a:latin typeface="Arial"/>
              </a:rPr>
              <a:t>выделять корень в словах, можете подобрать однокоренные слов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Arial"/>
              </a:rPr>
              <a:t>но иногда вам ещё нужна помощ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447920" y="5257800"/>
            <a:ext cx="6019560" cy="8254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9900"/>
                </a:solidFill>
                <a:latin typeface="Arial"/>
              </a:rPr>
              <a:t>Вы считаете, что было труд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9900"/>
                </a:solidFill>
                <a:latin typeface="Arial"/>
              </a:rPr>
              <a:t>на уро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6"/>
          <a:stretch/>
        </p:blipFill>
        <p:spPr>
          <a:xfrm>
            <a:off x="6477120" y="2970360"/>
            <a:ext cx="3111480" cy="38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 txBox="1"/>
          <p:nvPr/>
        </p:nvSpPr>
        <p:spPr>
          <a:xfrm rot="19860000">
            <a:off x="1066680" y="1523880"/>
            <a:ext cx="5106960" cy="267012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МОЛОДЦЫ 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5410080" y="1371600"/>
            <a:ext cx="2895840" cy="223848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1676520" y="2970360"/>
            <a:ext cx="3111480" cy="38876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 txBox="1"/>
          <p:nvPr/>
        </p:nvSpPr>
        <p:spPr>
          <a:xfrm>
            <a:off x="1066680" y="0"/>
            <a:ext cx="7543800" cy="4419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3333cc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9360">
                <a:solidFill>
                  <a:srgbClr val="3333cc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3333cc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бед,  весёлый,заморозить, </a:t>
            </a:r>
            <a:endParaRPr b="0" lang="en-US" sz="1800" spc="1" strike="noStrike">
              <a:ln w="9360">
                <a:solidFill>
                  <a:srgbClr val="3333cc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3333cc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3333cc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еселье,веселиться, мороз,</a:t>
            </a:r>
            <a:endParaRPr b="0" lang="en-US" sz="1800" spc="1" strike="noStrike">
              <a:ln w="9360">
                <a:solidFill>
                  <a:srgbClr val="3333cc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3333cc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беденный, морозный, обедать</a:t>
            </a:r>
            <a:endParaRPr b="0" lang="en-US" sz="1800" spc="1" strike="noStrike">
              <a:ln w="9360">
                <a:solidFill>
                  <a:srgbClr val="3333cc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685800" y="5029200"/>
            <a:ext cx="1981080" cy="571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ЕДМЕТ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124080" y="4952880"/>
            <a:ext cx="251460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ИЗНАК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ЕДМЕТА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095880" y="4876920"/>
            <a:ext cx="2229120" cy="12189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ЕЙСТВИЕ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ЕДМЕТА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71600" cy="144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5" dur="indefinite" restart="never" nodeType="tmRoot">
          <p:childTnLst>
            <p:seq>
              <p:cTn id="1186" dur="indefinite" nodeType="mainSeq">
                <p:childTnLst>
                  <p:par>
                    <p:cTn id="1187" dur="indefinite" fill="hold">
                      <p:stCondLst>
                        <p:cond delay="indefinite"/>
                      </p:stCondLst>
                      <p:childTnLst>
                        <p:par>
                          <p:cTn id="11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1" dur="500" fill="hold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dur="indefinite" fill="hold">
                      <p:stCondLst>
                        <p:cond delay="indefinite"/>
                      </p:stCondLst>
                      <p:childTnLst>
                        <p:par>
                          <p:cTn id="11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6" dur="500" fill="hold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dur="indefinite" fill="hold">
                      <p:stCondLst>
                        <p:cond delay="indefinite"/>
                      </p:stCondLst>
                      <p:childTnLst>
                        <p:par>
                          <p:cTn id="11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1" dur="500" fill="hold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57400" cy="160020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 txBox="1"/>
          <p:nvPr/>
        </p:nvSpPr>
        <p:spPr>
          <a:xfrm>
            <a:off x="762120" y="1828800"/>
            <a:ext cx="1828800" cy="43434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бе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есель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роз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2743200" y="1752480"/>
            <a:ext cx="2571840" cy="4267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беденны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есёлы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розны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715000" y="1905120"/>
            <a:ext cx="2666880" cy="4114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беда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еселитьс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морози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202" dur="indefinite" restart="never" nodeType="tmRoot">
          <p:childTnLst>
            <p:seq>
              <p:cTn id="1203" dur="indefinite" nodeType="mainSeq">
                <p:childTnLst>
                  <p:par>
                    <p:cTn id="1204" dur="indefinite" fill="hold">
                      <p:stCondLst>
                        <p:cond delay="indefinite"/>
                      </p:stCondLst>
                      <p:childTnLst>
                        <p:par>
                          <p:cTn id="12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8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0" dur="1000" fill="hold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dur="indefinite" fill="hold">
                      <p:stCondLst>
                        <p:cond delay="indefinite"/>
                      </p:stCondLst>
                      <p:childTnLst>
                        <p:par>
                          <p:cTn id="12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5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7" dur="1000" fill="hold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dur="indefinite" fill="hold">
                      <p:stCondLst>
                        <p:cond delay="indefinite"/>
                      </p:stCondLst>
                      <p:childTnLst>
                        <p:par>
                          <p:cTn id="12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2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4" dur="1000" fill="hold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17  декабря.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  Классная работа.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5800" y="3581280"/>
            <a:ext cx="2133720" cy="27147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965920" y="3632040"/>
            <a:ext cx="2133360" cy="26672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305920" y="0"/>
            <a:ext cx="838080" cy="6859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838080" cy="68594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5400000">
            <a:off x="4308480" y="-4302000"/>
            <a:ext cx="533160" cy="9144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5400000">
            <a:off x="4308480" y="2022120"/>
            <a:ext cx="533520" cy="9144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7"/>
          <a:stretch/>
        </p:blipFill>
        <p:spPr>
          <a:xfrm>
            <a:off x="3602160" y="2521080"/>
            <a:ext cx="1979640" cy="126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101880"/>
            <a:ext cx="8229600" cy="15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0"/>
            <a:ext cx="8229600" cy="9144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3333cc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ловарный диктант</a:t>
            </a:r>
            <a:endParaRPr b="0" lang="en-US" sz="1800" spc="1" strike="noStrike">
              <a:ln w="9360">
                <a:solidFill>
                  <a:srgbClr val="3333cc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914400" y="914400"/>
            <a:ext cx="1752480" cy="18288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762120" y="2895480"/>
            <a:ext cx="1838160" cy="762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ябин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1901520" y="2819520"/>
            <a:ext cx="15876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90720" y="3657600"/>
            <a:ext cx="304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3276720" y="990720"/>
            <a:ext cx="2619360" cy="18288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3581280" y="3124080"/>
            <a:ext cx="1704960" cy="5810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еловек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267080" y="3809880"/>
            <a:ext cx="304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9880" y="3809880"/>
            <a:ext cx="304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50000" y="2743200"/>
            <a:ext cx="1584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2362320" y="3886200"/>
            <a:ext cx="1665000" cy="16113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838080" y="5562720"/>
            <a:ext cx="152424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негирь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1749600" y="5257800"/>
            <a:ext cx="1584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1216080" y="6019920"/>
            <a:ext cx="311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7"/>
          <a:stretch/>
        </p:blipFill>
        <p:spPr>
          <a:xfrm>
            <a:off x="5105520" y="3962520"/>
            <a:ext cx="1523880" cy="15015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7010280" y="5334120"/>
            <a:ext cx="1028880" cy="637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яц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387920" y="4800600"/>
            <a:ext cx="1587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543800" y="5943600"/>
            <a:ext cx="30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8"/>
          <a:stretch/>
        </p:blipFill>
        <p:spPr>
          <a:xfrm>
            <a:off x="6324480" y="914400"/>
            <a:ext cx="2133720" cy="19051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6553080" y="3124080"/>
            <a:ext cx="1600200" cy="638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орог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0" y="3733920"/>
            <a:ext cx="152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7540200" y="2895480"/>
            <a:ext cx="15876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dur="indefinite" fill="hold">
                      <p:stCondLst>
                        <p:cond delay="indefinite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dur="indefinite" fill="hold">
                      <p:stCondLst>
                        <p:cond delay="indefinite"/>
                      </p:stCondLst>
                      <p:childTnLst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dur="indefinite" fill="hold">
                      <p:stCondLst>
                        <p:cond delay="indefinite"/>
                      </p:stCondLst>
                      <p:childTnLst>
                        <p:par>
                          <p:cTn id="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dur="indefinite" fill="hold">
                      <p:stCondLst>
                        <p:cond delay="indefinite"/>
                      </p:stCondLst>
                      <p:childTnLst>
                        <p:par>
                          <p:cTn id="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dur="indefinite" fill="hold">
                      <p:stCondLst>
                        <p:cond delay="indefinite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dur="indefinite" fill="hold">
                      <p:stCondLst>
                        <p:cond delay="indefinite"/>
                      </p:stCondLst>
                      <p:childTnLst>
                        <p:par>
                          <p:cTn id="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dur="indefinite" fill="hold">
                      <p:stCondLst>
                        <p:cond delay="indefinite"/>
                      </p:stCondLst>
                      <p:childTnLst>
                        <p:par>
                          <p:cTn id="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dur="indefinite" fill="hold">
                      <p:stCondLst>
                        <p:cond delay="indefinite"/>
                      </p:stCondLst>
                      <p:childTnLst>
                        <p:par>
                          <p:cTn id="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dur="indefinite" fill="hold">
                      <p:stCondLst>
                        <p:cond delay="indefinite"/>
                      </p:stCondLst>
                      <p:childTnLst>
                        <p:par>
                          <p:cTn id="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85800" y="3429000"/>
            <a:ext cx="1676520" cy="26384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057400" y="380880"/>
            <a:ext cx="7086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440000" y="360360"/>
            <a:ext cx="4176720" cy="3240000"/>
          </a:xfrm>
          <a:prstGeom prst="cloudCallout">
            <a:avLst>
              <a:gd name="adj1" fmla="val -35333"/>
              <a:gd name="adj2" fmla="val 57842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40360" y="3060720"/>
            <a:ext cx="4176720" cy="3060720"/>
          </a:xfrm>
          <a:prstGeom prst="cloudCallout">
            <a:avLst>
              <a:gd name="adj1" fmla="val -97916"/>
              <a:gd name="adj2" fmla="val -29379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86040" y="1260360"/>
            <a:ext cx="31543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Смотри в корень!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0000" y="3843360"/>
            <a:ext cx="32400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Корень учения горек, а плоды его сладки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27240"/>
            <a:ext cx="777240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974760"/>
            <a:ext cx="640080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 rot="360000">
            <a:off x="915480" y="-1080"/>
            <a:ext cx="7162920" cy="4800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Наблюдение над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днокоренными  словами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438280" y="4495680"/>
            <a:ext cx="5534280" cy="15242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орень слова."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7543800" y="0"/>
            <a:ext cx="1600200" cy="198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dur="indefinite" fill="hold">
                      <p:stCondLst>
                        <p:cond delay="indefinite"/>
                      </p:stCondLst>
                      <p:childTnLst>
                        <p:par>
                          <p:cTn id="1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 fill="hold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dur="indefinite" fill="hold">
                      <p:stCondLst>
                        <p:cond delay="indefinite"/>
                      </p:stCondLst>
                      <p:childTnLst>
                        <p:par>
                          <p:cTn id="1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 fill="hold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395280" y="404640"/>
            <a:ext cx="8137440" cy="1295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3333cc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ЕМЬЯ СЛОВ</a:t>
            </a:r>
            <a:endParaRPr b="0" lang="en-US" sz="1800" spc="1" strike="noStrike">
              <a:ln w="9360">
                <a:solidFill>
                  <a:srgbClr val="3333cc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" name=""/>
          <p:cNvSpPr/>
          <p:nvPr/>
        </p:nvSpPr>
        <p:spPr>
          <a:xfrm>
            <a:off x="3429000" y="1752480"/>
            <a:ext cx="2724120" cy="243864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05320" y="3174840"/>
            <a:ext cx="2057400" cy="3683160"/>
          </a:xfrm>
          <a:custGeom>
            <a:avLst/>
            <a:gdLst/>
            <a:ahLst/>
            <a:rect l="l" t="t" r="r" b="b"/>
            <a:pathLst>
              <a:path w="992" h="2112">
                <a:moveTo>
                  <a:pt x="560" y="160"/>
                </a:moveTo>
                <a:cubicBezTo>
                  <a:pt x="312" y="912"/>
                  <a:pt x="64" y="1664"/>
                  <a:pt x="32" y="1888"/>
                </a:cubicBezTo>
                <a:cubicBezTo>
                  <a:pt x="0" y="2112"/>
                  <a:pt x="304" y="1488"/>
                  <a:pt x="368" y="1504"/>
                </a:cubicBezTo>
                <a:cubicBezTo>
                  <a:pt x="432" y="1520"/>
                  <a:pt x="384" y="1984"/>
                  <a:pt x="416" y="1984"/>
                </a:cubicBezTo>
                <a:cubicBezTo>
                  <a:pt x="448" y="1984"/>
                  <a:pt x="464" y="1504"/>
                  <a:pt x="560" y="1504"/>
                </a:cubicBezTo>
                <a:cubicBezTo>
                  <a:pt x="656" y="1504"/>
                  <a:pt x="992" y="2056"/>
                  <a:pt x="992" y="1984"/>
                </a:cubicBezTo>
                <a:cubicBezTo>
                  <a:pt x="992" y="1912"/>
                  <a:pt x="616" y="1376"/>
                  <a:pt x="560" y="1072"/>
                </a:cubicBezTo>
                <a:cubicBezTo>
                  <a:pt x="504" y="768"/>
                  <a:pt x="632" y="320"/>
                  <a:pt x="656" y="160"/>
                </a:cubicBezTo>
                <a:cubicBezTo>
                  <a:pt x="680" y="0"/>
                  <a:pt x="692" y="56"/>
                  <a:pt x="704" y="112"/>
                </a:cubicBezTo>
              </a:path>
            </a:pathLst>
          </a:custGeom>
          <a:solidFill>
            <a:srgbClr val="996633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657600" y="5638680"/>
            <a:ext cx="1600200" cy="533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-ход-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676520" y="1905120"/>
            <a:ext cx="2133360" cy="609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иходить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219320" y="2895480"/>
            <a:ext cx="1780920" cy="457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ходить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905120" y="3886200"/>
            <a:ext cx="1714320" cy="609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ходить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562720" y="1905120"/>
            <a:ext cx="2743200" cy="380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ходить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019920" y="2971800"/>
            <a:ext cx="2286000" cy="4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ходить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715000" y="3886200"/>
            <a:ext cx="2590920" cy="609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ереходить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dur="indefinite" fill="hold">
                      <p:stCondLst>
                        <p:cond delay="indefinite"/>
                      </p:stCondLst>
                      <p:childTnLst>
                        <p:par>
                          <p:cTn id="1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dur="indefinite" fill="hold">
                      <p:stCondLst>
                        <p:cond delay="indefinite"/>
                      </p:stCondLst>
                      <p:childTnLst>
                        <p:par>
                          <p:cTn id="1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 fill="hold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dur="indefinite" fill="hold">
                      <p:stCondLst>
                        <p:cond delay="indefinite"/>
                      </p:stCondLst>
                      <p:childTnLst>
                        <p:par>
                          <p:cTn id="1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 fill="hold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dur="indefinite" fill="hold">
                      <p:stCondLst>
                        <p:cond delay="indefinite"/>
                      </p:stCondLst>
                      <p:childTnLst>
                        <p:par>
                          <p:cTn id="1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dur="indefinite" fill="hold">
                      <p:stCondLst>
                        <p:cond delay="indefinite"/>
                      </p:stCondLst>
                      <p:childTnLst>
                        <p:par>
                          <p:cTn id="1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 fill="hold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dur="indefinite" fill="hold">
                      <p:stCondLst>
                        <p:cond delay="indefinite"/>
                      </p:stCondLst>
                      <p:childTnLst>
                        <p:par>
                          <p:cTn id="1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 fill="hold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dur="indefinite" fill="hold">
                      <p:stCondLst>
                        <p:cond delay="indefinite"/>
                      </p:stCondLst>
                      <p:childTnLst>
                        <p:par>
                          <p:cTn id="1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 fill="hold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dur="indefinite" fill="hold">
                      <p:stCondLst>
                        <p:cond delay="indefinite"/>
                      </p:stCondLst>
                      <p:childTnLst>
                        <p:par>
                          <p:cTn id="1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dur="indefinite" fill="hold">
                      <p:stCondLst>
                        <p:cond delay="indefinite"/>
                      </p:stCondLst>
                      <p:childTnLst>
                        <p:par>
                          <p:cTn id="1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 fill="hold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0" y="685800"/>
            <a:ext cx="7696080" cy="3429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e3e02"/>
                    </a:gs>
                    <a:gs pos="100000">
                      <a:srgbClr val="ffe701"/>
                    </a:gs>
                  </a:gsLst>
                  <a:lin ang="5400000"/>
                </a:gradFill>
                <a:latin typeface="Impact"/>
              </a:rPr>
              <a:t>Корень - это общая час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e3e02"/>
                  </a:gs>
                  <a:gs pos="100000">
                    <a:srgbClr val="ffe701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e3e02"/>
                  </a:gs>
                  <a:gs pos="100000">
                    <a:srgbClr val="ffe701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e3e02"/>
                    </a:gs>
                    <a:gs pos="100000">
                      <a:srgbClr val="ffe701"/>
                    </a:gs>
                  </a:gsLst>
                  <a:lin ang="5400000"/>
                </a:gradFill>
                <a:latin typeface="Impact"/>
              </a:rPr>
              <a:t>родственных слов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e3e02"/>
                  </a:gs>
                  <a:gs pos="100000">
                    <a:srgbClr val="ffe701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124080" y="3581280"/>
            <a:ext cx="2514600" cy="259092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dur="indefinite" fill="hold">
                      <p:stCondLst>
                        <p:cond delay="indefinite"/>
                      </p:stCondLst>
                      <p:childTnLst>
                        <p:par>
                          <p:cTn id="1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" fill="hold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4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4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429000" y="2133720"/>
            <a:ext cx="5715000" cy="47242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85800" y="533520"/>
            <a:ext cx="7569360" cy="228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800080"/>
                </a:solidFill>
                <a:latin typeface="Arial"/>
              </a:rPr>
              <a:t>«Посадим»     слово – корень    СА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-304920" y="2970360"/>
            <a:ext cx="3111480" cy="38876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flipH="1" rot="1200000">
            <a:off x="3593160" y="1184400"/>
            <a:ext cx="1166760" cy="794880"/>
          </a:xfrm>
          <a:custGeom>
            <a:avLst/>
            <a:gdLst>
              <a:gd name="textAreaLeft" fmla="*/ 288720 w 1166760"/>
              <a:gd name="textAreaRight" fmla="*/ 1166760 w 1166760"/>
              <a:gd name="textAreaTop" fmla="*/ 0 h 794880"/>
              <a:gd name="textAreaBottom" fmla="*/ 482760 h 794880"/>
            </a:gdLst>
            <a:ahLst/>
            <a:rect l="textAreaLeft" t="textAreaTop" r="textAreaRight" b="textAreaBottom"/>
            <a:pathLst>
              <a:path stroke="0" w="21600" h="21600">
                <a:moveTo>
                  <a:pt x="5264" y="1527"/>
                </a:moveTo>
                <a:arcTo wR="10800" hR="10800" stAng="-7250210" swAng="7971366"/>
                <a:lnTo>
                  <a:pt x="10800" y="10800"/>
                </a:lnTo>
                <a:close/>
              </a:path>
              <a:path fill="none" w="21600" h="21600">
                <a:moveTo>
                  <a:pt x="5264" y="1527"/>
                </a:moveTo>
                <a:arcTo wR="10800" hR="10800" stAng="-7250210" swAng="7971366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dur="indefinite" fill="hold">
                      <p:stCondLst>
                        <p:cond delay="indefinite"/>
                      </p:stCondLst>
                      <p:childTnLst>
                        <p:par>
                          <p:cTn id="1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 fill="hold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0-08-12T04:19:34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