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E3B-BA95-4EE5-BCE5-0C86DCF2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DE71-A3E8-4D3B-9093-4EF49DC3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F0B8-E8F2-4500-852B-D9C6419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F111-6F0B-4514-BAA1-3394B912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B3E8-E587-41EE-8633-9401BB26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89E8-3CE5-40D6-879B-38B00108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CBCF-465A-4A70-95B6-56E67BB9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7C8-2300-4BE1-88C8-C69029B0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A630-72E5-4130-8FCC-CFB4293F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24DD-3129-4780-9E23-70A16579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5EEE-8F5C-4C5C-91E0-559F332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760-087C-472E-AE4B-45AB17D7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A185-92DD-43B0-B90C-228CE473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D3C6-1C19-4618-82EC-236878E0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511F-F54E-4A0B-A753-D7D9C7B6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44E7-74CD-465A-BF33-B9252A0E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51AF-5F2D-449A-8CC3-F1A7C6E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9F7A-6686-4EC3-8DBE-9385B912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85E90-E11C-45F4-BA4E-AB29F8283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3F207-311E-4E09-A4C9-F2F086F4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01A16-C023-4121-9883-C291EEC3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D824-1DC9-4FAD-886E-A6C8DE7E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988-A16A-4CA5-BB14-92A722C3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2B2F9-4CA1-4DBC-B13E-A59871E13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AB424-88A4-4FC0-82E2-30FCFCB6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D536-2E1E-4962-818F-3FBC4E3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76FBA-0BB5-4601-A369-DACF485F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1648-459C-475C-BD48-D2EAD969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7388-B516-4370-B9BC-9192DE14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F289D-503A-4B52-9EE6-027F20DC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7A7A-F74C-4A24-B421-4A3AA396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6AF-199F-446B-9AD3-91CFB6D3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879-8D8E-44D9-B143-23832F29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4F96-9530-470D-BE8C-F610B8482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267-E4B8-4D5C-A15B-3893527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A61-ED3D-456D-BED6-4369FF1C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6DCA-3EE2-4F8B-B824-96E653A028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E4C3-D689-4AD9-AF2B-0F51D4146399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8A35-92E8-42C6-9CB3-1FB876868AD0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32000" y="764640"/>
            <a:ext cx="6224400" cy="62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Государственное бюджетное дошкольное образовательное учреждение детский сад № 10 для детей раннего возраста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Колпинского района Санкт - Петербург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11280" y="1773360"/>
            <a:ext cx="79214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аспорт проек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ступление на семинаре – практикум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воспита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падинец Ю.Ю.,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спитатель 1 кв. 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016 год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755640" y="617400"/>
            <a:ext cx="7993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9. Рефлекс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нализ отдельных занятий позволяет улучшить будущие проекты. Воспитатель должен ответить на следующие вопросы: «Какая часть проекта оказалась наиболее удачной? Что нужно изменить в следующий раз? Чему научились дети? Что не удалось? Почему?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флексия по теме проекта организуется не только с детьми. но и с воспитателями. Воспитатель должен отвечать на вопрос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Какие события в теме оказались наиболее удачными и эффективными для реализации поставленных задач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Что нужно изменить или учесть в следующий раз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Что удалось, что не удалось и почему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Описываются ответы на поставленные вопросы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684360" y="764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10. Прогноз возможных негативных последствий и способы их коррек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979640" y="1989000"/>
            <a:ext cx="647640" cy="1008360"/>
          </a:xfrm>
          <a:prstGeom prst="downArrow">
            <a:avLst>
              <a:gd name="adj1" fmla="val 50000"/>
              <a:gd name="adj2" fmla="val 38924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AutoShape 21"/>
          <p:cNvSpPr/>
          <p:nvPr/>
        </p:nvSpPr>
        <p:spPr>
          <a:xfrm>
            <a:off x="6443640" y="1989000"/>
            <a:ext cx="576360" cy="935280"/>
          </a:xfrm>
          <a:prstGeom prst="downArrow">
            <a:avLst>
              <a:gd name="adj1" fmla="val 50000"/>
              <a:gd name="adj2" fmla="val 40568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3"/>
          <p:cNvSpPr/>
          <p:nvPr/>
        </p:nvSpPr>
        <p:spPr>
          <a:xfrm>
            <a:off x="399600" y="3573360"/>
            <a:ext cx="40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Негативные послед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5224320" y="357336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особы корр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1332000" y="2860560"/>
            <a:ext cx="69120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 за  внимание!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1187280" y="704880"/>
            <a:ext cx="6697800" cy="65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Определени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Назв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доминирующей дея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(игровой, познавательный, творческий, исследовательский, практико-ориентированный)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количеству участников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(групповой, коллективный, парный, индивидуальны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характеру контакт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 (среди детей одной группы, среди детей нескольких групп, среди детей дошкольного образовательного учрежд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 продолжительност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краткосрочный (1или несколько занятий-1-2 недели); - среднесрочный (1 или 2 недели-месяц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- долгосрочный (1 месяц- полугодие и дальше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731760" y="151920"/>
            <a:ext cx="54118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2. Структура проект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Прямоугольник 11"/>
          <p:cNvSpPr/>
          <p:nvPr/>
        </p:nvSpPr>
        <p:spPr>
          <a:xfrm>
            <a:off x="1619280" y="907920"/>
            <a:ext cx="6337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Актуальность т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становка пробл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Ц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: 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ожидаемый результат деятельности, выраженный в позитивных изменениях в( педагоге) детях, появившихся благодаря реализации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Задачи проект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действия или шаги по достижении промежуточных результатов, направленных на достижение ц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жидаемый результа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826920" y="762480"/>
            <a:ext cx="8091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Arial"/>
              </a:rPr>
              <a:t>3. Этапы проект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Arial"/>
              </a:rPr>
              <a:t>1.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Организационны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1.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едагог (воспитатель)- раскрывает проблем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Педагог - определяет цель, намечает задачи для реализации поставленной це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Дети - вхождение в прое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  Родители - вызывать положительный отклик родителей на существующую проблему.   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84360" y="541080"/>
            <a:ext cx="79912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2. 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ланирование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. Педаго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- изготовление пособий для проек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беседы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, о геометрических фигур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беседы 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пример, о цветах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изготовление игр; подбор имеющихся иг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обучение через дидактические, подвижные, пальчиковые игры, стихи, загадк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продумывание практической, экспериментальной 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продуктивная деятель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- чтение книг, обращения к родителям, специалистам, проведение    экспериментов, тематических экскурсий, воссоздание предмета или события, занятия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. Де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- разучивание игр, стихов, участие в экспериментальной и продуктивной деятельности, поиск с родителями и педагогом новых знаний об изучаем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3. Родител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– ищем информацию, работаем по созданию развивающей среды группы (по заданиям воспитателей), изготовление с детьми газет, листков, сочинялок и п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6"/>
          <p:cNvSpPr/>
          <p:nvPr/>
        </p:nvSpPr>
        <p:spPr>
          <a:xfrm>
            <a:off x="1476360" y="1238040"/>
            <a:ext cx="604836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Заключительны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Ожидаемый результат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одук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3059280" y="2060640"/>
            <a:ext cx="718920" cy="1008000"/>
          </a:xfrm>
          <a:prstGeom prst="downArrow">
            <a:avLst>
              <a:gd name="adj1" fmla="val 50000"/>
              <a:gd name="adj2" fmla="val 35053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9"/>
          <p:cNvSpPr/>
          <p:nvPr/>
        </p:nvSpPr>
        <p:spPr>
          <a:xfrm>
            <a:off x="6300720" y="2060640"/>
            <a:ext cx="720720" cy="1008000"/>
          </a:xfrm>
          <a:prstGeom prst="downArrow">
            <a:avLst>
              <a:gd name="adj1" fmla="val 50000"/>
              <a:gd name="adj2" fmla="val 34965"/>
            </a:avLst>
          </a:prstGeom>
          <a:solidFill>
            <a:srgbClr val="703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731760" y="151920"/>
            <a:ext cx="541188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Паутинка проек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9640" y="836640"/>
          <a:ext cx="8244000" cy="5622840"/>
        </p:xfrm>
        <a:graphic>
          <a:graphicData uri="http://schemas.openxmlformats.org/drawingml/2006/table">
            <a:tbl>
              <a:tblPr/>
              <a:tblGrid>
                <a:gridCol w="2748240"/>
                <a:gridCol w="2747880"/>
                <a:gridCol w="2747880"/>
              </a:tblGrid>
              <a:tr h="12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Позн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познавательно -исследовательск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Чтение художественной литерату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чтение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Коммуникац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коммуникатив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оциализаци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игров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Здоровь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интеграция разных видов деятельности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изическая культу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двигатель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Формы взаимодействия с семьёй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Режимные мо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интеграция разных видов деятельности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Художественное творчеств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ведущая деятельность – продуктивная) указать фор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737280" y="475560"/>
            <a:ext cx="793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План осуществления проекта (основной этап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58920" y="1773360"/>
          <a:ext cx="6875280" cy="4449600"/>
        </p:xfrm>
        <a:graphic>
          <a:graphicData uri="http://schemas.openxmlformats.org/drawingml/2006/table">
            <a:tbl>
              <a:tblPr/>
              <a:tblGrid>
                <a:gridCol w="1644480"/>
                <a:gridCol w="1847880"/>
                <a:gridCol w="1644840"/>
                <a:gridCol w="1738080"/>
              </a:tblGrid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жимные момен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работа педагога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местная работа родителей с деть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вободная творческая деятельность де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b9c2cb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3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9c2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«….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альчиковая гимнастика «…» и все виды деятельности, которые планируютс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b9c2cb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b9c2c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plus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490680" y="693000"/>
            <a:ext cx="86533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6. Презентация проек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ычно в конце проживания темы проекта организуется какое-либо 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яркое событи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или общее дело, которое предоставляет детям возможность продемонстрировать полученные в ходе проекта знания и умения, а также выразить своё эмоциональное отношение к происходившему ранее и происходящему в настоящий момент – это и есть презентац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02T13:52:54Z</dcterms:created>
  <dc:creator>User</dc:creator>
  <dc:description/>
  <dc:language>en-US</dc:language>
  <cp:lastModifiedBy>Buh</cp:lastModifiedBy>
  <dcterms:modified xsi:type="dcterms:W3CDTF">2016-10-13T07:41:16Z</dcterms:modified>
  <cp:revision>40</cp:revision>
  <dc:subject/>
  <dc:title>Презентация PowerPoint</dc:title>
</cp:coreProperties>
</file>