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DFB-36B1-486A-AF34-4D07425D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5A6-41E5-486D-9AA8-22D5E1F1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7DA-D7BF-41A2-AD1A-60DAD980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D5E-5B73-4D49-94AA-8914C1F4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8D07-2A21-44B0-B92B-666BE324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2F72-689F-442B-AF6B-C2C74781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E3CD-6094-42A4-B892-2731C110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F490-9FBF-4729-81EB-2C35CF57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C003-33E0-4782-9430-15E4194A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04F3-4D4E-43F2-B927-80E0862F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E4D4-2B13-4A67-B800-6A1D0635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D3A-F4E7-4AE0-95FB-BD37A4D7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26FA-CAF2-4507-8173-55CCEF12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9013-958A-4400-A6B6-304684F5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D013-E4EC-4DFA-A8BC-30335ADC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AD2B-2A1E-4368-A73F-D55F4117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E3BB-0073-49DD-9115-90E8E6AC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FCE1-8182-4E5B-9ABA-8B3968C7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E136-DCD7-4503-97DB-BAA62072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D8CB-BB89-4B0B-8193-86726D7E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C0D3-3937-4372-B251-5B133D0F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9B3B-8AD8-443B-AF4A-6521DD35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FBF-3662-49D8-8729-7F091F84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CDDDF-2D6D-4CBA-AB2C-AD05CCA5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A2C3-22DE-4B5A-84C8-7AAD6076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D68E-24F8-4378-9A82-48E8AA1C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5EDD-E0D4-4601-999F-654F2C11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7C72-1A40-4B80-AE09-328EE10E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995C-8258-4E6E-9EB2-1A95573C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00E4-DB89-4007-97C3-6B9AC87E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29E-AADF-40DF-9A9C-05187BB2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A3A-58CD-40D1-A141-85D12F2A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96B-F216-4C83-8324-94491BB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4DF-9790-4893-9C98-E3DD00F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9F0-D541-491F-B777-E9CFE980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8BC-D643-4717-B93B-C9FB4D3B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69DD-D4DB-441A-8362-E630A51D2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C044-DF04-408E-A71E-07E37FC898CD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ED69-8CD4-4364-9D7D-71E304E169DD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6224400" cy="62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Государственное бюджетное дошкольное образовательное учреждение детский сад № 10 для детей раннего возраста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Колпинского района Санкт - Петербург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11280" y="1773360"/>
            <a:ext cx="7921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аспорт прое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ступление на семинаре – практикум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воспитате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падинец Ю.Ю.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итатель 1 кв. 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016 год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755640" y="617400"/>
            <a:ext cx="7993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9. Рефлекс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нализ отдельных занятий позволяет улучшить будущие проекты. Воспитатель должен ответить на следующие вопросы: «Какая часть проекта оказалась наиболее удачной? Что нужно изменить в следующий раз? Чему научились дети? Что не удалось? Почему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 по теме проекта организуется не только с детьми. но и с воспитателями. Воспитатель должен отвечать на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Какие события в теме оказались наиболее удачными и эффективными для реализации поставленных задач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Что нужно изменить или учесть в следующий раз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Что удалось, что не удалось и 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Описываются ответы на поставленные вопрос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764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10. Прогноз возможных негативных последствий и способы их корре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979640" y="1989000"/>
            <a:ext cx="647640" cy="1008360"/>
          </a:xfrm>
          <a:prstGeom prst="downArrow">
            <a:avLst>
              <a:gd name="adj1" fmla="val 50000"/>
              <a:gd name="adj2" fmla="val 3892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6443640" y="1989000"/>
            <a:ext cx="576360" cy="935280"/>
          </a:xfrm>
          <a:prstGeom prst="downArrow">
            <a:avLst>
              <a:gd name="adj1" fmla="val 50000"/>
              <a:gd name="adj2" fmla="val 40568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399600" y="357336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гативные послед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5224320" y="357336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особы корр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1332000" y="2860560"/>
            <a:ext cx="69120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внимание!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1187280" y="704880"/>
            <a:ext cx="6697800" cy="65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. Определение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аз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 доминирующей деятельн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игровой, познавательный, творческий, исследовательский, практико-ориентированный)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 количеству участник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(групповой, коллективный, парный, индивидуальн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 характеру контакт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: (среди детей одной группы, среди детей нескольких групп, среди детей дошкольного образовательного учрежд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 продолжительн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краткосрочный (1или несколько занятий-1-2 недели); - среднесрочный (1 или 2 недели-месяц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долгосрочный (1 месяц- полугодие и дальш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31760" y="151920"/>
            <a:ext cx="54118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. Структура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Прямоугольник 11"/>
          <p:cNvSpPr/>
          <p:nvPr/>
        </p:nvSpPr>
        <p:spPr>
          <a:xfrm>
            <a:off x="1619280" y="907920"/>
            <a:ext cx="6337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Актуальность т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становка пробл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Цель про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: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жидаемый результат деятельности, выраженный в позитивных изменениях в( педагоге) детях, появившихся благодаря реализации про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дачи про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ействия или шаги по достижении промежуточных результатов, направленных на достижение це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жидаемый результа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826920" y="762480"/>
            <a:ext cx="8091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3. Этапы проек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.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рганизационн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.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 (воспитатель)- раскрывает пробле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  Педагог - определяет цель, намечает задачи для реализации поставленной це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  Дети - вхождение в проек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  Родители - вызывать положительный отклик родителей на существующую проблему.   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684360" y="541080"/>
            <a:ext cx="79912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.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ланирование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. Педаго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- изготовление пособий для проек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беседы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пример, о геометрических фигурах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беседы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пример, о цветах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изготовление игр; подбор имеющихся иг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обучение через дидактические, подвижные, пальчиковые игры, стихи, загад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продумывание практической, экспериментальной 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продуктивная деятель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чтение книг, обращения к родителям, специалистам, проведение    экспериментов, тематических экскурсий, воссоздание предмета или события, занятия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. Де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- разучивание игр, стихов, участие в экспериментальной и продуктивной деятельности, поиск с родителями и педагогом новых знаний об изучаем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. Родите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– ищем информацию, работаем по созданию развивающей среды группы (по заданиям воспитателей), изготовление с детьми газет, листков, сочинялок и п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1476360" y="1238040"/>
            <a:ext cx="60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ключите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жидаемый результат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дук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3059280" y="206064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6300720" y="2060640"/>
            <a:ext cx="720720" cy="1008000"/>
          </a:xfrm>
          <a:prstGeom prst="downArrow">
            <a:avLst>
              <a:gd name="adj1" fmla="val 50000"/>
              <a:gd name="adj2" fmla="val 34965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731760" y="151920"/>
            <a:ext cx="54118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Паутинка проек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9640" y="836640"/>
          <a:ext cx="8244000" cy="5622840"/>
        </p:xfrm>
        <a:graphic>
          <a:graphicData uri="http://schemas.openxmlformats.org/drawingml/2006/table">
            <a:tbl>
              <a:tblPr/>
              <a:tblGrid>
                <a:gridCol w="2748240"/>
                <a:gridCol w="2747880"/>
                <a:gridCol w="2747880"/>
              </a:tblGrid>
              <a:tr h="12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озн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познавательно -исследовательск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Чтение художественной литерату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чтение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Коммуникац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коммуникативн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оциализац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игров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Здоровь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интеграция разных видов деятельности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Физическая культу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двигательн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Формы взаимодействия с семьёй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Режимные момен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интеграция разных видов деятельности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Художественное творчес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продуктивн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737280" y="475560"/>
            <a:ext cx="79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лан осуществления проекта (основной эта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58920" y="1773360"/>
          <a:ext cx="6875280" cy="4449600"/>
        </p:xfrm>
        <a:graphic>
          <a:graphicData uri="http://schemas.openxmlformats.org/drawingml/2006/table">
            <a:tbl>
              <a:tblPr/>
              <a:tblGrid>
                <a:gridCol w="1644480"/>
                <a:gridCol w="1847880"/>
                <a:gridCol w="1644840"/>
                <a:gridCol w="173808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жимные мо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работа педагога с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9c2cb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b9c2cb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работа родителей с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9c2cb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b9c2cb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бодная творческ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9c2cb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b9c2cb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3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9c2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9c2c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«….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ьчиковая гимнастика «…» и все виды деятельности, которые планируютс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9c2c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9c2c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9c2c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490680" y="693000"/>
            <a:ext cx="8653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6. Презентация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в конце проживания темы проекта организуется какое-либо 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яркое событ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или общее дело, которое предоставляет детям возможность продемонстрировать полученные в ходе проекта знания и умения, а также выразить своё эмоциональное отношение к происходившему ранее и происходящему в настоящий момент – это и есть презента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3:52:54Z</dcterms:created>
  <dc:creator>User</dc:creator>
  <dc:description/>
  <dc:language>en-US</dc:language>
  <cp:lastModifiedBy>Buh</cp:lastModifiedBy>
  <dcterms:modified xsi:type="dcterms:W3CDTF">2016-10-13T07:41:16Z</dcterms:modified>
  <cp:revision>40</cp:revision>
  <dc:subject/>
  <dc:title>Презентация PowerPoint</dc:title>
</cp:coreProperties>
</file>