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384-0F4C-490C-8608-5AA55E18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9AA-33B5-4C21-BC64-839A73B9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CA3-D0F2-430F-B5BF-879C1447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49A-CDC7-4CC4-9546-843C848B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56E-F92F-485C-B2A0-AFBFFBDA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5FC-1187-4283-B8D2-EBBF18C6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2D1-DF7F-4C4C-94A7-481BC56B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AD5-197F-4275-BE63-33F56F52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816-3021-453F-8E77-89939027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037-C3CE-4366-9317-C22CA41D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C4B-8949-4702-AA00-08A1D316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9F5-F44B-4158-8541-20322E8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AA3E-577F-4852-9716-1046D2010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Times New Roman"/>
              </a:rPr>
              <a:t>ПРЕЗЕНТ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к  уроку русского языка в 5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ПОДЛЕЖАЩЕЕ</a:t>
            </a:r>
            <a:r>
              <a:rPr b="0" lang="ru-RU" sz="3200" spc="-1" strike="noStrike">
                <a:solidFill>
                  <a:srgbClr val="ff5050"/>
                </a:solidFill>
                <a:latin typeface="Times New Roman"/>
              </a:rPr>
              <a:t>.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Times New Roman"/>
              </a:rPr>
              <a:t>СПОСОБЫ ВЫРАЖЕНИЯПОДЛЕЖАЩЕГО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3"/>
          <p:cNvPicPr/>
          <p:nvPr/>
        </p:nvPicPr>
        <p:blipFill>
          <a:blip r:embed="rId1"/>
          <a:stretch/>
        </p:blipFill>
        <p:spPr>
          <a:xfrm>
            <a:off x="900000" y="4581360"/>
            <a:ext cx="23241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Рисунок1"/>
          <p:cNvPicPr/>
          <p:nvPr/>
        </p:nvPicPr>
        <p:blipFill>
          <a:blip r:embed="rId1"/>
          <a:stretch/>
        </p:blipFill>
        <p:spPr>
          <a:xfrm>
            <a:off x="5802480" y="3429000"/>
            <a:ext cx="334152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920" y="157320"/>
            <a:ext cx="6121440" cy="4359960"/>
          </a:xfrm>
          <a:prstGeom prst="rect">
            <a:avLst/>
          </a:prstGeom>
          <a:solidFill>
            <a:srgbClr val="ff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468360" y="115920"/>
            <a:ext cx="79200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Я ночую в старой беседке. Она заросла диким виноградом. По утрам солнце бьёт сквозь лист- ву. Воробьи с удивлением заглядывают в беседку. Их привлекают часы. Они тикают на круглом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 По К. Паустовскому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950040" y="4600440"/>
            <a:ext cx="6886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Arial"/>
              </a:rPr>
              <a:t>Я, она, солнце, воробьи, часы,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Грамматическая основа. Подлежащ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З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Главный член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Отвечает на вопросы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КТО?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Обозначает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о ком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или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о чём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говорится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в пред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Чаще всего выражено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ущ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или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Связано со сказуемым по смыслу и граммати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Подчёркив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Узнали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r>
              <a:rPr b="0" lang="ru-RU" sz="96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305928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115920"/>
            <a:ext cx="84960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!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Выписать из предложений грамматические ос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1) Три мудреца в одном тазу пустились по морю в г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2) Но кто там в колодце так громко смеё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3) Сто ужей на двух ребят подозрительно шип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4) Три часа у проруби три вороны проб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5) Я увидел на стекле три капл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6) У папы три капли упали со шля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7) Десять делится на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8) Учиться всегда приг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авило-помощник: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длежащее найти легч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если к нему поставить вопрос от сказу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628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РОВЕР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1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Три мудреца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в одном тазу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устились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по морю в г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2) Но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 кто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там в колодце так громко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меётс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3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Сто ужей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на двух ребят подозрительно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шипят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4) Три часа у проруби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три вороны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обыли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5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видел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на стекле три капл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6) У папы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три капли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пали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со шля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7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Десять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литс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на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8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Учитьс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всегд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игодитс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5724360" y="141300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5724360" y="1341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900000" y="314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900000" y="306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147636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1476360" y="3933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6732720" y="3500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6732720" y="3573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4140360" y="4365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4211640" y="44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6877080" y="220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6877080" y="22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2340000" y="4724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2340000" y="47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>
            <a:off x="3851280" y="522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3851280" y="5373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539640" y="620640"/>
            <a:ext cx="475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З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Главный член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твечает на вопросы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ТО?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бозначает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 ком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или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 чём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говорится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в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Чаще всего выражено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ущ.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или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Связано со сказуемым по смыслу и граммат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одчёркив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3492360" y="609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219640" y="189000"/>
            <a:ext cx="3745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з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равило-помощни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т               к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оставить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ловосочетанием и другими частям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5796000" y="213372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796000" y="227664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7524720" y="213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1743120" y="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одлежа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4360" y="33336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                           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 памят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Способы выражения подлежащ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) 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) 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) Словосочетание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ло-помощник: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одлежащее найти легч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если к нему поставить вопрос от сказу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Рисунок6"/>
          <p:cNvPicPr/>
          <p:nvPr/>
        </p:nvPicPr>
        <p:blipFill>
          <a:blip r:embed="rId1"/>
          <a:stretch/>
        </p:blipFill>
        <p:spPr>
          <a:xfrm>
            <a:off x="6012000" y="4724280"/>
            <a:ext cx="22143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51840" y="25092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Проверь себя!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вариант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ёлые отблески огня играли на стек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печке два мальчика сладко посапы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лентинка вспомнила сказку про Иваше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на вытащила из-под снега охапку хворо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ырой туман висел над рекой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вари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а подоконниках зеленели дедушкины сажен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ни вывели бычка на у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ние лужи ослепительно сверкали под солнц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ед бережно вынул из конверта пись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на босиком побежит по свежей траве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Рисунок4"/>
          <p:cNvPicPr/>
          <p:nvPr/>
        </p:nvPicPr>
        <p:blipFill>
          <a:blip r:embed="rId1"/>
          <a:stretch/>
        </p:blipFill>
        <p:spPr>
          <a:xfrm>
            <a:off x="250920" y="0"/>
            <a:ext cx="16556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24000" y="836640"/>
            <a:ext cx="3671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ариан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сёлые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тблеск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гня играли на стек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ечке два мальчика сладко посап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Валентинк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помнила сказку про Иваше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а вытащила из-под снега охапку хвор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ырой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туман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исел над рек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572000" y="836640"/>
            <a:ext cx="432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I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ари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одоконниках зеленели дедушкины сажен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н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ывели бычка на у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ие лужи ослепительно сверкали под сол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д бережно вынул из конверта пись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н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босиком побежит по свежей тра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590840" y="1260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                     </a:t>
            </a:r>
            <a:r>
              <a:rPr b="1" i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ПРОВЕР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21640" y="627696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МОЛОД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56:27Z</dcterms:created>
  <dc:creator>zOrg</dc:creator>
  <dc:description/>
  <dc:language>en-US</dc:language>
  <cp:lastModifiedBy>User</cp:lastModifiedBy>
  <dcterms:modified xsi:type="dcterms:W3CDTF">2015-10-22T17:06:03Z</dcterms:modified>
  <cp:revision>6</cp:revision>
  <dc:subject/>
  <dc:title>Слайд 1</dc:title>
</cp:coreProperties>
</file>