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B71F-D8BB-45E1-B205-E22FD7AB9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575A-2B7B-4AFA-8CDC-5EF8CDE0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F80-E32D-4CE9-91B6-B4A5FAEC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EC8E-3457-49A7-AC36-522DDF92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166-B940-4FC1-A233-5A9B086E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4F80-3DB0-472F-8B59-8B2E7041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539-DA1A-4763-8FB8-2E284651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B27-9DBD-447B-93E3-FF841A11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7E0-6685-4BC8-949B-B10CE84A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A01-8323-4E25-8DE6-50743539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05DB-65B9-438F-8C44-FCF20BC1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308-703B-4F55-8AE5-27E0377E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81A8-D2E7-4FFC-8992-6D71CC5728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c0000"/>
                </a:solidFill>
                <a:latin typeface="Times New Roman"/>
              </a:rPr>
              <a:t>ПРЕЗЕНТ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к  уроку русского языка в 5 клас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505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5050"/>
                </a:solidFill>
                <a:latin typeface="Times New Roman"/>
              </a:rPr>
              <a:t>ПОДЛЕЖАЩЕЕ</a:t>
            </a:r>
            <a:r>
              <a:rPr b="0" lang="ru-RU" sz="3200" spc="-1" strike="noStrike">
                <a:solidFill>
                  <a:srgbClr val="ff5050"/>
                </a:solidFill>
                <a:latin typeface="Times New Roman"/>
              </a:rPr>
              <a:t>.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5050"/>
                </a:solidFill>
                <a:latin typeface="Times New Roman"/>
              </a:rPr>
              <a:t>СПОСОБЫ ВЫРАЖЕНИЯПОДЛЕЖАЩЕГО</a:t>
            </a:r>
            <a:r>
              <a:rPr b="1" i="1" lang="ru-RU" sz="3200" spc="-1" strike="noStrike">
                <a:solidFill>
                  <a:srgbClr val="ff505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Рисунок3"/>
          <p:cNvPicPr/>
          <p:nvPr/>
        </p:nvPicPr>
        <p:blipFill>
          <a:blip r:embed="rId1"/>
          <a:stretch/>
        </p:blipFill>
        <p:spPr>
          <a:xfrm>
            <a:off x="900000" y="4581360"/>
            <a:ext cx="23241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Рисунок1"/>
          <p:cNvPicPr/>
          <p:nvPr/>
        </p:nvPicPr>
        <p:blipFill>
          <a:blip r:embed="rId1"/>
          <a:stretch/>
        </p:blipFill>
        <p:spPr>
          <a:xfrm>
            <a:off x="5802480" y="3429000"/>
            <a:ext cx="3341520" cy="3429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250920" y="157320"/>
            <a:ext cx="6121440" cy="4359960"/>
          </a:xfrm>
          <a:prstGeom prst="rect">
            <a:avLst/>
          </a:prstGeom>
          <a:solidFill>
            <a:srgbClr val="fffd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7"/>
          <p:cNvSpPr/>
          <p:nvPr/>
        </p:nvSpPr>
        <p:spPr>
          <a:xfrm>
            <a:off x="468360" y="115920"/>
            <a:ext cx="7920000" cy="65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Я ночую в старой беседке. Она заросла диким виноградом. По утрам солнце бьёт сквозь лист- ву. Воробьи с удивлением заглядывают в беседку. Их привлекают часы. Они тикают на круглом ст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( По К. Паустовскому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950040" y="4600440"/>
            <a:ext cx="68864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6600"/>
                </a:solidFill>
                <a:latin typeface="Arial"/>
              </a:rPr>
              <a:t>Я, она, солнце, воробьи, часы, о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</a:rPr>
              <a:t>Грамматическая основа. Подлежаще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З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Главный член предл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Отвечает на вопросы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КТО?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ЧТ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Обозначает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о ком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или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о чём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говорится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в предлож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Чаще всего выражено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ущ.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или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Связано со сказуемым по смыслу и грамматичес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Подчёркив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Узнали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r>
              <a:rPr b="0" lang="ru-RU" sz="96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3059280" y="49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115920"/>
            <a:ext cx="849600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!</a:t>
            </a:r>
            <a:r>
              <a:rPr b="0" lang="ru-RU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990033"/>
                </a:solidFill>
                <a:uFillTx/>
                <a:latin typeface="Arial"/>
              </a:rPr>
              <a:t>Выписать из предложений грамматические ос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1) Три мудреца в одном тазу пустились по морю в г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2) Но кто там в колодце так громко смеё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3) Сто ужей на двух ребят подозрительно шип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4) Три часа у проруби три вороны пробы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5) Я увидел на стекле три капли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6) У папы три капли упали со шля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7) Десять делится на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8) Учиться всегда пригоди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авило-помощник: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подлежащее найти легч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если к нему поставить вопрос от сказу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468360" y="476280"/>
            <a:ext cx="813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ПРОВЕР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1)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Три мудреца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в одном тазу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устились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по морю в г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2) Но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 кто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там в колодце так громко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меётся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3)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Сто ужей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на двух ребят подозрительно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шипят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4) Три часа у проруби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три вороны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обыли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5)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Я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видел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на стекле три капли дожд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6) У папы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три капли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пали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со шля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7)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Десять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елится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на 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8) </a:t>
            </a:r>
            <a:r>
              <a:rPr b="1" lang="ru-RU" sz="2800" spc="-1" strike="noStrike" u="sng">
                <a:solidFill>
                  <a:srgbClr val="cc0000"/>
                </a:solidFill>
                <a:uFillTx/>
                <a:latin typeface="Arial"/>
              </a:rPr>
              <a:t>Учиться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 всегда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ригодится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5"/>
          <p:cNvSpPr/>
          <p:nvPr/>
        </p:nvSpPr>
        <p:spPr>
          <a:xfrm>
            <a:off x="5724360" y="141300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5724360" y="1341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900000" y="3141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900000" y="306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"/>
          <p:cNvSpPr/>
          <p:nvPr/>
        </p:nvSpPr>
        <p:spPr>
          <a:xfrm>
            <a:off x="147636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1476360" y="393372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6732720" y="35002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6732720" y="3573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4140360" y="4365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>
            <a:off x="4211640" y="44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8"/>
          <p:cNvSpPr/>
          <p:nvPr/>
        </p:nvSpPr>
        <p:spPr>
          <a:xfrm>
            <a:off x="6877080" y="220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6877080" y="22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2340000" y="4724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2340000" y="479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2"/>
          <p:cNvSpPr/>
          <p:nvPr/>
        </p:nvSpPr>
        <p:spPr>
          <a:xfrm>
            <a:off x="3851280" y="5229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3"/>
          <p:cNvSpPr/>
          <p:nvPr/>
        </p:nvSpPr>
        <p:spPr>
          <a:xfrm>
            <a:off x="3851280" y="537372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539640" y="620640"/>
            <a:ext cx="475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Зн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Главный член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Отвечает на вопросы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КТО?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ЧТ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Обозначает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 ком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или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 чём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говорится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в предлож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Чаще всего выражено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ущ.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 или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м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Связано со сказуемым по смыслу и грамматиче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Подчёркив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3492360" y="609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219640" y="189000"/>
            <a:ext cx="374508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зн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Правило-помощни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от               к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поставить </a:t>
            </a:r>
            <a:r>
              <a:rPr b="0" lang="ru-RU" sz="2800" spc="-1" strike="noStrike">
                <a:solidFill>
                  <a:srgbClr val="660066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ловосочетанием и другими частями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5796000" y="213372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5796000" y="227664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7524720" y="2133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1743120" y="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Подлежа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684360" y="333360"/>
            <a:ext cx="78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                           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В памятк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33"/>
                </a:solidFill>
                <a:uFillTx/>
                <a:latin typeface="Arial"/>
              </a:rPr>
              <a:t>Способы выражения подлежаще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) 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) 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3) Словосочетание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Правило-помощник: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подлежащее найти легч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если к нему поставить вопрос от сказу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Рисунок6"/>
          <p:cNvPicPr/>
          <p:nvPr/>
        </p:nvPicPr>
        <p:blipFill>
          <a:blip r:embed="rId1"/>
          <a:stretch/>
        </p:blipFill>
        <p:spPr>
          <a:xfrm>
            <a:off x="6012000" y="4724280"/>
            <a:ext cx="221436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951840" y="250920"/>
            <a:ext cx="254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Arial"/>
              </a:rPr>
              <a:t>Проверь себя!</a:t>
            </a:r>
            <a:br>
              <a:rPr sz="4000"/>
            </a:b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вариант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щ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сёлые отблески огня играли на стек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 печке два мальчика сладко посапыв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лентинка вспомнила сказку про Ивашеч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на вытащила из-под снега охапку хворо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ырой туман висел над рекой.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II </a:t>
            </a:r>
            <a:r>
              <a:rPr b="1" lang="ru-RU" sz="2000" spc="-1" strike="noStrike" u="sng">
                <a:solidFill>
                  <a:srgbClr val="cc0000"/>
                </a:solidFill>
                <a:uFillTx/>
                <a:latin typeface="Arial"/>
              </a:rPr>
              <a:t>вариа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с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а подоконниках зеленели дедушкины сажен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ни вывели бычка на ул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Синие лужи ослепительно сверкали под солнц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ед бережно вынул из конверта письм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Она босиком побежит по свежей траве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Рисунок4"/>
          <p:cNvPicPr/>
          <p:nvPr/>
        </p:nvPicPr>
        <p:blipFill>
          <a:blip r:embed="rId1"/>
          <a:stretch/>
        </p:blipFill>
        <p:spPr>
          <a:xfrm>
            <a:off x="250920" y="0"/>
            <a:ext cx="16556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24000" y="836640"/>
            <a:ext cx="367164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ариан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у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есёлые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тблеск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гня играли на стек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печке два мальчика сладко посапыв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Валентинк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спомнила сказку про Иваше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на вытащила из-под снега охапку хвор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ырой </a:t>
            </a: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туман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исел над рек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572000" y="836640"/>
            <a:ext cx="4321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II </a:t>
            </a:r>
            <a:r>
              <a:rPr b="1" lang="ru-RU" sz="1800" spc="-1" strike="noStrike" u="sng">
                <a:solidFill>
                  <a:srgbClr val="cc0000"/>
                </a:solidFill>
                <a:uFillTx/>
                <a:latin typeface="Arial"/>
              </a:rPr>
              <a:t>вариа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ес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 подоконниках зеленели дедушкины сажен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н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вывели бычка на у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иние лужи ослепительно сверкали под солнц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д бережно вынул из конверта письм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Arial"/>
              </a:rPr>
              <a:t>Он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босиком побежит по свежей тра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590840" y="12600"/>
            <a:ext cx="41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6600"/>
                </a:solidFill>
                <a:latin typeface="Arial"/>
              </a:rPr>
              <a:t>                     </a:t>
            </a:r>
            <a:r>
              <a:rPr b="1" i="1" lang="ru-RU" sz="2800" spc="-1" strike="noStrike" u="sng">
                <a:solidFill>
                  <a:srgbClr val="ff6600"/>
                </a:solidFill>
                <a:uFillTx/>
                <a:latin typeface="Arial"/>
              </a:rPr>
              <a:t>ПРОВЕР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321640" y="6276960"/>
            <a:ext cx="33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МОЛОД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16:56:27Z</dcterms:created>
  <dc:creator>zOrg</dc:creator>
  <dc:description/>
  <dc:language>en-US</dc:language>
  <cp:lastModifiedBy>User</cp:lastModifiedBy>
  <dcterms:modified xsi:type="dcterms:W3CDTF">2015-10-22T17:06:03Z</dcterms:modified>
  <cp:revision>6</cp:revision>
  <dc:subject/>
  <dc:title>Слайд 1</dc:title>
</cp:coreProperties>
</file>