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gif" ContentType="image/gif"/>
  <Override PartName="/ppt/media/applause.wav" ContentType="audio/x-wav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B21-31D6-465A-A6FD-3BC42B74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AF9-6602-4B3C-94AA-EB25C29E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D77-EA3C-4339-8D71-35728560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96D-FCB7-42EE-A93A-EEA6A6E7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D1B4-4D4B-44F3-B7E1-3309F223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C84E-4469-494A-A779-7DE9E776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5655-972B-44A3-A2D9-C7FE89B3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F5E6-31D7-47D2-BA11-77E9AE10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9BB1-B958-4D4A-B74A-1D7154CE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63EF-9E38-46DE-AF70-CA0835BC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B7F7-3E3C-4591-859E-75F6600E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18A-7F7C-4689-BFA1-16C0AF7A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654A-436C-428B-AC22-8E282021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DA75-780B-4F0F-8978-01C7F5E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BA2F-9A62-434A-8A53-6D47C7B2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EA98-C042-40A4-87C4-B9220EFE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DB25-2001-4393-9F5D-FCCAD967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B62B-8C3E-4C1E-B189-92788C31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9781-F0DC-4B91-BBD9-0563387F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79875-BDE6-4C29-AB22-1FE5E9F9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118D-C127-443A-AC72-EF1F6C1F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AEE8-39DB-4F23-8551-44B74257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75D-CCAB-4574-B899-9A90535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3B27-435D-423F-9AF5-C48F1D65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1C215-B20B-4E61-9579-9B988FC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E40A-1731-44F4-9AB8-8E9F7E98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D0A4-4567-4860-AC5E-52A496D0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3CC2-E401-4C9B-BDFC-06928E6C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8EA4-ED80-411E-8253-A5694755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6FEE-8A4A-4755-A0B8-B3A52CC4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6F46-BAC5-462F-8D40-45CA111D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1976D-3414-4B3E-BA7F-305CD8BE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EE6C-6B26-4959-B195-CA515924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A8A-5F57-4264-B627-9595F791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E2B0-97B7-4980-BE11-AE1A3EE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5BEB-6189-4876-A3E7-A99737C0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DFDF-1E80-4E75-978C-B480419F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4739-A5E2-4517-9347-22CF91D8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0BA4-6023-4C2B-A760-5B452208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9301-A47B-4A4E-9917-A2F5DB2F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94387-733A-46FD-8F55-7756D09B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7A09-24DA-456C-8E70-37028F79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C20E3-ADC6-4EA9-A69D-5D1BECE8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615A3-1CB6-4B05-B810-5FC24B9E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BD7-6C52-47AC-ADCF-59B34427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C1CD4-8478-400B-BA39-5FFB7D4A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B3F83-5589-4866-A475-9CB16E7E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1778-4CB7-4E77-8C62-9D694D77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019E9-54DB-4200-A305-32D1CB69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FDF2-F96F-4DAC-A3CA-D6385812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AE5E-A463-483D-A08C-F72B144B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3BE48-CF58-499A-9251-155C8F7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CD0D2-3710-4654-8D12-3577247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4101-77AF-4117-B8D8-2EEC6836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B238-23B0-4CDA-85F0-5A82F8E1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BCD-6D15-434B-8300-E2E1938D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33D7-ADEA-4DE0-B01D-85570DA9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59F55-CB06-4DC7-94C3-EE843907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70B08-7CBB-407F-85A5-A403EDF8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8EFD8-CCE7-4D57-8AA0-23ED1A9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8CDE6-6092-418A-93C5-4C5E2986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6BAC8-F26F-42FA-A9E6-6A679878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9EC91-E067-41F1-AE25-AE5B4973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2D87B-3653-4A2C-8ADD-B2101FA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272F3-F4F1-430E-A008-0E956E76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83F2A-730E-4DC9-9289-BE725BBD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FA6-CDD5-4026-BF5B-508FFEB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DA6DF-0C66-44CD-A049-DBA9B186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E56B-69C1-4C75-A83F-47E5750A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F832D-8812-422C-A01C-FD07E68D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46B0-895B-4D69-B0BB-81019E00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C910-844D-4356-A902-BCED6199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176BD-6B3D-4C79-A6CB-B1825755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54B38-5BC8-459D-967B-5A471E6E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69D94-5DAD-445E-8CE8-E9CADC9F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B4594-4064-4724-A5AD-145F9EE8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36EC0-F8C8-4EB4-9D36-8467C512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97A-A755-4DD8-BDF1-AE449AF3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D4DE5-0F07-410C-BF58-034185D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2E1EA-83A0-4D8E-B6D6-4B90FC60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A2191-0E75-482B-BA5D-41979F74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F2D9A-DEE4-456B-B467-53CD25DE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7F8C0-51C3-4877-AE4E-AE7AC74D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BBA07-592E-4DF9-B0FF-D62BE4B2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B832-B264-4FD8-B326-C5FFE376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4EC1F-EF42-4BE2-878A-94E725DD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88719-4AE6-4090-9083-E9F91709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5949-B057-4EB0-BE16-AD3B1A6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024-B8BE-477D-AEDE-5DFD89B4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C80CD-3EDA-4478-A1E0-B81A2E3E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55660-4D51-4568-A229-1D1BB6E0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A33F4-64EC-424E-A1D7-D493E879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0C237-1213-46E4-A7BF-D76B304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7558C-E647-4C27-81AF-73695DBD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6F8C-1EA4-4E5D-B163-D0CF3B8A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73FCE-3AB3-4861-A461-9E6F474F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DBBC-AD93-42A0-A9A1-4482E990BA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67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83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4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5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6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7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8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9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DF5A-E50F-437A-99C9-7432872D02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133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134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37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0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141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142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143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F7C6-3493-46AC-90F6-B0C1AE0F35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86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202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7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8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0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A455-DC79-43D7-8EFC-E879308126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252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268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9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0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1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2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3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4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75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8C4F-8EB0-4E70-8ABA-40E0CE512E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318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319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0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1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322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3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4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325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326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327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328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FB58-5ED4-4348-8DA9-7DBF8BBFF5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37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4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5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6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38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394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42B0-7690-4F3E-88B2-045FD60FB3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437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38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39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0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1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2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3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4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5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6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7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8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9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0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2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453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4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5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6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7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8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9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460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AE98-F9E8-44B9-83F0-BADB36E24E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249228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Georgia"/>
              </a:rPr>
              <a:t>Решение  </a:t>
            </a:r>
            <a:br>
              <a:rPr sz="5400"/>
            </a:br>
            <a:r>
              <a:rPr b="1" i="1" lang="ru-RU" sz="5400" spc="-1" strike="noStrike">
                <a:solidFill>
                  <a:srgbClr val="002060"/>
                </a:solidFill>
                <a:latin typeface="Georgia"/>
              </a:rPr>
              <a:t>показательных  уравнений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250920" y="1341360"/>
          <a:ext cx="8229600" cy="5214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не было интересно, у меня хорошее настроение 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рок не интересный, настроение мое ухудшилось 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Я ничего нового не узнал, но урок  был интересен. 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нравилось слушать, делать ничего не хотелось.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нравились слушать, выполнять задания, я доволен; 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1368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13680">
                      <a:solidFill>
                        <a:srgbClr val="9bd3e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0f8f9"/>
                </a:solidFill>
                <a:latin typeface="Georgia"/>
              </a:rPr>
              <a:t>Рефлексия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37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4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936720" cy="81612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7" descr=""/>
          <p:cNvPicPr/>
          <p:nvPr/>
        </p:nvPicPr>
        <p:blipFill>
          <a:blip r:embed="rId3"/>
          <a:stretch/>
        </p:blipFill>
        <p:spPr>
          <a:xfrm>
            <a:off x="5076720" y="35002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18" descr="http://im5-tub.yandex.net/i?id=220466755-12"/>
          <p:cNvPicPr/>
          <p:nvPr/>
        </p:nvPicPr>
        <p:blipFill>
          <a:blip r:embed="rId4"/>
          <a:stretch/>
        </p:blipFill>
        <p:spPr>
          <a:xfrm>
            <a:off x="6732720" y="4581360"/>
            <a:ext cx="863640" cy="7369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21" descr="http://im2-tub.yandex.net/i?id=214295112-02"/>
          <p:cNvPicPr/>
          <p:nvPr/>
        </p:nvPicPr>
        <p:blipFill>
          <a:blip r:embed="rId5"/>
          <a:stretch/>
        </p:blipFill>
        <p:spPr>
          <a:xfrm>
            <a:off x="5219640" y="5661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8"/>
          <p:cNvSpPr txBox="1"/>
          <p:nvPr/>
        </p:nvSpPr>
        <p:spPr>
          <a:xfrm>
            <a:off x="853920" y="1628640"/>
            <a:ext cx="772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7" name="Picture 21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51928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68360" y="1265040"/>
            <a:ext cx="850752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Уравнения – это золотой ключ, открывающий все математические сезам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. Ков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34578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вторим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042920" y="1413000"/>
          <a:ext cx="6481800" cy="3816360"/>
        </p:xfrm>
        <a:graphic>
          <a:graphicData uri="http://schemas.openxmlformats.org/drawingml/2006/table">
            <a:tbl>
              <a:tblPr/>
              <a:tblGrid>
                <a:gridCol w="3081240"/>
                <a:gridCol w="3400560"/>
              </a:tblGrid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корней нет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Picture 10" descr="AG00373_"/>
          <p:cNvPicPr/>
          <p:nvPr/>
        </p:nvPicPr>
        <p:blipFill>
          <a:blip r:embed="rId1"/>
          <a:stretch/>
        </p:blipFill>
        <p:spPr>
          <a:xfrm>
            <a:off x="6948360" y="4724280"/>
            <a:ext cx="19368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(ЕГЭ, профильный уровень, задание № 1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распада радиоактивного изотопа его масса уменьшается по закону m(t)=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2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 где m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чальная масса изотопа, t - прошедшее от начала момента время, Т - период полураспада в минутах. В лаборатории получили вещество, содержащее в начальный момент времени m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156 мг изотопа Z, период полураспада которого Т = 8мин. За сколько минут масса изотопа станет равной 39 м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0f8f9"/>
                </a:solidFill>
                <a:latin typeface="Arial"/>
              </a:rPr>
              <a:t>Классификация уравнений </a:t>
            </a:r>
            <a:br>
              <a:rPr sz="2800"/>
            </a:br>
            <a:r>
              <a:rPr b="1" i="1" lang="ru-RU" sz="2800" spc="-1" strike="noStrike">
                <a:solidFill>
                  <a:srgbClr val="f0f8f9"/>
                </a:solidFill>
                <a:latin typeface="Arial"/>
              </a:rPr>
              <a:t>по способам решений</a:t>
            </a:r>
            <a:r>
              <a:rPr b="1" lang="ru-RU" sz="2800" spc="-1" strike="noStrike">
                <a:solidFill>
                  <a:srgbClr val="f0f8f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4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Объект 3"/>
              <p:cNvSpPr txBox="1"/>
              <p:nvPr/>
            </p:nvSpPr>
            <p:spPr>
              <a:xfrm>
                <a:off x="2700360" y="1268280"/>
                <a:ext cx="287964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5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  <m:r>
                              <m:t xml:space="preserve">х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324000" y="1557360"/>
          <a:ext cx="8064360" cy="4468680"/>
        </p:xfrm>
        <a:graphic>
          <a:graphicData uri="http://schemas.openxmlformats.org/drawingml/2006/table">
            <a:tbl>
              <a:tblPr/>
              <a:tblGrid>
                <a:gridCol w="6264000"/>
                <a:gridCol w="1800360"/>
              </a:tblGrid>
              <a:tr h="81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 Функционально-графический метод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5, 9, 15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 Метод уравнивания показателей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, 8, 1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 Метод разложения на множители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, 10, 11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 Метод введения новой переменной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, 7, 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3, 14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. Деление обеих частей уравнения на 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дно и то же выражение 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3, 6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f8f9"/>
                </a:solidFill>
                <a:latin typeface="Georgia"/>
              </a:rPr>
              <a:t>Ответы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40428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c1540"/>
                </a:solidFill>
                <a:latin typeface="Arial"/>
              </a:rPr>
              <a:t>Работа по вариа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Объект 3"/>
              <p:cNvSpPr txBox="1"/>
              <p:nvPr/>
            </p:nvSpPr>
            <p:spPr>
              <a:xfrm>
                <a:off x="380880" y="1433520"/>
                <a:ext cx="370224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Объект 5"/>
              <p:cNvSpPr txBox="1"/>
              <p:nvPr/>
            </p:nvSpPr>
            <p:spPr>
              <a:xfrm>
                <a:off x="3708360" y="3573360"/>
                <a:ext cx="4211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3" name="Picture 21" descr=""/>
          <p:cNvPicPr/>
          <p:nvPr/>
        </p:nvPicPr>
        <p:blipFill>
          <a:blip r:embed="rId1"/>
          <a:stretch/>
        </p:blipFill>
        <p:spPr>
          <a:xfrm>
            <a:off x="7596360" y="4581360"/>
            <a:ext cx="1325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250560" y="274680"/>
            <a:ext cx="843588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f0f3"/>
                </a:solidFill>
                <a:latin typeface="Arial"/>
              </a:rPr>
              <a:t>Об</a:t>
            </a:r>
            <a:r>
              <a:rPr b="1" lang="ru-RU" sz="2800" spc="-1" strike="noStrike">
                <a:solidFill>
                  <a:srgbClr val="080e2b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6f0f3"/>
                </a:solidFill>
                <a:latin typeface="Arial"/>
              </a:rPr>
              <a:t>этих числах можно сказать следующее</a:t>
            </a:r>
            <a:r>
              <a:rPr b="1" lang="ru-RU" sz="2800" spc="-1" strike="noStrike">
                <a:solidFill>
                  <a:srgbClr val="0c154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11 часов – время наивысшей трудоспособ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5 часов - время наибольшего утомл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19 часов - вечерний подъем трудоспособ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1 часов - время прекращения всякой трудоспособ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50560" y="189000"/>
            <a:ext cx="8435880" cy="59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Решение урав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(ЕГЭ, блок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Объект 3"/>
              <p:cNvSpPr txBox="1"/>
              <p:nvPr/>
            </p:nvSpPr>
            <p:spPr>
              <a:xfrm>
                <a:off x="468360" y="1628640"/>
                <a:ext cx="840276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02:03:16Z</dcterms:created>
  <dc:creator>Каратанова</dc:creator>
  <dc:description/>
  <dc:language>en-US</dc:language>
  <cp:lastModifiedBy>Олег Ражев</cp:lastModifiedBy>
  <dcterms:modified xsi:type="dcterms:W3CDTF">2016-11-24T18:21:14Z</dcterms:modified>
  <cp:revision>42</cp:revision>
  <dc:subject/>
  <dc:title>Слайд 1</dc:title>
</cp:coreProperties>
</file>