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gif" ContentType="image/gif"/>
  <Override PartName="/ppt/media/applause.wav" ContentType="audio/x-wav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3A2A-C48A-4B57-AC3A-CA7E5A2A2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8544-8A8D-4189-A808-53F532C1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2F62-FE09-4933-AF8A-2BF5E713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2720-6D61-4961-85D7-83988906C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35D8-0903-492B-AC73-F5BE6CE9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336C4-0CBA-4DEF-A524-E1E90D2F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5FE5-C80B-4F48-832A-FD5F2B83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7AE3-8B0D-497B-9FED-F3BA1596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72F7-C738-4471-8116-B53EC144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0041-23B9-4C1D-8AE7-3CCC8D4BC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9361-8382-4214-8CE9-F242FC5C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4EF-4694-406E-854C-6503C2B6C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84D7-D972-4A27-BA6A-3F46C55D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41532-19CA-408B-8186-A31E0BF2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6E2F-8059-4DE4-9A52-D5970276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AD44-B823-4FE4-8B72-0D945B48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7519-BD4F-42F1-924D-BA0274DA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AECB-4C76-4995-969D-86A93207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1786D-2F78-4285-8A3F-CAD69F84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97F0-0189-4A2F-B8FA-F82D72E9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20958-EDF3-44BF-933B-5BFEB72C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A26BC-C8F3-4F29-AAD0-A3AD8D7F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86E3-BF87-4CC7-BCB1-821D6993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338DB-6DB3-4D5B-9643-944CBF0B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9E90-6152-4BCF-9390-D5A5B9C8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F082-8515-4F6B-B303-C3EB0C74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679EB-C63B-4BDC-B2BF-BB3658A2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A7450-A255-4E9B-AF3A-4FEB0ED13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C9BA-5139-48B6-A864-4A044CDA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8C36-5B07-4AA3-A0B1-6C9A88F1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425F2-5F03-4F50-BCC0-72CBCDFE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50A6A-C2EA-4489-A2EB-3EC698FC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A6F5-5C47-48F0-A7CD-313E1336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6DF6-B5F8-4DBE-8F31-067C77B9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B52E5-B62A-4709-A122-2C368CFA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71804-8CBD-4DA2-BE87-EA5A0152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7CD1-EDD6-4F13-9CDE-5460FC3D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35323-5909-4107-BB38-3EAEF71D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BBBD-58E7-4895-90BC-A1680D8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D7063-9BB7-43D0-A295-0CD4D0F8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A7363-3859-43FA-ABB8-2185DAB7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BA2D-C7DE-45AC-9443-1443EC76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77E84-D607-4D5A-914A-015B4B1B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04127-6709-4844-BF2D-3B0555E1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A11-AD9A-4298-83D1-351598E0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2278E-2EE9-42B7-8AB5-3A883636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3A96-E60B-438A-AFDE-264E4EC4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76CE3-5209-4E93-9F13-D3677A0E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CE394-1B0C-42A5-9815-50165B6A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4EBE5-032E-42CD-BA34-9A0098A4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A8936-B296-4FE0-B988-D5989B60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6E5A8-024C-4A4E-AFD9-E9FF3E25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EF352-635D-4BC3-B55F-19F834CE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9EEB-F054-4CC1-8E3C-5E88AFCC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2449D-93BC-4D1A-AE7F-FC922365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4B1D-0B70-4AE3-95A1-84611C7B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31DFD-F061-4635-B265-60BE0051A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04225-6760-4432-836B-3FCE88713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ABCDB-2E16-4E2C-BC29-08B6E492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015CD-DDBA-42A1-867E-98F2DEB8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E713C-4D81-459C-8931-D19E665C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91422-C573-4C48-91CD-2C9E6A16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A316C-814C-48AD-9534-3F70F126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6AC4F-D404-42E7-97FC-D7851DC6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692FD-DD79-4101-B197-C70233A8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0986D-FE5D-4FCC-B85C-606B4685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DFA-C855-49DD-88E3-600AA475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C6131-10A5-41EE-9396-8465AB6F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E82B0-6F4B-4F41-8E4B-CA46E27E5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49F9C-2EFB-4CEC-957F-6273A5F9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11C55-4234-4C91-BA86-7EE72129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5986D-12A7-4D68-96D6-C5D5E0C9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8CD41-35E3-400F-B2B4-65D1379F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F199D-06B4-47D8-B66C-71526471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92568-65CF-4B21-8851-1AD722A1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6D3DA-53F6-42D9-8282-3777328A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3578-9F83-4798-9495-050383D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728B-D6E5-4866-9E1F-8D963BAC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6ED44-C69A-40C1-BB35-3D9F915B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B9498-3CC0-4248-8EFF-690F6842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B2C64-7883-4149-9D17-64684708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1C4C3-BCF5-44BA-9F96-AADE68D2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6963-A113-4DE1-B714-6990BCD5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A5678-1025-48FD-B4D3-E559EEAC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9601F-7A45-43C1-A39E-8F11EF7E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DEFA9-2483-4778-B2DE-0D2DF0C1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AE8E2-77B7-4A91-ABEC-C2016ACD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D3391-6892-4148-8A4E-D7E17F11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822-04C4-4849-8BB4-47A41D7A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147BFA-E8B3-46D7-A703-2EA70AB8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0D0FC-0132-4848-B2EF-FFA7297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9DAEF-600A-41FA-965A-79EC672C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CE5F7-F51F-45B6-B6DB-2758C7C8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8FBB8-78D5-495D-BE4E-43620945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FE8BD-C50A-428C-B084-BF52F851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1AE8A-ECED-4DA6-AD1D-DA5C31BA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DA7F-CB58-4C65-A5E8-2DDD89688B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67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2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83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4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5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6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7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8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9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ADB5-DD86-4206-9DD0-A8B768AADA4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133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134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5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6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37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8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40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141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142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143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E390-BBED-4BC0-9E32-091B5CEA210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86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87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0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1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3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4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5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6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7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00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01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202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3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4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5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6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7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8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0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6C83-5BF3-4AF5-BF20-9E3D53EAAA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252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3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7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8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1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2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5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6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268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69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0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1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2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3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4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275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7D59-60BF-42FA-9B28-9D7DDAEF0C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318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319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0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21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322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3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4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325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326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327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328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6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17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18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7399-5EEA-4B73-84CA-73245743909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37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7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2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3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4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5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86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38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8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394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67F2-DE7C-4640-8FD8-C4BC4CCD1D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437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38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39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0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1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2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3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4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5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6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7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8" name="Freeform 19"/>
            <p:cNvSpPr/>
            <p:nvPr/>
          </p:nvSpPr>
          <p:spPr>
            <a:xfrm>
              <a:off x="737316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49" name="Freeform 20"/>
            <p:cNvSpPr/>
            <p:nvPr/>
          </p:nvSpPr>
          <p:spPr>
            <a:xfrm>
              <a:off x="8781120" y="6274440"/>
              <a:ext cx="164160" cy="30204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0" name="Freeform 21"/>
            <p:cNvSpPr/>
            <p:nvPr/>
          </p:nvSpPr>
          <p:spPr>
            <a:xfrm>
              <a:off x="7715160" y="6044040"/>
              <a:ext cx="28764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>
              <a:off x="7531200" y="6082560"/>
              <a:ext cx="15948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52" name="Freeform 23"/>
            <p:cNvSpPr/>
            <p:nvPr/>
          </p:nvSpPr>
          <p:spPr>
            <a:xfrm>
              <a:off x="8430840" y="6082560"/>
              <a:ext cx="159120" cy="49428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453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4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5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6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7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8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59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460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84AD-45E3-4CAC-955B-406AC5BC13D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2492280"/>
            <a:ext cx="84978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Georgia"/>
              </a:rPr>
              <a:t>Решение  </a:t>
            </a:r>
            <a:br>
              <a:rPr sz="5400"/>
            </a:br>
            <a:r>
              <a:rPr b="1" i="1" lang="ru-RU" sz="5400" spc="-1" strike="noStrike">
                <a:solidFill>
                  <a:srgbClr val="002060"/>
                </a:solidFill>
                <a:latin typeface="Georgia"/>
              </a:rPr>
              <a:t>показательных  уравнений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250920" y="1341360"/>
          <a:ext cx="8229600" cy="5214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Мне было интересно, у меня хорошее настроение </a:t>
                      </a:r>
                      <a:endParaRPr b="0" lang="en-US" sz="20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1368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1368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Урок не интересный, настроение мое ухудшилось </a:t>
                      </a:r>
                      <a:endParaRPr b="0" lang="en-US" sz="20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Я ничего нового не узнал, но урок  был интересен. </a:t>
                      </a:r>
                      <a:endParaRPr b="0" lang="en-US" sz="20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нравилось слушать, делать ничего не хотелось.</a:t>
                      </a:r>
                      <a:endParaRPr b="0" lang="en-US" sz="20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Понравились слушать, выполнять задания, я доволен; </a:t>
                      </a:r>
                      <a:endParaRPr b="0" lang="en-US" sz="20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1368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13680">
                      <a:solidFill>
                        <a:srgbClr val="9bd3e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0f8f9"/>
                </a:solidFill>
                <a:latin typeface="Georgia"/>
              </a:rPr>
              <a:t>Рефлексия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37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4" descr=""/>
          <p:cNvPicPr/>
          <p:nvPr/>
        </p:nvPicPr>
        <p:blipFill>
          <a:blip r:embed="rId2"/>
          <a:stretch/>
        </p:blipFill>
        <p:spPr>
          <a:xfrm>
            <a:off x="6443640" y="2349360"/>
            <a:ext cx="936720" cy="81612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7" descr=""/>
          <p:cNvPicPr/>
          <p:nvPr/>
        </p:nvPicPr>
        <p:blipFill>
          <a:blip r:embed="rId3"/>
          <a:stretch/>
        </p:blipFill>
        <p:spPr>
          <a:xfrm>
            <a:off x="5076720" y="3500280"/>
            <a:ext cx="719280" cy="71928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18" descr="http://im5-tub.yandex.net/i?id=220466755-12"/>
          <p:cNvPicPr/>
          <p:nvPr/>
        </p:nvPicPr>
        <p:blipFill>
          <a:blip r:embed="rId4"/>
          <a:stretch/>
        </p:blipFill>
        <p:spPr>
          <a:xfrm>
            <a:off x="6732720" y="4581360"/>
            <a:ext cx="863640" cy="73692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21" descr="http://im2-tub.yandex.net/i?id=214295112-02"/>
          <p:cNvPicPr/>
          <p:nvPr/>
        </p:nvPicPr>
        <p:blipFill>
          <a:blip r:embed="rId5"/>
          <a:stretch/>
        </p:blipFill>
        <p:spPr>
          <a:xfrm>
            <a:off x="5219640" y="5661000"/>
            <a:ext cx="792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WordArt 8"/>
          <p:cNvSpPr txBox="1"/>
          <p:nvPr/>
        </p:nvSpPr>
        <p:spPr>
          <a:xfrm>
            <a:off x="853920" y="1628640"/>
            <a:ext cx="77281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 за  урок!</a:t>
            </a:r>
            <a:endParaRPr b="1" i="1" lang="en-US" sz="1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37" name="Picture 21" descr=""/>
          <p:cNvPicPr/>
          <p:nvPr/>
        </p:nvPicPr>
        <p:blipFill>
          <a:blip r:embed="rId1"/>
          <a:stretch/>
        </p:blipFill>
        <p:spPr>
          <a:xfrm>
            <a:off x="5940360" y="2852640"/>
            <a:ext cx="2519280" cy="38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68360" y="1265040"/>
            <a:ext cx="8507520" cy="49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Уравнения – это золотой ключ, открывающий все математические сезам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. Ков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34578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вторим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042920" y="1413000"/>
          <a:ext cx="6481800" cy="3816360"/>
        </p:xfrm>
        <a:graphic>
          <a:graphicData uri="http://schemas.openxmlformats.org/drawingml/2006/table">
            <a:tbl>
              <a:tblPr/>
              <a:tblGrid>
                <a:gridCol w="3081240"/>
                <a:gridCol w="3400560"/>
              </a:tblGrid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Вариант 1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Вариант 2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3 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корней нет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c15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7" name="Picture 10" descr="AG00373_"/>
          <p:cNvPicPr/>
          <p:nvPr/>
        </p:nvPicPr>
        <p:blipFill>
          <a:blip r:embed="rId1"/>
          <a:stretch/>
        </p:blipFill>
        <p:spPr>
          <a:xfrm>
            <a:off x="6948360" y="4724280"/>
            <a:ext cx="19368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а (ЕГЭ, профильный уровень, задание № 10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распада радиоактивного изотопа его масса уменьшается по закону m(t)=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2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 где m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начальная масса изотопа, t - прошедшее от начала момента время, Т - период полураспада в минутах. В лаборатории получили вещество, содержащее в начальный момент времени m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156 мг изотопа Z, период полураспада которого Т = 8мин. За сколько минут масса изотопа станет равной 39 м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0f8f9"/>
                </a:solidFill>
                <a:latin typeface="Arial"/>
              </a:rPr>
              <a:t>Классификация уравнений </a:t>
            </a:r>
            <a:br>
              <a:rPr sz="2800"/>
            </a:br>
            <a:r>
              <a:rPr b="1" i="1" lang="ru-RU" sz="2800" spc="-1" strike="noStrike">
                <a:solidFill>
                  <a:srgbClr val="f0f8f9"/>
                </a:solidFill>
                <a:latin typeface="Arial"/>
              </a:rPr>
              <a:t>по способам решений</a:t>
            </a:r>
            <a:r>
              <a:rPr b="1" lang="ru-RU" sz="2800" spc="-1" strike="noStrike">
                <a:solidFill>
                  <a:srgbClr val="f0f8f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4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12" name="Rectangle 16"/>
          <p:cNvSpPr/>
          <p:nvPr/>
        </p:nvSpPr>
        <p:spPr>
          <a:xfrm>
            <a:off x="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4360" y="2602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Объект 3"/>
              <p:cNvSpPr txBox="1"/>
              <p:nvPr/>
            </p:nvSpPr>
            <p:spPr>
              <a:xfrm>
                <a:off x="2700360" y="1268280"/>
                <a:ext cx="287964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12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0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,5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0,5</m:t>
                            </m:r>
                            <m:r>
                              <m:t xml:space="preserve">х</m:t>
                            </m:r>
                          </m:sup>
                        </m:sSup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,5</m:t>
                        </m:r>
                        <m:r>
                          <m:t xml:space="preserve">х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6" name=""/>
          <p:cNvGraphicFramePr/>
          <p:nvPr/>
        </p:nvGraphicFramePr>
        <p:xfrm>
          <a:off x="324000" y="1557360"/>
          <a:ext cx="8064360" cy="4468680"/>
        </p:xfrm>
        <a:graphic>
          <a:graphicData uri="http://schemas.openxmlformats.org/drawingml/2006/table">
            <a:tbl>
              <a:tblPr/>
              <a:tblGrid>
                <a:gridCol w="6264000"/>
                <a:gridCol w="1800360"/>
              </a:tblGrid>
              <a:tr h="81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 Функционально-графический метод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1368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5, 9, 15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1368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. Метод уравнивания показателей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, 8, 12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. Метод разложения на множители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2, 10, 11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. Метод введения новой переменной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4, 7, 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13, 14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. Деление обеих частей уравнения на 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одно и то же выражение </a:t>
                      </a:r>
                      <a:endParaRPr b="0" lang="en-US" sz="24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bd3e5"/>
                      </a:solidFill>
                    </a:lnL>
                    <a:lnR w="576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3, 6</a:t>
                      </a:r>
                      <a:endParaRPr b="0" lang="en-US" sz="2800" spc="-1" strike="noStrike">
                        <a:solidFill>
                          <a:srgbClr val="9bd3e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d3e5"/>
                      </a:solidFill>
                    </a:lnL>
                    <a:lnR w="13680">
                      <a:solidFill>
                        <a:srgbClr val="9bd3e5"/>
                      </a:solidFill>
                    </a:lnR>
                    <a:lnT w="5760">
                      <a:solidFill>
                        <a:srgbClr val="9bd3e5"/>
                      </a:solidFill>
                    </a:lnT>
                    <a:lnB w="5760">
                      <a:solidFill>
                        <a:srgbClr val="9bd3e5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0f8f9"/>
                </a:solidFill>
                <a:latin typeface="Georgia"/>
              </a:rPr>
              <a:t>Ответы: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457200" y="404280"/>
            <a:ext cx="8229600" cy="58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c1540"/>
                </a:solidFill>
                <a:latin typeface="Arial"/>
              </a:rPr>
              <a:t>Работа по вариан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Объект 3"/>
              <p:cNvSpPr txBox="1"/>
              <p:nvPr/>
            </p:nvSpPr>
            <p:spPr>
              <a:xfrm>
                <a:off x="380880" y="1433520"/>
                <a:ext cx="370224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Объект 5"/>
              <p:cNvSpPr txBox="1"/>
              <p:nvPr/>
            </p:nvSpPr>
            <p:spPr>
              <a:xfrm>
                <a:off x="3708360" y="3573360"/>
                <a:ext cx="4211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23" name="Picture 21" descr=""/>
          <p:cNvPicPr/>
          <p:nvPr/>
        </p:nvPicPr>
        <p:blipFill>
          <a:blip r:embed="rId1"/>
          <a:stretch/>
        </p:blipFill>
        <p:spPr>
          <a:xfrm>
            <a:off x="7596360" y="4581360"/>
            <a:ext cx="13255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250560" y="274680"/>
            <a:ext cx="843588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6f0f3"/>
                </a:solidFill>
                <a:latin typeface="Arial"/>
              </a:rPr>
              <a:t>Об</a:t>
            </a:r>
            <a:r>
              <a:rPr b="1" lang="ru-RU" sz="2800" spc="-1" strike="noStrike">
                <a:solidFill>
                  <a:srgbClr val="080e2b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6f0f3"/>
                </a:solidFill>
                <a:latin typeface="Arial"/>
              </a:rPr>
              <a:t>этих числах можно сказать следующее</a:t>
            </a:r>
            <a:r>
              <a:rPr b="1" lang="ru-RU" sz="2800" spc="-1" strike="noStrike">
                <a:solidFill>
                  <a:srgbClr val="0c154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11 часов – время наивысшей трудоспособ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15 часов - время наибольшего утомлен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19 часов - вечерний подъем трудоспособ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21 часов - время прекращения всякой трудоспособност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50560" y="189000"/>
            <a:ext cx="8435880" cy="59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Решение уравн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Georgia"/>
              </a:rPr>
              <a:t>(ЕГЭ, блок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bd3e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Объект 3"/>
              <p:cNvSpPr txBox="1"/>
              <p:nvPr/>
            </p:nvSpPr>
            <p:spPr>
              <a:xfrm>
                <a:off x="468360" y="1628640"/>
                <a:ext cx="840276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32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x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02:03:16Z</dcterms:created>
  <dc:creator>Каратанова</dc:creator>
  <dc:description/>
  <dc:language>en-US</dc:language>
  <cp:lastModifiedBy>Олег Ражев</cp:lastModifiedBy>
  <dcterms:modified xsi:type="dcterms:W3CDTF">2016-11-24T18:21:14Z</dcterms:modified>
  <cp:revision>42</cp:revision>
  <dc:subject/>
  <dc:title>Слайд 1</dc:title>
</cp:coreProperties>
</file>