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952-C411-427E-9928-FBEA633A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5C3-C46E-4616-A5AF-F6B034F1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D42-68D3-4A1E-8665-9F5A7D16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F6A3-DC8D-48CE-B5B5-C38315AC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072-99B1-46C9-8CAB-46C8417D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EA8C-C928-4179-9396-F2371715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1E6C-83F5-4596-BFAA-F324985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3700-0254-40E1-9BFD-0B8173AE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886D-4EB7-456A-B2B1-494BB1B0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2CE6-9933-46F2-A4AF-0ACA51FC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994D-6F75-4BF5-ABD4-ED8287D3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552-BB5F-48D2-89F0-FB6A4C2F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52BE-EFA9-43DC-96B1-5B46D256E8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5 февраля 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жат на качеля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а жёлтых листк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етер каче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чает слег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 уро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а-помощники:------, нач.форма,-----, постоянные и непостоянные признаки,роль в предлож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ема: Морфологический разбор имени     прилага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имнем лесу так громко трещат соро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есу( в чём?)- нач.ф. (что ?) лес –сущ; неодуш; м.р; 2 скл; ед.ч; П.п; втор.член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во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нач.фор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часть ре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род, число, падеж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член предлож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9280" y="333000"/>
            <a:ext cx="8147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Тест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Имя прилагательное – часть речи, котора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обозначает  предмет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 обозначает признак предмет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обозначает действие или состояние предмет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. Указать имена прилагательные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зимовать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 зимний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зимовк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3. У прилагательного нет следующего признака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 времени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 числа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рода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4. Указать имена прилагательные с окончанием -ая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син..__ (лента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 осенн__ (грязь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 лёгк..__ (задача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5. Имена прилагательные во множественном числе не изменяются по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а) падежам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б) родам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в) временам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веты тес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б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в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3T18:25:58Z</dcterms:created>
  <dc:creator>Ольга</dc:creator>
  <dc:description/>
  <dc:language>en-US</dc:language>
  <cp:lastModifiedBy>Ольга</cp:lastModifiedBy>
  <dcterms:modified xsi:type="dcterms:W3CDTF">2015-02-03T18:46:34Z</dcterms:modified>
  <cp:revision>3</cp:revision>
  <dc:subject/>
  <dc:title>5 февраля . Классная работа.</dc:title>
</cp:coreProperties>
</file>