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B22-9521-49C2-A24E-8666A1E9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40C-9913-4E1E-A6FC-8D7F50D5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F30-3DC9-4DE5-B337-42A59E2A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16E-4B9E-454A-B2BB-1FB497F6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FE9-53F5-4A94-93E2-017AD3F2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9EF-7960-4F58-AE14-B3D803B5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0E2-5A3A-4866-93EE-B1637955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265-53EF-4BD3-8213-63F7B088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4CC-79DD-43C5-BD7F-3EBD0F4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315-34EE-4A66-8E94-23FFA525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BAD-A858-4E6A-8AAF-F1E08D4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648-551D-43F0-8514-4845D2F0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3ED5-77EC-4A9E-AA61-60A702892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февраля 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жат на качеля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а жёлтых листк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етер каче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ает слег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-помощники:------, нач.форма,-----, постоянные и непостоянные признаки,роль в предлож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: Морфологический разбор имени     прилага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имнем лесу так громко трещат соро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есу( в чём?)- нач.ф. (что ?) лес –сущ; неодуш; м.р; 2 скл; ед.ч; П.п; втор.член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ч.фор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часть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род, число, падеж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член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мя прилагательное – часть речи, которая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 обозначает  предмет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 обозначает признак предмет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 обозначает действие или состояние предме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2. Указать имена прилагательны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 зимоват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 зим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 зимовка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3. У прилагательного нет следующего признак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 времен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 числ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 род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4. Указать имена прилагательные с окончанием -ая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 син..__ (лента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 осенн__ (грязь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 лёгк..__ (задач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5. Имена прилагательные во множественном числе не изменяются по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 падежам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 родам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 времена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ы тес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8:25:58Z</dcterms:created>
  <dc:creator>Ольга</dc:creator>
  <dc:description/>
  <dc:language>en-US</dc:language>
  <cp:lastModifiedBy>Ольга</cp:lastModifiedBy>
  <dcterms:modified xsi:type="dcterms:W3CDTF">2015-02-03T18:46:34Z</dcterms:modified>
  <cp:revision>3</cp:revision>
  <dc:subject/>
  <dc:title>5 февраля . Классная работа.</dc:title>
</cp:coreProperties>
</file>