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5717-0317-4F6B-A392-2ED7A469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DE75-A885-48D2-B4BB-38BA4571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E71-91DD-4CB9-8848-4129CA66A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0826-5B1D-4217-A48F-A9B1B003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2410-E687-47E4-B62D-60001A9C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1C2A-65B4-4280-AF8E-9A649A48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4A1D9-04F7-4258-BF19-F4FB75DC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4AAD3-9663-4C86-95D2-5383E96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49769-879C-44EF-B6BB-B6B8629B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7E56-B821-40D4-A1A6-01095B32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297C-6BD8-4C6C-97C9-03D831C5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151-99A3-4123-A4E5-A07F1208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48A8-7224-455E-9130-E995991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5BA41-D64C-41CD-B29D-C7C09727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34984-ADA8-4EF7-B089-9C66E99A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F67B-7B1E-45FA-BFBD-FEC7279A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7DE2-3559-405F-970F-58F13F88D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4ED-27E6-4502-83B4-3EE628C1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018-AD62-4A02-82E8-9163CA7D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B258-5B8A-4DE9-8CE8-45FA6DD9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D4B0-31B3-46BC-A20C-A30BF865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5D83-479F-465F-A702-FED681E4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294-3761-4A4C-A90D-91F7F10A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553C-D8B4-4CF6-8DAA-93545964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D6BE-5E6B-448E-A25A-68B1B7880E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CFD-8702-4D82-A4B2-095152BC0FF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50;&#1072;&#1088;&#1090;&#1080;&#1085;&#1099;,%20&#1089;&#1086;&#1079;&#1076;&#1072;&#1085;&#1085;&#1099;&#1077;%20&#1083;&#1102;&#1076;&#1100;&#1084;&#1080;%20&#1089;%20&#1086;&#1075;&#1088;&#1072;&#1085;&#1080;&#1095;&#1077;&#1085;&#1085;&#1099;&#1084;&#1080;%20&#1074;&#1086;&#1079;&#1084;&#1086;&#1078;&#1085;&#1086;&#1089;&#1090;&#1103;&#1084;&#1080;.pptx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ГЕРОЙ    НАШЕГО ВРЕМЕН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«Белое на черном»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4008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4320" y="1828800"/>
            <a:ext cx="4002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«Я пишу о добре, победе, радости и любви…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ab1d3f50-f6fd-4d50-96f7-5116e555f486"/>
          <p:cNvPicPr/>
          <p:nvPr/>
        </p:nvPicPr>
        <p:blipFill>
          <a:blip r:embed="rId1"/>
          <a:stretch/>
        </p:blipFill>
        <p:spPr>
          <a:xfrm>
            <a:off x="685800" y="609480"/>
            <a:ext cx="3300480" cy="5334120"/>
          </a:xfrm>
          <a:prstGeom prst="rect">
            <a:avLst/>
          </a:prstGeom>
          <a:ln w="15840">
            <a:solidFill>
              <a:srgbClr val="ffffff"/>
            </a:solidFill>
            <a:miter/>
          </a:ln>
        </p:spPr>
      </p:pic>
    </p:spTree>
  </p:cSld>
  <p:transition spd="slow">
    <p:fade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3040"/>
            <a:ext cx="8153280" cy="508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Картины, созданные людьми с ограниченными возможностями.ppt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300" spc="-1" strike="noStrike">
                <a:solidFill>
                  <a:srgbClr val="000000"/>
                </a:solidFill>
                <a:latin typeface="Monotype Corsiva"/>
              </a:rPr>
              <a:t>«Прожить свои годы бесцельно гораздо легче, чем все остальное. Тихо проплыть уготованное путешествие по течению. Не сопротивляясь, без борьбы уступить свое место под солнцем более сильным и наглым. Никого не согреть, не утешить. Так и прожить, скучно и бездумно. Нелепо».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Р.Д.Г. Гал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932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091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ожет быть, меня услышат через десять лет, через пятьдеся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  </a:t>
            </a:r>
            <a:r>
              <a:rPr b="1" lang="ru-RU" sz="5400" spc="-1" strike="noStrike">
                <a:solidFill>
                  <a:srgbClr val="cc3300"/>
                </a:solidFill>
                <a:latin typeface="Monotype Corsiva"/>
              </a:rPr>
              <a:t>Мне не все равно. Мне хотелось бы пораньше, мне хотелось бы при жизни...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531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«Есть книги, изменяющие взгляд на мир, </a:t>
            </a:r>
            <a:br>
              <a:rPr sz="6600"/>
            </a:b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книги, после которых хочется умереть или жить по-другому…»</a:t>
            </a: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Я –маленький мальчик.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Я – герой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58036_or"/>
          <p:cNvPicPr/>
          <p:nvPr/>
        </p:nvPicPr>
        <p:blipFill>
          <a:blip r:embed="rId1"/>
          <a:stretch/>
        </p:blipFill>
        <p:spPr>
          <a:xfrm>
            <a:off x="1752480" y="1905120"/>
            <a:ext cx="5639040" cy="394956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Monotype Corsiva"/>
              </a:rPr>
              <a:t>Рубен Давид Гонсалес Гальег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62160" y="1828800"/>
            <a:ext cx="4724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Родился  20 сентябр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1968 года в Моск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Закончил Новочеркасский торгово-коммерческий техникум по специальности правовед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В 2001 году встретился с матерью в Праге и остался в Европе. В настоящее время живёт в Вашингтоне, СШ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В 2003 году стал лауреатом литературной премии «Букер — Открытая Россия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811__6708920_m750x740"/>
          <p:cNvPicPr/>
          <p:nvPr/>
        </p:nvPicPr>
        <p:blipFill>
          <a:blip r:embed="rId1"/>
          <a:stretch/>
        </p:blipFill>
        <p:spPr>
          <a:xfrm>
            <a:off x="762120" y="1752480"/>
            <a:ext cx="2768400" cy="4286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Детский церебральный парали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рушения двигательной активности, особенно подвергается поражению мышечная сфера - происходит нарушение координации движ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оизвольные движения; нарушение походки и степени мобиль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номальность ощущения и восприя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ение зрения, слуха и ухудшение реч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пилепс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при приеме пищи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лабление контроля мочеиспускания и работы кишечн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блемы с дыханием из-за нарушения положения тел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55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рудности с обучени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«Может быть, меня услышат через десять лет, через пятьдесят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  </a:t>
            </a:r>
            <a:r>
              <a:rPr b="1" lang="ru-RU" sz="4400" spc="-1" strike="noStrike">
                <a:solidFill>
                  <a:srgbClr val="cc3300"/>
                </a:solidFill>
                <a:latin typeface="Monotype Corsiva"/>
              </a:rPr>
              <a:t>Мне не все равно. Мне хотелось бы пораньше, мне хотелось бы при жизни...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Рубен Давид Гонсалес Галь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«Черным  по белому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«Белое на черном»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Monotype Corsiva"/>
              </a:rPr>
              <a:t>Рубен Давид Гонсалес Гальего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очка</cp:lastModifiedBy>
  <dcterms:modified xsi:type="dcterms:W3CDTF">2013-02-25T16:39:58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