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A25-5AC1-4CE7-A3DF-271BECFA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CB8-DF5E-46DC-888A-3C390FCB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486-42AD-44DA-8309-4A21A41E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68D-A113-494E-AE45-56A3C49F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B5B5-F82C-47F4-AA02-3C28E26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ECA-4D59-4C49-B8A6-3A02DB58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200-011F-44E3-AE66-E2F4B2B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3CAB-35AF-4ADB-833E-7B5617D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9B31-81F6-4464-84D3-2126974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829B-7873-4A53-AF13-B55A9B9F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3F5-D3B8-4E96-A2D4-FBADFBA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735-EBCA-45C9-AA14-CAA91DDE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806-1046-4447-B8BE-E395D8A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2817-676D-4E44-A2F2-76B629A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2951-11B3-481D-AFEF-BDA5119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7FF-FC9B-4406-8EDF-7E446AC2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354D-2423-40F0-A24D-30BE64EF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845-9F8E-4FB3-9092-AE5AD6A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65C-17FD-4061-816B-1FBE53C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0CD-D42E-418B-AEC7-8BECE0D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C7A-0357-4573-A11B-1CCCEF23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AED-3C1F-416C-8D4E-AD1796F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866-2D37-4B10-B36F-349F836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159-FA9F-4965-AB3D-6D2200E0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25D-B9FA-4242-BF2B-789B0BF11B3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1E9-EDD3-4DE0-BA90-7F267F3546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ишивание пуговиц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24000" y="3789360"/>
            <a:ext cx="712764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Кр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расногвардейская школа №2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оденко Елена Василье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поделки из пуговиц 8 "/>
          <p:cNvPicPr/>
          <p:nvPr/>
        </p:nvPicPr>
        <p:blipFill>
          <a:blip r:embed="rId1"/>
          <a:stretch/>
        </p:blipFill>
        <p:spPr>
          <a:xfrm>
            <a:off x="234000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поделки из пуговиц 9 "/>
          <p:cNvPicPr/>
          <p:nvPr/>
        </p:nvPicPr>
        <p:blipFill>
          <a:blip r:embed="rId1"/>
          <a:stretch/>
        </p:blipFill>
        <p:spPr>
          <a:xfrm>
            <a:off x="1835280" y="1125360"/>
            <a:ext cx="6783120" cy="5088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оделки из пуговиц 10 "/>
          <p:cNvPicPr/>
          <p:nvPr/>
        </p:nvPicPr>
        <p:blipFill>
          <a:blip r:embed="rId1"/>
          <a:stretch/>
        </p:blipFill>
        <p:spPr>
          <a:xfrm>
            <a:off x="2124000" y="333360"/>
            <a:ext cx="5953320" cy="6085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поделки из пуговиц 11 "/>
          <p:cNvPicPr/>
          <p:nvPr/>
        </p:nvPicPr>
        <p:blipFill>
          <a:blip r:embed="rId1"/>
          <a:stretch/>
        </p:blipFill>
        <p:spPr>
          <a:xfrm>
            <a:off x="1403280" y="1052640"/>
            <a:ext cx="7280280" cy="5281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оделки из пуговиц 12 "/>
          <p:cNvPicPr/>
          <p:nvPr/>
        </p:nvPicPr>
        <p:blipFill>
          <a:blip r:embed="rId1"/>
          <a:stretch/>
        </p:blipFill>
        <p:spPr>
          <a:xfrm>
            <a:off x="2700360" y="260280"/>
            <a:ext cx="4362480" cy="632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поделки из пуговиц 13 "/>
          <p:cNvPicPr/>
          <p:nvPr/>
        </p:nvPicPr>
        <p:blipFill>
          <a:blip r:embed="rId1"/>
          <a:stretch/>
        </p:blipFill>
        <p:spPr>
          <a:xfrm>
            <a:off x="2484360" y="189000"/>
            <a:ext cx="4556160" cy="645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702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63356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960720" cy="3762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2881080" cy="2880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3"/>
          <a:stretch/>
        </p:blipFill>
        <p:spPr>
          <a:xfrm>
            <a:off x="4695840" y="-157320"/>
            <a:ext cx="3860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пришивание пуговиц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0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87656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3780000" y="3298680"/>
            <a:ext cx="46288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Объект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7454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0483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4311720" cy="2876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2"/>
          <a:stretch/>
        </p:blipFill>
        <p:spPr>
          <a:xfrm>
            <a:off x="3995640" y="3654360"/>
            <a:ext cx="4415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Объект 2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9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2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7272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Объект 2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4572000" cy="3036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2"/>
          <a:stretch/>
        </p:blipFill>
        <p:spPr>
          <a:xfrm>
            <a:off x="4572000" y="2908440"/>
            <a:ext cx="4476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поделки из пуговиц"/>
          <p:cNvPicPr/>
          <p:nvPr/>
        </p:nvPicPr>
        <p:blipFill>
          <a:blip r:embed="rId1"/>
          <a:stretch/>
        </p:blipFill>
        <p:spPr>
          <a:xfrm>
            <a:off x="2627280" y="333360"/>
            <a:ext cx="506412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поделки из пуговиц 2"/>
          <p:cNvPicPr/>
          <p:nvPr/>
        </p:nvPicPr>
        <p:blipFill>
          <a:blip r:embed="rId1"/>
          <a:stretch/>
        </p:blipFill>
        <p:spPr>
          <a:xfrm>
            <a:off x="2124000" y="620640"/>
            <a:ext cx="5337360" cy="575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поделки из пуговиц 3"/>
          <p:cNvPicPr/>
          <p:nvPr/>
        </p:nvPicPr>
        <p:blipFill>
          <a:blip r:embed="rId1"/>
          <a:stretch/>
        </p:blipFill>
        <p:spPr>
          <a:xfrm>
            <a:off x="971640" y="0"/>
            <a:ext cx="7385040" cy="686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поделки из пуговиц 4"/>
          <p:cNvPicPr/>
          <p:nvPr/>
        </p:nvPicPr>
        <p:blipFill>
          <a:blip r:embed="rId1"/>
          <a:stretch/>
        </p:blipFill>
        <p:spPr>
          <a:xfrm>
            <a:off x="1619280" y="260280"/>
            <a:ext cx="6672240" cy="6288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поделки из пуговиц 5"/>
          <p:cNvPicPr/>
          <p:nvPr/>
        </p:nvPicPr>
        <p:blipFill>
          <a:blip r:embed="rId1"/>
          <a:stretch/>
        </p:blipFill>
        <p:spPr>
          <a:xfrm>
            <a:off x="826920" y="111240"/>
            <a:ext cx="7723440" cy="6746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поделки из пуговиц 6 jpg"/>
          <p:cNvPicPr/>
          <p:nvPr/>
        </p:nvPicPr>
        <p:blipFill>
          <a:blip r:embed="rId1"/>
          <a:stretch/>
        </p:blipFill>
        <p:spPr>
          <a:xfrm>
            <a:off x="2411280" y="333360"/>
            <a:ext cx="5178600" cy="6058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поделки из пуговиц 7 jpg"/>
          <p:cNvPicPr/>
          <p:nvPr/>
        </p:nvPicPr>
        <p:blipFill>
          <a:blip r:embed="rId1"/>
          <a:stretch/>
        </p:blipFill>
        <p:spPr>
          <a:xfrm>
            <a:off x="2700360" y="189000"/>
            <a:ext cx="4573440" cy="6431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2:43:18Z</dcterms:created>
  <dc:creator>1</dc:creator>
  <dc:description/>
  <dc:language>en-US</dc:language>
  <cp:lastModifiedBy>Алёна</cp:lastModifiedBy>
  <dcterms:modified xsi:type="dcterms:W3CDTF">2017-01-09T17:01:13Z</dcterms:modified>
  <cp:revision>9</cp:revision>
  <dc:subject/>
  <dc:title>Пришивание пуговиц.</dc:title>
</cp:coreProperties>
</file>