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5F1-776C-4813-A1E6-91D147C7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0D3-3746-4B31-B2C1-65FA75F5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CD2221-E4F1-42B3-976F-C24CC758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B0E937-4A4A-41B5-9B15-B0F2D4DB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4EF4A6-93C6-48BB-88B0-36AB0823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D69E20-77FF-47EA-8E14-B7F1659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916C9-CA53-4843-81D0-9FB98927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0C77EC-091B-4C82-B3FD-F0989288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FD942E-E363-425E-A3F2-B052166A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92C54-F926-4AD0-8A56-9F96A66D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FADFC-D8E5-41BD-8DBC-45134DD0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2B71E-2BD4-48CB-9025-026C44AB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3C4-95FC-47E6-B9E7-2D91ED2E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493B9-DD81-4499-9D2C-C2EBBD47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D65F5-7BDB-4F4F-9E28-97F7CBF6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A7773-7E75-4F07-A7F3-DB12DAE7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46788-FA02-4039-8A4B-7D0EB635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9D722-331E-49EA-AEED-07AECD3D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557E0-363D-4614-9288-EA9D3EAC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38CC8-F1B6-44E6-B7C9-0317E3B8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788D4-B852-4A5D-9A04-22550EE0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23FBB-E0D5-4358-A839-7F0A9CF7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D4C91-740F-4AF7-B2B8-4F04B8E1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C3C-D446-4054-9EE9-956B3524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6AE6D-C105-48D4-AF85-2E115068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5132B-E718-44D7-BC79-5A2402E2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B2734-1400-49CE-98CA-798E4413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7AA34-FA62-466D-9903-ECCD3A8F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BCAB1-F2BC-459C-8D56-E0D78D5A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5B922-9933-4D4F-A44B-E8822541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D93D0-387A-44DF-87D8-91F09FCC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2A142-6F89-42AC-B663-0382F788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D914F-01ED-48DD-AC1B-CBD2798E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A7BEF-678B-4E7D-A1E0-C1833DD2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31BDF-EB2C-4998-B994-C664E217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E8C3D-7FF4-491A-AEAC-B58FE68D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89028-3279-4195-ADF2-DFBB9024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AA3BE-0FD5-49A7-B94A-D9C370E2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B29FE-EE59-4CC2-80C1-5602B1D0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D8393-1C8B-4708-8877-28231779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B6979-0EAE-4BAE-8B51-082E2604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16378-11A6-48CA-B18E-C0F7A280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D2A60-C27C-43D7-A53B-6EB0D41D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3A915-B196-4F20-8EC2-E51A68B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F9C7A-F4AB-4CAC-93A1-84A6767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FB5A9-3A99-4409-8DB1-D255B778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07475-FF9D-4386-AFA7-5FA8D26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6AFA3-03F3-4AA9-9B35-37A05B4D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3F1D8-AD7B-4416-A580-BE764346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9DA32-A6B6-4BAE-84A4-DF59335A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0723E-F243-421E-843A-F4FBE78A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FD22C-1F09-418D-BA79-D09A804A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E8D42-945D-47BA-B81F-99C70FAA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EB40D-D8F5-47A2-9437-0B474AB6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44C57-784F-409B-92D9-7DD9FF83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1B825-72FC-4862-8A90-0E5CF0AC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B0633-D08B-474C-BB03-E5D49E4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5B3BD-558C-49BB-8DC7-ADABA556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AD343-2CA4-46EF-87D3-9A44EC7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465DB-A605-4436-BFB4-441F0C5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BDE3B-D8ED-4341-B9B0-2C480457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FAEE4-EDFD-427C-88C7-9922473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1E3A5-743F-4B93-B3E0-EA400613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C20A8-3742-4C2D-A25B-0D97D13E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A14A0-C4F4-4E07-901E-A52EAF4D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AB688-E06F-4AC4-84E9-DA4DF363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B65D3-ACFB-45D6-8D26-D695CE98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FDD6A-D5EA-42D9-A7CF-B7AA13B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B658B-6678-47E3-BAE2-95AAA549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536D3-968E-47DA-8DAA-89721C1D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BF2A4-31FA-4836-B969-2DB38482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D7AB7-5BF9-4702-A0B7-11FF99D2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6160A-A315-4D23-8F9B-706D9B2E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AEED0-6F0B-4904-B961-A7C87785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81E47-E27B-441E-92F4-6F58ADE4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C5E67-71AE-4268-BB6F-2AED91DE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DBCCF-DEC0-4192-9CDF-D9F3196E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85FCC-39B5-4C0B-A774-B12BDC90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A479-AFD0-4A37-95D8-325F40E8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D4D0D-023B-42BE-977D-7AF624E2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4F99F-866E-440D-8830-5BFA5DCB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C741C-F4AD-4791-A00D-731777E1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B6922-42FD-4D6E-8402-0CEFE2F4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83A7A-D91F-4B0C-9514-FDA45BDB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E7EB86-C744-4AEB-B5FE-5C2BE92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C9DFC-A279-4198-B4DB-FE7B2B86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E4FDC-1C34-4072-B198-807515D2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4422C-0C31-42B4-8160-A8762FDD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A0BB1-B863-4769-BFDB-5313E39B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848A5-83B9-46DB-B600-12DBF34D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D4568-AF4D-4E55-8BF7-8B9A027F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B6D84-E944-45FF-842E-9B6DD20A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5923CD-98C3-4DE1-9961-33CB7DD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A221C-A1D6-46E9-98C5-8A05F73A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CC8BB-43CE-4460-B6DD-4601B07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A9D18-B3C4-49D9-BDBA-04EEF3FC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C0320-FE68-4773-9A10-E51C690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17669-ECC4-4648-9336-8427E898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4B9DD-B9D6-4BB9-8545-D2C10D7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87D95-BAF9-4195-B45D-3E3EC39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45738-5A6C-42D0-B559-41949F4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2F8F4D-00A8-477F-9994-7DF3F9B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7F369-D7B2-422A-90D4-2297129E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D7E23-5382-4110-858D-17638CB9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A56F4A-EACC-470B-A1E3-509441BE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BB518-A7ED-4DB8-BF40-48432F4F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F5561-8A98-487E-B45F-09173F34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C7B98-B9A8-4E64-B63C-276192A9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2BF78-FC5D-4856-9F26-F3483657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98EF9-97E8-4818-A48E-9CFC391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6794A6-0917-49C0-AA09-C7F0366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B77-AD9D-4538-9DEB-1B10C3C5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B853C-6808-4D65-85F3-52B553B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22FD5-9AE1-4278-81F3-EC78D5B3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9EEA0-0A68-4A5B-B4FC-E801B79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7ABDF-EBDC-4C72-B5AD-9AC85406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569331-7D3B-43B6-990C-3A301891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6EE25-343D-443C-92BB-F95DFE38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90F998-F66B-4FCD-B053-A44CE54E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93D97D-D303-4433-AD2A-31091510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03DAD-AD7D-41DE-A2CF-886AD436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DE59B-CC18-47F6-9635-B12B2943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3F2DE6-8D92-4EAF-B7F0-DBF86E2E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8134F-2DE1-4A45-B93C-3A3C1CA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86C34-8349-4B31-8295-0D71864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1486F9-298F-4E6C-8104-1BD8857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7093D-7D44-4CB2-9769-781C526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77B09-EDC8-40A7-B359-8356E6BD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355FD-A240-42A9-AE58-A9FA07FF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9EF6C-3CE9-4612-97E5-A472CE8C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30D04-7233-4C30-A7AC-07C4A0B2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362BAB-6DBF-4686-93A0-AD8FC3C0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85185-3092-4119-B2C8-D704CE5B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A349BD-780A-4050-9AFD-76628324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C81CA-A54B-4A17-9FCE-9F48801E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CF92D-A909-4A32-A23C-A8ED520F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E17E4-D465-4F62-AAF5-043B367A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6819A-379C-4BDF-9535-7DCB4293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232764-656B-4F18-B823-4498019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D4AAE7-8ED2-43F5-BAB9-054EEF6A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FB904-1C9C-41B0-9232-64DA53EF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08B1DB-AECF-4120-926E-C9E59F0C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22706-2E90-434F-9AC1-7BE24904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F6D0C-6D41-402D-AED6-4EBDED1A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782DD-62D7-4008-B959-CF4394E5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FE084-B1E5-46FA-B028-3051B914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4924-125C-4DFE-891D-88F9CF09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595E-C29B-45FD-ABDF-9C9D8EE3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151A-9657-4CE4-8D64-8B1E4865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8C68-FF3D-41A1-8EA3-121A49FE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2F4B-B6F8-471D-9486-B2282703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B45-88BC-47EC-B891-4002ABC3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4938-2507-4EC3-8567-D5741E21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E53D-B8C8-4ADF-BE50-0D1493F3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C4D8-D275-4E0B-A371-A803C16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E187-81BE-44C6-A071-AE6A2A0B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1472-E4BA-46E3-AA8D-411CF6FB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4928-D703-4CF9-9A4D-EEDA23F2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C279-ECD8-4A27-BABE-B8B4EBB6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3DC7E-1851-42BF-8DE2-A44DBA94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4394-8C31-4DAE-B0C9-092B880B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31BB-D79A-4915-B465-367B3AB4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8E4-014A-4A9A-9DEF-AF5C2D4B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50E04-5BBB-48FF-9963-41FD9627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3A805-4416-4E1F-8CEB-D69349D3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AE158-277A-4AEC-BDEE-356C567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37D77-2608-47FD-8946-3B07A5F0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CD9E1-BF91-4AE2-9283-7198AA5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F8BB-7A9E-4CE0-AE05-D19765AE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B089-3C3F-4D42-AF27-B0B5C211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633DC-1E17-4D28-BD59-F9B92716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9DB4-5031-43EA-9431-98483CD1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4F14D-71C9-4D78-BF4D-CA0C02F1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747-D881-47BE-963E-0134A01B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E1174-4089-498B-864A-361FEC69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0A6F7-6532-4C3A-8889-C042E167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4DE19-9046-4487-AB40-B1ECE7AF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93A48-9597-44F3-9ADD-CC5AE109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1D386-41F3-455B-B81D-FA06D3A4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34427-0E06-4C70-8B8A-E8471C6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67194-966E-4A7A-A481-9694BE46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68F58-DDFE-4AFA-9B12-EC1DE03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1A52C-18B4-4F86-A27E-BB85B093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D2D37-6382-4356-B064-C1A22C22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DEC-8647-4548-9937-D9727503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31003-5402-4387-B7B6-211CE8B1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61C34-38C9-4796-ABBA-E8B420B3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17EB5-7837-4754-8DF9-BEF7BB57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33538-C000-47F6-9165-723F6405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9128B-2386-434D-97AC-E7E36FF5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EF8E2-0A55-4033-9AC0-21C531EA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438E0-1A90-490B-84AC-C7F4FA1E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B4A9D-9A39-4479-8CEA-30891F5B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6E57-0C1F-43C0-AED1-D801694D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BE5BA-C11C-44C6-8347-65D16E7B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D4D-0C34-46FD-AFE4-1E67F20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8700B-6B08-4652-8A5A-66212E1E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C81DC-CE88-45A2-839D-CF7C5536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C3FB5-6A32-4791-875F-9BF251BA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B423-0484-4172-A7BE-832C6B42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E8C21-1846-4840-B2A7-1AE70547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341DF-1334-4426-A1EF-46708708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864A6-1A84-44DC-BABA-0C41FA20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2D386-04EB-4D60-9E08-936D4ECF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A6E40-CA2E-41CA-A48D-0CF5CE74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7EDE9-686C-48BE-B509-3B957D83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060-8FB8-4099-9818-2888380A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D307A-42B0-4E4C-B812-343F1D8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2E8B9-C311-4BEA-891C-E9E896F7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C2509-28CD-444D-9F30-1C25565D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C062A-45FE-4EEE-8088-F28ED035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228B8-8899-4EAF-90DB-25473875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FD6E9-37F0-4AE3-AE61-363D4287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AE3EA-6FAA-4C81-8DA9-57977634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09390-FABD-4D91-AE81-D4B1816E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97D49-3DA6-4943-8F75-D3B2F5EF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6588E-9D72-4503-91E5-CA338179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E09-8E5B-47FC-9D3C-F6AF58E4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C0BBB-43DC-4087-AD19-618E0E3E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7805F-52E4-4498-B757-0E12055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B15C1-D08E-42FB-88F8-26A374E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3617D-5FA7-4FA9-BE01-EB6080E1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81F79-ECCC-4E89-A6C6-05DDB7EB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1665A-D99D-48FC-94AA-D8BE9DB3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B5575-86FB-402C-AF1F-ACE18D06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F8574-1E41-41A0-BFB0-4E0D3212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D1BB88-D282-469E-9245-EED03038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CF7461-D046-4B51-8E71-DFD26B1A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69.xml"/><Relationship Id="rId32" Type="http://schemas.openxmlformats.org/officeDocument/2006/relationships/slideLayout" Target="../slideLayouts/slideLayout170.xml"/><Relationship Id="rId33" Type="http://schemas.openxmlformats.org/officeDocument/2006/relationships/slideLayout" Target="../slideLayouts/slideLayout171.xml"/><Relationship Id="rId34" Type="http://schemas.openxmlformats.org/officeDocument/2006/relationships/slideLayout" Target="../slideLayouts/slideLayout172.xml"/><Relationship Id="rId35" Type="http://schemas.openxmlformats.org/officeDocument/2006/relationships/slideLayout" Target="../slideLayouts/slideLayout173.xml"/><Relationship Id="rId36" Type="http://schemas.openxmlformats.org/officeDocument/2006/relationships/slideLayout" Target="../slideLayouts/slideLayout174.xml"/><Relationship Id="rId37" Type="http://schemas.openxmlformats.org/officeDocument/2006/relationships/slideLayout" Target="../slideLayouts/slideLayout175.xml"/><Relationship Id="rId38" Type="http://schemas.openxmlformats.org/officeDocument/2006/relationships/slideLayout" Target="../slideLayouts/slideLayout176.xml"/><Relationship Id="rId39" Type="http://schemas.openxmlformats.org/officeDocument/2006/relationships/slideLayout" Target="../slideLayouts/slideLayout177.xml"/><Relationship Id="rId40" Type="http://schemas.openxmlformats.org/officeDocument/2006/relationships/slideLayout" Target="../slideLayouts/slideLayout178.xml"/><Relationship Id="rId41" Type="http://schemas.openxmlformats.org/officeDocument/2006/relationships/slideLayout" Target="../slideLayouts/slideLayout179.xml"/><Relationship Id="rId42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F082-60AE-4ACC-B554-C98822288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A5BD-0671-4297-AD9A-A87B60DFB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4E8-001E-4A4A-9F0D-60B472AC0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2A55-3525-4605-B159-F8A9D8573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35C-1488-4676-B154-43E941E20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7179-63E4-46CD-9C5A-968B0B6609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1AFF-2810-40A2-B5CA-CA1C237123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1"/>
    <p:sldLayoutId id="2147483832" r:id="rId32"/>
    <p:sldLayoutId id="2147483833" r:id="rId33"/>
    <p:sldLayoutId id="2147483834" r:id="rId34"/>
    <p:sldLayoutId id="2147483835" r:id="rId35"/>
    <p:sldLayoutId id="2147483836" r:id="rId36"/>
    <p:sldLayoutId id="2147483837" r:id="rId37"/>
    <p:sldLayoutId id="2147483838" r:id="rId38"/>
    <p:sldLayoutId id="2147483839" r:id="rId39"/>
    <p:sldLayoutId id="2147483840" r:id="rId40"/>
    <p:sldLayoutId id="2147483841" r:id="rId41"/>
    <p:sldLayoutId id="2147483842" r:id="rId42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F779-AD96-420E-87FF-3C3AF44838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AF2C-62BE-4B2B-8DDF-1B6FD25F66A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2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5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5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CC10-E5F1-4802-8AE9-6319D46E24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9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dt" idx="5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ftr" idx="5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AFD3-E2E8-43EA-901B-5A09350D8BB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AA12-5EE6-4BFA-9A76-E0341BAD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A1FD-A0E9-4E4C-B9C4-3077F4F2E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C02C-300A-44D6-83C4-D3D744B94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C5F2-36BE-43A7-B6BE-A0A98A0820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C649-579F-48E8-A704-B032FD1C1D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9CDF-0F1E-4DE9-95EA-492C6B125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4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4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DC8E-772B-4CEE-8E0A-4D5F1F99FD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0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0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966D-2F96-404E-8239-06A8951227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дание 1.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 месте каких цифр должны стоять запятые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818 года (1) после жестокой горячки (2) Пушкину обрили голову (3) и он носил пар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нет запятых  б) 1,2,3  в) 1,2  г)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За обедом все повеселели (1) и кофе (2) по предложению Пушкина (3) пошли пить к нашей хозяй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1. Со врожденным польским легкомыслием (1) и кокетством желала она нравиться (2) и никто лучшее ее в том не успева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2. Село Михайловское находится верстах в пяти от Святогорского монастыря (1) и у здешних обитателей оно называется Зуевым (2) а чаще всего – Пушки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. Через калитку вы проходите в садик (1) и взор ваш (2) и чувства отдыхают (3) любуясь очаровательною картиною реки (4) озера (5) цепи холмов (6) и прибрежного ле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. Нравственный подвиг жизни принадлежит не только каждому человеку (1) но и народам (2) и каждый человек и каждый народ решает его по-своему (3) выбирая для совершения его тот (4) или иной пу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. Природа вступит в вечные права свои (1) и вы услышите ее голос (2) заглушенный на время суетней (3) хлопотней (4) смехом (5) криком (6) и всей пошлостью человеческой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. Есть много родов образования и развития (1) и каждое из них важно само по себе (2) но всех их выше должно стоять образование нравствен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7. Нет ничего святее (1) и бескорыстнее любви матери (2) и всякая привязанность (3) всякая любовь (4) всякая страсть (5) или слаба (6) или своекорыстна в сравнении с не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. Человек есть существо (1) ко всему привыкшее (2) и (3) я думаю (4) это самое лучшее определение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. Характер ее (1) мягкий (2) и любящий (3) покорный (4) и открытый для выбора (5) увлекал его (6) и он (7) сопоставляя себя с нею (8) находил себя гадким (9) некрасивым (10) сутуловатым горбу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огда была мода носить испанские плащи (1) и Пушкин ходил в таком плаще (2) закинув одну полу на плечо.  А) нет  б) 2  в) 1  г) 1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. Но поэт (1) придя уже в полную ярость (2) не слушал своего светского собеседника (3) и (4) схватив лист бумаги (5) он что-то быстро чертил на нем (6) сердито поглядывая на Столыпина (7) и ломая карандаши один за друг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1. Я тотчас списал с этих стихов (1) не выходя из комнаты Лермонтова (2) пять (3) или шесть копий (4) и друзья мои после написали еще изрядное количество копий (5) и дня через два (6) или три весь Петербург читал (7) и знал «дополнение к стихам Лермонтова на смерть Пушкина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2. С Лермонтовым мы встретились уже молодыми людьми (1) и (2) разумеется (3) школьные неудовольствия были забыты взаим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 сожалению (1) Пушкин вскоре ушел из ложи (2) и более мне не удалось его увиде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нет  б) 1  в) 1,2  г)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рались гости (1) явился Пушкин (2) и с первых же минут появления привел все общество в большое замешательство необыкновенною эксцентричностью своего костю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нет  б) 1  в) 1,2  г)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евский выхлопотал ему отпуск (1) и 4-го (2) или 5-го июня вместе с ними уехал он на Кавказ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нет  б) 1,2  в) 1  г)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братном пути с Кавказа он как-то повредил себе ногу (1) и (2) рассказывают (3) это было поводом остановки путешественников в Юрзу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1,2  б) нет  в) 1,3  г) 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Катерине Николаевне было в то время 23 года (1) а Пушкину 21 (2) и один этот возраст (3) по тогдашним строгим правилам о приличии (4) мог служить достаточным препятствием такому сближ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1.2,3  б) 1,2,3,4  в) 1,3  г) 1.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Мы переехали горы (1) и первый предмет (2) поразивший меня (3) была береза (4) северная береза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1.2.3.4  б) 1,3,4  в) 1,2  г) 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Задание 2. </a:t>
            </a: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Укажите правильную расстановку знаков препинан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. Через огороды (1) и плетни я вышел на простор (2) и передо мной открылась степь (3) пересекаемая тощей (4) болотистой реч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7:54:07Z</dcterms:created>
  <dc:creator>Hfcekm</dc:creator>
  <dc:description/>
  <dc:language>en-US</dc:language>
  <cp:lastModifiedBy>Hfcekm</cp:lastModifiedBy>
  <dcterms:modified xsi:type="dcterms:W3CDTF">2009-12-21T18:33:27Z</dcterms:modified>
  <cp:revision>2</cp:revision>
  <dc:subject/>
  <dc:title>Задание 1. На месте каких цифр должны стоять запятые?  С 1818 года (1) после жестокой горячки (2) Пушкину обрили голову (3) и он носил парик.   А) нет запятых  б) 1,2,3  в) 1,2  г) 3 </dc:title>
</cp:coreProperties>
</file>