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811-6441-4EF8-A142-38C23C79B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2E7-BD29-48C5-AF77-F84DC7A8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B5CF0F-FC96-4182-A31F-71A3E415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A168D-9059-4752-922A-D8C574B2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E4A3CB-A153-4F65-97D1-FF7CD687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4A3880-803F-4C35-A670-0A58EAE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5933CD-E2EE-4E6C-8413-E3169B0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D411B-1393-4954-B5EF-40E330A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1B6918-D1CC-408C-8E1D-47307368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15DC5A-F249-489E-89E6-54A5ABC0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272306-0D6A-4D1E-968F-9C0CBC1A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91AB2-6B62-4894-AE2C-DD4B4485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4095-D71D-46C7-8C67-29613B012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CADBA-4AEF-4A70-971B-9E444A92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61E01-2EA4-44CF-BEBE-245DA0D8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D036BA-76DE-4E46-8E0D-8C0C4DDB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01C14-151F-4FE9-A6A9-62936364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7A0C4-D4FE-4367-98CC-CF5B6CA4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4240D-0630-411E-9C6E-276B13C9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35BE0-FD99-4FD1-9CF2-8137086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F69FA-15E9-44CC-A964-F89AA363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BDA13-088C-4DFC-BAD0-EA24421B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E9AB9-171A-4F2B-81D1-574E2EEF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E5BB-5BBA-45E7-A257-A4F437AE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7E24C-F220-4BC0-B8D0-97742A3DA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85D51-6CBA-44C6-B0C9-353F4B2D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C8B69-541A-4D5F-8E72-16CAB363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1AF6F-15E0-4309-B419-F9380904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13770D-1114-43FA-BBD2-95E39F3B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21D79-E10D-4CF6-9BE6-A4101F2A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7041A-1C4D-478D-9615-85CDB4CE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D0F2A8-948B-450C-9DBF-AB602BE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CAA24-68F4-4ED1-9441-037B1110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16688-14EF-41BB-ABF5-1C94C38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DDEFAC-C602-41EE-9160-74D09EAC7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A2128-D6C3-47F8-A872-DCBA9E8D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A656C-09E3-4432-94E0-C285D31D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B7B2D-D9D0-4F01-BE5D-A1BDC2BA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4B13A-A87E-452E-8DB6-F0E18CEC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4391D-C34B-457E-8B3C-51C4CF1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16A4B-6311-4CDD-810F-2DD6114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BDF00C-9D41-4780-AE38-8C71F5A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016B0-1F7E-46C1-91E3-9325AFC7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01800-E756-45BF-90A6-F607D748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17BD1-8C95-4D72-9593-41293D8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61CB-1E54-4EB8-B065-3BEE43D5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60FDA-A3AA-4FE2-BF58-C23838EE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881CB-9071-4B02-BFFA-F4CC9B2B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F568E-DE3E-46FB-8BF5-D76FE50C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41415-252C-4CD2-B0A7-2F741431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56C3A-3C85-4A99-95F1-331E59E6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E6A61-404A-4883-95C2-85670423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75EC1-80AA-4A65-B0E9-9DAC20648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496396-66F8-4CAF-888C-BF0F225A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DCF67D-4679-4023-9A53-D7E10CA5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16AA75-B9F2-449F-A8ED-CFAD7DEB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AA97D-B08D-47C8-95F4-3127B5CE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8CD012-C01A-4EB9-9C82-5B26C7D8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5A666-BF75-4193-9C20-D81C72E6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BFAFF-982C-4B6E-A5AA-D2CAFDB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1B058-AC50-4B31-8F49-AFD33836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FCE4E-9710-4D26-956B-951D684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240035-8FF6-4673-8632-991F2650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BECA0-5B8F-4EF1-BBD9-BCBC55DB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4A0E2-E8D3-4CEE-A055-561EFFA82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DCDC23-659E-47F2-AB6B-8B0E98E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1E984-1A19-4735-B4CD-772F4308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6BEAF-CBED-41A0-B26E-279516C1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A1DE6-2D3C-4DE8-9C07-89991C9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0C477-F7B4-48AC-9DD5-3988D553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C105D-73EB-4DCA-9528-4473C364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9347EA-D7AD-46A3-A524-AD8CEFE9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064AAE-09FE-4791-A908-E5FF1C7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A00658-0A1D-4332-BD9A-66E32DB2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C43305-11AA-4868-8954-11F4A40B9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5F426-BEE6-438E-ADDC-19141D97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4C6BF0-A060-4F03-81A6-1E08E7654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21222-0E57-4766-8CDD-6FA9CEB04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26A40-ED96-4E8C-93CC-F4A3E164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F4CC72-2F15-48BA-A49D-0C7D3475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A742D-8085-494E-B6B8-CBE4D7B7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1AFFE0-481C-42C9-9520-00215391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86D62-E4D3-4725-BAA1-AB862FF8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8D793E-E2C7-44EB-AD1A-3358012A6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A3C683-768D-454E-829B-4972AF93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C627C-1D4C-4069-A7B1-212B66CE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C8B8F3-3AF4-4322-94DC-9ACF4AAB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47065-B1EA-440C-BDE4-86458592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F50F8-DDBF-4183-96C8-77B34C5C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3F0D2-7583-49FB-AF15-AD637DC6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CE92DC-6704-407C-8552-D6F9B6A4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1BA5CD-B735-4147-A6C3-B1FD71CE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24BC4-28EF-4E24-BE5C-7880A5C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307C0-E474-44BF-9E86-0861DBCA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B42089-EDBA-48F2-9864-34B061E7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805D70-8522-4410-8CC5-B643C40C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632FB6-27F2-4C75-91CF-C87C1EE0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41DD62-AE8A-48BF-B434-C41BED7D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DA987-C4C1-4872-A28A-2B56A510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6FA104-F0CD-4604-8D8B-BA2974C9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CCDC1-0791-4776-8268-2AACEEE9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B2228-7106-4AEA-9686-251AE436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0E922D-BFF8-495D-8409-9BA72129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E36F5C-4736-46D8-AF7C-77C3B0237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6988C-3641-4BFF-83EC-CAB3E11F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0E5125-DB61-4BCB-8DCB-74516725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B796E-CD71-4E2B-BB6A-22E7296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A1C830-E154-49FF-A732-D4BA08A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95843B-5BE5-446A-9A8A-58C14A61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33FAB-37C4-43B8-9899-91A8E5A8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556DB2-5EAB-4FE8-AF87-2907C35D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5F40-B6ED-481B-BB3C-26E7B8A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00611-6E4C-4705-9D28-F8DAE4F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5252CF-EB9B-4EF6-819F-FC2FD187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0F3F87-7873-44E8-B720-872ED5D7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D829E-A74D-4C12-96AC-A7821030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A65F1-57B3-49AF-ABA6-2120A276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05014-CEC1-4552-8630-72ED4432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0CA1E-82A6-4AD7-A570-A58C618A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63ABE9-8C48-4271-BDFA-9FB97657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A4148-C16B-4688-9791-C19DFC05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57DF57-BDE8-4473-BDD1-CEE6C365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944B8-BD1D-4D6F-8C67-416BF018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D2698-8EFA-47D8-AC81-63B952B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059A6-75E0-444F-9DC3-23AA542B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7C1C92-DC07-4765-B2DE-C8E167A1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4A7495-D02C-43BC-B066-F9E5AEB9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34CD3E-307D-4B4E-AD77-A86AC78F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9DAC3-E6D9-4CB8-8F56-EB5971F2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4921D2-2CD9-472F-988B-154FE0DB6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6EA00-D1F1-4649-A032-62FE2C53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DA77AF-C729-4108-9629-B206248F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73B3F-87BB-4308-B1F7-60D60E44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85F1BA-C857-4819-9E61-8CD358AFA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068A0-0856-4871-A757-CDBF768D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D8716-B51E-4E7C-80D4-121B99FB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3D1140-79E6-47CD-A6F9-E342E873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6FC38B-47F9-4FB4-8027-BF266A78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91FFE-0CD0-4EA8-8B71-9E22D930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7FAF7-1CD3-4EB5-9703-D695D8E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CEFF66-694A-4A30-A6FA-BDF121C5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641E65-1372-4371-89CF-683B3A82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97ACE-EE4F-4387-A21A-829CD598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9C0F7-FF80-41BA-9852-F9C619EF1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1DFAB-F2C3-4826-AC3D-FE968C471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9664D-245C-44C3-A908-049062BF8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1E94-D7E2-485C-8490-53418E3A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D806-36A5-43C1-93AD-26E17109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E5DDB-76A4-4BFB-90F8-6CC07327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9D7C1-579A-4A88-B831-2323129C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A99C-C72B-4616-85D5-3718B898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22E-15B1-40E0-9751-710F3097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EF4C2-526F-4222-9165-CC72AAA9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E246-4DF3-408C-9E14-4392F7BA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6EF20-C2A3-4722-AECA-A06E9472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85C69-0EFB-4072-8DAF-7B7E48C6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7A299-D934-4E17-8935-F7EA4670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7E46-B648-4476-B007-89BEC6DB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26DEC-BB67-4B55-8137-87C8C8E3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82E83-F9CB-4AE4-BC06-B8117B0B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39D06-49F2-4B57-AA4B-D41BC37E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8CDAA-E4A0-4117-87F0-923552EBF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FDFE-E1BE-43DB-83E5-8DDC38FA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B3E0-5117-41B4-82F4-1073706C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71C5C-3D71-4900-9A21-D1E081F5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257E-685B-48A4-ACD3-5052194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956C-D10D-4D47-8E82-4BC56E52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3C45E-77FC-4684-937F-B0ADA999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ACA2B-BB5F-47F0-BAF3-8F80B9A1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619F-FC0F-4DE1-A1D0-AE187D81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E11A1-8109-4BDC-A598-CDB6D68CA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21A6-E0DA-42A1-A734-2BA375C49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DE8AE-C6B0-4701-8C48-59AFE3C7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8D7-C469-441B-A382-2C90508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9D532-EB4B-4BF5-9708-EEF79E5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1E10D9-C6D6-4F57-B2FB-FB477FB5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53AD5-93CA-42F7-BC53-3654FEA4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D23649-6185-4E86-80CE-A483743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E8808-5369-47F8-A768-2FF5E095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F11856-A8F7-4F60-8583-03127BE4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DCA26-AE8A-4746-8AE9-A4365595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4267E-6ED2-445A-B433-BDA8A63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A8A49C-26FB-475A-8498-1C7D8EE5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49BCA-AE66-46FE-8413-B3391F4F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38C-56A8-4232-8D31-F0E3D2B8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8C4B2C-9D72-446C-94A3-28FDD6152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890B0-C794-477F-A7B3-FFF4FEDE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472EB-3250-4C3F-9621-6FC96740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5BDC-A112-4D31-8074-2F52838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3ACD-50F8-4D04-8E1E-C7457A0D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696CA-7126-4501-BDDE-F8409A13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837CE-3D64-4942-998C-DF66C5EA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2FEA-8D71-43E9-8A51-6558A703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F1578-D0DE-4B22-BC51-B4AAC951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2BDD2-6A80-48A7-B2C9-D2612827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25F2-2ED8-433F-911A-C291255F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23986-7FE0-4B4B-AA0C-6E490D2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D30BC-7186-4A8D-A123-B36536EAD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EAAE3-A31C-44BB-B9A5-F72D4C56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27F41-5AD9-4A11-896C-D269AE56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79A39-2840-4E25-90C0-CDC190F7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DA3DE-B87F-4FA1-9333-F52C9343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9823F-D836-4641-8D51-D3170386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A40DB-7668-472A-A326-FA703E3E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DBD9-1C93-4AB0-9BC5-1B8740A4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FF9B-5ADC-4FA1-AAC9-5890CA28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4D1-183F-4A8C-B9AF-353D57D9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A1D39-C6CF-48AC-8E5E-E2C7869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5506-0909-440E-801A-3BD9DFCE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34547-AC35-483C-978A-B4DE91B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DB76A-0101-463E-83F6-9D9582E3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09E6B-FBEE-4120-B8AE-2BA45937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A4921-4569-4921-B35A-3F597FAE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81EE0-602F-442B-9F83-7145F16A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69350-D68B-4C6A-8382-950B1CD7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72258-3C66-43C9-8863-E092E434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F22CF-576D-40EB-B442-C721B52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DE75-03D3-40D7-9FDA-F446ADF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1538C-D65A-4CAD-8016-A6B3F608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3049F-2FB1-4596-AA28-B210FE3D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3AF90B-6792-4DE5-9341-E0038583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2C75E-2C94-4E93-A402-1291692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F719-3F16-4124-ACAE-F87F2E48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F28D6E-9BB8-4BFF-B1C3-C424A0BF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F322-4D3A-46FC-96F7-2BF16885E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7376B1-064B-4D32-A336-B7F4FED31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1C7077-6292-4F14-9693-3E242B42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2F188E-91F9-4C92-965F-C21D98F3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5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slideLayout" Target="../slideLayouts/slideLayout169.xml"/><Relationship Id="rId32" Type="http://schemas.openxmlformats.org/officeDocument/2006/relationships/slideLayout" Target="../slideLayouts/slideLayout170.xml"/><Relationship Id="rId33" Type="http://schemas.openxmlformats.org/officeDocument/2006/relationships/slideLayout" Target="../slideLayouts/slideLayout171.xml"/><Relationship Id="rId34" Type="http://schemas.openxmlformats.org/officeDocument/2006/relationships/slideLayout" Target="../slideLayouts/slideLayout172.xml"/><Relationship Id="rId35" Type="http://schemas.openxmlformats.org/officeDocument/2006/relationships/slideLayout" Target="../slideLayouts/slideLayout173.xml"/><Relationship Id="rId36" Type="http://schemas.openxmlformats.org/officeDocument/2006/relationships/slideLayout" Target="../slideLayouts/slideLayout174.xml"/><Relationship Id="rId37" Type="http://schemas.openxmlformats.org/officeDocument/2006/relationships/slideLayout" Target="../slideLayouts/slideLayout175.xml"/><Relationship Id="rId38" Type="http://schemas.openxmlformats.org/officeDocument/2006/relationships/slideLayout" Target="../slideLayouts/slideLayout176.xml"/><Relationship Id="rId39" Type="http://schemas.openxmlformats.org/officeDocument/2006/relationships/slideLayout" Target="../slideLayouts/slideLayout177.xml"/><Relationship Id="rId40" Type="http://schemas.openxmlformats.org/officeDocument/2006/relationships/slideLayout" Target="../slideLayouts/slideLayout178.xml"/><Relationship Id="rId41" Type="http://schemas.openxmlformats.org/officeDocument/2006/relationships/slideLayout" Target="../slideLayouts/slideLayout179.xml"/><Relationship Id="rId42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0384-B877-47DC-AE84-33088CCEF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10A2-7DA0-47A9-BFDF-785C8DBD4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825D-1F1C-4EF5-803E-534310A173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4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PlaceHolder 1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2AD1-49DC-4B01-AB08-D934BC7F1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9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dt" idx="3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ftr" idx="3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7E16-3464-4B9D-8C40-F560F3B7B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64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64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4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64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64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65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6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66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8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3ABE-6664-4DDC-B589-D823CB5F07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73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74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74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5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6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76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8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4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ftr" idx="4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sldNum" idx="4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E828-C92B-4B1B-9C87-BDDEC12387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1"/>
    <p:sldLayoutId id="2147483832" r:id="rId32"/>
    <p:sldLayoutId id="2147483833" r:id="rId33"/>
    <p:sldLayoutId id="2147483834" r:id="rId34"/>
    <p:sldLayoutId id="2147483835" r:id="rId35"/>
    <p:sldLayoutId id="2147483836" r:id="rId36"/>
    <p:sldLayoutId id="2147483837" r:id="rId37"/>
    <p:sldLayoutId id="2147483838" r:id="rId38"/>
    <p:sldLayoutId id="2147483839" r:id="rId39"/>
    <p:sldLayoutId id="2147483840" r:id="rId40"/>
    <p:sldLayoutId id="2147483841" r:id="rId41"/>
    <p:sldLayoutId id="2147483842" r:id="rId42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4659-BC62-4029-AE2D-9B79798203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7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9" name="PlaceHolder 1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874-9BC5-4539-875B-1FAE238845C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9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20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5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5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5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52EC-021D-42F8-B790-1390E716EC8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5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96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0" name="PlaceHolder 1"/>
          <p:cNvSpPr>
            <a:spLocks noGrp="1"/>
          </p:cNvSpPr>
          <p:nvPr>
            <p:ph type="dt" idx="5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ftr" idx="5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sldNum" idx="5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E9A7-42DD-4C28-B55E-9801A7B1A4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F7DB-B173-442C-A390-82ADBDF2B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8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8103-6901-45A6-9064-D81EAE218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44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015B-0C62-4ADB-B6BC-24E54B84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E738-D1EE-4748-BE11-F5C557EE9E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5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6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35AA-1F8A-4196-9AC9-0FE466893A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69CB-C517-4813-99FC-11201DF9B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6D9B-F8AD-4EDA-A2E7-BB06A8ABE2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1FD3-B30A-4A20-AA06-90BDA87136C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Задание 1.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На месте каких цифр должны стоять запятые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1818 года (1) после жестокой горячки (2) Пушкину обрили голову (3) и он носил пари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) нет запятых  б) 1,2,3  в) 1,2  г)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За обедом все повеселели (1) и кофе (2) по предложению Пушкина (3) пошли пить к нашей хозяй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1. Со врожденным польским легкомыслием (1) и кокетством желала она нравиться (2) и никто лучшее ее в том не успева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2. Село Михайловское находится верстах в пяти от Святогорского монастыря (1) и у здешних обитателей оно называется Зуевым (2) а чаще всего – Пушкины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3. Через калитку вы проходите в садик (1) и взор ваш (2) и чувства отдыхают (3) любуясь очаровательною картиною реки (4) озера (5) цепи холмов (6) и прибрежного лес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4. Нравственный подвиг жизни принадлежит не только каждому человеку (1) но и народам (2) и каждый человек и каждый народ решает его по-своему (3) выбирая для совершения его тот (4) или иной пу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. Природа вступит в вечные права свои (1) и вы услышите ее голос (2) заглушенный на время суетней (3) хлопотней (4) смехом (5) криком (6) и всей пошлостью человеческой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98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. Есть много родов образования и развития (1) и каждое из них важно само по себе (2) но всех их выше должно стоять образование нравственно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7. Нет ничего святее (1) и бескорыстнее любви матери (2) и всякая привязанность (3) всякая любовь (4) всякая страсть (5) или слаба (6) или своекорыстна в сравнении с нею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. Человек есть существо (1) ко всему привыкшее (2) и (3) я думаю (4) это самое лучшее определение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. Характер ее (1) мягкий (2) и любящий (3) покорный (4) и открытый для выбора (5) увлекал его (6) и он (7) сопоставляя себя с нею (8) находил себя гадким (9) некрасивым (10) сутуловатым горбун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гда была мода носить испанские плащи (1) и Пушкин ходил в таком плаще (2) закинув одну полу на плечо.  А) нет  б) 2  в) 1  г) 1,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. Но поэт (1) придя уже в полную ярость (2) не слушал своего светского собеседника (3) и (4) схватив лист бумаги (5) он что-то быстро чертил на нем (6) сердито поглядывая на Столыпина (7) и ломая карандаши один за други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1. Я тотчас списал с этих стихов (1) не выходя из комнаты Лермонтова (2) пять (3) или шесть копий (4) и друзья мои после написали еще изрядное количество копий (5) и дня через два (6) или три весь Петербург читал (7) и знал «дополнение к стихам Лермонтова на смерть Пушкина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2. С Лермонтовым мы встретились уже молодыми людьми (1) и (2) разумеется (3) школьные неудовольствия были забыты взаимно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 сожалению (1) Пушкин вскоре ушел из ложи (2) и более мне не удалось его увиде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А) нет  б) 1  в) 1,2  г)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обрались гости (1) явился Пушкин (2) и с первых же минут появления привел все общество в большое замешательство необыкновенною эксцентричностью своего костюм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т  б) 1  в) 1,2  г)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евский выхлопотал ему отпуск (1) и 4-го (2) или 5-го июня вместе с ними уехал он на Кавказ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нет  б) 1,2  в) 1  г)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обратном пути с Кавказа он как-то повредил себе ногу (1) и (2) рассказывают (3) это было поводом остановки путешественников в Юрзуф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1,2  б) нет  в) 1,3  г) 1,2,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Катерине Николаевне было в то время 23 года (1) а Пушкину 21 (2) и один этот возраст (3) по тогдашним строгим правилам о приличии (4) мог служить достаточным препятствием такому сближ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) 1.2,3  б) 1,2,3,4  в) 1,3  г) 1.2,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Мы переехали горы (1) и первый предмет (2) поразивший меня (3) была береза (4) северная береза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) 1.2.3.4  б) 1,3,4  в) 1,2  г) 2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5ffff"/>
                </a:solidFill>
                <a:latin typeface="Tahoma"/>
              </a:rPr>
              <a:t>Задание 2. </a:t>
            </a:r>
            <a:r>
              <a:rPr b="0" i="1" lang="en-US" sz="3200" spc="-1" strike="noStrike">
                <a:solidFill>
                  <a:srgbClr val="e5ffff"/>
                </a:solidFill>
                <a:latin typeface="Tahoma"/>
              </a:rPr>
              <a:t>Укажите правильную расстановку знаков препинан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. Через огороды (1) и плетни я вышел на простор (2) и передо мной открылась степь (3) пересекаемая тощей (4) болотистой речк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7:54:07Z</dcterms:created>
  <dc:creator>Hfcekm</dc:creator>
  <dc:description/>
  <dc:language>en-US</dc:language>
  <cp:lastModifiedBy>Hfcekm</cp:lastModifiedBy>
  <dcterms:modified xsi:type="dcterms:W3CDTF">2009-12-21T18:33:27Z</dcterms:modified>
  <cp:revision>2</cp:revision>
  <dc:subject/>
  <dc:title>Задание 1. На месте каких цифр должны стоять запятые?  С 1818 года (1) после жестокой горячки (2) Пушкину обрили голову (3) и он носил парик.   А) нет запятых  б) 1,2,3  в) 1,2  г) 3 </dc:title>
</cp:coreProperties>
</file>