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7.wmf" ContentType="image/x-wmf"/>
  <Override PartName="/ppt/media/image16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9.png" ContentType="image/png"/>
  <Override PartName="/ppt/media/image21.png" ContentType="image/png"/>
  <Override PartName="/ppt/media/image15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A85-477C-4C21-9B58-C548FA37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EB6-8E02-4AEA-BC2D-A9DDAB0E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090-5C79-438A-BDD6-6C96CB28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B43-EF1A-429C-A1BD-A768D2B5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6D99-6661-419E-8D58-A2C3E292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5692-CD3E-46ED-B8A3-83F7EF95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405C-0FFA-497C-B73A-9520B6DB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C85A-F3C8-4935-A405-4305116D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DBDE-78AE-4E5B-827E-7F4E507D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3ED6-394B-4307-A042-6D2DCFE5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B6F2-982A-40CB-83BE-5FA461A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DDC-4FE2-4C60-9C65-380B9182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9BD1-F23D-4122-9583-EF69747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5028-C5BB-4767-80CC-6966736F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C22A-164C-4210-B866-BD8B0506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3E63-9BFE-4ECA-A08A-199444F3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5C8D-30AA-4590-9631-BA83577F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8739-410B-4E75-8770-81A4EB12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3590-827B-4777-9303-C097FCA9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2076-73B5-4D73-A014-78C5C841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1C22-CB75-41AD-9D7B-EB7D50BD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97D0-4F6C-4DBB-AA66-EF654415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2BE-A4A6-40A9-BCE8-840E3802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2EAB-2EE7-4A9B-8ADB-213705A2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2055-B82A-4BF4-97C9-3002D3B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A24B-9592-4904-A3BF-5A8FFB6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CAD9F-5263-4421-8471-D3295838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99A5F-0032-4DDB-9361-ED1732B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C0EC-6716-4C66-B619-A6BDCF3B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7F09-4ADC-429D-9386-4A206C5E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9DE-C12C-41E1-9C57-811F0AE6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E07-8594-49E3-9658-1FEF8F3A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B56-B151-4662-8EE0-A7A364D4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860-7B62-4050-8321-8B9EE70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BDB-7579-4688-B267-10C38BB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6B1-A21A-4B5E-B88D-86711E3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9A9D-FB63-4F11-81D6-9E0AF3CA2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14D6-9DA3-46F1-9AE8-FCC451FF45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7ECC-AA5B-4EE8-8AEA-0352330F8C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Times New Roman"/>
              </a:rPr>
              <a:t>Родительское собрание </a:t>
            </a:r>
            <a:br>
              <a:rPr sz="2900"/>
            </a:br>
            <a:r>
              <a:rPr b="1" lang="ru-RU" sz="2900" spc="-1" strike="noStrike">
                <a:solidFill>
                  <a:srgbClr val="ffff00"/>
                </a:solidFill>
                <a:latin typeface="Times New Roman"/>
              </a:rPr>
              <a:t>во 2 классе 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Оценка и отметк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в современной школ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Шадринцева О.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«3»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2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http://school31.centerstart.ru/sites/default/files/u14/schoolvector.jpg"/>
          <p:cNvPicPr/>
          <p:nvPr/>
        </p:nvPicPr>
        <p:blipFill>
          <a:blip r:embed="rId1"/>
          <a:stretch/>
        </p:blipFill>
        <p:spPr>
          <a:xfrm>
            <a:off x="5181480" y="3693960"/>
            <a:ext cx="3581640" cy="301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Глобус"/>
          <p:cNvPicPr/>
          <p:nvPr/>
        </p:nvPicPr>
        <p:blipFill>
          <a:blip r:embed="rId2"/>
          <a:stretch/>
        </p:blipFill>
        <p:spPr>
          <a:xfrm>
            <a:off x="0" y="12193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работа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3-5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http://boombob.ru/img/picture/Oct/15/765a592afb7f63120d0f61dc9f10772a/4.jpg"/>
          <p:cNvPicPr/>
          <p:nvPr/>
        </p:nvPicPr>
        <p:blipFill>
          <a:blip r:embed="rId1"/>
          <a:stretch/>
        </p:blipFill>
        <p:spPr>
          <a:xfrm>
            <a:off x="4495680" y="2930400"/>
            <a:ext cx="4191120" cy="354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Глобус"/>
          <p:cNvPicPr/>
          <p:nvPr/>
        </p:nvPicPr>
        <p:blipFill>
          <a:blip r:embed="rId2"/>
          <a:stretch/>
        </p:blipFill>
        <p:spPr>
          <a:xfrm>
            <a:off x="0" y="12193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96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нтро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безошибочно выполнены все 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выполнено правильно не менее 3/4 всех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выполнено не менее ½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ученик не справился с большинством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Глобус"/>
          <p:cNvPicPr/>
          <p:nvPr/>
        </p:nvPicPr>
        <p:blipFill>
          <a:blip r:embed="rId1"/>
          <a:stretch/>
        </p:blipFill>
        <p:spPr>
          <a:xfrm>
            <a:off x="0" y="114300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img-fotki.yandex.ru/get/6407/47407354.705/0_eac24_c1cf53e2_orig.png"/>
          <p:cNvPicPr/>
          <p:nvPr/>
        </p:nvPicPr>
        <p:blipFill>
          <a:blip r:embed="rId2"/>
          <a:stretch/>
        </p:blipFill>
        <p:spPr>
          <a:xfrm>
            <a:off x="5826240" y="4419720"/>
            <a:ext cx="33177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исьменная р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держащая только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вся работа выполнена безошибочно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и нет исправл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допущены 1-2 вычислительные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допущены 3-4 вычислительные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допущены 5 и более вычислительных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inwriter.ru/wp-content/uploads/2015/01/detskaya-sektsiya-isp.jpg"/>
          <p:cNvPicPr/>
          <p:nvPr/>
        </p:nvPicPr>
        <p:blipFill>
          <a:blip r:embed="rId1"/>
          <a:stretch/>
        </p:blipFill>
        <p:spPr>
          <a:xfrm>
            <a:off x="6629400" y="5105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Глобус"/>
          <p:cNvPicPr/>
          <p:nvPr/>
        </p:nvPicPr>
        <p:blipFill>
          <a:blip r:embed="rId2"/>
          <a:stretch/>
        </p:blipFill>
        <p:spPr>
          <a:xfrm>
            <a:off x="7772400" y="12193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исьменная работа, содержащая только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все задачи решены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нет ошибок в ходе решения задач, но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хотя бы одна ошибка в ходе решения задачи и 1 вычислительная ошибка или если вычислительных ошибок нет, но не решена 1 за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допущена ошибка в ходе решения 2-х задач или допущена ошибка в ходе решения задачи и 2 вычислительные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(1 задача, примеры и задание другого в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- допущены ошибки в ходе решения задачи при правильном выполнении всех заданий или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- допущена ошибка в ходе решения задачи и хотя бы одна вычислительная ошибка или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http://svob-school-one.ucoz.ru/_tbkp/portfel.png"/>
          <p:cNvPicPr/>
          <p:nvPr/>
        </p:nvPicPr>
        <p:blipFill>
          <a:blip r:embed="rId1"/>
          <a:stretch/>
        </p:blipFill>
        <p:spPr>
          <a:xfrm>
            <a:off x="6134040" y="525780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Глобус"/>
          <p:cNvPicPr/>
          <p:nvPr/>
        </p:nvPicPr>
        <p:blipFill>
          <a:blip r:embed="rId2"/>
          <a:stretch/>
        </p:blipFill>
        <p:spPr>
          <a:xfrm>
            <a:off x="7772400" y="137160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d135"/>
                </a:solidFill>
                <a:latin typeface="Times New Roman"/>
              </a:rPr>
              <a:t>«3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tp://img-fotki.yandex.ru/get/6407/47407354.705/0_eac24_c1cf53e2_orig.png"/>
          <p:cNvPicPr/>
          <p:nvPr/>
        </p:nvPicPr>
        <p:blipFill>
          <a:blip r:embed="rId1"/>
          <a:stretch/>
        </p:blipFill>
        <p:spPr>
          <a:xfrm>
            <a:off x="5369040" y="4191120"/>
            <a:ext cx="3774960" cy="2514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Глобус"/>
          <p:cNvPicPr/>
          <p:nvPr/>
        </p:nvPicPr>
        <p:blipFill>
          <a:blip r:embed="rId2"/>
          <a:stretch/>
        </p:blipFill>
        <p:spPr>
          <a:xfrm>
            <a:off x="7772400" y="12193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выки чт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«5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Чтение чёткое, целыми словами, не менее 50 слов в мин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Выразительно, соблюдая знаки препин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Полные ответы на вопросы по содерж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Темп – более 40 слов в минуту целыми слов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Соблюдает нужную интонацию и пауз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Верно передаёт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Правильно читает по слогам менее 40 слов в мин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Передаёт содержание с помощью вопросов учите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Не выполняет требований, установленных для отметки «3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https://ds03.infourok.ru/uploads/ex/021c/0002731b-bb34e716/hello_html_60336b23.jpg"/>
          <p:cNvPicPr/>
          <p:nvPr/>
        </p:nvPicPr>
        <p:blipFill>
          <a:blip r:embed="rId1"/>
          <a:stretch/>
        </p:blipFill>
        <p:spPr>
          <a:xfrm>
            <a:off x="6118200" y="2362320"/>
            <a:ext cx="3025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Times New Roman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Times New Roman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bol-osinovka.umi.ru/images/cms/data/uchenikam-roditelyam.jpg"/>
          <p:cNvPicPr/>
          <p:nvPr/>
        </p:nvPicPr>
        <p:blipFill>
          <a:blip r:embed="rId1"/>
          <a:stretch/>
        </p:blipFill>
        <p:spPr>
          <a:xfrm>
            <a:off x="3581280" y="2590920"/>
            <a:ext cx="2286000" cy="2085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://f4.mylove.ru/CGQwZB2NtI.jpg"/>
          <p:cNvPicPr/>
          <p:nvPr/>
        </p:nvPicPr>
        <p:blipFill>
          <a:blip r:embed="rId2"/>
          <a:stretch/>
        </p:blipFill>
        <p:spPr>
          <a:xfrm>
            <a:off x="838080" y="2590920"/>
            <a:ext cx="2100240" cy="1992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http://static8.depositphotos.com/1292351/805/v/950/depositphotos_8055197-Cartoon-of-Dad-scolding-his-son.jpg"/>
          <p:cNvPicPr/>
          <p:nvPr/>
        </p:nvPicPr>
        <p:blipFill>
          <a:blip r:embed="rId3"/>
          <a:stretch/>
        </p:blipFill>
        <p:spPr>
          <a:xfrm>
            <a:off x="6629400" y="2286000"/>
            <a:ext cx="160488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ое собрание</a:t>
            </a:r>
            <a:br>
              <a:rPr sz="48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6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Оценка. Отм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и оценки. Как к ней относ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Как помочь ребёнку в выполнении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Раз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лобус"/>
          <p:cNvPicPr/>
          <p:nvPr/>
        </p:nvPicPr>
        <p:blipFill>
          <a:blip r:embed="rId1"/>
          <a:stretch/>
        </p:blipFill>
        <p:spPr>
          <a:xfrm>
            <a:off x="3962520" y="53341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Сочувствуйте своему ребёнку, если он долго трудился, но результат его труда не выс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знания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, которые он сможет  приобрести в результате                   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boombob.ru/img/picture/Oct/15/765a592afb7f63120d0f61dc9f10772a/4.jpg"/>
          <p:cNvPicPr/>
          <p:nvPr/>
        </p:nvPicPr>
        <p:blipFill>
          <a:blip r:embed="rId1"/>
          <a:stretch/>
        </p:blipFill>
        <p:spPr>
          <a:xfrm>
            <a:off x="5715000" y="4038480"/>
            <a:ext cx="325584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5105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http://sch626uz.mskobr.ru/users_files/anna13/images/1380549224general_pages_02_September_2013_i2309_den_znanii%281%29.png"/>
          <p:cNvPicPr/>
          <p:nvPr/>
        </p:nvPicPr>
        <p:blipFill>
          <a:blip r:embed="rId1"/>
          <a:stretch/>
        </p:blipFill>
        <p:spPr>
          <a:xfrm>
            <a:off x="4572000" y="1066680"/>
            <a:ext cx="443376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икогда не выражайте сомнений по поводу объективности выставленной вашему                  ребёнку оценки всл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Есть сомнения - идите в школу (к учителю) и попытайтесь объективно разобраться в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Не обвиняйте беспричинно других              взрослых и  одноклассников в                   проблемах собственного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j0336396"/>
          <p:cNvPicPr/>
          <p:nvPr/>
        </p:nvPicPr>
        <p:blipFill>
          <a:blip r:embed="rId1"/>
          <a:stretch/>
        </p:blipFill>
        <p:spPr>
          <a:xfrm>
            <a:off x="8077320" y="1828800"/>
            <a:ext cx="927000" cy="85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3962520"/>
            <a:ext cx="7812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1ea0"/>
                </a:solidFill>
                <a:latin typeface="Times New Roman"/>
              </a:rPr>
              <a:t>Демонстрируйте положительные результаты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Times New Roman"/>
              </a:rPr>
              <a:t>своего труда</a:t>
            </a:r>
            <a:r>
              <a:rPr b="1" lang="ru-RU" sz="3200" spc="-1" strike="noStrike">
                <a:solidFill>
                  <a:srgbClr val="e81ea0"/>
                </a:solidFill>
                <a:latin typeface="Times New Roman"/>
              </a:rPr>
              <a:t>, чтобы ребёнку хотелось вам под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http://stoppav.ru/images/gallery/News/06-2016/post-215185-1312663051.jpg"/>
          <p:cNvPicPr/>
          <p:nvPr/>
        </p:nvPicPr>
        <p:blipFill>
          <a:blip r:embed="rId1"/>
          <a:stretch/>
        </p:blipFill>
        <p:spPr>
          <a:xfrm>
            <a:off x="2286000" y="4343400"/>
            <a:ext cx="419112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81ea0"/>
                </a:solidFill>
                <a:latin typeface="Times New Roman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81ea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e81ea0"/>
                </a:solidFill>
                <a:latin typeface="Times New Roman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Хорошее, как и плохое, запоминается ребёнком надолго и его хочется    повтор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усть ребёнок получает хорошую  отметку ради того, чтобы его             отметили. Вскоре это                                  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http://clipartfantasy.altervista.org/Images15/fd_01899.gif"/>
          <p:cNvPicPr/>
          <p:nvPr/>
        </p:nvPicPr>
        <p:blipFill>
          <a:blip r:embed="rId1"/>
          <a:stretch/>
        </p:blipFill>
        <p:spPr>
          <a:xfrm>
            <a:off x="5562720" y="4495680"/>
            <a:ext cx="336204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http://bol-osinovka.umi.ru/images/cms/data/uchenikam-roditelyam.jpg"/>
          <p:cNvPicPr/>
          <p:nvPr/>
        </p:nvPicPr>
        <p:blipFill>
          <a:blip r:embed="rId1"/>
          <a:stretch/>
        </p:blipFill>
        <p:spPr>
          <a:xfrm>
            <a:off x="3581280" y="304920"/>
            <a:ext cx="25909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52280" y="1219320"/>
            <a:ext cx="2971080" cy="3730320"/>
            <a:chOff x="152280" y="1219320"/>
            <a:chExt cx="2971080" cy="3730320"/>
          </a:xfrm>
        </p:grpSpPr>
        <p:sp>
          <p:nvSpPr>
            <p:cNvPr id="221" name="AutoShape 4"/>
            <p:cNvSpPr/>
            <p:nvPr/>
          </p:nvSpPr>
          <p:spPr>
            <a:xfrm>
              <a:off x="152280" y="150372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198000" y="151128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>
              <a:off x="221760" y="341892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221760" y="153180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160920" y="414540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221760" y="431424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10"/>
            <p:cNvGrpSpPr/>
            <p:nvPr/>
          </p:nvGrpSpPr>
          <p:grpSpPr>
            <a:xfrm>
              <a:off x="1171440" y="1219320"/>
              <a:ext cx="880200" cy="594360"/>
              <a:chOff x="1171440" y="1219320"/>
              <a:chExt cx="880200" cy="594360"/>
            </a:xfrm>
          </p:grpSpPr>
          <p:sp>
            <p:nvSpPr>
              <p:cNvPr id="228" name="Oval 11"/>
              <p:cNvSpPr/>
              <p:nvPr/>
            </p:nvSpPr>
            <p:spPr>
              <a:xfrm>
                <a:off x="1171440" y="121932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12"/>
              <p:cNvSpPr/>
              <p:nvPr/>
            </p:nvSpPr>
            <p:spPr>
              <a:xfrm>
                <a:off x="1180440" y="122364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13"/>
              <p:cNvSpPr/>
              <p:nvPr/>
            </p:nvSpPr>
            <p:spPr>
              <a:xfrm>
                <a:off x="1190880" y="122724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4"/>
              <p:cNvSpPr/>
              <p:nvPr/>
            </p:nvSpPr>
            <p:spPr>
              <a:xfrm>
                <a:off x="1200240" y="123264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15"/>
              <p:cNvSpPr/>
              <p:nvPr/>
            </p:nvSpPr>
            <p:spPr>
              <a:xfrm>
                <a:off x="1246320" y="124668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16"/>
            <p:cNvSpPr/>
            <p:nvPr/>
          </p:nvSpPr>
          <p:spPr>
            <a:xfrm>
              <a:off x="1428120" y="130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256680" y="192384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8"/>
          <p:cNvGrpSpPr/>
          <p:nvPr/>
        </p:nvGrpSpPr>
        <p:grpSpPr>
          <a:xfrm>
            <a:off x="3200400" y="2133720"/>
            <a:ext cx="2590560" cy="3806280"/>
            <a:chOff x="3200400" y="2133720"/>
            <a:chExt cx="2590560" cy="3806280"/>
          </a:xfrm>
        </p:grpSpPr>
        <p:sp>
          <p:nvSpPr>
            <p:cNvPr id="236" name="AutoShape 19"/>
            <p:cNvSpPr/>
            <p:nvPr/>
          </p:nvSpPr>
          <p:spPr>
            <a:xfrm>
              <a:off x="3200400" y="242388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40000" y="243180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21"/>
            <p:cNvSpPr/>
            <p:nvPr/>
          </p:nvSpPr>
          <p:spPr>
            <a:xfrm>
              <a:off x="3260880" y="437832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2"/>
            <p:cNvSpPr/>
            <p:nvPr/>
          </p:nvSpPr>
          <p:spPr>
            <a:xfrm>
              <a:off x="3260880" y="245232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3"/>
            <p:cNvSpPr/>
            <p:nvPr/>
          </p:nvSpPr>
          <p:spPr>
            <a:xfrm>
              <a:off x="4090320" y="213372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4097520" y="213804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>
              <a:off x="4107600" y="214092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4114800" y="214704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4156560" y="216216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4291920" y="2220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9"/>
            <p:cNvSpPr/>
            <p:nvPr/>
          </p:nvSpPr>
          <p:spPr>
            <a:xfrm>
              <a:off x="3291120" y="285228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30"/>
            <p:cNvSpPr/>
            <p:nvPr/>
          </p:nvSpPr>
          <p:spPr>
            <a:xfrm>
              <a:off x="3203640" y="511956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1"/>
            <p:cNvSpPr/>
            <p:nvPr/>
          </p:nvSpPr>
          <p:spPr>
            <a:xfrm>
              <a:off x="3256920" y="514188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2"/>
          <p:cNvGrpSpPr/>
          <p:nvPr/>
        </p:nvGrpSpPr>
        <p:grpSpPr>
          <a:xfrm>
            <a:off x="5867280" y="3124080"/>
            <a:ext cx="2742840" cy="4035600"/>
            <a:chOff x="5867280" y="3124080"/>
            <a:chExt cx="2742840" cy="4035600"/>
          </a:xfrm>
        </p:grpSpPr>
        <p:sp>
          <p:nvSpPr>
            <p:cNvPr id="250" name="AutoShape 33"/>
            <p:cNvSpPr/>
            <p:nvPr/>
          </p:nvSpPr>
          <p:spPr>
            <a:xfrm>
              <a:off x="5874840" y="343188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34"/>
            <p:cNvSpPr/>
            <p:nvPr/>
          </p:nvSpPr>
          <p:spPr>
            <a:xfrm>
              <a:off x="5917320" y="335268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35"/>
            <p:cNvSpPr/>
            <p:nvPr/>
          </p:nvSpPr>
          <p:spPr>
            <a:xfrm>
              <a:off x="5938920" y="550368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36"/>
            <p:cNvSpPr/>
            <p:nvPr/>
          </p:nvSpPr>
          <p:spPr>
            <a:xfrm>
              <a:off x="5938920" y="346212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37"/>
            <p:cNvGrpSpPr/>
            <p:nvPr/>
          </p:nvGrpSpPr>
          <p:grpSpPr>
            <a:xfrm>
              <a:off x="6815880" y="3124080"/>
              <a:ext cx="812520" cy="642960"/>
              <a:chOff x="6815880" y="3124080"/>
              <a:chExt cx="812520" cy="642960"/>
            </a:xfrm>
          </p:grpSpPr>
          <p:sp>
            <p:nvSpPr>
              <p:cNvPr id="255" name="Oval 38"/>
              <p:cNvSpPr/>
              <p:nvPr/>
            </p:nvSpPr>
            <p:spPr>
              <a:xfrm>
                <a:off x="6815880" y="312408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39"/>
              <p:cNvSpPr/>
              <p:nvPr/>
            </p:nvSpPr>
            <p:spPr>
              <a:xfrm>
                <a:off x="6824160" y="312876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0"/>
              <p:cNvSpPr/>
              <p:nvPr/>
            </p:nvSpPr>
            <p:spPr>
              <a:xfrm>
                <a:off x="6833880" y="313272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1"/>
              <p:cNvSpPr/>
              <p:nvPr/>
            </p:nvSpPr>
            <p:spPr>
              <a:xfrm>
                <a:off x="6842520" y="313848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42"/>
              <p:cNvSpPr/>
              <p:nvPr/>
            </p:nvSpPr>
            <p:spPr>
              <a:xfrm>
                <a:off x="6885000" y="315396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43"/>
            <p:cNvSpPr/>
            <p:nvPr/>
          </p:nvSpPr>
          <p:spPr>
            <a:xfrm>
              <a:off x="7039080" y="3216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4"/>
            <p:cNvSpPr/>
            <p:nvPr/>
          </p:nvSpPr>
          <p:spPr>
            <a:xfrm>
              <a:off x="5971320" y="388620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5"/>
            <p:cNvSpPr/>
            <p:nvPr/>
          </p:nvSpPr>
          <p:spPr>
            <a:xfrm>
              <a:off x="5867280" y="628956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6"/>
            <p:cNvSpPr/>
            <p:nvPr/>
          </p:nvSpPr>
          <p:spPr>
            <a:xfrm>
              <a:off x="5923080" y="631332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Прямоугольник 46"/>
          <p:cNvSpPr/>
          <p:nvPr/>
        </p:nvSpPr>
        <p:spPr>
          <a:xfrm>
            <a:off x="304920" y="16765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мешивай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выполнение домашн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7"/>
          <p:cNvSpPr/>
          <p:nvPr/>
        </p:nvSpPr>
        <p:spPr>
          <a:xfrm>
            <a:off x="3505320" y="2743200"/>
            <a:ext cx="213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8"/>
          <p:cNvSpPr/>
          <p:nvPr/>
        </p:nvSpPr>
        <p:spPr>
          <a:xfrm>
            <a:off x="5943600" y="373392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мере о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й, постепенно передав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http://img-fotki.yandex.ru/get/6407/47407354.705/0_eac24_c1cf53e2_orig.png"/>
          <p:cNvPicPr/>
          <p:nvPr/>
        </p:nvPicPr>
        <p:blipFill>
          <a:blip r:embed="rId1"/>
          <a:stretch/>
        </p:blipFill>
        <p:spPr>
          <a:xfrm>
            <a:off x="228600" y="4191120"/>
            <a:ext cx="3774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Ребенок должен готовить домашнее задание </a:t>
            </a:r>
            <a:r>
              <a:rPr b="1" lang="ru-RU" sz="2400" spc="-1" strike="noStrike" u="sng">
                <a:solidFill>
                  <a:srgbClr val="0a0aff"/>
                </a:solidFill>
                <a:uFillTx/>
                <a:latin typeface="Times New Roman"/>
              </a:rPr>
              <a:t>самостоятельно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, 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e81ea0"/>
                </a:solidFill>
                <a:uFillTx/>
                <a:latin typeface="Times New Roman"/>
              </a:rPr>
              <a:t>Выясните</a:t>
            </a:r>
            <a:r>
              <a:rPr b="1" lang="ru-RU" sz="2400" spc="-1" strike="noStrike">
                <a:solidFill>
                  <a:srgbClr val="e81ea0"/>
                </a:solidFill>
                <a:latin typeface="Times New Roman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aa024"/>
                </a:solidFill>
                <a:uFillTx/>
                <a:latin typeface="Times New Roman"/>
              </a:rPr>
              <a:t>Настройте</a:t>
            </a:r>
            <a:r>
              <a:rPr b="1" lang="ru-RU" sz="2400" spc="-1" strike="noStrike">
                <a:solidFill>
                  <a:srgbClr val="4aa024"/>
                </a:solidFill>
                <a:latin typeface="Times New Roman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итм выполнения домашнего задания индивидуален для каждого ребёнка. Следует не торопиться, но и не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р19"/>
          <p:cNvPicPr/>
          <p:nvPr/>
        </p:nvPicPr>
        <p:blipFill>
          <a:blip r:embed="rId1"/>
          <a:stretch/>
        </p:blipFill>
        <p:spPr>
          <a:xfrm>
            <a:off x="6781680" y="4724280"/>
            <a:ext cx="19051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2189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http://inwriter.ru/wp-content/uploads/2015/01/detskaya-sektsiya-isp.jpg"/>
          <p:cNvPicPr/>
          <p:nvPr/>
        </p:nvPicPr>
        <p:blipFill>
          <a:blip r:embed="rId1"/>
          <a:stretch/>
        </p:blipFill>
        <p:spPr>
          <a:xfrm>
            <a:off x="5791320" y="4800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480" y="159984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Научить ре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учиться,  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тья 52   «Закон об образован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j0088510"/>
          <p:cNvPicPr/>
          <p:nvPr/>
        </p:nvPicPr>
        <p:blipFill>
          <a:blip r:embed="rId1"/>
          <a:stretch/>
        </p:blipFill>
        <p:spPr>
          <a:xfrm>
            <a:off x="5791320" y="3681360"/>
            <a:ext cx="323352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Глобус"/>
          <p:cNvPicPr/>
          <p:nvPr/>
        </p:nvPicPr>
        <p:blipFill>
          <a:blip r:embed="rId1"/>
          <a:stretch/>
        </p:blipFill>
        <p:spPr>
          <a:xfrm>
            <a:off x="228600" y="480060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2"/>
          <a:stretch/>
        </p:blipFill>
        <p:spPr>
          <a:xfrm>
            <a:off x="987480" y="1255680"/>
            <a:ext cx="80103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2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WordArt 4" descr=""/>
          <p:cNvPicPr/>
          <p:nvPr/>
        </p:nvPicPr>
        <p:blipFill>
          <a:blip r:embed="rId1"/>
          <a:stretch/>
        </p:blipFill>
        <p:spPr>
          <a:xfrm>
            <a:off x="907920" y="1517760"/>
            <a:ext cx="73281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 rot="20901000">
            <a:off x="738000" y="1842840"/>
            <a:ext cx="7637400" cy="24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то сделаете вы, если увидите у ребёнка отметку «5»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1920" y="2514600"/>
            <a:ext cx="4038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Неправи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Буду 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хвалю, дам определённое количество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426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a0aff"/>
                </a:solidFill>
                <a:uFillTx/>
                <a:latin typeface="Times New Roman"/>
              </a:rPr>
              <a:t>Прави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радуюсь вместе с ребён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хвалю, скажу, что горжусь 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Глобус"/>
          <p:cNvPicPr/>
          <p:nvPr/>
        </p:nvPicPr>
        <p:blipFill>
          <a:blip r:embed="rId1"/>
          <a:stretch/>
        </p:blipFill>
        <p:spPr>
          <a:xfrm>
            <a:off x="3962520" y="53341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то сделаете вы , если увидите у ребёнка отметку «2»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тругаю, застав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ниматься дополн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прошу: «Почему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ругаю, Нака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виню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90760" y="11426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a0aff"/>
                </a:solidFill>
                <a:uFillTx/>
                <a:latin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анимаюсь дополн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ребё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могу разобраться, объясню, за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анализируем вместе с ребёнком пр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покою, чтоб не расстраив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лобус"/>
          <p:cNvPicPr/>
          <p:nvPr/>
        </p:nvPicPr>
        <p:blipFill>
          <a:blip r:embed="rId1"/>
          <a:stretch/>
        </p:blipFill>
        <p:spPr>
          <a:xfrm>
            <a:off x="3886200" y="53341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0" y="228240"/>
            <a:ext cx="4191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 что надо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вить «5»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</a:rPr>
              <a:t>Неправи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рание, желание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отовность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Хороше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онимание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57800" y="3047760"/>
            <a:ext cx="3581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a0aff"/>
                </a:solidFill>
                <a:uFillTx/>
                <a:latin typeface="Times New Roman"/>
              </a:rPr>
              <a:t>Прави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езошибочный правильный полный 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ккура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Глобус"/>
          <p:cNvPicPr/>
          <p:nvPr/>
        </p:nvPicPr>
        <p:blipFill>
          <a:blip r:embed="rId1"/>
          <a:stretch/>
        </p:blipFill>
        <p:spPr>
          <a:xfrm>
            <a:off x="3962520" y="53341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 что надо ставить «2»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286000" y="167652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Невыполненн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Не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За много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Не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Если и не пытался что-то 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Глобус"/>
          <p:cNvPicPr/>
          <p:nvPr/>
        </p:nvPicPr>
        <p:blipFill>
          <a:blip r:embed="rId1"/>
          <a:stretch/>
        </p:blipFill>
        <p:spPr>
          <a:xfrm>
            <a:off x="3886200" y="53341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ритерии оце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лобус"/>
          <p:cNvPicPr/>
          <p:nvPr/>
        </p:nvPicPr>
        <p:blipFill>
          <a:blip r:embed="rId1"/>
          <a:stretch/>
        </p:blipFill>
        <p:spPr>
          <a:xfrm>
            <a:off x="0" y="1066680"/>
            <a:ext cx="1238400" cy="152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://images.easyfreeclipart.com/161/school-board-clip-art-free-cliparts-that-you-can-download-to--161097.png"/>
          <p:cNvPicPr/>
          <p:nvPr/>
        </p:nvPicPr>
        <p:blipFill>
          <a:blip r:embed="rId2"/>
          <a:stretch/>
        </p:blipFill>
        <p:spPr>
          <a:xfrm>
            <a:off x="6019920" y="1828800"/>
            <a:ext cx="3124080" cy="2282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http://tomuz.ru/uploads/images/l/a/v/lavanda_shkola_vesti_zvuk_vetra_20160312_vospitanie_i_vskarmlivanie.jpg"/>
          <p:cNvPicPr/>
          <p:nvPr/>
        </p:nvPicPr>
        <p:blipFill>
          <a:blip r:embed="rId3"/>
          <a:stretch/>
        </p:blipFill>
        <p:spPr>
          <a:xfrm>
            <a:off x="5448240" y="4800600"/>
            <a:ext cx="38750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рфографическ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http://school18.info/images/deti.png"/>
          <p:cNvPicPr/>
          <p:nvPr/>
        </p:nvPicPr>
        <p:blipFill>
          <a:blip r:embed="rId1"/>
          <a:stretch/>
        </p:blipFill>
        <p:spPr>
          <a:xfrm>
            <a:off x="6019920" y="4284720"/>
            <a:ext cx="2933640" cy="257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Глобус"/>
          <p:cNvPicPr/>
          <p:nvPr/>
        </p:nvPicPr>
        <p:blipFill>
          <a:blip r:embed="rId2"/>
          <a:stretch/>
        </p:blipFill>
        <p:spPr>
          <a:xfrm>
            <a:off x="7772400" y="1295280"/>
            <a:ext cx="1238400" cy="15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USER</cp:lastModifiedBy>
  <dcterms:modified xsi:type="dcterms:W3CDTF">2017-01-09T07:16:16Z</dcterms:modified>
  <cp:revision>107</cp:revision>
  <dc:subject/>
  <dc:title>PowerPoint Template</dc:title>
</cp:coreProperties>
</file>