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7.wmf" ContentType="image/x-wmf"/>
  <Override PartName="/ppt/media/image16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23.png" ContentType="image/png"/>
  <Override PartName="/ppt/media/image20.gif" ContentType="image/gif"/>
  <Override PartName="/ppt/media/image18.jpeg" ContentType="image/jpeg"/>
  <Override PartName="/ppt/media/image19.png" ContentType="image/png"/>
  <Override PartName="/ppt/media/image21.png" ContentType="image/png"/>
  <Override PartName="/ppt/media/image15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331D-DF56-4F11-A465-7941AC67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1A6-A049-4900-AD68-F93B40AD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6C8-72AF-43E7-93C9-B984D80F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1F7-8735-49F2-A7AA-987FF8BDB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ED89-F07D-4FF9-803E-3667EB5B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6E74F-4723-49F2-B2E0-A96ECFF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E78B-A871-42FD-A846-01361CD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3F58-1E5C-4859-A6DB-0C4A803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C470-BB0A-4F62-B8A6-83291A03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D728-F1BB-4F93-AA33-2778645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E8D8-3947-4749-BA9E-7328DA1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E37-A123-4F47-AB2A-3F11BC80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8C2F-8235-45D7-932E-DB99A8CC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5502-7887-4BB3-833D-232721F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B5E-020A-482D-9BA4-7A0E756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0B09-8E91-45A0-A8C6-6B40B15C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3E59-7E46-48AA-BB05-96E71389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384BB-BD0D-4D7A-B068-3859064C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27AF-9D3C-45E5-BA18-4D487AFB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A828C-F50C-4159-862F-0E98884E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0C9B5-E9D9-4D03-BFE1-9CFF9158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32E69-1A5C-45B7-89CE-57687FEE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202-5B42-455C-8862-D0D1112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02C9C-1333-4B5E-8EC8-707856C5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246B-32C0-448C-A76D-B00A4CBE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70085-26AF-4CC2-B4BD-3D6CB608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DF95F-B085-4C87-8AFB-C25E5E6E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707BD-D56A-44F3-99D6-16CE8C0F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212E-9A68-4270-8C8A-D0D9A122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88584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46105-7839-4B7D-BF19-BBECF868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218-F084-4CFD-90D1-4DC9FBD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776D-9C14-4B59-BF16-7DBAA7D1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520" y="3045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8B2C-28AA-4BAE-9E78-9D6A039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D82B-5F34-407C-B8F9-79722E2F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8584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D6C-2E82-45B6-992B-E89EAD50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520" y="21960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8584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986-E448-4177-AF4D-E93F6B33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112F-3728-4DAD-9A42-63F8F207F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3"/>
          <p:cNvSpPr/>
          <p:nvPr/>
        </p:nvSpPr>
        <p:spPr>
          <a:xfrm flipV="1">
            <a:off x="0" y="3002400"/>
            <a:ext cx="9144000" cy="77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16"/>
          <p:cNvGrpSpPr/>
          <p:nvPr/>
        </p:nvGrpSpPr>
        <p:grpSpPr>
          <a:xfrm>
            <a:off x="4038480" y="5691240"/>
            <a:ext cx="1079640" cy="635760"/>
            <a:chOff x="4038480" y="5691240"/>
            <a:chExt cx="1079640" cy="635760"/>
          </a:xfrm>
        </p:grpSpPr>
        <p:sp>
          <p:nvSpPr>
            <p:cNvPr id="46" name="Text Box 14"/>
            <p:cNvSpPr/>
            <p:nvPr/>
          </p:nvSpPr>
          <p:spPr>
            <a:xfrm>
              <a:off x="4038480" y="586728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/>
            <p:cNvSpPr/>
            <p:nvPr/>
          </p:nvSpPr>
          <p:spPr>
            <a:xfrm rot="5400000">
              <a:off x="4432320" y="539748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ecce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2B60-5025-425F-AC9E-BF6AD1D2E5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44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4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45"/>
          <p:cNvSpPr/>
          <p:nvPr/>
        </p:nvSpPr>
        <p:spPr>
          <a:xfrm>
            <a:off x="0" y="990720"/>
            <a:ext cx="9144000" cy="120600"/>
          </a:xfrm>
          <a:prstGeom prst="rect">
            <a:avLst/>
          </a:prstGeom>
          <a:gradFill rotWithShape="0">
            <a:gsLst>
              <a:gs pos="0">
                <a:srgbClr val="ecce4c"/>
              </a:gs>
              <a:gs pos="50000">
                <a:srgbClr val="f6e7a8"/>
              </a:gs>
              <a:gs pos="100000">
                <a:srgbClr val="ecce4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d13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ecc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00B1-F6F5-4B8E-B7EA-9915FD4AF7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Родительское собрание </a:t>
            </a:r>
            <a:br>
              <a:rPr sz="2900"/>
            </a:br>
            <a:r>
              <a:rPr b="1" lang="ru-RU" sz="2900" spc="-1" strike="noStrike">
                <a:solidFill>
                  <a:srgbClr val="ffff00"/>
                </a:solidFill>
                <a:latin typeface="Times New Roman"/>
              </a:rPr>
              <a:t>во 2 классе </a:t>
            </a:r>
            <a:endParaRPr b="1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Оценка и отмет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990000"/>
                </a:solidFill>
                <a:latin typeface="Times New Roman"/>
              </a:rPr>
              <a:t>в современной школ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Учитель начальных классо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Шадринцева О. 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2016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95280" y="11430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писывание текста (без задани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безукоризненно выполненная работа, в которой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1-2 исправления или 1 ошиб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2-3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4 ошибки и бол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http://school31.centerstart.ru/sites/default/files/u14/schoolvector.jpg"/>
          <p:cNvPicPr/>
          <p:nvPr/>
        </p:nvPicPr>
        <p:blipFill>
          <a:blip r:embed="rId1"/>
          <a:stretch/>
        </p:blipFill>
        <p:spPr>
          <a:xfrm>
            <a:off x="5181480" y="3693960"/>
            <a:ext cx="3581640" cy="3011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Глобус"/>
          <p:cNvPicPr/>
          <p:nvPr/>
        </p:nvPicPr>
        <p:blipFill>
          <a:blip r:embed="rId2"/>
          <a:stretch/>
        </p:blipFill>
        <p:spPr>
          <a:xfrm>
            <a:off x="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ловар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работа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1 ошиб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3-5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http://boombob.ru/img/picture/Oct/15/765a592afb7f63120d0f61dc9f10772a/4.jpg"/>
          <p:cNvPicPr/>
          <p:nvPr/>
        </p:nvPicPr>
        <p:blipFill>
          <a:blip r:embed="rId1"/>
          <a:stretch/>
        </p:blipFill>
        <p:spPr>
          <a:xfrm>
            <a:off x="4495680" y="2930400"/>
            <a:ext cx="4191120" cy="354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Глобус"/>
          <p:cNvPicPr/>
          <p:nvPr/>
        </p:nvPicPr>
        <p:blipFill>
          <a:blip r:embed="rId2"/>
          <a:stretch/>
        </p:blipFill>
        <p:spPr>
          <a:xfrm>
            <a:off x="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6964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Контро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безошибочно выполнены все зад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ыполнено правильно не менее 3/4 всех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ыполнено не менее ½ зад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ученик не справился с большинством зад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Глобус"/>
          <p:cNvPicPr/>
          <p:nvPr/>
        </p:nvPicPr>
        <p:blipFill>
          <a:blip r:embed="rId1"/>
          <a:stretch/>
        </p:blipFill>
        <p:spPr>
          <a:xfrm>
            <a:off x="0" y="11430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http://img-fotki.yandex.ru/get/6407/47407354.705/0_eac24_c1cf53e2_orig.png"/>
          <p:cNvPicPr/>
          <p:nvPr/>
        </p:nvPicPr>
        <p:blipFill>
          <a:blip r:embed="rId2"/>
          <a:stretch/>
        </p:blipFill>
        <p:spPr>
          <a:xfrm>
            <a:off x="5826240" y="4419720"/>
            <a:ext cx="331776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исьменная р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держащая только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и нет исправле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1-2 вычислительные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3-4 вычислительные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допущены 5 и более вычислительных оши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inwriter.ru/wp-content/uploads/2015/01/detskaya-sektsiya-isp.jpg"/>
          <p:cNvPicPr/>
          <p:nvPr/>
        </p:nvPicPr>
        <p:blipFill>
          <a:blip r:embed="rId1"/>
          <a:stretch/>
        </p:blipFill>
        <p:spPr>
          <a:xfrm>
            <a:off x="6629400" y="5105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исьменная работа, содержащая только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все задачи решены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т ошибок в ходе решения задач, но допущены 1-2 вычислительные ошиб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хотя бы одна ошибка в ходе решения задачи и 1 вычислительная ошибка или если вычислительных ошибок нет, но не решена 1 задач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допущена ошибка в ходе решения 2-х задач или допущена ошибка в ходе решения задачи и 2 вычислительные ошиб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Комбинированная контрольная рабо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(1 задача, примеры и задание другого ви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и нет исправ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ы 1-2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ы ошибки в ходе решения задачи при правильном выполнении всех заданий или допущены 3-4 вычислительные ошиб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- допущена ошибка в ходе решения задачи и хотя бы одна вычислительная ошибка или при решении задач и примеров допущено более 5 вычислительных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http://svob-school-one.ucoz.ru/_tbkp/portfel.png"/>
          <p:cNvPicPr/>
          <p:nvPr/>
        </p:nvPicPr>
        <p:blipFill>
          <a:blip r:embed="rId1"/>
          <a:stretch/>
        </p:blipFill>
        <p:spPr>
          <a:xfrm>
            <a:off x="6134040" y="5257800"/>
            <a:ext cx="2857680" cy="1600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Глобус"/>
          <p:cNvPicPr/>
          <p:nvPr/>
        </p:nvPicPr>
        <p:blipFill>
          <a:blip r:embed="rId2"/>
          <a:stretch/>
        </p:blipFill>
        <p:spPr>
          <a:xfrm>
            <a:off x="7772400" y="137160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К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6629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матический  дикт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вся работа выполнена безошибочно и нет исправлен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5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5d135"/>
                </a:solidFill>
                <a:latin typeface="Times New Roman"/>
              </a:rPr>
              <a:t>«3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4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- не выполнена 1/2 часть примеров от их общего чис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http://img-fotki.yandex.ru/get/6407/47407354.705/0_eac24_c1cf53e2_orig.png"/>
          <p:cNvPicPr/>
          <p:nvPr/>
        </p:nvPicPr>
        <p:blipFill>
          <a:blip r:embed="rId1"/>
          <a:stretch/>
        </p:blipFill>
        <p:spPr>
          <a:xfrm>
            <a:off x="5369040" y="4191120"/>
            <a:ext cx="3774960" cy="2514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193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выки чт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5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Чтение чёткое, целыми словами, не менее 50 слов в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Выразительно, соблюдая знаки препина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олные ответы на вопросы п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Темп – более 40 слов в минуту целыми слов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Соблюдает нужную интонацию и пауз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Верно передаёт содерж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«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равильно читает по слогам менее 40 слов в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Передаёт содержание с помощью вопросов учител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2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a0aff"/>
                </a:solidFill>
                <a:latin typeface="Times New Roman"/>
              </a:rPr>
              <a:t>Не выполняет требований, установленных для отметки «3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https://ds03.infourok.ru/uploads/ex/021c/0002731b-bb34e716/hello_html_60336b23.jpg"/>
          <p:cNvPicPr/>
          <p:nvPr/>
        </p:nvPicPr>
        <p:blipFill>
          <a:blip r:embed="rId1"/>
          <a:stretch/>
        </p:blipFill>
        <p:spPr>
          <a:xfrm>
            <a:off x="6118200" y="2362320"/>
            <a:ext cx="30258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76640"/>
            <a:ext cx="838224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Как воспринимать  отметки ребёнка? </a:t>
            </a:r>
            <a:br>
              <a:rPr sz="3600"/>
            </a:b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3600"/>
            </a:br>
            <a:br>
              <a:rPr sz="4800"/>
            </a:br>
            <a:br>
              <a:rPr sz="4800"/>
            </a:b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600200" y="480060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мятка для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Не ругайте своего ребёнка за плохую  отметку. </a:t>
            </a:r>
            <a:r>
              <a:rPr b="1" lang="ru-RU" sz="2800" spc="-1" strike="noStrike">
                <a:solidFill>
                  <a:srgbClr val="692aa2"/>
                </a:solidFill>
                <a:latin typeface="Times New Roman"/>
              </a:rPr>
              <a:t>Ему очень хочется быть в ваших глазах хорош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Если быть хорошим не получается, ребёнок начинает </a:t>
            </a:r>
            <a:r>
              <a:rPr b="0" lang="ru-RU" sz="2800" spc="-1" strike="noStrike" u="sng">
                <a:solidFill>
                  <a:srgbClr val="0a0aff"/>
                </a:solidFill>
                <a:uFillTx/>
                <a:latin typeface="Times New Roman"/>
              </a:rPr>
              <a:t>врать и изворачиваться</a:t>
            </a:r>
            <a:r>
              <a:rPr b="0" lang="ru-RU" sz="2800" spc="-1" strike="noStrike">
                <a:solidFill>
                  <a:srgbClr val="0a0aff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чтобы избежать наказ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bol-osinovka.umi.ru/images/cms/data/uchenikam-roditelyam.jpg"/>
          <p:cNvPicPr/>
          <p:nvPr/>
        </p:nvPicPr>
        <p:blipFill>
          <a:blip r:embed="rId1"/>
          <a:stretch/>
        </p:blipFill>
        <p:spPr>
          <a:xfrm>
            <a:off x="3581280" y="2590920"/>
            <a:ext cx="2286000" cy="2085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http://f4.mylove.ru/CGQwZB2NtI.jpg"/>
          <p:cNvPicPr/>
          <p:nvPr/>
        </p:nvPicPr>
        <p:blipFill>
          <a:blip r:embed="rId2"/>
          <a:stretch/>
        </p:blipFill>
        <p:spPr>
          <a:xfrm>
            <a:off x="838080" y="2590920"/>
            <a:ext cx="2100240" cy="19922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http://static8.depositphotos.com/1292351/805/v/950/depositphotos_8055197-Cartoon-of-Dad-scolding-his-son.jpg"/>
          <p:cNvPicPr/>
          <p:nvPr/>
        </p:nvPicPr>
        <p:blipFill>
          <a:blip r:embed="rId3"/>
          <a:stretch/>
        </p:blipFill>
        <p:spPr>
          <a:xfrm>
            <a:off x="6629400" y="2286000"/>
            <a:ext cx="1604880" cy="236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1720" y="151920"/>
            <a:ext cx="7407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одительское собрание</a:t>
            </a:r>
            <a:br>
              <a:rPr sz="48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04920" y="1294920"/>
            <a:ext cx="8686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Arial"/>
              </a:rPr>
              <a:t>Повестка дн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Оценка. Отмет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итерии оценки. Как к ней относ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Как помочь ребёнку в выполнении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Раз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36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Сочувствуйте своему ребёнку, если он долго трудился, но результат его труда не выс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Объясните ему, что важен не только высокий результат. Больше важны 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знания</a:t>
            </a: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, которые он сможет  приобрести в результате                    ежедневного, упорного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http://boombob.ru/img/picture/Oct/15/765a592afb7f63120d0f61dc9f10772a/4.jpg"/>
          <p:cNvPicPr/>
          <p:nvPr/>
        </p:nvPicPr>
        <p:blipFill>
          <a:blip r:embed="rId1"/>
          <a:stretch/>
        </p:blipFill>
        <p:spPr>
          <a:xfrm>
            <a:off x="5715000" y="4038480"/>
            <a:ext cx="325584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51051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заставляйте своего ребёнка вымаливать себе оценку в конце четверти ради вашего душевного споко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Не учите своего ребёнка ловчить, унижаться и приспосабливаться ради положительного результата в виде высокой отме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http://sch626uz.mskobr.ru/users_files/anna13/images/1380549224general_pages_02_September_2013_i2309_den_znanii%281%29.png"/>
          <p:cNvPicPr/>
          <p:nvPr/>
        </p:nvPicPr>
        <p:blipFill>
          <a:blip r:embed="rId1"/>
          <a:stretch/>
        </p:blipFill>
        <p:spPr>
          <a:xfrm>
            <a:off x="4572000" y="1066680"/>
            <a:ext cx="4433760" cy="409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икогда не выражайте сомнений по поводу объективности выставленной вашему                  ребёнку оценки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Есть сомнения - идите в школу (к учителю) и попытайтесь объективно разобраться в ситу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Не обвиняйте беспричинно других              взрослых и  одноклассников в                   проблемах собственного ребё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j0336396"/>
          <p:cNvPicPr/>
          <p:nvPr/>
        </p:nvPicPr>
        <p:blipFill>
          <a:blip r:embed="rId1"/>
          <a:stretch/>
        </p:blipFill>
        <p:spPr>
          <a:xfrm>
            <a:off x="8077320" y="1828800"/>
            <a:ext cx="927000" cy="8589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Рисунок16"/>
          <p:cNvPicPr/>
          <p:nvPr/>
        </p:nvPicPr>
        <p:blipFill>
          <a:blip r:embed="rId2"/>
          <a:stretch/>
        </p:blipFill>
        <p:spPr>
          <a:xfrm>
            <a:off x="7238880" y="3962520"/>
            <a:ext cx="7812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.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Поддерживайте ребёнка в его, пусть не очень значительных, но победах над собой, над своей л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1ea0"/>
                </a:solidFill>
                <a:latin typeface="Times New Roman"/>
              </a:rPr>
              <a:t>Демонстрируйте положительные результаты </a:t>
            </a:r>
            <a:r>
              <a:rPr b="1" lang="ru-RU" sz="3200" spc="-1" strike="noStrike" u="sng">
                <a:solidFill>
                  <a:srgbClr val="e81ea0"/>
                </a:solidFill>
                <a:uFillTx/>
                <a:latin typeface="Times New Roman"/>
              </a:rPr>
              <a:t>своего труда</a:t>
            </a:r>
            <a:r>
              <a:rPr b="1" lang="ru-RU" sz="3200" spc="-1" strike="noStrike">
                <a:solidFill>
                  <a:srgbClr val="e81ea0"/>
                </a:solidFill>
                <a:latin typeface="Times New Roman"/>
              </a:rPr>
              <a:t>, чтобы ребёнку хотелось вам подраж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http://stoppav.ru/images/gallery/News/06-2016/post-215185-1312663051.jpg"/>
          <p:cNvPicPr/>
          <p:nvPr/>
        </p:nvPicPr>
        <p:blipFill>
          <a:blip r:embed="rId1"/>
          <a:stretch/>
        </p:blipFill>
        <p:spPr>
          <a:xfrm>
            <a:off x="2286000" y="4343400"/>
            <a:ext cx="4191120" cy="22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Как относиться к отметкам ребёнка??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Устраивайте праздники по случа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e81ea0"/>
                </a:solidFill>
                <a:latin typeface="Times New Roman"/>
              </a:rPr>
              <a:t>получения отличной отм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a0aff"/>
                </a:solidFill>
                <a:latin typeface="Times New Roman"/>
              </a:rPr>
              <a:t>Хорошее, как и плохое, запоминается ребёнком надолго и его хочется    повтор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усть ребёнок получает хорошую  отметку ради того, чтобы его             отметили. Вскоре это                                   станет привыч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http://clipartfantasy.altervista.org/Images15/fd_01899.gif"/>
          <p:cNvPicPr/>
          <p:nvPr/>
        </p:nvPicPr>
        <p:blipFill>
          <a:blip r:embed="rId1"/>
          <a:stretch/>
        </p:blipFill>
        <p:spPr>
          <a:xfrm>
            <a:off x="5562720" y="4495680"/>
            <a:ext cx="336204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imes New Roman"/>
              </a:rPr>
              <a:t>Как помочь ребёнку                                                                  в выполнении  домашних заданий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80520" y="3962160"/>
            <a:ext cx="8001000" cy="990360"/>
          </a:xfrm>
          <a:prstGeom prst="rect">
            <a:avLst/>
          </a:prstGeom>
          <a:solidFill>
            <a:srgbClr val="f7ebb7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веты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http://bol-osinovka.umi.ru/images/cms/data/uchenikam-roditelyam.jpg"/>
          <p:cNvPicPr/>
          <p:nvPr/>
        </p:nvPicPr>
        <p:blipFill>
          <a:blip r:embed="rId1"/>
          <a:stretch/>
        </p:blipFill>
        <p:spPr>
          <a:xfrm>
            <a:off x="3581280" y="304920"/>
            <a:ext cx="25909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ак правильно помогать ребёнку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152280" y="1219320"/>
            <a:ext cx="2971080" cy="3730320"/>
            <a:chOff x="152280" y="1219320"/>
            <a:chExt cx="2971080" cy="3730320"/>
          </a:xfrm>
        </p:grpSpPr>
        <p:sp>
          <p:nvSpPr>
            <p:cNvPr id="221" name="AutoShape 4"/>
            <p:cNvSpPr/>
            <p:nvPr/>
          </p:nvSpPr>
          <p:spPr>
            <a:xfrm>
              <a:off x="152280" y="1503720"/>
              <a:ext cx="2962440" cy="2641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198000" y="1511280"/>
              <a:ext cx="2873520" cy="259128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"/>
            <p:cNvSpPr/>
            <p:nvPr/>
          </p:nvSpPr>
          <p:spPr>
            <a:xfrm>
              <a:off x="221760" y="3418920"/>
              <a:ext cx="2834280" cy="655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"/>
            <p:cNvSpPr/>
            <p:nvPr/>
          </p:nvSpPr>
          <p:spPr>
            <a:xfrm>
              <a:off x="221760" y="1531800"/>
              <a:ext cx="2834280" cy="654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8"/>
            <p:cNvSpPr/>
            <p:nvPr/>
          </p:nvSpPr>
          <p:spPr>
            <a:xfrm>
              <a:off x="160920" y="4145400"/>
              <a:ext cx="2962440" cy="8042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9"/>
            <p:cNvSpPr/>
            <p:nvPr/>
          </p:nvSpPr>
          <p:spPr>
            <a:xfrm>
              <a:off x="221760" y="4314240"/>
              <a:ext cx="2834280" cy="568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Group 10"/>
            <p:cNvGrpSpPr/>
            <p:nvPr/>
          </p:nvGrpSpPr>
          <p:grpSpPr>
            <a:xfrm>
              <a:off x="1171440" y="1219320"/>
              <a:ext cx="880200" cy="594360"/>
              <a:chOff x="1171440" y="1219320"/>
              <a:chExt cx="880200" cy="594360"/>
            </a:xfrm>
          </p:grpSpPr>
          <p:sp>
            <p:nvSpPr>
              <p:cNvPr id="228" name="Oval 11"/>
              <p:cNvSpPr/>
              <p:nvPr/>
            </p:nvSpPr>
            <p:spPr>
              <a:xfrm>
                <a:off x="1171440" y="1219320"/>
                <a:ext cx="880200" cy="5943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12"/>
              <p:cNvSpPr/>
              <p:nvPr/>
            </p:nvSpPr>
            <p:spPr>
              <a:xfrm>
                <a:off x="1180440" y="1223640"/>
                <a:ext cx="851040" cy="5756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13"/>
              <p:cNvSpPr/>
              <p:nvPr/>
            </p:nvSpPr>
            <p:spPr>
              <a:xfrm>
                <a:off x="1190880" y="1227240"/>
                <a:ext cx="831240" cy="561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14"/>
              <p:cNvSpPr/>
              <p:nvPr/>
            </p:nvSpPr>
            <p:spPr>
              <a:xfrm>
                <a:off x="1200240" y="1232640"/>
                <a:ext cx="790560" cy="5238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5"/>
              <p:cNvSpPr/>
              <p:nvPr/>
            </p:nvSpPr>
            <p:spPr>
              <a:xfrm>
                <a:off x="1246320" y="1246680"/>
                <a:ext cx="702360" cy="425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3" name="Text Box 16"/>
            <p:cNvSpPr/>
            <p:nvPr/>
          </p:nvSpPr>
          <p:spPr>
            <a:xfrm>
              <a:off x="1428120" y="13042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17"/>
            <p:cNvSpPr/>
            <p:nvPr/>
          </p:nvSpPr>
          <p:spPr>
            <a:xfrm>
              <a:off x="256680" y="1923840"/>
              <a:ext cx="2817360" cy="3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8"/>
          <p:cNvGrpSpPr/>
          <p:nvPr/>
        </p:nvGrpSpPr>
        <p:grpSpPr>
          <a:xfrm>
            <a:off x="3200400" y="2133720"/>
            <a:ext cx="2590560" cy="3806280"/>
            <a:chOff x="3200400" y="2133720"/>
            <a:chExt cx="2590560" cy="3806280"/>
          </a:xfrm>
        </p:grpSpPr>
        <p:sp>
          <p:nvSpPr>
            <p:cNvPr id="236" name="AutoShape 19"/>
            <p:cNvSpPr/>
            <p:nvPr/>
          </p:nvSpPr>
          <p:spPr>
            <a:xfrm>
              <a:off x="3200400" y="2423880"/>
              <a:ext cx="2586960" cy="2695320"/>
            </a:xfrm>
            <a:custGeom>
              <a:avLst/>
              <a:gdLst>
                <a:gd name="textAreaLeft" fmla="*/ 132480 w 2586960"/>
                <a:gd name="textAreaRight" fmla="*/ 2454480 w 2586960"/>
                <a:gd name="textAreaTop" fmla="*/ 132480 h 2695320"/>
                <a:gd name="textAreaBottom" fmla="*/ 2562840 h 2695320"/>
              </a:gdLst>
              <a:ahLst/>
              <a:rect l="textAreaLeft" t="textAreaTop" r="textAreaRight" b="textAreaBottom"/>
              <a:pathLst>
                <a:path w="21600" h="22505">
                  <a:moveTo>
                    <a:pt x="3782" y="0"/>
                  </a:moveTo>
                  <a:arcTo wR="3782" hR="3782" stAng="16200000" swAng="-5400000"/>
                  <a:lnTo>
                    <a:pt x="0" y="18723"/>
                  </a:lnTo>
                  <a:arcTo wR="3782" hR="3782" stAng="10800000" swAng="-5400000"/>
                  <a:lnTo>
                    <a:pt x="17818" y="22505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0"/>
            <p:cNvSpPr/>
            <p:nvPr/>
          </p:nvSpPr>
          <p:spPr>
            <a:xfrm>
              <a:off x="3240000" y="2431800"/>
              <a:ext cx="2509200" cy="2644200"/>
            </a:xfrm>
            <a:custGeom>
              <a:avLst/>
              <a:gdLst>
                <a:gd name="textAreaLeft" fmla="*/ 122400 w 2509200"/>
                <a:gd name="textAreaRight" fmla="*/ 2386800 w 2509200"/>
                <a:gd name="textAreaTop" fmla="*/ 122400 h 2644200"/>
                <a:gd name="textAreaBottom" fmla="*/ 2521800 h 2644200"/>
              </a:gdLst>
              <a:ahLst/>
              <a:rect l="textAreaLeft" t="textAreaTop" r="textAreaRight" b="textAreaBottom"/>
              <a:pathLst>
                <a:path w="21600" h="22762">
                  <a:moveTo>
                    <a:pt x="3600" y="0"/>
                  </a:moveTo>
                  <a:arcTo wR="3600" hR="3600" stAng="16200000" swAng="-5400000"/>
                  <a:lnTo>
                    <a:pt x="0" y="19162"/>
                  </a:lnTo>
                  <a:arcTo wR="3600" hR="3600" stAng="10800000" swAng="-5400000"/>
                  <a:lnTo>
                    <a:pt x="18000" y="22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21"/>
            <p:cNvSpPr/>
            <p:nvPr/>
          </p:nvSpPr>
          <p:spPr>
            <a:xfrm>
              <a:off x="3260880" y="4378320"/>
              <a:ext cx="2475000" cy="66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22"/>
            <p:cNvSpPr/>
            <p:nvPr/>
          </p:nvSpPr>
          <p:spPr>
            <a:xfrm>
              <a:off x="3260880" y="2452320"/>
              <a:ext cx="2475000" cy="66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3"/>
            <p:cNvSpPr/>
            <p:nvPr/>
          </p:nvSpPr>
          <p:spPr>
            <a:xfrm>
              <a:off x="4090320" y="2133720"/>
              <a:ext cx="768600" cy="606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4"/>
            <p:cNvSpPr/>
            <p:nvPr/>
          </p:nvSpPr>
          <p:spPr>
            <a:xfrm>
              <a:off x="4097520" y="2138040"/>
              <a:ext cx="744120" cy="586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5"/>
            <p:cNvSpPr/>
            <p:nvPr/>
          </p:nvSpPr>
          <p:spPr>
            <a:xfrm>
              <a:off x="4107600" y="2140920"/>
              <a:ext cx="726480" cy="5734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6"/>
            <p:cNvSpPr/>
            <p:nvPr/>
          </p:nvSpPr>
          <p:spPr>
            <a:xfrm>
              <a:off x="4114800" y="2147040"/>
              <a:ext cx="690840" cy="5342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4156560" y="2162160"/>
              <a:ext cx="613080" cy="43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8"/>
            <p:cNvSpPr/>
            <p:nvPr/>
          </p:nvSpPr>
          <p:spPr>
            <a:xfrm>
              <a:off x="4291920" y="2220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29"/>
            <p:cNvSpPr/>
            <p:nvPr/>
          </p:nvSpPr>
          <p:spPr>
            <a:xfrm>
              <a:off x="3291120" y="2852280"/>
              <a:ext cx="2459880" cy="34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AutoShape 30"/>
            <p:cNvSpPr/>
            <p:nvPr/>
          </p:nvSpPr>
          <p:spPr>
            <a:xfrm>
              <a:off x="3203640" y="5119560"/>
              <a:ext cx="2587320" cy="82044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31"/>
            <p:cNvSpPr/>
            <p:nvPr/>
          </p:nvSpPr>
          <p:spPr>
            <a:xfrm>
              <a:off x="3256920" y="5141880"/>
              <a:ext cx="2475000" cy="7293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32"/>
          <p:cNvGrpSpPr/>
          <p:nvPr/>
        </p:nvGrpSpPr>
        <p:grpSpPr>
          <a:xfrm>
            <a:off x="5867280" y="3124080"/>
            <a:ext cx="2742840" cy="4035600"/>
            <a:chOff x="5867280" y="3124080"/>
            <a:chExt cx="2742840" cy="4035600"/>
          </a:xfrm>
        </p:grpSpPr>
        <p:sp>
          <p:nvSpPr>
            <p:cNvPr id="250" name="AutoShape 33"/>
            <p:cNvSpPr/>
            <p:nvPr/>
          </p:nvSpPr>
          <p:spPr>
            <a:xfrm>
              <a:off x="5874840" y="3431880"/>
              <a:ext cx="2735280" cy="2857680"/>
            </a:xfrm>
            <a:custGeom>
              <a:avLst/>
              <a:gdLst>
                <a:gd name="textAreaLeft" fmla="*/ 140040 w 2735280"/>
                <a:gd name="textAreaRight" fmla="*/ 2595240 w 2735280"/>
                <a:gd name="textAreaTop" fmla="*/ 140040 h 2857680"/>
                <a:gd name="textAreaBottom" fmla="*/ 2717640 h 2857680"/>
              </a:gdLst>
              <a:ahLst/>
              <a:rect l="textAreaLeft" t="textAreaTop" r="textAreaRight" b="textAreaBottom"/>
              <a:pathLst>
                <a:path w="21600" h="22566">
                  <a:moveTo>
                    <a:pt x="3782" y="0"/>
                  </a:moveTo>
                  <a:arcTo wR="3782" hR="3782" stAng="16200000" swAng="-5400000"/>
                  <a:lnTo>
                    <a:pt x="0" y="18784"/>
                  </a:lnTo>
                  <a:arcTo wR="3782" hR="3782" stAng="10800000" swAng="-5400000"/>
                  <a:lnTo>
                    <a:pt x="17818" y="22566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34"/>
            <p:cNvSpPr/>
            <p:nvPr/>
          </p:nvSpPr>
          <p:spPr>
            <a:xfrm>
              <a:off x="5917320" y="3352680"/>
              <a:ext cx="2652840" cy="2890800"/>
            </a:xfrm>
            <a:custGeom>
              <a:avLst/>
              <a:gdLst>
                <a:gd name="textAreaLeft" fmla="*/ 129240 w 2652840"/>
                <a:gd name="textAreaRight" fmla="*/ 2523600 w 2652840"/>
                <a:gd name="textAreaTop" fmla="*/ 129240 h 2890800"/>
                <a:gd name="textAreaBottom" fmla="*/ 2761560 h 2890800"/>
              </a:gdLst>
              <a:ahLst/>
              <a:rect l="textAreaLeft" t="textAreaTop" r="textAreaRight" b="textAreaBottom"/>
              <a:pathLst>
                <a:path w="21600" h="23537">
                  <a:moveTo>
                    <a:pt x="3600" y="0"/>
                  </a:moveTo>
                  <a:arcTo wR="3600" hR="3600" stAng="16200000" swAng="-5400000"/>
                  <a:lnTo>
                    <a:pt x="0" y="19937"/>
                  </a:lnTo>
                  <a:arcTo wR="3600" hR="3600" stAng="10800000" swAng="-5400000"/>
                  <a:lnTo>
                    <a:pt x="18000" y="235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35"/>
            <p:cNvSpPr/>
            <p:nvPr/>
          </p:nvSpPr>
          <p:spPr>
            <a:xfrm>
              <a:off x="5938920" y="5503680"/>
              <a:ext cx="261684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36"/>
            <p:cNvSpPr/>
            <p:nvPr/>
          </p:nvSpPr>
          <p:spPr>
            <a:xfrm>
              <a:off x="5938920" y="3462120"/>
              <a:ext cx="261684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37"/>
            <p:cNvGrpSpPr/>
            <p:nvPr/>
          </p:nvGrpSpPr>
          <p:grpSpPr>
            <a:xfrm>
              <a:off x="6815880" y="3124080"/>
              <a:ext cx="812520" cy="642960"/>
              <a:chOff x="6815880" y="3124080"/>
              <a:chExt cx="812520" cy="642960"/>
            </a:xfrm>
          </p:grpSpPr>
          <p:sp>
            <p:nvSpPr>
              <p:cNvPr id="255" name="Oval 38"/>
              <p:cNvSpPr/>
              <p:nvPr/>
            </p:nvSpPr>
            <p:spPr>
              <a:xfrm>
                <a:off x="6815880" y="3124080"/>
                <a:ext cx="81252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39"/>
              <p:cNvSpPr/>
              <p:nvPr/>
            </p:nvSpPr>
            <p:spPr>
              <a:xfrm>
                <a:off x="6824160" y="3128760"/>
                <a:ext cx="7855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0"/>
              <p:cNvSpPr/>
              <p:nvPr/>
            </p:nvSpPr>
            <p:spPr>
              <a:xfrm>
                <a:off x="6833880" y="3132720"/>
                <a:ext cx="767520" cy="607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1"/>
              <p:cNvSpPr/>
              <p:nvPr/>
            </p:nvSpPr>
            <p:spPr>
              <a:xfrm>
                <a:off x="6842520" y="3138480"/>
                <a:ext cx="72972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42"/>
              <p:cNvSpPr/>
              <p:nvPr/>
            </p:nvSpPr>
            <p:spPr>
              <a:xfrm>
                <a:off x="6885000" y="3153960"/>
                <a:ext cx="64836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Text Box 43"/>
            <p:cNvSpPr/>
            <p:nvPr/>
          </p:nvSpPr>
          <p:spPr>
            <a:xfrm>
              <a:off x="7039080" y="3216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44"/>
            <p:cNvSpPr/>
            <p:nvPr/>
          </p:nvSpPr>
          <p:spPr>
            <a:xfrm>
              <a:off x="5971320" y="3886200"/>
              <a:ext cx="26006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5"/>
            <p:cNvSpPr/>
            <p:nvPr/>
          </p:nvSpPr>
          <p:spPr>
            <a:xfrm>
              <a:off x="5867280" y="6289560"/>
              <a:ext cx="273456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6"/>
            <p:cNvSpPr/>
            <p:nvPr/>
          </p:nvSpPr>
          <p:spPr>
            <a:xfrm>
              <a:off x="5923080" y="6313320"/>
              <a:ext cx="261648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Прямоугольник 46"/>
          <p:cNvSpPr/>
          <p:nvPr/>
        </p:nvSpPr>
        <p:spPr>
          <a:xfrm>
            <a:off x="304920" y="167652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вмешив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ыполнение домашн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ния, если 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просит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47"/>
          <p:cNvSpPr/>
          <p:nvPr/>
        </p:nvSpPr>
        <p:spPr>
          <a:xfrm>
            <a:off x="3505320" y="2743200"/>
            <a:ext cx="2133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ьмите на себя только, то,  что он не может выпол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48"/>
          <p:cNvSpPr/>
          <p:nvPr/>
        </p:nvSpPr>
        <p:spPr>
          <a:xfrm>
            <a:off x="5943600" y="373392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 мере осво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бёнком но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й, постепенно передав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му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http://img-fotki.yandex.ru/get/6407/47407354.705/0_eac24_c1cf53e2_orig.png"/>
          <p:cNvPicPr/>
          <p:nvPr/>
        </p:nvPicPr>
        <p:blipFill>
          <a:blip r:embed="rId1"/>
          <a:stretch/>
        </p:blipFill>
        <p:spPr>
          <a:xfrm>
            <a:off x="228600" y="4191120"/>
            <a:ext cx="3774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Как помочь ребенку                                           выполнить домашнее задание»</a:t>
            </a:r>
            <a:br>
              <a:rPr sz="5400"/>
            </a:b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600" y="990720"/>
            <a:ext cx="8686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Ребенок должен готовить домашнее задание </a:t>
            </a:r>
            <a:r>
              <a:rPr b="1" lang="ru-RU" sz="2400" spc="-1" strike="noStrike" u="sng">
                <a:solidFill>
                  <a:srgbClr val="0a0aff"/>
                </a:solidFill>
                <a:uFillTx/>
                <a:latin typeface="Times New Roman"/>
              </a:rPr>
              <a:t>самостоятельно</a:t>
            </a: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, но не бесконтро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 u="sng">
                <a:solidFill>
                  <a:srgbClr val="e81ea0"/>
                </a:solidFill>
                <a:uFillTx/>
                <a:latin typeface="Times New Roman"/>
              </a:rPr>
              <a:t>Выясните</a:t>
            </a:r>
            <a:r>
              <a:rPr b="1" lang="ru-RU" sz="2400" spc="-1" strike="noStrike">
                <a:solidFill>
                  <a:srgbClr val="e81ea0"/>
                </a:solidFill>
                <a:latin typeface="Times New Roman"/>
              </a:rPr>
              <a:t> трудности, с которыми встречается ребенок при выполнении домашнего з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aa024"/>
                </a:solidFill>
                <a:uFillTx/>
                <a:latin typeface="Times New Roman"/>
              </a:rPr>
              <a:t>Настройте</a:t>
            </a:r>
            <a:r>
              <a:rPr b="1" lang="ru-RU" sz="2400" spc="-1" strike="noStrike">
                <a:solidFill>
                  <a:srgbClr val="4aa024"/>
                </a:solidFill>
                <a:latin typeface="Times New Roman"/>
              </a:rPr>
              <a:t> ребенка на выполнение заданий тех уроков, которые были сегодня, а задания на следующий день надо только повтор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итм выполнения домашнего задания индивидуален для каждого ребёнка. Следует не торопиться, но и не затяг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 обсуждайте с ребёнком то, что                                           задал учитель учить дома. Он                       руководствуется учебным планом и                         и утверждённой школьной программ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р19"/>
          <p:cNvPicPr/>
          <p:nvPr/>
        </p:nvPicPr>
        <p:blipFill>
          <a:blip r:embed="rId1"/>
          <a:stretch/>
        </p:blipFill>
        <p:spPr>
          <a:xfrm>
            <a:off x="6781680" y="4724280"/>
            <a:ext cx="19051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"/>
          <p:cNvSpPr/>
          <p:nvPr/>
        </p:nvSpPr>
        <p:spPr>
          <a:xfrm>
            <a:off x="2286000" y="4748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до помнить 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2189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ыполнение каждого задания необходимо мотивировать применением его в будущ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0aff"/>
                </a:solidFill>
                <a:latin typeface="Times New Roman"/>
              </a:rPr>
              <a:t>Не следует отвлекать ребенка, умственный труд требует сосредоточ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зумная помощь и ненавязчивый контроль особенно необходимы ребенку в трудновыполнимых за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тепенно необходимо приучать ребенка к планирующей оценке своих действий на день, два, неделю, месяц, четвер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6" descr="http://inwriter.ru/wp-content/uploads/2015/01/detskaya-sektsiya-isp.jpg"/>
          <p:cNvPicPr/>
          <p:nvPr/>
        </p:nvPicPr>
        <p:blipFill>
          <a:blip r:embed="rId1"/>
          <a:stretch/>
        </p:blipFill>
        <p:spPr>
          <a:xfrm>
            <a:off x="5791320" y="4800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мните об этом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480" y="159984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аучить ребёнка самостоятельно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учиться,  научить добывать знания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аша родительская обязанность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атья 52   «Закон об образован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06060"/>
                </a:solidFill>
                <a:latin typeface="Arial"/>
              </a:rPr>
              <a:t>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j0088510"/>
          <p:cNvPicPr/>
          <p:nvPr/>
        </p:nvPicPr>
        <p:blipFill>
          <a:blip r:embed="rId1"/>
          <a:stretch/>
        </p:blipFill>
        <p:spPr>
          <a:xfrm>
            <a:off x="5791320" y="3681360"/>
            <a:ext cx="323352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Глобус"/>
          <p:cNvPicPr/>
          <p:nvPr/>
        </p:nvPicPr>
        <p:blipFill>
          <a:blip r:embed="rId1"/>
          <a:stretch/>
        </p:blipFill>
        <p:spPr>
          <a:xfrm>
            <a:off x="228600" y="4800600"/>
            <a:ext cx="123840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Прямоугольник 5" descr=""/>
          <p:cNvPicPr/>
          <p:nvPr/>
        </p:nvPicPr>
        <p:blipFill>
          <a:blip r:embed="rId2"/>
          <a:stretch/>
        </p:blipFill>
        <p:spPr>
          <a:xfrm>
            <a:off x="987480" y="1255680"/>
            <a:ext cx="80103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43164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Ребёнок нуждается в постоянной поддержке родителей. Ваша искренняя заинтересованность в его школьных делах, серьёзное отношение к достижениям и трудностям помогут учени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Не забывайте напоминать о школьных правилах и необходимости их соблюд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92aa2"/>
                </a:solidFill>
                <a:latin typeface="Arial"/>
              </a:rPr>
              <a:t>Составьте вместе распорядок дня, а затем следите за его выполн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800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26b18"/>
                </a:solidFill>
                <a:latin typeface="Arial"/>
              </a:rPr>
              <a:t>Когда человек учится, у него может что-то не получаться, это естественно. Ребёнок имеет право на ошиб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Не пропускайте трудности. При необходимости обращайтесь за помощью к учител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Поддерживайте ребёнка в его желании добиться успеха. В каждой работе обязательно найдите, за что можно было бы его похвали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70c0"/>
                </a:solidFill>
                <a:latin typeface="Arial"/>
              </a:rPr>
              <a:t>Похвала способна повысить интеллектуальные дост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0" y="0"/>
            <a:ext cx="4267080" cy="190512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6"/>
          <p:cNvSpPr txBox="1"/>
          <p:nvPr/>
        </p:nvSpPr>
        <p:spPr>
          <a:xfrm>
            <a:off x="684360" y="47628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лез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2" name="WordArt 7"/>
          <p:cNvSpPr txBox="1"/>
          <p:nvPr/>
        </p:nvSpPr>
        <p:spPr>
          <a:xfrm>
            <a:off x="684360" y="981000"/>
            <a:ext cx="2592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WordArt 4" descr=""/>
          <p:cNvPicPr/>
          <p:nvPr/>
        </p:nvPicPr>
        <p:blipFill>
          <a:blip r:embed="rId1"/>
          <a:stretch/>
        </p:blipFill>
        <p:spPr>
          <a:xfrm>
            <a:off x="907920" y="1517760"/>
            <a:ext cx="73281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-360" y="4571640"/>
            <a:ext cx="8915400" cy="6858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спехов и терпения ВАМ в воспитании и обучении детей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WordArt 3"/>
          <p:cNvSpPr txBox="1"/>
          <p:nvPr/>
        </p:nvSpPr>
        <p:spPr>
          <a:xfrm>
            <a:off x="914400" y="3048120"/>
            <a:ext cx="7391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66"/>
                    </a:gs>
                    <a:gs pos="100000">
                      <a:srgbClr val="65d135"/>
                    </a:gs>
                  </a:gsLst>
                  <a:lin ang="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Спасибо за сотрудничеств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66"/>
                  </a:gs>
                  <a:gs pos="100000">
                    <a:srgbClr val="65d135"/>
                  </a:gs>
                </a:gsLst>
                <a:lin ang="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 rot="20901000">
            <a:off x="738000" y="1842840"/>
            <a:ext cx="7637400" cy="24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6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6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38480" y="456840"/>
            <a:ext cx="4724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Что сделаете вы, если увидите у ребёнка отметку «5»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51920" y="2514600"/>
            <a:ext cx="40388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Буду ра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Похвалю, дам определённое количество ден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76560" y="2971800"/>
            <a:ext cx="426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радуюсь вместе с ребён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хвалю, скажу, что горжусь 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23720" y="151920"/>
            <a:ext cx="5715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Что сделаете вы , если увидите у ребёнка отметку «2»?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312372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тругаю, застав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заниматься дополни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прошу: «Почему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оругаю, Накаж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Обвиню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90760" y="11426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занимаюсь дополнитель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 ребё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могу разобраться, объясню, за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анализируем вместе с ребёнком прич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спокою, чтоб не расстраива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Глобус"/>
          <p:cNvPicPr/>
          <p:nvPr/>
        </p:nvPicPr>
        <p:blipFill>
          <a:blip r:embed="rId1"/>
          <a:stretch/>
        </p:blipFill>
        <p:spPr>
          <a:xfrm>
            <a:off x="388620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0" y="228240"/>
            <a:ext cx="4191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 что надо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тавить «5»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</a:rPr>
              <a:t>Не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Старание, желание уч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Готовность к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Хорошее пове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Понимание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57800" y="3047760"/>
            <a:ext cx="3581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a0aff"/>
                </a:solidFill>
                <a:uFillTx/>
                <a:latin typeface="Times New Roman"/>
              </a:rPr>
              <a:t>Правильн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Безошибочный правильный полный от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а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ккурат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Глобус"/>
          <p:cNvPicPr/>
          <p:nvPr/>
        </p:nvPicPr>
        <p:blipFill>
          <a:blip r:embed="rId1"/>
          <a:stretch/>
        </p:blipFill>
        <p:spPr>
          <a:xfrm>
            <a:off x="3962520" y="5334120"/>
            <a:ext cx="1238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67080" y="45684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За что надо ставить «2»?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286000" y="1676520"/>
            <a:ext cx="58672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выполненн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зн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За много ошиб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Не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a0aff"/>
                </a:solidFill>
                <a:latin typeface="Times New Roman"/>
              </a:rPr>
              <a:t>Если и не пытался что-то дел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Глобус"/>
          <p:cNvPicPr/>
          <p:nvPr/>
        </p:nvPicPr>
        <p:blipFill>
          <a:blip r:embed="rId1"/>
          <a:stretch/>
        </p:blipFill>
        <p:spPr>
          <a:xfrm>
            <a:off x="3886200" y="5334120"/>
            <a:ext cx="1238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ритерии оце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икт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т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более 2-х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 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или 1ошибка и 2 исправл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более 4-х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5 и более ошиб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Глобус"/>
          <p:cNvPicPr/>
          <p:nvPr/>
        </p:nvPicPr>
        <p:blipFill>
          <a:blip r:embed="rId1"/>
          <a:stretch/>
        </p:blipFill>
        <p:spPr>
          <a:xfrm>
            <a:off x="0" y="1066680"/>
            <a:ext cx="1238400" cy="1524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http://images.easyfreeclipart.com/161/school-board-clip-art-free-cliparts-that-you-can-download-to--161097.png"/>
          <p:cNvPicPr/>
          <p:nvPr/>
        </p:nvPicPr>
        <p:blipFill>
          <a:blip r:embed="rId2"/>
          <a:stretch/>
        </p:blipFill>
        <p:spPr>
          <a:xfrm>
            <a:off x="6019920" y="1828800"/>
            <a:ext cx="3124080" cy="22827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http://tomuz.ru/uploads/images/l/a/v/lavanda_shkola_vesti_zvuk_vetra_20160312_vospitanie_i_vskarmlivanie.jpg"/>
          <p:cNvPicPr/>
          <p:nvPr/>
        </p:nvPicPr>
        <p:blipFill>
          <a:blip r:embed="rId3"/>
          <a:stretch/>
        </p:blipFill>
        <p:spPr>
          <a:xfrm>
            <a:off x="5448240" y="4800600"/>
            <a:ext cx="38750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УССКИЙ ЯЗЫК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рфографическ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задание выполнено без ошиб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4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задание выполнено полност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1 ошибка или 1-2 ис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«3»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 полостью выполнено задание или полностью выполнено, но 2 ошибк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2» </a:t>
            </a:r>
            <a:r>
              <a:rPr b="1" lang="ru-RU" sz="3200" spc="-1" strike="noStrike">
                <a:solidFill>
                  <a:srgbClr val="0a0aff"/>
                </a:solidFill>
                <a:latin typeface="Times New Roman"/>
              </a:rPr>
              <a:t>- невыполненное за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http://school18.info/images/deti.png"/>
          <p:cNvPicPr/>
          <p:nvPr/>
        </p:nvPicPr>
        <p:blipFill>
          <a:blip r:embed="rId1"/>
          <a:stretch/>
        </p:blipFill>
        <p:spPr>
          <a:xfrm>
            <a:off x="6019920" y="4284720"/>
            <a:ext cx="2933640" cy="2573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Глобус"/>
          <p:cNvPicPr/>
          <p:nvPr/>
        </p:nvPicPr>
        <p:blipFill>
          <a:blip r:embed="rId2"/>
          <a:stretch/>
        </p:blipFill>
        <p:spPr>
          <a:xfrm>
            <a:off x="7772400" y="1295280"/>
            <a:ext cx="1238400" cy="1524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5:38:31Z</dcterms:created>
  <dc:creator>ThemeGallery</dc:creator>
  <dc:description/>
  <dc:language>en-US</dc:language>
  <cp:lastModifiedBy>USER</cp:lastModifiedBy>
  <dcterms:modified xsi:type="dcterms:W3CDTF">2017-01-09T07:16:16Z</dcterms:modified>
  <cp:revision>107</cp:revision>
  <dc:subject/>
  <dc:title>PowerPoint Template</dc:title>
</cp:coreProperties>
</file>