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C164-73C8-431B-B475-E51D03C72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A267-41D3-4BCE-92F3-CC16AB58D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4E7B-C097-41AC-8974-D0C9F340B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2316-09B9-452B-B99A-FD555FE1C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D360-C037-42D7-A84C-A5B692AC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F59C2-A95B-4FB3-8442-3419741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5D4F7-9551-411F-A194-175564E7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4D606-DC3E-4F7D-ABAF-72215F7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98247-8852-47AA-B846-DA72BDB1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E9EDF-301A-4394-B96A-2DEBE555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682C4-5E31-4A55-8E05-59AB7F6A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653A-BD08-438D-8452-99F86D3FB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2206F-F513-4A3E-BBAA-0FB95F7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D0B9F-478F-4B67-8A50-05A5EE4B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77D83-7A3D-4BCA-9A1A-0ABFA3A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E85C-3C80-4B56-8BC4-C49090B5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8D7F8-5D03-44C3-AEF2-932AEF29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C97B-17B9-4D1D-B09A-9C7ABAAF0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3B76-3ACB-43DF-8E06-1FD584AC6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352E-3932-412D-B6B2-6F64E1B67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FCD3-F39E-4E02-AB5E-C95305E75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CC9F-8525-45F2-BD3F-1A1FAD609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87F2-8561-4744-9838-55C9D62B4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7A0F-71BD-46B7-A0AD-41F59F6A0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060B-5943-4FFE-85F8-276562060CEB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597E-C187-42AF-8BEC-A30502327FB3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8349-807A-42FE-AD2D-FA206BDB2B5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15880" y="232236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Внешняя политика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России в сер. 16 в.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D54856-6674-460F-A6C0-27D6030F07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57800" y="765000"/>
            <a:ext cx="4535280" cy="2981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320" y="3789360"/>
            <a:ext cx="8991360" cy="30686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Русские войска вступили в Прибалтику и заняли  Юрьев,Нарву и подошли к Ревелю и Риге.Ор-ден оказался на краю гибели и попросил пере-мирия на 6 месяцев.Грозный согласился,а ор-ден воспользовавшись этим перешел под по-кровительство Литвы.В войну также вмеша-лись Дания и Швец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ричины и начало Ливонской войны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9280" y="1628640"/>
            <a:ext cx="30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Битва русских войск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ливонцам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 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160" y="4149360"/>
            <a:ext cx="9067680" cy="270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о окончании перемирия русские вновь начали наступление и овладели рядом крепост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563 г.русская армия вступила в Литву и оса-дила Полоцк.после 2-недельной осады в фев-рале 1563 г. город пал.Это был последний кру-пный успех русских войск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ричины и начало Ливонской войны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25800" y="809640"/>
            <a:ext cx="4967280" cy="3267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42880" y="180972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ие приводят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ленных ливонце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 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рисоединение Казан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Присоединение Астрахан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Значение присоединения Поволжья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Причины и начало Ливонской войны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ыделите и охарактеризуйте основные направления внешней политики России в сер 16 в.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44800" y="620640"/>
            <a:ext cx="4975200" cy="35337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4220640"/>
            <a:ext cx="8991360" cy="263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ер.16 в.Русское государство активизировалось в По-волжье.Казанские ханы постоянно совершали набеги на русские земли.В Казани содержалось 100 000 плен-ных.Церковь стремилась обратить в православие му-сульман казанцев.Дворяне мечтали расширить свои наделы за счет «Казанской землицы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ходы 1547-48 и 1549-50 гг. оказались неудачны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рисоединение Каз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880" y="225108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занский кремл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16200" y="765000"/>
            <a:ext cx="5203800" cy="2962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320" y="3644640"/>
            <a:ext cx="8991360" cy="321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Летом 1551 г. близ Казани,из заранее приготовленных срубов была построена опорная база-крепость Сви-яжс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августе 1552 г. 150 000-тыс.русское войско подошло к казани и осадило город.Штурм хорошо укрепленной крепости был чреват большими потерями,поэтому саперы под руководством И.Выродкова построили две линии осадных сооружений и подвели под стены подкоп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рисоединение Каз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8144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Рери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вияжск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360" y="4220640"/>
            <a:ext cx="8855280" cy="263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 сентября мощным взрывом часть стены была раз-рушена, русские воины устремились в проем и 2 ок-тября город был взят.В декабре 1552 г.на территории ханства вспыхнуло восстание,но оно было подавле-но, а его руководители были казнены в Москв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V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начал рассылать грамоты поволжским наро-дам и вскоре под власть Москвы перешли башкиры и удмурт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рисоединение Каз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635280" y="825480"/>
            <a:ext cx="5184720" cy="3346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631800" y="21798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зятие Казан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51 г.астраханский хан перешел на службу Моск-ве, но в 1554 г. нарушил договор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июне 1554 г. русские войс-ка без боя вошли в Астра-хань.На ханство была на-ложена дань,а право наз-начать ханов получил И. Грозны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55 г.Астрахань под дав-лением Крыма вновь вы-шла из под власти Моск-вы.В 1556 г.русская армия подошла к городу и его жи тели присягнули Русскому государств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2.Присоединение Астрах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746520" cy="4714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78880" y="6021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ход на Астрахан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919680" cy="446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267080" y="620640"/>
            <a:ext cx="4724640" cy="6237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рисоединение Казани и Ас-трахани обеспечило безо-пасность русских границ на востоке и юго-востоке. Волга стала «русской ре-кой».По ней начала разви-ваться торговля с восточ-ными страна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Российское государство ста-ло многонациональны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Усиление России вызвало недовольство Османской империи.Она подталкива-ла Крымского хана к акти-визации набегов на Русь.В ответ Москва начала стро- ительство Засечной чер-т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159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Times New Roman"/>
              </a:rPr>
              <a:t>3.Значение присоединения Поволжья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516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сширение границ русского государства в сер.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V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,после побед на Вос-токе,решил завоевать вы-ход к Балтийскому морю, чтобы создать условия для организации торговли с Европо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Города Ливонского ордена, выступавшие торговыми посредниками, всячески препятствовали развитию русской торговл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водом к войне стала не-выплата Орденом дани за город Юрьев.После отказа ордена погасить долг И. Грозный в 1558 г.объявил ему войну.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ричины и начало Ливонской войны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2040" y="1197000"/>
            <a:ext cx="3819600" cy="44118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812520" y="59500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Ливонская войн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24T14:18:57Z</dcterms:modified>
  <cp:revision>149</cp:revision>
  <dc:subject/>
  <dc:title>Заголовок слайда отсутствует</dc:title>
</cp:coreProperties>
</file>