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6AD0-A129-46CF-A577-84567624E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E76FF-DBC8-4257-8FB3-CD16B8F07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5D5E6-01CD-49FD-A525-5836960DE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BD868-BD56-4589-A9CF-C9FD3DFF06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EBAA8-3403-4FEA-A416-6FC98B8C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7C86B-8DED-4B85-8149-09F681F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C0023-3E02-4052-9118-4594A67F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91AC1-BA69-42BB-8C08-A4CD1B6C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CD423-A2BD-44D2-BEE7-23A5D3AD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4E8A6-D1A2-4F8D-81E0-F5D0F10A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8099C-45DC-4F42-B44A-BE3372E0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AC94-9AE9-4376-900C-F91AEC06F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89917F-D321-40EA-AFA8-8ED56C94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4C8B2-59D9-4DA7-8FDC-72A84C43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D2165-D77F-4928-A79D-0D26DECE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A4AFB-CA1C-4B7C-9418-AF3C2690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63487-3BE5-4DC8-8805-7CB044DC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5668-B2E9-43CF-8581-B9D1D58941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96773-D68D-40B5-86FC-21A3CF844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063C9-460A-47E8-87FA-62C4264B6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370160" y="375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298E0-DF8B-4068-B881-E5E1C344D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1682-AECB-4866-B294-13E9E365D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122B8-2BC7-4E91-B2FA-0CD8D0FDC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84BD3-F951-4329-BC79-57B533B565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7016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52C2-ED90-4F5F-8421-B0359C4BE7E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previousslide"/>
          </p:cNvPr>
          <p:cNvSpPr/>
          <p:nvPr/>
        </p:nvSpPr>
        <p:spPr>
          <a:xfrm flipH="1" rot="16200000">
            <a:off x="4824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66ccff"/>
              </a:gs>
              <a:gs pos="100000">
                <a:srgbClr val="ff99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492960" y="147600"/>
            <a:ext cx="1887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6699"/>
                </a:solidFill>
                <a:latin typeface="Times New Roman"/>
              </a:rPr>
              <a:t>Меню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18680" y="125280"/>
            <a:ext cx="539640" cy="538200"/>
          </a:xfrm>
          <a:prstGeom prst="ellipse">
            <a:avLst/>
          </a:prstGeom>
          <a:gradFill rotWithShape="0">
            <a:gsLst>
              <a:gs pos="0">
                <a:srgbClr val="757575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470800" y="58680"/>
            <a:ext cx="541440" cy="5349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47404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980000"/>
              </a:path>
            </a:pathLst>
          </a:custGeom>
          <a:solidFill>
            <a:srgbClr val="090a1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72600" y="6336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" name="">
            <a:hlinkClick r:id="" action="ppaction://hlinkshowjump?jump=firstslide"/>
          </p:cNvPr>
          <p:cNvSpPr/>
          <p:nvPr/>
        </p:nvSpPr>
        <p:spPr>
          <a:xfrm>
            <a:off x="8555040" y="142920"/>
            <a:ext cx="378000" cy="3729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" y="463680"/>
            <a:ext cx="79956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33840" y="463680"/>
            <a:ext cx="799200" cy="640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gradFill rotWithShape="0">
            <a:gsLst>
              <a:gs pos="0">
                <a:srgbClr val="090a11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0"/>
            <a:ext cx="1066680" cy="6856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1905120" y="21337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D100-0281-4C88-8AC7-7E2922986F13}" type="datetime">
              <a:rPr b="1" lang="ru-RU" sz="3200" spc="-1" strike="noStrike">
                <a:solidFill>
                  <a:srgbClr val="336699"/>
                </a:solidFill>
                <a:latin typeface="Arial"/>
              </a:rPr>
              <a:t>28.07.26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4"/>
          </p:nvPr>
        </p:nvSpPr>
        <p:spPr>
          <a:xfrm>
            <a:off x="38732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567A-B02C-464C-A6AF-8AFED2B3A81E}" type="slidenum">
              <a:rPr b="0" lang="ru-RU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" action="ppaction://hlinkshowjump?jump=nextslide"/>
          </p:cNvPr>
          <p:cNvSpPr/>
          <p:nvPr/>
        </p:nvSpPr>
        <p:spPr>
          <a:xfrm rot="5400000">
            <a:off x="610920" y="6156360"/>
            <a:ext cx="539640" cy="412920"/>
          </a:xfrm>
          <a:prstGeom prst="triangle">
            <a:avLst>
              <a:gd name="adj" fmla="val 49995"/>
            </a:avLst>
          </a:prstGeom>
          <a:gradFill rotWithShape="0">
            <a:gsLst>
              <a:gs pos="0">
                <a:srgbClr val="ff99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090a1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415880" y="2322360"/>
            <a:ext cx="7620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Comic Sans MS"/>
              </a:rPr>
              <a:t>Внешняя политика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28440">
                  <a:solidFill>
                    <a:srgbClr val="33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Comic Sans MS"/>
              </a:rPr>
              <a:t>России в сер. 16 в.</a:t>
            </a:r>
            <a:endParaRPr b="1" lang="en-US" sz="2400" spc="1" strike="noStrike">
              <a:ln cap="sq" w="28440">
                <a:solidFill>
                  <a:srgbClr val="3366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Comic Sans MS"/>
              <a:ea typeface="Comic Sans M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33720" y="457200"/>
            <a:ext cx="6172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Arial"/>
              </a:rPr>
              <a:t>История Отечества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99D594-509B-4599-8DBE-4BAE7508D6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357800" y="765000"/>
            <a:ext cx="4535280" cy="2981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320" y="3789360"/>
            <a:ext cx="8991360" cy="306864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Русские войска вступили в Прибалтику и заняли  Юрьев,Нарву и подошли к Ревелю и Риге.Ор-ден оказался на краю гибели и попросил пере-мирия на 6 месяцев.Грозный согласился,а ор-ден воспользовавшись этим перешел под по-кровительство Литвы.В войну также вмеша-лись Дания и Швеция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9280" y="1628640"/>
            <a:ext cx="30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Битва русских войск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 ливонцам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160" y="4149360"/>
            <a:ext cx="9067680" cy="27082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По окончании перемирия русские вновь начали наступление и овладели рядом крепостей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90a11"/>
                </a:solidFill>
                <a:latin typeface="Arial"/>
              </a:rPr>
              <a:t>В 1563 г.русская армия вступила в Литву и оса-дила Полоцк.после 2-недельной осады в фев-рале 1563 г. город пал.Это был последний кру-пный успех русских войск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925800" y="809640"/>
            <a:ext cx="4967280" cy="3267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542880" y="1809720"/>
            <a:ext cx="273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усские приводят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ленных ливонце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Гравюра 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4360" y="533520"/>
            <a:ext cx="7240680" cy="98568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240320" cy="4800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336699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1.Присоединение Казан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2.Присоединение Астрахани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3.Значение присоединения Поволжья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90a11"/>
                </a:solidFill>
                <a:latin typeface="Arial"/>
              </a:rPr>
              <a:t>4.Причины и начало Ливонской войны.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4360" y="151920"/>
            <a:ext cx="7240680" cy="98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6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4360" y="1599840"/>
            <a:ext cx="7240680" cy="47242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ыделите и охарактеризуйте основные направления внешней политики России в сер 16 в.?</a:t>
            </a:r>
            <a:endParaRPr b="1" lang="en-US" sz="4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44800" y="620640"/>
            <a:ext cx="4975200" cy="35337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4220640"/>
            <a:ext cx="8991360" cy="263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сер.16 в.Русское государство активизировалось в По-волжье.Казанские ханы постоянно совершали набеги на русские земли.В Казани содержалось 100 000 плен-ных.Церковь стремилась обратить в православие му-сульман казанцев.Дворяне мечтали расширить свои наделы за счет «Казанской землицы»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ходы 1547-48 и 1549-50 гг. оказались неудачны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880" y="225108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Казанский кремл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616200" y="765000"/>
            <a:ext cx="5203800" cy="29624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6320" y="3644640"/>
            <a:ext cx="8991360" cy="3213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Летом 1551 г. близ Казани,из заранее приготовленных срубов была построена опорная база-крепость Сви-яжск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августе 1552 г. 150 000-тыс.русское войско подошло к казани и осадило город.Штурм хорошо укрепленной крепости был чреват большими потерями,поэтому саперы под руководством И.Выродкова построили две линии осадных сооружений и подвели под стены подкоп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1814400"/>
            <a:ext cx="151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Н.Рерих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Свияжск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44360" y="4220640"/>
            <a:ext cx="8855280" cy="263700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к. сентября мощным взрывом часть стены была раз-рушена, русские воины устремились в проем и 2 ок-тября город был взят.В декабре 1552 г.на территории ханства вспыхнуло восстание,но оно было подавле-но, а его руководители были казнены в Москве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 начал рассылать грамоты поволжским наро-дам и вскоре под власть Москвы перешли башкиры и удмурт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1.Присоединение Каз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635280" y="825480"/>
            <a:ext cx="5184720" cy="3346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631800" y="21798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Взятие Казани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51 г.астраханский хан перешел на службу Моск-ве, но в 1554 г. нарушил договор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июне 1554 г. русские войс-ка без боя вошли в Астра-хань.На ханство была на-ложена дань,а право наз-начать ханов получил И. Грозны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В 1555 г.Астрахань под дав-лением Крыма вновь вы-шла из под власти Моск-вы.В 1556 г.русская армия подошла к городу и его жи тели присягнули Русскому государству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90a11"/>
                </a:solidFill>
                <a:latin typeface="Times New Roman"/>
              </a:rPr>
              <a:t>2.Присоединение Астрахани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746520" cy="4714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78880" y="6021360"/>
            <a:ext cx="305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Поход на Астрахань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919680" cy="4464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267080" y="620640"/>
            <a:ext cx="4724640" cy="623736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рисоединение Казани и Ас-трахани обеспечило безо-пасность русских границ на востоке и юго-востоке. Волга стала «русской ре-кой».По ней начала разви-ваться торговля с восточ-ными странам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Российское государство ста-ло многонациональным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Усиление России вызвало недовольство Османской империи.Она подталкива-ла Крымского хана к акти-визации набегов на Русь.В ответ Москва начала стро- ительство Засечной чер-ты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61596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90a11"/>
                </a:solidFill>
                <a:latin typeface="Times New Roman"/>
              </a:rPr>
              <a:t>3.Значение присоединения Поволжья.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551664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Расширение границ русского государства в сер.16 в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267080" y="761760"/>
            <a:ext cx="4724640" cy="6095880"/>
          </a:xfrm>
          <a:prstGeom prst="rect">
            <a:avLst/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Иван</a:t>
            </a:r>
            <a:r>
              <a:rPr b="1" lang="en-US" sz="2400" spc="-1" strike="noStrike">
                <a:solidFill>
                  <a:srgbClr val="090a11"/>
                </a:solidFill>
                <a:latin typeface="Arial"/>
              </a:rPr>
              <a:t> IV</a:t>
            </a: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,после побед на Вос-токе,решил завоевать вы-ход к Балтийскому морю, чтобы создать условия для организации торговли с Европо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Города Ливонского ордена, выступавшие торговыми посредниками, всячески препятствовали развитию русской торговл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90a11"/>
                </a:solidFill>
                <a:latin typeface="Arial"/>
              </a:rPr>
              <a:t>Поводом к войне стала не-выплата Орденом дани за город Юрьев.После отказа ордена погасить долг И. Грозный в 1558 г.объявил ему войну. 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4920" y="75960"/>
            <a:ext cx="8686800" cy="685800"/>
          </a:xfrm>
          <a:prstGeom prst="rect">
            <a:avLst/>
          </a:prstGeom>
          <a:gradFill rotWithShape="0">
            <a:gsLst>
              <a:gs pos="0">
                <a:srgbClr val="005cbf"/>
              </a:gs>
              <a:gs pos="50000">
                <a:srgbClr val="03d4a8"/>
              </a:gs>
              <a:gs pos="100000">
                <a:srgbClr val="005cbf"/>
              </a:gs>
            </a:gsLst>
            <a:lin ang="10800000"/>
          </a:gradFill>
          <a:ln w="76320">
            <a:solidFill>
              <a:srgbClr val="660033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90a11"/>
                </a:solidFill>
                <a:latin typeface="Times New Roman"/>
              </a:rPr>
              <a:t>4.Причины и начало Ливонской войны.</a:t>
            </a:r>
            <a:endParaRPr b="0" lang="en-US" sz="32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2040" y="1197000"/>
            <a:ext cx="3819600" cy="44118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812520" y="595008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90a11"/>
                </a:solidFill>
                <a:uFillTx/>
                <a:latin typeface="Times New Roman"/>
              </a:rPr>
              <a:t>Ливонская война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2T15:12:29Z</dcterms:created>
  <dc:creator>Чернов Алексей</dc:creator>
  <dc:description/>
  <dc:language>en-US</dc:language>
  <cp:lastModifiedBy>Чернов Алексей</cp:lastModifiedBy>
  <cp:lastPrinted>1997-01-19T19:09:28Z</cp:lastPrinted>
  <dcterms:modified xsi:type="dcterms:W3CDTF">2002-08-24T14:18:57Z</dcterms:modified>
  <cp:revision>149</cp:revision>
  <dc:subject/>
  <dc:title>Заголовок слайда отсутствует</dc:title>
</cp:coreProperties>
</file>