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63D4-BEBA-4CAD-8525-623D39C8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70F-472B-4958-90DB-275BA73D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074F-8B0D-47F0-A643-2EAFDA6C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7F9-9726-4529-BBA2-5C3836E7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CFE0-529D-47D7-9763-DA2A0794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E965-1530-4145-98BC-0613C823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3E06-B791-4301-8D4A-6ACCA079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B25C-2401-46AF-AA5D-13B4638E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4919-BDB8-4A6C-96B7-70931360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037E-1049-469A-8DA5-E4504FBD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8EF45-2232-4C2F-A5AE-224587D6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8E9D-A37D-4136-9E4C-A320CD31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95F5-16F7-4D4F-B277-0C5F7392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0028-4654-436D-BABD-81CF54F5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1741-A814-45EC-84E0-9936CF97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4201-5604-4C86-8A89-323C3F3A9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23AA-09BF-472F-8243-7D2BE280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B83D9-3300-4928-97FE-89931020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CBB3A-6508-4638-96B9-FAAE4FF4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DB8E6-B642-489B-8DC7-95B454C3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2ADE7-A62C-4D64-A02D-DFB63C52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9BE6C-6DBF-498B-965C-279F558C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9AA-B63B-4A22-BF37-DA91DBFA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EECB4-F4AC-40E4-B3CA-838FE001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1A5C1-381A-4D9F-8C81-5A255215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219C4-12AC-4150-B244-18036F93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6B21D-1183-4889-AEAC-4B3A0AEA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D2AE6-21EA-4A97-880A-35179E46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70551-2BBD-4728-BF21-682E616FE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0D49-5A93-46A2-87A3-84AC3C7E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EFB51-F70B-463B-A8B5-888665B32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F6CCB-B4D3-4606-BFC1-5301F26E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FD95F-F621-449E-97CA-3223AEA8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E25C-4A4E-4B2E-B023-C04309A5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F56A8-E114-415E-AC20-C99EA624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A777D-6F92-4072-B5E4-6D094BAE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36280-F4FB-4CCD-B9C1-8EBC9879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4A19C-3F10-41CF-9A07-E0FFBC34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695FD-173F-4FEA-987C-93A9A8E7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CEAB1-B14A-424B-AFC1-03F59B35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E7189-36E6-48BF-9ADB-1BEAEA2B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BC3E4-80DD-4E74-9DD2-FB5959684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0723C-17FB-4D57-BAFD-054BC9653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9692E-CC79-49F3-9320-E0D05B5C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630-D783-422B-8235-980EDBB0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7FF28-D6E9-470D-8371-8ACE9370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DAC9C-AF61-4F29-A8B8-B204284A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60F0D-1E4E-48EA-947A-B7FCD34B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4F040-8B99-488B-BB28-53AF3A41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69056-8684-4228-9FF6-23D76F44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F1C22-6341-402F-9A62-65BB3F69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6EDA7-451D-4F61-A8D7-A990373E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A2410-1095-41BE-BCE4-119F9A00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4E0A3-B432-4FE4-9476-B9DD85AA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01A1F-156C-4DFB-BBB3-358582ED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B1A-04E1-4CDE-B7C9-9DB8C945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32612-9068-4B4A-A6B1-8A9A7DF1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66823-9E54-426B-AD1F-63A440790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EA893-3E62-4E43-89D0-683F9910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30DEA-90FA-439A-B659-DA438D83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67886-2F0D-4199-8487-BE56D08E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986D1-40C8-4D63-8FEF-BA77A739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F7A8D-7D20-4A2E-A7CB-CFA9926B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71E43-E300-4AB3-BD8D-D2A22747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48E51-EA8F-4ADF-8BE8-596FA5F9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F9E62-1A82-4E61-972D-1CB7FD26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71A-9BB4-4B7D-8835-8A8930BA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5DB63-7477-4070-8E41-51048C05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6486D-7788-4176-8F82-4709DED3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FB7F0-1DBE-4CFE-B17B-2643B757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221E8-1A67-4B77-9C60-1CE08F5E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5CFA8-97DC-4337-8EF4-444F91FAA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4EFE8-7114-498F-B833-37F59078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BA103-24A0-4877-81B9-CA618A06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0F9AB-0F07-477A-9D45-6FF5398E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7E3B4-A20A-462B-A78C-F6E88FD9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A9253-8666-4F31-A229-B06571B3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CFAF-9E25-4353-984A-6BAC5082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C2960-8E66-42DE-9229-9E32FAA0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02669-023D-4C55-825C-98DF39E7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09FD3-B2FB-4E16-A784-135C2D6F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9E5FB-E56C-4F9C-ADF2-D94C00DF4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DF6BC-57D0-4AA8-BD9B-D4F385FA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D24E-C299-4BB2-9E8B-E2649EC7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413C-0E80-450F-B78E-F122DFB6827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4AE8-27E4-4747-A4B1-720F2935D7E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48B4-73E3-4810-879D-708BCFA8392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62D6-7D8C-4D43-BBD6-F92A2EE3997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C52E-12D1-4BC3-846E-0A7DEC4EB70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89BE-8316-4D1C-81D2-9251010154A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6364-E0F6-47FE-91C4-BF01E0E4C83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9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ndara"/>
              </a:rPr>
              <a:t>Представление числовой информации с помощью систем счислен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914040" y="3505320"/>
            <a:ext cx="7543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Candara"/>
              </a:rPr>
              <a:t>Урок информатики в 8 класс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21b2b"/>
                </a:solidFill>
                <a:latin typeface="Times New Roman"/>
                <a:ea typeface="Times New Roman"/>
              </a:rPr>
              <a:t>Смирновой Елены Александровны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Times New Roman"/>
                <a:ea typeface="Times New Roman"/>
              </a:rPr>
              <a:t>учителя информатики МОБУ Новобурейской СОШ № 3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Times New Roman"/>
                <a:ea typeface="Times New Roman"/>
              </a:rPr>
              <a:t>2016-2017 учебный год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7200" y="8380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Candara"/>
              </a:rPr>
              <a:t>Натуральные числа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, т. е. целые положительные числа (без нуля), можно записывать при помощи повторения римских цифр, используя </a:t>
            </a:r>
            <a:r>
              <a:rPr b="1" lang="ru-RU" sz="2400" spc="-1" strike="noStrike">
                <a:solidFill>
                  <a:srgbClr val="c00000"/>
                </a:solidFill>
                <a:latin typeface="Candara"/>
              </a:rPr>
              <a:t>четыре следующих правила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ndara"/>
              </a:rPr>
              <a:t>1. Для правильной записи больших чисел</a:t>
            </a:r>
            <a:r>
              <a:rPr b="1" lang="ru-RU" sz="2400" spc="-1" strike="noStrike">
                <a:solidFill>
                  <a:srgbClr val="c00000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римскими цифрами необходимо сначала записать число тысяч, затем сотен, затем десятков и, наконец, единиц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Пример: число 1988. Одна тысяча M, девять сотен CM, восемьдесят LXXX, восемь VIII. Запишем их вместе: MCMLXXXVIII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ndara"/>
              </a:rPr>
              <a:t>2</a:t>
            </a:r>
            <a:r>
              <a:rPr b="1" lang="ru-RU" sz="2400" spc="-1" strike="noStrike">
                <a:solidFill>
                  <a:srgbClr val="c00000"/>
                </a:solidFill>
                <a:latin typeface="Candara"/>
              </a:rPr>
              <a:t>. </a:t>
            </a:r>
            <a:r>
              <a:rPr b="1" i="1" lang="ru-RU" sz="2400" spc="-1" strike="noStrike">
                <a:solidFill>
                  <a:srgbClr val="c00000"/>
                </a:solidFill>
                <a:latin typeface="Candara"/>
              </a:rPr>
              <a:t>Правило сложения</a:t>
            </a:r>
            <a:r>
              <a:rPr b="1" lang="ru-RU" sz="2400" spc="-1" strike="noStrike">
                <a:solidFill>
                  <a:srgbClr val="c00000"/>
                </a:solidFill>
                <a:latin typeface="Candara"/>
              </a:rPr>
              <a:t>: 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если все цифры в числе по значению не возрастают, если считать слева направо, то они </a:t>
            </a:r>
            <a:r>
              <a:rPr b="1" i="1" lang="ru-RU" sz="2400" spc="-1" strike="noStrike">
                <a:solidFill>
                  <a:srgbClr val="0d0d0d"/>
                </a:solidFill>
                <a:latin typeface="Candara"/>
              </a:rPr>
              <a:t>складываются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Например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II = 2, VI = 6, XI = 11 — правильно, IV = 6, XL = 60 — неправильно</a:t>
            </a:r>
            <a:r>
              <a:rPr b="1" lang="ru-RU" sz="1800" spc="-1" strike="noStrike">
                <a:solidFill>
                  <a:srgbClr val="0d0d0d"/>
                </a:solidFill>
                <a:latin typeface="Candara"/>
              </a:rPr>
              <a:t>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ru-RU" sz="2500" spc="-1" strike="noStrike">
                <a:solidFill>
                  <a:srgbClr val="c00000"/>
                </a:solidFill>
                <a:latin typeface="Candara"/>
              </a:rPr>
              <a:t>Запись римскими цифрами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52280" y="228600"/>
            <a:ext cx="88394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ndara"/>
              </a:rPr>
              <a:t>3.</a:t>
            </a:r>
            <a:r>
              <a:rPr b="1" lang="ru-RU" sz="2400" spc="-1" strike="noStrike">
                <a:solidFill>
                  <a:srgbClr val="c00000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Candara"/>
              </a:rPr>
              <a:t>Правило вычитания</a:t>
            </a:r>
            <a:r>
              <a:rPr b="1" lang="ru-RU" sz="2400" spc="-1" strike="noStrike">
                <a:solidFill>
                  <a:srgbClr val="c00000"/>
                </a:solidFill>
                <a:latin typeface="Candara"/>
              </a:rPr>
              <a:t>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1) сначала во всех парах, где меньшая цифра стоит перед большей, </a:t>
            </a:r>
            <a:r>
              <a:rPr b="1" i="1" lang="ru-RU" sz="2400" spc="-1" strike="noStrike">
                <a:solidFill>
                  <a:srgbClr val="0d0d0d"/>
                </a:solidFill>
                <a:latin typeface="Candara"/>
              </a:rPr>
              <a:t>вычитается 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меньшая цифра из большей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2) Затем полученные результаты вместе с оставшимися цифрами подпадают под принцип сложения и складывают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ndara"/>
              </a:rPr>
              <a:t>Например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ndara"/>
              </a:rPr>
              <a:t>IV = 4, XIV = 14, XXIX = 29 — правильно,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ndara"/>
              </a:rPr>
              <a:t>IVX = 6, IXX = 1 — неправильно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ndara"/>
              </a:rPr>
              <a:t>4</a:t>
            </a:r>
            <a:r>
              <a:rPr b="1" lang="ru-RU" sz="2400" spc="-1" strike="noStrike">
                <a:solidFill>
                  <a:srgbClr val="c00000"/>
                </a:solidFill>
                <a:latin typeface="Candara"/>
              </a:rPr>
              <a:t>. </a:t>
            </a:r>
            <a:r>
              <a:rPr b="1" i="1" lang="ru-RU" sz="2400" spc="-1" strike="noStrike">
                <a:solidFill>
                  <a:srgbClr val="c00000"/>
                </a:solidFill>
                <a:latin typeface="Candara"/>
              </a:rPr>
              <a:t>Правило ограничения</a:t>
            </a:r>
            <a:r>
              <a:rPr b="1" lang="ru-RU" sz="2400" spc="-1" strike="noStrike">
                <a:solidFill>
                  <a:srgbClr val="c00000"/>
                </a:solidFill>
                <a:latin typeface="Candara"/>
              </a:rPr>
              <a:t>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число записывается слева направо максимально возможными цифрами;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но четыре одинаковых </a:t>
            </a:r>
            <a:r>
              <a:rPr b="1" i="1" lang="ru-RU" sz="2400" spc="-1" strike="noStrike">
                <a:solidFill>
                  <a:srgbClr val="0d0d0d"/>
                </a:solidFill>
                <a:latin typeface="Candara"/>
              </a:rPr>
              <a:t>десятичных 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знака подряд заменяются этим десятичным и следующим половинным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601"/>
              </a:spcBef>
              <a:buClr>
                <a:srgbClr val="31b6fd"/>
              </a:buClr>
              <a:buFont typeface="Candar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но если при этой замене </a:t>
            </a:r>
            <a:r>
              <a:rPr b="1" i="1" lang="ru-RU" sz="2400" spc="-1" strike="noStrike">
                <a:solidFill>
                  <a:srgbClr val="0d0d0d"/>
                </a:solidFill>
                <a:latin typeface="Candara"/>
              </a:rPr>
              <a:t>этот десятичный 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знак оказывается между двумя одинаковыми половинными, то эти три знака заменяются </a:t>
            </a:r>
            <a:r>
              <a:rPr b="1" i="1" lang="ru-RU" sz="2400" spc="-1" strike="noStrike">
                <a:solidFill>
                  <a:srgbClr val="0d0d0d"/>
                </a:solidFill>
                <a:latin typeface="Candara"/>
              </a:rPr>
              <a:t>этим десятичным 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и следующим десятичным (т. е. два половинных знака заменяются равноценным десятичным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ndara"/>
              </a:rPr>
              <a:t>Например: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ndara"/>
              </a:rPr>
              <a:t>4 = IV, а не IIII; 9 = IX, а не VIIII или VIV; 19 = XIX,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ndara"/>
              </a:rPr>
              <a:t>а не XVIIII или XVIV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762120" y="236232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70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Candara"/>
                <a:ea typeface="Times New Roman"/>
              </a:rPr>
              <a:t>для записи больших чисел необходимо вводить новые цифры (буквы)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70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Candara"/>
                <a:ea typeface="Times New Roman"/>
              </a:rPr>
              <a:t>трудно записывать большие числ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70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Candara"/>
                <a:ea typeface="Times New Roman"/>
              </a:rPr>
              <a:t>нельзя записать дробные и отрицательные числ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70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Candara"/>
                <a:ea typeface="Times New Roman"/>
              </a:rPr>
              <a:t>нет нул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70000"/>
              </a:lnSpc>
              <a:buClr>
                <a:srgbClr val="31b6f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0d0d"/>
                </a:solidFill>
                <a:latin typeface="Candara"/>
                <a:ea typeface="Times New Roman"/>
              </a:rPr>
              <a:t>очень сложно выполнять арифметические операц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ndara"/>
                <a:ea typeface="Times New Roman"/>
              </a:rPr>
              <a:t>Недостатки 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Candara"/>
                <a:ea typeface="Times New Roman"/>
              </a:rPr>
              <a:t>непозиционных систем счисления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ndara"/>
              </a:rPr>
              <a:t>Алфавит цифр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Наиболее распространенными в настоящее время позиционными системами счисления являются    </a:t>
            </a:r>
            <a:r>
              <a:rPr b="1" lang="ru-RU" sz="4000" spc="-1" strike="noStrike">
                <a:solidFill>
                  <a:srgbClr val="0d0d0d"/>
                </a:solidFill>
                <a:latin typeface="Candara"/>
              </a:rPr>
              <a:t>десятичная   и   двоичная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Позиционные системы счислен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876920" y="130140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ndara"/>
              </a:rPr>
              <a:t>Основание системы 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равно количеству цифр(знаков) в алфавите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67" name="Picture 9" descr="ответы на экзамен"/>
          <p:cNvPicPr/>
          <p:nvPr/>
        </p:nvPicPr>
        <p:blipFill>
          <a:blip r:embed="rId1"/>
          <a:srcRect l="0" t="13191" r="0" b="0"/>
          <a:stretch/>
        </p:blipFill>
        <p:spPr>
          <a:xfrm>
            <a:off x="1600200" y="2438280"/>
            <a:ext cx="6095880" cy="1824120"/>
          </a:xfrm>
          <a:prstGeom prst="rect">
            <a:avLst/>
          </a:prstGeom>
          <a:ln w="0">
            <a:noFill/>
          </a:ln>
        </p:spPr>
      </p:pic>
      <p:sp>
        <p:nvSpPr>
          <p:cNvPr id="368" name="Line 10"/>
          <p:cNvSpPr/>
          <p:nvPr/>
        </p:nvSpPr>
        <p:spPr>
          <a:xfrm flipH="1">
            <a:off x="2285640" y="838080"/>
            <a:ext cx="152388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5257800" y="838080"/>
            <a:ext cx="175248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ndara"/>
              </a:rPr>
              <a:t>Древнейшая запись обнаружена в Индии и датируется 595г. В том языке чисел, которым и мы обычно пользуемся, алфавитом служат десять цифр – от 0 до 9, называемые арабскими цифрами  Это десятичная система счисления.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ndara"/>
              </a:rPr>
              <a:t>Причина, по которой десятичная система счисления стала общепринятой, вовсе не математическая. Десять пальцев рук – вот аппарат для счета, которым человек пользуется с доисторических времен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ndara"/>
              </a:rPr>
              <a:t>Древнее изображение десятичных цифр не случайно: каждая цифра обозначает число по количеству углов в ней. Например, 0 – углов нет, 2 – два угла и т.д. Написание десятичных цифр претерпело существенные изменения. Форма, которой мы пользуемся, установилась в </a:t>
            </a:r>
            <a:r>
              <a:rPr b="1" lang="en-US" sz="1600" spc="-1" strike="noStrike">
                <a:solidFill>
                  <a:srgbClr val="0d0d0d"/>
                </a:solidFill>
                <a:latin typeface="Candara"/>
              </a:rPr>
              <a:t>XVI</a:t>
            </a:r>
            <a:r>
              <a:rPr b="1" lang="ru-RU" sz="1600" spc="-1" strike="noStrike">
                <a:solidFill>
                  <a:srgbClr val="0d0d0d"/>
                </a:solidFill>
                <a:latin typeface="Candara"/>
              </a:rPr>
              <a:t> веке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ndara"/>
              </a:rPr>
              <a:t>Индийская нумерация пришла сначала в арабские страны, а потом в Западную Европу. Простые и удобные правила сложения и вычитания очень больших чисел, записанной в этой системе, сделали ее особенно популярной.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ndara"/>
              </a:rPr>
              <a:t>Эти правила вывел азиатский математик аль-Хорезми. А поскольку его труд был написан на арабском языке, то и Индийская нумерация в Европе закрепилась неправильным названием "арабское".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ndara"/>
              </a:rPr>
              <a:t>Возникновение и развитие десятичной системы счисления явилось одним из важнейших достижений человеческой мысли (наряду с появлением письменности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d0d0d"/>
                </a:solidFill>
                <a:latin typeface="Candara"/>
              </a:rPr>
              <a:t>Однако десятичной системой счисления люди пользовались не всегда. В разные исторические периоды многие народы использовали другие системы счисления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         </a:t>
            </a:r>
            <a:r>
              <a:rPr b="1" lang="ru-RU" sz="4000" spc="-1" strike="noStrike">
                <a:solidFill>
                  <a:srgbClr val="c00000"/>
                </a:solidFill>
                <a:latin typeface="Candara"/>
              </a:rPr>
              <a:t>Десятичная система счислен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2" name="Picture 4" descr="clip_image006"/>
          <p:cNvPicPr/>
          <p:nvPr/>
        </p:nvPicPr>
        <p:blipFill>
          <a:blip r:embed="rId1"/>
          <a:stretch/>
        </p:blipFill>
        <p:spPr>
          <a:xfrm>
            <a:off x="122400" y="179280"/>
            <a:ext cx="1447560" cy="1071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clip_image007"/>
          <p:cNvPicPr/>
          <p:nvPr/>
        </p:nvPicPr>
        <p:blipFill>
          <a:blip r:embed="rId2"/>
          <a:stretch/>
        </p:blipFill>
        <p:spPr>
          <a:xfrm>
            <a:off x="4419720" y="3276720"/>
            <a:ext cx="4267080" cy="56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304920" y="228600"/>
            <a:ext cx="845820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зиция цифры в числе называется </a:t>
            </a:r>
            <a:r>
              <a:rPr b="0" lang="ru-RU" sz="2200" spc="-1" strike="noStrike">
                <a:solidFill>
                  <a:srgbClr val="c00000"/>
                </a:solidFill>
                <a:latin typeface="Times New Roman"/>
              </a:rPr>
              <a:t>разрядо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яды числа возрастают справа налево, от младших разрядов к старшим, причём значения одинаковых цифр, стоящих в соседних разрядах числа, различаются на величину осно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   </a:t>
            </a: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Рассмотрим в качестве примера десятичное число </a:t>
            </a:r>
            <a:r>
              <a:rPr b="1" lang="ru-RU" sz="2000" spc="-1" strike="noStrike">
                <a:solidFill>
                  <a:srgbClr val="c00000"/>
                </a:solidFill>
                <a:latin typeface="Candara"/>
              </a:rPr>
              <a:t>555</a:t>
            </a: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. Цифра 5 встречается трижды, причем самая правая обозначает пять единиц, вторая справа — пять десятков и, наконец, третья — пять сотен.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     </a:t>
            </a: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Число 555 записано в привычной для нас </a:t>
            </a:r>
            <a:r>
              <a:rPr b="1" lang="ru-RU" sz="2000" spc="-1" strike="noStrike">
                <a:solidFill>
                  <a:srgbClr val="c00000"/>
                </a:solidFill>
                <a:latin typeface="Candara"/>
              </a:rPr>
              <a:t>свернутой форме</a:t>
            </a: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. Мы настолько привыкли к такой форме записи, что уже не замечаем, как в уме умножаем цифры числа на различные степени числа 10.</a:t>
            </a:r>
            <a:br>
              <a:rPr sz="2000"/>
            </a:b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    </a:t>
            </a:r>
            <a:br>
              <a:rPr sz="2000"/>
            </a:b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   </a:t>
            </a:r>
            <a:r>
              <a:rPr b="1" lang="ru-RU" sz="2000" spc="-1" strike="noStrike">
                <a:solidFill>
                  <a:srgbClr val="c00000"/>
                </a:solidFill>
                <a:latin typeface="Candara"/>
              </a:rPr>
              <a:t>  В развернутой форме </a:t>
            </a:r>
            <a:r>
              <a:rPr b="1" lang="ru-RU" sz="2000" spc="-1" strike="noStrike">
                <a:solidFill>
                  <a:srgbClr val="0d0d0d"/>
                </a:solidFill>
                <a:latin typeface="Candara"/>
              </a:rPr>
              <a:t>запись числа 555 в десятичной системе выглядит следующим образом:</a:t>
            </a:r>
            <a:br>
              <a:rPr sz="2000"/>
            </a:b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555</a:t>
            </a:r>
            <a:r>
              <a:rPr b="1" lang="ru-RU" sz="2800" spc="-1" strike="noStrike" baseline="-10000">
                <a:solidFill>
                  <a:srgbClr val="0d0d0d"/>
                </a:solidFill>
                <a:latin typeface="Candara"/>
              </a:rPr>
              <a:t>10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=5*10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2 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 +5*10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1 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 +5*10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0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ndara"/>
              </a:rPr>
              <a:t>    </a:t>
            </a:r>
            <a:br>
              <a:rPr sz="1800"/>
            </a:br>
            <a:r>
              <a:rPr b="1" lang="ru-RU" sz="1800" spc="-1" strike="noStrike">
                <a:solidFill>
                  <a:srgbClr val="0d0d0d"/>
                </a:solidFill>
                <a:latin typeface="Candara"/>
              </a:rPr>
              <a:t>     </a:t>
            </a: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Как видно из примера, число в позиционных системах счисления записывается в виде суммы степеней основания (в данном случае 10), коэффициентами при этом являются цифры данного числа.</a:t>
            </a:r>
            <a:br>
              <a:rPr sz="2200"/>
            </a:b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                — </a:t>
            </a: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это позиционная система счисления, состоящая только из двух цифр:   0 и 1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При этом, как и во всякой позиционной системе, значение цифры зависит дополнительно от занимаемого ею места. Число 2 считается единицей 2-го разряда и записывается так: 10 (читается: «один, нуль»). Каждая единица следующего разряда в два раза больше предыдущей, т. е. эти единицы составляют последовательность чисел 2, 4, 8, 16,..., 2n,..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В компьютерах используется именно эта система счисления из-за своей простоты. Простота выполнения операций в двоичной системе счисления связана с двумя обстоятельствами: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1) простотой аппаратной реализации: 1 — есть сигнал, 0 — нет сигнала;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2) самое сложное действие таблицы умножения — это 1</a:t>
            </a:r>
            <a:r>
              <a:rPr b="1" lang="ru-RU" sz="2200" spc="-1" strike="noStrike" baseline="-10000">
                <a:solidFill>
                  <a:srgbClr val="0d0d0d"/>
                </a:solidFill>
                <a:latin typeface="Candara"/>
              </a:rPr>
              <a:t>2</a:t>
            </a: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 × 1</a:t>
            </a:r>
            <a:r>
              <a:rPr b="1" lang="ru-RU" sz="2200" spc="-1" strike="noStrike" baseline="-10000">
                <a:solidFill>
                  <a:srgbClr val="0d0d0d"/>
                </a:solidFill>
                <a:latin typeface="Candara"/>
              </a:rPr>
              <a:t>2</a:t>
            </a: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 = 1</a:t>
            </a:r>
            <a:r>
              <a:rPr b="1" lang="ru-RU" sz="2200" spc="-1" strike="noStrike" baseline="-10000">
                <a:solidFill>
                  <a:srgbClr val="0d0d0d"/>
                </a:solidFill>
                <a:latin typeface="Candara"/>
              </a:rPr>
              <a:t>2</a:t>
            </a: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, а   таблицы сложения — 1</a:t>
            </a:r>
            <a:r>
              <a:rPr b="1" lang="ru-RU" sz="2200" spc="-1" strike="noStrike" baseline="-10000">
                <a:solidFill>
                  <a:srgbClr val="0d0d0d"/>
                </a:solidFill>
                <a:latin typeface="Candara"/>
              </a:rPr>
              <a:t>2</a:t>
            </a: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 + 1</a:t>
            </a:r>
            <a:r>
              <a:rPr b="1" lang="ru-RU" sz="2200" spc="-1" strike="noStrike" baseline="-10000">
                <a:solidFill>
                  <a:srgbClr val="0d0d0d"/>
                </a:solidFill>
                <a:latin typeface="Candara"/>
              </a:rPr>
              <a:t>2</a:t>
            </a: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 = 10</a:t>
            </a:r>
            <a:r>
              <a:rPr b="1" lang="ru-RU" sz="2200" spc="-1" strike="noStrike" baseline="-10000">
                <a:solidFill>
                  <a:srgbClr val="0d0d0d"/>
                </a:solidFill>
                <a:latin typeface="Candara"/>
              </a:rPr>
              <a:t>2</a:t>
            </a:r>
            <a:r>
              <a:rPr b="1" lang="ru-RU" sz="2200" spc="-1" strike="noStrike">
                <a:solidFill>
                  <a:srgbClr val="0d0d0d"/>
                </a:solidFill>
                <a:latin typeface="Candara"/>
              </a:rPr>
              <a:t>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ndara"/>
              </a:rPr>
              <a:t>Двоичная система счисления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8" name="Picture 4" descr="clip_image002"/>
          <p:cNvPicPr/>
          <p:nvPr/>
        </p:nvPicPr>
        <p:blipFill>
          <a:blip r:embed="rId1"/>
          <a:stretch/>
        </p:blipFill>
        <p:spPr>
          <a:xfrm>
            <a:off x="152280" y="228600"/>
            <a:ext cx="1152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762120" y="1981080"/>
            <a:ext cx="7408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В двоичной системе основание равно 2, а алфавит состоит из двух цифр (0 и 1). В развернутой форме двоичные числа записываются в виде суммы степеней основания 2 с коэффициентами, в качестве которых выступают цифры 0 или 1.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    </a:t>
            </a:r>
            <a:br>
              <a:rPr sz="2800"/>
            </a:b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     Например, развернутая запись двоичного числа 101</a:t>
            </a:r>
            <a:r>
              <a:rPr b="1" lang="ru-RU" sz="2800" spc="-1" strike="noStrike" baseline="-10000">
                <a:solidFill>
                  <a:srgbClr val="0d0d0d"/>
                </a:solidFill>
                <a:latin typeface="Candar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 будет иметь вид:</a:t>
            </a:r>
            <a:br>
              <a:rPr sz="2800"/>
            </a:b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101</a:t>
            </a:r>
            <a:r>
              <a:rPr b="1" lang="ru-RU" sz="2800" spc="-1" strike="noStrike" baseline="-10000">
                <a:solidFill>
                  <a:srgbClr val="0d0d0d"/>
                </a:solidFill>
                <a:latin typeface="Candara"/>
              </a:rPr>
              <a:t>2 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= 1 * 2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2 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+ 0 * 2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1 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+ 1 * 2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0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         </a:t>
            </a:r>
            <a:br>
              <a:rPr sz="2800"/>
            </a:b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ndara"/>
              </a:rPr>
              <a:t>Запись чисел в двоичной системе счислени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352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1. Что такое система счисления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2. Какие системы счисления вы знаете? Чем характеризуется система счисления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3. В чем основное отличие позиционных систем счисления от непозиционных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4. Каково наименьшее основание для позиционной системы счисления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5. Что подразумевается под арабской системой записи чисел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6. Какие две формы записи чисел вам известны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7. Что значит число в развернутой форме? Приведите пример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8. Чему в десятичной системе счисления равны следующие числа, записанные римскими цифрами: а) XI; б) LX; в) MDX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ndara"/>
              </a:rPr>
              <a:t>Ответьте на вопрос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Какой числовой эквивалент имеет цифра 6 в числах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6789        3650         16          69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Какие числа записаны римскими цифрами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а)  </a:t>
            </a:r>
            <a:r>
              <a:rPr b="1" lang="en-US" sz="2400" spc="-1" strike="noStrike">
                <a:solidFill>
                  <a:srgbClr val="0d0d0d"/>
                </a:solidFill>
                <a:latin typeface="Candara"/>
              </a:rPr>
              <a:t>MCMXCIX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;   б) </a:t>
            </a:r>
            <a:r>
              <a:rPr b="1" lang="en-US" sz="2400" spc="-1" strike="noStrike">
                <a:solidFill>
                  <a:srgbClr val="0d0d0d"/>
                </a:solidFill>
                <a:latin typeface="Candara"/>
              </a:rPr>
              <a:t>CMLXXXVIII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;   в) </a:t>
            </a:r>
            <a:r>
              <a:rPr b="1" lang="en-US" sz="2400" spc="-1" strike="noStrike">
                <a:solidFill>
                  <a:srgbClr val="0d0d0d"/>
                </a:solidFill>
                <a:latin typeface="Candara"/>
              </a:rPr>
              <a:t>MCXLVII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Некоторые римские цифры легко изобразить, используя палочки или спички. Ниже написано несколько неверных равенств. Как можно получить из них верные равенства, если разрешается переложить с одного места на другое только одну спичку (палочку)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andara"/>
              </a:rPr>
              <a:t>VII - V=XI</a:t>
            </a:r>
            <a:r>
              <a:rPr b="1" lang="en-US" sz="2400" spc="-1" strike="noStrike">
                <a:solidFill>
                  <a:srgbClr val="0d0d0d"/>
                </a:solidFill>
                <a:latin typeface="Candara"/>
              </a:rPr>
              <a:t>	</a:t>
            </a:r>
            <a:r>
              <a:rPr b="1" lang="en-US" sz="2400" spc="-1" strike="noStrike">
                <a:solidFill>
                  <a:srgbClr val="0d0d0d"/>
                </a:solidFill>
                <a:latin typeface="Candara"/>
              </a:rPr>
              <a:t>	</a:t>
            </a:r>
            <a:r>
              <a:rPr b="1" lang="en-US" sz="2400" spc="-1" strike="noStrike">
                <a:solidFill>
                  <a:srgbClr val="0d0d0d"/>
                </a:solidFill>
                <a:latin typeface="Candara"/>
              </a:rPr>
              <a:t>IX-V=VI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   </a:t>
            </a:r>
            <a:r>
              <a:rPr b="1" lang="en-US" sz="2400" spc="-1" strike="noStrike">
                <a:solidFill>
                  <a:srgbClr val="0d0d0d"/>
                </a:solidFill>
                <a:latin typeface="Candara"/>
              </a:rPr>
              <a:t>VI - IX=III</a:t>
            </a:r>
            <a:r>
              <a:rPr b="1" lang="en-US" sz="2400" spc="-1" strike="noStrike">
                <a:solidFill>
                  <a:srgbClr val="0d0d0d"/>
                </a:solidFill>
                <a:latin typeface="Candara"/>
              </a:rPr>
              <a:t>	</a:t>
            </a:r>
            <a:r>
              <a:rPr b="1" lang="en-US" sz="2400" spc="-1" strike="noStrike">
                <a:solidFill>
                  <a:srgbClr val="0d0d0d"/>
                </a:solidFill>
                <a:latin typeface="Candara"/>
              </a:rPr>
              <a:t>	</a:t>
            </a:r>
            <a:r>
              <a:rPr b="1" lang="en-US" sz="2400" spc="-1" strike="noStrike">
                <a:solidFill>
                  <a:srgbClr val="0d0d0d"/>
                </a:solidFill>
                <a:latin typeface="Candara"/>
              </a:rPr>
              <a:t>VIII - III=X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ndara"/>
              </a:rPr>
              <a:t>Задания для самостоятельного выполнения:</a:t>
            </a:r>
            <a:r>
              <a:rPr b="1" lang="ru-RU" sz="4000" spc="-1" strike="noStrike">
                <a:solidFill>
                  <a:srgbClr val="c00000"/>
                </a:solidFill>
                <a:latin typeface="Candar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Сформировать у учащихся понятие системы счисления, позиционной и не позиционной системы счисления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Сформировать у учащихся понятие основание системы счисления, разряда, свёрнутой и развёрнутой формы записи числа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Научить записывать числа в свёрнутой и развёрнутой форме запис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ndara"/>
              </a:rPr>
              <a:t>Задачи урока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Запишите в развернутой форме числа: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а) А </a:t>
            </a:r>
            <a:r>
              <a:rPr b="1" lang="ru-RU" sz="2800" spc="-1" strike="noStrike" baseline="-10000">
                <a:solidFill>
                  <a:srgbClr val="0d0d0d"/>
                </a:solidFill>
                <a:latin typeface="Candara"/>
              </a:rPr>
              <a:t>10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=143511; г) А </a:t>
            </a:r>
            <a:r>
              <a:rPr b="1" lang="ru-RU" sz="2800" spc="-1" strike="noStrike" baseline="-10000">
                <a:solidFill>
                  <a:srgbClr val="0d0d0d"/>
                </a:solidFill>
                <a:latin typeface="Candara"/>
              </a:rPr>
              <a:t>10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=143,511;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б) А </a:t>
            </a:r>
            <a:r>
              <a:rPr b="1" lang="ru-RU" sz="2800" spc="-1" strike="noStrike" baseline="-10000">
                <a:solidFill>
                  <a:srgbClr val="0d0d0d"/>
                </a:solidFill>
                <a:latin typeface="Candar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=100111; в) А </a:t>
            </a:r>
            <a:r>
              <a:rPr b="1" lang="ru-RU" sz="2800" spc="-1" strike="noStrike" baseline="-10000">
                <a:solidFill>
                  <a:srgbClr val="0d0d0d"/>
                </a:solidFill>
                <a:latin typeface="Candara"/>
              </a:rPr>
              <a:t>2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=1011,10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Запишите в свернутой форме следующие числа: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а) А </a:t>
            </a:r>
            <a:r>
              <a:rPr b="1" lang="ru-RU" sz="2800" spc="-1" strike="noStrike" baseline="-10000">
                <a:solidFill>
                  <a:srgbClr val="0d0d0d"/>
                </a:solidFill>
                <a:latin typeface="Candara"/>
              </a:rPr>
              <a:t>10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= 9·10 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1 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+1·10 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0 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+5·10 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-1 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+3·10 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-2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;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б) А </a:t>
            </a:r>
            <a:r>
              <a:rPr b="1" lang="ru-RU" sz="2800" spc="-1" strike="noStrike" baseline="-10000">
                <a:solidFill>
                  <a:srgbClr val="0d0d0d"/>
                </a:solidFill>
                <a:latin typeface="Candara"/>
              </a:rPr>
              <a:t>10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=10·10 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2 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+1·10 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1 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+7·10 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0 </a:t>
            </a: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+5·10 </a:t>
            </a:r>
            <a:r>
              <a:rPr b="1" lang="ru-RU" sz="2800" spc="-1" strike="noStrike" baseline="30000">
                <a:solidFill>
                  <a:srgbClr val="0d0d0d"/>
                </a:solidFill>
                <a:latin typeface="Candara"/>
              </a:rPr>
              <a:t>-1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-10000">
                <a:solidFill>
                  <a:srgbClr val="0d0d0d"/>
                </a:solidFill>
                <a:latin typeface="Candara"/>
              </a:rPr>
              <a:t>в) А </a:t>
            </a:r>
            <a:r>
              <a:rPr b="1" lang="ru-RU" sz="2400" spc="-1" strike="noStrike" baseline="-10000">
                <a:solidFill>
                  <a:srgbClr val="0d0d0d"/>
                </a:solidFill>
                <a:latin typeface="Candara"/>
              </a:rPr>
              <a:t>2 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=1 • 2</a:t>
            </a:r>
            <a:r>
              <a:rPr b="1" lang="ru-RU" sz="2400" spc="-1" strike="noStrike" baseline="30000">
                <a:solidFill>
                  <a:srgbClr val="0d0d0d"/>
                </a:solidFill>
                <a:latin typeface="Candara"/>
              </a:rPr>
              <a:t>4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 + 0 • 2</a:t>
            </a:r>
            <a:r>
              <a:rPr b="1" lang="ru-RU" sz="2400" spc="-1" strike="noStrike" baseline="30000">
                <a:solidFill>
                  <a:srgbClr val="0d0d0d"/>
                </a:solidFill>
                <a:latin typeface="Candara"/>
              </a:rPr>
              <a:t>3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 + 0 • 2</a:t>
            </a:r>
            <a:r>
              <a:rPr b="1" lang="ru-RU" sz="2400" spc="-1" strike="noStrike" baseline="30000">
                <a:solidFill>
                  <a:srgbClr val="0d0d0d"/>
                </a:solidFill>
                <a:latin typeface="Candara"/>
              </a:rPr>
              <a:t>2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 + 1 • 2</a:t>
            </a:r>
            <a:r>
              <a:rPr b="1" lang="ru-RU" sz="2400" spc="-1" strike="noStrike" baseline="30000">
                <a:solidFill>
                  <a:srgbClr val="0d0d0d"/>
                </a:solidFill>
                <a:latin typeface="Candara"/>
              </a:rPr>
              <a:t>1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 + 0 • 2</a:t>
            </a:r>
            <a:r>
              <a:rPr b="1" lang="ru-RU" sz="2400" spc="-1" strike="noStrike" baseline="30000">
                <a:solidFill>
                  <a:srgbClr val="0d0d0d"/>
                </a:solidFill>
                <a:latin typeface="Candara"/>
              </a:rPr>
              <a:t>0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Какое  минимальное  основание имеет система счисления,  если в ней записаны числа  127, 222, 111?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837720" y="1752120"/>
            <a:ext cx="7409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П. 4.1.1. Вопросы и задания к параграфу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Дополнительное задание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Некогда был пруд,  в центре которого рос один лист водяной  лилии. Каждый  день  число таких листьев удваивалось,  и на десятый день вся поверхность пруда уже была заполнена листьями лилий.  Сколько дней понадобилось, чтобы  заполнить  листьями  половину пруда?  Сколько листьев было после девятого дня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Подготовить сообщение о других известных системах счисле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ndara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Какая информация является числовой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Что используется для записи количества объектов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С помощью чего можно записать числовую информацию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ndara"/>
              </a:rPr>
              <a:t>Ответьте на вопрос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ndara"/>
              </a:rPr>
              <a:t>Система счисления </a:t>
            </a:r>
            <a:r>
              <a:rPr b="1" lang="ru-RU" sz="4000" spc="-1" strike="noStrike">
                <a:solidFill>
                  <a:srgbClr val="0d0d0d"/>
                </a:solidFill>
                <a:latin typeface="Candara"/>
              </a:rPr>
              <a:t>– </a:t>
            </a:r>
            <a:br>
              <a:rPr sz="4000"/>
            </a:br>
            <a:r>
              <a:rPr b="1" lang="ru-RU" sz="4000" spc="-1" strike="noStrike">
                <a:solidFill>
                  <a:srgbClr val="0d0d0d"/>
                </a:solidFill>
                <a:latin typeface="Candara"/>
              </a:rPr>
              <a:t>это знаковая система, в которой числа записываются по определённым правилам с помощью символов некоторого алфавита, называемых цифрами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ndara"/>
              </a:rPr>
              <a:t>Виды систем счисл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51920" y="2514600"/>
            <a:ext cx="43434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Candara"/>
              </a:rPr>
              <a:t>Непозиционные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(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оличественное значение цифры не зависит от её положения в числе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4400" spc="-1" strike="noStrike">
                <a:solidFill>
                  <a:srgbClr val="0d0d0d"/>
                </a:solidFill>
                <a:latin typeface="Candara"/>
              </a:rPr>
              <a:t>555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1640" y="2514600"/>
            <a:ext cx="42670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Позиционные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2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(количественное значение цифры зависит от её положения в числе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0d0d"/>
                </a:solidFill>
                <a:latin typeface="Candara"/>
              </a:rPr>
              <a:t>555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Line 7"/>
          <p:cNvSpPr/>
          <p:nvPr/>
        </p:nvSpPr>
        <p:spPr>
          <a:xfrm flipH="1">
            <a:off x="2286000" y="121932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"/>
          <p:cNvSpPr/>
          <p:nvPr/>
        </p:nvSpPr>
        <p:spPr>
          <a:xfrm>
            <a:off x="5791320" y="121932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ndara"/>
              </a:rPr>
              <a:t>Непозиционные системы счислени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2971800"/>
            <a:ext cx="3124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ndara"/>
              </a:rPr>
              <a:t>Единичн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638680" y="2971800"/>
            <a:ext cx="28958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имска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0" name="Picture 6" descr="man"/>
          <p:cNvPicPr/>
          <p:nvPr/>
        </p:nvPicPr>
        <p:blipFill>
          <a:blip r:embed="rId1"/>
          <a:stretch/>
        </p:blipFill>
        <p:spPr>
          <a:xfrm>
            <a:off x="3352680" y="2743200"/>
            <a:ext cx="2551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049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ndara"/>
              </a:rPr>
              <a:t>Как только люди начали считать, у них появилась потребность в записи чисел. Находки археологов на стоянках первобытных людей свидетельствуют о том, что первоначально количество предметов отображали равным количеством каких-либо значков (бирок): зарубок, черточек, точек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Candara"/>
              </a:rPr>
              <a:t>Позже, для облегчения счета, эти значки стали группировать по три или по пять. Такая система записи чисел называется единичной (унарной), так как любое число в ней образуется путем повторения одного знака, символизирующего единицу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                        </a:t>
            </a: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Отголоски единичной системы счисления встречаются и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                         </a:t>
            </a: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сегодня. Так,  чтобы узнать, на каком курсе учится курсант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                         </a:t>
            </a: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военного училища, нужно сосчитать, сколько полосок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                         </a:t>
            </a: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нашито на его рукаве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                            </a:t>
            </a: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Сами того не осознавая, единичной системой счисления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                            </a:t>
            </a: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пользуются малыши, показывая на пальцах свой возраст,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                            </a:t>
            </a: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а счетные палочки используется для обучения учеников 1-го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                            </a:t>
            </a:r>
            <a:r>
              <a:rPr b="1" lang="ru-RU" sz="1800" spc="-1" strike="noStrike">
                <a:solidFill>
                  <a:srgbClr val="021b2b"/>
                </a:solidFill>
                <a:latin typeface="Candara"/>
              </a:rPr>
              <a:t>класса счету. (10 - 11 тысяч лет до н.э.)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ndara"/>
              </a:rPr>
              <a:t>Единичная система счислен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3" name="Picture 4" descr="palka1"/>
          <p:cNvPicPr/>
          <p:nvPr/>
        </p:nvPicPr>
        <p:blipFill>
          <a:blip r:embed="rId1"/>
          <a:stretch/>
        </p:blipFill>
        <p:spPr>
          <a:xfrm>
            <a:off x="7512120" y="4648320"/>
            <a:ext cx="1295280" cy="6220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five"/>
          <p:cNvPicPr/>
          <p:nvPr/>
        </p:nvPicPr>
        <p:blipFill>
          <a:blip r:embed="rId2"/>
          <a:stretch/>
        </p:blipFill>
        <p:spPr>
          <a:xfrm>
            <a:off x="228600" y="5410080"/>
            <a:ext cx="121932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685800" y="2361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Римская система счисления имеет свое собственное оригинальное начертание цифр. В частности, в этой системе отсутствует нул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Римская система основана на употреблении семи особых знаков —</a:t>
            </a:r>
            <a:r>
              <a:rPr b="1" i="1" lang="ru-RU" sz="2400" spc="-1" strike="noStrike">
                <a:solidFill>
                  <a:srgbClr val="0d0d0d"/>
                </a:solidFill>
                <a:latin typeface="Candara"/>
              </a:rPr>
              <a:t>римских цифр</a:t>
            </a: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, которые делятся на четыре знака </a:t>
            </a:r>
            <a:r>
              <a:rPr b="1" i="1" lang="ru-RU" sz="2400" spc="-1" strike="noStrike">
                <a:solidFill>
                  <a:srgbClr val="0d0d0d"/>
                </a:solidFill>
                <a:latin typeface="Candara"/>
              </a:rPr>
              <a:t>десятичных разряд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I = 1, X = 10, C = 100, M = 1000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и три знака </a:t>
            </a:r>
            <a:r>
              <a:rPr b="1" i="1" lang="ru-RU" sz="2400" spc="-1" strike="noStrike">
                <a:solidFill>
                  <a:srgbClr val="0d0d0d"/>
                </a:solidFill>
                <a:latin typeface="Candara"/>
              </a:rPr>
              <a:t>половин десятичных разряд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andara"/>
              </a:rPr>
              <a:t>V = 5, L = 50, D = 500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ndara"/>
              </a:rPr>
              <a:t>Римская система счисления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Candara"/>
              </a:rPr>
              <a:t>Для закрепления в памяти буквенных обозначений цифр в порядке убывания существует мнемоническое правило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ff"/>
                </a:solidFill>
                <a:latin typeface="Candara"/>
              </a:rPr>
              <a:t>М</a:t>
            </a:r>
            <a:r>
              <a:rPr b="0" lang="ru-RU" sz="2800" spc="-1" strike="noStrike">
                <a:solidFill>
                  <a:srgbClr val="d60093"/>
                </a:solidFill>
                <a:latin typeface="Candara"/>
              </a:rPr>
              <a:t>ы </a:t>
            </a:r>
            <a:r>
              <a:rPr b="1" lang="ru-RU" sz="2800" spc="-1" strike="noStrike">
                <a:solidFill>
                  <a:srgbClr val="3366ff"/>
                </a:solidFill>
                <a:latin typeface="Candara"/>
              </a:rPr>
              <a:t>Д</a:t>
            </a:r>
            <a:r>
              <a:rPr b="0" lang="ru-RU" sz="2800" spc="-1" strike="noStrike">
                <a:solidFill>
                  <a:srgbClr val="d60093"/>
                </a:solidFill>
                <a:latin typeface="Candara"/>
              </a:rPr>
              <a:t>арим </a:t>
            </a:r>
            <a:r>
              <a:rPr b="1" lang="ru-RU" sz="2800" spc="-1" strike="noStrike">
                <a:solidFill>
                  <a:srgbClr val="3366ff"/>
                </a:solidFill>
                <a:latin typeface="Candara"/>
              </a:rPr>
              <a:t>С</a:t>
            </a:r>
            <a:r>
              <a:rPr b="0" lang="ru-RU" sz="2800" spc="-1" strike="noStrike">
                <a:solidFill>
                  <a:srgbClr val="d60093"/>
                </a:solidFill>
                <a:latin typeface="Candara"/>
              </a:rPr>
              <a:t>очные </a:t>
            </a:r>
            <a:r>
              <a:rPr b="1" lang="ru-RU" sz="2800" spc="-1" strike="noStrike">
                <a:solidFill>
                  <a:srgbClr val="3366ff"/>
                </a:solidFill>
                <a:latin typeface="Candara"/>
              </a:rPr>
              <a:t>Л</a:t>
            </a:r>
            <a:r>
              <a:rPr b="0" lang="ru-RU" sz="2800" spc="-1" strike="noStrike">
                <a:solidFill>
                  <a:srgbClr val="d60093"/>
                </a:solidFill>
                <a:latin typeface="Candara"/>
              </a:rPr>
              <a:t>имоны, </a:t>
            </a:r>
            <a:r>
              <a:rPr b="1" lang="ru-RU" sz="2800" spc="-1" strike="noStrike">
                <a:solidFill>
                  <a:srgbClr val="3366ff"/>
                </a:solidFill>
                <a:latin typeface="Candara"/>
              </a:rPr>
              <a:t>Х</a:t>
            </a:r>
            <a:r>
              <a:rPr b="0" lang="ru-RU" sz="2800" spc="-1" strike="noStrike">
                <a:solidFill>
                  <a:srgbClr val="d60093"/>
                </a:solidFill>
                <a:latin typeface="Candara"/>
              </a:rPr>
              <a:t>ватит </a:t>
            </a:r>
            <a:r>
              <a:rPr b="1" lang="ru-RU" sz="2800" spc="-1" strike="noStrike">
                <a:solidFill>
                  <a:srgbClr val="3366ff"/>
                </a:solidFill>
                <a:latin typeface="Candara"/>
              </a:rPr>
              <a:t>В</a:t>
            </a:r>
            <a:r>
              <a:rPr b="0" lang="ru-RU" sz="2800" spc="-1" strike="noStrike">
                <a:solidFill>
                  <a:srgbClr val="d60093"/>
                </a:solidFill>
                <a:latin typeface="Candara"/>
              </a:rPr>
              <a:t>сем </a:t>
            </a:r>
            <a:r>
              <a:rPr b="1" lang="ru-RU" sz="2800" spc="-1" strike="noStrike">
                <a:solidFill>
                  <a:srgbClr val="3366ff"/>
                </a:solidFill>
                <a:latin typeface="Candara"/>
              </a:rPr>
              <a:t>И</a:t>
            </a:r>
            <a:r>
              <a:rPr b="0" lang="ru-RU" sz="2800" spc="-1" strike="noStrike">
                <a:solidFill>
                  <a:srgbClr val="d60093"/>
                </a:solidFill>
                <a:latin typeface="Candara"/>
              </a:rPr>
              <a:t> ещё останется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I обозначает 1,</a:t>
            </a:r>
            <a:br>
              <a:rPr sz="2800"/>
            </a:b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V — 5,</a:t>
            </a:r>
            <a:br>
              <a:rPr sz="2800"/>
            </a:b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X — 10,</a:t>
            </a:r>
            <a:br>
              <a:rPr sz="2800"/>
            </a:b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L — 50,</a:t>
            </a:r>
            <a:br>
              <a:rPr sz="2800"/>
            </a:b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C — 100,</a:t>
            </a:r>
            <a:br>
              <a:rPr sz="2800"/>
            </a:b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D — 500,</a:t>
            </a:r>
            <a:br>
              <a:rPr sz="2800"/>
            </a:b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M — 1000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ndara"/>
              </a:rPr>
              <a:t>Семь римских цифр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ена</dc:creator>
  <dc:description/>
  <dc:language>en-US</dc:language>
  <cp:lastModifiedBy>гена</cp:lastModifiedBy>
  <dcterms:modified xsi:type="dcterms:W3CDTF">2017-01-08T06:42:56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