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4BE-3673-4FC1-9ECD-6B63809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C11-3E4B-4C9B-8BD6-EE4E5B1E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64A-C6CB-41EE-80FF-CBBB3C01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B03-F581-429E-BC0B-60A544D1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9121-0A33-4226-8950-94174AD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E3D1-683B-4C5E-A74E-D757390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BBC-C8EA-4ED2-8787-3B8AB3C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48F-7FF2-4408-8B74-DEF79EB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C113-D583-4F4D-B4FC-433C5D9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0CF0-0B1A-494D-874E-BD474F97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06A2-F1A9-4DA9-B722-4C0B16E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125-0B50-41CB-8B44-297DF9D0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D7C-0811-4840-B4A1-737A8842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BFC3-F52E-4EBD-9601-25B9698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1A32-D9E8-49C0-ABCF-5903F65B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873D-158A-4B5C-BBA4-154C2FD1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9E1-5F2E-479F-A784-58B76649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6621-904A-4B00-98C1-D0F61DBF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5F00-3B25-4E3F-BFD0-72851BE9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553E-CEA9-4B37-8CE7-C1AEFC8B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D253-FAB6-45BD-9AAC-2823799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A9C1-A785-4326-BAC1-68406832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9A3-6930-4BE5-AA33-2363EDAE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2190-1326-473B-B4DC-CE4DDDE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DDB0-02BB-4367-ADBB-D8A5CBB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3868-BFD1-4C62-BF1D-52ADC81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D5F5-6583-4F86-A773-7427DA0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DB8D-01C2-482D-BAF9-D51A0D21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E109-97B9-4976-8E38-66C192B8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C4CC-35BE-4A2E-A426-B3B8B7AD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42B6-6374-4A31-90B3-3E9A004A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4B0B-CB9C-4DCF-AABC-8DEAB593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4BE6-3EE6-4558-9F63-5BE4306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CDB-40D7-40A7-8871-C0EA8CD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3642-946B-4EA6-98FD-452C84F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91B9-F4D3-4D46-90C5-FBFDF9B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B7EA-28CF-4CA5-BF2C-DB8300B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54BC-BC68-4AA2-BB0C-C70A1F7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4476-90AF-420E-BC20-E3F20B8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BDA3-5921-41AA-BD0B-1156C5D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7E94-06EC-4DEC-9529-1552970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E554-4403-40BA-AFD1-12C61A2E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6520-B518-444D-BDEE-F43C71A3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F83B-2A44-4C3F-907A-5C8F01CF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5A6-4C0F-4F51-B068-BB1FF6C6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3CD9-9533-4000-9646-5786D410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8C04-9D8C-4FCD-8F05-CDFBF164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D50C-01DE-47D7-9094-7568C98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E597-9992-4CD6-A5BB-F946CA0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FFF1E-1228-47C7-93D3-E2445F6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1999-4146-4047-8513-D9BE793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3714-4997-422F-BB7C-094336A3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2A02-7028-4773-9DC3-39A882CC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E7B0-2F94-4BD7-A4A8-31096261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AAF2-8725-4636-AC5F-E8E8894D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BFA-403A-494E-9B80-B2EE09C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ED704-1BDD-4DE2-AB85-96D45CCE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F004-2F34-4055-9D1E-17B14361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845F0-F1DF-41D4-9565-4F3BD3AB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561C-BE76-4E48-BB7C-D7B77AB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6B0B7-BC25-4290-B620-9BE9C93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77A7-6517-4055-905B-707B559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BCD1-C00B-4961-AD51-2DEC7A7E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9F73-0E33-4599-B4B7-4B9F4FB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10857-E685-4202-8BE4-39FBD0F6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8DA9F-0426-4BFC-8B89-41BF6825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CF4-0BFC-4065-B213-3FDAF2F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38B23-2D05-4DD4-B997-B78E2D6E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C6E7-ECCA-42AB-AE11-3DD8887B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121A-6C4A-4CD7-89D1-FDF22C20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0CE0-8CB2-419D-983B-854A985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CA01-3AC6-4E69-AB00-53171D2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9735E-319D-40F6-AE31-17362482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D709C-B65D-47E4-8132-4370E021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3F3C-0ED5-48D5-BE55-6BC6F9E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713D-6AA3-47D0-9E3F-C0EB7C08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DA9D-8FC3-435C-BB83-F444C36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A89-EC31-4746-8F3F-497A74F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48D4-A790-4156-B7DF-D9C594B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19A2-7519-4181-867F-B47C6261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C6BF-55F0-4A05-8A88-E0775A9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EBBC-053A-4E92-BE52-666895B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8B09B-34B4-4830-B099-D402CB53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904-B7AF-4D23-9F88-1AC57F7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E12-58DF-40C5-B2E2-22259EE658C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1F93-4974-44B1-AB3A-15DD6E3B77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AD82-9DF6-4B02-84E2-59FBA4E458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1129-C67F-4883-8C91-FE2C8198B3A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181-55EB-45AB-BE5F-CB2A0BCE1A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BFC-7DF2-4AC7-9BD3-476B86FA71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ADE4-C992-4322-85B1-8FA8802DDC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Представление числовой информации с помощью систем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Candara"/>
              </a:rPr>
              <a:t>Урок информатики в 8 класс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Смирновой Елены Александровн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учителя информатики МОБУ Новобурейской СОШ № 3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2016-2017 учебный г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Натуральные числа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, т. е. целые положительные числа (без нуля), можно записывать при помощи повторения римских цифр, используя 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четыре следующих правила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1. Для правильной записи больших чисел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ими цифрами необходимо сначала записать число тысяч, затем сотен, затем десятков и, наконец, единиц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ример: число 1988. Одна тысяча M, девять сотен CM, восемьдесят LXXX, восемь VIII. Запишем их вместе: MCMLXXXVIII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.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сложе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если все цифры в числе по значению не возрастают, если считать слева направо, то они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складываются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II = 2, VI = 6, XI = 11 — правильно, IV = 6, XL = 60 — неправильно</a:t>
            </a: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Candara"/>
              </a:rPr>
              <a:t>Запись римскими цифрами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3.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вычита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1) сначала во всех парах, где меньшая цифра стоит перед большей,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вычитается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меньшая цифра из большей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2) Затем полученные результаты вместе с оставшимися цифрами подпадают под принцип сложения и складываю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IV = 4, XIV = 14, XXIX = 29 — правильно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IVX = 6, IXX = 1 — неправильно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.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ограниче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число записывается слева направо максимально возможными цифрами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о четыре одинаковых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десятичных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знака подряд заменяются этим десятичным и следующим половинны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о если при этой замене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этот десятичный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знак оказывается между двумя одинаковыми половинными, то эти три знака заменяются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этим десятичным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и следующим десятичным (т. е. два половинных знака заменяются равноценным десятичным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4 = IV, а не IIII; 9 = IX, а не VIIII или VIV; 19 = XIX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а не XVIIII или XVIV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для записи больших чисел необходимо вводить новые цифры (буквы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трудно записывать большие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нельзя записать дробные и отрицательные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нет нул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очень сложно выполнять арифметические опер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  <a:ea typeface="Times New Roman"/>
              </a:rPr>
              <a:t>Недостатк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ndara"/>
                <a:ea typeface="Times New Roman"/>
              </a:rPr>
              <a:t>непозиционных систем счисления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Алфавит циф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иболее распространенными в настоящее время позиционными системами счисления являются    </a:t>
            </a: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десятичная   и   двоична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Позиционные системы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876920" y="130140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Основание системы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авно количеству цифр(знаков) в алфавит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7" name="Picture 9" descr="ответы на экзамен"/>
          <p:cNvPicPr/>
          <p:nvPr/>
        </p:nvPicPr>
        <p:blipFill>
          <a:blip r:embed="rId1"/>
          <a:srcRect l="0" t="13191" r="0" b="0"/>
          <a:stretch/>
        </p:blipFill>
        <p:spPr>
          <a:xfrm>
            <a:off x="1600200" y="2438280"/>
            <a:ext cx="6095880" cy="1824120"/>
          </a:xfrm>
          <a:prstGeom prst="rect">
            <a:avLst/>
          </a:prstGeom>
          <a:ln w="0">
            <a:noFill/>
          </a:ln>
        </p:spPr>
      </p:pic>
      <p:sp>
        <p:nvSpPr>
          <p:cNvPr id="368" name="Line 10"/>
          <p:cNvSpPr/>
          <p:nvPr/>
        </p:nvSpPr>
        <p:spPr>
          <a:xfrm flipH="1">
            <a:off x="2285640" y="838080"/>
            <a:ext cx="1523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5257800" y="838080"/>
            <a:ext cx="17524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Древнейшая запись обнаружена в Индии и датируется 595г. В том языке чисел, которым и мы обычно пользуемся, алфавитом служат десять цифр – от 0 до 9, называемые арабскими цифрами  Это десятичная система счисления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Причина, по которой десятичная система счисления стала общепринятой, вовсе не математическая. Десять пальцев рук – вот аппарат для счета, которым человек пользуется с доисторических времен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Древнее изображение десятичных цифр не случайно: каждая цифра обозначает число по количеству углов в ней. Например, 0 – углов нет, 2 – два угла и т.д. Написание десятичных цифр претерпело существенные изменения. Форма, которой мы пользуемся, установилась в </a:t>
            </a:r>
            <a:r>
              <a:rPr b="1" lang="en-US" sz="1600" spc="-1" strike="noStrike">
                <a:solidFill>
                  <a:srgbClr val="0d0d0d"/>
                </a:solidFill>
                <a:latin typeface="Candara"/>
              </a:rPr>
              <a:t>XVI</a:t>
            </a: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 век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Индийская нумерация пришла сначала в арабские страны, а потом в Западную Европу. Простые и удобные правила сложения и вычитания очень больших чисел, записанной в этой системе, сделали ее особенно популярной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Эти правила вывел азиатский математик аль-Хорезми. А поскольку его труд был написан на арабском языке, то и Индийская нумерация в Европе закрепилась неправильным названием "арабское"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Возникновение и развитие десятичной системы счисления явилось одним из важнейших достижений человеческой мысли (наряду с появлением письменности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Однако десятичной системой счисления люди пользовались не всегда. В разные исторические периоды многие народы использовали другие системы счислени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  </a:t>
            </a: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Десят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4" descr="clip_image006"/>
          <p:cNvPicPr/>
          <p:nvPr/>
        </p:nvPicPr>
        <p:blipFill>
          <a:blip r:embed="rId1"/>
          <a:stretch/>
        </p:blipFill>
        <p:spPr>
          <a:xfrm>
            <a:off x="122400" y="179280"/>
            <a:ext cx="1447560" cy="1071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lip_image007"/>
          <p:cNvPicPr/>
          <p:nvPr/>
        </p:nvPicPr>
        <p:blipFill>
          <a:blip r:embed="rId2"/>
          <a:stretch/>
        </p:blipFill>
        <p:spPr>
          <a:xfrm>
            <a:off x="4419720" y="3276720"/>
            <a:ext cx="426708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304920" y="228600"/>
            <a:ext cx="84582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зиция цифры в числе называется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разряд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яды числа возрастают справа налево, от младших разрядов к старшим, причём значения одинаковых цифр, стоящих в соседних разрядах числа, различаются на величину осн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Рассмотрим в качестве примера десятичное число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555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. Цифра 5 встречается трижды, причем самая правая обозначает пять единиц, вторая справа — пять десятков и, наконец, третья — пять сотен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   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Число 555 записано в привычной для нас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свернутой форме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. Мы настолько привыкли к такой форме записи, что уже не замечаем, как в уме умножаем цифры числа на различные степени числа 10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  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  В развернутой форме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запись числа 555 в десятичной системе выглядит следующим образом:</a:t>
            </a:r>
            <a:br>
              <a:rPr sz="2000"/>
            </a:b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555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+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+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     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Как видно из примера, число в позиционных системах счисления записывается в виде суммы степеней основания (в данном случае 10), коэффициентами при этом являются цифры данного числа.</a:t>
            </a:r>
            <a:br>
              <a:rPr sz="2200"/>
            </a:b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               — 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это позиционная система счисления, состоящая только из двух цифр:   0 и 1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При этом, как и во всякой позиционной системе, значение цифры зависит дополнительно от занимаемого ею места. Число 2 считается единицей 2-го разряда и записывается так: 10 (читается: «один, нуль»). Каждая единица следующего разряда в два раза больше предыдущей, т. е. эти единицы составляют последовательность чисел 2, 4, 8, 16,..., 2n,..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В компьютерах используется именно эта система счисления из-за своей простоты. Простота выполнения операций в двоичной системе счисления связана с двумя обстоятельствами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1) простотой аппаратной реализации: 1 — есть сигнал, 0 — нет сигнал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2) самое сложное действие таблицы умножения — это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×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=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, а   таблицы сложения —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+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= 10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clip_image002"/>
          <p:cNvPicPr/>
          <p:nvPr/>
        </p:nvPicPr>
        <p:blipFill>
          <a:blip r:embed="rId1"/>
          <a:stretch/>
        </p:blipFill>
        <p:spPr>
          <a:xfrm>
            <a:off x="152280" y="228600"/>
            <a:ext cx="115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762120" y="1981080"/>
            <a:ext cx="740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В двоичной системе основание равно 2, а алфавит состоит из двух цифр (0 и 1). В развернутой форме двоичные числа записываются в виде суммы степеней основания 2 с коэффициентами, в качестве которых выступают цифры 0 или 1.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     Например, развернутая запись двоичного числа 101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будет иметь вид: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101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 1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 0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 1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         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Запись чисел в двоичной системе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1. Что такое система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2. Какие системы счисления вы знаете? Чем характеризуется система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3. В чем основное отличие позиционных систем счисления от непозиционны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4. Каково наименьшее основание для позиционной системы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5. Что подразумевается под арабской системой записи чисел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6. Какие две формы записи чисел вам известны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7. Что значит число в развернутой форме? Приведите приме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8. Чему в десятичной системе счисления равны следующие числа, записанные римскими цифрами: а) XI; б) LX; в) MDX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ой числовой эквивалент имеет цифра 6 в числах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6789        3650         16          69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ие числа записаны римскими цифрами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а) 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MCMXCIX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;   б)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CMLXXXVIII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;   в)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MCXLVII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екоторые римские цифры легко изобразить, используя палочки или спички. Ниже написано несколько неверных равенств. Как можно получить из них верные равенства, если разрешается переложить с одного места на другое только одну спичку (палочку)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I - V=XI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IX-V=V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 - IX=III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II - III=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Задания для самостоятельного выполнения:</a:t>
            </a: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формировать у учащихся понятие системы счисления, позиционной и не позиционной системы счисл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формировать у учащихся понятие основание системы счисления, разряда, свёрнутой и развёрнутой формы записи числ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учить записывать числа в свёрнутой и развёрнутой форме запис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Запишите в развернутой форме чис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а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43511; г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43,511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б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0111; в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11,1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Запишите в свернутой форме следующие чис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а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 9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1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5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3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б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1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7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5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1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10000">
                <a:solidFill>
                  <a:srgbClr val="0d0d0d"/>
                </a:solidFill>
                <a:latin typeface="Candara"/>
              </a:rPr>
              <a:t>в) А </a:t>
            </a:r>
            <a:r>
              <a:rPr b="1" lang="ru-RU" sz="2400" spc="-1" strike="noStrike" baseline="-1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=1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4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3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1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1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Какое  минимальное  основание имеет система счисления,  если в ней записаны числа  127, 222, 111?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37720" y="1752120"/>
            <a:ext cx="7409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. 4.1.1. Вопросы и задания к параграф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Дополнительное задани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екогда был пруд,  в центре которого рос один лист водяной  лилии. Каждый  день  число таких листьев удваивалось,  и на десятый день вся поверхность пруда уже была заполнена листьями лилий.  Сколько дней понадобилось, чтобы  заполнить  листьями  половину пруда?  Сколько листьев было после девятого дн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одготовить сообщение о других известных системах счисл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ая информация является числово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Что используется для записи количества объектов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 помощью чего можно записать числовую информаци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истема счисления </a:t>
            </a: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–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это знаковая система, в которой числа записываются по определённым правилам с помощью символов некоторого алфавита, называемых цифрами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Виды систем счисл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2514600"/>
            <a:ext cx="43434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ndara"/>
              </a:rPr>
              <a:t>Непозиционн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личественное значение цифры не зависит от её положения в числе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d0d0d"/>
                </a:solidFill>
                <a:latin typeface="Candara"/>
              </a:rPr>
              <a:t>555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1640" y="2514600"/>
            <a:ext cx="42670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озиционные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количественное значение цифры зависит от её положения в числе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ndara"/>
              </a:rPr>
              <a:t>555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Line 7"/>
          <p:cNvSpPr/>
          <p:nvPr/>
        </p:nvSpPr>
        <p:spPr>
          <a:xfrm flipH="1">
            <a:off x="2286000" y="12193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5791320" y="121932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Непозиционные системы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971800"/>
            <a:ext cx="3124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Единич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38680" y="297180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им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6" descr="man"/>
          <p:cNvPicPr/>
          <p:nvPr/>
        </p:nvPicPr>
        <p:blipFill>
          <a:blip r:embed="rId1"/>
          <a:stretch/>
        </p:blipFill>
        <p:spPr>
          <a:xfrm>
            <a:off x="3352680" y="2743200"/>
            <a:ext cx="255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Как только люди начали считать, у них появилась потребность в записи чисел. Находки археологов на стоянках первобытных людей свидетельствуют о том, что первоначально количество предметов отображали равным количеством каких-либо значков (бирок): зарубок, черточек, точек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Позже, для облегчения счета, эти значки стали группировать по три или по пять. Такая система записи чисел называется единичной (унарной), так как любое число в ней образуется путем повторения одного знака, символизирующего единицу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Отголоски единичной системы счисления встречаются и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сегодня. Так,  чтобы узнать, на каком курсе учится курсант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военного училища, нужно сосчитать, сколько полосок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нашито на его рукаве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Сами того не осознавая, единичной системой счисления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пользуются малыши, показывая на пальцах свой возраст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а счетные палочки используется для обучения учеников 1-го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класса счету. (10 - 11 тысяч лет до н.э.)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Единичная система счисл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4" descr="palka1"/>
          <p:cNvPicPr/>
          <p:nvPr/>
        </p:nvPicPr>
        <p:blipFill>
          <a:blip r:embed="rId1"/>
          <a:stretch/>
        </p:blipFill>
        <p:spPr>
          <a:xfrm>
            <a:off x="7512120" y="4648320"/>
            <a:ext cx="1295280" cy="622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five"/>
          <p:cNvPicPr/>
          <p:nvPr/>
        </p:nvPicPr>
        <p:blipFill>
          <a:blip r:embed="rId2"/>
          <a:stretch/>
        </p:blipFill>
        <p:spPr>
          <a:xfrm>
            <a:off x="228600" y="5410080"/>
            <a:ext cx="12193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ая система счисления имеет свое собственное оригинальное начертание цифр. В частности, в этой системе отсутствует ну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ая система основана на употреблении семи особых знаков —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римских цифр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, которые делятся на четыре знака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десятичных разря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I = 1, X = 10, C = 100, M = 10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и три знака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половин десятичных разря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V = 5, L = 50, D = 500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Римская система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Для закрепления в памяти буквенных обозначений цифр в порядке убывания существует мнемоническое правило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М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ы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Д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арим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С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очные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Л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имоны,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Х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ватит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В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сем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И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 ещё останетс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I обозначает 1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V — 5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X — 1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L — 5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C — 10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D — 50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M — 100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емь римских циф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ена</dc:creator>
  <dc:description/>
  <dc:language>en-US</dc:language>
  <cp:lastModifiedBy>гена</cp:lastModifiedBy>
  <dcterms:modified xsi:type="dcterms:W3CDTF">2017-01-08T06:42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