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34D-73C2-4F44-AC8D-5F2C5CCE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F05-35C3-431A-B6F2-282633A5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1DD-6329-4955-AA5B-CEA5D6C3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AD-A166-4C4E-9711-44EDEB66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3427-FAB8-45AF-A564-B3B52583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8C33-4B93-43AD-B7AA-130863DC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E60A-F077-4261-A768-5E326CD9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0A6F-40AA-4BB8-B150-E8921E93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9D76-E667-4ED2-B2D3-383048E4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85AE-EC2F-42CF-AACF-7C5C0B3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644-5762-4268-AED8-8012614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C0D-2A27-45BA-9141-022EAC2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555E-A2B6-4568-9098-0021D1E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8A05-48FC-4D0A-8A67-DF7C3642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D7C9-D520-4DDB-B2CE-83F646A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48C9-1DE7-42C7-AFDD-4C41FFC4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511-0179-44DE-8BB1-6446F65B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EDB-F59D-49F4-9271-FB14064D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615-553C-4CB2-A675-4BBD91C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447-36FB-41C1-9A9E-49B9ABA7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51A-B186-4D5E-A112-7480247C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CC8-7DC8-4471-9B61-EFB74E1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A4D-3867-4D1D-836D-CA8CBA05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B03-8DD4-4569-B45B-7BDFB78C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BD70-C3D6-47D5-9AB1-8C8E90AD904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150-51EC-474A-9185-DDC6272085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imath.ru/" TargetMode="External"/><Relationship Id="rId2" Type="http://schemas.openxmlformats.org/officeDocument/2006/relationships/hyperlink" Target="http://www.metodkopilka.com/" TargetMode="External"/><Relationship Id="rId3" Type="http://schemas.openxmlformats.org/officeDocument/2006/relationships/hyperlink" Target="http://www.valeryzykin.ru/view_journal.php?id=8" TargetMode="External"/><Relationship Id="rId4" Type="http://schemas.openxmlformats.org/officeDocument/2006/relationships/hyperlink" Target="http://www.valeryzykin.ru/view_journal.php?id=8" TargetMode="External"/><Relationship Id="rId5" Type="http://schemas.openxmlformats.org/officeDocument/2006/relationships/hyperlink" Target="http://www.valeryzykin.ru/view_journal.php?id=8" TargetMode="External"/><Relationship Id="rId6" Type="http://schemas.openxmlformats.org/officeDocument/2006/relationships/hyperlink" Target="http://www.valeryzykin.ru/view_journal.php?id=8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овременные информационные технологии и электронные образовательные ресурс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Мастер-класс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учителя математики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МОУ «СОШ №8 имени А.С. Пушкина»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Белецкой Галины Леонидовны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230364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Электронные издания:    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урнал «Наука и жизн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Коллекции: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чи по геометр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лимпиадные задачи по всем разделам математ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сурсы по математике Хабаровской краевой заочной физико-математической школ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Школьный математический словарь-справочни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Личная информационная среда (пространство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это те материалы, документы, фотографии, видеофильмы,  ссылки на сайты, которые Вам необходимы для работы, для организации отдыха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метная информационная среда 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это материалы по предмету, например папка по классам, папка с точками контроля (к/р, с/р, тесты, математические диктанты, устный счет и т.д.), папка с фрагментами уроков, папка с олимпиадными задачами, папка с проектами по математике, папка с  итогами и анализом контрольных и других работ и т.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редства связи (электронная почта, скайп)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по электронной почте можно связываться с родителями, обмениваться мнениями о проблемах или достижениях ребенка, передавать домашние или другие задания, сообщать адреса сайтов, связанных с олимпиадами, подготовкой к итоговой аттестации в новой форме и т.д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ктронные образовательные ресурсы (ЭОР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о средства современных информационных технологий, 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ифровая фотограф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идеофрагмент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тические и динамические моде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вукозапис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имвольные объекты и деловая графи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кстовые документы, презентации и иные учебные материалы, необходимые для организации учеб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ребования к Э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ответствовать содержанию учебника, нормативным актам Министерства образования и науки  РФ, используемым предметным программа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иентироваться на современные формы обучения, обеспечивать высокую интерактивность и мультимедийность обуч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еспечивать возможность уровневой дифференциации и индивидуализации обуч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лагать виды учебной деятельности, ориентирующие ученика на приобретение опыта решения жизненных проблем на основе знаний и умений в рамках данного предмет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еспечивать использование как самостоятельной, так и группов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вышать по объему соответствующие разделы учебника, не расширяя при этом тематические раздел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меть удобный интерфей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мощь учителю при подготовке к урок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мпоновка и моделирование урока из отдельных цифровых объект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ольшое количество дополнительной и справочной информации – для углубления знаний о предмет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ффективный поиск информации в комплекте цифровых образовательных ресурс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готовка контрольных и самостоятельных работ (возможно, по варианта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готовка творческих зада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готовка поурочных планов, связанных с цифровыми объекта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бмен результатами деятельности с другими учителями через Интернет и переносимую внешнюю памя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27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мощь при проведени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8126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демонстрация подготовленных цифровых объектов через мультимедийный проектор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использование виртуальных лабораторий и интерактивных моделей набора в режиме фронтальных лабораторных работ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компьютерное тестирование учащихся и помощь в оценивании знаний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индивидуальная исследовательская и творческая работа учащихся с цифровыми образовательными ресурсами на уроке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мощь учащемуся при подготовке домашних заданий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вышение интереса у учащихся к предмету за счет новой формы представления материала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автоматизированный самоконтроль учащихся в любое удобное время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большая база объектов для подготовки выступлений, докладов, рефератов, презентаций и т.п.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возможность оперативного получения дополнительной информации энциклопедического характера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азвитие творческого потенциала учащихся в предметной виртуальной среде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мощь ученику в организации изучения предмета в удобном для него темпе и на выбранном им уровне усвоения материала в зависимости от его индивидуальных особенностей восприятия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риобщение школьников к современным информационным технологиям, формирование потребности в овладении информационными технологиями и постоянной работе с ними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От абака до компьютера» в Московском  политехническом  музее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Рисунок 10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3516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временные информационны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ермин «Современные информационные технологии» образован от информационных технологий, основанных на использовании современных компьютерных и сетевых средст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формационные технолог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д информационными технологиями понимается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(информационного продукта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редства современных информационных  технолог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мпьюте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ект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нт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нтерактивная дос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Интернет-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unimath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metodkopilka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ww.valeryzykin.ru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view_journal.php?id=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Интернет-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d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du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ge.edu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fipi ФИП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mon.gov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rost.ru/projec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dunews window.edu.r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Набор ЭОР к учебникам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Алгебра», 9 класс, Макарычев Ю.Н., Миндюк Н.Г. и др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Математика», 5 класс, Волович М.Б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Математика», 5 класс, Зубарева И.И., Мордкович А.Г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новационные учебные материалы:</a:t>
            </a:r>
            <a:r>
              <a:rPr b="0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Алгебра в основной школе», 7-9 класс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Алгебраические  задачи с параметрами»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Виртуальная математика. Задачи с gараметрами». 7-11 класс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Математика, 5-11 классы. Практикум»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Математика, 5-11 классы»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ОР по математике «График квадратичной функции»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Вписанная и описанная окружности», 7-9 класс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Инструменты учебной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Математический конструктор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0:37:45Z</dcterms:created>
  <dc:creator>новиков</dc:creator>
  <dc:description/>
  <dc:language>en-US</dc:language>
  <cp:lastModifiedBy>новиков</cp:lastModifiedBy>
  <dcterms:modified xsi:type="dcterms:W3CDTF">2011-12-23T10:58:35Z</dcterms:modified>
  <cp:revision>5</cp:revision>
  <dc:subject/>
  <dc:title>Современные информационные технологии и электронные образовательные ресурсы на уроках математики</dc:title>
</cp:coreProperties>
</file>