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F33-F27A-40A6-AB6D-B7884642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1CC8-2F50-4498-81D5-D9310AEC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C094-0472-4A9E-87AA-1A699E40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399D-42A8-44C1-9D68-7B064B5D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04B8-C6B9-4338-A1EA-111DDE38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48BB-E2B1-4C51-8EA2-FDDD0AFA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A218-9BD1-40D7-A072-8B186D9E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82A5-35B1-414A-B462-D0103730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DD19-DF7C-40CA-A6AA-331CDFC5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A579-0982-4E9A-87F0-3CBFFC72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0F1E-D2BC-4119-9087-41B762BE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303F-8F3E-4B76-90F3-908C24C0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EE91-CA10-4799-8A1A-76508845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F192-BF62-4541-9C38-6B33D41A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45EF-4DA5-4072-918D-7DD1E4FF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2D15-1E11-4DC4-AD5C-5F77B274C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5114-FD26-47FC-A35E-46BC78D6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643-0C02-49F6-BAD7-77610027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C4C-1691-4F61-93C4-93E2EDD7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3F14-6635-4114-9D78-5C09EB99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0057-15A5-4B3C-8D56-B9CFE83D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4C62-14DA-4A3A-ABC6-4EEA81C3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5682-2688-403F-8C69-B15B4B01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D047-FCA9-44BB-B0AF-6431315C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AF47-CB03-4303-BDEC-7B39B16B6C7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EC1B-8432-4F33-BD14-CFBEB639039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nimath.ru/" TargetMode="External"/><Relationship Id="rId2" Type="http://schemas.openxmlformats.org/officeDocument/2006/relationships/hyperlink" Target="http://www.metodkopilka.com/" TargetMode="External"/><Relationship Id="rId3" Type="http://schemas.openxmlformats.org/officeDocument/2006/relationships/hyperlink" Target="http://www.valeryzykin.ru/view_journal.php?id=8" TargetMode="External"/><Relationship Id="rId4" Type="http://schemas.openxmlformats.org/officeDocument/2006/relationships/hyperlink" Target="http://www.valeryzykin.ru/view_journal.php?id=8" TargetMode="External"/><Relationship Id="rId5" Type="http://schemas.openxmlformats.org/officeDocument/2006/relationships/hyperlink" Target="http://www.valeryzykin.ru/view_journal.php?id=8" TargetMode="External"/><Relationship Id="rId6" Type="http://schemas.openxmlformats.org/officeDocument/2006/relationships/hyperlink" Target="http://www.valeryzykin.ru/view_journal.php?id=8" TargetMode="Externa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Современные информационные технологии и электронные образовательные ресурс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160" y="2927520"/>
            <a:ext cx="42195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Мастер-класс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учителя математики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МОУ «СОШ №8 имени А.С. Пушкина»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Arial"/>
              </a:rPr>
              <a:t>Белецкой Галины Леонидовны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755640" y="3860640"/>
            <a:ext cx="230364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Электронные издания:    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Журнал «Наука и жизн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Коллекции: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адачи по геометри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Олимпиадные задачи по всем разделам математик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есурсы по математике Хабаровской краевой заочной физико-математической школы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Школьный математический словарь-справочник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Личная информационная среда (пространство)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 это те материалы, документы, фотографии, видеофильмы,  ссылки на сайты, которые Вам необходимы для работы, для организации отдыха и т.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дметная информационная среда -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  это материалы по предмету, например папка по классам, папка с точками контроля (к/р, с/р, тесты, математические диктанты, устный счет и т.д.), папка с фрагментами уроков, папка с олимпиадными задачами, папка с проектами по математике, папка с  итогами и анализом контрольных и других работ и т.д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редства связи (электронная почта, скайп) -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по электронной почте можно связываться с родителями, обмениваться мнениями о проблемах или достижениях ребенка, передавать домашние или другие задания, сообщать адреса сайтов, связанных с олимпиадами, подготовкой к итоговой аттестации в новой форме и т.д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Электронные образовательные ресурсы (ЭОР)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это средства современных информационных технологий, например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цифровая фотография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идеофрагменты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татические и динамические модели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звукозаписи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имвольные объекты и деловая графика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екстовые документы, презентации и иные учебные материалы, необходимые для организации учебного процесс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Требования к ЭОР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соответствовать содержанию учебника, нормативным актам Министерства образования и науки  РФ, используемым предметным программам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риентироваться на современные формы обучения, обеспечивать высокую интерактивность и мультимедийность обуч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еспечивать возможность уровневой дифференциации и индивидуализации обуч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длагать виды учебной деятельности, ориентирующие ученика на приобретение опыта решения жизненных проблем на основе знаний и умений в рамках данного предмета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обеспечивать использование как самостоятельной, так и групповой работ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евышать по объему соответствующие разделы учебника, не расширяя при этом тематические разделы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иметь удобный интерфейс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Помощь учителю при подготовке к уроку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компоновка и моделирование урока из отдельных цифровых объект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большое количество дополнительной и справочной информации – для углубления знаний о предмет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эффективный поиск информации в комплекте цифровых образовательных ресурс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дготовка контрольных и самостоятельных работ (возможно, по вариантам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дготовка творческих заданий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подготовка поурочных планов, связанных с цифровыми объектам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обмен результатами деятельности с другими учителями через Интернет и переносимую внешнюю память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27640" y="692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омощь при проведени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276280"/>
            <a:ext cx="812664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демонстрация подготовленных цифровых объектов через мультимедийный проектор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использование виртуальных лабораторий и интерактивных моделей набора в режиме фронтальных лабораторных работ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компьютерное тестирование учащихся и помощь в оценивании знаний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индивидуальная исследовательская и творческая работа учащихся с цифровыми образовательными ресурсами на уроке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помощь учащемуся при подготовке домашних заданий: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повышение интереса у учащихся к предмету за счет новой формы представления материала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автоматизированный самоконтроль учащихся в любое удобное время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большая база объектов для подготовки выступлений, докладов, рефератов, презентаций и т.п.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возможность оперативного получения дополнительной информации энциклопедического характера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развитие творческого потенциала учащихся в предметной виртуальной среде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помощь ученику в организации изучения предмета в удобном для него темпе и на выбранном им уровне усвоения материала в зависимости от его индивидуальных особенностей восприятия;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74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66"/>
                </a:solidFill>
                <a:latin typeface="Arial"/>
              </a:rPr>
              <a:t>приобщение школьников к современным информационным технологиям, формирование потребности в овладении информационными технологиями и постоянной работе с ними.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«От абака до компьютера» в Московском  политехническом  музее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Рисунок 10" descr=""/>
          <p:cNvPicPr/>
          <p:nvPr/>
        </p:nvPicPr>
        <p:blipFill>
          <a:blip r:embed="rId1"/>
          <a:stretch/>
        </p:blipFill>
        <p:spPr>
          <a:xfrm>
            <a:off x="611280" y="2421000"/>
            <a:ext cx="83516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овременные информационные техн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ермин «Современные информационные технологии» образован от информационных технологий, основанных на использовании современных компьютерных и сетевых средств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формационные технолог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д информационными технологиями понимается процесс, использующий совокупность средств и методов сбора, обработки и передачи данных (первичной информации) для получения информации нового качества о состоянии объекта, процесса или явления (информационного продукта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редства современных информационных  технологи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Компьютер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оекто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кане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ринте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нтерактивная дос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Интернет-ресурс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unimath.ru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metodkopilka.c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www.valeryzykin.ru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/view_journal.php?id=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Интернет-ресурс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ed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edu.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ege.edu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fipi ФИП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mon.gov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rost.ru/projec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Edunews window.edu.r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66"/>
                </a:solidFill>
                <a:latin typeface="Arial"/>
              </a:rPr>
              <a:t>Набор ЭОР к учебникам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Алгебра», 9 класс, Макарычев Ю.Н., Миндюк Н.Г. и др.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Математика», 5 класс, Волович М.Б.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Математика», 5 класс, Зубарева И.И., Мордкович А.Г.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Инновационные учебные материалы:</a:t>
            </a:r>
            <a:r>
              <a:rPr b="0" i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Алгебра в основной школе», 7-9 классы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Алгебраические  задачи с параметрами»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Виртуальная математика. Задачи с gараметрами». 7-11 класс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Математика, 5-11 классы. Практикум»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Математика, 5-11 классы»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ЦОР по математике «График квадратичной функции»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Вписанная и описанная окружности», 7-9 класс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Инструменты учебной деятель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«Математический конструктор»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3T10:37:45Z</dcterms:created>
  <dc:creator>новиков</dc:creator>
  <dc:description/>
  <dc:language>en-US</dc:language>
  <cp:lastModifiedBy>новиков</cp:lastModifiedBy>
  <dcterms:modified xsi:type="dcterms:W3CDTF">2011-12-23T10:58:35Z</dcterms:modified>
  <cp:revision>5</cp:revision>
  <dc:subject/>
  <dc:title>Современные информационные технологии и электронные образовательные ресурсы на уроках математики</dc:title>
</cp:coreProperties>
</file>