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B20-94AF-47EF-BBB6-873CC319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452-F8FB-4DB2-8071-93910C11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E22-47FC-48AE-A9CC-5B0CE0E2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C66-37B3-4318-B37E-40967D6B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BA45-8FD9-4685-99E4-C2704481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D61-E030-4D83-8D87-5B0EA717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4D01-6324-43CC-B660-E01D5197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B40D-12BE-4BE4-A6E8-9B0AE653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6BA7-D903-484C-AA11-6C3AAA4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3C23-A171-402B-A7C2-1649BFBE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080B-0BC9-4896-B4C6-773AFD35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D51-F6BD-44A5-9462-A9A78787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F1E7-3721-41E8-83EE-C451B7E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47F1-AA60-4AAB-8032-5CEC21C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4A9-35FC-48D9-8D28-651092BE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F853-AD71-4AC1-AB7E-5ABB2E21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1CDE-3038-4769-8B6A-D5DC9566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EE94-C2F4-440D-99AE-5E418B2F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1C26-C704-42E4-B06D-746E2955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39A1-AFB8-4EC3-B9FE-D92C5AF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4346-A608-4255-B039-B7004D1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DA28-8FF3-4A67-93C2-BC634CB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9F9-5192-40F7-98C8-9F267A7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ECD6-4A9E-43A1-A877-5EBA9946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56A0-2252-4A7A-9CF1-C8DAB1B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F958-A8D3-43C9-8FBC-FA79AB50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1D96-C965-414B-813A-46D865BF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12D3-FD1F-438F-A700-8AA573D0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9C0E-9CA4-40C1-BDE8-754CFDA6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BE37-3C67-4ECC-97A7-F8D71BAD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F329-F806-49C7-B86B-DE3F7AC8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0D23-AB77-422D-BA4A-F604B928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99BF-5258-4769-8AB7-7544131A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168-B067-4839-BAE0-03590CA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3775-246F-44EB-8E4E-31D8BBF2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70A9-63F0-4316-A5D6-5C01A9EC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AA49-67AC-4C3F-81DA-057B4D1C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2922-B910-444F-9F8E-71D9D4D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ADF1-942D-4D4A-AB1E-594C6AB7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CA7F-8EEC-4F7F-AA8C-B3ABFD9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0E4F-DD7D-4D3E-BE09-3BE49D39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4F6B-6FFC-4867-B2D5-829FEB70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4EBD-A4BB-4E92-A689-2E318370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B48-11B0-4B9C-B248-0C1FD0E7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813-594D-4BDE-B60B-4B32AF00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3B2-FCC1-4075-8499-78F857D3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BB4-3595-44B6-B67B-13086924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8E2-24D5-4F5B-8C4E-479B00B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FA50-D12F-429E-91A5-387CD502DE1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7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26FD-E25C-4067-B9B8-9A2F1245DF5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574F-4EE8-4A51-BC84-274B17795F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20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0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1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2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894C-2CBE-40EB-AF6D-8B066F46EB0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хок 2"/>
          <p:cNvPicPr/>
          <p:nvPr/>
        </p:nvPicPr>
        <p:blipFill>
          <a:blip r:embed="rId1"/>
          <a:stretch/>
        </p:blipFill>
        <p:spPr>
          <a:xfrm>
            <a:off x="6300720" y="5157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катание"/>
          <p:cNvPicPr/>
          <p:nvPr/>
        </p:nvPicPr>
        <p:blipFill>
          <a:blip r:embed="rId2"/>
          <a:stretch/>
        </p:blipFill>
        <p:spPr>
          <a:xfrm>
            <a:off x="1476360" y="1052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доска 3"/>
          <p:cNvPicPr/>
          <p:nvPr/>
        </p:nvPicPr>
        <p:blipFill>
          <a:blip r:embed="rId3"/>
          <a:stretch/>
        </p:blipFill>
        <p:spPr>
          <a:xfrm>
            <a:off x="4500720" y="1484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sport"/>
          <p:cNvPicPr/>
          <p:nvPr/>
        </p:nvPicPr>
        <p:blipFill>
          <a:blip r:embed="rId4"/>
          <a:stretch/>
        </p:blipFill>
        <p:spPr>
          <a:xfrm>
            <a:off x="971640" y="3141720"/>
            <a:ext cx="4762440" cy="2962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2" descr="фут 2"/>
          <p:cNvPicPr/>
          <p:nvPr/>
        </p:nvPicPr>
        <p:blipFill>
          <a:blip r:embed="rId5"/>
          <a:stretch/>
        </p:blipFill>
        <p:spPr>
          <a:xfrm>
            <a:off x="6732720" y="299736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People do sports because  …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       </a:t>
            </a: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Do You Like to Do Sports?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Why Do People Do Sports?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050 - Unit 4, Exercise 24.mp3" descr=""/>
          <p:cNvPicPr/>
          <p:nvPr/>
        </p:nvPicPr>
        <p:blipFill>
          <a:blip r:embed="rId1"/>
          <a:stretch/>
        </p:blipFill>
        <p:spPr>
          <a:xfrm>
            <a:off x="7236000" y="69228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823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tch the Sports and the Plac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wimming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ce hocke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thletic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igure skating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enn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ater skiing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urfing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ycling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tadiu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kating rin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ool/ Lak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River/Se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ports grou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ur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y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eck Your Answer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wimming - Pool/Lake/River/Se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ce hockey – Skating rin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thletics - Stadium/Sports   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ground/Gym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igure skating – Skating rin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ennis - Cour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ater skiing/Surfing – Se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ycling - Stadiu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hat do teenagers have in common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hy does Paul do sports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hy is Danny fond of surfing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hy is Steve interested in hockey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hy does Natasha go in for figure skating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chaikovsky_april.mp3" descr=""/>
          <p:cNvPicPr/>
          <p:nvPr/>
        </p:nvPicPr>
        <p:blipFill>
          <a:blip r:embed="rId1"/>
          <a:stretch/>
        </p:blipFill>
        <p:spPr>
          <a:xfrm>
            <a:off x="883908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7" descr="0_STATIC55a85_219d628c"/>
          <p:cNvPicPr/>
          <p:nvPr/>
        </p:nvPicPr>
        <p:blipFill>
          <a:blip r:embed="rId2"/>
          <a:stretch/>
        </p:blipFill>
        <p:spPr>
          <a:xfrm>
            <a:off x="900000" y="260280"/>
            <a:ext cx="7620120" cy="659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184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 you do spor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1. Your favourite sport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2. How often I do sport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3. Where I do sports. ( at home, at the stadium, at the sports ground, in a sports centre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4. If I take part in a competit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5. If I have  won a prize or a medal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6:03:23Z</dcterms:created>
  <dc:creator>1</dc:creator>
  <dc:description/>
  <dc:language>en-US</dc:language>
  <cp:lastModifiedBy>Дом</cp:lastModifiedBy>
  <dcterms:modified xsi:type="dcterms:W3CDTF">2017-01-09T14:07:47Z</dcterms:modified>
  <cp:revision>30</cp:revision>
  <dc:subject/>
  <dc:title>Слайд 1</dc:title>
</cp:coreProperties>
</file>