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EE0B-1ED6-43A8-B405-39DBC0BF9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4E91-49B7-49EF-A124-5F74C233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AC89-8A4D-4AD9-B1A7-7DB4CB41E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A32C-DAC5-4FF0-89A3-C1997CDAA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D461-837F-4FE6-B6F0-40BDECB3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BE35-7C03-4FDB-978C-3403C235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1385-64C4-4AE9-9A1A-79D04878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B63F-5058-4E0B-8D99-A82A1225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9D0B-CF9A-4980-B5A8-1B49F11E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8D57-5EBC-43A9-B98E-BF369CED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8148-4E5F-4023-BFAB-A4A50434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2DF7-31CD-4DBA-B2D9-ECAF7641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2EEA-1D50-4EC4-8252-F94E2389AE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4.jpeg"/><Relationship Id="rId3" Type="http://schemas.openxmlformats.org/officeDocument/2006/relationships/image" Target="../media/image17.jpeg"/><Relationship Id="rId4" Type="http://schemas.openxmlformats.org/officeDocument/2006/relationships/image" Target="../media/image20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4.jpeg"/><Relationship Id="rId3" Type="http://schemas.openxmlformats.org/officeDocument/2006/relationships/image" Target="../media/image27.jpeg"/><Relationship Id="rId4" Type="http://schemas.openxmlformats.org/officeDocument/2006/relationships/image" Target="../media/image20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46000" y="2362320"/>
            <a:ext cx="6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87280" y="314172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ПУТЕШЕСТВИЕ НА                   ПЛАНЕТУ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ГРАММАТИК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28560" y="496800"/>
            <a:ext cx="740304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торой королеви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 очень общительным, к нему в г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о заходили друзья местоим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,YOU,TH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много времени он проводил со своими друзьями в играх,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хоте, и когда рассказывал своему отцу королю-глаголу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своих друзьях, он всегда говори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are fri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are n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are beautif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олевич очень гордился свои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зьями и дорожил дружбой с н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012000" y="2637000"/>
            <a:ext cx="2447640" cy="3273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0" y="4149720"/>
            <a:ext cx="4932360" cy="2538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426360" y="2584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plit dir="in" orient="vert"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0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afterEffect" fill="hold" presetClass="entr" presetID="56">
                                  <p:stCondLst>
                                    <p:cond delay="5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6">
                                  <p:stCondLst>
                                    <p:cond delay="5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10800"/>
                            </p:stCondLst>
                            <p:childTnLst>
                              <p:par>
                                <p:cTn id="861" nodeType="afterEffect" fill="hold" presetClass="entr" presetID="5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5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5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6800"/>
                            </p:stCondLst>
                            <p:childTnLst>
                              <p:par>
                                <p:cTn id="877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21300"/>
                            </p:stCondLst>
                            <p:childTnLst>
                              <p:par>
                                <p:cTn id="8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4" dur="8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5" dur="8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6" dur="8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21780"/>
                            </p:stCondLst>
                            <p:childTnLst>
                              <p:par>
                                <p:cTn id="88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22780"/>
                            </p:stCondLst>
                            <p:childTnLst>
                              <p:par>
                                <p:cTn id="899" nodeType="afterEffect" fill="hold" presetClass="entr" presetID="35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20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20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20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35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2000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20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20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20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29780"/>
                            </p:stCondLst>
                            <p:childTnLst>
                              <p:par>
                                <p:cTn id="912" nodeType="afterEffect" fill="hold" presetClass="emph" presetID="18">
                                  <p:stCondLst>
                                    <p:cond delay="5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mph" presetID="18">
                                  <p:stCondLst>
                                    <p:cond delay="5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15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0920" y="260280"/>
            <a:ext cx="917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Третий королевич </a:t>
            </a:r>
            <a:r>
              <a:rPr b="1" lang="en-US" sz="2400" spc="-1" strike="noStrike">
                <a:solidFill>
                  <a:srgbClr val="000000"/>
                </a:solidFill>
                <a:latin typeface="Neurochrome"/>
              </a:rPr>
              <a:t>IS </a:t>
            </a: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был неуверенным</a:t>
            </a:r>
            <a:r>
              <a:rPr b="1" lang="ru-RU" sz="2400" spc="-1" strike="noStrike">
                <a:solidFill>
                  <a:srgbClr val="000000"/>
                </a:solidFill>
                <a:latin typeface="Neurochrom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Neurochrom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и каприз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мальчиком. Он был самым молодым из королевич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Он не любил рассказывать о себе , но любил рассказывать</a:t>
            </a:r>
            <a:r>
              <a:rPr b="0" lang="en-US" sz="2400" spc="-1" strike="noStrike">
                <a:solidFill>
                  <a:srgbClr val="000000"/>
                </a:solidFill>
                <a:latin typeface="Neurochrom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о своих друзьях – местоимениях </a:t>
            </a:r>
            <a:r>
              <a:rPr b="1" lang="en-US" sz="2400" spc="-1" strike="noStrike">
                <a:solidFill>
                  <a:srgbClr val="000000"/>
                </a:solidFill>
                <a:latin typeface="Neurochrome"/>
              </a:rPr>
              <a:t>HE,SHE,I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651640" y="2997360"/>
            <a:ext cx="3097080" cy="3095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0" y="2276640"/>
            <a:ext cx="2987640" cy="2592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441240" y="2376360"/>
            <a:ext cx="183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E IS CLE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HE IS A PUPIL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T IS A D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05640" y="32320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plit dir="in" orient="vert"/>
  </p:transition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0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1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000"/>
                            </p:stCondLst>
                            <p:childTnLst>
                              <p:par>
                                <p:cTn id="923" nodeType="afterEffect" fill="hold" presetClass="emph" presetID="28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4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2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2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2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3550"/>
                            </p:stCondLst>
                            <p:childTnLst>
                              <p:par>
                                <p:cTn id="9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5550"/>
                            </p:stCondLst>
                            <p:childTnLst>
                              <p:par>
                                <p:cTn id="936" nodeType="afterEffect" fill="hold" presetClass="entr" presetID="2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8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095480" y="0"/>
            <a:ext cx="756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Король</a:t>
            </a:r>
            <a:r>
              <a:rPr b="0" lang="en-US" sz="2400" spc="-1" strike="noStrike">
                <a:solidFill>
                  <a:srgbClr val="000000"/>
                </a:solidFill>
                <a:latin typeface="Neurochrome"/>
              </a:rPr>
              <a:t> TO BE </a:t>
            </a: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очень любил своих детей и гордился</a:t>
            </a:r>
            <a:r>
              <a:rPr b="0" lang="en-US" sz="2400" spc="-1" strike="noStrike">
                <a:solidFill>
                  <a:srgbClr val="000000"/>
                </a:solidFill>
                <a:latin typeface="Neurochrom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ими, так как</a:t>
            </a:r>
            <a:r>
              <a:rPr b="0" lang="en-US" sz="2400" spc="-1" strike="noStrike">
                <a:solidFill>
                  <a:srgbClr val="000000"/>
                </a:solidFill>
                <a:latin typeface="Neurochrom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это была его сегодняшняя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настоящая жизнь (</a:t>
            </a:r>
            <a:r>
              <a:rPr b="0" lang="en-US" sz="2400" spc="-1" strike="noStrike">
                <a:solidFill>
                  <a:srgbClr val="000000"/>
                </a:solidFill>
                <a:latin typeface="Neurochrome"/>
              </a:rPr>
              <a:t>PRESENT SI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rochrome"/>
              </a:rPr>
              <a:t>TEN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38040" y="4076640"/>
            <a:ext cx="2938680" cy="2592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780000" y="4076640"/>
            <a:ext cx="2447640" cy="2521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6588000" y="3933720"/>
            <a:ext cx="2448000" cy="2664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3132000" y="1268280"/>
            <a:ext cx="3816360" cy="2737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272920" y="114444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0560" y="40971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94360" y="40971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081640" y="40244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plit dir="in" orient="vert"/>
  </p:transition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2000"/>
                            </p:stCondLst>
                            <p:childTnLst>
                              <p:par>
                                <p:cTn id="953" nodeType="afterEffect" fill="hold" presetClass="entr" presetID="5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77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6" dur="770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8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0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9500"/>
                            </p:stCondLst>
                            <p:childTnLst>
                              <p:par>
                                <p:cTn id="9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9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10500"/>
                            </p:stCondLst>
                            <p:childTnLst>
                              <p:par>
                                <p:cTn id="9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403800" y="208080"/>
            <a:ext cx="19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03840" y="10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765000"/>
            <a:ext cx="1008000" cy="935280"/>
          </a:xfrm>
          <a:prstGeom prst="ellipse">
            <a:avLst/>
          </a:prstGeom>
          <a:solidFill>
            <a:srgbClr val="e4df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5640" y="1844640"/>
            <a:ext cx="1008000" cy="863640"/>
          </a:xfrm>
          <a:prstGeom prst="ellipse">
            <a:avLst/>
          </a:prstGeom>
          <a:solidFill>
            <a:srgbClr val="e4df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5640" y="2852640"/>
            <a:ext cx="1008000" cy="863640"/>
          </a:xfrm>
          <a:prstGeom prst="ellipse">
            <a:avLst/>
          </a:prstGeom>
          <a:solidFill>
            <a:srgbClr val="e4df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3860640"/>
            <a:ext cx="1008000" cy="936720"/>
          </a:xfrm>
          <a:prstGeom prst="ellipse">
            <a:avLst/>
          </a:prstGeom>
          <a:solidFill>
            <a:srgbClr val="e4df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5013360"/>
            <a:ext cx="1008000" cy="936720"/>
          </a:xfrm>
          <a:prstGeom prst="ellipse">
            <a:avLst/>
          </a:prstGeom>
          <a:solidFill>
            <a:srgbClr val="e4df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11280" y="836640"/>
            <a:ext cx="936720" cy="863640"/>
          </a:xfrm>
          <a:prstGeom prst="ellipse">
            <a:avLst/>
          </a:prstGeom>
          <a:solidFill>
            <a:srgbClr val="1aa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11280" y="1844640"/>
            <a:ext cx="936720" cy="863640"/>
          </a:xfrm>
          <a:prstGeom prst="ellipse">
            <a:avLst/>
          </a:prstGeom>
          <a:solidFill>
            <a:srgbClr val="1aa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11280" y="2852640"/>
            <a:ext cx="936720" cy="863640"/>
          </a:xfrm>
          <a:prstGeom prst="ellipse">
            <a:avLst/>
          </a:prstGeom>
          <a:solidFill>
            <a:srgbClr val="1aa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11280" y="3933720"/>
            <a:ext cx="936720" cy="863640"/>
          </a:xfrm>
          <a:prstGeom prst="ellipse">
            <a:avLst/>
          </a:prstGeom>
          <a:solidFill>
            <a:srgbClr val="1aa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40000" y="5084640"/>
            <a:ext cx="1008000" cy="865440"/>
          </a:xfrm>
          <a:prstGeom prst="ellipse">
            <a:avLst/>
          </a:prstGeom>
          <a:solidFill>
            <a:srgbClr val="1aa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96000" y="836640"/>
            <a:ext cx="936720" cy="792000"/>
          </a:xfrm>
          <a:prstGeom prst="ellipse">
            <a:avLst/>
          </a:prstGeom>
          <a:solidFill>
            <a:srgbClr val="e4df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51640" y="836640"/>
            <a:ext cx="936720" cy="792000"/>
          </a:xfrm>
          <a:prstGeom prst="ellipse">
            <a:avLst/>
          </a:prstGeom>
          <a:solidFill>
            <a:srgbClr val="1aa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96000" y="1773360"/>
            <a:ext cx="936720" cy="792000"/>
          </a:xfrm>
          <a:prstGeom prst="ellipse">
            <a:avLst/>
          </a:prstGeom>
          <a:solidFill>
            <a:srgbClr val="e4df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24720" y="1773360"/>
            <a:ext cx="863640" cy="792000"/>
          </a:xfrm>
          <a:prstGeom prst="ellipse">
            <a:avLst/>
          </a:prstGeom>
          <a:solidFill>
            <a:srgbClr val="1aa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2781360"/>
            <a:ext cx="936720" cy="863640"/>
          </a:xfrm>
          <a:prstGeom prst="ellipse">
            <a:avLst/>
          </a:prstGeom>
          <a:solidFill>
            <a:srgbClr val="e4df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24720" y="2781360"/>
            <a:ext cx="934920" cy="792000"/>
          </a:xfrm>
          <a:prstGeom prst="ellipse">
            <a:avLst/>
          </a:prstGeom>
          <a:solidFill>
            <a:srgbClr val="1aa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plit dir="in" orient="vert"/>
  </p:transition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0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8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98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8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8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850"/>
                            </p:stCondLst>
                            <p:childTnLst>
                              <p:par>
                                <p:cTn id="987" nodeType="afterEffect" fill="hold" presetClass="entr" presetID="2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5350"/>
                            </p:stCondLst>
                            <p:childTnLst>
                              <p:par>
                                <p:cTn id="1004" nodeType="afterEffect" fill="hold" presetClass="entr" presetID="3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9850"/>
                            </p:stCondLst>
                            <p:childTnLst>
                              <p:par>
                                <p:cTn id="1011" nodeType="after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12850"/>
                            </p:stCondLst>
                            <p:childTnLst>
                              <p:par>
                                <p:cTn id="101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17850"/>
                            </p:stCondLst>
                            <p:childTnLst>
                              <p:par>
                                <p:cTn id="10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18950"/>
                            </p:stCondLst>
                            <p:childTnLst>
                              <p:par>
                                <p:cTn id="1030" nodeType="afterEffect" fill="hold" presetClass="exit" presetID="13" presetSubtype="16">
                                  <p:stCondLst>
                                    <p:cond delay="150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03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xit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103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22450"/>
                            </p:stCondLst>
                            <p:childTnLst>
                              <p:par>
                                <p:cTn id="103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23450"/>
                            </p:stCondLst>
                            <p:childTnLst>
                              <p:par>
                                <p:cTn id="10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23950"/>
                            </p:stCondLst>
                            <p:childTnLst>
                              <p:par>
                                <p:cTn id="1047" nodeType="afterEffect" fill="hold" presetClass="exit" presetID="52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0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0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05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52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0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0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05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26450"/>
                            </p:stCondLst>
                            <p:childTnLst>
                              <p:par>
                                <p:cTn id="105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28450"/>
                            </p:stCondLst>
                            <p:childTnLst>
                              <p:par>
                                <p:cTn id="106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77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9" dur="770" fill="hold"/>
                                        <p:tgtEl>
                                          <p:spTgt spid="1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1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3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30450"/>
                            </p:stCondLst>
                            <p:childTnLst>
                              <p:par>
                                <p:cTn id="1076" nodeType="afterEffect" fill="hold" presetClass="exit" presetID="39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77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2" nodeType="withEffect" fill="hold" presetClass="exit" presetID="39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3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32450"/>
                            </p:stCondLst>
                            <p:childTnLst>
                              <p:par>
                                <p:cTn id="108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33550"/>
                            </p:stCondLst>
                            <p:childTnLst>
                              <p:par>
                                <p:cTn id="109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38550"/>
                            </p:stCondLst>
                            <p:childTnLst>
                              <p:par>
                                <p:cTn id="1100" nodeType="afterEffect" fill="hold" presetClass="exit" presetID="5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01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xit" presetID="50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6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41050"/>
                            </p:stCondLst>
                            <p:childTnLst>
                              <p:par>
                                <p:cTn id="11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41550"/>
                            </p:stCondLst>
                            <p:childTnLst>
                              <p:par>
                                <p:cTn id="111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42550"/>
                            </p:stCondLst>
                            <p:childTnLst>
                              <p:par>
                                <p:cTn id="1121" nodeType="afterEffect" fill="hold" presetClass="exit" presetID="10">
                                  <p:stCondLst>
                                    <p:cond delay="15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12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4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46050"/>
                            </p:stCondLst>
                            <p:childTnLst>
                              <p:par>
                                <p:cTn id="1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5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46210"/>
                            </p:stCondLst>
                            <p:childTnLst>
                              <p:par>
                                <p:cTn id="11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46710"/>
                            </p:stCondLst>
                            <p:childTnLst>
                              <p:par>
                                <p:cTn id="1142" nodeType="afterEffect" fill="hold" presetClass="exit" presetID="12" presetSubtype="4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lide(fromBottom)" transition="out">
                                      <p:cBhvr additive="repl">
                                        <p:cTn id="11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nodeType="withEffect" fill="hold" presetClass="exit" presetID="12" presetSubtype="4">
                                  <p:stCondLst>
                                    <p:cond delay="15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4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48710"/>
                            </p:stCondLst>
                            <p:childTnLst>
                              <p:par>
                                <p:cTn id="11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49210"/>
                            </p:stCondLst>
                            <p:childTnLst>
                              <p:par>
                                <p:cTn id="11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49710"/>
                            </p:stCondLst>
                            <p:childTnLst>
                              <p:par>
                                <p:cTn id="1157" nodeType="afterEffect" fill="hold" presetClass="exit" presetID="45">
                                  <p:stCondLst>
                                    <p:cond delay="1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5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9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2" nodeType="withEffect" fill="hold" presetClass="exit" presetID="45">
                                  <p:stCondLst>
                                    <p:cond delay="1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6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4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679840" y="423720"/>
            <a:ext cx="326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50760" y="1071720"/>
            <a:ext cx="3558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name …   Ni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dog …    gr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…  br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…  a pup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 bears …  br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ly and I …   sis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…   a do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…   a pil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89080" y="47973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79480" y="479736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479736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43480" y="479736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00720" y="479736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64000" y="4797360"/>
            <a:ext cx="12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08560" y="4797360"/>
            <a:ext cx="4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27840" y="479736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4720" y="47973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plit dir="in" orient="vert"/>
  </p:transition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0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afterEffect" fill="hold" presetClass="path" presetID="0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0.0158 -0.0373 L 0.10243 -0.55213 E">
                                      <p:cBhvr>
                                        <p:cTn id="1172" dur="2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74" nodeType="afterEffect" fill="hold" presetClass="path" presetID="0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0.00973 -0.06858 L 0.00973 -0.48911 E">
                                      <p:cBhvr>
                                        <p:cTn id="1175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77" nodeType="afterEffect" fill="hold" presetClass="path" presetID="0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0.00573 -0.03707 L -0.16736 -0.43651 E">
                                      <p:cBhvr>
                                        <p:cTn id="1178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36000"/>
                            </p:stCondLst>
                            <p:childTnLst>
                              <p:par>
                                <p:cTn id="1180" nodeType="afterEffect" fill="hold" presetClass="path" presetID="0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-0.00521 -0.01622 L 0.02622 -0.37349 E">
                                      <p:cBhvr>
                                        <p:cTn id="1181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48000"/>
                            </p:stCondLst>
                            <p:childTnLst>
                              <p:par>
                                <p:cTn id="1183" nodeType="afterEffect" fill="hold" presetClass="path" presetID="0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-1.66667E-006 -3.98517E-007 L -0.19601 -0.33156 E">
                                      <p:cBhvr>
                                        <p:cTn id="1184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60000"/>
                            </p:stCondLst>
                            <p:childTnLst>
                              <p:par>
                                <p:cTn id="1186" nodeType="afterEffect" fill="hold" presetClass="path" presetID="0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0.0283 -0.00556 L -0.28663 -0.2683 E">
                                      <p:cBhvr>
                                        <p:cTn id="1187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72000"/>
                            </p:stCondLst>
                            <p:childTnLst>
                              <p:par>
                                <p:cTn id="1189" nodeType="afterEffect" fill="hold" presetClass="path" presetID="0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0.00399 -0.01622 L -0.45278 -0.21594 E">
                                      <p:cBhvr>
                                        <p:cTn id="1190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84000"/>
                            </p:stCondLst>
                            <p:childTnLst>
                              <p:par>
                                <p:cTn id="1192" nodeType="afterEffect" fill="hold" presetClass="path" presetID="0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-0.01961 -0.00556 L -0.56302 -0.16335 E">
                                      <p:cBhvr>
                                        <p:cTn id="1193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50760" y="1989000"/>
            <a:ext cx="599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ланет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мматика жила была частич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а всегда со всеми не соглашалась и всегда была недовольна, поэтому жители планеты не хотели с ней друж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й очень хотелось дружить с королевичам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, IS, AR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к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ё приглашали в гости, она спорила с ними и не соглашалась ни с чем, что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и не сказ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7147080" y="692280"/>
            <a:ext cx="1996920" cy="28810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8459640" y="3213000"/>
            <a:ext cx="68436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plit dir="in" orient="vert"/>
  </p:transition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fill="hold">
                      <p:stCondLst>
                        <p:cond delay="0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8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1" dur="8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8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8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7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4" nodeType="afterEffect" fill="hold" presetClass="entr" presetID="5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8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8000"/>
                            </p:stCondLst>
                            <p:childTnLst>
                              <p:par>
                                <p:cTn id="1220" nodeType="afterEffect" fill="hold" presetClass="entr" presetID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3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9" dur="8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0" dur="8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1" dur="8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67840" y="63972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1773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0" y="1844640"/>
            <a:ext cx="2195640" cy="23036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0" y="4076640"/>
            <a:ext cx="2195640" cy="2781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7693200" y="1844640"/>
            <a:ext cx="1450800" cy="21607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059280" y="0"/>
            <a:ext cx="5898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олевичи пытались с ней поговор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всегда получалос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am not n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re not a pup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is not br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is not a pup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not n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13280" y="3448080"/>
            <a:ext cx="262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not n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re not n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not n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8920" y="-792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9280" y="18651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74760" y="442584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317080" y="3716280"/>
            <a:ext cx="647640" cy="3070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N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317080" y="6453360"/>
            <a:ext cx="826920" cy="366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plit dir="in" orient="vert"/>
  </p:transition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0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afterEffect" fill="hold" presetClass="entr" presetID="3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9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3" nodeType="afterEffect" fill="hold" presetClass="entr" presetID="31">
                                  <p:stCondLst>
                                    <p:cond delay="5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8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13900"/>
                            </p:stCondLst>
                            <p:childTnLst>
                              <p:par>
                                <p:cTn id="1260" nodeType="afterEffect" fill="hold" presetClass="entr" presetID="3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2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3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20900"/>
                            </p:stCondLst>
                            <p:childTnLst>
                              <p:par>
                                <p:cTn id="1267" nodeType="afterEffect" fill="hold" presetClass="emph" presetID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68" dur="indefinite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25900"/>
                            </p:stCondLst>
                            <p:childTnLst>
                              <p:par>
                                <p:cTn id="1270" nodeType="afterEffect" fill="hold" presetClass="entr" presetID="52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4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31900"/>
                            </p:stCondLst>
                            <p:childTnLst>
                              <p:par>
                                <p:cTn id="1276" nodeType="afterEffect" fill="hold" presetClass="emph" presetID="18">
                                  <p:stCondLst>
                                    <p:cond delay="5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77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37700"/>
                            </p:stCondLst>
                            <p:childTnLst>
                              <p:par>
                                <p:cTn id="1279" nodeType="afterEffect" fill="hold" presetClass="entr" presetID="5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1" dur="77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2" dur="77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4" dur="77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6" dur="77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44700"/>
                            </p:stCondLst>
                            <p:childTnLst>
                              <p:par>
                                <p:cTn id="1289" nodeType="afterEffect" fill="remove" presetClass="emph" presetID="33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9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9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92" dur="3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9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52700"/>
                            </p:stCondLst>
                            <p:childTnLst>
                              <p:par>
                                <p:cTn id="1295" nodeType="afterEffect" fill="hold" presetClass="entr" presetID="3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58700"/>
                            </p:stCondLst>
                            <p:childTnLst>
                              <p:par>
                                <p:cTn id="1302" nodeType="afterEffect" fill="hold" presetClass="emph" presetID="14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0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0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0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0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0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65700"/>
                            </p:stCondLst>
                            <p:childTnLst>
                              <p:par>
                                <p:cTn id="1310" nodeType="afterEffect" fill="hold" presetClass="entr" presetID="8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2" dur="20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72700"/>
                            </p:stCondLst>
                            <p:childTnLst>
                              <p:par>
                                <p:cTn id="1314" nodeType="afterEffect" fill="hold" presetClass="emph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15" dur="indefinite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77700"/>
                            </p:stCondLst>
                            <p:childTnLst>
                              <p:par>
                                <p:cTn id="1317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84700"/>
                            </p:stCondLst>
                            <p:childTnLst>
                              <p:par>
                                <p:cTn id="1321" nodeType="afterEffect" fill="hold" presetClass="emph" presetID="35">
                                  <p:stCondLst>
                                    <p:cond delay="5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90700"/>
                            </p:stCondLst>
                            <p:childTnLst>
                              <p:par>
                                <p:cTn id="1324" nodeType="afterEffect" fill="hold" presetClass="entr" presetID="2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8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96700"/>
                            </p:stCondLst>
                            <p:childTnLst>
                              <p:par>
                                <p:cTn id="1330" nodeType="afterEffect" fill="hold" presetClass="emph" presetID="26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1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2" dur="250" autoRev="1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102200"/>
                            </p:stCondLst>
                            <p:childTnLst>
                              <p:par>
                                <p:cTn id="1334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916360" y="115920"/>
            <a:ext cx="29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43120" y="692280"/>
            <a:ext cx="660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ич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T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 отрицате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е и переводится на русский язык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Е». Она присоединяется к глагол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IS, AR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олуча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23840" y="2349360"/>
            <a:ext cx="343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am not (I’m n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re not (You aren’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is not (He isn’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is not (She isn’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not (It isn’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43480" y="2421000"/>
            <a:ext cx="37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not( We aren’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re not (You aren’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not (They aren’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887480" y="4292640"/>
            <a:ext cx="8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д.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64200" y="42210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.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42920" y="422100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435640" y="414972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6093000"/>
            <a:ext cx="21592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24360" y="6093000"/>
            <a:ext cx="216036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6093000"/>
            <a:ext cx="216072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71640" y="4941720"/>
            <a:ext cx="1944720" cy="1151280"/>
          </a:xfrm>
          <a:prstGeom prst="roundRect">
            <a:avLst>
              <a:gd name="adj" fmla="val 16667"/>
            </a:avLst>
          </a:prstGeom>
          <a:solidFill>
            <a:srgbClr val="f1ee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95640" y="4941720"/>
            <a:ext cx="1944720" cy="1151280"/>
          </a:xfrm>
          <a:prstGeom prst="roundRect">
            <a:avLst>
              <a:gd name="adj" fmla="val 16667"/>
            </a:avLst>
          </a:prstGeom>
          <a:solidFill>
            <a:srgbClr val="1aa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77080" y="4941720"/>
            <a:ext cx="1942920" cy="1151280"/>
          </a:xfrm>
          <a:prstGeom prst="roundRect">
            <a:avLst>
              <a:gd name="adj" fmla="val 16667"/>
            </a:avLst>
          </a:prstGeom>
          <a:solidFill>
            <a:srgbClr val="59b2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258920" y="5157720"/>
            <a:ext cx="2174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340000" y="5373720"/>
            <a:ext cx="28728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11640" y="5157720"/>
            <a:ext cx="28908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92720" y="5445000"/>
            <a:ext cx="35892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093080" y="5157720"/>
            <a:ext cx="215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17080" y="5373720"/>
            <a:ext cx="28728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724360" y="4653000"/>
            <a:ext cx="287640" cy="288720"/>
          </a:xfrm>
          <a:prstGeom prst="upArrow">
            <a:avLst>
              <a:gd name="adj1" fmla="val 50000"/>
              <a:gd name="adj2" fmla="val 250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75840" y="647388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,YOU,HE,SHE,IT,WE,TH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048560" y="640080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, IS,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14000" y="6329520"/>
            <a:ext cx="20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тальные с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994360" y="4745160"/>
            <a:ext cx="663840" cy="368280"/>
          </a:xfrm>
          <a:prstGeom prst="rect">
            <a:avLst/>
          </a:prstGeom>
          <a:solidFill>
            <a:srgbClr val="2bd6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16360" y="5445000"/>
            <a:ext cx="1079280" cy="71640"/>
          </a:xfrm>
          <a:prstGeom prst="leftRightArrow">
            <a:avLst>
              <a:gd name="adj1" fmla="val 50000"/>
              <a:gd name="adj2" fmla="val 2999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0360" y="5516640"/>
            <a:ext cx="1008000" cy="73080"/>
          </a:xfrm>
          <a:prstGeom prst="leftRightArrow">
            <a:avLst>
              <a:gd name="adj1" fmla="val 50000"/>
              <a:gd name="adj2" fmla="val 2745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plit dir="in" orient="vert"/>
  </p:transition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fill="hold">
                      <p:stCondLst>
                        <p:cond delay="0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3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4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8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9" dur="50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50" dur="50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51" dur="50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3700"/>
                            </p:stCondLst>
                            <p:childTnLst>
                              <p:par>
                                <p:cTn id="1353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354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5700"/>
                            </p:stCondLst>
                            <p:childTnLst>
                              <p:par>
                                <p:cTn id="1356" nodeType="afterEffect" fill="hold" presetClass="entr" presetID="40">
                                  <p:stCondLst>
                                    <p:cond delay="6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40">
                                  <p:stCondLst>
                                    <p:cond delay="6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3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40">
                                  <p:stCondLst>
                                    <p:cond delay="6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40">
                                  <p:stCondLst>
                                    <p:cond delay="6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16200"/>
                            </p:stCondLst>
                            <p:childTnLst>
                              <p:par>
                                <p:cTn id="1377" nodeType="afterEffect" fill="hold" presetClass="exit" presetID="51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7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9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380" dur="123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381" dur="123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38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383" dur="123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38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6" nodeType="withEffect" fill="hold" presetClass="exit" presetID="51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8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8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389" dur="123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390" dur="123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39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392" dur="123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39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xit" presetID="51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96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7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398" dur="123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399" dur="123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40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401" dur="123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40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4" nodeType="withEffect" fill="hold" presetClass="exit" presetID="51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0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6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407" dur="123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408" dur="123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40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410" dur="123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41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23200"/>
                            </p:stCondLst>
                            <p:childTnLst>
                              <p:par>
                                <p:cTn id="1414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6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9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24200"/>
                            </p:stCondLst>
                            <p:childTnLst>
                              <p:par>
                                <p:cTn id="1421" nodeType="afterEffect" fill="hold" presetClass="exit" presetID="4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22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fill="hold">
                            <p:stCondLst>
                              <p:cond delay="26850"/>
                            </p:stCondLst>
                            <p:childTnLst>
                              <p:par>
                                <p:cTn id="142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1" dur="1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2" dur="4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4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27850"/>
                            </p:stCondLst>
                            <p:childTnLst>
                              <p:par>
                                <p:cTn id="1437" nodeType="afterEffect" fill="hold" presetClass="exit" presetID="13" presetSubtype="16">
                                  <p:stCondLst>
                                    <p:cond delay="150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438" dur="2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31350"/>
                            </p:stCondLst>
                            <p:childTnLst>
                              <p:par>
                                <p:cTn id="144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33850"/>
                            </p:stCondLst>
                            <p:childTnLst>
                              <p:par>
                                <p:cTn id="1448" nodeType="afterEffect" fill="hold" presetClass="exit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449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0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1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36030"/>
                            </p:stCondLst>
                            <p:childTnLst>
                              <p:par>
                                <p:cTn id="145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8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37030"/>
                            </p:stCondLst>
                            <p:childTnLst>
                              <p:par>
                                <p:cTn id="1460" nodeType="afterEffect" fill="hold" presetClass="exit" presetID="50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1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3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39530"/>
                            </p:stCondLst>
                            <p:childTnLst>
                              <p:par>
                                <p:cTn id="146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40030"/>
                            </p:stCondLst>
                            <p:childTnLst>
                              <p:par>
                                <p:cTn id="1473" nodeType="afterEffect" fill="hold" presetClass="exit" presetID="49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4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7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42030"/>
                            </p:stCondLst>
                            <p:childTnLst>
                              <p:par>
                                <p:cTn id="148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42530"/>
                            </p:stCondLst>
                            <p:childTnLst>
                              <p:par>
                                <p:cTn id="1488" nodeType="afterEffect" fill="hold" presetClass="exit" presetID="4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9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44030"/>
                            </p:stCondLst>
                            <p:childTnLst>
                              <p:par>
                                <p:cTn id="14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44530"/>
                            </p:stCondLst>
                            <p:childTnLst>
                              <p:par>
                                <p:cTn id="1500" nodeType="afterEffect" fill="hold" presetClass="exit" presetID="25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46030"/>
                            </p:stCondLst>
                            <p:childTnLst>
                              <p:par>
                                <p:cTn id="1511" nodeType="afterEffect" fill="hold" presetClass="entr" presetID="5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3" dur="77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4" dur="77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16" dur="77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18" dur="77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49530"/>
                            </p:stCondLst>
                            <p:childTnLst>
                              <p:par>
                                <p:cTn id="1521" nodeType="afterEffect" fill="hold" presetClass="exit" presetID="3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2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3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1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52030"/>
                            </p:stCondLst>
                            <p:childTnLst>
                              <p:par>
                                <p:cTn id="1528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0" dur="2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54530"/>
                            </p:stCondLst>
                            <p:childTnLst>
                              <p:par>
                                <p:cTn id="1532" nodeType="afterEffect" fill="hold" presetClass="exit" presetID="14" presetSubtype="10">
                                  <p:stCondLst>
                                    <p:cond delay="15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533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fill="hold">
                            <p:stCondLst>
                              <p:cond delay="56530"/>
                            </p:stCondLst>
                            <p:childTnLst>
                              <p:par>
                                <p:cTn id="15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8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9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57530"/>
                            </p:stCondLst>
                            <p:childTnLst>
                              <p:par>
                                <p:cTn id="1541" nodeType="afterEffect" fill="hold" presetClass="exit" presetID="21" presetSubtype="4">
                                  <p:stCondLst>
                                    <p:cond delay="15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542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61030"/>
                            </p:stCondLst>
                            <p:childTnLst>
                              <p:par>
                                <p:cTn id="15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61530"/>
                            </p:stCondLst>
                            <p:childTnLst>
                              <p:par>
                                <p:cTn id="1552" nodeType="after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3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62530"/>
                            </p:stCondLst>
                            <p:childTnLst>
                              <p:par>
                                <p:cTn id="15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1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64530"/>
                            </p:stCondLst>
                            <p:childTnLst>
                              <p:par>
                                <p:cTn id="1563" nodeType="afterEffect" fill="hold" presetClass="exit" presetID="35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4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5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fill="hold">
                            <p:stCondLst>
                              <p:cond delay="68030"/>
                            </p:stCondLst>
                            <p:childTnLst>
                              <p:par>
                                <p:cTn id="1570" nodeType="after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8" nodeType="with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4" nodeType="with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2" nodeType="with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4" fill="hold">
                            <p:stCondLst>
                              <p:cond delay="70030"/>
                            </p:stCondLst>
                            <p:childTnLst>
                              <p:par>
                                <p:cTn id="1685" nodeType="afterEffect" fill="hold" presetClass="exit" presetID="3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6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8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8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xit" presetID="34">
                                  <p:stCondLst>
                                    <p:cond delay="8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6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9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9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5" nodeType="withEffect" fill="hold" presetClass="exit" presetID="3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6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9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9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xit" presetID="3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7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0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xit" presetID="3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7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0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0" nodeType="withEffect" fill="hold" presetClass="exit" presetID="3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7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5" nodeType="withEffect" fill="hold" presetClass="exit" presetID="3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7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0" nodeType="withEffect" fill="hold" presetClass="exit" presetID="3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7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2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2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5" nodeType="withEffect" fill="hold" presetClass="exit" presetID="3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7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2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2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nodeType="withEffect" fill="hold" presetClass="exit" presetID="3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7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3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3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xit" presetID="3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7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3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3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nodeType="withEffect" fill="hold" presetClass="exit" presetID="3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7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4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5" nodeType="withEffect" fill="hold" presetClass="exit" presetID="3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7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4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0" nodeType="withEffect" fill="hold" presetClass="exit" presetID="3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7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5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5" nodeType="withEffect" fill="hold" presetClass="exit" presetID="3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7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5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0" nodeType="withEffect" fill="hold" presetClass="exit" presetID="3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7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5" nodeType="withEffect" fill="hold" presetClass="exit" presetID="3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7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0" nodeType="withEffect" fill="hold" presetClass="exit" presetID="3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7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7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7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5" nodeType="withEffect" fill="hold" presetClass="exit" presetID="3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7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7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7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311120" y="2349360"/>
            <a:ext cx="7859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Neurochrome"/>
              </a:rPr>
              <a:t>Частичка </a:t>
            </a:r>
            <a:r>
              <a:rPr b="0" lang="en-US" sz="2000" spc="-1" strike="noStrike">
                <a:solidFill>
                  <a:srgbClr val="000099"/>
                </a:solidFill>
                <a:latin typeface="Neurochrome"/>
              </a:rPr>
              <a:t>NOT</a:t>
            </a:r>
            <a:r>
              <a:rPr b="0" lang="ru-RU" sz="2000" spc="-1" strike="noStrike">
                <a:solidFill>
                  <a:srgbClr val="000099"/>
                </a:solidFill>
                <a:latin typeface="Neurochrome"/>
              </a:rPr>
              <a:t> переживала из-за того, что с н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Neurochrome"/>
              </a:rPr>
              <a:t>не хотят дружить, но король глагол </a:t>
            </a:r>
            <a:r>
              <a:rPr b="0" lang="en-US" sz="2000" spc="-1" strike="noStrike">
                <a:solidFill>
                  <a:srgbClr val="000099"/>
                </a:solidFill>
                <a:latin typeface="Neurochrome"/>
              </a:rPr>
              <a:t>TO BE</a:t>
            </a:r>
            <a:r>
              <a:rPr b="0" lang="ru-RU" sz="2000" spc="-1" strike="noStrike">
                <a:solidFill>
                  <a:srgbClr val="000099"/>
                </a:solidFill>
                <a:latin typeface="Neurochrome"/>
              </a:rPr>
              <a:t> успокаив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Neurochrome"/>
              </a:rPr>
              <a:t>ее и говорил, что бывают такие ситуации в жизни, когда без нее просто нельзя обойтись и все жители-глаголы с удовольствием будут приглашать её в г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116000" y="4941720"/>
            <a:ext cx="1700280" cy="1656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6372360" y="4149720"/>
            <a:ext cx="2771640" cy="27082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3419640" y="5373720"/>
            <a:ext cx="57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41440" y="6237360"/>
            <a:ext cx="66384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297280" y="431316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plit dir="in" orient="vert"/>
  </p:transition>
  <p:timing>
    <p:tnLst>
      <p:par>
        <p:cTn id="1780" dur="indefinite" restart="never" nodeType="tmRoot">
          <p:childTnLst>
            <p:seq>
              <p:cTn id="1781" dur="indefinite" nodeType="mainSeq">
                <p:childTnLst>
                  <p:par>
                    <p:cTn id="1782" fill="hold">
                      <p:stCondLst>
                        <p:cond delay="0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971080" y="157320"/>
            <a:ext cx="29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82400" y="1071720"/>
            <a:ext cx="4047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Mary   … ….      a teac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It  … …  a do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Sam   … …  a do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I  … …   a bo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My friends  … …   pup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They   … …   cosmona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We   … …   frie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64200" y="481644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92360" y="479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43280" y="4797360"/>
            <a:ext cx="10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51280" y="4797360"/>
            <a:ext cx="17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03640" y="4797360"/>
            <a:ext cx="19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280200" y="479736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096200" y="5176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76920" y="51768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plit dir="in" orient="vert"/>
  </p:transition>
  <p:timing>
    <p:tnLst>
      <p:par>
        <p:cTn id="1807" dur="indefinite" restart="never" nodeType="tmRoot">
          <p:childTnLst>
            <p:seq>
              <p:cTn id="1808" dur="indefinite" nodeType="mainSeq">
                <p:childTnLst>
                  <p:par>
                    <p:cTn id="1809" fill="hold">
                      <p:stCondLst>
                        <p:cond delay="0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afterEffect" fill="hold" presetClass="path" presetID="0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0.02135 -0.05028 L 0.18663 -0.55491 E">
                                      <p:cBhvr>
                                        <p:cTn id="1812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14" nodeType="afterEffect" fill="hold" presetClass="path" presetID="0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0.01563 -3.98517E-007 L -0.10572 -0.48911 E">
                                      <p:cBhvr>
                                        <p:cTn id="1815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fill="hold">
                            <p:stCondLst>
                              <p:cond delay="24000"/>
                            </p:stCondLst>
                            <p:childTnLst>
                              <p:par>
                                <p:cTn id="1817" nodeType="afterEffect" fill="hold" presetClass="path" presetID="0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-0.00226 -0.019 L 0.1316 -0.49189 E">
                                      <p:cBhvr>
                                        <p:cTn id="1818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9" fill="hold">
                            <p:stCondLst>
                              <p:cond delay="36000"/>
                            </p:stCondLst>
                            <p:childTnLst>
                              <p:par>
                                <p:cTn id="1820" nodeType="afterEffect" fill="hold" presetClass="path" presetID="0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0.0276 -0.0373 L -0.00382 -0.37349 E">
                                      <p:cBhvr>
                                        <p:cTn id="1821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2" fill="hold">
                            <p:stCondLst>
                              <p:cond delay="48000"/>
                            </p:stCondLst>
                            <p:childTnLst>
                              <p:par>
                                <p:cTn id="1823" nodeType="afterEffect" fill="hold" presetClass="path" presetID="0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0.03142 -3.98517E-007 L -0.08021 -0.3209 E">
                                      <p:cBhvr>
                                        <p:cTn id="1824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5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26" nodeType="afterEffect" fill="hold" presetClass="path" presetID="0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0.06546 -0.0373 L -0.28888 -0.2683 E">
                                      <p:cBhvr>
                                        <p:cTn id="1827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8" fill="hold">
                            <p:stCondLst>
                              <p:cond delay="72000"/>
                            </p:stCondLst>
                            <p:childTnLst>
                              <p:par>
                                <p:cTn id="1829" nodeType="afterEffect" fill="hold" presetClass="path" presetID="0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0.03108 -0.0373 L -0.44149 -0.21594 E">
                                      <p:cBhvr>
                                        <p:cTn id="1830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260280"/>
            <a:ext cx="89647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Monotype Corsiva"/>
              </a:rPr>
              <a:t>СКАЗК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Monotype Corsiva"/>
              </a:rPr>
              <a:t>              </a:t>
            </a:r>
            <a:r>
              <a:rPr b="0" lang="ru-RU" sz="4800" spc="-1" strike="noStrike">
                <a:solidFill>
                  <a:srgbClr val="ff0066"/>
                </a:solidFill>
                <a:latin typeface="Monotype Corsiva"/>
              </a:rPr>
              <a:t>О КОРОЛЕ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Monotype Corsiva"/>
              </a:rPr>
              <a:t>                                    </a:t>
            </a:r>
            <a:r>
              <a:rPr b="0" lang="ru-RU" sz="4800" spc="-1" strike="noStrike">
                <a:solidFill>
                  <a:srgbClr val="ff0066"/>
                </a:solidFill>
                <a:latin typeface="Monotype Corsiva"/>
              </a:rPr>
              <a:t>ГЛАГОЛ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067280" y="2565360"/>
            <a:ext cx="1512720" cy="1150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51280" y="3875040"/>
            <a:ext cx="189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split dir="in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500"/>
                            </p:stCondLst>
                            <p:childTnLst>
                              <p:par>
                                <p:cTn id="4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500"/>
                            </p:stCondLst>
                            <p:childTnLst>
                              <p:par>
                                <p:cTn id="47" nodeType="afterEffect" fill="remove" presetClass="emph" presetID="33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0" dur="3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1500"/>
                            </p:stCondLst>
                            <p:childTnLst>
                              <p:par>
                                <p:cTn id="5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3500"/>
                            </p:stCondLst>
                            <p:childTnLst>
                              <p:par>
                                <p:cTn id="6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79280" y="2637000"/>
            <a:ext cx="13982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Neurochrome"/>
              </a:rPr>
              <a:t>Королевичи </a:t>
            </a:r>
            <a:r>
              <a:rPr b="1" lang="en-US" sz="2400" spc="-1" strike="noStrike">
                <a:solidFill>
                  <a:srgbClr val="ff0000"/>
                </a:solidFill>
                <a:latin typeface="Neurochrome"/>
              </a:rPr>
              <a:t>AM, IS, ARE </a:t>
            </a:r>
            <a:r>
              <a:rPr b="0" lang="ru-RU" sz="2400" spc="-1" strike="noStrike">
                <a:solidFill>
                  <a:srgbClr val="ff0000"/>
                </a:solidFill>
                <a:latin typeface="Neurochrome"/>
              </a:rPr>
              <a:t>очень люб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Neurochrome"/>
              </a:rPr>
              <a:t>путешествовать по</a:t>
            </a:r>
            <a:r>
              <a:rPr b="0" lang="en-US" sz="2400" spc="-1" strike="noStrike">
                <a:solidFill>
                  <a:srgbClr val="ff0000"/>
                </a:solidFill>
                <a:latin typeface="Neurochrome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Neurochrome"/>
              </a:rPr>
              <a:t>Планете- Грамматика. Когда о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Neurochrome"/>
              </a:rPr>
              <a:t>прилетали в другие Королевства,</a:t>
            </a:r>
            <a:r>
              <a:rPr b="0" lang="en-US" sz="2400" spc="-1" strike="noStrike">
                <a:solidFill>
                  <a:srgbClr val="ff0000"/>
                </a:solidFill>
                <a:latin typeface="Neurochrome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Neurochrome"/>
              </a:rPr>
              <a:t>им было интерес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Neurochrome"/>
              </a:rPr>
              <a:t>узнать как можно больше информации о жителях эт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Neurochrome"/>
              </a:rPr>
              <a:t>Королевства. Они задавали им много вопрос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Neurochrome"/>
              </a:rPr>
              <a:t>как их зовут, сколько им лет и друг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Neurochrome"/>
              </a:rPr>
              <a:t>Королевичи любили путешествовать на летающем вагонч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Neurochrome"/>
              </a:rPr>
              <a:t>Так как они были королевичами, они любили , чтобы 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Neurochrome"/>
              </a:rPr>
              <a:t>вагончик</a:t>
            </a:r>
            <a:r>
              <a:rPr b="0" lang="en-US" sz="2400" spc="-1" strike="noStrike">
                <a:solidFill>
                  <a:srgbClr val="333399"/>
                </a:solidFill>
                <a:latin typeface="Neurochrome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Neurochrome"/>
              </a:rPr>
              <a:t>всегда был перв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plit dir="in" orient="vert"/>
  </p:transition>
  <p:timing>
    <p:tnLst>
      <p:par>
        <p:cTn id="1831" dur="indefinite" restart="never" nodeType="tmRoot">
          <p:childTnLst>
            <p:seq>
              <p:cTn id="1832" dur="indefinite" nodeType="mainSeq">
                <p:childTnLst>
                  <p:par>
                    <p:cTn id="1833" fill="hold">
                      <p:stCondLst>
                        <p:cond delay="0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7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8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2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3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7" dur="1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8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2" dur="1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3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7" dur="10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8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2" dur="10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3" dur="1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1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5" fill="hold">
                            <p:stCondLst>
                              <p:cond delay="5200"/>
                            </p:stCondLst>
                            <p:childTnLst>
                              <p:par>
                                <p:cTn id="1866" nodeType="afterEffect" fill="hold" presetClass="entr" presetID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8" dur="10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9" dur="10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10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1" fill="hold">
                            <p:stCondLst>
                              <p:cond delay="8700"/>
                            </p:stCondLst>
                            <p:childTnLst>
                              <p:par>
                                <p:cTn id="1872" nodeType="afterEffect" fill="hold" presetClass="entr" presetID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4" dur="100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5" dur="10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7" fill="hold">
                            <p:stCondLst>
                              <p:cond delay="12200"/>
                            </p:stCondLst>
                            <p:childTnLst>
                              <p:par>
                                <p:cTn id="1878" nodeType="afterEffect" fill="hold" presetClass="entr" presetID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0" dur="10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1" dur="1000" fill="hold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1000" fill="hold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755640" y="189000"/>
            <a:ext cx="8531280" cy="45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осмотрите на наш летающий поезд. В зеленом вагончике у н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утешествовали королевичи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AM,IS,ARE,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 желтом вагончике путешествовали друзья королевичей , а в  голубом вагончике- другие жители план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Когда королевичи беседовали с жителями, они начина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ажно спрашив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m I ni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re you clev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s he a frie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s she a gir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s it a do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                                                   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re we friend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                                                   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re you pupi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                                                   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re they docto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5950080"/>
            <a:ext cx="2374920" cy="35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419640" y="5950080"/>
            <a:ext cx="2520720" cy="35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443640" y="5950080"/>
            <a:ext cx="2700360" cy="35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9640" y="5084640"/>
            <a:ext cx="2160720" cy="865440"/>
          </a:xfrm>
          <a:prstGeom prst="roundRect">
            <a:avLst>
              <a:gd name="adj" fmla="val 16667"/>
            </a:avLst>
          </a:prstGeom>
          <a:solidFill>
            <a:srgbClr val="1aa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564000" y="5084640"/>
            <a:ext cx="2087640" cy="865440"/>
          </a:xfrm>
          <a:prstGeom prst="roundRect">
            <a:avLst>
              <a:gd name="adj" fmla="val 16667"/>
            </a:avLst>
          </a:prstGeom>
          <a:solidFill>
            <a:srgbClr val="f1ee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659640" y="5084640"/>
            <a:ext cx="2305080" cy="865440"/>
          </a:xfrm>
          <a:prstGeom prst="roundRect">
            <a:avLst>
              <a:gd name="adj" fmla="val 16667"/>
            </a:avLst>
          </a:prstGeom>
          <a:solidFill>
            <a:srgbClr val="47a6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26920" y="5157720"/>
            <a:ext cx="216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50920" y="5373720"/>
            <a:ext cx="28908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780000" y="5229360"/>
            <a:ext cx="144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932360" y="5373720"/>
            <a:ext cx="36036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77080" y="5229360"/>
            <a:ext cx="14292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317080" y="5300640"/>
            <a:ext cx="3585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00360" y="5516640"/>
            <a:ext cx="863640" cy="73080"/>
          </a:xfrm>
          <a:prstGeom prst="leftRightArrow">
            <a:avLst>
              <a:gd name="adj1" fmla="val 50000"/>
              <a:gd name="adj2" fmla="val 2352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651640" y="5445000"/>
            <a:ext cx="1008000" cy="71640"/>
          </a:xfrm>
          <a:prstGeom prst="leftRightArrow">
            <a:avLst>
              <a:gd name="adj1" fmla="val 50000"/>
              <a:gd name="adj2" fmla="val 2801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8200" y="640080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, IS,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32000" y="6329520"/>
            <a:ext cx="35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,YOU,HE,SHE,IT,WE,TH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714000" y="6329520"/>
            <a:ext cx="20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тальные с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plit dir="in" orient="vert"/>
  </p:transition>
  <p:timing>
    <p:tnLst>
      <p:par>
        <p:cTn id="1883" dur="indefinite" restart="never" nodeType="tmRoot">
          <p:childTnLst>
            <p:seq>
              <p:cTn id="1884" dur="indefinite" nodeType="mainSeq">
                <p:childTnLst>
                  <p:par>
                    <p:cTn id="1885" fill="hold">
                      <p:stCondLst>
                        <p:cond delay="0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9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04" nodeType="afterEffect" fill="hold" presetClass="entr" presetID="31">
                                  <p:stCondLst>
                                    <p:cond delay="5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6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9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0" nodeType="withEffect" fill="hold" presetClass="entr" presetID="31">
                                  <p:stCondLst>
                                    <p:cond delay="5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2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3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5" dur="1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6" fill="hold">
                            <p:stCondLst>
                              <p:cond delay="22750"/>
                            </p:stCondLst>
                            <p:childTnLst>
                              <p:par>
                                <p:cTn id="2017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9" dur="10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0" dur="10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9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3" fill="hold">
                            <p:stCondLst>
                              <p:cond delay="25750"/>
                            </p:stCondLst>
                            <p:childTnLst>
                              <p:par>
                                <p:cTn id="2024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2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26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27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028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9" fill="hold">
                            <p:stCondLst>
                              <p:cond delay="26250"/>
                            </p:stCondLst>
                            <p:childTnLst>
                              <p:par>
                                <p:cTn id="20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2" dur="20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3" fill="hold">
                            <p:stCondLst>
                              <p:cond delay="28250"/>
                            </p:stCondLst>
                            <p:childTnLst>
                              <p:par>
                                <p:cTn id="2034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35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6" fill="hold">
                            <p:stCondLst>
                              <p:cond delay="28990"/>
                            </p:stCondLst>
                            <p:childTnLst>
                              <p:par>
                                <p:cTn id="20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9" dur="10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0" dur="10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1" dur="100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2" fill="hold">
                            <p:stCondLst>
                              <p:cond delay="29990"/>
                            </p:stCondLst>
                            <p:childTnLst>
                              <p:par>
                                <p:cTn id="204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indefinite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5" fill="hold">
                            <p:stCondLst>
                              <p:cond delay="29990"/>
                            </p:stCondLst>
                            <p:childTnLst>
                              <p:par>
                                <p:cTn id="20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2" fill="hold">
                            <p:stCondLst>
                              <p:cond delay="30990"/>
                            </p:stCondLst>
                            <p:childTnLst>
                              <p:par>
                                <p:cTn id="2053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54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055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056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057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8" fill="hold">
                            <p:stCondLst>
                              <p:cond delay="31490"/>
                            </p:stCondLst>
                            <p:childTnLst>
                              <p:par>
                                <p:cTn id="205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1" dur="10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10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3" dur="1000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4" fill="hold">
                            <p:stCondLst>
                              <p:cond delay="32490"/>
                            </p:stCondLst>
                            <p:childTnLst>
                              <p:par>
                                <p:cTn id="206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66" dur="20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7" fill="hold">
                            <p:stCondLst>
                              <p:cond delay="34490"/>
                            </p:stCondLst>
                            <p:childTnLst>
                              <p:par>
                                <p:cTn id="20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0" dur="770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71" dur="770" fill="hold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73" dur="770" fill="hold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75" dur="770" fill="hold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7" fill="hold">
                            <p:stCondLst>
                              <p:cond delay="36490"/>
                            </p:stCondLst>
                            <p:childTnLst>
                              <p:par>
                                <p:cTn id="20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indefinite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0" fill="hold">
                            <p:stCondLst>
                              <p:cond delay="36490"/>
                            </p:stCondLst>
                            <p:childTnLst>
                              <p:par>
                                <p:cTn id="20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3" dur="1000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4" dur="1000" fill="hold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900" fill="hold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7" fill="hold">
                            <p:stCondLst>
                              <p:cond delay="37490"/>
                            </p:stCondLst>
                            <p:childTnLst>
                              <p:par>
                                <p:cTn id="208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9" dur="250" autoRev="1" fill="hold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90" dur="250" autoRev="1" fill="hold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91" dur="250" autoRev="1" fill="hold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2" fill="hold">
                            <p:stCondLst>
                              <p:cond delay="37990"/>
                            </p:stCondLst>
                            <p:childTnLst>
                              <p:par>
                                <p:cTn id="20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1000" fill="hold"/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3" fill="hold">
                            <p:stCondLst>
                              <p:cond delay="38990"/>
                            </p:stCondLst>
                            <p:childTnLst>
                              <p:par>
                                <p:cTn id="2104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0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0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10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1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11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544560" y="539640"/>
            <a:ext cx="253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671480" y="1359000"/>
            <a:ext cx="546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вая вопросы , мы начинаем их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IS,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116000" y="2637000"/>
            <a:ext cx="5524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00"/>
                </a:solidFill>
                <a:latin typeface="Arial"/>
              </a:rPr>
              <a:t>Are you happ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Is he happy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ffcc"/>
                </a:solidFill>
                <a:latin typeface="Arial"/>
              </a:rPr>
              <a:t>Is she happ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Am I happ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ff33"/>
                </a:solidFill>
                <a:latin typeface="Arial"/>
              </a:rPr>
              <a:t>Are they happ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37280" y="2349360"/>
            <a:ext cx="3906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00"/>
                </a:solidFill>
                <a:latin typeface="Arial"/>
              </a:rPr>
              <a:t>Yes, I 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00"/>
                </a:solidFill>
                <a:latin typeface="Arial"/>
              </a:rPr>
              <a:t>No, I am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Yes, he 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No, he is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ffcc"/>
                </a:solidFill>
                <a:latin typeface="Arial"/>
              </a:rPr>
              <a:t>Yes, she 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ffcc"/>
                </a:solidFill>
                <a:latin typeface="Arial"/>
              </a:rPr>
              <a:t>No, she isn’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Yes, you 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No, you are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ff33"/>
                </a:solidFill>
                <a:latin typeface="Arial"/>
              </a:rPr>
              <a:t>Yes, they 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ff33"/>
                </a:solidFill>
                <a:latin typeface="Arial"/>
              </a:rPr>
              <a:t>No, they are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plit dir="in" orient="vert"/>
  </p:transition>
  <p:timing>
    <p:tnLst>
      <p:par>
        <p:cTn id="2111" dur="indefinite" restart="never" nodeType="tmRoot">
          <p:childTnLst>
            <p:seq>
              <p:cTn id="2112" dur="indefinite" nodeType="mainSeq">
                <p:childTnLst>
                  <p:par>
                    <p:cTn id="2113" fill="hold">
                      <p:stCondLst>
                        <p:cond delay="0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7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9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122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123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2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12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6" fill="hold">
                            <p:stCondLst>
                              <p:cond delay="1850"/>
                            </p:stCondLst>
                            <p:childTnLst>
                              <p:par>
                                <p:cTn id="21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9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0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4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5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7" fill="hold">
                            <p:stCondLst>
                              <p:cond delay="5550"/>
                            </p:stCondLst>
                            <p:childTnLst>
                              <p:par>
                                <p:cTn id="2138" nodeType="afterEffect" fill="hold" presetClass="exit" presetID="56">
                                  <p:stCondLst>
                                    <p:cond delay="4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2139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0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2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4" nodeType="withEffect" fill="hold" presetClass="exit" presetID="56">
                                  <p:stCondLst>
                                    <p:cond delay="4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2145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2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0" fill="hold">
                            <p:stCondLst>
                              <p:cond delay="13250"/>
                            </p:stCondLst>
                            <p:childTnLst>
                              <p:par>
                                <p:cTn id="215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3" dur="1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4" dur="4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4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8" fill="hold">
                            <p:stCondLst>
                              <p:cond delay="14250"/>
                            </p:stCondLst>
                            <p:childTnLst>
                              <p:par>
                                <p:cTn id="21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1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4" dur="2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5" fill="hold">
                            <p:stCondLst>
                              <p:cond delay="16250"/>
                            </p:stCondLst>
                            <p:childTnLst>
                              <p:par>
                                <p:cTn id="2166" nodeType="afterEffect" fill="hold" presetClass="exit" presetID="14" presetSubtype="10">
                                  <p:stCondLst>
                                    <p:cond delay="25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167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9" nodeType="withEffect" fill="hold" presetClass="exit" presetID="14" presetSubtype="10">
                                  <p:stCondLst>
                                    <p:cond delay="25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170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19250"/>
                            </p:stCondLst>
                            <p:childTnLst>
                              <p:par>
                                <p:cTn id="2173" nodeType="afterEffect" fill="hold" presetClass="exit" presetID="48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4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77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9" fill="hold">
                            <p:stCondLst>
                              <p:cond delay="21750"/>
                            </p:stCondLst>
                            <p:childTnLst>
                              <p:par>
                                <p:cTn id="21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2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3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4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5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6" fill="hold">
                            <p:stCondLst>
                              <p:cond delay="22250"/>
                            </p:stCondLst>
                            <p:childTnLst>
                              <p:par>
                                <p:cTn id="218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9" dur="2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0" dur="2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2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4" dur="20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5" dur="2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2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7" fill="hold">
                            <p:stCondLst>
                              <p:cond delay="26250"/>
                            </p:stCondLst>
                            <p:childTnLst>
                              <p:par>
                                <p:cTn id="2198" nodeType="afterEffect" fill="hold" presetClass="exit" presetID="45">
                                  <p:stCondLst>
                                    <p:cond delay="2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199" dur="2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0" dur="2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2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3" nodeType="withEffect" fill="hold" presetClass="exit" presetID="45">
                                  <p:stCondLst>
                                    <p:cond delay="2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04" dur="20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5" dur="20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20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8" fill="hold">
                            <p:stCondLst>
                              <p:cond delay="32750"/>
                            </p:stCondLst>
                            <p:childTnLst>
                              <p:par>
                                <p:cTn id="2209" nodeType="afterEffect" fill="hold" presetClass="exit" presetID="29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0" dur="1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1" dur="1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2" dur="1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4" fill="hold">
                            <p:stCondLst>
                              <p:cond delay="35250"/>
                            </p:stCondLst>
                            <p:childTnLst>
                              <p:par>
                                <p:cTn id="22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7" dur="5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8" dur="5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9" fill="hold">
                            <p:stCondLst>
                              <p:cond delay="35750"/>
                            </p:stCondLst>
                            <p:childTnLst>
                              <p:par>
                                <p:cTn id="22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2" fill="hold">
                            <p:stCondLst>
                              <p:cond delay="37750"/>
                            </p:stCondLst>
                            <p:childTnLst>
                              <p:par>
                                <p:cTn id="2253" nodeType="afterEffect" fill="hold" presetClass="exit" presetID="37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4" dur="10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5" dur="10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6" dur="1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9" nodeType="withEffect" fill="hold" presetClass="exit" presetID="37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0" dur="10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1" dur="10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1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5" fill="hold">
                            <p:stCondLst>
                              <p:cond delay="41250"/>
                            </p:stCondLst>
                            <p:childTnLst>
                              <p:par>
                                <p:cTn id="2266" nodeType="afterEffect" fill="hold" presetClass="exit" presetID="35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7" dur="20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8" dur="20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9" dur="20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0" dur="20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45750"/>
                            </p:stCondLst>
                            <p:childTnLst>
                              <p:par>
                                <p:cTn id="227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9" fill="hold">
                            <p:stCondLst>
                              <p:cond delay="46750"/>
                            </p:stCondLst>
                            <p:childTnLst>
                              <p:par>
                                <p:cTn id="2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2" dur="500"/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5" dur="500"/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6" fill="hold">
                            <p:stCondLst>
                              <p:cond delay="47250"/>
                            </p:stCondLst>
                            <p:childTnLst>
                              <p:par>
                                <p:cTn id="2287" nodeType="afterEffect" fill="hold" presetClass="exit" presetID="55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8" dur="1000"/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9" dur="1000"/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0" dur="1000"/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2" nodeType="withEffect" fill="hold" presetClass="exit" presetID="55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3" dur="1000"/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4" dur="1000"/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5" dur="1000"/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7" fill="hold">
                            <p:stCondLst>
                              <p:cond delay="50750"/>
                            </p:stCondLst>
                            <p:childTnLst>
                              <p:par>
                                <p:cTn id="2298" nodeType="afterEffect" fill="hold" presetClass="exit" presetID="3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2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00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53250"/>
                            </p:stCondLst>
                            <p:childTnLst>
                              <p:par>
                                <p:cTn id="23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6" dur="80"/>
                                        <p:tgtEl>
                                          <p:spTgt spid="2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7" dur="80"/>
                                        <p:tgtEl>
                                          <p:spTgt spid="2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8" dur="80"/>
                                        <p:tgtEl>
                                          <p:spTgt spid="2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9" fill="hold">
                            <p:stCondLst>
                              <p:cond delay="53810"/>
                            </p:stCondLst>
                            <p:childTnLst>
                              <p:par>
                                <p:cTn id="23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2" dur="5000" fill="hold"/>
                                        <p:tgtEl>
                                          <p:spTgt spid="2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3" dur="5000" fill="hold"/>
                                        <p:tgtEl>
                                          <p:spTgt spid="2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6" dur="5000" fill="hold"/>
                                        <p:tgtEl>
                                          <p:spTgt spid="2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7" dur="5000" fill="hold"/>
                                        <p:tgtEl>
                                          <p:spTgt spid="2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8" fill="hold">
                            <p:stCondLst>
                              <p:cond delay="58810"/>
                            </p:stCondLst>
                            <p:childTnLst>
                              <p:par>
                                <p:cTn id="2319" nodeType="afterEffect" fill="hold" presetClass="exit" presetID="52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2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322" dur="1000"/>
                                        <p:tgtEl>
                                          <p:spTgt spid="2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4" nodeType="withEffect" fill="hold" presetClass="exit" presetID="52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2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327" dur="1000"/>
                                        <p:tgtEl>
                                          <p:spTgt spid="2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9" fill="hold">
                            <p:stCondLst>
                              <p:cond delay="62310"/>
                            </p:stCondLst>
                            <p:childTnLst>
                              <p:par>
                                <p:cTn id="2330" nodeType="afterEffect" fill="hold" presetClass="exit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331" dur="80"/>
                                        <p:tgtEl>
                                          <p:spTgt spid="2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2" dur="80"/>
                                        <p:tgtEl>
                                          <p:spTgt spid="2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3" dur="80"/>
                                        <p:tgtEl>
                                          <p:spTgt spid="2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340000" y="2746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458000" y="1143000"/>
            <a:ext cx="2806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…..you n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…. you clev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…. they doc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…..he a pupi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….. she beauti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….. you frien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…..the dog bi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79480" y="107172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, I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41640" y="46735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319480" y="4653000"/>
            <a:ext cx="5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481280" y="14320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, w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55840" y="465300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408560" y="465300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480920" y="1863720"/>
            <a:ext cx="168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, the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41280" y="510552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0" y="2224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, h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416560" y="4508640"/>
            <a:ext cx="9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263700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, sh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42000" y="45291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0" y="2943360"/>
            <a:ext cx="17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, w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826000" y="51055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00720" y="337500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, i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75840" y="510552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273640" y="50324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849640" y="496080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642360" y="5032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889280" y="55371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41640" y="55371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plit dir="in" orient="vert"/>
  </p:transition>
  <p:timing>
    <p:tnLst>
      <p:par>
        <p:cTn id="2335" dur="indefinite" restart="never" nodeType="tmRoot">
          <p:childTnLst>
            <p:seq>
              <p:cTn id="2336" dur="indefinite" nodeType="mainSeq">
                <p:childTnLst>
                  <p:par>
                    <p:cTn id="2337" fill="hold">
                      <p:stCondLst>
                        <p:cond delay="indefinite"/>
                      </p:stCondLst>
                      <p:childTnLst>
                        <p:par>
                          <p:cTn id="2338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click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-0.00208 -0.02966 L 0.04514 -0.53406 E">
                                      <p:cBhvr>
                                        <p:cTn id="2340" dur="2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42" nodeType="after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0.00486 -0.03708 L 0.3434 -0.53105 E">
                                      <p:cBhvr>
                                        <p:cTn id="2343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4" fill="hold">
                      <p:stCondLst>
                        <p:cond delay="indefinite"/>
                      </p:stCondLst>
                      <p:childTnLst>
                        <p:par>
                          <p:cTn id="2345" fill="hold">
                            <p:stCondLst>
                              <p:cond delay="0"/>
                            </p:stCondLst>
                            <p:childTnLst>
                              <p:par>
                                <p:cTn id="2346" nodeType="click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-0.01007 -0.03708 L -0.19115 -0.47846 E">
                                      <p:cBhvr>
                                        <p:cTn id="2347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49" nodeType="after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-0.00208 -0.03708 L 0.12379 -0.47846 E">
                                      <p:cBhvr>
                                        <p:cTn id="2350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52" nodeType="after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0.00573 -0.02966 L -0.12813 -0.48146 E">
                                      <p:cBhvr>
                                        <p:cTn id="2353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4" fill="hold">
                            <p:stCondLst>
                              <p:cond delay="30000"/>
                            </p:stCondLst>
                            <p:childTnLst>
                              <p:par>
                                <p:cTn id="2355" nodeType="after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4.72222E-006 5.74606E-007 L 0.47986 -0.48146 E">
                                      <p:cBhvr>
                                        <p:cTn id="2356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7" fill="hold">
                            <p:stCondLst>
                              <p:cond delay="40000"/>
                            </p:stCondLst>
                            <p:childTnLst>
                              <p:par>
                                <p:cTn id="2358" nodeType="after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0.00399 -0.02965 L -0.5316 -0.33433 E">
                                      <p:cBhvr>
                                        <p:cTn id="2359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0" fill="hold">
                            <p:stCondLst>
                              <p:cond delay="50000"/>
                            </p:stCondLst>
                            <p:childTnLst>
                              <p:par>
                                <p:cTn id="2361" nodeType="after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0.01337 -0.0475 L 0.00555 -0.34175 E">
                                      <p:cBhvr>
                                        <p:cTn id="2362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3" fill="hold">
                            <p:stCondLst>
                              <p:cond delay="60000"/>
                            </p:stCondLst>
                            <p:childTnLst>
                              <p:par>
                                <p:cTn id="2364" nodeType="afterEffect" fill="hold" presetClass="path" presetID="0">
                                  <p:stCondLst>
                                    <p:cond delay="8500"/>
                                  </p:stCondLst>
                                  <p:childTnLst>
                                    <p:animMotion origin="layout" path="M 2.5E-006 -1.40871E-006 L -0.38976 -0.36585 E">
                                      <p:cBhvr>
                                        <p:cTn id="2365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6" fill="hold">
                            <p:stCondLst>
                              <p:cond delay="70500"/>
                            </p:stCondLst>
                            <p:childTnLst>
                              <p:par>
                                <p:cTn id="2367" nodeType="after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0.00399 -0.02943 L 0.00399 -0.34477 E">
                                      <p:cBhvr>
                                        <p:cTn id="2368" dur="2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9" fill="hold">
                            <p:stCondLst>
                              <p:cond delay="80500"/>
                            </p:stCondLst>
                            <p:childTnLst>
                              <p:par>
                                <p:cTn id="2370" nodeType="after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0.01371 -0.00834 L -0.54549 -0.31325 E">
                                      <p:cBhvr>
                                        <p:cTn id="2371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2" fill="hold">
                            <p:stCondLst>
                              <p:cond delay="90500"/>
                            </p:stCondLst>
                            <p:childTnLst>
                              <p:par>
                                <p:cTn id="2373" nodeType="after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-0.00209 -0.02966 L 0.43107 -0.38693 E">
                                      <p:cBhvr>
                                        <p:cTn id="2374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5" fill="hold">
                            <p:stCondLst>
                              <p:cond delay="100500"/>
                            </p:stCondLst>
                            <p:childTnLst>
                              <p:par>
                                <p:cTn id="2376" nodeType="after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-0.00399 -0.02966 L -0.13785 -0.33434 E">
                                      <p:cBhvr>
                                        <p:cTn id="2377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8" fill="hold">
                            <p:stCondLst>
                              <p:cond delay="110500"/>
                            </p:stCondLst>
                            <p:childTnLst>
                              <p:par>
                                <p:cTn id="2379" nodeType="after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0.00573 -0.02966 L 0.1316 -0.26089 E">
                                      <p:cBhvr>
                                        <p:cTn id="2380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Litebulb"/>
          <p:cNvSpPr/>
          <p:nvPr/>
        </p:nvSpPr>
        <p:spPr>
          <a:xfrm>
            <a:off x="179280" y="404640"/>
            <a:ext cx="1871640" cy="151308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tebulb"/>
          <p:cNvSpPr/>
          <p:nvPr/>
        </p:nvSpPr>
        <p:spPr>
          <a:xfrm>
            <a:off x="179280" y="4653000"/>
            <a:ext cx="1754280" cy="158904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tebulb"/>
          <p:cNvSpPr/>
          <p:nvPr/>
        </p:nvSpPr>
        <p:spPr>
          <a:xfrm>
            <a:off x="250920" y="2421000"/>
            <a:ext cx="1873080" cy="165564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26920" y="40464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84360" y="2421000"/>
            <a:ext cx="93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26920" y="4581360"/>
            <a:ext cx="10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268360" y="3645000"/>
            <a:ext cx="208764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716360" y="3645000"/>
            <a:ext cx="223200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308720" y="3645000"/>
            <a:ext cx="165600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11280" y="2492280"/>
            <a:ext cx="1800360" cy="1152720"/>
          </a:xfrm>
          <a:prstGeom prst="roundRect">
            <a:avLst>
              <a:gd name="adj" fmla="val 16667"/>
            </a:avLst>
          </a:prstGeom>
          <a:solidFill>
            <a:srgbClr val="1aa917"/>
          </a:solidFill>
          <a:ln w="9360">
            <a:solidFill>
              <a:srgbClr val="1aa9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932360" y="2492280"/>
            <a:ext cx="1727280" cy="1152720"/>
          </a:xfrm>
          <a:prstGeom prst="roundRect">
            <a:avLst>
              <a:gd name="adj" fmla="val 16667"/>
            </a:avLst>
          </a:prstGeom>
          <a:solidFill>
            <a:srgbClr val="f1ee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36000" y="2492280"/>
            <a:ext cx="1728720" cy="1152720"/>
          </a:xfrm>
          <a:prstGeom prst="roundRect">
            <a:avLst>
              <a:gd name="adj" fmla="val 16667"/>
            </a:avLst>
          </a:prstGeom>
          <a:solidFill>
            <a:srgbClr val="59b2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11640" y="2997360"/>
            <a:ext cx="720720" cy="71280"/>
          </a:xfrm>
          <a:prstGeom prst="leftRightArrow">
            <a:avLst>
              <a:gd name="adj1" fmla="val 50000"/>
              <a:gd name="adj2" fmla="val 2012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659640" y="2997360"/>
            <a:ext cx="649080" cy="71280"/>
          </a:xfrm>
          <a:prstGeom prst="leftRightArrow">
            <a:avLst>
              <a:gd name="adj1" fmla="val 50000"/>
              <a:gd name="adj2" fmla="val 1812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27280" y="2708280"/>
            <a:ext cx="144360" cy="433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564000" y="2997360"/>
            <a:ext cx="43164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76720" y="2708280"/>
            <a:ext cx="142920" cy="433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156360" y="2924280"/>
            <a:ext cx="287280" cy="64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451640" y="2708280"/>
            <a:ext cx="2160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88360" y="2852640"/>
            <a:ext cx="21600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68360" y="1413000"/>
            <a:ext cx="187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716360" y="1484280"/>
            <a:ext cx="208764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236000" y="1484280"/>
            <a:ext cx="19080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340000" y="404640"/>
            <a:ext cx="1800360" cy="1008360"/>
          </a:xfrm>
          <a:prstGeom prst="roundRect">
            <a:avLst>
              <a:gd name="adj" fmla="val 16667"/>
            </a:avLst>
          </a:prstGeom>
          <a:solidFill>
            <a:srgbClr val="f1ee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88000" y="404640"/>
            <a:ext cx="1944720" cy="1079640"/>
          </a:xfrm>
          <a:prstGeom prst="roundRect">
            <a:avLst>
              <a:gd name="adj" fmla="val 16667"/>
            </a:avLst>
          </a:prstGeom>
          <a:solidFill>
            <a:srgbClr val="1aa917"/>
          </a:solidFill>
          <a:ln w="9360">
            <a:solidFill>
              <a:srgbClr val="1aa9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08720" y="404640"/>
            <a:ext cx="1656000" cy="1079640"/>
          </a:xfrm>
          <a:prstGeom prst="roundRect">
            <a:avLst>
              <a:gd name="adj" fmla="val 16667"/>
            </a:avLst>
          </a:prstGeom>
          <a:solidFill>
            <a:srgbClr val="59b2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556000" y="549360"/>
            <a:ext cx="2872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564000" y="620640"/>
            <a:ext cx="36036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003640" y="476280"/>
            <a:ext cx="14472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300720" y="620640"/>
            <a:ext cx="28728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524720" y="476280"/>
            <a:ext cx="216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459640" y="692280"/>
            <a:ext cx="43344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140360" y="907920"/>
            <a:ext cx="647640" cy="73080"/>
          </a:xfrm>
          <a:prstGeom prst="leftRightArrow">
            <a:avLst>
              <a:gd name="adj1" fmla="val 50000"/>
              <a:gd name="adj2" fmla="val 1764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732720" y="836640"/>
            <a:ext cx="576000" cy="71280"/>
          </a:xfrm>
          <a:prstGeom prst="leftRightArrow">
            <a:avLst>
              <a:gd name="adj1" fmla="val 50000"/>
              <a:gd name="adj2" fmla="val 1608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124000" y="5877000"/>
            <a:ext cx="223200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716360" y="5877000"/>
            <a:ext cx="216072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164360" y="5877000"/>
            <a:ext cx="180036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268360" y="4797360"/>
            <a:ext cx="1943280" cy="1079640"/>
          </a:xfrm>
          <a:prstGeom prst="roundRect">
            <a:avLst>
              <a:gd name="adj" fmla="val 16667"/>
            </a:avLst>
          </a:prstGeom>
          <a:solidFill>
            <a:srgbClr val="f1ee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859280" y="4797360"/>
            <a:ext cx="1800360" cy="1079640"/>
          </a:xfrm>
          <a:prstGeom prst="roundRect">
            <a:avLst>
              <a:gd name="adj" fmla="val 16667"/>
            </a:avLst>
          </a:prstGeom>
          <a:solidFill>
            <a:srgbClr val="1aa917"/>
          </a:solidFill>
          <a:ln w="9360">
            <a:solidFill>
              <a:srgbClr val="1aa9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236000" y="4797360"/>
            <a:ext cx="1728720" cy="1079640"/>
          </a:xfrm>
          <a:prstGeom prst="roundRect">
            <a:avLst>
              <a:gd name="adj" fmla="val 16667"/>
            </a:avLst>
          </a:prstGeom>
          <a:solidFill>
            <a:srgbClr val="59b2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411280" y="4941720"/>
            <a:ext cx="21600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708360" y="5300640"/>
            <a:ext cx="21600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03640" y="4941720"/>
            <a:ext cx="14472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84720" y="5157720"/>
            <a:ext cx="35892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80360" y="4941720"/>
            <a:ext cx="28728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532720" y="5157720"/>
            <a:ext cx="28728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1640" y="5373720"/>
            <a:ext cx="576360" cy="71280"/>
          </a:xfrm>
          <a:prstGeom prst="leftRightArrow">
            <a:avLst>
              <a:gd name="adj1" fmla="val 50000"/>
              <a:gd name="adj2" fmla="val 1609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659640" y="5373720"/>
            <a:ext cx="576360" cy="71280"/>
          </a:xfrm>
          <a:prstGeom prst="leftRightArrow">
            <a:avLst>
              <a:gd name="adj1" fmla="val 50000"/>
              <a:gd name="adj2" fmla="val 1609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372360" y="4508640"/>
            <a:ext cx="360360" cy="288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03480" y="1792440"/>
            <a:ext cx="205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,YOU,HE,SHE,I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,TH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11840" y="3881520"/>
            <a:ext cx="205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,YOU,HE,SHE,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,TH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128200" y="186516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, IS,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040920" y="359244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64200" y="395280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, IS,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056920" y="625644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, IS,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030760" y="6184800"/>
            <a:ext cx="26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, YOU, HE, SHE, IT,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93080" y="1865160"/>
            <a:ext cx="21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тальные с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093080" y="3952800"/>
            <a:ext cx="21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тальные с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145640" y="6184800"/>
            <a:ext cx="20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тальные с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659640" y="4365720"/>
            <a:ext cx="77616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042800" y="-6480"/>
            <a:ext cx="15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REM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plit dir="in" orient="vert"/>
  </p:transition>
  <p:timing>
    <p:tnLst>
      <p:par>
        <p:cTn id="2381" dur="indefinite" restart="never" nodeType="tmRoot">
          <p:childTnLst>
            <p:seq>
              <p:cTn id="2382" dur="indefinite" nodeType="mainSeq">
                <p:childTnLst>
                  <p:par>
                    <p:cTn id="2383" fill="hold">
                      <p:stCondLst>
                        <p:cond delay="0"/>
                      </p:stCondLst>
                      <p:childTnLst>
                        <p:par>
                          <p:cTn id="2384" fill="hold">
                            <p:stCondLst>
                              <p:cond delay="0"/>
                            </p:stCondLst>
                            <p:childTnLst>
                              <p:par>
                                <p:cTn id="2385" nodeType="after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7" dur="77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8" dur="77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90" dur="77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92" dur="77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5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396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397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98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40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1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1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9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7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0" fill="hold">
                            <p:stCondLst>
                              <p:cond delay="6000"/>
                            </p:stCondLst>
                            <p:childTnLst>
                              <p:par>
                                <p:cTn id="26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6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7" fill="hold">
                            <p:stCondLst>
                              <p:cond delay="8000"/>
                            </p:stCondLst>
                            <p:childTnLst>
                              <p:par>
                                <p:cTn id="269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9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0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2" fill="hold">
                            <p:stCondLst>
                              <p:cond delay="9000"/>
                            </p:stCondLst>
                            <p:childTnLst>
                              <p:par>
                                <p:cTn id="27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7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8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9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1" fill="hold">
                            <p:stCondLst>
                              <p:cond delay="9500"/>
                            </p:stCondLst>
                            <p:childTnLst>
                              <p:par>
                                <p:cTn id="28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4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5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6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0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1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2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3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4" fill="hold">
                            <p:stCondLst>
                              <p:cond delay="11500"/>
                            </p:stCondLst>
                            <p:childTnLst>
                              <p:par>
                                <p:cTn id="282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2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2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9" fill="hold">
                            <p:stCondLst>
                              <p:cond delay="12500"/>
                            </p:stCondLst>
                            <p:childTnLst>
                              <p:par>
                                <p:cTn id="283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4" fill="hold">
                      <p:stCondLst>
                        <p:cond delay="indefinite"/>
                      </p:stCondLst>
                      <p:childTnLst>
                        <p:par>
                          <p:cTn id="2945" fill="hold">
                            <p:stCondLst>
                              <p:cond delay="0"/>
                            </p:stCondLst>
                            <p:childTnLst>
                              <p:par>
                                <p:cTn id="294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947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948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949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950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042920" y="3284640"/>
            <a:ext cx="669780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Neurochrome"/>
              </a:rPr>
              <a:t>THE E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408560" y="409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plit dir="in" orient="vert"/>
  </p:transition>
  <p:timing>
    <p:tnLst>
      <p:par>
        <p:cTn id="2951" dur="indefinite" restart="never" nodeType="tmRoot">
          <p:childTnLst>
            <p:seq>
              <p:cTn id="2952" dur="indefinite" nodeType="mainSeq">
                <p:childTnLst>
                  <p:par>
                    <p:cTn id="2953" fill="hold">
                      <p:stCondLst>
                        <p:cond delay="0"/>
                      </p:stCondLst>
                      <p:childTnLst>
                        <p:par>
                          <p:cTn id="2954" fill="hold">
                            <p:stCondLst>
                              <p:cond delay="0"/>
                            </p:stCondLst>
                            <p:childTnLst>
                              <p:par>
                                <p:cTn id="2955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7" dur="15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8" dur="15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9" nodeType="withEffect" fill="hold" presetClass="entr" presetID="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1" dur="15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2" dur="15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9280" y="1916280"/>
            <a:ext cx="896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Neurochrome"/>
              </a:rPr>
              <a:t>На далекой Планете </a:t>
            </a:r>
            <a:r>
              <a:rPr b="0" lang="en-US" sz="3200" spc="-1" strike="noStrike">
                <a:solidFill>
                  <a:srgbClr val="a50021"/>
                </a:solidFill>
                <a:latin typeface="Neurochrome"/>
              </a:rPr>
              <a:t>-</a:t>
            </a:r>
            <a:r>
              <a:rPr b="0" lang="ru-RU" sz="3200" spc="-1" strike="noStrike">
                <a:solidFill>
                  <a:srgbClr val="a50021"/>
                </a:solidFill>
                <a:latin typeface="Neurochrome"/>
              </a:rPr>
              <a:t>Грамматика жил был король глагол-</a:t>
            </a:r>
            <a:r>
              <a:rPr b="0" lang="en-US" sz="3200" spc="-1" strike="noStrike">
                <a:solidFill>
                  <a:srgbClr val="000066"/>
                </a:solidFill>
                <a:latin typeface="Neurochrome"/>
              </a:rPr>
              <a:t>TO BE.</a:t>
            </a:r>
            <a:r>
              <a:rPr b="0" lang="ru-RU" sz="3200" spc="-1" strike="noStrike">
                <a:solidFill>
                  <a:srgbClr val="a50021"/>
                </a:solidFill>
                <a:latin typeface="Neurochrome"/>
              </a:rPr>
              <a:t>Он  был сильный , гордый и могуществен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904000" y="3976560"/>
            <a:ext cx="3240000" cy="2881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378240" cy="2851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081280" y="395280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split dir="in" orient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52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7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70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63480" y="666720"/>
            <a:ext cx="86252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Neurochrome"/>
              </a:rPr>
              <a:t>Он был так горд ,что обходился без помощников и слу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Neurochrome"/>
              </a:rPr>
              <a:t>в построении всех предложений. Все решения о судь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Neurochrome"/>
              </a:rPr>
              <a:t>своего королевства принимал сам. На Планет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Neurochrome"/>
              </a:rPr>
              <a:t> </a:t>
            </a:r>
            <a:r>
              <a:rPr b="0" lang="ru-RU" sz="2400" spc="-1" strike="noStrike">
                <a:solidFill>
                  <a:srgbClr val="a50021"/>
                </a:solidFill>
                <a:latin typeface="Neurochrome"/>
              </a:rPr>
              <a:t>Грамматика не многим глаголам было это под си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Neurochrome"/>
              </a:rPr>
              <a:t>Король издавал указы, которые все жители эт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Neurochrome"/>
              </a:rPr>
              <a:t>Королевства строго выполня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663300"/>
                </a:solidFill>
                <a:latin typeface="Neurochrome"/>
              </a:rPr>
              <a:t>Один из указов глас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11280" y="3357720"/>
            <a:ext cx="8280360" cy="3095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232160" y="372276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УК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03280" y="4149720"/>
            <a:ext cx="69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ff"/>
                </a:solidFill>
                <a:latin typeface="Monotype Corsiva"/>
              </a:rPr>
              <a:t>Все члены предложения стоят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Monotype Corsiva"/>
              </a:rPr>
              <a:t>        </a:t>
            </a:r>
            <a:r>
              <a:rPr b="0" lang="en-US" sz="3200" spc="-1" strike="noStrike">
                <a:solidFill>
                  <a:srgbClr val="0000ff"/>
                </a:solidFill>
                <a:latin typeface="Monotype Corsiva"/>
              </a:rPr>
              <a:t>определенном поряд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3000">
    <p:split dir="in" orient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1">
                                  <p:stCondLst>
                                    <p:cond delay="8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1">
                                  <p:stCondLst>
                                    <p:cond delay="8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1">
                                  <p:stCondLst>
                                    <p:cond delay="8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650"/>
                            </p:stCondLst>
                            <p:childTnLst>
                              <p:par>
                                <p:cTn id="121" nodeType="afterEffect" fill="hold" presetClass="entr" presetID="56">
                                  <p:stCondLst>
                                    <p:cond delay="5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6">
                                  <p:stCondLst>
                                    <p:cond delay="6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750"/>
                            </p:stCondLst>
                            <p:childTnLst>
                              <p:par>
                                <p:cTn id="134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3250"/>
                            </p:stCondLst>
                            <p:childTnLst>
                              <p:par>
                                <p:cTn id="141" nodeType="afterEffect" fill="hold" presetClass="entr" presetID="31">
                                  <p:stCondLst>
                                    <p:cond delay="5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550"/>
                            </p:stCondLst>
                            <p:childTnLst>
                              <p:par>
                                <p:cTn id="148" nodeType="afterEffect" fill="hold" presetClass="entr" presetID="29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9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8050"/>
                            </p:stCondLst>
                            <p:childTnLst>
                              <p:par>
                                <p:cTn id="159" nodeType="afterEffect" fill="hold" presetClass="emph" presetID="21">
                                  <p:stCondLst>
                                    <p:cond delay="5500"/>
                                  </p:stCondLst>
                                  <p:childTnLst>
                                    <p:animClr clrSpc="hsl" dir="cw">
                                      <p:cBhvr>
                                        <p:cTn id="16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21">
                                  <p:stCondLst>
                                    <p:cond delay="5500"/>
                                  </p:stCondLst>
                                  <p:childTnLst>
                                    <p:animClr clrSpc="hsl" dir="cw">
                                      <p:cBhvr>
                                        <p:cTn id="16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6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0920" y="423720"/>
            <a:ext cx="8611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Monotype Corsiva"/>
              </a:rPr>
              <a:t>ПОРЯДОК СЛОВ В ПОВЕСТВОВАТЕЛЬ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Monotype Corsiva"/>
              </a:rPr>
              <a:t>         </a:t>
            </a:r>
            <a:r>
              <a:rPr b="0" lang="en-US" sz="3200" spc="-1" strike="noStrike">
                <a:solidFill>
                  <a:srgbClr val="cc6600"/>
                </a:solidFill>
                <a:latin typeface="Monotype Corsiva"/>
              </a:rPr>
              <a:t>АНГЛИЙСКОМ ПРЕДЛОЖ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191628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ПОДЛЕЖАЩЕЕ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СКАЗУЕМОЕ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ДОПОЛ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4240" y="2427120"/>
            <a:ext cx="259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Действующ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лиц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78960" y="2408400"/>
            <a:ext cx="192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Действие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280200" y="244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62160" y="2427120"/>
            <a:ext cx="32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Остальные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59280" y="31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4036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43480" y="3232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79480" y="5105520"/>
            <a:ext cx="197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, YOU, HE, SH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, WE, Th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29280" y="46004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5640" y="4581360"/>
            <a:ext cx="2448000" cy="287640"/>
          </a:xfrm>
          <a:prstGeom prst="ellipse">
            <a:avLst/>
          </a:prstGeom>
          <a:solidFill>
            <a:srgbClr val="cbe7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35280" y="4581360"/>
            <a:ext cx="2305080" cy="28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516720" y="4581360"/>
            <a:ext cx="2376360" cy="28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24360" y="3573360"/>
            <a:ext cx="1655640" cy="1008000"/>
          </a:xfrm>
          <a:prstGeom prst="roundRect">
            <a:avLst>
              <a:gd name="adj" fmla="val 16667"/>
            </a:avLst>
          </a:prstGeom>
          <a:solidFill>
            <a:srgbClr val="1aa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3573360"/>
            <a:ext cx="1584360" cy="1008000"/>
          </a:xfrm>
          <a:prstGeom prst="roundRect">
            <a:avLst>
              <a:gd name="adj" fmla="val 16667"/>
            </a:avLst>
          </a:prstGeom>
          <a:solidFill>
            <a:srgbClr val="f1ee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04000" y="3573360"/>
            <a:ext cx="1800360" cy="1008000"/>
          </a:xfrm>
          <a:prstGeom prst="roundRect">
            <a:avLst>
              <a:gd name="adj" fmla="val 16667"/>
            </a:avLst>
          </a:prstGeom>
          <a:solidFill>
            <a:srgbClr val="47a6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03280" y="3860640"/>
            <a:ext cx="2160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24000" y="3933720"/>
            <a:ext cx="287280" cy="57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67280" y="3716280"/>
            <a:ext cx="288720" cy="433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32360" y="3933720"/>
            <a:ext cx="360360" cy="57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20000" y="3789360"/>
            <a:ext cx="2160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956720" y="3860640"/>
            <a:ext cx="36036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00360" y="4221000"/>
            <a:ext cx="1295280" cy="71640"/>
          </a:xfrm>
          <a:prstGeom prst="rightArrowCallout">
            <a:avLst>
              <a:gd name="adj1" fmla="val 25002"/>
              <a:gd name="adj2" fmla="val 25000"/>
              <a:gd name="adj3" fmla="val 301340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4221000"/>
            <a:ext cx="1297080" cy="71640"/>
          </a:xfrm>
          <a:prstGeom prst="rightArrowCallout">
            <a:avLst>
              <a:gd name="adj1" fmla="val 25002"/>
              <a:gd name="adj2" fmla="val 25000"/>
              <a:gd name="adj3" fmla="val 301759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00360" y="3933720"/>
            <a:ext cx="1224000" cy="71640"/>
          </a:xfrm>
          <a:prstGeom prst="leftRightArrow">
            <a:avLst>
              <a:gd name="adj1" fmla="val 50000"/>
              <a:gd name="adj2" fmla="val 3401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580000" y="3860640"/>
            <a:ext cx="1224000" cy="73080"/>
          </a:xfrm>
          <a:prstGeom prst="leftRightArrow">
            <a:avLst>
              <a:gd name="adj1" fmla="val 50000"/>
              <a:gd name="adj2" fmla="val 3334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split dir="in" orient="ver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5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8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mph" presetID="30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8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8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8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30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8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8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8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500"/>
                            </p:stCondLst>
                            <p:childTnLst>
                              <p:par>
                                <p:cTn id="1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0"/>
                            </p:stCondLst>
                            <p:childTnLst>
                              <p:par>
                                <p:cTn id="2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7000"/>
                            </p:stCondLst>
                            <p:childTnLst>
                              <p:par>
                                <p:cTn id="210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79840" y="609480"/>
            <a:ext cx="2936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16200" y="1432080"/>
            <a:ext cx="88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16200" y="1144440"/>
            <a:ext cx="81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59280" y="368280"/>
            <a:ext cx="374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REME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981000"/>
            <a:ext cx="8820000" cy="74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По-русски </a:t>
            </a:r>
            <a:r>
              <a:rPr b="0" lang="en-US" sz="2400" spc="-1" strike="noStrike">
                <a:solidFill>
                  <a:srgbClr val="000000"/>
                </a:solidFill>
                <a:latin typeface="Neurochrome"/>
              </a:rPr>
              <a:t>TO BE</a:t>
            </a: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 значит «быть, находиться». Давайте </a:t>
            </a:r>
            <a:r>
              <a:rPr b="0" lang="en-US" sz="2400" spc="-1" strike="noStrike">
                <a:solidFill>
                  <a:srgbClr val="000000"/>
                </a:solidFill>
                <a:latin typeface="Neurochrom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проспрягаем его по временам: Вчера мы </a:t>
            </a:r>
            <a:r>
              <a:rPr b="1" lang="ru-RU" sz="2400" spc="-1" strike="noStrike">
                <a:solidFill>
                  <a:srgbClr val="000000"/>
                </a:solidFill>
                <a:latin typeface="Neurochrome"/>
              </a:rPr>
              <a:t>были</a:t>
            </a: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 на Планете -Грамматика.</a:t>
            </a:r>
            <a:r>
              <a:rPr b="1" lang="ru-RU" sz="2400" spc="-1" strike="noStrike">
                <a:solidFill>
                  <a:srgbClr val="000000"/>
                </a:solidFill>
                <a:latin typeface="Neurochrome"/>
              </a:rPr>
              <a:t>Сегодня</a:t>
            </a: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 мы </a:t>
            </a:r>
            <a:r>
              <a:rPr b="1" lang="ru-RU" sz="2400" spc="-1" strike="noStrike">
                <a:solidFill>
                  <a:srgbClr val="000000"/>
                </a:solidFill>
                <a:latin typeface="Neurochrome"/>
              </a:rPr>
              <a:t>есть</a:t>
            </a: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 на Планете- Граммат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Neurochrome"/>
              </a:rPr>
              <a:t>Завтра</a:t>
            </a: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 мы </a:t>
            </a:r>
            <a:r>
              <a:rPr b="1" lang="ru-RU" sz="2400" spc="-1" strike="noStrike">
                <a:solidFill>
                  <a:srgbClr val="000000"/>
                </a:solidFill>
                <a:latin typeface="Neurochrome"/>
              </a:rPr>
              <a:t>будем</a:t>
            </a: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 на Планете</a:t>
            </a:r>
            <a:r>
              <a:rPr b="0" lang="en-US" sz="2400" spc="-1" strike="noStrike">
                <a:solidFill>
                  <a:srgbClr val="000000"/>
                </a:solidFill>
                <a:latin typeface="Neurochrome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 Грамматика.</a:t>
            </a:r>
            <a:r>
              <a:rPr b="0" lang="en-US" sz="2400" spc="-1" strike="noStrike">
                <a:solidFill>
                  <a:srgbClr val="000000"/>
                </a:solidFill>
                <a:latin typeface="Neurochrom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Neurochrome"/>
              </a:rPr>
              <a:t>Был, есть, буду-</a:t>
            </a: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 все это глагол </a:t>
            </a:r>
            <a:r>
              <a:rPr b="1" lang="en-US" sz="2400" spc="-1" strike="noStrike">
                <a:solidFill>
                  <a:srgbClr val="000000"/>
                </a:solidFill>
                <a:latin typeface="Neurochrome"/>
              </a:rPr>
              <a:t>TO BE</a:t>
            </a:r>
            <a:r>
              <a:rPr b="0" lang="en-US" sz="2400" spc="-1" strike="noStrike">
                <a:solidFill>
                  <a:srgbClr val="000000"/>
                </a:solidFill>
                <a:latin typeface="Neurochrom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Neurochrome"/>
              </a:rPr>
              <a:t>Мы есть</a:t>
            </a: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 на Планете</a:t>
            </a:r>
            <a:r>
              <a:rPr b="0" lang="en-US" sz="2400" spc="-1" strike="noStrike">
                <a:solidFill>
                  <a:srgbClr val="000000"/>
                </a:solidFill>
                <a:latin typeface="Neurochrome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 Грамматика- как странно звучи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правда</a:t>
            </a:r>
            <a:r>
              <a:rPr b="0" lang="en-US" sz="2400" spc="-1" strike="noStrike">
                <a:solidFill>
                  <a:srgbClr val="000000"/>
                </a:solidFill>
                <a:latin typeface="Neurochrome"/>
              </a:rPr>
              <a:t>?</a:t>
            </a: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В русском языке мы опускаем этот глагол «</a:t>
            </a:r>
            <a:r>
              <a:rPr b="1" lang="ru-RU" sz="2400" spc="-1" strike="noStrike">
                <a:solidFill>
                  <a:srgbClr val="000000"/>
                </a:solidFill>
                <a:latin typeface="Neurochrome"/>
              </a:rPr>
              <a:t>ЕСТЬ»</a:t>
            </a: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 .Мы бы сказа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Мы -на Планете</a:t>
            </a:r>
            <a:r>
              <a:rPr b="0" lang="en-US" sz="2400" spc="-1" strike="noStrike">
                <a:solidFill>
                  <a:srgbClr val="000000"/>
                </a:solidFill>
                <a:latin typeface="Neurochrome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 Граммат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LET’S REME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англичане очень уважают  этот глагол и никог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его не теряю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plit dir="in" orient="vert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77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1" dur="77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3" dur="77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5" dur="77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9" dur="indefinite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200"/>
                            </p:stCondLst>
                            <p:childTnLst>
                              <p:par>
                                <p:cTn id="531" nodeType="afterEffect" fill="hold" presetClass="entr" presetID="25">
                                  <p:stCondLst>
                                    <p:cond delay="8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1200"/>
                            </p:stCondLst>
                            <p:childTnLst>
                              <p:par>
                                <p:cTn id="542" nodeType="afterEffect" fill="hold" presetClass="exit" presetID="41">
                                  <p:stCondLst>
                                    <p:cond delay="8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4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6400"/>
                            </p:stCondLst>
                            <p:childTnLst>
                              <p:par>
                                <p:cTn id="550" nodeType="afterEffect" fill="hold" presetClass="entr" presetID="41">
                                  <p:stCondLst>
                                    <p:cond delay="10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40100"/>
                            </p:stCondLst>
                            <p:childTnLst>
                              <p:par>
                                <p:cTn id="558" nodeType="afterEffect" fill="hold" presetClass="exit" presetID="56">
                                  <p:stCondLst>
                                    <p:cond delay="10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559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0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5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7500"/>
                            </p:stCondLst>
                            <p:childTnLst>
                              <p:par>
                                <p:cTn id="5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8500"/>
                            </p:stCondLst>
                            <p:childTnLst>
                              <p:par>
                                <p:cTn id="578" nodeType="afterEffect" fill="hold" presetClass="exit" presetID="34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5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0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34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5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5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63000"/>
                            </p:stCondLst>
                            <p:childTnLst>
                              <p:par>
                                <p:cTn id="589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69600"/>
                            </p:stCondLst>
                            <p:childTnLst>
                              <p:par>
                                <p:cTn id="5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8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70600"/>
                            </p:stCondLst>
                            <p:childTnLst>
                              <p:par>
                                <p:cTn id="602" nodeType="afterEffect" fill="hold" presetClass="exit" presetID="37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03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37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09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73100"/>
                            </p:stCondLst>
                            <p:childTnLst>
                              <p:par>
                                <p:cTn id="6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9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74100"/>
                            </p:stCondLst>
                            <p:childTnLst>
                              <p:par>
                                <p:cTn id="62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2" dur="2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76100"/>
                            </p:stCondLst>
                            <p:childTnLst>
                              <p:par>
                                <p:cTn id="62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900"/>
                            </p:stCondLst>
                            <p:childTnLst>
                              <p:par>
                                <p:cTn id="637" nodeType="afterEffect" fill="hold" presetClass="exit" presetID="40">
                                  <p:stCondLst>
                                    <p:cond delay="3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38" dur="1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40">
                                  <p:stCondLst>
                                    <p:cond delay="3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43" dur="1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297960" y="33480"/>
            <a:ext cx="244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СРАВН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1989000"/>
            <a:ext cx="2160720" cy="28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72360" y="1916280"/>
            <a:ext cx="252072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6920" y="4365720"/>
            <a:ext cx="2376720" cy="35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4365720"/>
            <a:ext cx="2160720" cy="35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16720" y="4365720"/>
            <a:ext cx="2376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00000" y="981000"/>
            <a:ext cx="1943280" cy="1008000"/>
          </a:xfrm>
          <a:prstGeom prst="roundRect">
            <a:avLst>
              <a:gd name="adj" fmla="val 16667"/>
            </a:avLst>
          </a:prstGeom>
          <a:solidFill>
            <a:srgbClr val="e4df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88000" y="981000"/>
            <a:ext cx="2087640" cy="935280"/>
          </a:xfrm>
          <a:prstGeom prst="roundRect">
            <a:avLst>
              <a:gd name="adj" fmla="val 16667"/>
            </a:avLst>
          </a:prstGeom>
          <a:solidFill>
            <a:srgbClr val="449d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3357720"/>
            <a:ext cx="1944720" cy="1008000"/>
          </a:xfrm>
          <a:prstGeom prst="roundRect">
            <a:avLst>
              <a:gd name="adj" fmla="val 16667"/>
            </a:avLst>
          </a:prstGeom>
          <a:solidFill>
            <a:srgbClr val="e4df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08360" y="3357720"/>
            <a:ext cx="1943280" cy="1008000"/>
          </a:xfrm>
          <a:prstGeom prst="roundRect">
            <a:avLst>
              <a:gd name="adj" fmla="val 16667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59640" y="3357720"/>
            <a:ext cx="2016000" cy="1008000"/>
          </a:xfrm>
          <a:prstGeom prst="roundRect">
            <a:avLst>
              <a:gd name="adj" fmla="val 16667"/>
            </a:avLst>
          </a:prstGeom>
          <a:solidFill>
            <a:srgbClr val="449d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41280" y="2146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90640" y="94788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eurochrome"/>
              </a:rPr>
              <a:t>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2133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25640" y="1979640"/>
            <a:ext cx="233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ЕТ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ММА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86000" y="507528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73760" y="4941720"/>
            <a:ext cx="1017360" cy="581400"/>
          </a:xfrm>
          <a:prstGeom prst="rect">
            <a:avLst/>
          </a:prstGeom>
          <a:noFill/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14360" y="5032440"/>
            <a:ext cx="197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Pl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3429000"/>
            <a:ext cx="2160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1280" y="3716280"/>
            <a:ext cx="216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16000" y="1125360"/>
            <a:ext cx="21600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40000" y="1341360"/>
            <a:ext cx="21600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77080" y="1125360"/>
            <a:ext cx="14292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172360" y="1341360"/>
            <a:ext cx="28728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03840" y="3500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95640" y="3429000"/>
            <a:ext cx="14472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789360"/>
            <a:ext cx="21600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77080" y="3429000"/>
            <a:ext cx="2872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172360" y="3789360"/>
            <a:ext cx="28728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plit dir="in" orient="vert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5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6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800"/>
                            </p:stCondLst>
                            <p:childTnLst>
                              <p:par>
                                <p:cTn id="657" nodeType="afterEffect" fill="hold" presetClass="entr" presetID="42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476280"/>
            <a:ext cx="914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У короля глагола-</a:t>
            </a:r>
            <a:r>
              <a:rPr b="0" lang="en-US" sz="2400" spc="-1" strike="noStrike">
                <a:solidFill>
                  <a:srgbClr val="a50021"/>
                </a:solidFill>
                <a:latin typeface="Neurochrome"/>
              </a:rPr>
              <a:t>TO BE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было три сына , и звали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a50021"/>
                </a:solidFill>
                <a:latin typeface="Neurochrome"/>
              </a:rPr>
              <a:t>AM, IS, A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Neurochrome"/>
              </a:rPr>
              <a:t>Король разрешал им помогать ему в управлении Королевством.</a:t>
            </a:r>
            <a:r>
              <a:rPr b="0" lang="ru-RU" sz="1800" spc="-1" strike="noStrike">
                <a:solidFill>
                  <a:srgbClr val="a50021"/>
                </a:solidFill>
                <a:latin typeface="Neurochrome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39640" y="2205000"/>
            <a:ext cx="160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Neurochrome"/>
              </a:rPr>
              <a:t>TO 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979640" y="2781360"/>
            <a:ext cx="2016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0720" y="27813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76720" y="2781360"/>
            <a:ext cx="1800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68040" y="4178160"/>
            <a:ext cx="81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eurochrome"/>
              </a:rPr>
              <a:t>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45280" y="4033800"/>
            <a:ext cx="5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eurochrome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65360" y="4105440"/>
            <a:ext cx="9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eurochrome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050920" y="4724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45813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36000" y="45813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78560" y="5546880"/>
            <a:ext cx="3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eurochrome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87640" y="544500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eurochrome"/>
              </a:rPr>
              <a:t>HE,SHE,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84720" y="5342040"/>
            <a:ext cx="27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eurochrome"/>
              </a:rPr>
              <a:t>WE,YOU,TH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plit dir="in" orient="vert"/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77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1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3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5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5500"/>
                            </p:stCondLst>
                            <p:childTnLst>
                              <p:par>
                                <p:cTn id="69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6500"/>
                            </p:stCondLst>
                            <p:childTnLst>
                              <p:par>
                                <p:cTn id="7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7500"/>
                            </p:stCondLst>
                            <p:childTnLst>
                              <p:par>
                                <p:cTn id="7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8500"/>
                            </p:stCondLst>
                            <p:childTnLst>
                              <p:par>
                                <p:cTn id="71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77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2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4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6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0500"/>
                            </p:stCondLst>
                            <p:childTnLst>
                              <p:par>
                                <p:cTn id="72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77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2" dur="77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4" dur="77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6" dur="77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22500"/>
                            </p:stCondLst>
                            <p:childTnLst>
                              <p:par>
                                <p:cTn id="73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77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2" dur="77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4" dur="77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6" dur="77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24500"/>
                            </p:stCondLst>
                            <p:childTnLst>
                              <p:par>
                                <p:cTn id="7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26500"/>
                            </p:stCondLst>
                            <p:childTnLst>
                              <p:par>
                                <p:cTn id="7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28500"/>
                            </p:stCondLst>
                            <p:childTnLst>
                              <p:par>
                                <p:cTn id="7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30500"/>
                            </p:stCondLst>
                            <p:childTnLst>
                              <p:par>
                                <p:cTn id="77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77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3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5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7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32500"/>
                            </p:stCondLst>
                            <p:childTnLst>
                              <p:par>
                                <p:cTn id="78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77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3" dur="77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5" dur="77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7" dur="77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34500"/>
                            </p:stCondLst>
                            <p:childTnLst>
                              <p:par>
                                <p:cTn id="7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77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3" dur="77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5" dur="77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7" dur="77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95280" y="593640"/>
            <a:ext cx="889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Королевич </a:t>
            </a:r>
            <a:r>
              <a:rPr b="1" lang="en-US" sz="2400" spc="-1" strike="noStrike">
                <a:solidFill>
                  <a:srgbClr val="000000"/>
                </a:solidFill>
                <a:latin typeface="Neurochrome"/>
              </a:rPr>
              <a:t>AM </a:t>
            </a: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был хвастуном и любил себ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больше всех. Он дружил только с местоимением </a:t>
            </a:r>
            <a:r>
              <a:rPr b="0" lang="en-US" sz="2400" spc="-1" strike="noStrike">
                <a:solidFill>
                  <a:srgbClr val="000000"/>
                </a:solidFill>
                <a:latin typeface="Neurochrome"/>
              </a:rPr>
              <a:t>I-</a:t>
            </a: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Я</a:t>
            </a:r>
            <a:r>
              <a:rPr b="0" lang="en-US" sz="2400" spc="-1" strike="noStrike">
                <a:solidFill>
                  <a:srgbClr val="000000"/>
                </a:solidFill>
                <a:latin typeface="Neurochrom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572000" y="1916280"/>
            <a:ext cx="3960720" cy="2592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1479600"/>
            <a:ext cx="7372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Он очень любил рассказы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о себе всем Жителя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Королев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urochrome"/>
              </a:rPr>
              <a:t>I am n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urochrome"/>
              </a:rPr>
              <a:t>I am str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urochrome"/>
              </a:rPr>
              <a:t>I am a fri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4226040"/>
            <a:ext cx="4284720" cy="2631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768560" y="19368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plit dir="in" orient="vert"/>
  </p:transition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7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0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2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mph" presetID="19" repeatCount="indefinite">
                                  <p:stCondLst>
                                    <p:cond delay="3000"/>
                                  </p:stCondLst>
                                  <p:childTnLst>
                                    <p:animClr clrSpc="rgb">
                                      <p:cBhvr>
                                        <p:cTn id="81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1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1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mph" presetID="34" repeatCount="indefinite">
                                  <p:stCondLst>
                                    <p:cond delay="3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1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2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3" nodeType="withEffect" fill="hold" presetClass="emph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4" dur="indefinite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3950"/>
                            </p:stCondLst>
                            <p:childTnLst>
                              <p:par>
                                <p:cTn id="826" nodeType="afterEffect" fill="hold" presetClass="entr" presetID="40">
                                  <p:stCondLst>
                                    <p:cond delay="8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5250"/>
                            </p:stCondLst>
                            <p:childTnLst>
                              <p:par>
                                <p:cTn id="832" nodeType="afterEffect" fill="hold" presetClass="entr" presetID="45">
                                  <p:stCondLst>
                                    <p:cond delay="8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8">
                                  <p:stCondLst>
                                    <p:cond delay="8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9:23:40Z</dcterms:created>
  <dc:creator>111</dc:creator>
  <dc:description/>
  <dc:language>en-US</dc:language>
  <cp:lastModifiedBy>Учитель</cp:lastModifiedBy>
  <dcterms:modified xsi:type="dcterms:W3CDTF">2017-01-09T10:15:12Z</dcterms:modified>
  <cp:revision>51</cp:revision>
  <dc:subject/>
  <dc:title>Слайд 1</dc:title>
</cp:coreProperties>
</file>