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6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07B2-3136-4E10-80EB-3FA868037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634D-21F7-48A5-BD25-A0D8FA0CA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68E6-30AC-442E-9024-821EC77C9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1C20-A4C0-45BD-AC4C-9303A4569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5B07-CB71-40F9-9CB7-F395D8D16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B6FD-B7D3-4D17-A1D0-6A7499121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5550-C1F5-45EB-B772-7D6252F81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6C96-ED2E-4CA8-A7EB-0F1199219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7ADF-1EA6-4272-B950-6B66A3D68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A580-2674-4AB1-ACAD-D79F6C5ED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F507-786D-4FC0-92E8-C9A9135F2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7B7F-73FD-45E9-969D-5240D5F3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F34C1-10F6-4EB5-9CA6-1F6B3A104C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4.jpeg"/><Relationship Id="rId3" Type="http://schemas.openxmlformats.org/officeDocument/2006/relationships/image" Target="../media/image17.jpeg"/><Relationship Id="rId4" Type="http://schemas.openxmlformats.org/officeDocument/2006/relationships/image" Target="../media/image20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14.jpeg"/><Relationship Id="rId3" Type="http://schemas.openxmlformats.org/officeDocument/2006/relationships/image" Target="../media/image27.jpeg"/><Relationship Id="rId4" Type="http://schemas.openxmlformats.org/officeDocument/2006/relationships/image" Target="../media/image20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46000" y="2362320"/>
            <a:ext cx="68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187280" y="3141720"/>
            <a:ext cx="655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ПУТЕШЕСТВИЕ НА                   ПЛАНЕТУ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ГРАММАТИК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528560" y="496800"/>
            <a:ext cx="740304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торой королеви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л очень общительным, к нему в г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сто заходили друзья местоимен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,YOU,THE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чень много времени он проводил со своими друзьями в играх,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хоте, и когда рассказывал своему отцу королю-глаголу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 своих друзьях, он всегда говори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are frie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are n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y are beautifu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олевич очень гордился свои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узьями и дорожил дружбой с ни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6012000" y="2637000"/>
            <a:ext cx="2447640" cy="3273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0" y="4149720"/>
            <a:ext cx="4932360" cy="25383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426360" y="25844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split dir="in" orient="vert"/>
  </p:transition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0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afterEffect" fill="hold" presetClass="entr" presetID="56">
                                  <p:stCondLst>
                                    <p:cond delay="5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56">
                                  <p:stCondLst>
                                    <p:cond delay="5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10800"/>
                            </p:stCondLst>
                            <p:childTnLst>
                              <p:par>
                                <p:cTn id="863" nodeType="afterEffect" fill="hold" presetClass="entr" presetID="5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67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5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72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5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77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16800"/>
                            </p:stCondLst>
                            <p:childTnLst>
                              <p:par>
                                <p:cTn id="879" nodeType="afterEffect" fill="hold" presetClass="entr" presetID="23" presetSubtype="1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21300"/>
                            </p:stCondLst>
                            <p:childTnLst>
                              <p:par>
                                <p:cTn id="8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6" dur="8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7" dur="8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8" dur="8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21780"/>
                            </p:stCondLst>
                            <p:childTnLst>
                              <p:par>
                                <p:cTn id="89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22780"/>
                            </p:stCondLst>
                            <p:childTnLst>
                              <p:par>
                                <p:cTn id="901" nodeType="afterEffect" fill="hold" presetClass="entr" presetID="35">
                                  <p:stCondLst>
                                    <p:cond delay="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3" dur="2000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4" dur="20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20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20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35">
                                  <p:stCondLst>
                                    <p:cond delay="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9" dur="2000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0" dur="2000" fill="hold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2000" fill="hold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2000" fill="hold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29780"/>
                            </p:stCondLst>
                            <p:childTnLst>
                              <p:par>
                                <p:cTn id="914" nodeType="afterEffect" fill="hold" presetClass="emph" presetID="18">
                                  <p:stCondLst>
                                    <p:cond delay="50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15" dur="5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6" nodeType="withEffect" fill="hold" presetClass="emph" presetID="18">
                                  <p:stCondLst>
                                    <p:cond delay="50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17" dur="500" fill="hold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50920" y="260280"/>
            <a:ext cx="917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Neurochrome"/>
              </a:rPr>
              <a:t>Третий королевич </a:t>
            </a:r>
            <a:r>
              <a:rPr b="1" lang="en-US" sz="2400" spc="-1" strike="noStrike">
                <a:solidFill>
                  <a:srgbClr val="000000"/>
                </a:solidFill>
                <a:latin typeface="Neurochrome"/>
              </a:rPr>
              <a:t>IS </a:t>
            </a:r>
            <a:r>
              <a:rPr b="0" lang="ru-RU" sz="2400" spc="-1" strike="noStrike">
                <a:solidFill>
                  <a:srgbClr val="000000"/>
                </a:solidFill>
                <a:latin typeface="Neurochrome"/>
              </a:rPr>
              <a:t>был неуверенным</a:t>
            </a:r>
            <a:r>
              <a:rPr b="1" lang="ru-RU" sz="2400" spc="-1" strike="noStrike">
                <a:solidFill>
                  <a:srgbClr val="000000"/>
                </a:solidFill>
                <a:latin typeface="Neurochrom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Neurochrom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Neurochrome"/>
              </a:rPr>
              <a:t>и капризны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Neurochrome"/>
              </a:rPr>
              <a:t>мальчиком. Он был самым молодым из королевич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Neurochrome"/>
              </a:rPr>
              <a:t>Он не любил рассказывать о себе , но любил рассказывать</a:t>
            </a:r>
            <a:r>
              <a:rPr b="0" lang="en-US" sz="2400" spc="-1" strike="noStrike">
                <a:solidFill>
                  <a:srgbClr val="000000"/>
                </a:solidFill>
                <a:latin typeface="Neurochrom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Neurochrome"/>
              </a:rPr>
              <a:t>о своих друзьях – местоимениях </a:t>
            </a:r>
            <a:r>
              <a:rPr b="1" lang="en-US" sz="2400" spc="-1" strike="noStrike">
                <a:solidFill>
                  <a:srgbClr val="000000"/>
                </a:solidFill>
                <a:latin typeface="Neurochrome"/>
              </a:rPr>
              <a:t>HE,SHE,I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651640" y="2997360"/>
            <a:ext cx="3097080" cy="30956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0" y="2276640"/>
            <a:ext cx="2987640" cy="25923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441240" y="2376360"/>
            <a:ext cx="1832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HE IS CLE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HE IS A PUPIL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IT IS A DO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05640" y="323208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split dir="in" orient="vert"/>
  </p:transition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0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3" dur="2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2000"/>
                            </p:stCondLst>
                            <p:childTnLst>
                              <p:par>
                                <p:cTn id="925" nodeType="afterEffect" fill="hold" presetClass="emph" presetID="28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6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27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28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29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3550"/>
                            </p:stCondLst>
                            <p:childTnLst>
                              <p:par>
                                <p:cTn id="9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6" dur="2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5550"/>
                            </p:stCondLst>
                            <p:childTnLst>
                              <p:par>
                                <p:cTn id="938" nodeType="afterEffect" fill="hold" presetClass="entr" presetID="2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0" dur="2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095480" y="0"/>
            <a:ext cx="756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Neurochrome"/>
              </a:rPr>
              <a:t>Король</a:t>
            </a:r>
            <a:r>
              <a:rPr b="0" lang="en-US" sz="2400" spc="-1" strike="noStrike">
                <a:solidFill>
                  <a:srgbClr val="000000"/>
                </a:solidFill>
                <a:latin typeface="Neurochrome"/>
              </a:rPr>
              <a:t> TO BE </a:t>
            </a:r>
            <a:r>
              <a:rPr b="0" lang="ru-RU" sz="2400" spc="-1" strike="noStrike">
                <a:solidFill>
                  <a:srgbClr val="000000"/>
                </a:solidFill>
                <a:latin typeface="Neurochrome"/>
              </a:rPr>
              <a:t>очень любил своих детей и гордился</a:t>
            </a:r>
            <a:r>
              <a:rPr b="0" lang="en-US" sz="2400" spc="-1" strike="noStrike">
                <a:solidFill>
                  <a:srgbClr val="000000"/>
                </a:solidFill>
                <a:latin typeface="Neurochrom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Neurochrome"/>
              </a:rPr>
              <a:t>ими, так как</a:t>
            </a:r>
            <a:r>
              <a:rPr b="0" lang="en-US" sz="2400" spc="-1" strike="noStrike">
                <a:solidFill>
                  <a:srgbClr val="000000"/>
                </a:solidFill>
                <a:latin typeface="Neurochrom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Neurochrome"/>
              </a:rPr>
              <a:t>это была его сегодняшняя 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Neurochrome"/>
              </a:rPr>
              <a:t>настоящая жизнь (</a:t>
            </a:r>
            <a:r>
              <a:rPr b="0" lang="en-US" sz="2400" spc="-1" strike="noStrike">
                <a:solidFill>
                  <a:srgbClr val="000000"/>
                </a:solidFill>
                <a:latin typeface="Neurochrome"/>
              </a:rPr>
              <a:t>PRESENT SIMP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eurochrome"/>
              </a:rPr>
              <a:t>TENS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338040" y="4076640"/>
            <a:ext cx="2938680" cy="25923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3780000" y="4076640"/>
            <a:ext cx="2447640" cy="25210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6588000" y="3933720"/>
            <a:ext cx="2448000" cy="2664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3132000" y="1268280"/>
            <a:ext cx="3816360" cy="27370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272920" y="114444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0560" y="409716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94360" y="40971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081640" y="402444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split dir="in" orient="vert"/>
  </p:transition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0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7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0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3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5" nodeType="afterEffect" fill="hold" presetClass="entr" presetID="51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7" dur="77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8" dur="770" fill="hold"/>
                                        <p:tgtEl>
                                          <p:spTgt spid="1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60" dur="77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62" dur="77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9500"/>
                            </p:stCondLst>
                            <p:childTnLst>
                              <p:par>
                                <p:cTn id="9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10000"/>
                            </p:stCondLst>
                            <p:childTnLst>
                              <p:par>
                                <p:cTn id="9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10500"/>
                            </p:stCondLst>
                            <p:childTnLst>
                              <p:par>
                                <p:cTn id="9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403800" y="208080"/>
            <a:ext cx="193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703840" y="1000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55640" y="765000"/>
            <a:ext cx="1008000" cy="935280"/>
          </a:xfrm>
          <a:prstGeom prst="ellipse">
            <a:avLst/>
          </a:prstGeom>
          <a:solidFill>
            <a:srgbClr val="e4df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55640" y="1844640"/>
            <a:ext cx="1008000" cy="863640"/>
          </a:xfrm>
          <a:prstGeom prst="ellipse">
            <a:avLst/>
          </a:prstGeom>
          <a:solidFill>
            <a:srgbClr val="e4df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55640" y="2852640"/>
            <a:ext cx="1008000" cy="863640"/>
          </a:xfrm>
          <a:prstGeom prst="ellipse">
            <a:avLst/>
          </a:prstGeom>
          <a:solidFill>
            <a:srgbClr val="e4df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5640" y="3860640"/>
            <a:ext cx="1008000" cy="936720"/>
          </a:xfrm>
          <a:prstGeom prst="ellipse">
            <a:avLst/>
          </a:prstGeom>
          <a:solidFill>
            <a:srgbClr val="e4df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55640" y="5013360"/>
            <a:ext cx="1008000" cy="936720"/>
          </a:xfrm>
          <a:prstGeom prst="ellipse">
            <a:avLst/>
          </a:prstGeom>
          <a:solidFill>
            <a:srgbClr val="e4df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411280" y="836640"/>
            <a:ext cx="936720" cy="863640"/>
          </a:xfrm>
          <a:prstGeom prst="ellipse">
            <a:avLst/>
          </a:prstGeom>
          <a:solidFill>
            <a:srgbClr val="1aa9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411280" y="1844640"/>
            <a:ext cx="936720" cy="863640"/>
          </a:xfrm>
          <a:prstGeom prst="ellipse">
            <a:avLst/>
          </a:prstGeom>
          <a:solidFill>
            <a:srgbClr val="1aa9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11280" y="2852640"/>
            <a:ext cx="936720" cy="863640"/>
          </a:xfrm>
          <a:prstGeom prst="ellipse">
            <a:avLst/>
          </a:prstGeom>
          <a:solidFill>
            <a:srgbClr val="1aa9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411280" y="3933720"/>
            <a:ext cx="936720" cy="863640"/>
          </a:xfrm>
          <a:prstGeom prst="ellipse">
            <a:avLst/>
          </a:prstGeom>
          <a:solidFill>
            <a:srgbClr val="1aa9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340000" y="5084640"/>
            <a:ext cx="1008000" cy="865440"/>
          </a:xfrm>
          <a:prstGeom prst="ellipse">
            <a:avLst/>
          </a:prstGeom>
          <a:solidFill>
            <a:srgbClr val="1aa9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796000" y="836640"/>
            <a:ext cx="936720" cy="792000"/>
          </a:xfrm>
          <a:prstGeom prst="ellipse">
            <a:avLst/>
          </a:prstGeom>
          <a:solidFill>
            <a:srgbClr val="e4df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451640" y="836640"/>
            <a:ext cx="936720" cy="792000"/>
          </a:xfrm>
          <a:prstGeom prst="ellipse">
            <a:avLst/>
          </a:prstGeom>
          <a:solidFill>
            <a:srgbClr val="1aa9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796000" y="1773360"/>
            <a:ext cx="936720" cy="792000"/>
          </a:xfrm>
          <a:prstGeom prst="ellipse">
            <a:avLst/>
          </a:prstGeom>
          <a:solidFill>
            <a:srgbClr val="e4df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524720" y="1773360"/>
            <a:ext cx="863640" cy="792000"/>
          </a:xfrm>
          <a:prstGeom prst="ellipse">
            <a:avLst/>
          </a:prstGeom>
          <a:solidFill>
            <a:srgbClr val="1aa9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867280" y="2781360"/>
            <a:ext cx="936720" cy="863640"/>
          </a:xfrm>
          <a:prstGeom prst="ellipse">
            <a:avLst/>
          </a:prstGeom>
          <a:solidFill>
            <a:srgbClr val="e4df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524720" y="2781360"/>
            <a:ext cx="934920" cy="792000"/>
          </a:xfrm>
          <a:prstGeom prst="ellipse">
            <a:avLst/>
          </a:prstGeom>
          <a:solidFill>
            <a:srgbClr val="1aa9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split dir="in" orient="vert"/>
  </p:transition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fill="hold">
                      <p:stCondLst>
                        <p:cond delay="0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84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98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8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8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850"/>
                            </p:stCondLst>
                            <p:childTnLst>
                              <p:par>
                                <p:cTn id="989" nodeType="afterEffect" fill="hold" presetClass="entr" presetID="2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5350"/>
                            </p:stCondLst>
                            <p:childTnLst>
                              <p:par>
                                <p:cTn id="1006" nodeType="afterEffect" fill="hold" presetClass="entr" presetID="35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9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9850"/>
                            </p:stCondLst>
                            <p:childTnLst>
                              <p:par>
                                <p:cTn id="1013" nodeType="after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1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6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1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12850"/>
                            </p:stCondLst>
                            <p:childTnLst>
                              <p:par>
                                <p:cTn id="102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17850"/>
                            </p:stCondLst>
                            <p:childTnLst>
                              <p:par>
                                <p:cTn id="102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fill="hold">
                            <p:stCondLst>
                              <p:cond delay="18950"/>
                            </p:stCondLst>
                            <p:childTnLst>
                              <p:par>
                                <p:cTn id="1032" nodeType="afterEffect" fill="hold" presetClass="exit" presetID="13" presetSubtype="16">
                                  <p:stCondLst>
                                    <p:cond delay="150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033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5" nodeType="withEffect" fill="hold" presetClass="exit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plus(in)" transition="out">
                                      <p:cBhvr additive="repl">
                                        <p:cTn id="1036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22450"/>
                            </p:stCondLst>
                            <p:childTnLst>
                              <p:par>
                                <p:cTn id="103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fill="hold">
                            <p:stCondLst>
                              <p:cond delay="23450"/>
                            </p:stCondLst>
                            <p:childTnLst>
                              <p:par>
                                <p:cTn id="104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23950"/>
                            </p:stCondLst>
                            <p:childTnLst>
                              <p:par>
                                <p:cTn id="1049" nodeType="afterEffect" fill="hold" presetClass="exit" presetID="52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10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0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052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4" nodeType="withEffect" fill="hold" presetClass="exit" presetID="52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10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0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05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fill="hold">
                            <p:stCondLst>
                              <p:cond delay="26450"/>
                            </p:stCondLst>
                            <p:childTnLst>
                              <p:par>
                                <p:cTn id="106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6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28450"/>
                            </p:stCondLst>
                            <p:childTnLst>
                              <p:par>
                                <p:cTn id="106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77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1" dur="770" fill="hold"/>
                                        <p:tgtEl>
                                          <p:spTgt spid="1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3" dur="77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75" dur="77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fill="hold">
                            <p:stCondLst>
                              <p:cond delay="30450"/>
                            </p:stCondLst>
                            <p:childTnLst>
                              <p:par>
                                <p:cTn id="1078" nodeType="afterEffect" fill="hold" presetClass="exit" presetID="39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79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4" nodeType="withEffect" fill="hold" presetClass="exit" presetID="39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5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32450"/>
                            </p:stCondLst>
                            <p:childTnLst>
                              <p:par>
                                <p:cTn id="109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33550"/>
                            </p:stCondLst>
                            <p:childTnLst>
                              <p:par>
                                <p:cTn id="109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fill="hold">
                            <p:stCondLst>
                              <p:cond delay="38550"/>
                            </p:stCondLst>
                            <p:childTnLst>
                              <p:par>
                                <p:cTn id="1102" nodeType="afterEffect" fill="hold" presetClass="exit" presetID="50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03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0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7" nodeType="withEffect" fill="hold" presetClass="exit" presetID="50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8" dur="1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1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1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fill="hold">
                            <p:stCondLst>
                              <p:cond delay="41050"/>
                            </p:stCondLst>
                            <p:childTnLst>
                              <p:par>
                                <p:cTn id="11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fill="hold">
                            <p:stCondLst>
                              <p:cond delay="41550"/>
                            </p:stCondLst>
                            <p:childTnLst>
                              <p:par>
                                <p:cTn id="111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2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2" fill="hold">
                            <p:stCondLst>
                              <p:cond delay="42550"/>
                            </p:stCondLst>
                            <p:childTnLst>
                              <p:par>
                                <p:cTn id="1123" nodeType="afterEffect" fill="hold" presetClass="exit" presetID="10">
                                  <p:stCondLst>
                                    <p:cond delay="15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124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6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7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9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fill="hold">
                            <p:stCondLst>
                              <p:cond delay="46050"/>
                            </p:stCondLst>
                            <p:childTnLst>
                              <p:par>
                                <p:cTn id="11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5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6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7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46210"/>
                            </p:stCondLst>
                            <p:childTnLst>
                              <p:par>
                                <p:cTn id="11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fill="hold">
                            <p:stCondLst>
                              <p:cond delay="46710"/>
                            </p:stCondLst>
                            <p:childTnLst>
                              <p:par>
                                <p:cTn id="1144" nodeType="afterEffect" fill="hold" presetClass="exit" presetID="12" presetSubtype="4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slide(fromBottom)" transition="out">
                                      <p:cBhvr additive="repl">
                                        <p:cTn id="114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7" nodeType="withEffect" fill="hold" presetClass="exit" presetID="12" presetSubtype="4">
                                  <p:stCondLst>
                                    <p:cond delay="15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4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48710"/>
                            </p:stCondLst>
                            <p:childTnLst>
                              <p:par>
                                <p:cTn id="115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fill="hold">
                            <p:stCondLst>
                              <p:cond delay="49210"/>
                            </p:stCondLst>
                            <p:childTnLst>
                              <p:par>
                                <p:cTn id="115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49710"/>
                            </p:stCondLst>
                            <p:childTnLst>
                              <p:par>
                                <p:cTn id="1159" nodeType="afterEffect" fill="hold" presetClass="exit" presetID="45">
                                  <p:stCondLst>
                                    <p:cond delay="1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160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1" dur="20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20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4" nodeType="withEffect" fill="hold" presetClass="exit" presetID="45">
                                  <p:stCondLst>
                                    <p:cond delay="1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165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6" dur="2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679840" y="423720"/>
            <a:ext cx="326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ВЕРЬ СЕБ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50760" y="1071720"/>
            <a:ext cx="3558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 name …   Ni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 dog …    gre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…  broth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…  a pup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 bears …  bro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lly and I …   sis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 …   a do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…   a pil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89080" y="479736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79480" y="4797360"/>
            <a:ext cx="4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411280" y="4797360"/>
            <a:ext cx="5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543480" y="4797360"/>
            <a:ext cx="6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00720" y="4797360"/>
            <a:ext cx="84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64000" y="4797360"/>
            <a:ext cx="120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08560" y="4797360"/>
            <a:ext cx="4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927840" y="4797360"/>
            <a:ext cx="39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844720" y="479736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split dir="in" orient="vert"/>
  </p:transition>
  <p:timing>
    <p:tnLst>
      <p:par>
        <p:cTn id="1169" dur="indefinite" restart="never" nodeType="tmRoot">
          <p:childTnLst>
            <p:seq>
              <p:cTn id="1170" dur="indefinite" nodeType="mainSeq">
                <p:childTnLst>
                  <p:par>
                    <p:cTn id="1171" fill="hold">
                      <p:stCondLst>
                        <p:cond delay="0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afterEffect" fill="hold" presetClass="path" presetID="0">
                                  <p:stCondLst>
                                    <p:cond delay="10000"/>
                                  </p:stCondLst>
                                  <p:childTnLst>
                                    <p:animMotion origin="layout" path="M 0.0158 -0.0373 L 0.10243 -0.55213 E">
                                      <p:cBhvr>
                                        <p:cTn id="1174" dur="2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76" nodeType="afterEffect" fill="hold" presetClass="path" presetID="0">
                                  <p:stCondLst>
                                    <p:cond delay="10000"/>
                                  </p:stCondLst>
                                  <p:childTnLst>
                                    <p:animMotion origin="layout" path="M 0.00973 -0.06858 L 0.00973 -0.48911 E">
                                      <p:cBhvr>
                                        <p:cTn id="1177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8" fill="hold">
                            <p:stCondLst>
                              <p:cond delay="24000"/>
                            </p:stCondLst>
                            <p:childTnLst>
                              <p:par>
                                <p:cTn id="1179" nodeType="afterEffect" fill="hold" presetClass="path" presetID="0">
                                  <p:stCondLst>
                                    <p:cond delay="10000"/>
                                  </p:stCondLst>
                                  <p:childTnLst>
                                    <p:animMotion origin="layout" path="M 0.00573 -0.03707 L -0.16736 -0.43651 E">
                                      <p:cBhvr>
                                        <p:cTn id="1180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36000"/>
                            </p:stCondLst>
                            <p:childTnLst>
                              <p:par>
                                <p:cTn id="1182" nodeType="afterEffect" fill="hold" presetClass="path" presetID="0">
                                  <p:stCondLst>
                                    <p:cond delay="10000"/>
                                  </p:stCondLst>
                                  <p:childTnLst>
                                    <p:animMotion origin="layout" path="M -0.00521 -0.01622 L 0.02622 -0.37349 E">
                                      <p:cBhvr>
                                        <p:cTn id="1183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48000"/>
                            </p:stCondLst>
                            <p:childTnLst>
                              <p:par>
                                <p:cTn id="1185" nodeType="afterEffect" fill="hold" presetClass="path" presetID="0">
                                  <p:stCondLst>
                                    <p:cond delay="10000"/>
                                  </p:stCondLst>
                                  <p:childTnLst>
                                    <p:animMotion origin="layout" path="M -1.66667E-006 -3.98517E-007 L -0.19601 -0.33156 E">
                                      <p:cBhvr>
                                        <p:cTn id="1186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fill="hold">
                            <p:stCondLst>
                              <p:cond delay="60000"/>
                            </p:stCondLst>
                            <p:childTnLst>
                              <p:par>
                                <p:cTn id="1188" nodeType="afterEffect" fill="hold" presetClass="path" presetID="0">
                                  <p:stCondLst>
                                    <p:cond delay="10000"/>
                                  </p:stCondLst>
                                  <p:childTnLst>
                                    <p:animMotion origin="layout" path="M 0.0283 -0.00556 L -0.28663 -0.2683 E">
                                      <p:cBhvr>
                                        <p:cTn id="1189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fill="hold">
                            <p:stCondLst>
                              <p:cond delay="72000"/>
                            </p:stCondLst>
                            <p:childTnLst>
                              <p:par>
                                <p:cTn id="1191" nodeType="afterEffect" fill="hold" presetClass="path" presetID="0">
                                  <p:stCondLst>
                                    <p:cond delay="10000"/>
                                  </p:stCondLst>
                                  <p:childTnLst>
                                    <p:animMotion origin="layout" path="M 0.00399 -0.01622 L -0.45278 -0.21594 E">
                                      <p:cBhvr>
                                        <p:cTn id="1192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fill="hold">
                            <p:stCondLst>
                              <p:cond delay="84000"/>
                            </p:stCondLst>
                            <p:childTnLst>
                              <p:par>
                                <p:cTn id="1194" nodeType="afterEffect" fill="hold" presetClass="path" presetID="0">
                                  <p:stCondLst>
                                    <p:cond delay="10000"/>
                                  </p:stCondLst>
                                  <p:childTnLst>
                                    <p:animMotion origin="layout" path="M -0.01961 -0.00556 L -0.56302 -0.16335 E">
                                      <p:cBhvr>
                                        <p:cTn id="1195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950760" y="1989000"/>
            <a:ext cx="5994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Планет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мматика жила была частичк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а всегда со всеми не соглашалась и всегда была недовольна, поэтому жители планеты не хотели с ней друж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й очень хотелось дружить с королевичам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, IS, ARE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ког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ё приглашали в гости, она спорила с ними и не соглашалась ни с чем, чтоб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и не сказа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7147080" y="692280"/>
            <a:ext cx="1996920" cy="28810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8459640" y="3213000"/>
            <a:ext cx="684360" cy="368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split dir="in" orient="vert"/>
  </p:transition>
  <p:timing>
    <p:tnLst>
      <p:par>
        <p:cTn id="1196" dur="indefinite" restart="never" nodeType="tmRoot">
          <p:childTnLst>
            <p:seq>
              <p:cTn id="1197" dur="indefinite" nodeType="mainSeq">
                <p:childTnLst>
                  <p:par>
                    <p:cTn id="1198" fill="hold">
                      <p:stCondLst>
                        <p:cond delay="0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2" dur="8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3" dur="8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8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8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9" nodeType="after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4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6" nodeType="afterEffect" fill="hold" presetClass="entr" presetID="5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8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0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fill="hold">
                            <p:stCondLst>
                              <p:cond delay="8000"/>
                            </p:stCondLst>
                            <p:childTnLst>
                              <p:par>
                                <p:cTn id="1222" nodeType="afterEffect" fill="hold" presetClass="entr" presetID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39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1" dur="8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2" dur="8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3" dur="8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167840" y="639720"/>
            <a:ext cx="4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5640" cy="17733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0" y="1844640"/>
            <a:ext cx="2195640" cy="23036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0" y="4076640"/>
            <a:ext cx="2195640" cy="27813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7693200" y="1844640"/>
            <a:ext cx="1450800" cy="21607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059280" y="0"/>
            <a:ext cx="5898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ролевичи пытались с ней поговори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всегда получалос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am not n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are not a pup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is not bra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 is not a pup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not n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913280" y="3448080"/>
            <a:ext cx="262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re not n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are not n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re not n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8920" y="-792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9280" y="18651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274760" y="4425840"/>
            <a:ext cx="4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317080" y="3716280"/>
            <a:ext cx="647640" cy="3070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N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317080" y="6453360"/>
            <a:ext cx="826920" cy="366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split dir="in" orient="vert"/>
  </p:transition>
  <p:timing>
    <p:tnLst>
      <p:par>
        <p:cTn id="1244" dur="indefinite" restart="never" nodeType="tmRoot">
          <p:childTnLst>
            <p:seq>
              <p:cTn id="1245" dur="indefinite" nodeType="mainSeq">
                <p:childTnLst>
                  <p:par>
                    <p:cTn id="1246" fill="hold">
                      <p:stCondLst>
                        <p:cond delay="0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afterEffect" fill="hold" presetClass="entr" presetID="35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0" dur="2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1" dur="2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2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2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4" fill="hold">
                            <p:stCondLst>
                              <p:cond delay="7000"/>
                            </p:stCondLst>
                            <p:childTnLst>
                              <p:par>
                                <p:cTn id="1255" nodeType="afterEffect" fill="hold" presetClass="entr" presetID="31">
                                  <p:stCondLst>
                                    <p:cond delay="5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7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0" dur="1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fill="hold">
                            <p:stCondLst>
                              <p:cond delay="13900"/>
                            </p:stCondLst>
                            <p:childTnLst>
                              <p:par>
                                <p:cTn id="1262" nodeType="afterEffect" fill="hold" presetClass="entr" presetID="35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4" dur="2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5" dur="2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2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2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fill="hold">
                            <p:stCondLst>
                              <p:cond delay="20900"/>
                            </p:stCondLst>
                            <p:childTnLst>
                              <p:par>
                                <p:cTn id="1269" nodeType="afterEffect" fill="hold" presetClass="emph" presetID="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70" dur="indefinite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fill="hold">
                            <p:stCondLst>
                              <p:cond delay="25900"/>
                            </p:stCondLst>
                            <p:childTnLst>
                              <p:par>
                                <p:cTn id="1272" nodeType="afterEffect" fill="hold" presetClass="entr" presetID="52">
                                  <p:stCondLst>
                                    <p:cond delay="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76" dur="1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7" fill="hold">
                            <p:stCondLst>
                              <p:cond delay="31900"/>
                            </p:stCondLst>
                            <p:childTnLst>
                              <p:par>
                                <p:cTn id="1278" nodeType="afterEffect" fill="hold" presetClass="emph" presetID="18">
                                  <p:stCondLst>
                                    <p:cond delay="50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79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0" fill="hold">
                            <p:stCondLst>
                              <p:cond delay="37700"/>
                            </p:stCondLst>
                            <p:childTnLst>
                              <p:par>
                                <p:cTn id="1281" nodeType="afterEffect" fill="hold" presetClass="entr" presetID="5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3" dur="77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84" dur="77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86" dur="77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88" dur="77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0" fill="hold">
                            <p:stCondLst>
                              <p:cond delay="44700"/>
                            </p:stCondLst>
                            <p:childTnLst>
                              <p:par>
                                <p:cTn id="1291" nodeType="afterEffect" fill="remove" presetClass="emph" presetID="33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29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9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94" dur="30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29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fill="hold">
                            <p:stCondLst>
                              <p:cond delay="52700"/>
                            </p:stCondLst>
                            <p:childTnLst>
                              <p:par>
                                <p:cTn id="1297" nodeType="afterEffect" fill="hold" presetClass="entr" presetID="3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3" fill="hold">
                            <p:stCondLst>
                              <p:cond delay="58700"/>
                            </p:stCondLst>
                            <p:childTnLst>
                              <p:par>
                                <p:cTn id="1304" nodeType="afterEffect" fill="hold" presetClass="emph" presetID="14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30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30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0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30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30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310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fill="hold">
                            <p:stCondLst>
                              <p:cond delay="65700"/>
                            </p:stCondLst>
                            <p:childTnLst>
                              <p:par>
                                <p:cTn id="1312" nodeType="afterEffect" fill="hold" presetClass="entr" presetID="8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4" dur="2000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fill="hold">
                            <p:stCondLst>
                              <p:cond delay="72700"/>
                            </p:stCondLst>
                            <p:childTnLst>
                              <p:par>
                                <p:cTn id="1316" nodeType="afterEffect" fill="hold" presetClass="emph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17" dur="indefinite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8" fill="hold">
                            <p:stCondLst>
                              <p:cond delay="77700"/>
                            </p:stCondLst>
                            <p:childTnLst>
                              <p:par>
                                <p:cTn id="1319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1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2" fill="hold">
                            <p:stCondLst>
                              <p:cond delay="84700"/>
                            </p:stCondLst>
                            <p:childTnLst>
                              <p:par>
                                <p:cTn id="1323" nodeType="afterEffect" fill="hold" presetClass="emph" presetID="35">
                                  <p:stCondLst>
                                    <p:cond delay="5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24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5" fill="hold">
                            <p:stCondLst>
                              <p:cond delay="90700"/>
                            </p:stCondLst>
                            <p:childTnLst>
                              <p:par>
                                <p:cTn id="1326" nodeType="afterEffect" fill="hold" presetClass="entr" presetID="2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8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0" dur="1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1" fill="hold">
                            <p:stCondLst>
                              <p:cond delay="96700"/>
                            </p:stCondLst>
                            <p:childTnLst>
                              <p:par>
                                <p:cTn id="1332" nodeType="afterEffect" fill="hold" presetClass="emph" presetID="26">
                                  <p:stCondLst>
                                    <p:cond delay="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3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34" dur="250" autoRev="1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fill="hold">
                            <p:stCondLst>
                              <p:cond delay="102200"/>
                            </p:stCondLst>
                            <p:childTnLst>
                              <p:par>
                                <p:cTn id="1336" nodeType="after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8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916360" y="115920"/>
            <a:ext cx="29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43120" y="692280"/>
            <a:ext cx="6600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ичк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OT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ет отрицатель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чение и переводится на русский язык ка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НЕ». Она присоединяется к глагола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IS, ARE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получае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023840" y="2349360"/>
            <a:ext cx="343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am not (I’m no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are not (You aren’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is not (He isn’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 is not (She isn’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not (It isn’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343480" y="2421000"/>
            <a:ext cx="37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re not( We aren’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are not (You aren’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re not (They aren’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887480" y="4292640"/>
            <a:ext cx="89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д.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64200" y="422100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н.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042920" y="422100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435640" y="4149720"/>
            <a:ext cx="30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00000" y="6093000"/>
            <a:ext cx="215928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924360" y="6093000"/>
            <a:ext cx="216036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04000" y="6093000"/>
            <a:ext cx="216072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71640" y="4941720"/>
            <a:ext cx="1944720" cy="1151280"/>
          </a:xfrm>
          <a:prstGeom prst="roundRect">
            <a:avLst>
              <a:gd name="adj" fmla="val 16667"/>
            </a:avLst>
          </a:prstGeom>
          <a:solidFill>
            <a:srgbClr val="f1ee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995640" y="4941720"/>
            <a:ext cx="1944720" cy="1151280"/>
          </a:xfrm>
          <a:prstGeom prst="roundRect">
            <a:avLst>
              <a:gd name="adj" fmla="val 16667"/>
            </a:avLst>
          </a:prstGeom>
          <a:solidFill>
            <a:srgbClr val="1aa9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877080" y="4941720"/>
            <a:ext cx="1942920" cy="1151280"/>
          </a:xfrm>
          <a:prstGeom prst="roundRect">
            <a:avLst>
              <a:gd name="adj" fmla="val 16667"/>
            </a:avLst>
          </a:prstGeom>
          <a:solidFill>
            <a:srgbClr val="59b2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258920" y="5157720"/>
            <a:ext cx="21744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340000" y="5373720"/>
            <a:ext cx="28728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11640" y="5157720"/>
            <a:ext cx="289080" cy="503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292720" y="5445000"/>
            <a:ext cx="35892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093080" y="5157720"/>
            <a:ext cx="2156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17080" y="5373720"/>
            <a:ext cx="28728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724360" y="4653000"/>
            <a:ext cx="287640" cy="288720"/>
          </a:xfrm>
          <a:prstGeom prst="upArrow">
            <a:avLst>
              <a:gd name="adj1" fmla="val 50000"/>
              <a:gd name="adj2" fmla="val 2509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75840" y="6473880"/>
            <a:ext cx="30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,YOU,HE,SHE,IT,WE,TH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048560" y="6400800"/>
            <a:ext cx="146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, IS,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714000" y="6329520"/>
            <a:ext cx="206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тальные с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994360" y="4745160"/>
            <a:ext cx="663840" cy="368280"/>
          </a:xfrm>
          <a:prstGeom prst="rect">
            <a:avLst/>
          </a:prstGeom>
          <a:solidFill>
            <a:srgbClr val="2bd6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916360" y="5445000"/>
            <a:ext cx="1079280" cy="71640"/>
          </a:xfrm>
          <a:prstGeom prst="leftRightArrow">
            <a:avLst>
              <a:gd name="adj1" fmla="val 50000"/>
              <a:gd name="adj2" fmla="val 2999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940360" y="5516640"/>
            <a:ext cx="1008000" cy="73080"/>
          </a:xfrm>
          <a:prstGeom prst="leftRightArrow">
            <a:avLst>
              <a:gd name="adj1" fmla="val 50000"/>
              <a:gd name="adj2" fmla="val 2745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split dir="in" orient="vert"/>
  </p:transition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0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5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6" dur="2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2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2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0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1" dur="500" autoRev="1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352" dur="500" autoRev="1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353" dur="500" autoRev="1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fill="hold">
                            <p:stCondLst>
                              <p:cond delay="3700"/>
                            </p:stCondLst>
                            <p:childTnLst>
                              <p:par>
                                <p:cTn id="1355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356" dur="2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fill="hold">
                            <p:stCondLst>
                              <p:cond delay="5700"/>
                            </p:stCondLst>
                            <p:childTnLst>
                              <p:par>
                                <p:cTn id="1358" nodeType="afterEffect" fill="hold" presetClass="entr" presetID="40">
                                  <p:stCondLst>
                                    <p:cond delay="6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0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1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3" nodeType="withEffect" fill="hold" presetClass="entr" presetID="40">
                                  <p:stCondLst>
                                    <p:cond delay="6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5" dur="1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6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8" nodeType="withEffect" fill="hold" presetClass="entr" presetID="40">
                                  <p:stCondLst>
                                    <p:cond delay="6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0" dur="1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1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3" nodeType="withEffect" fill="hold" presetClass="entr" presetID="40">
                                  <p:stCondLst>
                                    <p:cond delay="6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5" dur="10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6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8" fill="hold">
                            <p:stCondLst>
                              <p:cond delay="16200"/>
                            </p:stCondLst>
                            <p:childTnLst>
                              <p:par>
                                <p:cTn id="1379" nodeType="afterEffect" fill="hold" presetClass="exit" presetID="51">
                                  <p:stCondLst>
                                    <p:cond delay="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380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81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1382" dur="123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1383" dur="123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1384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1385" dur="123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1386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8" nodeType="withEffect" fill="hold" presetClass="exit" presetID="51">
                                  <p:stCondLst>
                                    <p:cond delay="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389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90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1391" dur="123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1392" dur="123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1393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1394" dur="123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1395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7" nodeType="withEffect" fill="hold" presetClass="exit" presetID="51">
                                  <p:stCondLst>
                                    <p:cond delay="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398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99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1400" dur="123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1401" dur="123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1402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1403" dur="123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1404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6" nodeType="withEffect" fill="hold" presetClass="exit" presetID="51">
                                  <p:stCondLst>
                                    <p:cond delay="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407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8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1409" dur="123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1410" dur="123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1411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1412" dur="123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1413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fill="hold">
                            <p:stCondLst>
                              <p:cond delay="23200"/>
                            </p:stCondLst>
                            <p:childTnLst>
                              <p:par>
                                <p:cTn id="1416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8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9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9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fill="hold">
                            <p:stCondLst>
                              <p:cond delay="24200"/>
                            </p:stCondLst>
                            <p:childTnLst>
                              <p:par>
                                <p:cTn id="1423" nodeType="afterEffect" fill="hold" presetClass="exit" presetID="41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424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28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26850"/>
                            </p:stCondLst>
                            <p:childTnLst>
                              <p:par>
                                <p:cTn id="143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3" dur="1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4" dur="4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4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8" fill="hold">
                            <p:stCondLst>
                              <p:cond delay="27850"/>
                            </p:stCondLst>
                            <p:childTnLst>
                              <p:par>
                                <p:cTn id="1439" nodeType="afterEffect" fill="hold" presetClass="exit" presetID="13" presetSubtype="16">
                                  <p:stCondLst>
                                    <p:cond delay="150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440" dur="2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2" fill="hold">
                            <p:stCondLst>
                              <p:cond delay="31350"/>
                            </p:stCondLst>
                            <p:childTnLst>
                              <p:par>
                                <p:cTn id="144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9" fill="hold">
                            <p:stCondLst>
                              <p:cond delay="33850"/>
                            </p:stCondLst>
                            <p:childTnLst>
                              <p:par>
                                <p:cTn id="1450" nodeType="afterEffect" fill="hold" presetClass="exit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451" dur="8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2" dur="8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3" dur="8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5" fill="hold">
                            <p:stCondLst>
                              <p:cond delay="36030"/>
                            </p:stCondLst>
                            <p:childTnLst>
                              <p:par>
                                <p:cTn id="145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8" dur="1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1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0" dur="10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1" fill="hold">
                            <p:stCondLst>
                              <p:cond delay="37030"/>
                            </p:stCondLst>
                            <p:childTnLst>
                              <p:par>
                                <p:cTn id="1462" nodeType="afterEffect" fill="hold" presetClass="exit" presetID="50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3" dur="10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10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65" dur="10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7" fill="hold">
                            <p:stCondLst>
                              <p:cond delay="39530"/>
                            </p:stCondLst>
                            <p:childTnLst>
                              <p:par>
                                <p:cTn id="146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0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4" fill="hold">
                            <p:stCondLst>
                              <p:cond delay="40030"/>
                            </p:stCondLst>
                            <p:childTnLst>
                              <p:par>
                                <p:cTn id="1475" nodeType="afterEffect" fill="hold" presetClass="exit" presetID="49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6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79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1" fill="hold">
                            <p:stCondLst>
                              <p:cond delay="42030"/>
                            </p:stCondLst>
                            <p:childTnLst>
                              <p:par>
                                <p:cTn id="148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9" fill="hold">
                            <p:stCondLst>
                              <p:cond delay="42530"/>
                            </p:stCondLst>
                            <p:childTnLst>
                              <p:par>
                                <p:cTn id="1490" nodeType="afterEffect" fill="hold" presetClass="exit" presetID="48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1" dur="10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10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10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94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6" fill="hold">
                            <p:stCondLst>
                              <p:cond delay="44030"/>
                            </p:stCondLst>
                            <p:childTnLst>
                              <p:par>
                                <p:cTn id="14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9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1" fill="hold">
                            <p:stCondLst>
                              <p:cond delay="44530"/>
                            </p:stCondLst>
                            <p:childTnLst>
                              <p:par>
                                <p:cTn id="1502" nodeType="afterEffect" fill="hold" presetClass="exit" presetID="25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2" fill="hold">
                            <p:stCondLst>
                              <p:cond delay="46030"/>
                            </p:stCondLst>
                            <p:childTnLst>
                              <p:par>
                                <p:cTn id="1513" nodeType="afterEffect" fill="hold" presetClass="entr" presetID="5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5" dur="77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16" dur="77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18" dur="77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20" dur="77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2" fill="hold">
                            <p:stCondLst>
                              <p:cond delay="49530"/>
                            </p:stCondLst>
                            <p:childTnLst>
                              <p:par>
                                <p:cTn id="1523" nodeType="afterEffect" fill="hold" presetClass="exit" presetID="37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4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5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1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9" fill="hold">
                            <p:stCondLst>
                              <p:cond delay="52030"/>
                            </p:stCondLst>
                            <p:childTnLst>
                              <p:par>
                                <p:cTn id="1530" nodeType="afterEffect" fill="hold" presetClass="entr" presetID="2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2" dur="20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fill="hold">
                            <p:stCondLst>
                              <p:cond delay="54530"/>
                            </p:stCondLst>
                            <p:childTnLst>
                              <p:par>
                                <p:cTn id="1534" nodeType="afterEffect" fill="hold" presetClass="exit" presetID="14" presetSubtype="10">
                                  <p:stCondLst>
                                    <p:cond delay="150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535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7" fill="hold">
                            <p:stCondLst>
                              <p:cond delay="56530"/>
                            </p:stCondLst>
                            <p:childTnLst>
                              <p:par>
                                <p:cTn id="153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0" dur="1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1" dur="1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2" fill="hold">
                            <p:stCondLst>
                              <p:cond delay="57530"/>
                            </p:stCondLst>
                            <p:childTnLst>
                              <p:par>
                                <p:cTn id="1543" nodeType="afterEffect" fill="hold" presetClass="exit" presetID="21" presetSubtype="4">
                                  <p:stCondLst>
                                    <p:cond delay="150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544" dur="20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6" fill="hold">
                            <p:stCondLst>
                              <p:cond delay="61030"/>
                            </p:stCondLst>
                            <p:childTnLst>
                              <p:par>
                                <p:cTn id="154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3" fill="hold">
                            <p:stCondLst>
                              <p:cond delay="61530"/>
                            </p:stCondLst>
                            <p:childTnLst>
                              <p:par>
                                <p:cTn id="1554" nodeType="after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55" dur="1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1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1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5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0" fill="hold">
                            <p:stCondLst>
                              <p:cond delay="62530"/>
                            </p:stCondLst>
                            <p:childTnLst>
                              <p:par>
                                <p:cTn id="15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3" dur="2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4" fill="hold">
                            <p:stCondLst>
                              <p:cond delay="64530"/>
                            </p:stCondLst>
                            <p:childTnLst>
                              <p:par>
                                <p:cTn id="1565" nodeType="afterEffect" fill="hold" presetClass="exit" presetID="35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6" dur="2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7" dur="2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8" dur="2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2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1" fill="hold">
                            <p:stCondLst>
                              <p:cond delay="68030"/>
                            </p:stCondLst>
                            <p:childTnLst>
                              <p:par>
                                <p:cTn id="1572" nodeType="afterEffect" fill="hold" presetClass="entr" presetID="3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8" nodeType="withEffect" fill="hold" presetClass="entr" presetID="3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4" nodeType="withEffect" fill="hold" presetClass="entr" presetID="3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0" nodeType="withEffect" fill="hold" presetClass="entr" presetID="3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6" nodeType="withEffect" fill="hold" presetClass="entr" presetID="3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2" nodeType="withEffect" fill="hold" presetClass="entr" presetID="3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8" nodeType="withEffect" fill="hold" presetClass="entr" presetID="3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4" nodeType="withEffect" fill="hold" presetClass="entr" presetID="3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0" nodeType="withEffect" fill="hold" presetClass="entr" presetID="3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6" nodeType="withEffect" fill="hold" presetClass="entr" presetID="3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2" nodeType="withEffect" fill="hold" presetClass="entr" presetID="3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8" nodeType="withEffect" fill="hold" presetClass="entr" presetID="3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4" nodeType="withEffect" fill="hold" presetClass="entr" presetID="3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0" nodeType="withEffect" fill="hold" presetClass="entr" presetID="3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6" nodeType="withEffect" fill="hold" presetClass="entr" presetID="3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2" nodeType="withEffect" fill="hold" presetClass="entr" presetID="3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8" nodeType="withEffect" fill="hold" presetClass="entr" presetID="3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4" nodeType="withEffect" fill="hold" presetClass="entr" presetID="3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0" nodeType="withEffect" fill="hold" presetClass="entr" presetID="3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6" fill="hold">
                            <p:stCondLst>
                              <p:cond delay="70030"/>
                            </p:stCondLst>
                            <p:childTnLst>
                              <p:par>
                                <p:cTn id="1687" nodeType="afterEffect" fill="hold" presetClass="exit" presetID="34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6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89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9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2" nodeType="withEffect" fill="hold" presetClass="exit" presetID="34">
                                  <p:stCondLst>
                                    <p:cond delay="800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6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94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9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7" nodeType="withEffect" fill="hold" presetClass="exit" presetID="34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6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99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0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2" nodeType="withEffect" fill="hold" presetClass="exit" presetID="34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7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04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0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7" nodeType="withEffect" fill="hold" presetClass="exit" presetID="34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7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09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1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2" nodeType="withEffect" fill="hold" presetClass="exit" presetID="34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7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14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1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7" nodeType="withEffect" fill="hold" presetClass="exit" presetID="34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7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19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2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2" nodeType="withEffect" fill="hold" presetClass="exit" presetID="34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7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24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2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7" nodeType="withEffect" fill="hold" presetClass="exit" presetID="34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7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29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3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2" nodeType="withEffect" fill="hold" presetClass="exit" presetID="34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7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34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3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7" nodeType="withEffect" fill="hold" presetClass="exit" presetID="34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7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39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4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2" nodeType="withEffect" fill="hold" presetClass="exit" presetID="34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7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44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4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7" nodeType="withEffect" fill="hold" presetClass="exit" presetID="34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7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49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5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2" nodeType="withEffect" fill="hold" presetClass="exit" presetID="34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7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54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5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7" nodeType="withEffect" fill="hold" presetClass="exit" presetID="34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7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59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6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2" nodeType="withEffect" fill="hold" presetClass="exit" presetID="34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64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6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7" nodeType="withEffect" fill="hold" presetClass="exit" presetID="34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7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69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7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2" nodeType="withEffect" fill="hold" presetClass="exit" presetID="34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7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74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7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7" nodeType="withEffect" fill="hold" presetClass="exit" presetID="34">
                                  <p:stCondLst>
                                    <p:cond delay="900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7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79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8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311120" y="2349360"/>
            <a:ext cx="7859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Neurochrome"/>
              </a:rPr>
              <a:t>Частичка </a:t>
            </a:r>
            <a:r>
              <a:rPr b="0" lang="en-US" sz="2000" spc="-1" strike="noStrike">
                <a:solidFill>
                  <a:srgbClr val="000099"/>
                </a:solidFill>
                <a:latin typeface="Neurochrome"/>
              </a:rPr>
              <a:t>NOT</a:t>
            </a:r>
            <a:r>
              <a:rPr b="0" lang="ru-RU" sz="2000" spc="-1" strike="noStrike">
                <a:solidFill>
                  <a:srgbClr val="000099"/>
                </a:solidFill>
                <a:latin typeface="Neurochrome"/>
              </a:rPr>
              <a:t> переживала из-за того, что с н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Neurochrome"/>
              </a:rPr>
              <a:t>не хотят дружить, но король глагол </a:t>
            </a:r>
            <a:r>
              <a:rPr b="0" lang="en-US" sz="2000" spc="-1" strike="noStrike">
                <a:solidFill>
                  <a:srgbClr val="000099"/>
                </a:solidFill>
                <a:latin typeface="Neurochrome"/>
              </a:rPr>
              <a:t>TO BE</a:t>
            </a:r>
            <a:r>
              <a:rPr b="0" lang="ru-RU" sz="2000" spc="-1" strike="noStrike">
                <a:solidFill>
                  <a:srgbClr val="000099"/>
                </a:solidFill>
                <a:latin typeface="Neurochrome"/>
              </a:rPr>
              <a:t> успокаива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Neurochrome"/>
              </a:rPr>
              <a:t>ее и говорил, что бывают такие ситуации в жизни, когда без нее просто нельзя обойтись и все жители-глаголы с удовольствием будут приглашать её в г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116000" y="4941720"/>
            <a:ext cx="1700280" cy="16560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6372360" y="4149720"/>
            <a:ext cx="2771640" cy="27082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3419640" y="5373720"/>
            <a:ext cx="57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41440" y="6237360"/>
            <a:ext cx="663840" cy="3682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297280" y="431316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split dir="in" orient="vert"/>
  </p:transition>
  <p:timing>
    <p:tnLst>
      <p:par>
        <p:cTn id="1782" dur="indefinite" restart="never" nodeType="tmRoot">
          <p:childTnLst>
            <p:seq>
              <p:cTn id="1783" dur="indefinite" nodeType="mainSeq">
                <p:childTnLst>
                  <p:par>
                    <p:cTn id="1784" fill="hold">
                      <p:stCondLst>
                        <p:cond delay="0"/>
                      </p:stCondLst>
                      <p:childTnLst>
                        <p:par>
                          <p:cTn id="1785" fill="hold">
                            <p:stCondLst>
                              <p:cond delay="0"/>
                            </p:stCondLst>
                            <p:childTnLst>
                              <p:par>
                                <p:cTn id="178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8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4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971080" y="157320"/>
            <a:ext cx="296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ВЕРЬ СЕБ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382400" y="1071720"/>
            <a:ext cx="4047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Mary   … ….      a teac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It  … …  a do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Sam   … …  a do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I  … …   a bo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My friends  … …   pup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They   … …   cosmona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We   … …   frie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64200" y="481644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692360" y="4797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843280" y="4797360"/>
            <a:ext cx="106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851280" y="4797360"/>
            <a:ext cx="17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03640" y="4797360"/>
            <a:ext cx="19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280200" y="4797360"/>
            <a:ext cx="12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096200" y="517680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176920" y="517680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NO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split dir="in" orient="vert"/>
  </p:transition>
  <p:timing>
    <p:tnLst>
      <p:par>
        <p:cTn id="1809" dur="indefinite" restart="never" nodeType="tmRoot">
          <p:childTnLst>
            <p:seq>
              <p:cTn id="1810" dur="indefinite" nodeType="mainSeq">
                <p:childTnLst>
                  <p:par>
                    <p:cTn id="1811" fill="hold">
                      <p:stCondLst>
                        <p:cond delay="0"/>
                      </p:stCondLst>
                      <p:childTnLst>
                        <p:par>
                          <p:cTn id="1812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afterEffect" fill="hold" presetClass="path" presetID="0">
                                  <p:stCondLst>
                                    <p:cond delay="10000"/>
                                  </p:stCondLst>
                                  <p:childTnLst>
                                    <p:animMotion origin="layout" path="M 0.02135 -0.05028 L 0.18663 -0.55491 E">
                                      <p:cBhvr>
                                        <p:cTn id="1814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16" nodeType="afterEffect" fill="hold" presetClass="path" presetID="0">
                                  <p:stCondLst>
                                    <p:cond delay="10000"/>
                                  </p:stCondLst>
                                  <p:childTnLst>
                                    <p:animMotion origin="layout" path="M 0.01563 -3.98517E-007 L -0.10572 -0.48911 E">
                                      <p:cBhvr>
                                        <p:cTn id="1817" dur="2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8" fill="hold">
                            <p:stCondLst>
                              <p:cond delay="24000"/>
                            </p:stCondLst>
                            <p:childTnLst>
                              <p:par>
                                <p:cTn id="1819" nodeType="afterEffect" fill="hold" presetClass="path" presetID="0">
                                  <p:stCondLst>
                                    <p:cond delay="10000"/>
                                  </p:stCondLst>
                                  <p:childTnLst>
                                    <p:animMotion origin="layout" path="M -0.00226 -0.019 L 0.1316 -0.49189 E">
                                      <p:cBhvr>
                                        <p:cTn id="1820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1" fill="hold">
                            <p:stCondLst>
                              <p:cond delay="36000"/>
                            </p:stCondLst>
                            <p:childTnLst>
                              <p:par>
                                <p:cTn id="1822" nodeType="afterEffect" fill="hold" presetClass="path" presetID="0">
                                  <p:stCondLst>
                                    <p:cond delay="10000"/>
                                  </p:stCondLst>
                                  <p:childTnLst>
                                    <p:animMotion origin="layout" path="M 0.0276 -0.0373 L -0.00382 -0.37349 E">
                                      <p:cBhvr>
                                        <p:cTn id="1823" dur="2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4" fill="hold">
                            <p:stCondLst>
                              <p:cond delay="48000"/>
                            </p:stCondLst>
                            <p:childTnLst>
                              <p:par>
                                <p:cTn id="1825" nodeType="afterEffect" fill="hold" presetClass="path" presetID="0">
                                  <p:stCondLst>
                                    <p:cond delay="10000"/>
                                  </p:stCondLst>
                                  <p:childTnLst>
                                    <p:animMotion origin="layout" path="M 0.03142 -3.98517E-007 L -0.08021 -0.3209 E">
                                      <p:cBhvr>
                                        <p:cTn id="1826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7" fill="hold">
                            <p:stCondLst>
                              <p:cond delay="60000"/>
                            </p:stCondLst>
                            <p:childTnLst>
                              <p:par>
                                <p:cTn id="1828" nodeType="afterEffect" fill="hold" presetClass="path" presetID="0">
                                  <p:stCondLst>
                                    <p:cond delay="10000"/>
                                  </p:stCondLst>
                                  <p:childTnLst>
                                    <p:animMotion origin="layout" path="M 0.06546 -0.0373 L -0.28888 -0.2683 E">
                                      <p:cBhvr>
                                        <p:cTn id="1829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0" fill="hold">
                            <p:stCondLst>
                              <p:cond delay="72000"/>
                            </p:stCondLst>
                            <p:childTnLst>
                              <p:par>
                                <p:cTn id="1831" nodeType="afterEffect" fill="hold" presetClass="path" presetID="0">
                                  <p:stCondLst>
                                    <p:cond delay="10000"/>
                                  </p:stCondLst>
                                  <p:childTnLst>
                                    <p:animMotion origin="layout" path="M 0.03108 -0.0373 L -0.44149 -0.21594 E">
                                      <p:cBhvr>
                                        <p:cTn id="1832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9280" y="260280"/>
            <a:ext cx="8964720" cy="36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66"/>
                </a:solidFill>
                <a:latin typeface="Monotype Corsiva"/>
              </a:rPr>
              <a:t>СКАЗК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66"/>
                </a:solidFill>
                <a:latin typeface="Monotype Corsiva"/>
              </a:rPr>
              <a:t>              </a:t>
            </a:r>
            <a:r>
              <a:rPr b="0" lang="ru-RU" sz="4800" spc="-1" strike="noStrike">
                <a:solidFill>
                  <a:srgbClr val="ff0066"/>
                </a:solidFill>
                <a:latin typeface="Monotype Corsiva"/>
              </a:rPr>
              <a:t>О КОРОЛЕ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66"/>
                </a:solidFill>
                <a:latin typeface="Monotype Corsiva"/>
              </a:rPr>
              <a:t>                                    </a:t>
            </a:r>
            <a:r>
              <a:rPr b="0" lang="ru-RU" sz="4800" spc="-1" strike="noStrike">
                <a:solidFill>
                  <a:srgbClr val="ff0066"/>
                </a:solidFill>
                <a:latin typeface="Monotype Corsiva"/>
              </a:rPr>
              <a:t>ГЛАГОЛ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067280" y="2565360"/>
            <a:ext cx="1512720" cy="1150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851280" y="3875040"/>
            <a:ext cx="189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split dir="in" orient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6000"/>
                            </p:stCondLst>
                            <p:childTnLst>
                              <p:par>
                                <p:cTn id="34" nodeType="after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5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6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7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8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6500"/>
                            </p:stCondLst>
                            <p:childTnLst>
                              <p:par>
                                <p:cTn id="4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500"/>
                            </p:stCondLst>
                            <p:childTnLst>
                              <p:par>
                                <p:cTn id="47" nodeType="afterEffect" fill="remove" presetClass="emph" presetID="33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0" dur="3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1500"/>
                            </p:stCondLst>
                            <p:childTnLst>
                              <p:par>
                                <p:cTn id="5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77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" dur="770" fill="hold"/>
                                        <p:tgtEl>
                                          <p:spTgt spid="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3500"/>
                            </p:stCondLst>
                            <p:childTnLst>
                              <p:par>
                                <p:cTn id="6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79280" y="2637000"/>
            <a:ext cx="139827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Neurochrome"/>
              </a:rPr>
              <a:t>Королевичи </a:t>
            </a:r>
            <a:r>
              <a:rPr b="1" lang="en-US" sz="2400" spc="-1" strike="noStrike">
                <a:solidFill>
                  <a:srgbClr val="ff0000"/>
                </a:solidFill>
                <a:latin typeface="Neurochrome"/>
              </a:rPr>
              <a:t>AM, IS, ARE </a:t>
            </a:r>
            <a:r>
              <a:rPr b="0" lang="ru-RU" sz="2400" spc="-1" strike="noStrike">
                <a:solidFill>
                  <a:srgbClr val="ff0000"/>
                </a:solidFill>
                <a:latin typeface="Neurochrome"/>
              </a:rPr>
              <a:t>очень люб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Neurochrome"/>
              </a:rPr>
              <a:t>путешествовать по</a:t>
            </a:r>
            <a:r>
              <a:rPr b="0" lang="en-US" sz="2400" spc="-1" strike="noStrike">
                <a:solidFill>
                  <a:srgbClr val="ff0000"/>
                </a:solidFill>
                <a:latin typeface="Neurochrome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Neurochrome"/>
              </a:rPr>
              <a:t>Планете- Грамматика. Когда о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Neurochrome"/>
              </a:rPr>
              <a:t>прилетали в другие Королевства,</a:t>
            </a:r>
            <a:r>
              <a:rPr b="0" lang="en-US" sz="2400" spc="-1" strike="noStrike">
                <a:solidFill>
                  <a:srgbClr val="ff0000"/>
                </a:solidFill>
                <a:latin typeface="Neurochrome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Neurochrome"/>
              </a:rPr>
              <a:t>им было интерес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Neurochrome"/>
              </a:rPr>
              <a:t>узнать как можно больше информации о жителях эт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Neurochrome"/>
              </a:rPr>
              <a:t>Королевства. Они задавали им много вопросов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Neurochrome"/>
              </a:rPr>
              <a:t>как их зовут, сколько им лет и друг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Neurochrome"/>
              </a:rPr>
              <a:t>Королевичи любили путешествовать на летающем вагончи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Neurochrome"/>
              </a:rPr>
              <a:t>Так как они были королевичами, они любили , чтобы 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Neurochrome"/>
              </a:rPr>
              <a:t>вагончик</a:t>
            </a:r>
            <a:r>
              <a:rPr b="0" lang="en-US" sz="2400" spc="-1" strike="noStrike">
                <a:solidFill>
                  <a:srgbClr val="333399"/>
                </a:solidFill>
                <a:latin typeface="Neurochrome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Neurochrome"/>
              </a:rPr>
              <a:t>всегда был перв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split dir="in" orient="vert"/>
  </p:transition>
  <p:timing>
    <p:tnLst>
      <p:par>
        <p:cTn id="1833" dur="indefinite" restart="never" nodeType="tmRoot">
          <p:childTnLst>
            <p:seq>
              <p:cTn id="1834" dur="indefinite" nodeType="mainSeq">
                <p:childTnLst>
                  <p:par>
                    <p:cTn id="1835" fill="hold">
                      <p:stCondLst>
                        <p:cond delay="0"/>
                      </p:stCondLst>
                      <p:childTnLst>
                        <p:par>
                          <p:cTn id="1836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9" dur="1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0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1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4" dur="10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5" dur="1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6" dur="10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9" dur="10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0" dur="10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1" dur="10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4" dur="10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5" dur="10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6" dur="10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9" dur="10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0" dur="10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1" dur="10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4" dur="100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5" dur="10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6" dur="10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7" fill="hold">
                            <p:stCondLst>
                              <p:cond delay="5200"/>
                            </p:stCondLst>
                            <p:childTnLst>
                              <p:par>
                                <p:cTn id="1868" nodeType="afterEffect" fill="hold" presetClass="entr" presetID="4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0" dur="1000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1" dur="1000" fill="hold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2" dur="1000" fill="hold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3" fill="hold">
                            <p:stCondLst>
                              <p:cond delay="8700"/>
                            </p:stCondLst>
                            <p:childTnLst>
                              <p:par>
                                <p:cTn id="1874" nodeType="afterEffect" fill="hold" presetClass="entr" presetID="4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6" dur="1000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7" dur="1000" fill="hold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8" dur="1000" fill="hold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9" fill="hold">
                            <p:stCondLst>
                              <p:cond delay="12200"/>
                            </p:stCondLst>
                            <p:childTnLst>
                              <p:par>
                                <p:cTn id="1880" nodeType="afterEffect" fill="hold" presetClass="entr" presetID="4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2" dur="1000"/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3" dur="1000" fill="hold"/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4" dur="1000" fill="hold"/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755640" y="189000"/>
            <a:ext cx="8531280" cy="45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Посмотрите на наш летающий поезд. В зеленом вагончике у на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путешествовали королевичи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AM,IS,ARE,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в желтом вагончике путешествовали друзья королевичей , а в  голубом вагончике- другие жители плане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Когда королевичи беседовали с жителями, они начина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важно спрашива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Am I ni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Are you clev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s he a frien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s she a gir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s it a do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                                                     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re we friend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                                                     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re you pupi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                                                     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re they doctor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68360" y="5950080"/>
            <a:ext cx="2374920" cy="35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419640" y="5950080"/>
            <a:ext cx="2520720" cy="35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443640" y="5950080"/>
            <a:ext cx="2700360" cy="35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9640" y="5084640"/>
            <a:ext cx="2160720" cy="865440"/>
          </a:xfrm>
          <a:prstGeom prst="roundRect">
            <a:avLst>
              <a:gd name="adj" fmla="val 16667"/>
            </a:avLst>
          </a:prstGeom>
          <a:solidFill>
            <a:srgbClr val="1aa9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564000" y="5084640"/>
            <a:ext cx="2087640" cy="865440"/>
          </a:xfrm>
          <a:prstGeom prst="roundRect">
            <a:avLst>
              <a:gd name="adj" fmla="val 16667"/>
            </a:avLst>
          </a:prstGeom>
          <a:solidFill>
            <a:srgbClr val="f1ee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659640" y="5084640"/>
            <a:ext cx="2305080" cy="865440"/>
          </a:xfrm>
          <a:prstGeom prst="roundRect">
            <a:avLst>
              <a:gd name="adj" fmla="val 16667"/>
            </a:avLst>
          </a:prstGeom>
          <a:solidFill>
            <a:srgbClr val="47a6a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26920" y="5157720"/>
            <a:ext cx="21600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050920" y="5373720"/>
            <a:ext cx="289080" cy="503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780000" y="5229360"/>
            <a:ext cx="14436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932360" y="5373720"/>
            <a:ext cx="360360" cy="503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877080" y="5229360"/>
            <a:ext cx="14292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317080" y="5300640"/>
            <a:ext cx="35856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700360" y="5516640"/>
            <a:ext cx="863640" cy="73080"/>
          </a:xfrm>
          <a:prstGeom prst="leftRightArrow">
            <a:avLst>
              <a:gd name="adj1" fmla="val 50000"/>
              <a:gd name="adj2" fmla="val 2352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651640" y="5445000"/>
            <a:ext cx="1008000" cy="71640"/>
          </a:xfrm>
          <a:prstGeom prst="leftRightArrow">
            <a:avLst>
              <a:gd name="adj1" fmla="val 50000"/>
              <a:gd name="adj2" fmla="val 28010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48200" y="6400800"/>
            <a:ext cx="146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, IS,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132000" y="6329520"/>
            <a:ext cx="35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,YOU,HE,SHE,IT,WE,TH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714000" y="6329520"/>
            <a:ext cx="206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тальные с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split dir="in" orient="vert"/>
  </p:transition>
  <p:timing>
    <p:tnLst>
      <p:par>
        <p:cTn id="1885" dur="indefinite" restart="never" nodeType="tmRoot">
          <p:childTnLst>
            <p:seq>
              <p:cTn id="1886" dur="indefinite" nodeType="mainSeq">
                <p:childTnLst>
                  <p:par>
                    <p:cTn id="1887" fill="hold">
                      <p:stCondLst>
                        <p:cond delay="0"/>
                      </p:stCondLst>
                      <p:childTnLst>
                        <p:par>
                          <p:cTn id="1888" fill="hold">
                            <p:stCondLst>
                              <p:cond delay="0"/>
                            </p:stCondLst>
                            <p:childTnLst>
                              <p:par>
                                <p:cTn id="188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1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2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3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4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5" fill="hold">
                            <p:stCondLst>
                              <p:cond delay="14500"/>
                            </p:stCondLst>
                            <p:childTnLst>
                              <p:par>
                                <p:cTn id="2006" nodeType="afterEffect" fill="hold" presetClass="entr" presetID="31">
                                  <p:stCondLst>
                                    <p:cond delay="5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8" dur="1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9" dur="1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0" dur="1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1" dur="10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2" nodeType="withEffect" fill="hold" presetClass="entr" presetID="31">
                                  <p:stCondLst>
                                    <p:cond delay="5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4" dur="10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5" dur="10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6" dur="10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7" dur="10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8" fill="hold">
                            <p:stCondLst>
                              <p:cond delay="22750"/>
                            </p:stCondLst>
                            <p:childTnLst>
                              <p:par>
                                <p:cTn id="2019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1" dur="1000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2" dur="10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3" dur="9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5" fill="hold">
                            <p:stCondLst>
                              <p:cond delay="25750"/>
                            </p:stCondLst>
                            <p:childTnLst>
                              <p:par>
                                <p:cTn id="2026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027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28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029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030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1" fill="hold">
                            <p:stCondLst>
                              <p:cond delay="26250"/>
                            </p:stCondLst>
                            <p:childTnLst>
                              <p:par>
                                <p:cTn id="203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34" dur="2000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5" fill="hold">
                            <p:stCondLst>
                              <p:cond delay="28250"/>
                            </p:stCondLst>
                            <p:childTnLst>
                              <p:par>
                                <p:cTn id="2036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037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8" fill="hold">
                            <p:stCondLst>
                              <p:cond delay="28990"/>
                            </p:stCondLst>
                            <p:childTnLst>
                              <p:par>
                                <p:cTn id="20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1" dur="1000" fill="hold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2" dur="1000" fill="hold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3" dur="1000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4" fill="hold">
                            <p:stCondLst>
                              <p:cond delay="29990"/>
                            </p:stCondLst>
                            <p:childTnLst>
                              <p:par>
                                <p:cTn id="204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indefinite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7" fill="hold">
                            <p:stCondLst>
                              <p:cond delay="29990"/>
                            </p:stCondLst>
                            <p:childTnLst>
                              <p:par>
                                <p:cTn id="204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4" fill="hold">
                            <p:stCondLst>
                              <p:cond delay="30990"/>
                            </p:stCondLst>
                            <p:childTnLst>
                              <p:par>
                                <p:cTn id="2055" nodeType="after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056" dur="500" fill="hold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057" dur="500" fill="hold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058" dur="500" fill="hold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059" dur="500" fill="hold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0" fill="hold">
                            <p:stCondLst>
                              <p:cond delay="31490"/>
                            </p:stCondLst>
                            <p:childTnLst>
                              <p:par>
                                <p:cTn id="206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3" dur="1000" fill="hold"/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4" dur="1000" fill="hold"/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5" dur="1000"/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6" fill="hold">
                            <p:stCondLst>
                              <p:cond delay="32490"/>
                            </p:stCondLst>
                            <p:childTnLst>
                              <p:par>
                                <p:cTn id="206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68" dur="2000" fill="hold"/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9" fill="hold">
                            <p:stCondLst>
                              <p:cond delay="34490"/>
                            </p:stCondLst>
                            <p:childTnLst>
                              <p:par>
                                <p:cTn id="207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2" dur="770"/>
                                        <p:tgtEl>
                                          <p:spTgt spid="2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73" dur="770" fill="hold"/>
                                        <p:tgtEl>
                                          <p:spTgt spid="2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75" dur="770" fill="hold"/>
                                        <p:tgtEl>
                                          <p:spTgt spid="2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77" dur="770" fill="hold"/>
                                        <p:tgtEl>
                                          <p:spTgt spid="2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9" fill="hold">
                            <p:stCondLst>
                              <p:cond delay="36490"/>
                            </p:stCondLst>
                            <p:childTnLst>
                              <p:par>
                                <p:cTn id="208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indefinite"/>
                                        <p:tgtEl>
                                          <p:spTgt spid="2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2" fill="hold">
                            <p:stCondLst>
                              <p:cond delay="36490"/>
                            </p:stCondLst>
                            <p:childTnLst>
                              <p:par>
                                <p:cTn id="208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5" dur="1000"/>
                                        <p:tgtEl>
                                          <p:spTgt spid="2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6" dur="1000" fill="hold"/>
                                        <p:tgtEl>
                                          <p:spTgt spid="2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7" dur="900" fill="hold"/>
                                        <p:tgtEl>
                                          <p:spTgt spid="2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9" fill="hold">
                            <p:stCondLst>
                              <p:cond delay="37490"/>
                            </p:stCondLst>
                            <p:childTnLst>
                              <p:par>
                                <p:cTn id="209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91" dur="250" autoRev="1" fill="hold"/>
                                        <p:tgtEl>
                                          <p:spTgt spid="2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92" dur="250" autoRev="1" fill="hold"/>
                                        <p:tgtEl>
                                          <p:spTgt spid="2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93" dur="250" autoRev="1" fill="hold"/>
                                        <p:tgtEl>
                                          <p:spTgt spid="2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4" fill="hold">
                            <p:stCondLst>
                              <p:cond delay="37990"/>
                            </p:stCondLst>
                            <p:childTnLst>
                              <p:par>
                                <p:cTn id="209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0" dur="1000" fill="hold"/>
                                        <p:tgtEl>
                                          <p:spTgt spid="2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5" fill="hold">
                            <p:stCondLst>
                              <p:cond delay="38990"/>
                            </p:stCondLst>
                            <p:childTnLst>
                              <p:par>
                                <p:cTn id="2106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10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10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11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11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112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3544560" y="539640"/>
            <a:ext cx="253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671480" y="1359000"/>
            <a:ext cx="546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вая вопросы , мы начинаем их 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IS,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116000" y="2637000"/>
            <a:ext cx="55245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9900"/>
                </a:solidFill>
                <a:latin typeface="Arial"/>
              </a:rPr>
              <a:t>Are you happ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Is he happy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ffcc"/>
                </a:solidFill>
                <a:latin typeface="Arial"/>
              </a:rPr>
              <a:t>Is she happ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Am I happ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ff33"/>
                </a:solidFill>
                <a:latin typeface="Arial"/>
              </a:rPr>
              <a:t>Are they happ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237280" y="2349360"/>
            <a:ext cx="3906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9900"/>
                </a:solidFill>
                <a:latin typeface="Arial"/>
              </a:rPr>
              <a:t>Yes, I 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9900"/>
                </a:solidFill>
                <a:latin typeface="Arial"/>
              </a:rPr>
              <a:t>No, I am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Yes, he 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No, he is no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ffcc"/>
                </a:solidFill>
                <a:latin typeface="Arial"/>
              </a:rPr>
              <a:t>Yes, she 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6ffcc"/>
                </a:solidFill>
                <a:latin typeface="Arial"/>
              </a:rPr>
              <a:t>No, she isn’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Yes, you 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No, you are no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ff33"/>
                </a:solidFill>
                <a:latin typeface="Arial"/>
              </a:rPr>
              <a:t>Yes, they 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ff33"/>
                </a:solidFill>
                <a:latin typeface="Arial"/>
              </a:rPr>
              <a:t>No, they are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split dir="in" orient="vert"/>
  </p:transition>
  <p:timing>
    <p:tnLst>
      <p:par>
        <p:cTn id="2113" dur="indefinite" restart="never" nodeType="tmRoot">
          <p:childTnLst>
            <p:seq>
              <p:cTn id="2114" dur="indefinite" nodeType="mainSeq">
                <p:childTnLst>
                  <p:par>
                    <p:cTn id="2115" fill="hold">
                      <p:stCondLst>
                        <p:cond delay="0"/>
                      </p:stCondLst>
                      <p:childTnLst>
                        <p:par>
                          <p:cTn id="2116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9" dur="1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0" dur="1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21" dur="1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3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124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125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126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127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8" fill="hold">
                            <p:stCondLst>
                              <p:cond delay="1850"/>
                            </p:stCondLst>
                            <p:childTnLst>
                              <p:par>
                                <p:cTn id="212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1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2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3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6" dur="10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7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8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9" fill="hold">
                            <p:stCondLst>
                              <p:cond delay="5550"/>
                            </p:stCondLst>
                            <p:childTnLst>
                              <p:par>
                                <p:cTn id="2140" nodeType="afterEffect" fill="hold" presetClass="exit" presetID="56">
                                  <p:stCondLst>
                                    <p:cond delay="4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2141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42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21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6" nodeType="withEffect" fill="hold" presetClass="exit" presetID="56">
                                  <p:stCondLst>
                                    <p:cond delay="4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2147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48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21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2" fill="hold">
                            <p:stCondLst>
                              <p:cond delay="13250"/>
                            </p:stCondLst>
                            <p:childTnLst>
                              <p:par>
                                <p:cTn id="215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5" dur="1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6" dur="4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7" dur="4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0" fill="hold">
                            <p:stCondLst>
                              <p:cond delay="14250"/>
                            </p:stCondLst>
                            <p:childTnLst>
                              <p:par>
                                <p:cTn id="21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3" dur="2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6" dur="20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7" fill="hold">
                            <p:stCondLst>
                              <p:cond delay="16250"/>
                            </p:stCondLst>
                            <p:childTnLst>
                              <p:par>
                                <p:cTn id="2168" nodeType="afterEffect" fill="hold" presetClass="exit" presetID="14" presetSubtype="10">
                                  <p:stCondLst>
                                    <p:cond delay="250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169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1" nodeType="withEffect" fill="hold" presetClass="exit" presetID="14" presetSubtype="10">
                                  <p:stCondLst>
                                    <p:cond delay="250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172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4" fill="hold">
                            <p:stCondLst>
                              <p:cond delay="19250"/>
                            </p:stCondLst>
                            <p:childTnLst>
                              <p:par>
                                <p:cTn id="2175" nodeType="afterEffect" fill="hold" presetClass="exit" presetID="48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76" dur="1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7" dur="1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8" dur="1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79" dur="1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1" fill="hold">
                            <p:stCondLst>
                              <p:cond delay="21750"/>
                            </p:stCondLst>
                            <p:childTnLst>
                              <p:par>
                                <p:cTn id="218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4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5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6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7" dur="50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8" fill="hold">
                            <p:stCondLst>
                              <p:cond delay="22250"/>
                            </p:stCondLst>
                            <p:childTnLst>
                              <p:par>
                                <p:cTn id="218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1" dur="20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2" dur="20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3" dur="20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6" dur="2000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7" dur="2000" fill="hold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8" dur="2000" fill="hold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9" fill="hold">
                            <p:stCondLst>
                              <p:cond delay="26250"/>
                            </p:stCondLst>
                            <p:childTnLst>
                              <p:par>
                                <p:cTn id="2200" nodeType="afterEffect" fill="hold" presetClass="exit" presetID="45">
                                  <p:stCondLst>
                                    <p:cond delay="2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201" dur="20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2" dur="20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3" dur="20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5" nodeType="withEffect" fill="hold" presetClass="exit" presetID="45">
                                  <p:stCondLst>
                                    <p:cond delay="2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206" dur="2000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7" dur="2000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8" dur="2000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0" fill="hold">
                            <p:stCondLst>
                              <p:cond delay="32750"/>
                            </p:stCondLst>
                            <p:childTnLst>
                              <p:par>
                                <p:cTn id="2211" nodeType="afterEffect" fill="hold" presetClass="exit" presetID="29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12" dur="100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3" dur="100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14" dur="100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6" fill="hold">
                            <p:stCondLst>
                              <p:cond delay="35250"/>
                            </p:stCondLst>
                            <p:childTnLst>
                              <p:par>
                                <p:cTn id="221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9" dur="500" fill="hold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0" dur="500" fill="hold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1" fill="hold">
                            <p:stCondLst>
                              <p:cond delay="35750"/>
                            </p:stCondLst>
                            <p:childTnLst>
                              <p:par>
                                <p:cTn id="222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3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4" fill="hold">
                            <p:stCondLst>
                              <p:cond delay="37750"/>
                            </p:stCondLst>
                            <p:childTnLst>
                              <p:par>
                                <p:cTn id="2255" nodeType="afterEffect" fill="hold" presetClass="exit" presetID="37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56" dur="1000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7" dur="1000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8" dur="100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1" nodeType="withEffect" fill="hold" presetClass="exit" presetID="37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62" dur="1000"/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3" dur="1000"/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4" dur="100"/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7" fill="hold">
                            <p:stCondLst>
                              <p:cond delay="41250"/>
                            </p:stCondLst>
                            <p:childTnLst>
                              <p:par>
                                <p:cTn id="2268" nodeType="afterEffect" fill="hold" presetClass="exit" presetID="35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69" dur="2000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0" dur="2000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1" dur="2000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2" dur="2000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4" fill="hold">
                            <p:stCondLst>
                              <p:cond delay="45750"/>
                            </p:stCondLst>
                            <p:childTnLst>
                              <p:par>
                                <p:cTn id="227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1" fill="hold">
                            <p:stCondLst>
                              <p:cond delay="46750"/>
                            </p:stCondLst>
                            <p:childTnLst>
                              <p:par>
                                <p:cTn id="22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4" dur="500"/>
                                        <p:tgtEl>
                                          <p:spTgt spid="2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7" dur="500"/>
                                        <p:tgtEl>
                                          <p:spTgt spid="2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8" fill="hold">
                            <p:stCondLst>
                              <p:cond delay="47250"/>
                            </p:stCondLst>
                            <p:childTnLst>
                              <p:par>
                                <p:cTn id="2289" nodeType="afterEffect" fill="hold" presetClass="exit" presetID="55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90" dur="1000"/>
                                        <p:tgtEl>
                                          <p:spTgt spid="2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1" dur="1000"/>
                                        <p:tgtEl>
                                          <p:spTgt spid="2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92" dur="1000"/>
                                        <p:tgtEl>
                                          <p:spTgt spid="2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4" nodeType="withEffect" fill="hold" presetClass="exit" presetID="55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95" dur="1000"/>
                                        <p:tgtEl>
                                          <p:spTgt spid="2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6" dur="1000"/>
                                        <p:tgtEl>
                                          <p:spTgt spid="2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97" dur="1000"/>
                                        <p:tgtEl>
                                          <p:spTgt spid="2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9" fill="hold">
                            <p:stCondLst>
                              <p:cond delay="50750"/>
                            </p:stCondLst>
                            <p:childTnLst>
                              <p:par>
                                <p:cTn id="2300" nodeType="afterEffect" fill="hold" presetClass="exit" presetID="34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2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02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0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23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5" fill="hold">
                            <p:stCondLst>
                              <p:cond delay="53250"/>
                            </p:stCondLst>
                            <p:childTnLst>
                              <p:par>
                                <p:cTn id="23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08" dur="80"/>
                                        <p:tgtEl>
                                          <p:spTgt spid="2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9" dur="80"/>
                                        <p:tgtEl>
                                          <p:spTgt spid="2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0" dur="80"/>
                                        <p:tgtEl>
                                          <p:spTgt spid="2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1" fill="hold">
                            <p:stCondLst>
                              <p:cond delay="53810"/>
                            </p:stCondLst>
                            <p:childTnLst>
                              <p:par>
                                <p:cTn id="231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4" dur="5000" fill="hold"/>
                                        <p:tgtEl>
                                          <p:spTgt spid="2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5" dur="5000" fill="hold"/>
                                        <p:tgtEl>
                                          <p:spTgt spid="2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8" dur="5000" fill="hold"/>
                                        <p:tgtEl>
                                          <p:spTgt spid="2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9" dur="5000" fill="hold"/>
                                        <p:tgtEl>
                                          <p:spTgt spid="2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0" fill="hold">
                            <p:stCondLst>
                              <p:cond delay="58810"/>
                            </p:stCondLst>
                            <p:childTnLst>
                              <p:par>
                                <p:cTn id="2321" nodeType="afterEffect" fill="hold" presetClass="exit" presetID="52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2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3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324" dur="1000"/>
                                        <p:tgtEl>
                                          <p:spTgt spid="2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6" nodeType="withEffect" fill="hold" presetClass="exit" presetID="52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23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329" dur="1000"/>
                                        <p:tgtEl>
                                          <p:spTgt spid="2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1" fill="hold">
                            <p:stCondLst>
                              <p:cond delay="62310"/>
                            </p:stCondLst>
                            <p:childTnLst>
                              <p:par>
                                <p:cTn id="2332" nodeType="afterEffect" fill="hold" presetClass="exit" presetID="27">
                                  <p:stCondLst>
                                    <p:cond delay="1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333" dur="80"/>
                                        <p:tgtEl>
                                          <p:spTgt spid="2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4" dur="80"/>
                                        <p:tgtEl>
                                          <p:spTgt spid="2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5" dur="80"/>
                                        <p:tgtEl>
                                          <p:spTgt spid="2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336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2340000" y="27468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ЕРЬ СЕБ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458000" y="1143000"/>
            <a:ext cx="28065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…..you ni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…. you clev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…. they doct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…..he a pupi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….. she beauti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….. you frien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…..the dog bi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479480" y="107172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s, I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241640" y="46735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319480" y="4653000"/>
            <a:ext cx="52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481280" y="143208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s, w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255840" y="465300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408560" y="465300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480920" y="1863720"/>
            <a:ext cx="168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, they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241280" y="5105520"/>
            <a:ext cx="11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0" y="22240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, he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416560" y="4508640"/>
            <a:ext cx="94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0" y="2637000"/>
            <a:ext cx="18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s, she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642000" y="452916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572000" y="2943360"/>
            <a:ext cx="17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s, w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826000" y="51055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500720" y="3375000"/>
            <a:ext cx="139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, i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975840" y="510552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273640" y="503244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849640" y="496080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642360" y="50324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889280" y="55371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041640" y="553716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split dir="in" orient="vert"/>
  </p:transition>
  <p:timing>
    <p:tnLst>
      <p:par>
        <p:cTn id="2337" dur="indefinite" restart="never" nodeType="tmRoot">
          <p:childTnLst>
            <p:seq>
              <p:cTn id="2338" dur="indefinite" nodeType="mainSeq">
                <p:childTnLst>
                  <p:par>
                    <p:cTn id="2339" fill="hold">
                      <p:stCondLst>
                        <p:cond delay="indefinite"/>
                      </p:stCondLst>
                      <p:childTnLst>
                        <p:par>
                          <p:cTn id="2340" fill="hold">
                            <p:stCondLst>
                              <p:cond delay="0"/>
                            </p:stCondLst>
                            <p:childTnLst>
                              <p:par>
                                <p:cTn id="2341" nodeType="clickEffect" fill="hold" presetClass="path" presetID="0">
                                  <p:stCondLst>
                                    <p:cond delay="8000"/>
                                  </p:stCondLst>
                                  <p:childTnLst>
                                    <p:animMotion origin="layout" path="M -0.00208 -0.02966 L 0.04514 -0.53406 E">
                                      <p:cBhvr>
                                        <p:cTn id="2342" dur="2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44" nodeType="afterEffect" fill="hold" presetClass="path" presetID="0">
                                  <p:stCondLst>
                                    <p:cond delay="8000"/>
                                  </p:stCondLst>
                                  <p:childTnLst>
                                    <p:animMotion origin="layout" path="M 0.00486 -0.03708 L 0.3434 -0.53105 E">
                                      <p:cBhvr>
                                        <p:cTn id="2345" dur="2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6" fill="hold">
                      <p:stCondLst>
                        <p:cond delay="indefinite"/>
                      </p:stCondLst>
                      <p:childTnLst>
                        <p:par>
                          <p:cTn id="2347" fill="hold">
                            <p:stCondLst>
                              <p:cond delay="0"/>
                            </p:stCondLst>
                            <p:childTnLst>
                              <p:par>
                                <p:cTn id="2348" nodeType="clickEffect" fill="hold" presetClass="path" presetID="0">
                                  <p:stCondLst>
                                    <p:cond delay="8000"/>
                                  </p:stCondLst>
                                  <p:childTnLst>
                                    <p:animMotion origin="layout" path="M -0.01007 -0.03708 L -0.19115 -0.47846 E">
                                      <p:cBhvr>
                                        <p:cTn id="2349" dur="20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51" nodeType="afterEffect" fill="hold" presetClass="path" presetID="0">
                                  <p:stCondLst>
                                    <p:cond delay="8000"/>
                                  </p:stCondLst>
                                  <p:childTnLst>
                                    <p:animMotion origin="layout" path="M -0.00208 -0.03708 L 0.12379 -0.47846 E">
                                      <p:cBhvr>
                                        <p:cTn id="2352" dur="2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3" fill="hold">
                            <p:stCondLst>
                              <p:cond delay="20000"/>
                            </p:stCondLst>
                            <p:childTnLst>
                              <p:par>
                                <p:cTn id="2354" nodeType="afterEffect" fill="hold" presetClass="path" presetID="0">
                                  <p:stCondLst>
                                    <p:cond delay="8000"/>
                                  </p:stCondLst>
                                  <p:childTnLst>
                                    <p:animMotion origin="layout" path="M 0.00573 -0.02966 L -0.12813 -0.48146 E">
                                      <p:cBhvr>
                                        <p:cTn id="2355" dur="20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6" fill="hold">
                            <p:stCondLst>
                              <p:cond delay="30000"/>
                            </p:stCondLst>
                            <p:childTnLst>
                              <p:par>
                                <p:cTn id="2357" nodeType="afterEffect" fill="hold" presetClass="path" presetID="0">
                                  <p:stCondLst>
                                    <p:cond delay="8000"/>
                                  </p:stCondLst>
                                  <p:childTnLst>
                                    <p:animMotion origin="layout" path="M 4.72222E-006 5.74606E-007 L 0.47986 -0.48146 E">
                                      <p:cBhvr>
                                        <p:cTn id="2358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9" fill="hold">
                            <p:stCondLst>
                              <p:cond delay="40000"/>
                            </p:stCondLst>
                            <p:childTnLst>
                              <p:par>
                                <p:cTn id="2360" nodeType="afterEffect" fill="hold" presetClass="path" presetID="0">
                                  <p:stCondLst>
                                    <p:cond delay="8000"/>
                                  </p:stCondLst>
                                  <p:childTnLst>
                                    <p:animMotion origin="layout" path="M 0.00399 -0.02965 L -0.5316 -0.33433 E">
                                      <p:cBhvr>
                                        <p:cTn id="2361" dur="2000" fill="hold"/>
                                        <p:tgtEl>
                                          <p:spTgt spid="2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2" fill="hold">
                            <p:stCondLst>
                              <p:cond delay="50000"/>
                            </p:stCondLst>
                            <p:childTnLst>
                              <p:par>
                                <p:cTn id="2363" nodeType="afterEffect" fill="hold" presetClass="path" presetID="0">
                                  <p:stCondLst>
                                    <p:cond delay="8000"/>
                                  </p:stCondLst>
                                  <p:childTnLst>
                                    <p:animMotion origin="layout" path="M 0.01337 -0.0475 L 0.00555 -0.34175 E">
                                      <p:cBhvr>
                                        <p:cTn id="2364" dur="20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5" fill="hold">
                            <p:stCondLst>
                              <p:cond delay="60000"/>
                            </p:stCondLst>
                            <p:childTnLst>
                              <p:par>
                                <p:cTn id="2366" nodeType="afterEffect" fill="hold" presetClass="path" presetID="0">
                                  <p:stCondLst>
                                    <p:cond delay="8500"/>
                                  </p:stCondLst>
                                  <p:childTnLst>
                                    <p:animMotion origin="layout" path="M 2.5E-006 -1.40871E-006 L -0.38976 -0.36585 E">
                                      <p:cBhvr>
                                        <p:cTn id="2367" dur="2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8" fill="hold">
                            <p:stCondLst>
                              <p:cond delay="70500"/>
                            </p:stCondLst>
                            <p:childTnLst>
                              <p:par>
                                <p:cTn id="2369" nodeType="afterEffect" fill="hold" presetClass="path" presetID="0">
                                  <p:stCondLst>
                                    <p:cond delay="8000"/>
                                  </p:stCondLst>
                                  <p:childTnLst>
                                    <p:animMotion origin="layout" path="M 0.00399 -0.02943 L 0.00399 -0.34477 E">
                                      <p:cBhvr>
                                        <p:cTn id="2370" dur="2000" fill="hold"/>
                                        <p:tgtEl>
                                          <p:spTgt spid="2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1" fill="hold">
                            <p:stCondLst>
                              <p:cond delay="80500"/>
                            </p:stCondLst>
                            <p:childTnLst>
                              <p:par>
                                <p:cTn id="2372" nodeType="afterEffect" fill="hold" presetClass="path" presetID="0">
                                  <p:stCondLst>
                                    <p:cond delay="8000"/>
                                  </p:stCondLst>
                                  <p:childTnLst>
                                    <p:animMotion origin="layout" path="M 0.01371 -0.00834 L -0.54549 -0.31325 E">
                                      <p:cBhvr>
                                        <p:cTn id="2373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4" fill="hold">
                            <p:stCondLst>
                              <p:cond delay="90500"/>
                            </p:stCondLst>
                            <p:childTnLst>
                              <p:par>
                                <p:cTn id="2375" nodeType="afterEffect" fill="hold" presetClass="path" presetID="0">
                                  <p:stCondLst>
                                    <p:cond delay="8000"/>
                                  </p:stCondLst>
                                  <p:childTnLst>
                                    <p:animMotion origin="layout" path="M -0.00209 -0.02966 L 0.43107 -0.38693 E">
                                      <p:cBhvr>
                                        <p:cTn id="2376" dur="20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7" fill="hold">
                            <p:stCondLst>
                              <p:cond delay="100500"/>
                            </p:stCondLst>
                            <p:childTnLst>
                              <p:par>
                                <p:cTn id="2378" nodeType="afterEffect" fill="hold" presetClass="path" presetID="0">
                                  <p:stCondLst>
                                    <p:cond delay="8000"/>
                                  </p:stCondLst>
                                  <p:childTnLst>
                                    <p:animMotion origin="layout" path="M -0.00399 -0.02966 L -0.13785 -0.33434 E">
                                      <p:cBhvr>
                                        <p:cTn id="2379" dur="20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0" fill="hold">
                            <p:stCondLst>
                              <p:cond delay="110500"/>
                            </p:stCondLst>
                            <p:childTnLst>
                              <p:par>
                                <p:cTn id="2381" nodeType="afterEffect" fill="hold" presetClass="path" presetID="0">
                                  <p:stCondLst>
                                    <p:cond delay="8000"/>
                                  </p:stCondLst>
                                  <p:childTnLst>
                                    <p:animMotion origin="layout" path="M 0.00573 -0.02966 L 0.1316 -0.26089 E">
                                      <p:cBhvr>
                                        <p:cTn id="2382" dur="20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Litebulb"/>
          <p:cNvSpPr/>
          <p:nvPr/>
        </p:nvSpPr>
        <p:spPr>
          <a:xfrm>
            <a:off x="179280" y="404640"/>
            <a:ext cx="1871640" cy="1513080"/>
          </a:xfrm>
          <a:prstGeom prst="pie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tebulb"/>
          <p:cNvSpPr/>
          <p:nvPr/>
        </p:nvSpPr>
        <p:spPr>
          <a:xfrm>
            <a:off x="179280" y="4653000"/>
            <a:ext cx="1754280" cy="1589040"/>
          </a:xfrm>
          <a:prstGeom prst="pie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tebulb"/>
          <p:cNvSpPr/>
          <p:nvPr/>
        </p:nvSpPr>
        <p:spPr>
          <a:xfrm>
            <a:off x="250920" y="2421000"/>
            <a:ext cx="1873080" cy="1655640"/>
          </a:xfrm>
          <a:prstGeom prst="pie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826920" y="404640"/>
            <a:ext cx="64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84360" y="2421000"/>
            <a:ext cx="934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826920" y="4581360"/>
            <a:ext cx="10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268360" y="3645000"/>
            <a:ext cx="208764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716360" y="3645000"/>
            <a:ext cx="223200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308720" y="3645000"/>
            <a:ext cx="165600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411280" y="2492280"/>
            <a:ext cx="1800360" cy="1152720"/>
          </a:xfrm>
          <a:prstGeom prst="roundRect">
            <a:avLst>
              <a:gd name="adj" fmla="val 16667"/>
            </a:avLst>
          </a:prstGeom>
          <a:solidFill>
            <a:srgbClr val="1aa917"/>
          </a:solidFill>
          <a:ln w="9360">
            <a:solidFill>
              <a:srgbClr val="1aa9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932360" y="2492280"/>
            <a:ext cx="1727280" cy="1152720"/>
          </a:xfrm>
          <a:prstGeom prst="roundRect">
            <a:avLst>
              <a:gd name="adj" fmla="val 16667"/>
            </a:avLst>
          </a:prstGeom>
          <a:solidFill>
            <a:srgbClr val="f1ee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36000" y="2492280"/>
            <a:ext cx="1728720" cy="1152720"/>
          </a:xfrm>
          <a:prstGeom prst="roundRect">
            <a:avLst>
              <a:gd name="adj" fmla="val 16667"/>
            </a:avLst>
          </a:prstGeom>
          <a:solidFill>
            <a:srgbClr val="59b2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211640" y="2997360"/>
            <a:ext cx="720720" cy="71280"/>
          </a:xfrm>
          <a:prstGeom prst="leftRightArrow">
            <a:avLst>
              <a:gd name="adj1" fmla="val 50000"/>
              <a:gd name="adj2" fmla="val 2012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659640" y="2997360"/>
            <a:ext cx="649080" cy="71280"/>
          </a:xfrm>
          <a:prstGeom prst="leftRightArrow">
            <a:avLst>
              <a:gd name="adj1" fmla="val 50000"/>
              <a:gd name="adj2" fmla="val 18127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627280" y="2708280"/>
            <a:ext cx="144360" cy="433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564000" y="2997360"/>
            <a:ext cx="43164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076720" y="2708280"/>
            <a:ext cx="142920" cy="433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156360" y="2924280"/>
            <a:ext cx="287280" cy="64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451640" y="2708280"/>
            <a:ext cx="21600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88360" y="2852640"/>
            <a:ext cx="21600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268360" y="1413000"/>
            <a:ext cx="187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716360" y="1484280"/>
            <a:ext cx="208764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236000" y="1484280"/>
            <a:ext cx="190800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340000" y="404640"/>
            <a:ext cx="1800360" cy="1008360"/>
          </a:xfrm>
          <a:prstGeom prst="roundRect">
            <a:avLst>
              <a:gd name="adj" fmla="val 16667"/>
            </a:avLst>
          </a:prstGeom>
          <a:solidFill>
            <a:srgbClr val="f1ee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788000" y="404640"/>
            <a:ext cx="1944720" cy="1079640"/>
          </a:xfrm>
          <a:prstGeom prst="roundRect">
            <a:avLst>
              <a:gd name="adj" fmla="val 16667"/>
            </a:avLst>
          </a:prstGeom>
          <a:solidFill>
            <a:srgbClr val="1aa917"/>
          </a:solidFill>
          <a:ln w="9360">
            <a:solidFill>
              <a:srgbClr val="1aa9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308720" y="404640"/>
            <a:ext cx="1656000" cy="1079640"/>
          </a:xfrm>
          <a:prstGeom prst="roundRect">
            <a:avLst>
              <a:gd name="adj" fmla="val 16667"/>
            </a:avLst>
          </a:prstGeom>
          <a:solidFill>
            <a:srgbClr val="59b2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556000" y="549360"/>
            <a:ext cx="28728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564000" y="620640"/>
            <a:ext cx="36036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003640" y="476280"/>
            <a:ext cx="14472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300720" y="620640"/>
            <a:ext cx="287280" cy="79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524720" y="476280"/>
            <a:ext cx="216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8459640" y="692280"/>
            <a:ext cx="43344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140360" y="907920"/>
            <a:ext cx="647640" cy="73080"/>
          </a:xfrm>
          <a:prstGeom prst="leftRightArrow">
            <a:avLst>
              <a:gd name="adj1" fmla="val 50000"/>
              <a:gd name="adj2" fmla="val 1764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732720" y="836640"/>
            <a:ext cx="576000" cy="71280"/>
          </a:xfrm>
          <a:prstGeom prst="leftRightArrow">
            <a:avLst>
              <a:gd name="adj1" fmla="val 50000"/>
              <a:gd name="adj2" fmla="val 16086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124000" y="5877000"/>
            <a:ext cx="223200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716360" y="5877000"/>
            <a:ext cx="216072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164360" y="5877000"/>
            <a:ext cx="180036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268360" y="4797360"/>
            <a:ext cx="1943280" cy="1079640"/>
          </a:xfrm>
          <a:prstGeom prst="roundRect">
            <a:avLst>
              <a:gd name="adj" fmla="val 16667"/>
            </a:avLst>
          </a:prstGeom>
          <a:solidFill>
            <a:srgbClr val="f1ee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859280" y="4797360"/>
            <a:ext cx="1800360" cy="1079640"/>
          </a:xfrm>
          <a:prstGeom prst="roundRect">
            <a:avLst>
              <a:gd name="adj" fmla="val 16667"/>
            </a:avLst>
          </a:prstGeom>
          <a:solidFill>
            <a:srgbClr val="1aa917"/>
          </a:solidFill>
          <a:ln w="9360">
            <a:solidFill>
              <a:srgbClr val="1aa9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236000" y="4797360"/>
            <a:ext cx="1728720" cy="1079640"/>
          </a:xfrm>
          <a:prstGeom prst="roundRect">
            <a:avLst>
              <a:gd name="adj" fmla="val 16667"/>
            </a:avLst>
          </a:prstGeom>
          <a:solidFill>
            <a:srgbClr val="59b2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411280" y="4941720"/>
            <a:ext cx="216000" cy="503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708360" y="5300640"/>
            <a:ext cx="21600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003640" y="4941720"/>
            <a:ext cx="144720" cy="35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084720" y="5157720"/>
            <a:ext cx="358920" cy="64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80360" y="4941720"/>
            <a:ext cx="28728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8532720" y="5157720"/>
            <a:ext cx="28728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1640" y="5373720"/>
            <a:ext cx="576360" cy="71280"/>
          </a:xfrm>
          <a:prstGeom prst="leftRightArrow">
            <a:avLst>
              <a:gd name="adj1" fmla="val 50000"/>
              <a:gd name="adj2" fmla="val 16096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659640" y="5373720"/>
            <a:ext cx="576360" cy="71280"/>
          </a:xfrm>
          <a:prstGeom prst="leftRightArrow">
            <a:avLst>
              <a:gd name="adj1" fmla="val 50000"/>
              <a:gd name="adj2" fmla="val 16096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372360" y="4508640"/>
            <a:ext cx="360360" cy="288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03480" y="1792440"/>
            <a:ext cx="205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,YOU,HE,SHE,I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,TH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911840" y="3881520"/>
            <a:ext cx="205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,YOU,HE,SHE,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,TH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128200" y="1865160"/>
            <a:ext cx="146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, IS,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040920" y="359244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464200" y="3952800"/>
            <a:ext cx="152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, IS, 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056920" y="6256440"/>
            <a:ext cx="146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, IS,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030760" y="6184800"/>
            <a:ext cx="267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, YOU, HE, SHE, IT,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093080" y="1865160"/>
            <a:ext cx="219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тальные с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093080" y="3952800"/>
            <a:ext cx="219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тальные с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145640" y="6184800"/>
            <a:ext cx="206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тальные с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659640" y="4365720"/>
            <a:ext cx="776160" cy="368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042800" y="-6480"/>
            <a:ext cx="15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REME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split dir="in" orient="vert"/>
  </p:transition>
  <p:timing>
    <p:tnLst>
      <p:par>
        <p:cTn id="2383" dur="indefinite" restart="never" nodeType="tmRoot">
          <p:childTnLst>
            <p:seq>
              <p:cTn id="2384" dur="indefinite" nodeType="mainSeq">
                <p:childTnLst>
                  <p:par>
                    <p:cTn id="2385" fill="hold">
                      <p:stCondLst>
                        <p:cond delay="0"/>
                      </p:stCondLst>
                      <p:childTnLst>
                        <p:par>
                          <p:cTn id="2386" fill="hold">
                            <p:stCondLst>
                              <p:cond delay="0"/>
                            </p:stCondLst>
                            <p:childTnLst>
                              <p:par>
                                <p:cTn id="2387" nodeType="after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9" dur="77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90" dur="77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92" dur="77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94" dur="77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7" nodeType="afterEffect" fill="hold" presetClass="emph" presetID="1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398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399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400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40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4" fill="hold">
                            <p:stCondLst>
                              <p:cond delay="3000"/>
                            </p:stCondLst>
                            <p:childTnLst>
                              <p:par>
                                <p:cTn id="2415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1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7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1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2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3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5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6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8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0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1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3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4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6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8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9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1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2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4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6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7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2" fill="hold">
                            <p:stCondLst>
                              <p:cond delay="6000"/>
                            </p:stCondLst>
                            <p:childTnLst>
                              <p:par>
                                <p:cTn id="26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5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8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9" fill="hold">
                            <p:stCondLst>
                              <p:cond delay="8000"/>
                            </p:stCondLst>
                            <p:childTnLst>
                              <p:par>
                                <p:cTn id="2700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01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2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03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4" fill="hold">
                            <p:stCondLst>
                              <p:cond delay="9000"/>
                            </p:stCondLst>
                            <p:childTnLst>
                              <p:par>
                                <p:cTn id="270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9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0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1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2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1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6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7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8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9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2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3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4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5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6" fill="hold">
                            <p:stCondLst>
                              <p:cond delay="11500"/>
                            </p:stCondLst>
                            <p:childTnLst>
                              <p:par>
                                <p:cTn id="2827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28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9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30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1" fill="hold">
                            <p:stCondLst>
                              <p:cond delay="12500"/>
                            </p:stCondLst>
                            <p:childTnLst>
                              <p:par>
                                <p:cTn id="283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6" fill="hold">
                      <p:stCondLst>
                        <p:cond delay="indefinite"/>
                      </p:stCondLst>
                      <p:childTnLst>
                        <p:par>
                          <p:cTn id="2947" fill="hold">
                            <p:stCondLst>
                              <p:cond delay="0"/>
                            </p:stCondLst>
                            <p:childTnLst>
                              <p:par>
                                <p:cTn id="2948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949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950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951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952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042920" y="3284640"/>
            <a:ext cx="6697800" cy="1191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Neurochrome"/>
              </a:rPr>
              <a:t>THE EN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408560" y="4097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split dir="in" orient="vert"/>
  </p:transition>
  <p:timing>
    <p:tnLst>
      <p:par>
        <p:cTn id="2953" dur="indefinite" restart="never" nodeType="tmRoot">
          <p:childTnLst>
            <p:seq>
              <p:cTn id="2954" dur="indefinite" nodeType="mainSeq">
                <p:childTnLst>
                  <p:par>
                    <p:cTn id="2955" fill="hold">
                      <p:stCondLst>
                        <p:cond delay="0"/>
                      </p:stCondLst>
                      <p:childTnLst>
                        <p:par>
                          <p:cTn id="2956" fill="hold">
                            <p:stCondLst>
                              <p:cond delay="0"/>
                            </p:stCondLst>
                            <p:childTnLst>
                              <p:par>
                                <p:cTn id="2957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9" dur="15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0" dur="15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1" nodeType="withEffect" fill="hold" presetClass="entr" presetID="2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3" dur="15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4" dur="15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79280" y="1916280"/>
            <a:ext cx="8964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Neurochrome"/>
              </a:rPr>
              <a:t>На далекой Планете </a:t>
            </a:r>
            <a:r>
              <a:rPr b="0" lang="en-US" sz="3200" spc="-1" strike="noStrike">
                <a:solidFill>
                  <a:srgbClr val="a50021"/>
                </a:solidFill>
                <a:latin typeface="Neurochrome"/>
              </a:rPr>
              <a:t>-</a:t>
            </a:r>
            <a:r>
              <a:rPr b="0" lang="ru-RU" sz="3200" spc="-1" strike="noStrike">
                <a:solidFill>
                  <a:srgbClr val="a50021"/>
                </a:solidFill>
                <a:latin typeface="Neurochrome"/>
              </a:rPr>
              <a:t>Грамматика жил был король глагол-</a:t>
            </a:r>
            <a:r>
              <a:rPr b="0" lang="en-US" sz="3200" spc="-1" strike="noStrike">
                <a:solidFill>
                  <a:srgbClr val="000066"/>
                </a:solidFill>
                <a:latin typeface="Neurochrome"/>
              </a:rPr>
              <a:t>TO BE.</a:t>
            </a:r>
            <a:r>
              <a:rPr b="0" lang="ru-RU" sz="3200" spc="-1" strike="noStrike">
                <a:solidFill>
                  <a:srgbClr val="a50021"/>
                </a:solidFill>
                <a:latin typeface="Neurochrome"/>
              </a:rPr>
              <a:t>Он  был сильный , гордый и могуществен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904000" y="3976560"/>
            <a:ext cx="3240000" cy="2881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378240" cy="2851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081280" y="395280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split dir="in" orient="ver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52">
                                  <p:stCondLst>
                                    <p:cond delay="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6000"/>
                            </p:stCondLst>
                            <p:childTnLst>
                              <p:par>
                                <p:cTn id="79" nodeType="afterEffect" fill="hold" presetClass="entr" presetID="5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77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" dur="770" fill="hold"/>
                                        <p:tgtEl>
                                          <p:spTgt spid="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4" dur="77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" dur="77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63480" y="666720"/>
            <a:ext cx="862524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Neurochrome"/>
              </a:rPr>
              <a:t>Он был так горд ,что обходился без помощников и слу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Neurochrome"/>
              </a:rPr>
              <a:t>в построении всех предложений. Все решения о судьб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Neurochrome"/>
              </a:rPr>
              <a:t>своего королевства принимал сам. На Планете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Neurochrome"/>
              </a:rPr>
              <a:t> </a:t>
            </a:r>
            <a:r>
              <a:rPr b="0" lang="ru-RU" sz="2400" spc="-1" strike="noStrike">
                <a:solidFill>
                  <a:srgbClr val="a50021"/>
                </a:solidFill>
                <a:latin typeface="Neurochrome"/>
              </a:rPr>
              <a:t>Грамматика не многим глаголам было это под сил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Neurochrome"/>
              </a:rPr>
              <a:t>Король издавал указы, которые все жители эт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Neurochrome"/>
              </a:rPr>
              <a:t>Королевства строго выполня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3200" spc="-1" strike="noStrike">
                <a:solidFill>
                  <a:srgbClr val="663300"/>
                </a:solidFill>
                <a:latin typeface="Neurochrome"/>
              </a:rPr>
              <a:t>Один из указов гласи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11280" y="3357720"/>
            <a:ext cx="8280360" cy="3095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232160" y="372276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УК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403280" y="4149720"/>
            <a:ext cx="691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ff"/>
                </a:solidFill>
                <a:latin typeface="Monotype Corsiva"/>
              </a:rPr>
              <a:t>Все члены предложения стоят 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Monotype Corsiva"/>
              </a:rPr>
              <a:t>        </a:t>
            </a:r>
            <a:r>
              <a:rPr b="0" lang="en-US" sz="3200" spc="-1" strike="noStrike">
                <a:solidFill>
                  <a:srgbClr val="0000ff"/>
                </a:solidFill>
                <a:latin typeface="Monotype Corsiva"/>
              </a:rPr>
              <a:t>определенном поряд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3000">
    <p:split dir="in" orient="ver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41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1">
                                  <p:stCondLst>
                                    <p:cond delay="8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1">
                                  <p:stCondLst>
                                    <p:cond delay="8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1">
                                  <p:stCondLst>
                                    <p:cond delay="8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650"/>
                            </p:stCondLst>
                            <p:childTnLst>
                              <p:par>
                                <p:cTn id="121" nodeType="afterEffect" fill="hold" presetClass="entr" presetID="56">
                                  <p:stCondLst>
                                    <p:cond delay="5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6">
                                  <p:stCondLst>
                                    <p:cond delay="6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750"/>
                            </p:stCondLst>
                            <p:childTnLst>
                              <p:par>
                                <p:cTn id="134" nodeType="afterEffect" fill="hold" presetClass="entr" presetID="3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3250"/>
                            </p:stCondLst>
                            <p:childTnLst>
                              <p:par>
                                <p:cTn id="141" nodeType="afterEffect" fill="hold" presetClass="entr" presetID="31">
                                  <p:stCondLst>
                                    <p:cond delay="5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550"/>
                            </p:stCondLst>
                            <p:childTnLst>
                              <p:par>
                                <p:cTn id="148" nodeType="afterEffect" fill="hold" presetClass="entr" presetID="29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9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8050"/>
                            </p:stCondLst>
                            <p:childTnLst>
                              <p:par>
                                <p:cTn id="159" nodeType="afterEffect" fill="hold" presetClass="emph" presetID="21">
                                  <p:stCondLst>
                                    <p:cond delay="5500"/>
                                  </p:stCondLst>
                                  <p:childTnLst>
                                    <p:animClr clrSpc="hsl" dir="cw">
                                      <p:cBhvr>
                                        <p:cTn id="16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6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mph" presetID="21">
                                  <p:stCondLst>
                                    <p:cond delay="5500"/>
                                  </p:stCondLst>
                                  <p:childTnLst>
                                    <p:animClr clrSpc="hsl" dir="cw">
                                      <p:cBhvr>
                                        <p:cTn id="165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6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16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50920" y="423720"/>
            <a:ext cx="8611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Monotype Corsiva"/>
              </a:rPr>
              <a:t>ПОРЯДОК СЛОВ В ПОВЕСТВОВАТЕЛЬ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Monotype Corsiva"/>
              </a:rPr>
              <a:t>         </a:t>
            </a:r>
            <a:r>
              <a:rPr b="0" lang="en-US" sz="3200" spc="-1" strike="noStrike">
                <a:solidFill>
                  <a:srgbClr val="cc6600"/>
                </a:solidFill>
                <a:latin typeface="Monotype Corsiva"/>
              </a:rPr>
              <a:t>АНГЛИЙСКОМ ПРЕДЛОЖЕ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1916280"/>
            <a:ext cx="82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ПОДЛЕЖАЩЕЕ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СКАЗУЕМОЕ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ДОПОЛ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44240" y="2427120"/>
            <a:ext cx="259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Действующ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лиц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378960" y="2408400"/>
            <a:ext cx="192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Действие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280200" y="2440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62160" y="2427120"/>
            <a:ext cx="32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Остальные с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59280" y="3141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140360" y="3284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43480" y="3232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79480" y="5105520"/>
            <a:ext cx="197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, YOU, HE, SH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, WE, Th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129280" y="46004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5640" y="4581360"/>
            <a:ext cx="2448000" cy="287640"/>
          </a:xfrm>
          <a:prstGeom prst="ellipse">
            <a:avLst/>
          </a:prstGeom>
          <a:solidFill>
            <a:srgbClr val="cbe7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35280" y="4581360"/>
            <a:ext cx="2305080" cy="28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516720" y="4581360"/>
            <a:ext cx="2376360" cy="28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24360" y="3573360"/>
            <a:ext cx="1655640" cy="1008000"/>
          </a:xfrm>
          <a:prstGeom prst="roundRect">
            <a:avLst>
              <a:gd name="adj" fmla="val 16667"/>
            </a:avLst>
          </a:prstGeom>
          <a:solidFill>
            <a:srgbClr val="1aa9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16000" y="3573360"/>
            <a:ext cx="1584360" cy="1008000"/>
          </a:xfrm>
          <a:prstGeom prst="roundRect">
            <a:avLst>
              <a:gd name="adj" fmla="val 16667"/>
            </a:avLst>
          </a:prstGeom>
          <a:solidFill>
            <a:srgbClr val="f1ee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04000" y="3573360"/>
            <a:ext cx="1800360" cy="1008000"/>
          </a:xfrm>
          <a:prstGeom prst="roundRect">
            <a:avLst>
              <a:gd name="adj" fmla="val 16667"/>
            </a:avLst>
          </a:prstGeom>
          <a:solidFill>
            <a:srgbClr val="47a6a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03280" y="3860640"/>
            <a:ext cx="21600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24000" y="3933720"/>
            <a:ext cx="287280" cy="57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067280" y="3716280"/>
            <a:ext cx="288720" cy="433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932360" y="3933720"/>
            <a:ext cx="360360" cy="57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020000" y="3789360"/>
            <a:ext cx="21600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956720" y="3860640"/>
            <a:ext cx="360360" cy="64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700360" y="4221000"/>
            <a:ext cx="1295280" cy="71640"/>
          </a:xfrm>
          <a:prstGeom prst="rightArrowCallout">
            <a:avLst>
              <a:gd name="adj1" fmla="val 25002"/>
              <a:gd name="adj2" fmla="val 25000"/>
              <a:gd name="adj3" fmla="val 301340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4221000"/>
            <a:ext cx="1297080" cy="71640"/>
          </a:xfrm>
          <a:prstGeom prst="rightArrowCallout">
            <a:avLst>
              <a:gd name="adj1" fmla="val 25002"/>
              <a:gd name="adj2" fmla="val 25000"/>
              <a:gd name="adj3" fmla="val 301759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00360" y="3933720"/>
            <a:ext cx="1224000" cy="71640"/>
          </a:xfrm>
          <a:prstGeom prst="leftRightArrow">
            <a:avLst>
              <a:gd name="adj1" fmla="val 50000"/>
              <a:gd name="adj2" fmla="val 34012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580000" y="3860640"/>
            <a:ext cx="1224000" cy="73080"/>
          </a:xfrm>
          <a:prstGeom prst="leftRightArrow">
            <a:avLst>
              <a:gd name="adj1" fmla="val 50000"/>
              <a:gd name="adj2" fmla="val 3334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split dir="in" orient="vert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5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8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mph" presetID="30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8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8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8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84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mph" presetID="30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86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8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8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89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500"/>
                            </p:stCondLst>
                            <p:childTnLst>
                              <p:par>
                                <p:cTn id="19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4500"/>
                            </p:stCondLst>
                            <p:childTnLst>
                              <p:par>
                                <p:cTn id="19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0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0"/>
                            </p:stCondLst>
                            <p:childTnLst>
                              <p:par>
                                <p:cTn id="20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0"/>
                            </p:stCondLst>
                            <p:childTnLst>
                              <p:par>
                                <p:cTn id="20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0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7000"/>
                            </p:stCondLst>
                            <p:childTnLst>
                              <p:par>
                                <p:cTn id="212" nodeType="after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79840" y="609480"/>
            <a:ext cx="2936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16200" y="1432080"/>
            <a:ext cx="884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616200" y="1144440"/>
            <a:ext cx="81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59280" y="368280"/>
            <a:ext cx="374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REMEMB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981000"/>
            <a:ext cx="8820000" cy="74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Neurochrome"/>
              </a:rPr>
              <a:t>По-русски </a:t>
            </a:r>
            <a:r>
              <a:rPr b="0" lang="en-US" sz="2400" spc="-1" strike="noStrike">
                <a:solidFill>
                  <a:srgbClr val="000000"/>
                </a:solidFill>
                <a:latin typeface="Neurochrome"/>
              </a:rPr>
              <a:t>TO BE</a:t>
            </a:r>
            <a:r>
              <a:rPr b="0" lang="ru-RU" sz="2400" spc="-1" strike="noStrike">
                <a:solidFill>
                  <a:srgbClr val="000000"/>
                </a:solidFill>
                <a:latin typeface="Neurochrome"/>
              </a:rPr>
              <a:t> значит «быть, находиться». Давайте </a:t>
            </a:r>
            <a:r>
              <a:rPr b="0" lang="en-US" sz="2400" spc="-1" strike="noStrike">
                <a:solidFill>
                  <a:srgbClr val="000000"/>
                </a:solidFill>
                <a:latin typeface="Neurochrom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Neurochrome"/>
              </a:rPr>
              <a:t>проспрягаем его по временам: Вчера мы </a:t>
            </a:r>
            <a:r>
              <a:rPr b="1" lang="ru-RU" sz="2400" spc="-1" strike="noStrike">
                <a:solidFill>
                  <a:srgbClr val="000000"/>
                </a:solidFill>
                <a:latin typeface="Neurochrome"/>
              </a:rPr>
              <a:t>были</a:t>
            </a:r>
            <a:r>
              <a:rPr b="0" lang="ru-RU" sz="2400" spc="-1" strike="noStrike">
                <a:solidFill>
                  <a:srgbClr val="000000"/>
                </a:solidFill>
                <a:latin typeface="Neurochrome"/>
              </a:rPr>
              <a:t> на Планете -Грамматика.</a:t>
            </a:r>
            <a:r>
              <a:rPr b="1" lang="ru-RU" sz="2400" spc="-1" strike="noStrike">
                <a:solidFill>
                  <a:srgbClr val="000000"/>
                </a:solidFill>
                <a:latin typeface="Neurochrome"/>
              </a:rPr>
              <a:t>Сегодня</a:t>
            </a:r>
            <a:r>
              <a:rPr b="0" lang="ru-RU" sz="2400" spc="-1" strike="noStrike">
                <a:solidFill>
                  <a:srgbClr val="000000"/>
                </a:solidFill>
                <a:latin typeface="Neurochrome"/>
              </a:rPr>
              <a:t> мы </a:t>
            </a:r>
            <a:r>
              <a:rPr b="1" lang="ru-RU" sz="2400" spc="-1" strike="noStrike">
                <a:solidFill>
                  <a:srgbClr val="000000"/>
                </a:solidFill>
                <a:latin typeface="Neurochrome"/>
              </a:rPr>
              <a:t>есть</a:t>
            </a:r>
            <a:r>
              <a:rPr b="0" lang="ru-RU" sz="2400" spc="-1" strike="noStrike">
                <a:solidFill>
                  <a:srgbClr val="000000"/>
                </a:solidFill>
                <a:latin typeface="Neurochrome"/>
              </a:rPr>
              <a:t> на Планете- Граммати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Neurochrome"/>
              </a:rPr>
              <a:t>Завтра</a:t>
            </a:r>
            <a:r>
              <a:rPr b="0" lang="ru-RU" sz="2400" spc="-1" strike="noStrike">
                <a:solidFill>
                  <a:srgbClr val="000000"/>
                </a:solidFill>
                <a:latin typeface="Neurochrome"/>
              </a:rPr>
              <a:t> мы </a:t>
            </a:r>
            <a:r>
              <a:rPr b="1" lang="ru-RU" sz="2400" spc="-1" strike="noStrike">
                <a:solidFill>
                  <a:srgbClr val="000000"/>
                </a:solidFill>
                <a:latin typeface="Neurochrome"/>
              </a:rPr>
              <a:t>будем</a:t>
            </a:r>
            <a:r>
              <a:rPr b="0" lang="ru-RU" sz="2400" spc="-1" strike="noStrike">
                <a:solidFill>
                  <a:srgbClr val="000000"/>
                </a:solidFill>
                <a:latin typeface="Neurochrome"/>
              </a:rPr>
              <a:t> на Планете</a:t>
            </a:r>
            <a:r>
              <a:rPr b="0" lang="en-US" sz="2400" spc="-1" strike="noStrike">
                <a:solidFill>
                  <a:srgbClr val="000000"/>
                </a:solidFill>
                <a:latin typeface="Neurochrome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Neurochrome"/>
              </a:rPr>
              <a:t> Грамматика.</a:t>
            </a:r>
            <a:r>
              <a:rPr b="0" lang="en-US" sz="2400" spc="-1" strike="noStrike">
                <a:solidFill>
                  <a:srgbClr val="000000"/>
                </a:solidFill>
                <a:latin typeface="Neurochrome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Neurochrome"/>
              </a:rPr>
              <a:t>Был, есть, буду-</a:t>
            </a:r>
            <a:r>
              <a:rPr b="0" lang="ru-RU" sz="2400" spc="-1" strike="noStrike">
                <a:solidFill>
                  <a:srgbClr val="000000"/>
                </a:solidFill>
                <a:latin typeface="Neurochrome"/>
              </a:rPr>
              <a:t> все это глагол </a:t>
            </a:r>
            <a:r>
              <a:rPr b="1" lang="en-US" sz="2400" spc="-1" strike="noStrike">
                <a:solidFill>
                  <a:srgbClr val="000000"/>
                </a:solidFill>
                <a:latin typeface="Neurochrome"/>
              </a:rPr>
              <a:t>TO BE</a:t>
            </a:r>
            <a:r>
              <a:rPr b="0" lang="en-US" sz="2400" spc="-1" strike="noStrike">
                <a:solidFill>
                  <a:srgbClr val="000000"/>
                </a:solidFill>
                <a:latin typeface="Neurochrom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Neurochrome"/>
              </a:rPr>
              <a:t>Мы есть</a:t>
            </a:r>
            <a:r>
              <a:rPr b="0" lang="ru-RU" sz="2400" spc="-1" strike="noStrike">
                <a:solidFill>
                  <a:srgbClr val="000000"/>
                </a:solidFill>
                <a:latin typeface="Neurochrome"/>
              </a:rPr>
              <a:t> на Планете</a:t>
            </a:r>
            <a:r>
              <a:rPr b="0" lang="en-US" sz="2400" spc="-1" strike="noStrike">
                <a:solidFill>
                  <a:srgbClr val="000000"/>
                </a:solidFill>
                <a:latin typeface="Neurochrome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Neurochrome"/>
              </a:rPr>
              <a:t> Грамматика- как странно звучи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Neurochrome"/>
              </a:rPr>
              <a:t>правда</a:t>
            </a:r>
            <a:r>
              <a:rPr b="0" lang="en-US" sz="2400" spc="-1" strike="noStrike">
                <a:solidFill>
                  <a:srgbClr val="000000"/>
                </a:solidFill>
                <a:latin typeface="Neurochrome"/>
              </a:rPr>
              <a:t>?</a:t>
            </a:r>
            <a:r>
              <a:rPr b="0" lang="ru-RU" sz="2400" spc="-1" strike="noStrike">
                <a:solidFill>
                  <a:srgbClr val="000000"/>
                </a:solidFill>
                <a:latin typeface="Neurochrom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Neurochrome"/>
              </a:rPr>
              <a:t>В русском языке мы опускаем этот глагол «</a:t>
            </a:r>
            <a:r>
              <a:rPr b="1" lang="ru-RU" sz="2400" spc="-1" strike="noStrike">
                <a:solidFill>
                  <a:srgbClr val="000000"/>
                </a:solidFill>
                <a:latin typeface="Neurochrome"/>
              </a:rPr>
              <a:t>ЕСТЬ»</a:t>
            </a:r>
            <a:r>
              <a:rPr b="0" lang="ru-RU" sz="2400" spc="-1" strike="noStrike">
                <a:solidFill>
                  <a:srgbClr val="000000"/>
                </a:solidFill>
                <a:latin typeface="Neurochrome"/>
              </a:rPr>
              <a:t> .Мы бы сказа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Neurochrom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Neurochrome"/>
              </a:rPr>
              <a:t>Мы -на Планете</a:t>
            </a:r>
            <a:r>
              <a:rPr b="0" lang="en-US" sz="2400" spc="-1" strike="noStrike">
                <a:solidFill>
                  <a:srgbClr val="000000"/>
                </a:solidFill>
                <a:latin typeface="Neurochrome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Neurochrome"/>
              </a:rPr>
              <a:t> Граммати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LET’S REMEMB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англичане очень уважают  этот глагол и никогд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его не теряю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split dir="in" orient="vert"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77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3" dur="77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5" dur="77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7" dur="77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2000"/>
                            </p:stCondLst>
                            <p:childTnLst>
                              <p:par>
                                <p:cTn id="530" nodeType="after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1" dur="indefinite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2200"/>
                            </p:stCondLst>
                            <p:childTnLst>
                              <p:par>
                                <p:cTn id="533" nodeType="afterEffect" fill="hold" presetClass="entr" presetID="25">
                                  <p:stCondLst>
                                    <p:cond delay="8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1200"/>
                            </p:stCondLst>
                            <p:childTnLst>
                              <p:par>
                                <p:cTn id="544" nodeType="afterEffect" fill="hold" presetClass="exit" presetID="41">
                                  <p:stCondLst>
                                    <p:cond delay="8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45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9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26400"/>
                            </p:stCondLst>
                            <p:childTnLst>
                              <p:par>
                                <p:cTn id="552" nodeType="afterEffect" fill="hold" presetClass="entr" presetID="41">
                                  <p:stCondLst>
                                    <p:cond delay="10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40100"/>
                            </p:stCondLst>
                            <p:childTnLst>
                              <p:par>
                                <p:cTn id="560" nodeType="afterEffect" fill="hold" presetClass="exit" presetID="56">
                                  <p:stCondLst>
                                    <p:cond delay="10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561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2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5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57500"/>
                            </p:stCondLst>
                            <p:childTnLst>
                              <p:par>
                                <p:cTn id="56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58500"/>
                            </p:stCondLst>
                            <p:childTnLst>
                              <p:par>
                                <p:cTn id="580" nodeType="afterEffect" fill="hold" presetClass="exit" presetID="34">
                                  <p:stCondLst>
                                    <p:cond delay="350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5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2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xit" presetID="34">
                                  <p:stCondLst>
                                    <p:cond delay="350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5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7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63000"/>
                            </p:stCondLst>
                            <p:childTnLst>
                              <p:par>
                                <p:cTn id="591" nodeType="afterEffect" fill="hold" presetClass="entr" presetID="56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69600"/>
                            </p:stCondLst>
                            <p:childTnLst>
                              <p:par>
                                <p:cTn id="5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0" dur="8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1" dur="8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2" dur="8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70600"/>
                            </p:stCondLst>
                            <p:childTnLst>
                              <p:par>
                                <p:cTn id="604" nodeType="afterEffect" fill="hold" presetClass="exit" presetID="37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05" dur="1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nodeType="withEffect" fill="hold" presetClass="exit" presetID="37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11" dur="1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1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73100"/>
                            </p:stCondLst>
                            <p:childTnLst>
                              <p:par>
                                <p:cTn id="6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1" dur="10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74100"/>
                            </p:stCondLst>
                            <p:childTnLst>
                              <p:par>
                                <p:cTn id="62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4" dur="2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76100"/>
                            </p:stCondLst>
                            <p:childTnLst>
                              <p:par>
                                <p:cTn id="62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80900"/>
                            </p:stCondLst>
                            <p:childTnLst>
                              <p:par>
                                <p:cTn id="639" nodeType="afterEffect" fill="hold" presetClass="exit" presetID="40">
                                  <p:stCondLst>
                                    <p:cond delay="3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40" dur="100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1" dur="100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xit" presetID="40">
                                  <p:stCondLst>
                                    <p:cond delay="3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45" dur="1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1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297960" y="33480"/>
            <a:ext cx="244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СРАВНИ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1989000"/>
            <a:ext cx="2160720" cy="287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72360" y="1916280"/>
            <a:ext cx="252072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26920" y="4365720"/>
            <a:ext cx="2376720" cy="35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35280" y="4365720"/>
            <a:ext cx="2160720" cy="35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516720" y="4365720"/>
            <a:ext cx="2376360" cy="28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00000" y="981000"/>
            <a:ext cx="1943280" cy="1008000"/>
          </a:xfrm>
          <a:prstGeom prst="roundRect">
            <a:avLst>
              <a:gd name="adj" fmla="val 16667"/>
            </a:avLst>
          </a:prstGeom>
          <a:solidFill>
            <a:srgbClr val="e4df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88000" y="981000"/>
            <a:ext cx="2087640" cy="935280"/>
          </a:xfrm>
          <a:prstGeom prst="roundRect">
            <a:avLst>
              <a:gd name="adj" fmla="val 16667"/>
            </a:avLst>
          </a:prstGeom>
          <a:solidFill>
            <a:srgbClr val="449d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3357720"/>
            <a:ext cx="1944720" cy="1008000"/>
          </a:xfrm>
          <a:prstGeom prst="roundRect">
            <a:avLst>
              <a:gd name="adj" fmla="val 16667"/>
            </a:avLst>
          </a:prstGeom>
          <a:solidFill>
            <a:srgbClr val="e4df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708360" y="3357720"/>
            <a:ext cx="1943280" cy="1008000"/>
          </a:xfrm>
          <a:prstGeom prst="roundRect">
            <a:avLst>
              <a:gd name="adj" fmla="val 16667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59640" y="3357720"/>
            <a:ext cx="2016000" cy="1008000"/>
          </a:xfrm>
          <a:prstGeom prst="roundRect">
            <a:avLst>
              <a:gd name="adj" fmla="val 16667"/>
            </a:avLst>
          </a:prstGeom>
          <a:solidFill>
            <a:srgbClr val="449d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41280" y="21463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490640" y="947880"/>
            <a:ext cx="4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Neurochrome"/>
              </a:rPr>
              <a:t>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867280" y="21337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425640" y="1979640"/>
            <a:ext cx="2334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АНЕТЕ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ММАТ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386000" y="5075280"/>
            <a:ext cx="83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073760" y="4941720"/>
            <a:ext cx="1017360" cy="581400"/>
          </a:xfrm>
          <a:prstGeom prst="rect">
            <a:avLst/>
          </a:prstGeom>
          <a:noFill/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"/>
              </a:rPr>
              <a:t>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14360" y="5032440"/>
            <a:ext cx="197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e Pla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mm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87280" y="3429000"/>
            <a:ext cx="21600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411280" y="3716280"/>
            <a:ext cx="21600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16000" y="1125360"/>
            <a:ext cx="216000" cy="35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340000" y="1341360"/>
            <a:ext cx="216000" cy="503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77080" y="1125360"/>
            <a:ext cx="142920" cy="35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172360" y="1341360"/>
            <a:ext cx="287280" cy="503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03840" y="3500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95640" y="3429000"/>
            <a:ext cx="14472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789360"/>
            <a:ext cx="216000" cy="503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77080" y="3429000"/>
            <a:ext cx="28728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172360" y="3789360"/>
            <a:ext cx="287280" cy="503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split dir="in" orient="vert"/>
  </p:transition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0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5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5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5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65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800"/>
                            </p:stCondLst>
                            <p:childTnLst>
                              <p:par>
                                <p:cTn id="659" nodeType="afterEffect" fill="hold" presetClass="entr" presetID="42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31">
                                  <p:stCondLst>
                                    <p:cond delay="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476280"/>
            <a:ext cx="91440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У короля глагола-</a:t>
            </a:r>
            <a:r>
              <a:rPr b="0" lang="en-US" sz="2400" spc="-1" strike="noStrike">
                <a:solidFill>
                  <a:srgbClr val="a50021"/>
                </a:solidFill>
                <a:latin typeface="Neurochrome"/>
              </a:rPr>
              <a:t>TO BE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было три сына , и звали 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             </a:t>
            </a:r>
            <a:r>
              <a:rPr b="0" lang="en-US" sz="4000" spc="-1" strike="noStrike">
                <a:solidFill>
                  <a:srgbClr val="a50021"/>
                </a:solidFill>
                <a:latin typeface="Neurochrome"/>
              </a:rPr>
              <a:t>AM, IS, AR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Neurochrome"/>
              </a:rPr>
              <a:t>Король разрешал им помогать ему в управлении Королевством.</a:t>
            </a:r>
            <a:r>
              <a:rPr b="0" lang="ru-RU" sz="1800" spc="-1" strike="noStrike">
                <a:solidFill>
                  <a:srgbClr val="a50021"/>
                </a:solidFill>
                <a:latin typeface="Neurochrome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39640" y="2205000"/>
            <a:ext cx="160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Neurochrome"/>
              </a:rPr>
              <a:t>TO B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1979640" y="2781360"/>
            <a:ext cx="2016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00720" y="27813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076720" y="2781360"/>
            <a:ext cx="180036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68040" y="4178160"/>
            <a:ext cx="81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eurochrome"/>
              </a:rPr>
              <a:t>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445280" y="4033800"/>
            <a:ext cx="5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eurochrome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065360" y="4105440"/>
            <a:ext cx="91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eurochrome"/>
              </a:rPr>
              <a:t>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050920" y="47242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0" y="458136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236000" y="458136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978560" y="5546880"/>
            <a:ext cx="3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eurochrome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987640" y="544500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eurochrome"/>
              </a:rPr>
              <a:t>HE,SHE,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84720" y="5342040"/>
            <a:ext cx="271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Neurochrome"/>
              </a:rPr>
              <a:t>WE,YOU,TH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split dir="in" orient="vert"/>
  </p:transition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0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8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13500"/>
                            </p:stCondLst>
                            <p:childTnLst>
                              <p:par>
                                <p:cTn id="6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77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3" dur="77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95" dur="77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7" dur="77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5500"/>
                            </p:stCondLst>
                            <p:childTnLst>
                              <p:par>
                                <p:cTn id="70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16500"/>
                            </p:stCondLst>
                            <p:childTnLst>
                              <p:par>
                                <p:cTn id="70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17500"/>
                            </p:stCondLst>
                            <p:childTnLst>
                              <p:par>
                                <p:cTn id="71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18500"/>
                            </p:stCondLst>
                            <p:childTnLst>
                              <p:par>
                                <p:cTn id="72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3" dur="77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4" dur="77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26" dur="77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8" dur="77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20500"/>
                            </p:stCondLst>
                            <p:childTnLst>
                              <p:par>
                                <p:cTn id="73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77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4" dur="77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6" dur="77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8" dur="77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22500"/>
                            </p:stCondLst>
                            <p:childTnLst>
                              <p:par>
                                <p:cTn id="74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77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4" dur="77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6" dur="77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48" dur="77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24500"/>
                            </p:stCondLst>
                            <p:childTnLst>
                              <p:par>
                                <p:cTn id="75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26500"/>
                            </p:stCondLst>
                            <p:childTnLst>
                              <p:par>
                                <p:cTn id="75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28500"/>
                            </p:stCondLst>
                            <p:childTnLst>
                              <p:par>
                                <p:cTn id="76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30500"/>
                            </p:stCondLst>
                            <p:childTnLst>
                              <p:par>
                                <p:cTn id="77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77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5" dur="77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7" dur="77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9" dur="77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32500"/>
                            </p:stCondLst>
                            <p:childTnLst>
                              <p:par>
                                <p:cTn id="78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77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5" dur="77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7" dur="77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9" dur="77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34500"/>
                            </p:stCondLst>
                            <p:childTnLst>
                              <p:par>
                                <p:cTn id="79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77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5" dur="77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7" dur="77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9" dur="77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95280" y="593640"/>
            <a:ext cx="889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Neurochrome"/>
              </a:rPr>
              <a:t>Королевич </a:t>
            </a:r>
            <a:r>
              <a:rPr b="1" lang="en-US" sz="2400" spc="-1" strike="noStrike">
                <a:solidFill>
                  <a:srgbClr val="000000"/>
                </a:solidFill>
                <a:latin typeface="Neurochrome"/>
              </a:rPr>
              <a:t>AM </a:t>
            </a:r>
            <a:r>
              <a:rPr b="0" lang="ru-RU" sz="2400" spc="-1" strike="noStrike">
                <a:solidFill>
                  <a:srgbClr val="000000"/>
                </a:solidFill>
                <a:latin typeface="Neurochrome"/>
              </a:rPr>
              <a:t>был хвастуном и любил себ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Neurochrome"/>
              </a:rPr>
              <a:t>больше всех. Он дружил только с местоимением </a:t>
            </a:r>
            <a:r>
              <a:rPr b="0" lang="en-US" sz="2400" spc="-1" strike="noStrike">
                <a:solidFill>
                  <a:srgbClr val="000000"/>
                </a:solidFill>
                <a:latin typeface="Neurochrome"/>
              </a:rPr>
              <a:t>I-</a:t>
            </a:r>
            <a:r>
              <a:rPr b="0" lang="ru-RU" sz="2400" spc="-1" strike="noStrike">
                <a:solidFill>
                  <a:srgbClr val="000000"/>
                </a:solidFill>
                <a:latin typeface="Neurochrome"/>
              </a:rPr>
              <a:t>Я</a:t>
            </a:r>
            <a:r>
              <a:rPr b="0" lang="en-US" sz="2400" spc="-1" strike="noStrike">
                <a:solidFill>
                  <a:srgbClr val="000000"/>
                </a:solidFill>
                <a:latin typeface="Neurochrom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572000" y="1916280"/>
            <a:ext cx="3960720" cy="25923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1479600"/>
            <a:ext cx="7372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Neurochrome"/>
              </a:rPr>
              <a:t>Он очень любил рассказыв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Neurochrome"/>
              </a:rPr>
              <a:t>о себе всем Жителя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Neurochrome"/>
              </a:rPr>
              <a:t>Королев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urochrome"/>
              </a:rPr>
              <a:t>I am n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urochrome"/>
              </a:rPr>
              <a:t>I am stro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urochrome"/>
              </a:rPr>
              <a:t>I am a fri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0" y="4226040"/>
            <a:ext cx="4284720" cy="26319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768560" y="19368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split dir="in" orient="vert"/>
  </p:transition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0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7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8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9" dur="8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2" dur="8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3" dur="8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4" dur="8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5" nodeType="withEffect" fill="hold" presetClass="emph" presetID="19" repeatCount="indefinite">
                                  <p:stCondLst>
                                    <p:cond delay="3000"/>
                                  </p:stCondLst>
                                  <p:childTnLst>
                                    <p:animClr clrSpc="rgb">
                                      <p:cBhvr>
                                        <p:cTn id="816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817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18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9" nodeType="withEffect" fill="hold" presetClass="emph" presetID="34" repeatCount="indefinite">
                                  <p:stCondLst>
                                    <p:cond delay="3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2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2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2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2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2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5" nodeType="withEffect" fill="hold" presetClass="emph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26" dur="indefinite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3950"/>
                            </p:stCondLst>
                            <p:childTnLst>
                              <p:par>
                                <p:cTn id="828" nodeType="afterEffect" fill="hold" presetClass="entr" presetID="40">
                                  <p:stCondLst>
                                    <p:cond delay="8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0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15250"/>
                            </p:stCondLst>
                            <p:childTnLst>
                              <p:par>
                                <p:cTn id="834" nodeType="afterEffect" fill="hold" presetClass="entr" presetID="45">
                                  <p:stCondLst>
                                    <p:cond delay="8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6" dur="2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7" dur="2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2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38">
                                  <p:stCondLst>
                                    <p:cond delay="8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09:23:40Z</dcterms:created>
  <dc:creator>111</dc:creator>
  <dc:description/>
  <dc:language>en-US</dc:language>
  <cp:lastModifiedBy>Учитель</cp:lastModifiedBy>
  <dcterms:modified xsi:type="dcterms:W3CDTF">2017-01-09T10:15:12Z</dcterms:modified>
  <cp:revision>51</cp:revision>
  <dc:subject/>
  <dc:title>Слайд 1</dc:title>
</cp:coreProperties>
</file>