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DDB7-06F8-4C38-A7FA-51D1B5FAE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8A3-3002-403F-97E2-B21E8328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B20-4683-4F32-9473-A0D2A313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99F1-A2DF-4385-B233-A62B6F0C6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42F4-6BE5-4356-9073-3B4CC0D2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684E-BEB3-492E-86B9-EAF4C93F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0301-DBA3-433E-A8E0-5B18A6F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3603-DDCD-4D4D-855C-CFEE7376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CCB2-E5A1-4E06-9D56-3291D206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785A-6332-4F57-83F8-0BCDCFA0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5238-24DE-4B21-B363-BFDCC766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AD9-C419-4990-8D03-7ABE8CFF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CE1B-3A91-43FE-ADB3-5FF7CAD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CB0-AC7B-43B4-84AE-2668A84C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363B-CE6F-4FEC-A14C-64C0FB05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20EB-4C69-451E-9283-6533C0E9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AAA3-F657-4B31-A246-C0D74CDD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AFE-2CF5-4C98-9587-269C7AE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A75-8820-4C0F-8A17-CDE45FEB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ADD-39D2-4F87-BEA8-1E340204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3193-2197-430B-9F46-F9F21EBB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D96-3AEB-4BFA-98D1-7F88290B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BAE7-1948-4A8A-BA89-127D27B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64E-AD84-4DBF-973D-BA508674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E71C-D7D0-4C4F-8787-DC6EBFECCBD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5B81-0C4C-41E4-BD0D-31AE632AF27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332000" y="62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Окружающий мир, 2 клас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УМК «Школа </a:t>
            </a:r>
            <a:r>
              <a:rPr b="1" i="1" lang="en-US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XXI </a:t>
            </a: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ве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211640" y="558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Шадринцева О.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2bee"/>
                </a:solidFill>
                <a:latin typeface="Times New Roman"/>
                <a:ea typeface="Times New Roman"/>
              </a:rPr>
              <a:t>МБОУ «Романовская СОШ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https://im0-tub-ru.yandex.net/i?id=15cff6e04133699272a23af3cb0bc0f8&amp;n=33&amp;h=215&amp;w=382"/>
          <p:cNvPicPr/>
          <p:nvPr/>
        </p:nvPicPr>
        <p:blipFill>
          <a:blip r:embed="rId1"/>
          <a:stretch/>
        </p:blipFill>
        <p:spPr>
          <a:xfrm>
            <a:off x="1835280" y="1341360"/>
            <a:ext cx="6724440" cy="4103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4"/>
          <p:cNvSpPr/>
          <p:nvPr/>
        </p:nvSpPr>
        <p:spPr>
          <a:xfrm>
            <a:off x="2700360" y="1700280"/>
            <a:ext cx="57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веток –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мый красивый орган растен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Dandelion27"/>
          <p:cNvPicPr/>
          <p:nvPr/>
        </p:nvPicPr>
        <p:blipFill>
          <a:blip r:embed="rId1"/>
          <a:stretch/>
        </p:blipFill>
        <p:spPr>
          <a:xfrm>
            <a:off x="1692360" y="836640"/>
            <a:ext cx="662472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Tomato2"/>
          <p:cNvPicPr/>
          <p:nvPr/>
        </p:nvPicPr>
        <p:blipFill>
          <a:blip r:embed="rId1"/>
          <a:stretch/>
        </p:blipFill>
        <p:spPr>
          <a:xfrm>
            <a:off x="1476360" y="476280"/>
            <a:ext cx="723420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1"/>
          <p:cNvPicPr/>
          <p:nvPr/>
        </p:nvPicPr>
        <p:blipFill>
          <a:blip r:embed="rId1"/>
          <a:stretch/>
        </p:blipFill>
        <p:spPr>
          <a:xfrm>
            <a:off x="1258920" y="981000"/>
            <a:ext cx="712944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ile403554"/>
          <p:cNvPicPr/>
          <p:nvPr/>
        </p:nvPicPr>
        <p:blipFill>
          <a:blip r:embed="rId1"/>
          <a:stretch/>
        </p:blipFill>
        <p:spPr>
          <a:xfrm>
            <a:off x="1332000" y="981000"/>
            <a:ext cx="69595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8640" y="1125000"/>
            <a:ext cx="841536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Итог уро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чем растениям нужны цветы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чему они такие красивые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кие бывают плоды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63840" y="1086120"/>
            <a:ext cx="7600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Домашнее задани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чебник с. 74 – 76 пересказ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чатная тетрадь с.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№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49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20840" y="1076040"/>
            <a:ext cx="83041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- Что узнали нового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Times New Roman"/>
              </a:rPr>
              <a:t>- Что было самым интересным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- Что показалось сложным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900000" y="57132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чу напомнить вам основные правила нашего урок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ahoma"/>
              </a:rPr>
              <a:t>1) Правильный ответ - хорошо! Неправильный ответ – тоже хорошо. Не ошибается только тот, кто ничего не делает.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) Нам важен не только результат, но и путь его достижения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Tahoma"/>
              </a:rPr>
              <a:t>3) Только то, что воспринято с радостью и удовольствием, усваивается хорошо и проч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Желаю вам хорошего настроения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73000" y="1124280"/>
            <a:ext cx="583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План уро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1 этап – повторе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cc00"/>
                </a:solidFill>
                <a:latin typeface="Times New Roman"/>
              </a:rPr>
              <a:t>2 этап – «открытие» зна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9900"/>
                </a:solidFill>
                <a:latin typeface="Times New Roman"/>
              </a:rPr>
              <a:t>3 этап – закрепл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Times New Roman"/>
              </a:rPr>
              <a:t>4 этап – итог, рефлекс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5399767"/>
          <p:cNvPicPr/>
          <p:nvPr/>
        </p:nvPicPr>
        <p:blipFill>
          <a:blip r:embed="rId1"/>
          <a:srcRect l="17786" t="30529" r="34771" b="0"/>
          <a:stretch/>
        </p:blipFill>
        <p:spPr>
          <a:xfrm rot="833400">
            <a:off x="3780000" y="2276640"/>
            <a:ext cx="1152360" cy="2786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root-1-lg"/>
          <p:cNvPicPr/>
          <p:nvPr/>
        </p:nvPicPr>
        <p:blipFill>
          <a:blip r:embed="rId2"/>
          <a:stretch/>
        </p:blipFill>
        <p:spPr>
          <a:xfrm rot="1419000">
            <a:off x="3131640" y="4653000"/>
            <a:ext cx="2183040" cy="1724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5399767"/>
          <p:cNvPicPr/>
          <p:nvPr/>
        </p:nvPicPr>
        <p:blipFill>
          <a:blip r:embed="rId3"/>
          <a:srcRect l="62309" t="33950" r="0" b="-5648"/>
          <a:stretch/>
        </p:blipFill>
        <p:spPr>
          <a:xfrm rot="1408800">
            <a:off x="5003640" y="2565360"/>
            <a:ext cx="871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2051640" y="1125000"/>
            <a:ext cx="542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Цветок –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самый красивый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орган растения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Какие бывают плод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50920" y="105192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Сегодня мы узнаем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зачем растениям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нужны цветы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и почему они такие красив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какие бывают плод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vety0442"/>
          <p:cNvPicPr/>
          <p:nvPr/>
        </p:nvPicPr>
        <p:blipFill>
          <a:blip r:embed="rId1"/>
          <a:stretch/>
        </p:blipFill>
        <p:spPr>
          <a:xfrm>
            <a:off x="108000" y="139680"/>
            <a:ext cx="4248000" cy="325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86635238dff6"/>
          <p:cNvPicPr/>
          <p:nvPr/>
        </p:nvPicPr>
        <p:blipFill>
          <a:blip r:embed="rId2"/>
          <a:stretch/>
        </p:blipFill>
        <p:spPr>
          <a:xfrm>
            <a:off x="4500720" y="81000"/>
            <a:ext cx="4535280" cy="3481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0b0ad3cf0630b27fb43b815d103e2f6a"/>
          <p:cNvPicPr/>
          <p:nvPr/>
        </p:nvPicPr>
        <p:blipFill>
          <a:blip r:embed="rId3"/>
          <a:stretch/>
        </p:blipFill>
        <p:spPr>
          <a:xfrm>
            <a:off x="2050920" y="1125360"/>
            <a:ext cx="4606920" cy="34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%D0%9F%D0%BE%D0%BB%D0%B5,%20%D0%BA%D1%80%D0%B0%D1%81%D0%BD%D1%8B%D0%B9,%20%D0%BC%D0%B0%D0%BA,%20%D1%86%D0%B2%D0%B5%D1%82%D1%8B,,%201920x1200"/>
          <p:cNvPicPr/>
          <p:nvPr/>
        </p:nvPicPr>
        <p:blipFill>
          <a:blip r:embed="rId4"/>
          <a:stretch/>
        </p:blipFill>
        <p:spPr>
          <a:xfrm>
            <a:off x="108000" y="3645000"/>
            <a:ext cx="4392720" cy="3060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df74b9d49e9f"/>
          <p:cNvPicPr/>
          <p:nvPr/>
        </p:nvPicPr>
        <p:blipFill>
          <a:blip r:embed="rId5"/>
          <a:stretch/>
        </p:blipFill>
        <p:spPr>
          <a:xfrm>
            <a:off x="4716360" y="3645000"/>
            <a:ext cx="41547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6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1461354_1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65e0ae0c325f"/>
          <p:cNvPicPr/>
          <p:nvPr/>
        </p:nvPicPr>
        <p:blipFill>
          <a:blip r:embed="rId1"/>
          <a:stretch/>
        </p:blipFill>
        <p:spPr>
          <a:xfrm>
            <a:off x="1332000" y="1052640"/>
            <a:ext cx="724860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2T18:25:50Z</dcterms:created>
  <dc:creator>DNA7 X64</dc:creator>
  <dc:description/>
  <dc:language>en-US</dc:language>
  <cp:lastModifiedBy>USER</cp:lastModifiedBy>
  <dcterms:modified xsi:type="dcterms:W3CDTF">2017-01-09T08:51:20Z</dcterms:modified>
  <cp:revision>4</cp:revision>
  <dc:subject/>
  <dc:title>Слайд 1</dc:title>
</cp:coreProperties>
</file>