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C63-032D-49F1-AB9E-1707EE4B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105-06D3-4395-B3CC-E166831E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974-FB4C-494A-9BC7-146ACE62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FB7-0745-4D62-93F1-500AB73D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5F9B-0017-419C-99D6-42DC4B72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C2F9-3213-4A1D-8206-16863B47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CD44-066F-4E64-8A47-F12A804B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42CF-776C-4CFF-9E5B-2460C4B6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E161-A6C8-418C-AADF-472C4D4D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0809-1529-41C3-9F41-638ABA48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A4AD-9F40-48F4-9DC7-7C9FB8A2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A44-99D3-4A97-BF74-4349BB53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AF60-EBBE-4D99-8BC0-FC056378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B50B-938E-4EAA-AEDA-D33AC0B6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F589-8B2F-4F7B-A70A-118AB752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E195-5158-459A-B7D6-B879D26E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A2D4-F52F-40CC-A023-BE88E426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976-1591-49EC-892E-06B4FEDC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FC5-7A9D-4178-A6ED-8CAB69BC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A39-81E4-40D2-9FD1-54B7EDDF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8E0-39A8-4470-9977-88DF7C7A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731-7508-4E2E-AC31-D2D3D908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9E0-3308-4FC4-92EA-46FAFD92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E0C-E765-40AF-A619-2E9802FB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D1B0-720B-45E9-84C3-E61D652F4FF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CDAD-C745-4EF2-B2D9-203136BE3F4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332000" y="62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62bee"/>
                </a:solidFill>
                <a:latin typeface="Times New Roman"/>
                <a:ea typeface="Times New Roman"/>
              </a:rPr>
              <a:t>Окружающий мир, 2 клас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62bee"/>
                </a:solidFill>
                <a:latin typeface="Times New Roman"/>
                <a:ea typeface="Times New Roman"/>
              </a:rPr>
              <a:t>УМК «Школа </a:t>
            </a:r>
            <a:r>
              <a:rPr b="1" i="1" lang="en-US" sz="1800" spc="-1" strike="noStrike">
                <a:solidFill>
                  <a:srgbClr val="162bee"/>
                </a:solidFill>
                <a:latin typeface="Times New Roman"/>
                <a:ea typeface="Times New Roman"/>
              </a:rPr>
              <a:t>XXI </a:t>
            </a:r>
            <a:r>
              <a:rPr b="1" i="1" lang="ru-RU" sz="1800" spc="-1" strike="noStrike">
                <a:solidFill>
                  <a:srgbClr val="162bee"/>
                </a:solidFill>
                <a:latin typeface="Times New Roman"/>
                <a:ea typeface="Times New Roman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4211640" y="558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62bee"/>
                </a:solidFill>
                <a:latin typeface="Times New Roman"/>
                <a:ea typeface="Times New Roman"/>
              </a:rPr>
              <a:t>Шадринцева О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62bee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62bee"/>
                </a:solidFill>
                <a:latin typeface="Times New Roman"/>
                <a:ea typeface="Times New Roman"/>
              </a:rPr>
              <a:t>МБОУ «Романовская СОШ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https://im0-tub-ru.yandex.net/i?id=15cff6e04133699272a23af3cb0bc0f8&amp;n=33&amp;h=215&amp;w=382"/>
          <p:cNvPicPr/>
          <p:nvPr/>
        </p:nvPicPr>
        <p:blipFill>
          <a:blip r:embed="rId1"/>
          <a:stretch/>
        </p:blipFill>
        <p:spPr>
          <a:xfrm>
            <a:off x="1835280" y="1341360"/>
            <a:ext cx="6724440" cy="4103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2700360" y="1700280"/>
            <a:ext cx="57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веток –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ый красивый орган растен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Dandelion27"/>
          <p:cNvPicPr/>
          <p:nvPr/>
        </p:nvPicPr>
        <p:blipFill>
          <a:blip r:embed="rId1"/>
          <a:stretch/>
        </p:blipFill>
        <p:spPr>
          <a:xfrm>
            <a:off x="1692360" y="836640"/>
            <a:ext cx="66247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Tomato2"/>
          <p:cNvPicPr/>
          <p:nvPr/>
        </p:nvPicPr>
        <p:blipFill>
          <a:blip r:embed="rId1"/>
          <a:stretch/>
        </p:blipFill>
        <p:spPr>
          <a:xfrm>
            <a:off x="1476360" y="476280"/>
            <a:ext cx="72342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1"/>
          <p:cNvPicPr/>
          <p:nvPr/>
        </p:nvPicPr>
        <p:blipFill>
          <a:blip r:embed="rId1"/>
          <a:stretch/>
        </p:blipFill>
        <p:spPr>
          <a:xfrm>
            <a:off x="1258920" y="981000"/>
            <a:ext cx="71294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ile403554"/>
          <p:cNvPicPr/>
          <p:nvPr/>
        </p:nvPicPr>
        <p:blipFill>
          <a:blip r:embed="rId1"/>
          <a:stretch/>
        </p:blipFill>
        <p:spPr>
          <a:xfrm>
            <a:off x="1332000" y="981000"/>
            <a:ext cx="69595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28640" y="1125000"/>
            <a:ext cx="841536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Итог уро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чем растениям нужны цветы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чему они такие красивы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ие бывают плоды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663840" y="1086120"/>
            <a:ext cx="7600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чебник с. 74 – 76 пересказ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чатная тетрадь с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№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49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20840" y="1076040"/>
            <a:ext cx="8304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- Что узнали нового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Times New Roman"/>
              </a:rPr>
              <a:t>- Что было самым интересным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Что показалось сложным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900000" y="571320"/>
            <a:ext cx="734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очу напомнить вам основные правила нашего урок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1) Правильный ответ - хорошо! Неправильный ответ – тоже хорошо. Не ошибается только тот, кто ничего не делает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2) Нам важен не только результат, но и путь его достижения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Tahoma"/>
              </a:rPr>
              <a:t>3) Только то, что воспринято с радостью и удовольствием, усваивается хорошо и прочн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Желаю вам хорошего настроения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773000" y="1124280"/>
            <a:ext cx="583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лан уро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 этап – повторен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2 этап – «открытие» зна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3 этап – закреп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4 этап – итог, рефлекс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1" descr="5399767"/>
          <p:cNvPicPr/>
          <p:nvPr/>
        </p:nvPicPr>
        <p:blipFill>
          <a:blip r:embed="rId1"/>
          <a:srcRect l="17786" t="30529" r="34771" b="0"/>
          <a:stretch/>
        </p:blipFill>
        <p:spPr>
          <a:xfrm rot="833400">
            <a:off x="3780000" y="2276640"/>
            <a:ext cx="1152360" cy="2786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root-1-lg"/>
          <p:cNvPicPr/>
          <p:nvPr/>
        </p:nvPicPr>
        <p:blipFill>
          <a:blip r:embed="rId2"/>
          <a:stretch/>
        </p:blipFill>
        <p:spPr>
          <a:xfrm rot="1419000">
            <a:off x="3131640" y="4653000"/>
            <a:ext cx="2183040" cy="1724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5399767"/>
          <p:cNvPicPr/>
          <p:nvPr/>
        </p:nvPicPr>
        <p:blipFill>
          <a:blip r:embed="rId3"/>
          <a:srcRect l="62309" t="33950" r="0" b="-5648"/>
          <a:stretch/>
        </p:blipFill>
        <p:spPr>
          <a:xfrm rot="1408800">
            <a:off x="5003640" y="2565360"/>
            <a:ext cx="8715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051640" y="1125000"/>
            <a:ext cx="5420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Цветок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самый красивый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орган растения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Какие бывают плоды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50920" y="1051920"/>
            <a:ext cx="864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Сегодня мы узнаем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зачем растениям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нужны цветы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и почему они такие красивы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какие бывают плод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vety0442"/>
          <p:cNvPicPr/>
          <p:nvPr/>
        </p:nvPicPr>
        <p:blipFill>
          <a:blip r:embed="rId1"/>
          <a:stretch/>
        </p:blipFill>
        <p:spPr>
          <a:xfrm>
            <a:off x="108000" y="139680"/>
            <a:ext cx="4248000" cy="3259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86635238dff6"/>
          <p:cNvPicPr/>
          <p:nvPr/>
        </p:nvPicPr>
        <p:blipFill>
          <a:blip r:embed="rId2"/>
          <a:stretch/>
        </p:blipFill>
        <p:spPr>
          <a:xfrm>
            <a:off x="4500720" y="81000"/>
            <a:ext cx="4535280" cy="3481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0b0ad3cf0630b27fb43b815d103e2f6a"/>
          <p:cNvPicPr/>
          <p:nvPr/>
        </p:nvPicPr>
        <p:blipFill>
          <a:blip r:embed="rId3"/>
          <a:stretch/>
        </p:blipFill>
        <p:spPr>
          <a:xfrm>
            <a:off x="2050920" y="1125360"/>
            <a:ext cx="4606920" cy="3451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%D0%9F%D0%BE%D0%BB%D0%B5,%20%D0%BA%D1%80%D0%B0%D1%81%D0%BD%D1%8B%D0%B9,%20%D0%BC%D0%B0%D0%BA,%20%D1%86%D0%B2%D0%B5%D1%82%D1%8B,,%201920x1200"/>
          <p:cNvPicPr/>
          <p:nvPr/>
        </p:nvPicPr>
        <p:blipFill>
          <a:blip r:embed="rId4"/>
          <a:stretch/>
        </p:blipFill>
        <p:spPr>
          <a:xfrm>
            <a:off x="108000" y="3645000"/>
            <a:ext cx="4392720" cy="306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df74b9d49e9f"/>
          <p:cNvPicPr/>
          <p:nvPr/>
        </p:nvPicPr>
        <p:blipFill>
          <a:blip r:embed="rId5"/>
          <a:stretch/>
        </p:blipFill>
        <p:spPr>
          <a:xfrm>
            <a:off x="4716360" y="3645000"/>
            <a:ext cx="415476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1461354_1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65e0ae0c325f"/>
          <p:cNvPicPr/>
          <p:nvPr/>
        </p:nvPicPr>
        <p:blipFill>
          <a:blip r:embed="rId1"/>
          <a:stretch/>
        </p:blipFill>
        <p:spPr>
          <a:xfrm>
            <a:off x="1332000" y="1052640"/>
            <a:ext cx="72486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18:25:50Z</dcterms:created>
  <dc:creator>DNA7 X64</dc:creator>
  <dc:description/>
  <dc:language>en-US</dc:language>
  <cp:lastModifiedBy>USER</cp:lastModifiedBy>
  <dcterms:modified xsi:type="dcterms:W3CDTF">2017-01-09T08:51:20Z</dcterms:modified>
  <cp:revision>4</cp:revision>
  <dc:subject/>
  <dc:title>Слайд 1</dc:title>
</cp:coreProperties>
</file>