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432-850F-4F26-8738-D90D271B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F1C-8F8A-4A2E-8D1B-2D6C1C61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723-1B9B-42BF-A68E-74FA1C80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39D-C9C8-466D-832C-D6F2A95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6F33-9C36-42EE-922A-912FBC33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14FD-D5F3-408F-893D-B1D4A467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18A-F53B-4108-9AC0-AB8B78B4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697-81C0-4698-AED4-B1E28987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3B9D-0315-4239-A148-9AFCA6D9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5737-ECA5-40B9-A76C-13CA5D41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DE2-6D66-4D12-A6ED-120D8BB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490-C037-4A68-9468-5614E83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905-876B-4639-9FAE-B65FBF5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C21-A978-4AE9-995C-F0B5245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F30-6E6F-4C8D-A84D-FCDB3DC7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957-887B-4101-889C-D80B4F24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886D-64B2-40BC-99DD-28B2CC4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C6C6-CAAC-49E9-AA8D-7B1E7FE9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22C8-36C7-48DC-82D2-CD5AAE5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E1C8B-A8F4-474E-9282-56BD63E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456A-D0F9-4205-9F9B-436E625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B8F6-DD5B-41BC-975D-1A6AF71C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8C-125E-4F4E-BEC1-CAC9FE51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E980-CE85-4628-B221-088D6C79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D443-15C0-47B2-846F-90EBBFC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5E77-298F-4B32-861D-4ABCE78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D984-B72D-4D08-9EB0-D76F2A85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3F71-19BB-4135-B62A-90D60856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BCBC-4C31-4C61-AEB0-AF7D27B3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3F58-2062-450C-BD13-E2DE731B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9C-8548-46C9-AE77-4FE6AA5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43E-0953-48E4-8F17-E31C02E6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C60-4FD7-4670-A3C1-C5C4B5D7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705-7A99-40E4-AD22-17CCF8CB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B1E-B7DB-4FB6-830B-53A5F0F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FC3-DE7F-46B5-B913-BD2B891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87B6-24B9-429F-85F4-36034F48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D267-2CE9-405F-B6CD-17561C9E81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A2F1-7148-4717-A26A-7D9343B75D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file:///&#1056;&#1072;&#1073;&#1086;&#1090;&#1099;%20&#1076;&#1077;&#1090;&#1077;&#1081;/&#1050;&#1086;&#1088;&#1103;&#1082;&#1080;&#1085;%20&#1040;&#1083;&#1077;&#1096;&#1072;.doc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клама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«Путешествие по местам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ревней Гре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ихотворение к теме: «Древняя Гре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рос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вор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Рассуждения на тему «Черты делового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5373720"/>
            <a:ext cx="11527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500" autoRev="1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54" name=""/>
          <p:cNvSpPr/>
          <p:nvPr/>
        </p:nvSpPr>
        <p:spPr>
          <a:xfrm flipV="1">
            <a:off x="871056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32000" y="549360"/>
            <a:ext cx="2735280" cy="158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333360"/>
            <a:ext cx="3382920" cy="1800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692280"/>
            <a:ext cx="1871640" cy="14414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981000"/>
            <a:ext cx="460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ЕГИП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агентство «Тутанхамон и Ната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224080"/>
            <a:ext cx="8425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Агентство «Тутанхамон и Натали» предлагает Вам уникальную возможность побывать в Египте. Прямой чартерный рейс «Нью-Алтайск - Каир» доставит Вас из Новоалтайска до столицы Египта – Ка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встречали божественный Египетский рассвет и видели проплывающего в его лучах Амона-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любовались древними фресками, высеченными в в пирамид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поражались трудолюбием других египтян, которые воздвигали дворцы и пирамиды фараонов и цар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удивлялись при виде одного из семи чудес с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се это Вы можете увидеть прилетев в Египет. Плюс незабываемый отдых в шести звездочном отеле «Царица Нефертити» с традиционной кухней, купание в Средиземном море, по которому плавал сам Юлий Цеза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А так же агентство «Тутанхамон и Натали» представляет Вам возможность выиграть один из пяти автомобил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12360" y="6434280"/>
            <a:ext cx="431640" cy="423720"/>
          </a:xfrm>
          <a:custGeom>
            <a:avLst/>
            <a:gdLst>
              <a:gd name="textAreaLeft" fmla="*/ 27360 w 431640"/>
              <a:gd name="textAreaRight" fmla="*/ 404280 w 43164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22003" h="21600">
                <a:moveTo>
                  <a:pt x="0" y="0"/>
                </a:moveTo>
                <a:lnTo>
                  <a:pt x="22003" y="0"/>
                </a:lnTo>
                <a:lnTo>
                  <a:pt x="22003" y="21600"/>
                </a:lnTo>
                <a:lnTo>
                  <a:pt x="0" y="21600"/>
                </a:lnTo>
                <a:close/>
              </a:path>
              <a:path fill="lightenLess" w="22003" h="21600">
                <a:moveTo>
                  <a:pt x="0" y="0"/>
                </a:moveTo>
                <a:lnTo>
                  <a:pt x="22003" y="0"/>
                </a:lnTo>
                <a:lnTo>
                  <a:pt x="20603" y="1400"/>
                </a:lnTo>
                <a:lnTo>
                  <a:pt x="1400" y="1400"/>
                </a:lnTo>
                <a:close/>
              </a:path>
              <a:path fill="darken" w="22003" h="21600">
                <a:moveTo>
                  <a:pt x="22003" y="0"/>
                </a:moveTo>
                <a:lnTo>
                  <a:pt x="22003" y="21600"/>
                </a:lnTo>
                <a:lnTo>
                  <a:pt x="20603" y="20200"/>
                </a:lnTo>
                <a:lnTo>
                  <a:pt x="20603" y="1400"/>
                </a:lnTo>
                <a:close/>
              </a:path>
              <a:path fill="darkenLess" w="22003" h="21600">
                <a:moveTo>
                  <a:pt x="22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03" y="20200"/>
                </a:lnTo>
                <a:close/>
              </a:path>
              <a:path fill="lighten" w="22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03" h="21600">
                <a:moveTo>
                  <a:pt x="3995" y="10800"/>
                </a:moveTo>
                <a:lnTo>
                  <a:pt x="18008" y="3794"/>
                </a:lnTo>
                <a:lnTo>
                  <a:pt x="18008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8567640" y="649908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9744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300720" y="6497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10800"/>
                </a:moveTo>
                <a:lnTo>
                  <a:pt x="19995" y="3794"/>
                </a:lnTo>
                <a:lnTo>
                  <a:pt x="19995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659640" y="6499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-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aphicFrame>
        <p:nvGraphicFramePr>
          <p:cNvPr id="170" name=""/>
          <p:cNvGraphicFramePr/>
          <p:nvPr/>
        </p:nvGraphicFramePr>
        <p:xfrm>
          <a:off x="0" y="-1866960"/>
          <a:ext cx="182520" cy="8826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800" y="6959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1692360" cy="108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299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1692360" cy="2421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8639280" y="650700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8519" y="10800"/>
                </a:moveTo>
                <a:lnTo>
                  <a:pt x="22531" y="3794"/>
                </a:lnTo>
                <a:lnTo>
                  <a:pt x="2253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88000" y="6580080"/>
            <a:ext cx="432000" cy="277920"/>
          </a:xfrm>
          <a:custGeom>
            <a:avLst/>
            <a:gdLst>
              <a:gd name="textAreaLeft" fmla="*/ 18000 w 432000"/>
              <a:gd name="textAreaRight" fmla="*/ 414000 w 43200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33560" h="21600">
                <a:moveTo>
                  <a:pt x="0" y="0"/>
                </a:moveTo>
                <a:lnTo>
                  <a:pt x="33560" y="0"/>
                </a:lnTo>
                <a:lnTo>
                  <a:pt x="33560" y="21600"/>
                </a:lnTo>
                <a:lnTo>
                  <a:pt x="0" y="21600"/>
                </a:lnTo>
                <a:close/>
              </a:path>
              <a:path fill="lightenLess" w="33560" h="21600">
                <a:moveTo>
                  <a:pt x="0" y="0"/>
                </a:moveTo>
                <a:lnTo>
                  <a:pt x="33560" y="0"/>
                </a:lnTo>
                <a:lnTo>
                  <a:pt x="32160" y="1400"/>
                </a:lnTo>
                <a:lnTo>
                  <a:pt x="1400" y="1400"/>
                </a:lnTo>
                <a:close/>
              </a:path>
              <a:path fill="darken" w="33560" h="21600">
                <a:moveTo>
                  <a:pt x="33560" y="0"/>
                </a:moveTo>
                <a:lnTo>
                  <a:pt x="33560" y="21600"/>
                </a:lnTo>
                <a:lnTo>
                  <a:pt x="32160" y="20200"/>
                </a:lnTo>
                <a:lnTo>
                  <a:pt x="32160" y="1400"/>
                </a:lnTo>
                <a:close/>
              </a:path>
              <a:path fill="darkenLess" w="33560" h="21600">
                <a:moveTo>
                  <a:pt x="33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0" y="20200"/>
                </a:lnTo>
                <a:close/>
              </a:path>
              <a:path fill="lighten" w="33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0" h="21600">
                <a:moveTo>
                  <a:pt x="9773" y="10800"/>
                </a:moveTo>
                <a:lnTo>
                  <a:pt x="23786" y="3794"/>
                </a:lnTo>
                <a:lnTo>
                  <a:pt x="237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712360" y="656892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484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качеством образования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истории и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знания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640" y="260280"/>
            <a:ext cx="806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цепочка управленческой деятельност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765000"/>
            <a:ext cx="3456000" cy="649440"/>
          </a:xfrm>
          <a:prstGeom prst="downArrowCallout">
            <a:avLst>
              <a:gd name="adj1" fmla="val 133050"/>
              <a:gd name="adj2" fmla="val 133038"/>
              <a:gd name="adj3" fmla="val 16667"/>
              <a:gd name="adj4" fmla="val 6739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148428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220500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92428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364500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4365720"/>
            <a:ext cx="3529080" cy="720720"/>
          </a:xfrm>
          <a:prstGeom prst="downArrowCallout">
            <a:avLst>
              <a:gd name="adj1" fmla="val 122426"/>
              <a:gd name="adj2" fmla="val 122415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ая 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5157720"/>
            <a:ext cx="3456000" cy="649440"/>
          </a:xfrm>
          <a:prstGeom prst="downArrowCallout">
            <a:avLst>
              <a:gd name="adj1" fmla="val 133050"/>
              <a:gd name="adj2" fmla="val 133038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5877000"/>
            <a:ext cx="3528720" cy="649080"/>
          </a:xfrm>
          <a:custGeom>
            <a:avLst/>
            <a:gdLst>
              <a:gd name="textAreaLeft" fmla="*/ 882000 w 3528720"/>
              <a:gd name="textAreaRight" fmla="*/ 2646720 w 3528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877000"/>
            <a:ext cx="2208240" cy="69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контроль, оце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877000"/>
            <a:ext cx="1942920" cy="64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ю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Что значит управлять качеством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рофессор одного из Токийских институтов Исикава Каору, специалист по управлению качеством, на этот вопрос ответил так: «Заниматься управлением качеством – значит </a:t>
            </a:r>
            <a:r>
              <a:rPr b="1" i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зрабатывать, проектировать, выпускать и обслуживать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качественную продукцию, которая является наиболее экономичной, наиболее полезной для потребителя и всегда удовлетворяет его потребностям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7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основные резервы повышения качества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рганизация действий учащихся по принятию целей учебного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методов обучения, максимально активизирующих познавательную деятельнос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ение позиций участников образовательного процесса: учителя и учащегося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 Black"/>
              </a:rPr>
              <a:t>Методы и приёмы эффективной работы с ученикам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Формулировка темы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б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рганизация деятельности учащихся по принятию целей учебного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в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Использование методов обучения, максимально активизирующих познавательную деятельность учащихся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436572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Формулировка темы урок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едложение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умайте и предложите свои способы формулировки темы урока. Для примера возьмём темы: «Центры собирания русских земель», «Культура первобытных люд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б)  Организация деятельности учащихся по принятию целей учебного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кар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рование ситуации размышления и дога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туации противоречивости 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50756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бращение к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ите свой вариант работы над постановкой цели уро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28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64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)  Использование методов обучения, максимально активизирующих познавательную деятель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чтения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развития творческого самочув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427920"/>
            <a:ext cx="862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едложение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ытаемся вместе смоделировать возможные варианты работы над целью урока по обществознанию «Социальное взаимодействи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4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51:12Z</dcterms:created>
  <dc:creator>Людмила</dc:creator>
  <dc:description/>
  <dc:language>en-US</dc:language>
  <cp:lastModifiedBy>Людмила</cp:lastModifiedBy>
  <dcterms:modified xsi:type="dcterms:W3CDTF">2007-03-26T03:53:15Z</dcterms:modified>
  <cp:revision>21</cp:revision>
  <dc:subject/>
  <dc:title>Слайд 1</dc:title>
</cp:coreProperties>
</file>