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135-E26A-49B7-89DD-40D46EA9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7427-CFAA-41D6-AB71-2C9EDA02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578-7A00-4CF3-9A14-B34E2DBF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AC1-7C6D-48DD-8C6E-25E3366A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557F-B173-467E-BF96-0B9D01CB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46A2-03DC-4D47-A4E9-9CEDAA24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AA8BA-B142-4D73-9B15-A0B87F5C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7A86-1398-4EE9-9E48-DBDA6C86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4164-0F77-4B03-9913-F3844872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315C-2E27-4D26-ACE1-2D97AEC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992E-5D6F-4E53-950E-234FC44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A13D-5EBB-4363-B16C-7B6664AD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2A48-BEFE-41D4-AAA4-0AA7CD5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CD1B-3CF6-47DD-83E1-6EB0F562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6D4D-2C78-44B1-AECC-1B7AA885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B02D-1538-410E-9F1B-F1768C73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FBFC-6629-4F0C-969C-E8F03384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213C1-6333-43F9-9CEE-5B575DC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F8755-19A3-495A-ABAB-830DA4F8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AD45E-7908-4A6B-8D2E-39EC3772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B87C1-B43C-4113-9FA0-CDF0F3DE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6FA4-7DA8-4F72-83EF-9B90F346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EA07-EDA2-4B98-A7B3-A749D926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65570-5CBD-4A5C-9BE4-B3A24695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69CD-BADA-45A3-80FF-E34B79CE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3443C-A279-40D6-AE60-23F16C0C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408B4-27E0-4E9B-9B0F-62CE3817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2A28-473A-4DC8-A016-1F62D945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06A1-D966-4319-908F-984A9BCB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07822-18A2-44E8-940A-B4FC8C7D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801D-FA98-4276-A199-45A50634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F32-C006-4F4C-AE77-58189BA6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853-D7FB-4F49-ACB7-6753609A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D51-FCBE-47F4-9B36-7964D22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B77-DB5D-4BDE-B808-AA6226B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7A04-B964-47EC-943D-D4818AD9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6BA3-FDDE-4FBA-82EA-13F35A568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8C06-2614-47EA-BEA3-B469687559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28FE-4A22-40BF-A1CF-546CCB76B4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file:///&#1056;&#1072;&#1073;&#1086;&#1090;&#1099;%20&#1076;&#1077;&#1090;&#1077;&#1081;/&#1050;&#1086;&#1088;&#1103;&#1082;&#1080;&#1085;%20&#1040;&#1083;&#1077;&#1096;&#1072;.doc" TargetMode="External"/><Relationship Id="rId3" Type="http://schemas.openxmlformats.org/officeDocument/2006/relationships/slide" Target="slide16.xml"/><Relationship Id="rId4" Type="http://schemas.openxmlformats.org/officeDocument/2006/relationships/slide" Target="slide15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.xm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Работы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Реклама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cc3300"/>
                </a:solidFill>
                <a:uFillTx/>
                <a:latin typeface="Arial"/>
              </a:rPr>
              <a:t>«Путешествие по местам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ревней Гре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ихотворение к теме: «Древняя Грец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рос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вор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Рассуждения на тему «Черты делового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5373720"/>
            <a:ext cx="11527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3" dur="500" autoRev="1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7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500" autoRev="1" fill="hold"/>
                                        <p:tgtEl>
                                          <p:spTgt spid="1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54" name=""/>
          <p:cNvSpPr/>
          <p:nvPr/>
        </p:nvSpPr>
        <p:spPr>
          <a:xfrm flipV="1">
            <a:off x="8710560" y="652464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10800"/>
                </a:moveTo>
                <a:lnTo>
                  <a:pt x="21045" y="3794"/>
                </a:lnTo>
                <a:lnTo>
                  <a:pt x="21045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32000" y="549360"/>
            <a:ext cx="2735280" cy="158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84360" y="333360"/>
            <a:ext cx="3382920" cy="1800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08720" y="692280"/>
            <a:ext cx="1871640" cy="14414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981000"/>
            <a:ext cx="46083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Monotype Corsiva"/>
              </a:rPr>
              <a:t>ЕГИП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агентство «Тутанхамон и Ната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2224080"/>
            <a:ext cx="8425080" cy="40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Агентство «Тутанхамон и Натали» предлагает Вам уникальную возможность побывать в Египте. Прямой чартерный рейс «Нью-Алтайск - Каир» доставит Вас из Новоалтайска до столицы Египта – Ка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встречали божественный Египетский рассвет и видели проплывающего в его лучах Амона-Р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любовались древними фресками, высеченными в в пирамидах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поражались трудолюбием других египтян, которые воздвигали дворцы и пирамиды фараонов и царе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ы удивлялись при виде одного из семи чудес свет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Все это Вы можете увидеть прилетев в Египет. Плюс незабываемый отдых в шести звездочном отеле «Царица Нефертити» с традиционной кухней, купание в Средиземном море, по которому плавал сам Юлий Цезар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     </a:t>
            </a:r>
            <a:r>
              <a:rPr b="1" lang="ru-RU" sz="1600" spc="-1" strike="noStrike">
                <a:solidFill>
                  <a:srgbClr val="cc3300"/>
                </a:solidFill>
                <a:latin typeface="Arial Black"/>
              </a:rPr>
              <a:t>А так же агентство «Тутанхамон и Натали» представляет Вам возможность выиграть один из пяти автомобилей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3300"/>
                </a:solidFill>
                <a:latin typeface="Arial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12360" y="6434280"/>
            <a:ext cx="431640" cy="423720"/>
          </a:xfrm>
          <a:custGeom>
            <a:avLst/>
            <a:gdLst>
              <a:gd name="textAreaLeft" fmla="*/ 27360 w 431640"/>
              <a:gd name="textAreaRight" fmla="*/ 404280 w 431640"/>
              <a:gd name="textAreaTop" fmla="*/ 27360 h 423720"/>
              <a:gd name="textAreaBottom" fmla="*/ 396360 h 423720"/>
            </a:gdLst>
            <a:ahLst/>
            <a:rect l="textAreaLeft" t="textAreaTop" r="textAreaRight" b="textAreaBottom"/>
            <a:pathLst>
              <a:path w="22003" h="21600">
                <a:moveTo>
                  <a:pt x="0" y="0"/>
                </a:moveTo>
                <a:lnTo>
                  <a:pt x="22003" y="0"/>
                </a:lnTo>
                <a:lnTo>
                  <a:pt x="22003" y="21600"/>
                </a:lnTo>
                <a:lnTo>
                  <a:pt x="0" y="21600"/>
                </a:lnTo>
                <a:close/>
              </a:path>
              <a:path fill="lightenLess" w="22003" h="21600">
                <a:moveTo>
                  <a:pt x="0" y="0"/>
                </a:moveTo>
                <a:lnTo>
                  <a:pt x="22003" y="0"/>
                </a:lnTo>
                <a:lnTo>
                  <a:pt x="20603" y="1400"/>
                </a:lnTo>
                <a:lnTo>
                  <a:pt x="1400" y="1400"/>
                </a:lnTo>
                <a:close/>
              </a:path>
              <a:path fill="darken" w="22003" h="21600">
                <a:moveTo>
                  <a:pt x="22003" y="0"/>
                </a:moveTo>
                <a:lnTo>
                  <a:pt x="22003" y="21600"/>
                </a:lnTo>
                <a:lnTo>
                  <a:pt x="20603" y="20200"/>
                </a:lnTo>
                <a:lnTo>
                  <a:pt x="20603" y="1400"/>
                </a:lnTo>
                <a:close/>
              </a:path>
              <a:path fill="darkenLess" w="22003" h="21600">
                <a:moveTo>
                  <a:pt x="22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03" y="20200"/>
                </a:lnTo>
                <a:close/>
              </a:path>
              <a:path fill="lighten" w="22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03" h="21600">
                <a:moveTo>
                  <a:pt x="3995" y="10800"/>
                </a:moveTo>
                <a:lnTo>
                  <a:pt x="18008" y="3794"/>
                </a:lnTo>
                <a:lnTo>
                  <a:pt x="18008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8567640" y="649908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673" h="21600">
                <a:moveTo>
                  <a:pt x="10330" y="10800"/>
                </a:moveTo>
                <a:lnTo>
                  <a:pt x="24343" y="3794"/>
                </a:lnTo>
                <a:lnTo>
                  <a:pt x="24343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89744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300720" y="6497640"/>
            <a:ext cx="433440" cy="360360"/>
          </a:xfrm>
          <a:custGeom>
            <a:avLst/>
            <a:gdLst>
              <a:gd name="textAreaLeft" fmla="*/ 23040 w 433440"/>
              <a:gd name="textAreaRight" fmla="*/ 410400 w 433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976" h="21600">
                <a:moveTo>
                  <a:pt x="0" y="0"/>
                </a:moveTo>
                <a:lnTo>
                  <a:pt x="25976" y="0"/>
                </a:lnTo>
                <a:lnTo>
                  <a:pt x="25976" y="21600"/>
                </a:lnTo>
                <a:lnTo>
                  <a:pt x="0" y="21600"/>
                </a:lnTo>
                <a:close/>
              </a:path>
              <a:path fill="lightenLess" w="25976" h="21600">
                <a:moveTo>
                  <a:pt x="0" y="0"/>
                </a:moveTo>
                <a:lnTo>
                  <a:pt x="25976" y="0"/>
                </a:lnTo>
                <a:lnTo>
                  <a:pt x="24576" y="1400"/>
                </a:lnTo>
                <a:lnTo>
                  <a:pt x="1400" y="1400"/>
                </a:lnTo>
                <a:close/>
              </a:path>
              <a:path fill="darken" w="25976" h="21600">
                <a:moveTo>
                  <a:pt x="25976" y="0"/>
                </a:moveTo>
                <a:lnTo>
                  <a:pt x="25976" y="21600"/>
                </a:lnTo>
                <a:lnTo>
                  <a:pt x="24576" y="20200"/>
                </a:lnTo>
                <a:lnTo>
                  <a:pt x="24576" y="1400"/>
                </a:lnTo>
                <a:close/>
              </a:path>
              <a:path fill="darkenLess" w="25976" h="21600">
                <a:moveTo>
                  <a:pt x="25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6" y="20200"/>
                </a:lnTo>
                <a:close/>
              </a:path>
              <a:path fill="lighten" w="25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6" h="21600">
                <a:moveTo>
                  <a:pt x="5982" y="10800"/>
                </a:moveTo>
                <a:lnTo>
                  <a:pt x="19995" y="3794"/>
                </a:lnTo>
                <a:lnTo>
                  <a:pt x="19995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85080" cy="685800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sp>
        <p:nvSpPr>
          <p:cNvPr id="167" name=""/>
          <p:cNvSpPr/>
          <p:nvPr/>
        </p:nvSpPr>
        <p:spPr>
          <a:xfrm>
            <a:off x="6659640" y="6499080"/>
            <a:ext cx="431640" cy="35892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5972" h="21600">
                <a:moveTo>
                  <a:pt x="0" y="0"/>
                </a:moveTo>
                <a:lnTo>
                  <a:pt x="25972" y="0"/>
                </a:lnTo>
                <a:lnTo>
                  <a:pt x="25972" y="21600"/>
                </a:lnTo>
                <a:lnTo>
                  <a:pt x="0" y="21600"/>
                </a:lnTo>
                <a:close/>
              </a:path>
              <a:path fill="lightenLess" w="25972" h="21600">
                <a:moveTo>
                  <a:pt x="0" y="0"/>
                </a:moveTo>
                <a:lnTo>
                  <a:pt x="25972" y="0"/>
                </a:lnTo>
                <a:lnTo>
                  <a:pt x="24572" y="1400"/>
                </a:lnTo>
                <a:lnTo>
                  <a:pt x="1400" y="1400"/>
                </a:lnTo>
                <a:close/>
              </a:path>
              <a:path fill="darken" w="25972" h="21600">
                <a:moveTo>
                  <a:pt x="25972" y="0"/>
                </a:moveTo>
                <a:lnTo>
                  <a:pt x="25972" y="21600"/>
                </a:lnTo>
                <a:lnTo>
                  <a:pt x="24572" y="20200"/>
                </a:lnTo>
                <a:lnTo>
                  <a:pt x="24572" y="1400"/>
                </a:lnTo>
                <a:close/>
              </a:path>
              <a:path fill="darkenLess" w="25972" h="21600">
                <a:moveTo>
                  <a:pt x="259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72" y="20200"/>
                </a:lnTo>
                <a:close/>
              </a:path>
              <a:path fill="lighten" w="259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72" h="21600">
                <a:moveTo>
                  <a:pt x="5979" y="10800"/>
                </a:moveTo>
                <a:lnTo>
                  <a:pt x="19992" y="3794"/>
                </a:lnTo>
                <a:lnTo>
                  <a:pt x="19992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-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graphicFrame>
        <p:nvGraphicFramePr>
          <p:cNvPr id="170" name=""/>
          <p:cNvGraphicFramePr/>
          <p:nvPr/>
        </p:nvGraphicFramePr>
        <p:xfrm>
          <a:off x="0" y="-1866960"/>
          <a:ext cx="182520" cy="88264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882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800" y="69591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1692360" cy="1081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299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0" y="4437000"/>
            <a:ext cx="1692360" cy="2421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8639280" y="650700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8519" y="10800"/>
                </a:moveTo>
                <a:lnTo>
                  <a:pt x="22531" y="3794"/>
                </a:lnTo>
                <a:lnTo>
                  <a:pt x="22531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588000" y="6580080"/>
            <a:ext cx="432000" cy="277920"/>
          </a:xfrm>
          <a:custGeom>
            <a:avLst/>
            <a:gdLst>
              <a:gd name="textAreaLeft" fmla="*/ 18000 w 432000"/>
              <a:gd name="textAreaRight" fmla="*/ 414000 w 432000"/>
              <a:gd name="textAreaTop" fmla="*/ 18000 h 277920"/>
              <a:gd name="textAreaBottom" fmla="*/ 259920 h 277920"/>
            </a:gdLst>
            <a:ahLst/>
            <a:rect l="textAreaLeft" t="textAreaTop" r="textAreaRight" b="textAreaBottom"/>
            <a:pathLst>
              <a:path w="33560" h="21600">
                <a:moveTo>
                  <a:pt x="0" y="0"/>
                </a:moveTo>
                <a:lnTo>
                  <a:pt x="33560" y="0"/>
                </a:lnTo>
                <a:lnTo>
                  <a:pt x="33560" y="21600"/>
                </a:lnTo>
                <a:lnTo>
                  <a:pt x="0" y="21600"/>
                </a:lnTo>
                <a:close/>
              </a:path>
              <a:path fill="lightenLess" w="33560" h="21600">
                <a:moveTo>
                  <a:pt x="0" y="0"/>
                </a:moveTo>
                <a:lnTo>
                  <a:pt x="33560" y="0"/>
                </a:lnTo>
                <a:lnTo>
                  <a:pt x="32160" y="1400"/>
                </a:lnTo>
                <a:lnTo>
                  <a:pt x="1400" y="1400"/>
                </a:lnTo>
                <a:close/>
              </a:path>
              <a:path fill="darken" w="33560" h="21600">
                <a:moveTo>
                  <a:pt x="33560" y="0"/>
                </a:moveTo>
                <a:lnTo>
                  <a:pt x="33560" y="21600"/>
                </a:lnTo>
                <a:lnTo>
                  <a:pt x="32160" y="20200"/>
                </a:lnTo>
                <a:lnTo>
                  <a:pt x="32160" y="1400"/>
                </a:lnTo>
                <a:close/>
              </a:path>
              <a:path fill="darkenLess" w="33560" h="21600">
                <a:moveTo>
                  <a:pt x="33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60" y="20200"/>
                </a:lnTo>
                <a:close/>
              </a:path>
              <a:path fill="lighten" w="33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60" h="21600">
                <a:moveTo>
                  <a:pt x="9773" y="10800"/>
                </a:moveTo>
                <a:lnTo>
                  <a:pt x="23786" y="3794"/>
                </a:lnTo>
                <a:lnTo>
                  <a:pt x="2378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712360" y="6568920"/>
            <a:ext cx="431640" cy="289080"/>
          </a:xfrm>
          <a:custGeom>
            <a:avLst/>
            <a:gdLst>
              <a:gd name="textAreaLeft" fmla="*/ 18720 w 431640"/>
              <a:gd name="textAreaRight" fmla="*/ 412920 w 431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32239" h="21600">
                <a:moveTo>
                  <a:pt x="0" y="0"/>
                </a:moveTo>
                <a:lnTo>
                  <a:pt x="32239" y="0"/>
                </a:lnTo>
                <a:lnTo>
                  <a:pt x="32239" y="21600"/>
                </a:lnTo>
                <a:lnTo>
                  <a:pt x="0" y="21600"/>
                </a:lnTo>
                <a:close/>
              </a:path>
              <a:path fill="lightenLess" w="32239" h="21600">
                <a:moveTo>
                  <a:pt x="0" y="0"/>
                </a:moveTo>
                <a:lnTo>
                  <a:pt x="32239" y="0"/>
                </a:lnTo>
                <a:lnTo>
                  <a:pt x="30839" y="1400"/>
                </a:lnTo>
                <a:lnTo>
                  <a:pt x="1400" y="1400"/>
                </a:lnTo>
                <a:close/>
              </a:path>
              <a:path fill="darken" w="32239" h="21600">
                <a:moveTo>
                  <a:pt x="32239" y="0"/>
                </a:moveTo>
                <a:lnTo>
                  <a:pt x="32239" y="21600"/>
                </a:lnTo>
                <a:lnTo>
                  <a:pt x="30839" y="20200"/>
                </a:lnTo>
                <a:lnTo>
                  <a:pt x="30839" y="1400"/>
                </a:lnTo>
                <a:close/>
              </a:path>
              <a:path fill="darkenLess" w="32239" h="21600">
                <a:moveTo>
                  <a:pt x="322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39" y="20200"/>
                </a:lnTo>
                <a:close/>
              </a:path>
              <a:path fill="lighten" w="322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239" h="21600">
                <a:moveTo>
                  <a:pt x="9113" y="10800"/>
                </a:moveTo>
                <a:lnTo>
                  <a:pt x="23126" y="3794"/>
                </a:lnTo>
                <a:lnTo>
                  <a:pt x="23126" y="1780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484280"/>
            <a:ext cx="7632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вление качеством образования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уроках истории и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66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знания</a:t>
            </a:r>
            <a:endParaRPr b="0" lang="en-US" sz="2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66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9640" y="260280"/>
            <a:ext cx="8064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cc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хнологическая цепочка управленческой деятельности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cc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765000"/>
            <a:ext cx="3456000" cy="649440"/>
          </a:xfrm>
          <a:prstGeom prst="downArrowCallout">
            <a:avLst>
              <a:gd name="adj1" fmla="val 133050"/>
              <a:gd name="adj2" fmla="val 133038"/>
              <a:gd name="adj3" fmla="val 16667"/>
              <a:gd name="adj4" fmla="val 6739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148428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еполаг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771640" y="220500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71640" y="292428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ект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3645000"/>
            <a:ext cx="3456000" cy="647640"/>
          </a:xfrm>
          <a:prstGeom prst="downArrowCallout">
            <a:avLst>
              <a:gd name="adj1" fmla="val 133420"/>
              <a:gd name="adj2" fmla="val 133407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стру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4365720"/>
            <a:ext cx="3529080" cy="720720"/>
          </a:xfrm>
          <a:prstGeom prst="downArrowCallout">
            <a:avLst>
              <a:gd name="adj1" fmla="val 122426"/>
              <a:gd name="adj2" fmla="val 122415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дагогическая коммун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5157720"/>
            <a:ext cx="3456000" cy="649440"/>
          </a:xfrm>
          <a:prstGeom prst="downArrowCallout">
            <a:avLst>
              <a:gd name="adj1" fmla="val 133050"/>
              <a:gd name="adj2" fmla="val 133038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16360" y="5877000"/>
            <a:ext cx="3528720" cy="649080"/>
          </a:xfrm>
          <a:custGeom>
            <a:avLst/>
            <a:gdLst>
              <a:gd name="textAreaLeft" fmla="*/ 882000 w 3528720"/>
              <a:gd name="textAreaRight" fmla="*/ 2646720 w 3528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5877000"/>
            <a:ext cx="2208240" cy="698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гност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контроль, оцен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16720" y="5877000"/>
            <a:ext cx="1942920" cy="64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ц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юм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996633"/>
                </a:solidFill>
                <a:latin typeface="Arial"/>
              </a:rPr>
              <a:t>Что значит управлять качеством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Профессор одного из Токийских институтов Исикава Каору, специалист по управлению качеством, на этот вопрос ответил так: «Заниматься управлением качеством – значит </a:t>
            </a:r>
            <a:r>
              <a:rPr b="1" i="1" lang="ru-RU" sz="2800" spc="-1" strike="noStrike" u="sng">
                <a:solidFill>
                  <a:srgbClr val="996633"/>
                </a:solidFill>
                <a:uFillTx/>
                <a:latin typeface="Arial"/>
              </a:rPr>
              <a:t>разрабатывать, проектировать, выпускать и обслуживать</a:t>
            </a:r>
            <a:r>
              <a:rPr b="0" lang="ru-RU" sz="2800" spc="-1" strike="noStrike">
                <a:solidFill>
                  <a:srgbClr val="996633"/>
                </a:solidFill>
                <a:latin typeface="Arial"/>
              </a:rPr>
              <a:t> качественную продукцию, которая является наиболее экономичной, наиболее полезной для потребителя и всегда удовлетворяет его потребностям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700"/>
                            </p:stCondLst>
                            <p:childTnLst>
                              <p:par>
                                <p:cTn id="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основные резервы повышения качества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Организация действий учащихся по принятию целей учебного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спользование методов обучения, максимально активизирующих познавательную деятельнос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зменение позиций участников образовательного процесса: учителя и учащегося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 Black"/>
              </a:rPr>
              <a:t>Методы и приёмы эффективной работы с ученикам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97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Формулировка темы уро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б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Организация деятельности учащихся по принятию целей учебного занят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Arial"/>
              </a:rPr>
              <a:t>в)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cc6600"/>
                </a:solidFill>
                <a:latin typeface="Arial"/>
              </a:rPr>
              <a:t>Использование методов обучения, максимально активизирующих познавательную деятельность учащихся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11280" y="4365720"/>
            <a:ext cx="80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а)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Формулировка темы урок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едложение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умайте и предложите свои способы формулировки темы урока. Для примера возьмём темы: «Центры собирания русских земель», «Культура первобытных людей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б)  Организация деятельности учащихся по принятию целей учебного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с карто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рование ситуации размышления и догадо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туации противоречивости 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4507560"/>
            <a:ext cx="80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Обращение к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ложите свой вариант работы над постановкой цели уро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60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28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64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в)  Использование методов обучения, максимально активизирующих познавательную деятельность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чтения вслу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 развития творческого самочув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427920"/>
            <a:ext cx="8628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Предложение слушателям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пытаемся вместе смоделировать возможные варианты работы над целью урока по обществознанию «Социальное взаимодействи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72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240"/>
                            </p:stCondLst>
                            <p:childTnLst>
                              <p:par>
                                <p:cTn id="2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7:51:12Z</dcterms:created>
  <dc:creator>Людмила</dc:creator>
  <dc:description/>
  <dc:language>en-US</dc:language>
  <cp:lastModifiedBy>Людмила</cp:lastModifiedBy>
  <dcterms:modified xsi:type="dcterms:W3CDTF">2007-03-26T03:53:15Z</dcterms:modified>
  <cp:revision>21</cp:revision>
  <dc:subject/>
  <dc:title>Слайд 1</dc:title>
</cp:coreProperties>
</file>