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wmf" ContentType="image/x-wmf"/>
  <Override PartName="/ppt/media/image27.gif" ContentType="image/gif"/>
  <Override PartName="/ppt/media/image21.png" ContentType="image/png"/>
  <Override PartName="/ppt/media/image20.jpeg" ContentType="image/jpeg"/>
  <Override PartName="/ppt/media/image22.wmf" ContentType="image/x-wmf"/>
  <Override PartName="/ppt/media/image19.gif" ContentType="image/gif"/>
  <Override PartName="/ppt/media/image17.gif" ContentType="image/gif"/>
  <Override PartName="/ppt/media/image8.png" ContentType="image/png"/>
  <Override PartName="/ppt/media/image13.png" ContentType="image/png"/>
  <Override PartName="/ppt/media/image5.png" ContentType="image/png"/>
  <Override PartName="/ppt/media/image33.wmf" ContentType="image/x-wmf"/>
  <Override PartName="/ppt/media/image29.jpeg" ContentType="image/jpeg"/>
  <Override PartName="/ppt/media/image37.gif" ContentType="image/gif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wmf" ContentType="image/x-wmf"/>
  <Override PartName="/ppt/media/image11.png" ContentType="image/png"/>
  <Override PartName="/ppt/media/image34.wmf" ContentType="image/x-wmf"/>
  <Override PartName="/ppt/media/image10.jpeg" ContentType="image/jpeg"/>
  <Override PartName="/ppt/media/image14.png" ContentType="image/png"/>
  <Override PartName="/ppt/media/image36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.jpeg" ContentType="image/jpeg"/>
  <Override PartName="/ppt/media/image15.jpeg" ContentType="image/jpeg"/>
  <Override PartName="/ppt/media/image35.wmf" ContentType="image/x-wmf"/>
  <Override PartName="/ppt/media/image9.gif" ContentType="image/gif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DE51-68F8-4378-A5B4-D3CF8C54A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810D-FC26-4C9E-98CB-CE3133C6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941E-C96C-488D-A074-21B1A47DF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6F34-8BF4-436E-A420-D1C0959A6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C506-1B86-4C0F-B1DB-C48D9D274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FBD8-0B8C-49A1-8C64-19831C4A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7216-70B7-46AE-9CA4-B4E7A622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19CF-9B02-4F43-8A16-4B3AD59F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8451-C60A-4F8C-A79E-3DC3ADE0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2F25-B429-44EA-B900-3558CD9D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C5AE-765D-4C72-AEC5-CFD63ED8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731B-EC6B-4323-BD19-0CA06B4E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D8DF-8EAA-49AD-AFED-E3CB8513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5F92-EA10-45E1-B69A-D2448452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8EE4-4C4B-4D45-8F43-E8694C91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DADA-B4FC-4BC8-A78E-59C516455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AEC4-A3C7-42AE-957C-D226F2381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5694-1D3E-466A-AA06-256C035A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42D3-7F7B-43AD-8F31-925513E2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4120-233F-4B45-BF34-EAFEE68A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A30B-809F-4E5C-BFC5-C0EFBEDB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C0E4-1F53-464A-9ED3-3095412E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E4E6-9838-465F-AEA9-0B0523FB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B642-5255-48CA-9985-005B9289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D0DA-D85E-4C76-AA37-7A93679CD2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7F33-01CC-4A21-903E-9140141AA9A2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6.jpeg"/><Relationship Id="rId5" Type="http://schemas.openxmlformats.org/officeDocument/2006/relationships/image" Target="../media/image37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ahoma"/>
              </a:rPr>
              <a:t>Урок - презентац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0" y="9144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cc"/>
                </a:solidFill>
                <a:latin typeface="Tahoma"/>
                <a:ea typeface="Times New Roman"/>
              </a:rPr>
              <a:t>А.И. Куприн «Тапёр». Талант и труд в рассказе.</a:t>
            </a:r>
            <a:r>
              <a:rPr b="1" i="1" lang="ru-RU" sz="4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914400" y="23623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Цели урока: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0" y="3352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3352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.</a:t>
            </a: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0" y="2819520"/>
            <a:ext cx="9601200" cy="22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Обучающая –</a:t>
            </a:r>
            <a:r>
              <a:rPr b="0" lang="ru-RU" sz="1800" spc="-1" strike="noStrike">
                <a:solidFill>
                  <a:srgbClr val="545472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обучение анализу прозаического произведения, знакомство с жизнью и творчеством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А.И. Куприна, представление творчества А.Г. Рубинштейна и  Ф. Листа.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0" y="4495680"/>
            <a:ext cx="91440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Развивающая –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развитие представлений о литературе и музыке как о видах искусства, о значении этих видов искусства для человека.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0" y="3276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974880" y="5299200"/>
            <a:ext cx="816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-1752480" y="5715000"/>
            <a:ext cx="1059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Воспитательная –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воспитание интереса к классической музыке.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d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Семья Рудневых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88" name="Picture 7" descr="C:\Documents and Settings\Пользователь\Мои документы\Мои результаты сканировани\2007-03 (мар)\сканирование0001.jpg"/>
          <p:cNvPicPr/>
          <p:nvPr/>
        </p:nvPicPr>
        <p:blipFill>
          <a:blip r:embed="rId2"/>
          <a:stretch/>
        </p:blipFill>
        <p:spPr>
          <a:xfrm>
            <a:off x="979560" y="1981080"/>
            <a:ext cx="3222720" cy="4114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C:\Documents and Settings\Пользователь\Мои документы\анимашки\елка.gif"/>
          <p:cNvPicPr/>
          <p:nvPr/>
        </p:nvPicPr>
        <p:blipFill>
          <a:blip r:embed="rId3"/>
          <a:stretch/>
        </p:blipFill>
        <p:spPr>
          <a:xfrm>
            <a:off x="5257800" y="2438280"/>
            <a:ext cx="30481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Антон Григорьевич   Рубинштейн (1829 – 1894)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92" name="Picture 6" descr="C:\Documents and Settings\Пользователь\Мои документы\Куприн\rubinshtm.jpg"/>
          <p:cNvPicPr/>
          <p:nvPr/>
        </p:nvPicPr>
        <p:blipFill>
          <a:blip r:embed="rId2"/>
          <a:stretch/>
        </p:blipFill>
        <p:spPr>
          <a:xfrm>
            <a:off x="1219320" y="1981080"/>
            <a:ext cx="3149640" cy="37339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7"/>
          <p:cNvSpPr/>
          <p:nvPr/>
        </p:nvSpPr>
        <p:spPr>
          <a:xfrm>
            <a:off x="4572000" y="2133720"/>
            <a:ext cx="382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4572000" y="205740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  <a:ea typeface="Tahoma"/>
              </a:rPr>
              <a:t>–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  <a:ea typeface="Tahoma"/>
              </a:rPr>
              <a:t>великий русский композитор, пианист, известный всему миру  дирижёр, директор Петербургской консерватории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С 1862 по 1867 годы.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Tahoma"/>
              </a:rPr>
              <a:t>Основная мысль рассказ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Arial"/>
              </a:rPr>
              <a:t>Трудолюбие, воля</a:t>
            </a:r>
            <a:r>
              <a:rPr b="1" i="1" lang="ru-RU" sz="2400" spc="-1" strike="noStrike">
                <a:solidFill>
                  <a:srgbClr val="008000"/>
                </a:solidFill>
                <a:latin typeface="Times New Roman"/>
                <a:ea typeface="Arial"/>
              </a:rPr>
              <a:t>,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Arial"/>
              </a:rPr>
              <a:t>скромность, чувство собственного достоинства помогут человеку найти своё место в жизни. Нужно развивать  данные тебе от природы способности, не зарывать свой талант в землю, а радовать своим даром других люде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97" name="Picture 11" descr="C:\Program Files\Common Files\Microsoft Shared\Clipart\cagcat50\PE01000_.wmf"/>
          <p:cNvPicPr/>
          <p:nvPr/>
        </p:nvPicPr>
        <p:blipFill>
          <a:blip r:embed="rId1"/>
          <a:stretch/>
        </p:blipFill>
        <p:spPr>
          <a:xfrm>
            <a:off x="7086600" y="1447920"/>
            <a:ext cx="1457280" cy="2438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C:\Program Files\Common Files\Microsoft Shared\Clipart\cagcat50\PE01659_.wmf"/>
          <p:cNvPicPr/>
          <p:nvPr/>
        </p:nvPicPr>
        <p:blipFill>
          <a:blip r:embed="rId2"/>
          <a:stretch/>
        </p:blipFill>
        <p:spPr>
          <a:xfrm>
            <a:off x="4648320" y="4267080"/>
            <a:ext cx="2228760" cy="1981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C:\Program Files\Common Files\Microsoft Shared\Clipart\cagcat50\BS02064_.WMF"/>
          <p:cNvPicPr/>
          <p:nvPr/>
        </p:nvPicPr>
        <p:blipFill>
          <a:blip r:embed="rId3"/>
          <a:stretch/>
        </p:blipFill>
        <p:spPr>
          <a:xfrm>
            <a:off x="4495680" y="2057400"/>
            <a:ext cx="1720800" cy="1712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C:\Program Files\Common Files\Microsoft Shared\Clipart\cagcat50\PE01981_.wmf"/>
          <p:cNvPicPr/>
          <p:nvPr/>
        </p:nvPicPr>
        <p:blipFill>
          <a:blip r:embed="rId4"/>
          <a:stretch/>
        </p:blipFill>
        <p:spPr>
          <a:xfrm>
            <a:off x="6553080" y="4157640"/>
            <a:ext cx="259092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7c7d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0" y="2514240"/>
            <a:ext cx="4724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Прочитать рассказ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А.И.Куприна «Скворцы»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и ответить на вопрос 3 на стр. 64 учебника (устно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03" name="Picture 5" descr="C:\Мои документы\Мои рисунки\Скворцы\скворцы21.jpg"/>
          <p:cNvPicPr/>
          <p:nvPr/>
        </p:nvPicPr>
        <p:blipFill>
          <a:blip r:embed="rId4"/>
          <a:stretch/>
        </p:blipFill>
        <p:spPr>
          <a:xfrm>
            <a:off x="4800600" y="2303640"/>
            <a:ext cx="3657600" cy="3620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C:\Documents and Settings\Пользователь\Мои документы\анимация и рисунки\линии\2.gif"/>
          <p:cNvPicPr/>
          <p:nvPr/>
        </p:nvPicPr>
        <p:blipFill>
          <a:blip r:embed="rId5"/>
          <a:stretch/>
        </p:blipFill>
        <p:spPr>
          <a:xfrm>
            <a:off x="1143000" y="685800"/>
            <a:ext cx="690408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df"/>
            </a:gs>
            <a:gs pos="100000">
              <a:srgbClr val="cc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7772400" cy="17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Презентацию подготовила Алямкина Татьяна Борисовна, учитель школы №30 г. Саранск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07" name="Picture 5" descr="C:\Documents and Settings\Пользователь\Мои документы\image089.jpg"/>
          <p:cNvPicPr/>
          <p:nvPr/>
        </p:nvPicPr>
        <p:blipFill>
          <a:blip r:embed="rId2"/>
          <a:stretch/>
        </p:blipFill>
        <p:spPr>
          <a:xfrm>
            <a:off x="2819520" y="2111400"/>
            <a:ext cx="3657600" cy="27496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6"/>
          <p:cNvSpPr/>
          <p:nvPr/>
        </p:nvSpPr>
        <p:spPr>
          <a:xfrm>
            <a:off x="0" y="31399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76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ahoma"/>
              </a:rPr>
              <a:t>Жизнь и творчество </a:t>
            </a:r>
            <a:br>
              <a:rPr sz="4400"/>
            </a:br>
            <a:r>
              <a:rPr b="1" lang="ru-RU" sz="4400" spc="-1" strike="noStrike">
                <a:solidFill>
                  <a:srgbClr val="008000"/>
                </a:solidFill>
                <a:latin typeface="Tahoma"/>
              </a:rPr>
              <a:t>А.И. Куприн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47" name="Picture 11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3295800" cy="4343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C:\Documents and Settings\Пользователь\Мои документы\анимация и рисунки\линии\15.gif"/>
          <p:cNvPicPr/>
          <p:nvPr/>
        </p:nvPicPr>
        <p:blipFill>
          <a:blip r:embed="rId2"/>
          <a:stretch/>
        </p:blipFill>
        <p:spPr>
          <a:xfrm>
            <a:off x="1523880" y="304920"/>
            <a:ext cx="5794560" cy="2746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9"/>
          <p:cNvSpPr/>
          <p:nvPr/>
        </p:nvSpPr>
        <p:spPr>
          <a:xfrm>
            <a:off x="3200400" y="628956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1870 - 1938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Годы учёбы в кадетском корпус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152280" y="1676520"/>
            <a:ext cx="2946600" cy="44193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4"/>
          <p:cNvSpPr/>
          <p:nvPr/>
        </p:nvSpPr>
        <p:spPr>
          <a:xfrm>
            <a:off x="3124080" y="2286000"/>
            <a:ext cx="6019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Десяти лет Куприн был отдан во 2 –ю  московскую военную гимназию, реорганизованную вскоре в кадетский корпус с суровым солдатским режимом и телесными наказаниями. Порывистый, горячий, непокорный мальчик много потерпел от жестоких корпусных порядков. С детства Куприн возненавидел насилие, стал чутким к чужому страданию. Тягостная жизнь «казённого мальчика» была изображена им впоследствии в повести «На переломе»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3048120" y="396252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ahoma"/>
              </a:rPr>
              <a:t>А.И. Куприн – молодой офицер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6" name="Picture 11" descr=""/>
          <p:cNvPicPr/>
          <p:nvPr/>
        </p:nvPicPr>
        <p:blipFill>
          <a:blip r:embed="rId2"/>
          <a:stretch/>
        </p:blipFill>
        <p:spPr>
          <a:xfrm>
            <a:off x="5943600" y="1752480"/>
            <a:ext cx="2759040" cy="41148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9"/>
          <p:cNvSpPr/>
          <p:nvPr/>
        </p:nvSpPr>
        <p:spPr>
          <a:xfrm>
            <a:off x="0" y="2362320"/>
            <a:ext cx="579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  <a:ea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В 1888 году Куприн поступил в московское Александровское военное училище. После его окончания он в чине подпоручика направлен в пехотный полк, стоявший в захолустном городке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ahoma"/>
              </a:rPr>
              <a:t>Советуем прочитать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0" name="Picture 6" descr="C:\Documents and Settings\Пользователь\Мои документы\Куприн\813430.jpg"/>
          <p:cNvPicPr/>
          <p:nvPr/>
        </p:nvPicPr>
        <p:blipFill>
          <a:blip r:embed="rId2"/>
          <a:stretch/>
        </p:blipFill>
        <p:spPr>
          <a:xfrm>
            <a:off x="530280" y="1828800"/>
            <a:ext cx="3216240" cy="4213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C:\Documents and Settings\Пользователь\Мои документы\Куприн\822768.jpg"/>
          <p:cNvPicPr/>
          <p:nvPr/>
        </p:nvPicPr>
        <p:blipFill>
          <a:blip r:embed="rId3"/>
          <a:stretch/>
        </p:blipFill>
        <p:spPr>
          <a:xfrm>
            <a:off x="5638680" y="1981080"/>
            <a:ext cx="2730600" cy="3989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C:\Documents and Settings\Пользователь\Мои документы\анимашки\2.GIF"/>
          <p:cNvPicPr/>
          <p:nvPr/>
        </p:nvPicPr>
        <p:blipFill>
          <a:blip r:embed="rId4"/>
          <a:stretch/>
        </p:blipFill>
        <p:spPr>
          <a:xfrm>
            <a:off x="3886200" y="5105520"/>
            <a:ext cx="14446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Семья Рудневых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4" name="Picture 9" descr="C:\Documents and Settings\Пользователь\Мои документы\анимашки\елка.gif"/>
          <p:cNvPicPr/>
          <p:nvPr/>
        </p:nvPicPr>
        <p:blipFill>
          <a:blip r:embed="rId2"/>
          <a:stretch/>
        </p:blipFill>
        <p:spPr>
          <a:xfrm>
            <a:off x="0" y="2743200"/>
            <a:ext cx="3048120" cy="3276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C:\Documents and Settings\Пользователь\Мои документы\Мои результаты сканировани\2007-03 (мар)\сканирование0001.jpg"/>
          <p:cNvPicPr/>
          <p:nvPr/>
        </p:nvPicPr>
        <p:blipFill>
          <a:blip r:embed="rId3"/>
          <a:stretch/>
        </p:blipFill>
        <p:spPr>
          <a:xfrm>
            <a:off x="3886200" y="1600200"/>
            <a:ext cx="3581280" cy="4572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1448280" y="-304920"/>
            <a:ext cx="899172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Tahoma"/>
              </a:rPr>
              <a:t>Словарная работ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ahoma"/>
              </a:rPr>
              <a:t>Тапёр, -а, м.</a:t>
            </a: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Музыкант (пианист, баянист и т. п.), игравший за плату на танцевальных вечерах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0" y="198108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Рапсодия, -и, ж.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Инструментальное или вокально – инструментальное произведение на темы народных песен, танцев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0" y="31240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Ветхий, -ая,-ое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.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Разрушающийся или пришедший в    негодность от времени, от употребления; обветшалый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0" y="304812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0" y="4038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Безалаберный, -ая,-ое.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1. Беспорядочный в своём образе жизни, в своих поступках. 2.Лишенный упорядоченности, последовательности, системности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0" y="5334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Репутация, -и, ж.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оздавшееся  общее мнение о достоинствах и недостатках кого –либо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0" y="6095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Отпрыск, -а, м.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Устар., теперь ирон. Потомок.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75" name="Picture 15" descr="C:\Program Files\Common Files\Microsoft Shared\Clipart\cagcat50\EN00349_.wmf"/>
          <p:cNvPicPr/>
          <p:nvPr/>
        </p:nvPicPr>
        <p:blipFill>
          <a:blip r:embed="rId2"/>
          <a:stretch/>
        </p:blipFill>
        <p:spPr>
          <a:xfrm>
            <a:off x="6629400" y="0"/>
            <a:ext cx="2133720" cy="1204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0" descr="C:\Program Files\Common Files\Microsoft Shared\Clipart\cagcat50\EN00354_.wmf"/>
          <p:cNvPicPr/>
          <p:nvPr/>
        </p:nvPicPr>
        <p:blipFill>
          <a:blip r:embed="rId3"/>
          <a:stretch/>
        </p:blipFill>
        <p:spPr>
          <a:xfrm>
            <a:off x="7467480" y="5899320"/>
            <a:ext cx="1224000" cy="9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Семья Рудневых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78" name="Picture 5" descr="C:\Documents and Settings\Пользователь\Мои документы\Мои результаты сканировани\2007-03 (мар)\сканирование0001.jpg"/>
          <p:cNvPicPr/>
          <p:nvPr/>
        </p:nvPicPr>
        <p:blipFill>
          <a:blip r:embed="rId2"/>
          <a:stretch/>
        </p:blipFill>
        <p:spPr>
          <a:xfrm>
            <a:off x="5105520" y="1828800"/>
            <a:ext cx="3343320" cy="4267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C:\Documents and Settings\Пользователь\Мои документы\анимашки\елка.gif"/>
          <p:cNvPicPr/>
          <p:nvPr/>
        </p:nvPicPr>
        <p:blipFill>
          <a:blip r:embed="rId3"/>
          <a:stretch/>
        </p:blipFill>
        <p:spPr>
          <a:xfrm>
            <a:off x="1219320" y="3581280"/>
            <a:ext cx="1842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65e5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Ференц Лист и его «Венгерская рапсодия №2»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81" name="Picture 7" descr="C:\Documents and Settings\Пользователь\Мои документы\Куприн\Ф. Лист.jpg"/>
          <p:cNvPicPr/>
          <p:nvPr/>
        </p:nvPicPr>
        <p:blipFill>
          <a:blip r:embed="rId1"/>
          <a:stretch/>
        </p:blipFill>
        <p:spPr>
          <a:xfrm>
            <a:off x="0" y="1447920"/>
            <a:ext cx="3297240" cy="4114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C:\Documents and Settings\Пользователь\Мои документы\анимация и рисунки\разное\1.gif"/>
          <p:cNvPicPr/>
          <p:nvPr/>
        </p:nvPicPr>
        <p:blipFill>
          <a:blip r:embed="rId2"/>
          <a:stretch/>
        </p:blipFill>
        <p:spPr>
          <a:xfrm>
            <a:off x="8305920" y="0"/>
            <a:ext cx="582480" cy="903240"/>
          </a:xfrm>
          <a:prstGeom prst="rect">
            <a:avLst/>
          </a:prstGeom>
          <a:ln w="0">
            <a:noFill/>
          </a:ln>
        </p:spPr>
      </p:pic>
      <p:pic>
        <p:nvPicPr>
          <p:cNvPr id="183" name="Венгерская Рапсодия 02 01 (Фортепиано)[2].mid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9"/>
          <p:cNvSpPr/>
          <p:nvPr/>
        </p:nvSpPr>
        <p:spPr>
          <a:xfrm>
            <a:off x="4876920" y="1285920"/>
            <a:ext cx="426708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«Необходимым элементом музыки является виртуозность… От её дуновения зависит жизнь и смерть доверенного ей художественного произведения… Виртуоз должен быть в той же мере поэтом, как живописец и ваятель, которые тоже как бы передают по-своему природу, как бы поют её с листа по нотам творца».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6809760" y="628344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Ф. Лист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569885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1:16:50Z</dcterms:created>
  <dc:creator>Пользователь</dc:creator>
  <dc:description/>
  <dc:language>en-US</dc:language>
  <cp:lastModifiedBy>user</cp:lastModifiedBy>
  <dcterms:modified xsi:type="dcterms:W3CDTF">2017-01-09T16:23:56Z</dcterms:modified>
  <cp:revision>19</cp:revision>
  <dc:subject/>
  <dc:title>Урок - презентация</dc:title>
</cp:coreProperties>
</file>