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wmf" ContentType="image/x-wmf"/>
  <Override PartName="/ppt/media/image27.gif" ContentType="image/gif"/>
  <Override PartName="/ppt/media/image21.png" ContentType="image/png"/>
  <Override PartName="/ppt/media/image20.jpeg" ContentType="image/jpeg"/>
  <Override PartName="/ppt/media/image22.wmf" ContentType="image/x-wmf"/>
  <Override PartName="/ppt/media/image19.gif" ContentType="image/gif"/>
  <Override PartName="/ppt/media/image17.gif" ContentType="image/gif"/>
  <Override PartName="/ppt/media/image8.png" ContentType="image/png"/>
  <Override PartName="/ppt/media/image13.png" ContentType="image/png"/>
  <Override PartName="/ppt/media/image5.png" ContentType="image/png"/>
  <Override PartName="/ppt/media/image33.wmf" ContentType="image/x-wmf"/>
  <Override PartName="/ppt/media/image29.jpeg" ContentType="image/jpeg"/>
  <Override PartName="/ppt/media/image37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wmf" ContentType="image/x-wmf"/>
  <Override PartName="/ppt/media/image11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36.jpeg" ContentType="image/jpeg"/>
  <Override PartName="/ppt/media/image38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.jpeg" ContentType="image/jpeg"/>
  <Override PartName="/ppt/media/image15.jpeg" ContentType="image/jpeg"/>
  <Override PartName="/ppt/media/image35.wmf" ContentType="image/x-wmf"/>
  <Override PartName="/ppt/media/image9.gif" ContentType="image/gi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C64-4A2A-4553-AF79-41CF157A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B18-1FA8-4C79-888E-D162CCFB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B92-3AE1-4B3F-B446-4A7F7C4E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8797-599E-48E3-8988-D35BDD261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19CB-7E0C-4CA3-924F-A7F741C1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A14B-D69C-4FB7-9CDB-F8357D3D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9BA6-8651-419C-9A00-AF6D6D9B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FF9B2-CEE8-4F8C-ADFA-ED27661D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54A4-F3AB-4585-B281-6D36321E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76A3-B806-4336-802C-3DFF3844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756F4-BDD4-4143-804F-BA7E92E4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8FB3-E0D6-43BC-A758-590356EA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96B6-8E5A-4989-B90D-86F3BAD6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7345-CE21-4A6F-B350-CBF0B58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85B2-C76C-4BE0-ACDF-74273FEA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2A38-5DE7-4B2E-89F0-9A5480553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E694-B0B0-43BC-A6E4-E5A415C4F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7620-6693-4787-BDA0-E238CB84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E250-75BA-45B4-BD57-104D89DE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451-6784-4F15-84CC-2264A5D8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663-1B0A-4965-A746-E6A79225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CC2-CCD3-435B-84FF-F5C31135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7039-BD33-402E-BED3-B57F869F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4E5-F489-4F94-978A-9157E0C4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FDC8-4E14-4638-BBDB-144A8303E32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7616-084D-4786-A0B2-3C432839F3FF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6.jpeg"/><Relationship Id="rId5" Type="http://schemas.openxmlformats.org/officeDocument/2006/relationships/image" Target="../media/image37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Урок - презентация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ahoma"/>
                <a:ea typeface="Times New Roman"/>
              </a:rPr>
              <a:t>А.И. Куприн «Тапёр». Талант и труд в рассказе.</a:t>
            </a:r>
            <a:r>
              <a:rPr b="1" i="1" lang="ru-RU" sz="4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914400" y="2362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Цели урока: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0" y="3352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3352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.</a:t>
            </a:r>
            <a:r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2819520"/>
            <a:ext cx="960120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Обучающая –</a:t>
            </a:r>
            <a:r>
              <a:rPr b="0" lang="ru-RU" sz="18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обучение анализу прозаического произведения, знакомство с жизнью и творчеством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А.И. Куприна, представление творчества А.Г. Рубинштейна и  Ф. Листа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0" y="449568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Развивающая –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развитие представлений о литературе и музыке как о видах искусства, о значении этих видов искусства для человека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0" y="3276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974880" y="5299200"/>
            <a:ext cx="8169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-1752480" y="5715000"/>
            <a:ext cx="10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Arial"/>
              </a:rPr>
              <a:t>Воспитательная –</a:t>
            </a:r>
            <a:r>
              <a:rPr b="0" lang="ru-RU" sz="2000" spc="-1" strike="noStrike">
                <a:solidFill>
                  <a:srgbClr val="545472"/>
                </a:solidFill>
                <a:latin typeface="Times New Roman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Arial"/>
              </a:rPr>
              <a:t>воспитание интереса к классической музыке.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df"/>
            </a:gs>
            <a:gs pos="100000">
              <a:srgbClr val="ff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8" name="Picture 7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2"/>
          <a:stretch/>
        </p:blipFill>
        <p:spPr>
          <a:xfrm>
            <a:off x="979560" y="1981080"/>
            <a:ext cx="3222720" cy="4114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C:\Documents and Settings\Пользователь\Мои документы\анимашки\елка.gif"/>
          <p:cNvPicPr/>
          <p:nvPr/>
        </p:nvPicPr>
        <p:blipFill>
          <a:blip r:embed="rId3"/>
          <a:stretch/>
        </p:blipFill>
        <p:spPr>
          <a:xfrm>
            <a:off x="5257800" y="2438280"/>
            <a:ext cx="30481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Times New Roman"/>
                <a:ea typeface="Times New Roman"/>
              </a:rPr>
              <a:t>Антон Григорьевич   Рубинштейн (1829 – 1894)</a:t>
            </a: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2" name="Picture 6" descr="C:\Documents and Settings\Пользователь\Мои документы\Куприн\rubinshtm.jpg"/>
          <p:cNvPicPr/>
          <p:nvPr/>
        </p:nvPicPr>
        <p:blipFill>
          <a:blip r:embed="rId2"/>
          <a:stretch/>
        </p:blipFill>
        <p:spPr>
          <a:xfrm>
            <a:off x="1219320" y="1981080"/>
            <a:ext cx="3149640" cy="3733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4572000" y="2133720"/>
            <a:ext cx="382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4572000" y="2057400"/>
            <a:ext cx="4572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ahoma"/>
              </a:rPr>
              <a:t>–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  <a:ea typeface="Tahoma"/>
              </a:rPr>
              <a:t>великий русский композитор, пианист, известный всему миру  дирижёр, директор Петербургской консерватории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 1862 по 1867 годы.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Tahoma"/>
              </a:rPr>
              <a:t>Основная мысль рассказ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Трудолюбие, воля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,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Arial"/>
              </a:rPr>
              <a:t>скромность, чувство собственного достоинства помогут человеку найти своё место в жизни. Нужно развивать  данные тебе от природы способности, не зарывать свой талант в землю, а радовать своим даром других люде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97" name="Picture 11" descr="C:\Program Files\Common Files\Microsoft Shared\Clipart\cagcat50\PE01000_.wmf"/>
          <p:cNvPicPr/>
          <p:nvPr/>
        </p:nvPicPr>
        <p:blipFill>
          <a:blip r:embed="rId1"/>
          <a:stretch/>
        </p:blipFill>
        <p:spPr>
          <a:xfrm>
            <a:off x="7086600" y="1447920"/>
            <a:ext cx="1457280" cy="2438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3" descr="C:\Program Files\Common Files\Microsoft Shared\Clipart\cagcat50\PE01659_.wmf"/>
          <p:cNvPicPr/>
          <p:nvPr/>
        </p:nvPicPr>
        <p:blipFill>
          <a:blip r:embed="rId2"/>
          <a:stretch/>
        </p:blipFill>
        <p:spPr>
          <a:xfrm>
            <a:off x="4648320" y="4267080"/>
            <a:ext cx="2228760" cy="1981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C:\Program Files\Common Files\Microsoft Shared\Clipart\cagcat50\BS02064_.WMF"/>
          <p:cNvPicPr/>
          <p:nvPr/>
        </p:nvPicPr>
        <p:blipFill>
          <a:blip r:embed="rId3"/>
          <a:stretch/>
        </p:blipFill>
        <p:spPr>
          <a:xfrm>
            <a:off x="4495680" y="2057400"/>
            <a:ext cx="1720800" cy="1712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C:\Program Files\Common Files\Microsoft Shared\Clipart\cagcat50\PE01981_.wmf"/>
          <p:cNvPicPr/>
          <p:nvPr/>
        </p:nvPicPr>
        <p:blipFill>
          <a:blip r:embed="rId4"/>
          <a:stretch/>
        </p:blipFill>
        <p:spPr>
          <a:xfrm>
            <a:off x="6553080" y="4157640"/>
            <a:ext cx="259092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c7c7d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-360" y="251424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Прочитать рассказ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А.И.Куприна «Скворцы»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и ответить на вопрос 3 на стр. 64 учебника (устно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3" name="Picture 5" descr="C:\Мои документы\Мои рисунки\Скворцы\скворцы21.jpg"/>
          <p:cNvPicPr/>
          <p:nvPr/>
        </p:nvPicPr>
        <p:blipFill>
          <a:blip r:embed="rId4"/>
          <a:stretch/>
        </p:blipFill>
        <p:spPr>
          <a:xfrm>
            <a:off x="4800600" y="2303640"/>
            <a:ext cx="3657600" cy="3620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C:\Documents and Settings\Пользователь\Мои документы\анимация и рисунки\линии\2.gif"/>
          <p:cNvPicPr/>
          <p:nvPr/>
        </p:nvPicPr>
        <p:blipFill>
          <a:blip r:embed="rId5"/>
          <a:stretch/>
        </p:blipFill>
        <p:spPr>
          <a:xfrm>
            <a:off x="1143000" y="685800"/>
            <a:ext cx="690408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7c7df"/>
            </a:gs>
            <a:gs pos="100000">
              <a:srgbClr val="cc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7772400" cy="17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Times New Roman"/>
              </a:rPr>
              <a:t>Презентацию подготовила Алямкина Татьяна Борисовна, учитель школы №30 г. Саранс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07" name="Picture 5" descr="C:\Documents and Settings\Пользователь\Мои документы\image089.jpg"/>
          <p:cNvPicPr/>
          <p:nvPr/>
        </p:nvPicPr>
        <p:blipFill>
          <a:blip r:embed="rId2"/>
          <a:stretch/>
        </p:blipFill>
        <p:spPr>
          <a:xfrm>
            <a:off x="2819520" y="2111400"/>
            <a:ext cx="3657600" cy="27496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0" y="31399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76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Жизнь и творчество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А.И. Купри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47" name="Picture 11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3295800" cy="4343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C:\Documents and Settings\Пользователь\Мои документы\анимация и рисунки\линии\15.gif"/>
          <p:cNvPicPr/>
          <p:nvPr/>
        </p:nvPicPr>
        <p:blipFill>
          <a:blip r:embed="rId2"/>
          <a:stretch/>
        </p:blipFill>
        <p:spPr>
          <a:xfrm>
            <a:off x="1523880" y="304920"/>
            <a:ext cx="5794560" cy="274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9"/>
          <p:cNvSpPr/>
          <p:nvPr/>
        </p:nvSpPr>
        <p:spPr>
          <a:xfrm>
            <a:off x="3200400" y="62895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1870 - 1938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Годы учёбы в кадетском корпус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2946600" cy="441936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3124080" y="2286000"/>
            <a:ext cx="601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ahoma"/>
              </a:rPr>
              <a:t>Десяти лет Куприн был отдан во 2 –ю  московскую военную гимназию, реорганизованную вскоре в кадетский корпус с суровым солдатским режимом и телесными наказаниями. Порывистый, горячий, непокорный мальчик много потерпел от жестоких корпусных порядков. С детства Куприн возненавидел насилие, стал чутким к чужому страданию. Тягостная жизнь «казённого мальчика» была изображена им впоследствии в повести «На переломе»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3048120" y="396252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А.И. Куприн – молодой офицер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759040" cy="41148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9"/>
          <p:cNvSpPr/>
          <p:nvPr/>
        </p:nvSpPr>
        <p:spPr>
          <a:xfrm>
            <a:off x="0" y="236232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  <a:ea typeface="Tahom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ahoma"/>
              </a:rPr>
              <a:t>В 1888 году Куприн поступил в московское Александровское военное училище. После его окончания он в чине подпоручика направлен в пехотный полк, стоявший в захолустном городке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ahoma"/>
              </a:rPr>
              <a:t>Советуем прочитать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0" name="Picture 6" descr="C:\Documents and Settings\Пользователь\Мои документы\Куприн\813430.jpg"/>
          <p:cNvPicPr/>
          <p:nvPr/>
        </p:nvPicPr>
        <p:blipFill>
          <a:blip r:embed="rId2"/>
          <a:stretch/>
        </p:blipFill>
        <p:spPr>
          <a:xfrm>
            <a:off x="530280" y="1828800"/>
            <a:ext cx="3216240" cy="421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C:\Documents and Settings\Пользователь\Мои документы\Куприн\822768.jpg"/>
          <p:cNvPicPr/>
          <p:nvPr/>
        </p:nvPicPr>
        <p:blipFill>
          <a:blip r:embed="rId3"/>
          <a:stretch/>
        </p:blipFill>
        <p:spPr>
          <a:xfrm>
            <a:off x="5638680" y="1981080"/>
            <a:ext cx="2730600" cy="398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:\Documents and Settings\Пользователь\Мои документы\анимашки\2.GIF"/>
          <p:cNvPicPr/>
          <p:nvPr/>
        </p:nvPicPr>
        <p:blipFill>
          <a:blip r:embed="rId4"/>
          <a:stretch/>
        </p:blipFill>
        <p:spPr>
          <a:xfrm>
            <a:off x="3886200" y="5105520"/>
            <a:ext cx="144468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4" name="Picture 9" descr="C:\Documents and Settings\Пользователь\Мои документы\анимашки\елка.gif"/>
          <p:cNvPicPr/>
          <p:nvPr/>
        </p:nvPicPr>
        <p:blipFill>
          <a:blip r:embed="rId2"/>
          <a:stretch/>
        </p:blipFill>
        <p:spPr>
          <a:xfrm>
            <a:off x="0" y="2743200"/>
            <a:ext cx="304812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3"/>
          <a:stretch/>
        </p:blipFill>
        <p:spPr>
          <a:xfrm>
            <a:off x="3886200" y="160020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1448280" y="-304920"/>
            <a:ext cx="89917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Tahoma"/>
              </a:rPr>
              <a:t>Словарная работ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ahoma"/>
              </a:rPr>
              <a:t>Тапёр, -а, м.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Музыкант (пианист, баянист и т. п.), игравший за плату на танцевальных вечерах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0" y="19810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апсодия, -и, ж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Инструментальное или вокально – инструментальное произведение на темы народных песен, танцев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0" y="31240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етхий, -ая,-ое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.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Разрушающийся или пришедший в    негодность от времени, от употребления; обветшалый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0" y="30481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0" y="4038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Безалаберный, -ая,-ое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1. Беспорядочный в своём образе жизни, в своих поступках. 2.Лишенный упорядоченности, последовательности, системности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0" y="5334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Репутация, -и, ж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Создавшееся  общее мнение о достоинствах и недостатках кого –либо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0" y="6095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Отпрыск, -а, м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Устар., теперь ирон. Потомок.</a:t>
            </a:r>
            <a:r>
              <a:rPr b="0" lang="ru-RU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5" name="Picture 15" descr="C:\Program Files\Common Files\Microsoft Shared\Clipart\cagcat50\EN00349_.wmf"/>
          <p:cNvPicPr/>
          <p:nvPr/>
        </p:nvPicPr>
        <p:blipFill>
          <a:blip r:embed="rId2"/>
          <a:stretch/>
        </p:blipFill>
        <p:spPr>
          <a:xfrm>
            <a:off x="6629400" y="0"/>
            <a:ext cx="2133720" cy="12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0" descr="C:\Program Files\Common Files\Microsoft Shared\Clipart\cagcat50\EN00354_.wmf"/>
          <p:cNvPicPr/>
          <p:nvPr/>
        </p:nvPicPr>
        <p:blipFill>
          <a:blip r:embed="rId3"/>
          <a:stretch/>
        </p:blipFill>
        <p:spPr>
          <a:xfrm>
            <a:off x="7467480" y="5899320"/>
            <a:ext cx="122400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ahoma"/>
              </a:rPr>
              <a:t>Семья Рудневых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8" name="Picture 5" descr="C:\Documents and Settings\Пользователь\Мои документы\Мои результаты сканировани\2007-03 (мар)\сканирование0001.jpg"/>
          <p:cNvPicPr/>
          <p:nvPr/>
        </p:nvPicPr>
        <p:blipFill>
          <a:blip r:embed="rId2"/>
          <a:stretch/>
        </p:blipFill>
        <p:spPr>
          <a:xfrm>
            <a:off x="5105520" y="1828800"/>
            <a:ext cx="3343320" cy="4267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:\Documents and Settings\Пользователь\Мои документы\анимашки\елка.gif"/>
          <p:cNvPicPr/>
          <p:nvPr/>
        </p:nvPicPr>
        <p:blipFill>
          <a:blip r:embed="rId3"/>
          <a:stretch/>
        </p:blipFill>
        <p:spPr>
          <a:xfrm>
            <a:off x="1219320" y="3581280"/>
            <a:ext cx="18428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65e5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Times New Roman"/>
              </a:rPr>
              <a:t>Ференц Лист и его «Венгерская рапсодия №2»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1" name="Picture 7" descr="C:\Documents and Settings\Пользователь\Мои документы\Куприн\Ф. Лист.jpg"/>
          <p:cNvPicPr/>
          <p:nvPr/>
        </p:nvPicPr>
        <p:blipFill>
          <a:blip r:embed="rId1"/>
          <a:stretch/>
        </p:blipFill>
        <p:spPr>
          <a:xfrm>
            <a:off x="0" y="1447920"/>
            <a:ext cx="3297240" cy="4114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C:\Documents and Settings\Пользователь\Мои документы\анимация и рисунки\разное\1.gif"/>
          <p:cNvPicPr/>
          <p:nvPr/>
        </p:nvPicPr>
        <p:blipFill>
          <a:blip r:embed="rId2"/>
          <a:stretch/>
        </p:blipFill>
        <p:spPr>
          <a:xfrm>
            <a:off x="8305920" y="0"/>
            <a:ext cx="582480" cy="903240"/>
          </a:xfrm>
          <a:prstGeom prst="rect">
            <a:avLst/>
          </a:prstGeom>
          <a:ln w="0">
            <a:noFill/>
          </a:ln>
        </p:spPr>
      </p:pic>
      <p:pic>
        <p:nvPicPr>
          <p:cNvPr id="183" name="Венгерская Рапсодия 02 01 (Фортепиано)[2].mid" descr=""/>
          <p:cNvPicPr/>
          <p:nvPr/>
        </p:nvPicPr>
        <p:blipFill>
          <a:blip r:embed="rId3"/>
          <a:stretch/>
        </p:blipFill>
        <p:spPr>
          <a:xfrm>
            <a:off x="228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9"/>
          <p:cNvSpPr/>
          <p:nvPr/>
        </p:nvSpPr>
        <p:spPr>
          <a:xfrm>
            <a:off x="4876920" y="1285920"/>
            <a:ext cx="42670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«Необходимым элементом музыки является виртуозность… От её дуновения зависит жизнь и смерть доверенного ей художественного произведения… Виртуоз должен быть в той же мере поэтом, как живописец и ваятель, которые тоже как бы передают по-своему природу, как бы поют её с листа по нотам творца»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6809760" y="628344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Times New Roman"/>
              </a:rPr>
              <a:t>Ф. Лист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569885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1:16:50Z</dcterms:created>
  <dc:creator>Пользователь</dc:creator>
  <dc:description/>
  <dc:language>en-US</dc:language>
  <cp:lastModifiedBy>user</cp:lastModifiedBy>
  <dcterms:modified xsi:type="dcterms:W3CDTF">2017-01-09T16:23:56Z</dcterms:modified>
  <cp:revision>19</cp:revision>
  <dc:subject/>
  <dc:title>Урок - презентация</dc:title>
</cp:coreProperties>
</file>