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26.jpeg" ContentType="image/jpeg"/>
  <Override PartName="/ppt/media/image24.png" ContentType="image/png"/>
  <Override PartName="/ppt/media/image23.jpeg" ContentType="image/jpeg"/>
  <Override PartName="/ppt/media/image12.png" ContentType="image/png"/>
  <Override PartName="/ppt/media/image22.png" ContentType="image/png"/>
  <Override PartName="/ppt/media/image28.jpeg" ContentType="image/jpeg"/>
  <Override PartName="/ppt/media/image8.jpeg" ContentType="image/jpeg"/>
  <Override PartName="/ppt/media/image30.png" ContentType="image/png"/>
  <Override PartName="/ppt/media/image27.jpeg" ContentType="image/jpeg"/>
  <Override PartName="/ppt/media/image10.png" ContentType="image/png"/>
  <Override PartName="/ppt/media/image1.jpeg" ContentType="image/jpeg"/>
  <Override PartName="/ppt/media/image13.png" ContentType="image/png"/>
  <Override PartName="/ppt/media/image7.png" ContentType="image/png"/>
  <Override PartName="/ppt/media/image37.png" ContentType="image/png"/>
  <Override PartName="/ppt/media/image9.png" ContentType="image/png"/>
  <Override PartName="/ppt/media/image19.jpeg" ContentType="image/jpeg"/>
  <Override PartName="/ppt/media/image11.png" ContentType="image/png"/>
  <Override PartName="/ppt/media/image5.png" ContentType="image/png"/>
  <Override PartName="/ppt/media/image35.png" ContentType="image/png"/>
  <Override PartName="/ppt/media/image31.jpeg" ContentType="image/jpeg"/>
  <Override PartName="/ppt/media/image32.png" ContentType="image/png"/>
  <Override PartName="/ppt/media/image2.png" ContentType="image/png"/>
  <Override PartName="/ppt/media/image25.jpeg" ContentType="image/jpeg"/>
  <Override PartName="/ppt/media/image34.png" ContentType="image/png"/>
  <Override PartName="/ppt/media/image4.png" ContentType="image/png"/>
  <Override PartName="/ppt/media/image14.jpeg" ContentType="image/jpeg"/>
  <Override PartName="/ppt/media/image33.png" ContentType="image/png"/>
  <Override PartName="/ppt/media/image3.png" ContentType="image/png"/>
  <Override PartName="/ppt/media/image15.png" ContentType="image/png"/>
  <Override PartName="/ppt/media/image16.jpeg" ContentType="image/jpeg"/>
  <Override PartName="/ppt/media/image17.png" ContentType="image/png"/>
  <Override PartName="/ppt/media/image6.jpeg" ContentType="image/jpeg"/>
  <Override PartName="/ppt/media/image18.png" ContentType="image/png"/>
  <Override PartName="/ppt/media/image20.png" ContentType="image/png"/>
  <Override PartName="/ppt/media/image36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684D4-D9BE-4850-8272-F64B5ABD2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88743-E3DF-4278-9AA7-57C78F2D4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E09EA-4D0D-4894-9BF2-ACCCE6057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0C700-C122-4E76-9A58-E0E7ADDAA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1A98F2-DAA4-49BA-BDE1-22BE8C02B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2A6752-3AA2-46D8-8559-A8C768ADE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F4C63B-078D-42F7-A8F2-93FF1BD45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0ECF8C-5AE2-488E-BD43-7B75CCF5B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ADA518-2BB4-4C78-99DA-223F0235C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1CF2B9-16DB-478D-9E10-0F6BE581A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7F118F-CC09-47D0-958F-A82E5A1C9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1BC82-BB0E-4214-90F0-393FB8465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73E436-3A73-4251-9511-FCB97DF72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7F23EB-414B-463A-B977-7E5A0079F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7A0BD7-10C8-4B05-A5F9-4A81D9B43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2490A4-D7FF-4251-B6B8-82C5D9164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C47E3F-636D-4114-861F-DA82B4173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75118F-C5E2-41BF-9741-66482F91C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E4E446-C59F-4545-A35D-FE42D2F5E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C56CE8-3363-480B-9B17-CF75D80BA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6AE08B-23D6-47A7-A3EE-4B985A811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2ABFBD-8879-4D43-AB00-79F7CF1D8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A6329-6391-4CA6-A3AD-9ACCFC9D3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0E41D5-BE8E-4D3A-9D23-83BAFFA00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0F1A32-C0D5-4926-B089-53D85AD06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0E68D5-278A-4DBF-8024-D37BB3F40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B87310-0350-4D62-B84C-27FE01E6C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41F12E-6DC8-4000-A58A-9AB0D91E0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F5F374-44AA-4391-BA50-8213B17B1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395ACE-B8EE-4E5E-B4FF-203746A58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F380A6E-91C3-45A5-A383-E93E0680F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E8A18DE-3A65-4172-89EA-EFE911F54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312DD96-037C-4A60-B504-2830CBA50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B31CD-317B-4A3C-A90B-C5AD00289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81B3841-8503-4970-AE44-65F9D8A76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D2830FF-474B-4950-BB65-CFC62B96A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6253D8A-3456-4EA1-90BA-FD68D81E7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B3384C1-3D79-4256-9BEB-9BDE81FF7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54A20FB-858D-4BAA-8982-F7DD4B906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F65080B-88EB-4454-B0C2-4DBCCBC13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FC16B0D-A739-4DBA-B43B-975A18C39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8608237-5FC3-4C71-AD79-C5C6F0FA6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E6539E5-F29A-4BC9-B2D6-D6149D02B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F89EA-E269-452F-A5BD-329F923BE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D8A5F-3B8B-4AF6-8F9C-D31FA3174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310A0-B6CB-482A-B819-FA5D91931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9ED4D-908C-4CDD-8B15-EECD33FA4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8AB0E-2DEB-45E0-9F91-E0A41FFC9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59579-907D-4541-AA77-817A3326E968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7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Прямая соединительная линия 12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Овал 13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F725E-279F-496A-A165-D87E371BA227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55B31-E1A6-413D-9C0F-62B5140F9BB0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9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Прямая соединительная линия 16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E176A-2B9F-4642-B438-576AE5007D3E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Заголовок 1" descr=""/>
          <p:cNvPicPr/>
          <p:nvPr/>
        </p:nvPicPr>
        <p:blipFill>
          <a:blip r:embed="rId1"/>
          <a:stretch/>
        </p:blipFill>
        <p:spPr>
          <a:xfrm>
            <a:off x="347760" y="963720"/>
            <a:ext cx="8528040" cy="179208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457200" y="370008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200" spc="-1" strike="noStrike">
              <a:solidFill>
                <a:srgbClr val="fefac9"/>
              </a:solidFill>
              <a:latin typeface="Constantia"/>
            </a:endParaRPr>
          </a:p>
        </p:txBody>
      </p:sp>
      <p:pic>
        <p:nvPicPr>
          <p:cNvPr id="172" name="Rectangle 2" descr=""/>
          <p:cNvPicPr/>
          <p:nvPr/>
        </p:nvPicPr>
        <p:blipFill>
          <a:blip r:embed="rId2"/>
          <a:stretch/>
        </p:blipFill>
        <p:spPr>
          <a:xfrm>
            <a:off x="3346560" y="5157720"/>
            <a:ext cx="5651280" cy="113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При </a:t>
            </a:r>
            <a:r>
              <a:rPr b="1" lang="ru-RU" sz="2600" spc="-1" strike="noStrike">
                <a:solidFill>
                  <a:srgbClr val="ffffff"/>
                </a:solidFill>
                <a:latin typeface="Constantia"/>
              </a:rPr>
              <a:t>перемещениях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используются </a:t>
            </a:r>
            <a:r>
              <a:rPr b="0" i="1" lang="ru-RU" sz="2600" spc="-1" strike="noStrike">
                <a:solidFill>
                  <a:srgbClr val="ffffff"/>
                </a:solidFill>
                <a:latin typeface="Constantia"/>
              </a:rPr>
              <a:t>приставные шаги,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которые выполняются вперед, назад, вправо, влево. Движение начинают с ноги, ближней к направлению перемещения (при перемещении вправо – с правой ноги, при перемещении влево – с левой). Применяют такие перемещения, когда у игрока достаточно времени и надо переместиться на небольшое расстояние.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0920" indent="-2509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ffffff"/>
                </a:solidFill>
                <a:latin typeface="Constantia"/>
              </a:rPr>
              <a:t>Двойной шаг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используют при быстром выходе к мячу. Движения начинают с дальней к направлению движения ноги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5" name="Заголовок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457200" y="857160"/>
            <a:ext cx="8229600" cy="523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ffffff"/>
                </a:solidFill>
                <a:latin typeface="Constantia"/>
              </a:rPr>
              <a:t>Бег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применяют при сравнительно больших перемещения , а </a:t>
            </a:r>
            <a:r>
              <a:rPr b="0" i="1" lang="ru-RU" sz="2600" spc="-1" strike="noStrike">
                <a:solidFill>
                  <a:srgbClr val="ffffff"/>
                </a:solidFill>
                <a:latin typeface="Constantia"/>
              </a:rPr>
              <a:t>прыжки –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при выполнении нападающих ударов и блокирования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Перемещения надо включать в разминку на каждом занятии. Это может быть бег из различных исходных положений (сидя, лежа, спиной вперед и др.); бег «змейкой», челночный бег, перемещения приставным шагом с имитацией приемов игры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7" name="Заголовок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84780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2" descr="C:\Documents and Settings\Алеша\Рабочий стол\волейбол(картинки)\волейбол 010.jpg"/>
          <p:cNvPicPr/>
          <p:nvPr/>
        </p:nvPicPr>
        <p:blipFill>
          <a:blip r:embed="rId2"/>
          <a:stretch/>
        </p:blipFill>
        <p:spPr>
          <a:xfrm>
            <a:off x="2786040" y="4643280"/>
            <a:ext cx="364320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357120" y="1213920"/>
            <a:ext cx="550080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Передача мяча сверху двумя руками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 является основным техническим приемом. Игрок должен правильно выйти к мячу и выбрать исходное положение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Техника выполнения: ноги согнуты в коленях, одна нога впереди. Туловище вертикально, руки вынесены вперед-вверх и согнуты в локтях, кисти на уровне лица. Кисти образуют «ковш», пальцы напряжены и слегка согнуты. При передаче ноги и руки выпрямляются, и мячу придается нужное направление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0" name="Заголовок 1" descr=""/>
          <p:cNvPicPr/>
          <p:nvPr/>
        </p:nvPicPr>
        <p:blipFill>
          <a:blip r:embed="rId1"/>
          <a:stretch/>
        </p:blipFill>
        <p:spPr>
          <a:xfrm>
            <a:off x="426960" y="-212760"/>
            <a:ext cx="7547040" cy="113976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2" descr="C:\Documents and Settings\Алеша\Рабочий стол\волейбол(картинки)\волейбол 002.jpg"/>
          <p:cNvPicPr/>
          <p:nvPr/>
        </p:nvPicPr>
        <p:blipFill>
          <a:blip r:embed="rId2"/>
          <a:stretch/>
        </p:blipFill>
        <p:spPr>
          <a:xfrm>
            <a:off x="6000840" y="1714680"/>
            <a:ext cx="242892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500040" y="1714680"/>
            <a:ext cx="528624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Прием мяча снизу над собой.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 Подачу или нападающий удар обычно принимают снизу двумя руками. Для приема игрок занимает среднюю или низкую стойку. Руки выпрямлены и опущены, кисти соединены «кулак в кулак» или «ладонь в ладонь». Мяч принимается на нижнюю часть предплечья («манжеты») с одновременным разгибанием ног и туловища вперед-вверх. Прямые руки поднимаются до уровня груди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3" name="Заголовок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13976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2" descr="C:\Documents and Settings\Алеша\Рабочий стол\волейбол(картинки)\волейбол 001.jpg"/>
          <p:cNvPicPr/>
          <p:nvPr/>
        </p:nvPicPr>
        <p:blipFill>
          <a:blip r:embed="rId2"/>
          <a:stretch/>
        </p:blipFill>
        <p:spPr>
          <a:xfrm>
            <a:off x="5643720" y="2374920"/>
            <a:ext cx="3068640" cy="21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428400" y="1571760"/>
            <a:ext cx="8072280" cy="35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Нижняя прямая подача.</a:t>
            </a:r>
            <a:r>
              <a:rPr b="1" i="1" lang="ru-RU" sz="24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Игра в волейбол начинается с подачи. Игрок располагается за лицевой линией, подбрасывает мяч и ударом одной руки направляет его на сторону соперника так, чтобы мяч не коснулся сетки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Все подачи разделяются на нижние и верхние. При верхних подачах удар по мячу наносят на уровне головы и выше, а при нижних – ниже уровня головы. Если подающий стоит лицом к сетке – подача прямая, если боком – боковая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6" name="Заголовок 1" descr=""/>
          <p:cNvPicPr/>
          <p:nvPr/>
        </p:nvPicPr>
        <p:blipFill>
          <a:blip r:embed="rId1"/>
          <a:stretch/>
        </p:blipFill>
        <p:spPr>
          <a:xfrm>
            <a:off x="360360" y="212760"/>
            <a:ext cx="754056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Заголовок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1932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 txBox="1"/>
          <p:nvPr/>
        </p:nvSpPr>
        <p:spPr>
          <a:xfrm>
            <a:off x="456840" y="1600200"/>
            <a:ext cx="497196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Самой простой подачей для начинающих волейболистов является нижняя прямая. Игрок стоит лицом к сетке, ноги согнуты в коленях, левая нога впереди (если вы левша, то правая), мяч в левой руке. Правая рука отводится для замаха назад, а левой рукой подбрасывается  мяч вверх на 30-50 см. Мяч ударяется напряженной ладонью на уровне пояса. После удара игрок делает правой ногой шаг вперед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9" name="Picture 2" descr="C:\Documents and Settings\Алеша\Рабочий стол\волейбол(картинки)\волейбол 015.jpg"/>
          <p:cNvPicPr/>
          <p:nvPr/>
        </p:nvPicPr>
        <p:blipFill>
          <a:blip r:embed="rId2"/>
          <a:stretch/>
        </p:blipFill>
        <p:spPr>
          <a:xfrm>
            <a:off x="5429160" y="1500120"/>
            <a:ext cx="3305160" cy="217800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4" descr="C:\Documents and Settings\Алеша\Рабочий стол\Мама\волейбол(картинки)\волейбол 014.jpg"/>
          <p:cNvPicPr/>
          <p:nvPr/>
        </p:nvPicPr>
        <p:blipFill>
          <a:blip r:embed="rId3"/>
          <a:stretch/>
        </p:blipFill>
        <p:spPr>
          <a:xfrm>
            <a:off x="5429160" y="4071960"/>
            <a:ext cx="32860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285480" y="1143000"/>
            <a:ext cx="450036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Передача двумя руками сверху в прыжке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. Если мяч после приема подачи летит высоко, то можно выполнить передачу в прыжке. Для этого игрок выпрыгивает вверх так, чтобы встретить мяч у лба. Руки выпрямляются вперед-вверх, передавая мяч в нужном направлении и с определенной траекторией. Затем игрок приземляется на согнутые ноги в широкую стойку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12" name="Заголовок 1" descr=""/>
          <p:cNvPicPr/>
          <p:nvPr/>
        </p:nvPicPr>
        <p:blipFill>
          <a:blip r:embed="rId1"/>
          <a:stretch/>
        </p:blipFill>
        <p:spPr>
          <a:xfrm>
            <a:off x="426960" y="-212760"/>
            <a:ext cx="7547040" cy="11397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2" descr="C:\Documents and Settings\Алеша\Рабочий стол\волейбол(картинки)\волейбол 002.jpg"/>
          <p:cNvPicPr/>
          <p:nvPr/>
        </p:nvPicPr>
        <p:blipFill>
          <a:blip r:embed="rId2"/>
          <a:stretch/>
        </p:blipFill>
        <p:spPr>
          <a:xfrm>
            <a:off x="5500800" y="1928880"/>
            <a:ext cx="250020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428400" y="1714680"/>
            <a:ext cx="4214520" cy="47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Constantia"/>
              </a:rPr>
              <a:t>Передача сверху за голову в опорном положении.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Если нужно передать мяч назад, следует подойти под мяч, держа кисти над головой. Разгибая ноги, прогибаясь в пояснице и выпрямляя руки вверх-назад, выполнить передачу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15" name="Заголовок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13976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2" descr="C:\Documents and Settings\Алеша\Рабочий стол\волейбол(картинки)\волейбол 003.jpg"/>
          <p:cNvPicPr/>
          <p:nvPr/>
        </p:nvPicPr>
        <p:blipFill>
          <a:blip r:embed="rId2"/>
          <a:stretch/>
        </p:blipFill>
        <p:spPr>
          <a:xfrm>
            <a:off x="5643720" y="2057400"/>
            <a:ext cx="2643120" cy="34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428400" y="1357200"/>
            <a:ext cx="77864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Прямой нападающий удар – один из самых распространенных приемов в технике волейбола. Он состоит из разбега (с одного, двух, трех шагов), прыжка, удара и приземления. В последнем шаге разбега нога ставится вперед на пятку, к ней приставляется другая нога (стопорящий шаг), руки отводятся назад. Игрок выполняет активный взмах руками вперед-вверх, ноги разгибаются, и выполняется прыжок вверх. В прыжке правая рука движется вверх-назад, левая опускается вдоль туловища. Удар по мячу выполняется напряженной ладонью (кисть накладывается на мяч сзади-сверху). Игрок приземляется на согнутые ноги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18" name="Заголовок 1" descr=""/>
          <p:cNvPicPr/>
          <p:nvPr/>
        </p:nvPicPr>
        <p:blipFill>
          <a:blip r:embed="rId1"/>
          <a:stretch/>
        </p:blipFill>
        <p:spPr>
          <a:xfrm>
            <a:off x="500040" y="360360"/>
            <a:ext cx="7547040" cy="56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Заголовок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193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2" descr="C:\Documents and Settings\Алеша\Рабочий стол\волейбол(картинки)\волейбол 010.jpg"/>
          <p:cNvPicPr/>
          <p:nvPr/>
        </p:nvPicPr>
        <p:blipFill>
          <a:blip r:embed="rId2"/>
          <a:stretch/>
        </p:blipFill>
        <p:spPr>
          <a:xfrm>
            <a:off x="857160" y="1928880"/>
            <a:ext cx="728676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457200" y="2143080"/>
            <a:ext cx="8229600" cy="39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История волейбола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457200" indent="-4572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Основные правила игры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457200" indent="-4572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Техника безопасности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457200" indent="-4572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Основные приемы игры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457200" indent="-457200" algn="ctr"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4" name="Заголовок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Первые шаги разбега выполняются медленно по прямой линии, перпендикулярно сетке, а последний – быстро по мячу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Прыжок выполняется вертикально вверх. Приземление и отталкивание осуществляется из одной точки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22" name="Заголовок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2" descr=""/>
          <p:cNvPicPr/>
          <p:nvPr/>
        </p:nvPicPr>
        <p:blipFill>
          <a:blip r:embed="rId1"/>
          <a:stretch/>
        </p:blipFill>
        <p:spPr>
          <a:xfrm>
            <a:off x="2071800" y="1643040"/>
            <a:ext cx="5114880" cy="2143080"/>
          </a:xfrm>
          <a:prstGeom prst="rect">
            <a:avLst/>
          </a:prstGeom>
          <a:ln w="0">
            <a:noFill/>
          </a:ln>
        </p:spPr>
      </p:pic>
      <p:pic>
        <p:nvPicPr>
          <p:cNvPr id="224" name="Заголовок 1" descr=""/>
          <p:cNvPicPr/>
          <p:nvPr/>
        </p:nvPicPr>
        <p:blipFill>
          <a:blip r:embed="rId2"/>
          <a:stretch/>
        </p:blipFill>
        <p:spPr>
          <a:xfrm>
            <a:off x="457200" y="152280"/>
            <a:ext cx="8229600" cy="121932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4" descr=""/>
          <p:cNvPicPr/>
          <p:nvPr/>
        </p:nvPicPr>
        <p:blipFill>
          <a:blip r:embed="rId3"/>
          <a:stretch/>
        </p:blipFill>
        <p:spPr>
          <a:xfrm>
            <a:off x="1857240" y="3929040"/>
            <a:ext cx="5500800" cy="25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Заголовок 1" descr=""/>
          <p:cNvPicPr/>
          <p:nvPr/>
        </p:nvPicPr>
        <p:blipFill>
          <a:blip r:embed="rId1"/>
          <a:stretch/>
        </p:blipFill>
        <p:spPr>
          <a:xfrm>
            <a:off x="500040" y="573120"/>
            <a:ext cx="8186760" cy="378612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2" descr="C:\Documents and Settings\Алеша\Рабочий стол\Мама\волейбол(картинки)\волейбол2.jpg"/>
          <p:cNvPicPr/>
          <p:nvPr/>
        </p:nvPicPr>
        <p:blipFill>
          <a:blip r:embed="rId2"/>
          <a:stretch/>
        </p:blipFill>
        <p:spPr>
          <a:xfrm>
            <a:off x="5072040" y="4500720"/>
            <a:ext cx="3357720" cy="192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Заголовок 1" descr=""/>
          <p:cNvPicPr/>
          <p:nvPr/>
        </p:nvPicPr>
        <p:blipFill>
          <a:blip r:embed="rId1"/>
          <a:stretch/>
        </p:blipFill>
        <p:spPr>
          <a:xfrm>
            <a:off x="360360" y="353880"/>
            <a:ext cx="8369280" cy="32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Заголовок 2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1932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 txBox="1"/>
          <p:nvPr/>
        </p:nvSpPr>
        <p:spPr>
          <a:xfrm>
            <a:off x="456840" y="1523880"/>
            <a:ext cx="5329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1900" spc="-1" strike="noStrike">
                <a:solidFill>
                  <a:srgbClr val="ffffff"/>
                </a:solidFill>
                <a:latin typeface="Constantia"/>
              </a:rPr>
              <a:t>Впервые волейбол появился в Соединенных Штатах Америки в 1895 г. Придумал эту игру преподаватель физической культуры Вильям Морган. Первоначально в волейбол играли резиновой камерой, которую перебрасывали через натянутую на высоте 198 см веревку, а позже – через сетку.</a:t>
            </a: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1900" spc="-1" strike="noStrike">
                <a:solidFill>
                  <a:srgbClr val="ffffff"/>
                </a:solidFill>
                <a:latin typeface="Constantia"/>
              </a:rPr>
              <a:t>За прошедшие 100 лет волейбол стал одним из самых популярных и массовых видов спорта в мире и в нашей стране, а так же олимпийским видом спорта. Женская и мужская сборные команды России семь раз завоевывали золотые олимпийские награды. </a:t>
            </a: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7" name="Picture 4" descr="C:\Documents and Settings\Алеша\Рабочий стол\Мама\волейбол(картинки)\волейбол1.jpg"/>
          <p:cNvPicPr/>
          <p:nvPr/>
        </p:nvPicPr>
        <p:blipFill>
          <a:blip r:embed="rId2"/>
          <a:stretch/>
        </p:blipFill>
        <p:spPr>
          <a:xfrm>
            <a:off x="6219720" y="3000240"/>
            <a:ext cx="1710000" cy="23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457200" y="928440"/>
            <a:ext cx="8229600" cy="30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Эта игра доступна детям и взрослым. В нее можно играть и в спортивном зале, и на открытой площадке. В игре развиваются силовые способности, прыгучесть, ловкость, координация движений. Игра в волейбол не только укрепляет здоровье, но и воспитывает такие качества, как смелость, настойчивость, целеустремленность, коллективизм, взаимопомощь, чувство дружбы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9" name="Заголовок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77472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2" descr="C:\Documents and Settings\Алеша\Рабочий стол\волейбол(картинки)\волейбол 016.jpg"/>
          <p:cNvPicPr/>
          <p:nvPr/>
        </p:nvPicPr>
        <p:blipFill>
          <a:blip r:embed="rId2"/>
          <a:stretch/>
        </p:blipFill>
        <p:spPr>
          <a:xfrm>
            <a:off x="2643120" y="4214880"/>
            <a:ext cx="3902040" cy="22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Заголовок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56052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 txBox="1"/>
          <p:nvPr/>
        </p:nvSpPr>
        <p:spPr>
          <a:xfrm>
            <a:off x="357120" y="714240"/>
            <a:ext cx="621504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Волейбол – командная спортивная игра, в которой две команды по 6 человек ведут игру на площадке размером 18*9 м. Игроки одной из команд стремятся переправить мяч передачей или ударом на сторону соперников так, чтобы те не смогли возвратить его обратно, не нарушая правил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3440" indent="-2534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Волейбольная сетка разделяет площадку на две равные половины. Ширина сетки – 1 м, высота – 2,43 см для мужчин, 2,24 см – для женщин,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3440" indent="-2534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83" name="Picture 3" descr="C:\Documents and Settings\Алеша\Рабочий стол\Мама\волейбол(картинки)\волейбол3.png"/>
          <p:cNvPicPr/>
          <p:nvPr/>
        </p:nvPicPr>
        <p:blipFill>
          <a:blip r:embed="rId2"/>
          <a:stretch/>
        </p:blipFill>
        <p:spPr>
          <a:xfrm>
            <a:off x="6572160" y="2571840"/>
            <a:ext cx="2214720" cy="31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456840" y="1143000"/>
            <a:ext cx="761508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Игра состоит из трех или пяти партий, каждая из которых продолжается до тех пор, пока одна из команд не наберет 25 очков(с разницей в два очка). Решающая, третья(пятая) партия продолжается до 15 очков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Каждая команда имеет право трижды, не считая блока, коснуться мяча на своей стороне площадки. Мяч разрешается отбивать любой частью тела выше пояса и стопой. Мяч остается в игре до тех пор, пока не коснется площадки, стен, потолка, других предметов, или до ошибки кого-либо из игроков. За каждый выигранный мяч команда получает 1 очко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Игроки на площадке образуют две линии: переднюю и заднюю. Переход игроков выполняется по ходу часовой стрелки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85" name="Заголовок 1" descr=""/>
          <p:cNvPicPr/>
          <p:nvPr/>
        </p:nvPicPr>
        <p:blipFill>
          <a:blip r:embed="rId1"/>
          <a:stretch/>
        </p:blipFill>
        <p:spPr>
          <a:xfrm>
            <a:off x="500040" y="285840"/>
            <a:ext cx="7467480" cy="57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На занятиях по волейболу необходимо иметь соответствующую спортивную форму (футболка, шорты, носки, кроссовки или кеды на тонкой гибкой подошве)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Чтобы избежать травм, следует соблюдать правила техники безопасности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В начале занятия сделать разминку, хорошо разогреть мышцы и связки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Осмотреть игровую площадку, чтобы на ней не было опасных предметов.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87" name="Заголовок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457200" y="928800"/>
            <a:ext cx="8229600" cy="36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f3a44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Не принимать мяч сверху на прямые руки, большие пальцы не выставлять вперед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457200" indent="-457200">
              <a:spcBef>
                <a:spcPts val="601"/>
              </a:spcBef>
              <a:buClr>
                <a:srgbClr val="f3a44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При приеме мяча снизу не сгибать руки в локтевых суставах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457200" indent="-457200">
              <a:spcBef>
                <a:spcPts val="601"/>
              </a:spcBef>
              <a:buClr>
                <a:srgbClr val="f3a44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Внимательно следить за тем, чтобы мяч не попал под ноги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457200" indent="-457200">
              <a:spcBef>
                <a:spcPts val="601"/>
              </a:spcBef>
              <a:buClr>
                <a:srgbClr val="f3a44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После прыжков приземляться на согнутые ноги в широкую стойку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457200" indent="-457200">
              <a:spcBef>
                <a:spcPts val="601"/>
              </a:spcBef>
              <a:buClr>
                <a:srgbClr val="f3a44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89" name="Заголовок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84780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3" descr="C:\Documents and Settings\Алеша\Рабочий стол\волейбол(картинки)\волейбол 012.jpg"/>
          <p:cNvPicPr/>
          <p:nvPr/>
        </p:nvPicPr>
        <p:blipFill>
          <a:blip r:embed="rId2"/>
          <a:stretch/>
        </p:blipFill>
        <p:spPr>
          <a:xfrm>
            <a:off x="3857760" y="4357800"/>
            <a:ext cx="4786200" cy="207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Заголовок 1" descr=""/>
          <p:cNvPicPr/>
          <p:nvPr/>
        </p:nvPicPr>
        <p:blipFill>
          <a:blip r:embed="rId1"/>
          <a:stretch/>
        </p:blipFill>
        <p:spPr>
          <a:xfrm>
            <a:off x="500040" y="0"/>
            <a:ext cx="7467480" cy="114624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 txBox="1"/>
          <p:nvPr/>
        </p:nvSpPr>
        <p:spPr>
          <a:xfrm>
            <a:off x="285840" y="1356840"/>
            <a:ext cx="485784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В волейболе выделяют пять основных приемов игры: подача, прием, передача, нападающий удар и блокирование. Все эти элементы сочетаются с различными стойками и перемещениями игрока.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Стойка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(рис.16, 17, 18) – это удобное исходное положение волейболиста: ноги слегка согнуты, тяжесть тела равномерно распределена на обе ноги, туловище наклонено вперед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3" name="Picture 2" descr="C:\Documents and Settings\Алеша\Рабочий стол\волейбол(картинки)\волейбол 002.jpg"/>
          <p:cNvPicPr/>
          <p:nvPr/>
        </p:nvPicPr>
        <p:blipFill>
          <a:blip r:embed="rId2"/>
          <a:stretch/>
        </p:blipFill>
        <p:spPr>
          <a:xfrm>
            <a:off x="5286240" y="2857680"/>
            <a:ext cx="3000600" cy="292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Андрей</cp:lastModifiedBy>
  <dcterms:modified xsi:type="dcterms:W3CDTF">2017-01-08T07:59:20Z</dcterms:modified>
  <cp:revision>41</cp:revision>
  <dc:subject/>
  <dc:title>Волейбол. 5-7 классы.</dc:title>
</cp:coreProperties>
</file>