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8.jpeg" ContentType="image/jpeg"/>
  <Override PartName="/ppt/media/image8.jpeg" ContentType="image/jpeg"/>
  <Override PartName="/ppt/media/image30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13.png" ContentType="image/png"/>
  <Override PartName="/ppt/media/image7.png" ContentType="image/png"/>
  <Override PartName="/ppt/media/image37.png" ContentType="image/png"/>
  <Override PartName="/ppt/media/image9.png" ContentType="image/png"/>
  <Override PartName="/ppt/media/image19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34.png" ContentType="image/pn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3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942-0BB9-4B93-9FBE-49AE4155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D9A-82D0-4A5D-ADFA-0F8A4F44E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087-76FA-4A1F-A8E0-4E18617E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817-DD56-4A9A-B72B-4BC55B5F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584A15-A191-428D-91F9-78C91F46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8CF18-BD04-4235-8ACE-E711A7CF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D7C25-DC59-4D58-B75A-0C6FECB2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E7DC3-58E1-47DF-875C-FD883699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D7062-3C70-45A8-AEE8-E068820E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72DD93-33BB-4FBA-B5F9-6814926E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2DCD1-4480-4617-A85D-39A07ED9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FEF-39D3-43D5-BBE3-2F392E38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9A924-F6B7-4707-AA40-F5D6CEE2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2B07C-78BE-4679-9485-A26C63B1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751A7-E395-492A-9A6B-EB7387F5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4A9CF-B3A9-48C6-87B9-A224992D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E2354C-BAF1-4770-889B-B56186A5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C8CD9-4D89-44F1-8CA2-80A64281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2F9C-8909-4528-B548-374FBAB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59180-FAEF-416F-BFD2-9931F653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90132-4D67-4CA9-AA37-36148348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27C4F-5B42-491D-B7F3-2C12ADCF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A6D-1FD8-485D-8AFF-2FA7B918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3356-D78B-47D8-B2F8-A6B2182C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89D40-5D6D-434C-A727-C20FD42B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1FC4-5461-46E1-8BA2-C071CD97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4B2CE-09CA-4CF3-AA27-535F7DC1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149ED-D101-4EB7-B855-B6A66461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9D3A3-CED3-4768-A9E3-6B6B6FA2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5E75-2BF1-45F7-B469-00C925C0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5B1E2C-8842-49BB-ACC6-FAFA8F8F4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718E10-9D9D-4D16-B762-DACAB400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1D590-DAB8-4551-BE19-C7984551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A30F-C060-4C3E-9BB0-250FF80D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D2CFD-EAA5-46BF-9F14-335A0E85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2596A4-E34A-40C8-8EB0-171FA25A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E17CB-F26B-4F22-BA21-FD78B96F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CAA90-F745-42C4-8C3D-E9A30AFB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6E623-D537-469F-9A90-DB8E2E98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DF271C-46D1-49BB-986C-8EBD149C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37C2E-DBCB-47EB-AEEE-F02EC106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8BA8CF-2BE4-4BA0-8150-60CF9F7A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07B961-D0F5-4580-93D8-599AE893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638-3069-457F-BD75-DD3FD8C8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D76-5F75-4D13-8670-A67571FA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2A83-B076-4C1D-8DA3-3D66CCD2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840-79CC-4490-8BEC-C453A7D0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6A4-9E38-4562-8AF3-5490BE07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615C-F23F-4EB5-AC8C-70C2B31EFFF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7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13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7101-CBE8-4E45-9250-0D03B004817D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C0F8-8EEC-4C92-861F-7D83DC1756D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9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16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F351-75C4-400F-AA8B-8916A082AB3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347760" y="963720"/>
            <a:ext cx="8528040" cy="1792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172" name="Rectangle 2" descr=""/>
          <p:cNvPicPr/>
          <p:nvPr/>
        </p:nvPicPr>
        <p:blipFill>
          <a:blip r:embed="rId2"/>
          <a:stretch/>
        </p:blipFill>
        <p:spPr>
          <a:xfrm>
            <a:off x="3346560" y="5157720"/>
            <a:ext cx="56512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еремещениях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используются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риставные шаги,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торые выполняются вперед, назад, вправо, влево. Движение начинают с ноги, ближней к направлению перемещения (при перемещении вправо – с правой ноги, при перемещении влево – с левой). Применяют такие перемещения, когда у игрока достаточно времени и надо переместиться на небольшое расстояние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Двойной шаг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пользуют при быстром выходе к мячу. Движения начинают с дальней к направлению движения ног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85716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Бег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меняют при сравнительно больших перемещения , а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прыжки –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выполнении нападающих ударов и блокирова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мещения надо включать в разминку на каждом занятии. Это может быть бег из различных исходных положений (сидя, лежа, спиной вперед и др.); бег «змейкой», челночный бег, перемещения приставным шагом с имитацией приемов игр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47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C:\Documents and Settings\Алеша\Рабочий стол\волейбол(картинки)\волейбол 010.jpg"/>
          <p:cNvPicPr/>
          <p:nvPr/>
        </p:nvPicPr>
        <p:blipFill>
          <a:blip r:embed="rId2"/>
          <a:stretch/>
        </p:blipFill>
        <p:spPr>
          <a:xfrm>
            <a:off x="2786040" y="4643280"/>
            <a:ext cx="36432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7120" y="1213920"/>
            <a:ext cx="5500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ередача мяча сверху двумя рукам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является основным техническим приемом. Игрок должен правильно выйти к мячу и выбрать исходное полож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ехника выполнения: ноги согнуты в коленях, одна нога впереди. Туловище вертикально, руки вынесены вперед-вверх и согнуты в локтях, кисти на уровне лица. Кисти образуют «ковш», пальцы напряжены и слегка согнуты. При передаче ноги и руки выпрямляются, и мячу придается нужное направле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426960" y="-212760"/>
            <a:ext cx="7547040" cy="11397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Documents and Settings\Алеша\Рабочий стол\волейбол(картинки)\волейбол 002.jpg"/>
          <p:cNvPicPr/>
          <p:nvPr/>
        </p:nvPicPr>
        <p:blipFill>
          <a:blip r:embed="rId2"/>
          <a:stretch/>
        </p:blipFill>
        <p:spPr>
          <a:xfrm>
            <a:off x="6000840" y="1714680"/>
            <a:ext cx="24289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00040" y="1714680"/>
            <a:ext cx="5286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рием мяча снизу над собой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Подачу или нападающий удар обычно принимают снизу двумя руками. Для приема игрок занимает среднюю или низкую стойку. Руки выпрямлены и опущены, кисти соединены «кулак в кулак» или «ладонь в ладонь». Мяч принимается на нижнюю часть предплечья («манжеты») с одновременным разгибанием ног и туловища вперед-вверх. Прямые руки поднимаются до уровня груд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C:\Documents and Settings\Алеша\Рабочий стол\волейбол(картинки)\волейбол 001.jpg"/>
          <p:cNvPicPr/>
          <p:nvPr/>
        </p:nvPicPr>
        <p:blipFill>
          <a:blip r:embed="rId2"/>
          <a:stretch/>
        </p:blipFill>
        <p:spPr>
          <a:xfrm>
            <a:off x="5643720" y="2374920"/>
            <a:ext cx="306864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28400" y="1571760"/>
            <a:ext cx="807228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Нижняя прямая подача.</a:t>
            </a:r>
            <a:r>
              <a:rPr b="1" i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гра в волейбол начинается с подачи. Игрок располагается за лицевой линией, подбрасывает мяч и ударом одной руки направляет его на сторону соперника так, чтобы мяч не коснулся сетк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се подачи разделяются на нижние и верхние. При верхних подачах удар по мячу наносят на уровне головы и выше, а при нижних – ниже уровня головы. Если подающий стоит лицом к сетке – подача прямая, если боком – бокова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Заголовок 1" descr=""/>
          <p:cNvPicPr/>
          <p:nvPr/>
        </p:nvPicPr>
        <p:blipFill>
          <a:blip r:embed="rId1"/>
          <a:stretch/>
        </p:blipFill>
        <p:spPr>
          <a:xfrm>
            <a:off x="360360" y="212760"/>
            <a:ext cx="75405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456840" y="1600200"/>
            <a:ext cx="49719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амой простой подачей для начинающих волейболистов является нижняя прямая. Игрок стоит лицом к сетке, ноги согнуты в коленях, левая нога впереди (если вы левша, то правая), мяч в левой руке. Правая рука отводится для замаха назад, а левой рукой подбрасывается  мяч вверх на 30-50 см. Мяч ударяется напряженной ладонью на уровне пояса. После удара игрок делает правой ногой шаг впере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2" descr="C:\Documents and Settings\Алеша\Рабочий стол\волейбол(картинки)\волейбол 015.jpg"/>
          <p:cNvPicPr/>
          <p:nvPr/>
        </p:nvPicPr>
        <p:blipFill>
          <a:blip r:embed="rId2"/>
          <a:stretch/>
        </p:blipFill>
        <p:spPr>
          <a:xfrm>
            <a:off x="5429160" y="1500120"/>
            <a:ext cx="3305160" cy="217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Алеша\Рабочий стол\Мама\волейбол(картинки)\волейбол 014.jpg"/>
          <p:cNvPicPr/>
          <p:nvPr/>
        </p:nvPicPr>
        <p:blipFill>
          <a:blip r:embed="rId3"/>
          <a:stretch/>
        </p:blipFill>
        <p:spPr>
          <a:xfrm>
            <a:off x="5429160" y="4071960"/>
            <a:ext cx="3286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85480" y="1143000"/>
            <a:ext cx="45003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ередача двумя руками сверху в прыжк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 Если мяч после приема подачи летит высоко, то можно выполнить передачу в прыжке. Для этого игрок выпрыгивает вверх так, чтобы встретить мяч у лба. Руки выпрямляются вперед-вверх, передавая мяч в нужном направлении и с определенной траекторией. Затем игрок приземляется на согнутые ноги в широкую стойк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426960" y="-212760"/>
            <a:ext cx="7547040" cy="11397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C:\Documents and Settings\Алеша\Рабочий стол\волейбол(картинки)\волейбол 002.jpg"/>
          <p:cNvPicPr/>
          <p:nvPr/>
        </p:nvPicPr>
        <p:blipFill>
          <a:blip r:embed="rId2"/>
          <a:stretch/>
        </p:blipFill>
        <p:spPr>
          <a:xfrm>
            <a:off x="5500800" y="1928880"/>
            <a:ext cx="2500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28400" y="1714680"/>
            <a:ext cx="421452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Передача сверху за голову в опорном положении.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Если нужно передать мяч назад, следует подойти под мяч, держа кисти над головой. Разгибая ноги, прогибаясь в пояснице и выпрямляя руки вверх-назад, выполнить передач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Алеша\Рабочий стол\волейбол(картинки)\волейбол 003.jpg"/>
          <p:cNvPicPr/>
          <p:nvPr/>
        </p:nvPicPr>
        <p:blipFill>
          <a:blip r:embed="rId2"/>
          <a:stretch/>
        </p:blipFill>
        <p:spPr>
          <a:xfrm>
            <a:off x="5643720" y="2057400"/>
            <a:ext cx="264312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28400" y="1357200"/>
            <a:ext cx="7786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ямой нападающий удар – один из самых распространенных приемов в технике волейбола. Он состоит из разбега (с одного, двух, трех шагов), прыжка, удара и приземления. В последнем шаге разбега нога ставится вперед на пятку, к ней приставляется другая нога (стопорящий шаг), руки отводятся назад. Игрок выполняет активный взмах руками вперед-вверх, ноги разгибаются, и выполняется прыжок вверх. В прыжке правая рука движется вверх-назад, левая опускается вдоль туловища. Удар по мячу выполняется напряженной ладонью (кисть накладывается на мяч сзади-сверху). Игрок приземляется на согнутые ног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500040" y="360360"/>
            <a:ext cx="75470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Documents and Settings\Алеша\Рабочий стол\волейбол(картинки)\волейбол 010.jpg"/>
          <p:cNvPicPr/>
          <p:nvPr/>
        </p:nvPicPr>
        <p:blipFill>
          <a:blip r:embed="rId2"/>
          <a:stretch/>
        </p:blipFill>
        <p:spPr>
          <a:xfrm>
            <a:off x="857160" y="1928880"/>
            <a:ext cx="7286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2143080"/>
            <a:ext cx="82296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стория волейбол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новные правила игр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Техника безопасност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новные приемы игр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 algn="ctr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вые шаги разбега выполняются медленно по прямой линии, перпендикулярно сетке, а последний – быстро по мяч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ыжок выполняется вертикально вверх. Приземление и отталкивание осуществляется из одной точ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071800" y="1643040"/>
            <a:ext cx="5114880" cy="214308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3"/>
          <a:stretch/>
        </p:blipFill>
        <p:spPr>
          <a:xfrm>
            <a:off x="1857240" y="3929040"/>
            <a:ext cx="5500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500040" y="573120"/>
            <a:ext cx="8186760" cy="3786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Documents and Settings\Алеша\Рабочий стол\Мама\волейбол(картинки)\волейбол2.jpg"/>
          <p:cNvPicPr/>
          <p:nvPr/>
        </p:nvPicPr>
        <p:blipFill>
          <a:blip r:embed="rId2"/>
          <a:stretch/>
        </p:blipFill>
        <p:spPr>
          <a:xfrm>
            <a:off x="5072040" y="4500720"/>
            <a:ext cx="335772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360360" y="353880"/>
            <a:ext cx="8369280" cy="32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6840" y="1523880"/>
            <a:ext cx="532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Впервые волейбол появился в Соединенных Штатах Америки в 1895 г. Придумал эту игру преподаватель физической культуры Вильям Морган. Первоначально в волейбол играли резиновой камерой, которую перебрасывали через натянутую на высоте 198 см веревку, а позже – через сетку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За прошедшие 100 лет волейбол стал одним из самых популярных и массовых видов спорта в мире и в нашей стране, а так же олимпийским видом спорта. Женская и мужская сборные команды России семь раз завоевывали золотые олимпийские награды.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Picture 4" descr="C:\Documents and Settings\Алеша\Рабочий стол\Мама\волейбол(картинки)\волейбол1.jpg"/>
          <p:cNvPicPr/>
          <p:nvPr/>
        </p:nvPicPr>
        <p:blipFill>
          <a:blip r:embed="rId2"/>
          <a:stretch/>
        </p:blipFill>
        <p:spPr>
          <a:xfrm>
            <a:off x="6219720" y="3000240"/>
            <a:ext cx="17100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9284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Эта игра доступна детям и взрослым. В нее можно играть и в спортивном зале, и на открытой площадке. В игре развиваются силовые способности, прыгучесть, ловкость, координация движений. Игра в волейбол не только укрепляет здоровье, но и воспитывает такие качества, как смелость, настойчивость, целеустремленность, коллективизм, взаимопомощь, чувство дружб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774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Documents and Settings\Алеша\Рабочий стол\волейбол(картинки)\волейбол 016.jpg"/>
          <p:cNvPicPr/>
          <p:nvPr/>
        </p:nvPicPr>
        <p:blipFill>
          <a:blip r:embed="rId2"/>
          <a:stretch/>
        </p:blipFill>
        <p:spPr>
          <a:xfrm>
            <a:off x="2643120" y="4214880"/>
            <a:ext cx="390204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560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57120" y="714240"/>
            <a:ext cx="6215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лейбол – командная спортивная игра, в которой две команды по 6 человек ведут игру на площадке размером 18*9 м. Игроки одной из команд стремятся переправить мяч передачей или ударом на сторону соперников так, чтобы те не смогли возвратить его обратно, не нарушая прави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олейбольная сетка разделяет площадку на две равные половины. Ширина сетки – 1 м, высота – 2,43 см для мужчин, 2,24 см – для женщин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Picture 3" descr="C:\Documents and Settings\Алеша\Рабочий стол\Мама\волейбол(картинки)\волейбол3.png"/>
          <p:cNvPicPr/>
          <p:nvPr/>
        </p:nvPicPr>
        <p:blipFill>
          <a:blip r:embed="rId2"/>
          <a:stretch/>
        </p:blipFill>
        <p:spPr>
          <a:xfrm>
            <a:off x="6572160" y="2571840"/>
            <a:ext cx="22147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6840" y="1143000"/>
            <a:ext cx="76150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гра состоит из трех или пяти партий, каждая из которых продолжается до тех пор, пока одна из команд не наберет 25 очков(с разницей в два очка). Решающая, третья(пятая) партия продолжается до 15 очк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Каждая команда имеет право трижды, не считая блока, коснуться мяча на своей стороне площадки. Мяч разрешается отбивать любой частью тела выше пояса и стопой. Мяч остается в игре до тех пор, пока не коснется площадки, стен, потолка, других предметов, или до ошибки кого-либо из игроков. За каждый выигранный мяч команда получает 1 очк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Игроки на площадке образуют две линии: переднюю и заднюю. Переход игроков выполняется по ходу часовой стрел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746748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а занятиях по волейболу необходимо иметь соответствующую спортивную форму (футболка, шорты, носки, кроссовки или кеды на тонкой гибкой подошве)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тобы избежать травм, следует соблюдать правила техники безопасности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начале занятия сделать разминку, хорошо разогреть мышцы и связ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смотреть игровую площадку, чтобы на ней не было опасных предметов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9288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 принимать мяч сверху на прямые руки, большие пальцы не выставлять впере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ри приеме мяча снизу не сгибать руки в локтевых суставах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нимательно следить за тем, чтобы мяч не попал под ног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ле прыжков приземляться на согнутые ноги в широкую стойку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spcBef>
                <a:spcPts val="601"/>
              </a:spcBef>
              <a:buClr>
                <a:srgbClr val="f3a44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47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Documents and Settings\Алеша\Рабочий стол\волейбол(картинки)\волейбол 012.jpg"/>
          <p:cNvPicPr/>
          <p:nvPr/>
        </p:nvPicPr>
        <p:blipFill>
          <a:blip r:embed="rId2"/>
          <a:stretch/>
        </p:blipFill>
        <p:spPr>
          <a:xfrm>
            <a:off x="3857760" y="4357800"/>
            <a:ext cx="478620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500040" y="0"/>
            <a:ext cx="7467480" cy="11462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285840" y="1356840"/>
            <a:ext cx="48578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волейболе выделяют пять основных приемов игры: подача, прием, передача, нападающий удар и блокирование. Все эти элементы сочетаются с различными стойками и перемещениями игрок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Стойк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рис.16, 17, 18) – это удобное исходное положение волейболиста: ноги слегка согнуты, тяжесть тела равномерно распределена на обе ноги, туловище наклонено впере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3" name="Picture 2" descr="C:\Documents and Settings\Алеша\Рабочий стол\волейбол(картинки)\волейбол 002.jpg"/>
          <p:cNvPicPr/>
          <p:nvPr/>
        </p:nvPicPr>
        <p:blipFill>
          <a:blip r:embed="rId2"/>
          <a:stretch/>
        </p:blipFill>
        <p:spPr>
          <a:xfrm>
            <a:off x="5286240" y="2857680"/>
            <a:ext cx="3000600" cy="29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7-01-08T07:59:20Z</dcterms:modified>
  <cp:revision>41</cp:revision>
  <dc:subject/>
  <dc:title>Волейбол. 5-7 классы.</dc:title>
</cp:coreProperties>
</file>