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3D12-16E0-4EE8-BD09-1D248B776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B30D-9277-4275-BD04-98C563ED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C7AE-3BAC-47BA-9863-8F92EFF0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16EB-351F-48F4-9EA0-2DA43ABB6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3D06-2E1D-425F-9B0F-033E42EB7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71AE-FCDC-4C45-A6CD-6033A2F5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BBB5-7AA2-44D5-A194-C16BB295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678D-C67B-483B-A315-1161A4C2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8A80-EB30-4429-80B3-D7F0A442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F3F1-E352-4958-9F3C-56CA8250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F276-26F5-4B11-BA2C-41451D66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B3F9-EF49-4180-BEA9-76CDA958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57BC-B78D-4D2D-A739-433FDDC6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9197-6A0A-4632-9032-4AFB0B73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1828-7FF1-4FEB-B164-95DF0345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50ED-AA4A-4418-B28E-7AEAC03E1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D5DB-7E94-4BA3-99B2-9BBB774E1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489A-CADF-4888-96AA-56375CE3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765F-3085-402C-AE8D-66469C84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E272-A900-455E-BE5A-469AE02B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C362-B9EC-4270-8DD1-06841D1D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B91E-EE72-4122-92DF-863E630F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79EA-5C6B-4C0B-B9E9-3993A1FE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8599-F6BF-4BC8-936F-8CA2DCFE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A1F8-69E2-4DD8-810E-0FB0F86760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03A3-948C-4540-89E7-175E7E9556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Интегрированное занятие «Юные пожарные»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Муз. руководитель 1 квалификационной категории 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                    </a:t>
            </a:r>
            <a:r>
              <a:rPr b="1" lang="ru-RU" sz="2400" spc="-1" strike="noStrike" u="sng">
                <a:solidFill>
                  <a:srgbClr val="feec94"/>
                </a:solidFill>
                <a:uFillTx/>
                <a:latin typeface="Times New Roman"/>
              </a:rPr>
              <a:t>Юнусова Ольга Владимировна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  Воспитатель 1 квалификационной категории 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                    </a:t>
            </a:r>
            <a:r>
              <a:rPr b="1" lang="ru-RU" sz="2400" spc="-1" strike="noStrike" u="sng">
                <a:solidFill>
                  <a:srgbClr val="feec94"/>
                </a:solidFill>
                <a:uFillTx/>
                <a:latin typeface="Times New Roman"/>
              </a:rPr>
              <a:t>Гайнутдинова Ольга Анатольевна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76197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Спички не тронь – в спичках огонь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1532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с электроприборами будьте осторожны с утюгом и чайником, с плиткой и паяльником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8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Не оставляйте горящий газ, за газом нужен глаз да глаз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Хотим тебя предостеречь не разжигай без взрослых печь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1494000"/>
            <a:ext cx="914400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1281240"/>
            <a:ext cx="9144000" cy="55767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Приятно в лесу посидеть у костра, когда же домой возвращаться пора, перед уходом не жалей костер, землей забросай и водою залей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72388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Экспериментальная лаборатор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Танец «Пожарных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812880"/>
            <a:ext cx="914400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пасибо за внимание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400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«Дорогие ребята детского сада «Колокольчик» Я-инспектор пожарный, хочу попросить вас оказать помощь в тушении пожара, так как все мои пожарные заняты на других объектах. Жду вашей помощи!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543800" cy="57913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«Рекомендации о безопасном поведении»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23924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Физкультминутка «Вызов пожарных»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есня «Игра в пожарных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198440"/>
            <a:ext cx="914400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Картинная галерея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2361960" cy="2189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095880" y="1523880"/>
            <a:ext cx="2590920" cy="2230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38080" y="4191120"/>
            <a:ext cx="3200400" cy="2079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800600" y="4191120"/>
            <a:ext cx="3268800" cy="2092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3048120" y="1523880"/>
            <a:ext cx="25905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5T10:04:52Z</dcterms:created>
  <dc:creator>Rinat</dc:creator>
  <dc:description/>
  <dc:language>en-US</dc:language>
  <cp:lastModifiedBy>Rinat</cp:lastModifiedBy>
  <dcterms:modified xsi:type="dcterms:W3CDTF">2016-10-18T04:33:0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