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C7DD-3598-4880-A290-3D2AE3257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1193-164E-4DB7-9AD5-E685CB7D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5418-6D55-4F30-B1A8-947C9ED4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6114-2BC3-4889-A314-6E4A3FC73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17A6-452A-4D2D-8ED2-F32F1665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ABA6-97E7-4819-8C8D-C16E735A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4937-B034-41BF-8D9A-59A19A4C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7F70A-E894-42D3-AFC8-D812859C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B5C2-E548-4959-B974-C8653FEB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FD37-699C-4FEC-AF72-1B641D3B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B255-5895-4A44-AD7B-09B90CF0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328-B408-4E8F-B7A4-CE9B112E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2494-337A-44FA-93D4-7EF1D678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6BA4-4391-4550-8FD8-7A28F6ED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D39A-44E6-4560-BB12-E7479ACE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5547-FD93-47D8-9DA0-D0C71498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295B-1D01-46BE-9A34-E295E657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301F-BC05-4215-A90A-057033E5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D2A-3A64-457C-82BF-0B68542D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8A2-12C6-49DB-877D-51F982B5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A55-55C3-4ABA-8323-C6A6B672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5A76-FAEE-4313-A100-64E72220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FCC-CBDD-461C-A77E-2302A078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0B1-7755-4D1A-A5D6-1EA2DD7C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853F-9C13-4006-802E-A5D5E93C96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611F-70A7-424D-82CE-A55C60D3D2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Интегрированное занятие «Юные пожарные»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Муз. руководитель 1 квалификационной категории 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                  </a:t>
            </a:r>
            <a:r>
              <a:rPr b="1" lang="ru-RU" sz="2400" spc="-1" strike="noStrike" u="sng">
                <a:solidFill>
                  <a:srgbClr val="feec94"/>
                </a:solidFill>
                <a:uFillTx/>
                <a:latin typeface="Times New Roman"/>
              </a:rPr>
              <a:t>Юнусова Ольга Владимировна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Воспитатель 1 квалификационной категории </a:t>
            </a:r>
            <a:br>
              <a:rPr sz="2400"/>
            </a:b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                     </a:t>
            </a:r>
            <a:r>
              <a:rPr b="1" lang="ru-RU" sz="2400" spc="-1" strike="noStrike" u="sng">
                <a:solidFill>
                  <a:srgbClr val="feec94"/>
                </a:solidFill>
                <a:uFillTx/>
                <a:latin typeface="Times New Roman"/>
              </a:rPr>
              <a:t>Гайнутдинова Ольга Анатольевн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Спички не тронь – в спичках огонь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1532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с электроприборами будьте осторожны с утюгом и чайником, с плиткой и паяльником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Не оставляйте горящий газ, за газом нужен глаз да глаз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Хотим тебя предостеречь не разжигай без взрослых печь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494000"/>
            <a:ext cx="914400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1281240"/>
            <a:ext cx="9144000" cy="55767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Приятно в лесу посидеть у костра, когда же домой возвращаться пора, перед уходом не жалей костер, землей забросай и водою залей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72388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Экспериментальная лаборатор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Танец «Пожарных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асибо за внимание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008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«Дорогие ребята детского сада «Колокольчик» Я-инспектор пожарный, хочу попросить вас оказать помощь в тушении пожара, так как все мои пожарные заняты на других объектах. Жду вашей помощи!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543800" cy="57913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«Рекомендации о безопасном поведении»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723924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Физкультминутка «Вызов пожарных»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есня «Игра в пожарных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Картинная галере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2361960" cy="2189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5880" y="1523880"/>
            <a:ext cx="2590920" cy="2230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38080" y="4191120"/>
            <a:ext cx="3200400" cy="2079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800600" y="4191120"/>
            <a:ext cx="3268800" cy="2092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3048120" y="1523880"/>
            <a:ext cx="25905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5T10:04:52Z</dcterms:created>
  <dc:creator>Rinat</dc:creator>
  <dc:description/>
  <dc:language>en-US</dc:language>
  <cp:lastModifiedBy>Rinat</cp:lastModifiedBy>
  <dcterms:modified xsi:type="dcterms:W3CDTF">2016-10-18T04:33:0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