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6D57-323C-420A-B3C2-BD9CFA3E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AFF6-40A7-4B0B-9716-E0B0AD6B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5C57-0D53-441A-BAA2-98B8E2AC3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80F5-BA30-4B75-AEA2-AFFF641C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052C-1CF6-4FEE-8EBD-F982AE82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9364-C542-4B8E-88C0-E9D7D569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972F-600E-42B4-9422-870F2D2E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42C6-4278-46CB-901B-B10FB024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39F5-2287-4157-8BBC-DA15779D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00F4-BCD3-4CAC-8FB1-6BCF369A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6086-2112-4678-AE48-D2E5161F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6045-AA1A-4D6D-B20D-41A74627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6A18-F211-4450-87DD-3BB9CD9625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SDC130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SDC145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SDC144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SDC146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SDC147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SDC146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DSCN03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SDC149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SDC154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SDC154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СПОРТИВНЫЕ ПРАЗДНИКИ И РАЗВЛЕЧЕНИЯ В ДЕТСКОМ СА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SDC154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SDC154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SAM_23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SDC156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SDC156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SDC157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SDC158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SDC158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SDC159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SDC16059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576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 flipV="1" rot="10800000">
            <a:off x="-5040" y="4797000"/>
            <a:ext cx="915012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изкультурно-спортивный праздник – одна из форм активного отдыха детей и взрослых. Он включает разнообразные виды физических упражнений в сочетании с элементами драматизации, хореографии, пения, викторин, конкурсов и аттракцио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SDC161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f9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0"/>
          <p:cNvSpPr/>
          <p:nvPr/>
        </p:nvSpPr>
        <p:spPr>
          <a:xfrm>
            <a:off x="3708360" y="260280"/>
            <a:ext cx="543564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0" y="0"/>
            <a:ext cx="914400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Праздник 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это всегда радость, веселье. Одно только его ожидание способно вызвать у ребенка положительные эмоции. Это делает праздник незаменимым средством профилактики и даже лечения различных нарушений в состоянии здоровья. Давно известно, что хорошее настроение, настройка на жизнеутверждающий лад имеют высокую целительную силу. Важнейший итог праздника – радость от участия, победы, общения, совмест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 ходе любого праздника осуществляется решение целого ряда задач, но одновременно ставится главная задача, в соответствии с которой подбирают тематику и содержание, приемы и методы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Organization Chart 11"/>
          <p:cNvGrpSpPr/>
          <p:nvPr/>
        </p:nvGrpSpPr>
        <p:grpSpPr>
          <a:xfrm>
            <a:off x="0" y="0"/>
            <a:ext cx="9143640" cy="6519240"/>
            <a:chOff x="0" y="0"/>
            <a:chExt cx="9143640" cy="6519240"/>
          </a:xfrm>
        </p:grpSpPr>
        <p:cxnSp>
          <p:nvCxnSpPr>
            <p:cNvPr id="52" name="_s1028"/>
            <p:cNvCxnSpPr/>
            <p:nvPr/>
          </p:nvCxnSpPr>
          <p:spPr>
            <a:xfrm flipV="1" rot="16200000">
              <a:off x="5968800" y="965520"/>
              <a:ext cx="1186920" cy="3549600"/>
            </a:xfrm>
            <a:prstGeom prst="bentConnector3">
              <a:avLst>
                <a:gd name="adj1" fmla="val 93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1029"/>
            <p:cNvCxnSpPr>
              <a:stCxn id="54" idx="0"/>
              <a:endCxn id="55" idx="2"/>
            </p:cNvCxnSpPr>
            <p:nvPr/>
          </p:nvCxnSpPr>
          <p:spPr>
            <a:xfrm flipV="1" rot="16200000">
              <a:off x="5432760" y="1539000"/>
              <a:ext cx="491760" cy="1707840"/>
            </a:xfrm>
            <a:prstGeom prst="bentConnector3">
              <a:avLst>
                <a:gd name="adj1" fmla="val 232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1030"/>
            <p:cNvCxnSpPr>
              <a:stCxn id="57" idx="0"/>
              <a:endCxn id="55" idx="2"/>
            </p:cNvCxnSpPr>
            <p:nvPr/>
          </p:nvCxnSpPr>
          <p:spPr>
            <a:xfrm flipH="1" flipV="1" rot="5400000">
              <a:off x="4457160" y="2262240"/>
              <a:ext cx="483480" cy="253080"/>
            </a:xfrm>
            <a:prstGeom prst="bentConnector3">
              <a:avLst>
                <a:gd name="adj1" fmla="val 236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1031"/>
            <p:cNvCxnSpPr>
              <a:stCxn id="59" idx="0"/>
              <a:endCxn id="55" idx="2"/>
            </p:cNvCxnSpPr>
            <p:nvPr/>
          </p:nvCxnSpPr>
          <p:spPr>
            <a:xfrm flipH="1" flipV="1" rot="5400000">
              <a:off x="3492000" y="1370880"/>
              <a:ext cx="556560" cy="2109600"/>
            </a:xfrm>
            <a:prstGeom prst="bentConnector3">
              <a:avLst>
                <a:gd name="adj1" fmla="val 2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032"/>
            <p:cNvCxnSpPr>
              <a:stCxn id="61" idx="0"/>
              <a:endCxn id="55" idx="2"/>
            </p:cNvCxnSpPr>
            <p:nvPr/>
          </p:nvCxnSpPr>
          <p:spPr>
            <a:xfrm flipH="1" flipV="1" rot="5400000">
              <a:off x="2502000" y="453960"/>
              <a:ext cx="630360" cy="4016880"/>
            </a:xfrm>
            <a:prstGeom prst="bentConnector3">
              <a:avLst>
                <a:gd name="adj1" fmla="val 176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5" name="_s1033"/>
            <p:cNvSpPr/>
            <p:nvPr/>
          </p:nvSpPr>
          <p:spPr>
            <a:xfrm>
              <a:off x="1475640" y="0"/>
              <a:ext cx="6696720" cy="21477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Arial"/>
                </a:rPr>
                <a:t>ЗАДАЧ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4"/>
            <p:cNvSpPr/>
            <p:nvPr/>
          </p:nvSpPr>
          <p:spPr>
            <a:xfrm>
              <a:off x="0" y="2777760"/>
              <a:ext cx="1613880" cy="3703680"/>
            </a:xfrm>
            <a:custGeom>
              <a:avLst/>
              <a:gdLst>
                <a:gd name="textAreaLeft" fmla="*/ 78480 w 1613880"/>
                <a:gd name="textAreaRight" fmla="*/ 1535400 w 1613880"/>
                <a:gd name="textAreaTop" fmla="*/ 78480 h 3703680"/>
                <a:gd name="textAreaBottom" fmla="*/ 3625200 h 3703680"/>
              </a:gdLst>
              <a:ahLst/>
              <a:rect l="textAreaLeft" t="textAreaTop" r="textAreaRight" b="textAreaBottom"/>
              <a:pathLst>
                <a:path w="21600" h="49563">
                  <a:moveTo>
                    <a:pt x="3600" y="0"/>
                  </a:moveTo>
                  <a:arcTo wR="3600" hR="3600" stAng="16200000" swAng="-5400000"/>
                  <a:lnTo>
                    <a:pt x="0" y="45963"/>
                  </a:lnTo>
                  <a:arcTo wR="3600" hR="3600" stAng="10800000" swAng="-5400000"/>
                  <a:lnTo>
                    <a:pt x="18000" y="495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ормирова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здоровы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ра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жиз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5"/>
            <p:cNvSpPr/>
            <p:nvPr/>
          </p:nvSpPr>
          <p:spPr>
            <a:xfrm>
              <a:off x="1907280" y="2704320"/>
              <a:ext cx="1617480" cy="3777120"/>
            </a:xfrm>
            <a:custGeom>
              <a:avLst/>
              <a:gdLst>
                <a:gd name="textAreaLeft" fmla="*/ 78840 w 1617480"/>
                <a:gd name="textAreaRight" fmla="*/ 1538640 w 1617480"/>
                <a:gd name="textAreaTop" fmla="*/ 78840 h 3777120"/>
                <a:gd name="textAreaBottom" fmla="*/ 3698280 h 3777120"/>
              </a:gdLst>
              <a:ahLst/>
              <a:rect l="textAreaLeft" t="textAreaTop" r="textAreaRight" b="textAreaBottom"/>
              <a:pathLst>
                <a:path w="21600" h="50434">
                  <a:moveTo>
                    <a:pt x="3600" y="0"/>
                  </a:moveTo>
                  <a:arcTo wR="3600" hR="3600" stAng="16200000" swAng="-5400000"/>
                  <a:lnTo>
                    <a:pt x="0" y="46834"/>
                  </a:lnTo>
                  <a:arcTo wR="3600" hR="3600" stAng="10800000" swAng="-5400000"/>
                  <a:lnTo>
                    <a:pt x="18000" y="504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оспитыва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тойк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терес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изкультур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 спорт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личны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остижения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ортивным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остижения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шей стран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6"/>
            <p:cNvSpPr/>
            <p:nvPr/>
          </p:nvSpPr>
          <p:spPr>
            <a:xfrm>
              <a:off x="3765600" y="2630880"/>
              <a:ext cx="1613880" cy="3823200"/>
            </a:xfrm>
            <a:custGeom>
              <a:avLst/>
              <a:gdLst>
                <a:gd name="textAreaLeft" fmla="*/ 78480 w 1613880"/>
                <a:gd name="textAreaRight" fmla="*/ 1535400 w 1613880"/>
                <a:gd name="textAreaTop" fmla="*/ 78480 h 3823200"/>
                <a:gd name="textAreaBottom" fmla="*/ 3744720 h 3823200"/>
              </a:gdLst>
              <a:ahLst/>
              <a:rect l="textAreaLeft" t="textAreaTop" r="textAreaRight" b="textAreaBottom"/>
              <a:pathLst>
                <a:path w="21600" h="51163">
                  <a:moveTo>
                    <a:pt x="3600" y="0"/>
                  </a:moveTo>
                  <a:arcTo wR="3600" hR="3600" stAng="16200000" swAng="-5400000"/>
                  <a:lnTo>
                    <a:pt x="0" y="47563"/>
                  </a:lnTo>
                  <a:arcTo wR="3600" hR="3600" stAng="10800000" swAng="-5400000"/>
                  <a:lnTo>
                    <a:pt x="18000" y="511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забави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етей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остави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м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довольств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7"/>
            <p:cNvSpPr/>
            <p:nvPr/>
          </p:nvSpPr>
          <p:spPr>
            <a:xfrm>
              <a:off x="5723640" y="2639160"/>
              <a:ext cx="1617480" cy="3814920"/>
            </a:xfrm>
            <a:custGeom>
              <a:avLst/>
              <a:gdLst>
                <a:gd name="textAreaLeft" fmla="*/ 78840 w 1617480"/>
                <a:gd name="textAreaRight" fmla="*/ 1538640 w 1617480"/>
                <a:gd name="textAreaTop" fmla="*/ 78840 h 3814920"/>
                <a:gd name="textAreaBottom" fmla="*/ 3736080 h 3814920"/>
              </a:gdLst>
              <a:ahLst/>
              <a:rect l="textAreaLeft" t="textAreaTop" r="textAreaRight" b="textAreaBottom"/>
              <a:pathLst>
                <a:path w="21600" h="50938">
                  <a:moveTo>
                    <a:pt x="3600" y="0"/>
                  </a:moveTo>
                  <a:arcTo wR="3600" hR="3600" stAng="16200000" swAng="-5400000"/>
                  <a:lnTo>
                    <a:pt x="0" y="47338"/>
                  </a:lnTo>
                  <a:arcTo wR="3600" hR="3600" stAng="10800000" swAng="-5400000"/>
                  <a:lnTo>
                    <a:pt x="18000" y="509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емонстри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ова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ортив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остиж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8"/>
            <p:cNvSpPr/>
            <p:nvPr/>
          </p:nvSpPr>
          <p:spPr>
            <a:xfrm>
              <a:off x="7531560" y="2704320"/>
              <a:ext cx="1612080" cy="3814920"/>
            </a:xfrm>
            <a:custGeom>
              <a:avLst/>
              <a:gdLst>
                <a:gd name="textAreaLeft" fmla="*/ 78480 w 1612080"/>
                <a:gd name="textAreaRight" fmla="*/ 1533600 w 1612080"/>
                <a:gd name="textAreaTop" fmla="*/ 78480 h 3814920"/>
                <a:gd name="textAreaBottom" fmla="*/ 3736440 h 3814920"/>
              </a:gdLst>
              <a:ahLst/>
              <a:rect l="textAreaLeft" t="textAreaTop" r="textAreaRight" b="textAreaBottom"/>
              <a:pathLst>
                <a:path w="21600" h="51109">
                  <a:moveTo>
                    <a:pt x="3600" y="0"/>
                  </a:moveTo>
                  <a:arcTo wR="3600" hR="3600" stAng="16200000" swAng="-5400000"/>
                  <a:lnTo>
                    <a:pt x="0" y="47509"/>
                  </a:lnTo>
                  <a:arcTo wR="3600" hR="3600" stAng="10800000" swAng="-5400000"/>
                  <a:lnTo>
                    <a:pt x="18000" y="511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оспитыва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терес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осударств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ны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аздника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4716360" cy="6335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716000" y="0"/>
            <a:ext cx="4427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 детском саду проводятся разнообразные досуги и праздник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способствующие формированию здорового образа жизни – это тематические праздники, такие как "День защитника Отечества"; «8марта», «День космонавтики»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оспитывающие стойкий интерес к физкультуре и спорту, к личным достижениям – «Веселые старты», «Детские Олимпийские игры»;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раздники, способствующие хорошему настроению – это музыкально-спортивные и совместные с родителями праздники  "Мама,папа,я-спортивная семья», «Супер папа»и др.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развивающие творческую активность, инициативу, коммуникативные способности – "Физкульт-ура!»", "Зов джунглей" и др.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формирующие познавательную активность – дети разгадывают загадки, решают проблемные задач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оспитывающие нравственные качества – дети объединяются целью помочь попавшим в беду персонажам «Выручаем зайчика, «В гости к сказке»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SDC102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SDC105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7:32:47Z</dcterms:created>
  <dc:creator>Пользователь</dc:creator>
  <dc:description/>
  <dc:language>en-US</dc:language>
  <cp:lastModifiedBy>Любовь</cp:lastModifiedBy>
  <dcterms:modified xsi:type="dcterms:W3CDTF">2017-01-10T11:02:18Z</dcterms:modified>
  <cp:revision>88</cp:revision>
  <dc:subject/>
  <dc:title>Слайд 1</dc:title>
</cp:coreProperties>
</file>