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FAF5-12D6-46C4-8090-D5D2F7C3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EB26-4A7A-435A-A11C-69311484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98BC-63AC-41F3-8C41-12D53A8A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76E-EB3B-4924-BEE1-7A17B6E2E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A0E0-60A6-4AE3-936A-575E954F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1C85-F87F-4BC6-A431-60274572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B475-F5F3-4332-8EB3-B6270BE1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DFCD-A155-4BF5-94EF-868F8972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F0E-8CAC-40D4-B1C6-E543A024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E50-D5DF-4ED6-A968-DAA88605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391-2F90-482B-82D7-15E8F81F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95C-1849-4A27-91FD-75C9A944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7446-91A3-4FA8-90CF-504C4251AE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DC130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SDC145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SDC144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SDC146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SDC147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SDC146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DSCN03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SDC14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SDC154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SDC154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ПОРТИВНЫЕ ПРАЗДНИКИ И РАЗВЛЕЧЕНИЯ В ДЕТСКОМ СА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SDC154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SDC154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SAM_23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SDC156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SDC156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SDC157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SDC158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SDC158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SDC159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SDC16059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57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 flipV="1" rot="10800000">
            <a:off x="-5040" y="4797000"/>
            <a:ext cx="915012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изкультурно-спортивный праздник – одна из форм активного отдыха детей и взрослых. Он включает разнообразные виды физических упражнений в сочетании с элементами драматизации, хореографии, пения, викторин, конкурсов и аттракцио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SDC161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f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"/>
          <p:cNvSpPr/>
          <p:nvPr/>
        </p:nvSpPr>
        <p:spPr>
          <a:xfrm>
            <a:off x="3708360" y="260280"/>
            <a:ext cx="54356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0" y="0"/>
            <a:ext cx="91440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раздник 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это всегда радость, веселье. Одно только его ожидание способно вызвать у ребенка положительные эмоции. Это делает праздник незаменимым средством профилактики и даже лечения различных нарушений в состоянии здоровья. Давно известно, что хорошее настроение, настройка на жизнеутверждающий лад имеют высокую целительную силу. Важнейший итог праздника – радость от участия, победы, общения, совмест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 ходе любого праздника осуществляется решение целого ряда задач, но одновременно ставится главная задача, в соответствии с которой подбирают тематику и содержание, приемы и методы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Organization Chart 11"/>
          <p:cNvGrpSpPr/>
          <p:nvPr/>
        </p:nvGrpSpPr>
        <p:grpSpPr>
          <a:xfrm>
            <a:off x="0" y="0"/>
            <a:ext cx="9143640" cy="6519240"/>
            <a:chOff x="0" y="0"/>
            <a:chExt cx="9143640" cy="6519240"/>
          </a:xfrm>
        </p:grpSpPr>
        <p:cxnSp>
          <p:nvCxnSpPr>
            <p:cNvPr id="52" name="_s1028"/>
            <p:cNvCxnSpPr/>
            <p:nvPr/>
          </p:nvCxnSpPr>
          <p:spPr>
            <a:xfrm flipV="1" rot="16200000">
              <a:off x="5968800" y="965520"/>
              <a:ext cx="1186920" cy="3549600"/>
            </a:xfrm>
            <a:prstGeom prst="bentConnector3">
              <a:avLst>
                <a:gd name="adj1" fmla="val 93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29"/>
            <p:cNvCxnSpPr>
              <a:stCxn id="54" idx="0"/>
              <a:endCxn id="55" idx="2"/>
            </p:cNvCxnSpPr>
            <p:nvPr/>
          </p:nvCxnSpPr>
          <p:spPr>
            <a:xfrm flipV="1" rot="16200000">
              <a:off x="5432760" y="1539000"/>
              <a:ext cx="491760" cy="1707840"/>
            </a:xfrm>
            <a:prstGeom prst="bentConnector3">
              <a:avLst>
                <a:gd name="adj1" fmla="val 232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030"/>
            <p:cNvCxnSpPr>
              <a:stCxn id="57" idx="0"/>
              <a:endCxn id="55" idx="2"/>
            </p:cNvCxnSpPr>
            <p:nvPr/>
          </p:nvCxnSpPr>
          <p:spPr>
            <a:xfrm flipH="1" flipV="1" rot="5400000">
              <a:off x="4457160" y="2262240"/>
              <a:ext cx="483480" cy="253080"/>
            </a:xfrm>
            <a:prstGeom prst="bentConnector3">
              <a:avLst>
                <a:gd name="adj1" fmla="val 2369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31"/>
            <p:cNvCxnSpPr>
              <a:stCxn id="59" idx="0"/>
              <a:endCxn id="55" idx="2"/>
            </p:cNvCxnSpPr>
            <p:nvPr/>
          </p:nvCxnSpPr>
          <p:spPr>
            <a:xfrm flipH="1" flipV="1" rot="5400000">
              <a:off x="3492000" y="1370880"/>
              <a:ext cx="556560" cy="2109600"/>
            </a:xfrm>
            <a:prstGeom prst="bentConnector3">
              <a:avLst>
                <a:gd name="adj1" fmla="val 2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032"/>
            <p:cNvCxnSpPr>
              <a:stCxn id="61" idx="0"/>
              <a:endCxn id="55" idx="2"/>
            </p:cNvCxnSpPr>
            <p:nvPr/>
          </p:nvCxnSpPr>
          <p:spPr>
            <a:xfrm flipH="1" flipV="1" rot="5400000">
              <a:off x="2502000" y="453960"/>
              <a:ext cx="630360" cy="4016880"/>
            </a:xfrm>
            <a:prstGeom prst="bentConnector3">
              <a:avLst>
                <a:gd name="adj1" fmla="val 176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5" name="_s1033"/>
            <p:cNvSpPr/>
            <p:nvPr/>
          </p:nvSpPr>
          <p:spPr>
            <a:xfrm>
              <a:off x="1475640" y="0"/>
              <a:ext cx="6696720" cy="214776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Arial"/>
                </a:rPr>
                <a:t>ЗАДАЧ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4"/>
            <p:cNvSpPr/>
            <p:nvPr/>
          </p:nvSpPr>
          <p:spPr>
            <a:xfrm>
              <a:off x="0" y="2777760"/>
              <a:ext cx="1613880" cy="3703680"/>
            </a:xfrm>
            <a:custGeom>
              <a:avLst/>
              <a:gdLst>
                <a:gd name="textAreaLeft" fmla="*/ 78480 w 1613880"/>
                <a:gd name="textAreaRight" fmla="*/ 1535400 w 1613880"/>
                <a:gd name="textAreaTop" fmla="*/ 78480 h 3703680"/>
                <a:gd name="textAreaBottom" fmla="*/ 3625200 h 3703680"/>
              </a:gdLst>
              <a:ahLst/>
              <a:rect l="textAreaLeft" t="textAreaTop" r="textAreaRight" b="textAreaBottom"/>
              <a:pathLst>
                <a:path w="21600" h="49563">
                  <a:moveTo>
                    <a:pt x="3600" y="0"/>
                  </a:moveTo>
                  <a:arcTo wR="3600" hR="3600" stAng="16200000" swAng="-5400000"/>
                  <a:lnTo>
                    <a:pt x="0" y="45963"/>
                  </a:lnTo>
                  <a:arcTo wR="3600" hR="3600" stAng="10800000" swAng="-5400000"/>
                  <a:lnTo>
                    <a:pt x="18000" y="495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ормиро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доров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ра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жиз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5"/>
            <p:cNvSpPr/>
            <p:nvPr/>
          </p:nvSpPr>
          <p:spPr>
            <a:xfrm>
              <a:off x="1907280" y="2704320"/>
              <a:ext cx="1617480" cy="3777120"/>
            </a:xfrm>
            <a:custGeom>
              <a:avLst/>
              <a:gdLst>
                <a:gd name="textAreaLeft" fmla="*/ 78840 w 1617480"/>
                <a:gd name="textAreaRight" fmla="*/ 1538640 w 1617480"/>
                <a:gd name="textAreaTop" fmla="*/ 78840 h 3777120"/>
                <a:gd name="textAreaBottom" fmla="*/ 3698280 h 3777120"/>
              </a:gdLst>
              <a:ahLst/>
              <a:rect l="textAreaLeft" t="textAreaTop" r="textAreaRight" b="textAreaBottom"/>
              <a:pathLst>
                <a:path w="21600" h="50434">
                  <a:moveTo>
                    <a:pt x="3600" y="0"/>
                  </a:moveTo>
                  <a:arcTo wR="3600" hR="3600" stAng="16200000" swAng="-5400000"/>
                  <a:lnTo>
                    <a:pt x="0" y="46834"/>
                  </a:lnTo>
                  <a:arcTo wR="3600" hR="3600" stAng="10800000" swAng="-5400000"/>
                  <a:lnTo>
                    <a:pt x="18000" y="504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спитыва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той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рес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изкультур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 спорт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чны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стижения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ортивны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стижения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ашей стран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6"/>
            <p:cNvSpPr/>
            <p:nvPr/>
          </p:nvSpPr>
          <p:spPr>
            <a:xfrm>
              <a:off x="3765600" y="2630880"/>
              <a:ext cx="1613880" cy="3823200"/>
            </a:xfrm>
            <a:custGeom>
              <a:avLst/>
              <a:gdLst>
                <a:gd name="textAreaLeft" fmla="*/ 78480 w 1613880"/>
                <a:gd name="textAreaRight" fmla="*/ 1535400 w 1613880"/>
                <a:gd name="textAreaTop" fmla="*/ 78480 h 3823200"/>
                <a:gd name="textAreaBottom" fmla="*/ 3744720 h 3823200"/>
              </a:gdLst>
              <a:ahLst/>
              <a:rect l="textAreaLeft" t="textAreaTop" r="textAreaRight" b="textAreaBottom"/>
              <a:pathLst>
                <a:path w="21600" h="51163">
                  <a:moveTo>
                    <a:pt x="3600" y="0"/>
                  </a:moveTo>
                  <a:arcTo wR="3600" hR="3600" stAng="16200000" swAng="-5400000"/>
                  <a:lnTo>
                    <a:pt x="0" y="47563"/>
                  </a:lnTo>
                  <a:arcTo wR="3600" hR="3600" stAng="10800000" swAng="-5400000"/>
                  <a:lnTo>
                    <a:pt x="18000" y="511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забави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етей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стави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довольств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7"/>
            <p:cNvSpPr/>
            <p:nvPr/>
          </p:nvSpPr>
          <p:spPr>
            <a:xfrm>
              <a:off x="5723640" y="2639160"/>
              <a:ext cx="1617480" cy="3814920"/>
            </a:xfrm>
            <a:custGeom>
              <a:avLst/>
              <a:gdLst>
                <a:gd name="textAreaLeft" fmla="*/ 78840 w 1617480"/>
                <a:gd name="textAreaRight" fmla="*/ 1538640 w 1617480"/>
                <a:gd name="textAreaTop" fmla="*/ 78840 h 3814920"/>
                <a:gd name="textAreaBottom" fmla="*/ 3736080 h 3814920"/>
              </a:gdLst>
              <a:ahLst/>
              <a:rect l="textAreaLeft" t="textAreaTop" r="textAreaRight" b="textAreaBottom"/>
              <a:pathLst>
                <a:path w="21600" h="50938">
                  <a:moveTo>
                    <a:pt x="3600" y="0"/>
                  </a:moveTo>
                  <a:arcTo wR="3600" hR="3600" stAng="16200000" swAng="-5400000"/>
                  <a:lnTo>
                    <a:pt x="0" y="47338"/>
                  </a:lnTo>
                  <a:arcTo wR="3600" hR="3600" stAng="10800000" swAng="-5400000"/>
                  <a:lnTo>
                    <a:pt x="18000" y="509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емонстри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ов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ор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ости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8"/>
            <p:cNvSpPr/>
            <p:nvPr/>
          </p:nvSpPr>
          <p:spPr>
            <a:xfrm>
              <a:off x="7531560" y="2704320"/>
              <a:ext cx="1612080" cy="3814920"/>
            </a:xfrm>
            <a:custGeom>
              <a:avLst/>
              <a:gdLst>
                <a:gd name="textAreaLeft" fmla="*/ 78480 w 1612080"/>
                <a:gd name="textAreaRight" fmla="*/ 1533600 w 1612080"/>
                <a:gd name="textAreaTop" fmla="*/ 78480 h 3814920"/>
                <a:gd name="textAreaBottom" fmla="*/ 3736440 h 3814920"/>
              </a:gdLst>
              <a:ahLst/>
              <a:rect l="textAreaLeft" t="textAreaTop" r="textAreaRight" b="textAreaBottom"/>
              <a:pathLst>
                <a:path w="21600" h="51109">
                  <a:moveTo>
                    <a:pt x="3600" y="0"/>
                  </a:moveTo>
                  <a:arcTo wR="3600" hR="3600" stAng="16200000" swAng="-5400000"/>
                  <a:lnTo>
                    <a:pt x="0" y="47509"/>
                  </a:lnTo>
                  <a:arcTo wR="3600" hR="3600" stAng="10800000" swAng="-5400000"/>
                  <a:lnTo>
                    <a:pt x="18000" y="511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оспиты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рес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осударств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ны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раздника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4716360" cy="6335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71600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 детском саду проводятся разнообразные досуги и праздник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способствующие формированию здорового образа жизни – это тематические праздники, такие как "День защитника Отечества"; «8марта», «День космонавтики»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оспитывающие стойкий интерес к физкультуре и спорту, к личным достижениям – «Веселые старты», «Детские Олимпийские игры»;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раздники, способствующие хорошему настроению – это музыкально-спортивные и совместные с родителями праздники  "Мама,папа,я-спортивная семья», «Супер папа»и др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развивающие творческую активность, инициативу, коммуникативные способности – "Физкульт-ура!»", "Зов джунглей" и др.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формирующие познавательную активность – дети разгадывают загадки, решают проблемные задач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оспитывающие нравственные качества – дети объединяются целью помочь попавшим в беду персонажам «Выручаем зайчика, «В гости к сказке»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SDC102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SDC105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7:32:47Z</dcterms:created>
  <dc:creator>Пользователь</dc:creator>
  <dc:description/>
  <dc:language>en-US</dc:language>
  <cp:lastModifiedBy>Любовь</cp:lastModifiedBy>
  <dcterms:modified xsi:type="dcterms:W3CDTF">2017-01-10T11:02:18Z</dcterms:modified>
  <cp:revision>88</cp:revision>
  <dc:subject/>
  <dc:title>Слайд 1</dc:title>
</cp:coreProperties>
</file>