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6.png" ContentType="image/png"/>
  <Override PartName="/ppt/media/image3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C120-1E94-4D25-A900-42E69811D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2BA-A5FA-4FA0-95D0-EB30E5A2D1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88128D-728A-4302-829A-ED2FF8F29EF8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lib.rus.ec/b/180845/read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1714320"/>
            <a:ext cx="84294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22268"/>
                </a:solidFill>
                <a:latin typeface="바탕"/>
                <a:ea typeface="바탕"/>
              </a:rPr>
              <a:t>Дыхательная гимнастика А.Н.Стрельник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28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»Начальная школа – детский сад №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катова Е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Воздействие на организ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7856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сновной задачей 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дыхательной гимнастики Стрельниковой является нарушение альвеолярного барьера для усиления обмена газов в легочных альвео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Такая гимнастика 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тренирует всю дыхательную систему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, прежде всего легочную ткань, диафрагму, мышцы гортани и носогл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i234820819_71300_5.gif"/>
          <p:cNvPicPr/>
          <p:nvPr/>
        </p:nvPicPr>
        <p:blipFill>
          <a:blip r:embed="rId1"/>
          <a:stretch/>
        </p:blipFill>
        <p:spPr>
          <a:xfrm rot="20818800">
            <a:off x="552600" y="4774680"/>
            <a:ext cx="1233360" cy="19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Arial"/>
              </a:rPr>
              <a:t>Дыхательная гимнастика, разработанная А. Н. Стрельниковой, способству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повышению двигательной активности, подвижности т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ликвидации венозного полнокровия в органах грудной и брюшной пол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обеспечению вентиляции легких с одновременным массирующим действием мускулатуры органов брюшной пол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тренировке и стимуляции отдельных мышц и их групп, необходимых для сужения проходов в различных органах и системах – дыхательной, мочевыделительной, пищеварительной, половых органах, кровеносных и лимфатических сосудах, органах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69721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о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беремен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устал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депресс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различные формы невроз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воспаление легк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бронхи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различные формы туберкулеза легк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бронхиальная астм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дыхательная недостаточ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сердечная недостаточ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гипертоническая болезн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Photo 018.gif"/>
          <p:cNvPicPr/>
          <p:nvPr/>
        </p:nvPicPr>
        <p:blipFill>
          <a:blip r:embed="rId1"/>
          <a:stretch/>
        </p:blipFill>
        <p:spPr>
          <a:xfrm rot="814800">
            <a:off x="6784560" y="2341080"/>
            <a:ext cx="1559160" cy="171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оказ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7856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различные заболевания сердечно-сосудистой системы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последствия перенесенного инфаркта миокард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симптоматическая гипертенз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Вегето-сосудистая дисто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нарушение ритма сердц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атеросклероз артерий головного мозга, сердца и нижних конечнос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последствия инсуль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хронические головные бол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Photo 021.gif"/>
          <p:cNvPicPr/>
          <p:nvPr/>
        </p:nvPicPr>
        <p:blipFill>
          <a:blip r:embed="rId1"/>
          <a:stretch/>
        </p:blipFill>
        <p:spPr>
          <a:xfrm rot="589200">
            <a:off x="7500600" y="2642760"/>
            <a:ext cx="1380960" cy="18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о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оспаление тройничного нер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паркинсон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болевания пищеваритель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болевания щитовидной желе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малокро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сахарный диаб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болевания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хронический насмор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эпилеп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рассеянный склеро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Photo 028.gif"/>
          <p:cNvPicPr/>
          <p:nvPr/>
        </p:nvPicPr>
        <p:blipFill>
          <a:blip r:embed="rId1"/>
          <a:stretch/>
        </p:blipFill>
        <p:spPr>
          <a:xfrm rot="801600">
            <a:off x="7637040" y="2398320"/>
            <a:ext cx="152424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о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хронический тонзилл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адено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ик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ирусные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оспалительные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кожные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импотен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болевания женской половой 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избыточный ве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табакоку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Photo 045.gif"/>
          <p:cNvPicPr/>
          <p:nvPr/>
        </p:nvPicPr>
        <p:blipFill>
          <a:blip r:embed="rId1"/>
          <a:stretch/>
        </p:blipFill>
        <p:spPr>
          <a:xfrm rot="1086600">
            <a:off x="6981480" y="2769840"/>
            <a:ext cx="1589040" cy="19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ротивопоказ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840" y="149976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травмы головного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травмы позвоно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выраженный остеохондроз шейно-грудного отдела позвоно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острое лихорадочное состоя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кровот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острый тромбофлеб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высокое артериальное, внутричерепное или внутриглазное д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Photo 087.gif"/>
          <p:cNvPicPr/>
          <p:nvPr/>
        </p:nvPicPr>
        <p:blipFill>
          <a:blip r:embed="rId1"/>
          <a:stretch/>
        </p:blipFill>
        <p:spPr>
          <a:xfrm flipH="1" rot="673800">
            <a:off x="6898680" y="3227400"/>
            <a:ext cx="1795320" cy="20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равил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760" y="1341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b6bcf"/>
                </a:solidFill>
                <a:latin typeface="Arial"/>
              </a:rPr>
              <a:t>«Чем сильнее волна ударилась о берег, тем дальше она откатится, чем крепче мяч ударит о стену, тем дальше он отлетит. Чем активнее будет вдох, тем легче и естественнее происходит выдох и постепенно со временем он нормализует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(А. Н. Стрельник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Photo 007.gif"/>
          <p:cNvPicPr/>
          <p:nvPr/>
        </p:nvPicPr>
        <p:blipFill>
          <a:blip r:embed="rId1"/>
          <a:stretch/>
        </p:blipFill>
        <p:spPr>
          <a:xfrm rot="738000">
            <a:off x="6878160" y="5046480"/>
            <a:ext cx="2283120" cy="147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равил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712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дох должен быть шумным, резким и коротким, как хлопок в ладо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ыдох должен осуществляться после каждого вдоха самостоя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дох делается одновременно с движениями.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Счет в гимнастике Стрельниковой – только на восемь, считать следует мысленно, не всл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е вдохи и движения делаются в ритме и темпе строевого ш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Упражнения можно делать стоя, сидя, л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При плохом самочувствии, слабости или обострении заболевания гимнастику необходимо делать сидя или лежа. Начинать выполнение упражнений можно с 2–8 вдохов-движений, отдыхая в перерывах между ними 1–3 с и более в зависимости от состояния организма. </a:t>
            </a:r>
            <a:r>
              <a:rPr b="1" i="1" lang="ru-RU" sz="2600" spc="-1" strike="noStrike">
                <a:solidFill>
                  <a:srgbClr val="222268"/>
                </a:solidFill>
                <a:latin typeface="Arial"/>
              </a:rPr>
              <a:t>Чем хуже самочувствие, тем чаще следует повторять </a:t>
            </a: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небольшое количество упражнений, увеличивая их по мере улучшения состояния и переходя к выполнению из положения лежа в положение сидя, из положения сидя в положение сто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Photo 035.gif"/>
          <p:cNvPicPr/>
          <p:nvPr/>
        </p:nvPicPr>
        <p:blipFill>
          <a:blip r:embed="rId1"/>
          <a:stretch/>
        </p:blipFill>
        <p:spPr>
          <a:xfrm rot="20369400">
            <a:off x="504720" y="167760"/>
            <a:ext cx="1224000" cy="14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843280" y="0"/>
            <a:ext cx="60753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гимнастика создавалась на рубеже 30-40х г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соб восстановления певческого голо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Александра Николаевна Стрельникова была оперной певицей, лишившейся возможности п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тырех функций органов дыхания: </a:t>
            </a: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ышать, говорить, кричать и пе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ние самая сложная. Следовательно, гимнастика, которая восстанавливает даже певческий голос, то есть, самую сложную функцию, по дороге к цели неизбежно восстанавливает функции более простые и, прежде всего, дых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-27000" y="476280"/>
            <a:ext cx="281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Методика про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57176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Рекомендуется делать за один урок весь комплекс упражнений, но не несколько «сотен» одного упражнения. Заниматься следует утром и вечером по 30 мин. При плохом самочувствии можно делать гимнастику несколько раз в день, сократив время вы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На одно занятие дыхательной гимнастикой должно уходить не более 30 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Гимнастику следует делать 2 раза в день: утром и вечером за 30 мин до еды или через 1–1, 5 ч после 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При недостатке времени можно делать весь комплекс дыхательной гимнастики не по три «тридцатки» (одной «сотне»), а по одной (32 вдоха-движения) каждого упражнения. Начинать рекомендуется с упражнения «Ладошки» и заканчивать упражнением «Шаги». Общее время проведения гимнастики в таком случае составляет 6–7 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Методика про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При выполнении упражнений считать мысленно только по 8. Если ритм сбивается, можно отдыхать 3–5 с после каждых 8 вдохов-дв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озраст для занятий дыхательной гимнастикой Стрельниковой не ограничен. Упражнения можно выполнять как детям с 3–4 лет, так и пожилы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Курс лечения дыхательной гимнастикой обычно составляет около 1 месяца при ежедневном выполнении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При достижении результата при лечении какого-либо заболевания не рекомендуется бросать занятия гимнастикой, только в этом случае гарантирован как терапевтический, так и профилактический эфф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11280" y="1557360"/>
            <a:ext cx="7993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ктический комплекс упражне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1. Упражнение «Ладо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3" descr="http://lib.rus.ec/i/45/180845/d025.png"/>
          <p:cNvPicPr/>
          <p:nvPr/>
        </p:nvPicPr>
        <p:blipFill>
          <a:blip r:embed="rId1"/>
          <a:stretch/>
        </p:blipFill>
        <p:spPr>
          <a:xfrm>
            <a:off x="571680" y="2000160"/>
            <a:ext cx="2714400" cy="3500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3500280" y="171468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тать прямо, согнуть руки в локтях, локти при этом опущены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Ладони направлены к «зрителю». Делать шумные, короткие, ритмичные вдохи носом и одновременно сжимать ладони в кулаки, совершая хватательные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2. Упражнение «Погонч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143240" y="1166760"/>
            <a:ext cx="4714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Times New Roman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Times New Roman"/>
              </a:rPr>
              <a:t>встать прямо, кисти рук сжать в кулаки и прижать к животу на уровне пояса. При вдохе резко толкать кулаки к полу, как бы отжимаясь от него. Во время толчка кулаки разжимаются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Times New Roman"/>
              </a:rPr>
              <a:t>Плечи при этом должны быть напряжены, руки прямые, тянущиеся к полу, пальцы широко растопы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http://lib.rus.ec/i/45/180845/d011.png"/>
          <p:cNvPicPr/>
          <p:nvPr/>
        </p:nvPicPr>
        <p:blipFill>
          <a:blip r:embed="rId1"/>
          <a:stretch/>
        </p:blipFill>
        <p:spPr>
          <a:xfrm>
            <a:off x="642960" y="1785960"/>
            <a:ext cx="328608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3. Упражнение «Насо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000680" y="1857240"/>
            <a:ext cx="47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тать прямо, руки опустить, ноги чуть уже ширины плеч. Слегка наклониться вниз к полу, округлив спину, голову опустить, шею не тянуть и не напрягать, руки опустить вниз. Сделать короткий шумный вдох в конечной точке накл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http://lib.rus.ec/i/45/180845/d026.png"/>
          <p:cNvPicPr/>
          <p:nvPr/>
        </p:nvPicPr>
        <p:blipFill>
          <a:blip r:embed="rId1"/>
          <a:stretch/>
        </p:blipFill>
        <p:spPr>
          <a:xfrm>
            <a:off x="357120" y="2286000"/>
            <a:ext cx="357192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4. Упражнение «Кошка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3" descr="http://lib.rus.ec/i/45/180845/d024.png"/>
          <p:cNvPicPr/>
          <p:nvPr/>
        </p:nvPicPr>
        <p:blipFill>
          <a:blip r:embed="rId1"/>
          <a:stretch/>
        </p:blipFill>
        <p:spPr>
          <a:xfrm>
            <a:off x="500040" y="1785960"/>
            <a:ext cx="2571840" cy="4214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3714840" y="1687680"/>
            <a:ext cx="45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Times New Roman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Times New Roman"/>
              </a:rPr>
              <a:t>встать прямо, руки опустить, «пружинящие» ноги чуть уже ширины плеч. При выполнении упражнения необходимо следить за тем, чтобы ступни ног не отрывались от п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5. Упражнение «Обними плеч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http://lib.rus.ec/i/45/180845/d023.png"/>
          <p:cNvPicPr/>
          <p:nvPr/>
        </p:nvPicPr>
        <p:blipFill>
          <a:blip r:embed="rId1"/>
          <a:stretch/>
        </p:blipFill>
        <p:spPr>
          <a:xfrm>
            <a:off x="0" y="1857240"/>
            <a:ext cx="4000680" cy="43578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4286160" y="1643040"/>
            <a:ext cx="45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тать прямо, руки согнуть в локтях и поднять на уровень плеч кистями друг к другу. В момент активного шумного вдоха носом выбросить руки навстречу друг к другу, как бы обнимая себя за плечи. Необходимо, чтобы руки двигались 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6. Упражнение «Большой маятник»</a:t>
            </a:r>
            <a:br>
              <a:rPr sz="4400"/>
            </a:b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(комплексное упражнение:</a:t>
            </a:r>
            <a:br>
              <a:rPr sz="2000"/>
            </a:b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наклоны вниз и «обними плеч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http://lib.rus.ec/i/45/180845/d022.png"/>
          <p:cNvPicPr/>
          <p:nvPr/>
        </p:nvPicPr>
        <p:blipFill>
          <a:blip r:embed="rId1"/>
          <a:stretch/>
        </p:blipFill>
        <p:spPr>
          <a:xfrm>
            <a:off x="571680" y="2071800"/>
            <a:ext cx="4500360" cy="37861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4857840" y="228600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тать прямо, ноги чуть уже ширины плеч. Слегка наклониться к полу, руки при этом тянуть к коленям, но не опускать ниже – вдо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7. Упражнение «Повороты головы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http://lib.rus.ec/i/45/180845/d012.png"/>
          <p:cNvPicPr/>
          <p:nvPr/>
        </p:nvPicPr>
        <p:blipFill>
          <a:blip r:embed="rId1"/>
          <a:stretch/>
        </p:blipFill>
        <p:spPr>
          <a:xfrm>
            <a:off x="571680" y="1928880"/>
            <a:ext cx="2143080" cy="4286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643200" y="1552320"/>
            <a:ext cx="5143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Calibri"/>
              </a:rPr>
              <a:t>встать прямо, ноги чуть уже ширины плеч. Повернуть голову вправо и сделать короткий шумный вдох носом. Затем сразу же повернуть голову влево, опять сделать короткий шумный вдох. При выполнении упражнения посередине голову не останавливать, шею не напрягать, вдох делать корот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539640" y="112536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А.Н. Стрельниковой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ая в мире, в которой короткий и резкий вдох носом делается на движениях, сжимающих грудную клетку. Упражнения активно включают в работу все части тела (руки, ноги, голову, бедерный пояс, брюшной пресс, плечевой пояс и т.д.) и вызывают общую физиологическую реакцию всего организма, повышенную потребность в кисло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8. Упражнение «У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http://lib.rus.ec/i/45/180845/d013.png"/>
          <p:cNvPicPr/>
          <p:nvPr/>
        </p:nvPicPr>
        <p:blipFill>
          <a:blip r:embed="rId1"/>
          <a:stretch/>
        </p:blipFill>
        <p:spPr>
          <a:xfrm>
            <a:off x="571680" y="1928880"/>
            <a:ext cx="2071440" cy="4143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43200" y="1623600"/>
            <a:ext cx="471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Calibri"/>
              </a:rPr>
              <a:t>встать прямо, ноги чуть уже ширины плеч. Слегка наклонить голову вправо – правое ухо идет к правому плечу, сделать короткий шумный вдох носом. Затем слегка наклонить голову влево, левое ухо идет к левому плечу, опять сделать короткий шумный вдох носом. Плечи неподви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9. Упражнение «Маятник головой» («Малый маятник»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3" descr="http://lib.rus.ec/i/45/180845/d021.png"/>
          <p:cNvPicPr/>
          <p:nvPr/>
        </p:nvPicPr>
        <p:blipFill>
          <a:blip r:embed="rId1"/>
          <a:stretch/>
        </p:blipFill>
        <p:spPr>
          <a:xfrm>
            <a:off x="428760" y="1928880"/>
            <a:ext cx="3643200" cy="4143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4286160" y="1803960"/>
            <a:ext cx="45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  <a:ea typeface="Times New Roman"/>
              </a:rPr>
              <a:t>Исходное положение: </a:t>
            </a:r>
            <a:r>
              <a:rPr b="1" i="1" lang="ru-RU" sz="2000" spc="-1" strike="noStrike">
                <a:solidFill>
                  <a:srgbClr val="6b6bcf"/>
                </a:solidFill>
                <a:latin typeface="Arial"/>
                <a:ea typeface="Times New Roman"/>
              </a:rPr>
              <a:t>встать прямо, ноги чуть уже ширины пле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  <a:ea typeface="Times New Roman"/>
              </a:rPr>
              <a:t>Опустить голову вниз, посмотреть на пол – резкий короткий вдох. Поднять голову вверх, посмотреть на потолок – резкий короткий вдох. Выдох уходит пассивно в промежутках между вдохами, голова при этом не останавливается посередине. Ни в коем случае нельзя напрягать ше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10. Упражнение «Перекаты</a:t>
            </a: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3" descr="http://lib.rus.ec/i/45/180845/d018.png"/>
          <p:cNvPicPr/>
          <p:nvPr/>
        </p:nvPicPr>
        <p:blipFill>
          <a:blip r:embed="rId1"/>
          <a:stretch/>
        </p:blipFill>
        <p:spPr>
          <a:xfrm>
            <a:off x="-6480" y="2257560"/>
            <a:ext cx="3214800" cy="4071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2916360" y="2813040"/>
            <a:ext cx="6016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встать таким образом, чтобы правая нога была впереди, а левая – на расстоянии одного шага сзади. Тяжесть тела распределить на обе ноги. Перенести тяжесть тела на стоящую впереди правую ногу, левая при этом согнута в колене и отставлена назад на носок для равновесия (на нее не опираться). Выполнить легкое танцевальное приседание на правой ноге – шумный короткий вдох. Затем правое колено выпрямить и перенести тяжесть тела на стоящую сзади левую но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072240" y="2133720"/>
            <a:ext cx="28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Правая нога в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Левая нога в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11. Упражнение «Передний шаг» (рок-н-ролл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3" descr="http://lib.rus.ec/i/45/180845/d019.png"/>
          <p:cNvPicPr/>
          <p:nvPr/>
        </p:nvPicPr>
        <p:blipFill>
          <a:blip r:embed="rId1"/>
          <a:stretch/>
        </p:blipFill>
        <p:spPr>
          <a:xfrm>
            <a:off x="428760" y="214308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14800" y="2015280"/>
            <a:ext cx="535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Calibri"/>
              </a:rPr>
              <a:t>встать прямо, ноги чуть уже ширины плеч, руки опущены вдоль тела. Поднять вверх на уровень живота согнутую в колене правую ногу, на левой ноге в этот момент сделать легкое танцевальное приседание – короткий шумный вдох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12. Упражнение «Задний шаг</a:t>
            </a: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http://lib.rus.ec/i/45/180845/d020.png"/>
          <p:cNvPicPr/>
          <p:nvPr/>
        </p:nvPicPr>
        <p:blipFill>
          <a:blip r:embed="rId1"/>
          <a:stretch/>
        </p:blipFill>
        <p:spPr>
          <a:xfrm>
            <a:off x="324000" y="1952640"/>
            <a:ext cx="2714400" cy="4286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3286080" y="1735200"/>
            <a:ext cx="55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Calibri"/>
              </a:rPr>
              <a:t>встать прямо, ноги чуть уже ширины плеч. Отвести согнутую в колене правую ногу назад, как бы ударяя себя пяткой по ягодице. На левой ноге в этот момент слегка присесть, одновременно шумно вдыхая носом. Затем обе ноги на одно мгновение вернуть в исходное положение – выдох уходит сразу же после каждого вдо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Список использованной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Бойко Е.А. Энциклопедия дыхательной гимнастики</a:t>
            </a:r>
            <a:r>
              <a:rPr b="1" lang="ru-RU" sz="3200" spc="-1" strike="noStrike">
                <a:solidFill>
                  <a:srgbClr val="6b6bcf"/>
                </a:solidFill>
                <a:latin typeface="Arial"/>
              </a:rPr>
              <a:t>. – М.: 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Вече</a:t>
            </a:r>
            <a:r>
              <a:rPr b="1" lang="ru-RU" sz="3200" spc="-1" strike="noStrike">
                <a:solidFill>
                  <a:srgbClr val="6b6bcf"/>
                </a:solidFill>
                <a:latin typeface="Arial"/>
              </a:rPr>
              <a:t>, 2007. – 176 с.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.rus.ec/b/180845/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MOI20.gif"/>
          <p:cNvPicPr/>
          <p:nvPr/>
        </p:nvPicPr>
        <p:blipFill>
          <a:blip r:embed="rId2"/>
          <a:stretch/>
        </p:blipFill>
        <p:spPr>
          <a:xfrm>
            <a:off x="6357960" y="3857760"/>
            <a:ext cx="245268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b6bc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611280" y="333360"/>
            <a:ext cx="7848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лет тому назад один йог-индус, увидевший лечебный сеанс Александры Николаевны Стрельниковой в её крохотной квартирке на улице Тухачевского, восторженно сказал: «Для Вашей гимнастики нужен один квадратный метр, чтобы стоять, и открытая форточка, чтобы дышать!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уквально через 10-15 минут после начала занятий появляется совершенно другое самочувствие: бодрость, лёгкость во всём теле, прекрасное настроение. То есть, в минимальный срок – максимальный результат! А это как раз и необходимо современному человеку при нашем образе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171360" cy="1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714680"/>
            <a:ext cx="8115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b6bcf"/>
                </a:solidFill>
                <a:latin typeface="Arial"/>
              </a:rPr>
              <a:t>Динамические дыхательные упражнения не только улучшают работу дыхательной системы, но и способствуют оздоровлению всего организ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796606407cb2d4efe937045b5298e54a.gif"/>
          <p:cNvPicPr/>
          <p:nvPr/>
        </p:nvPicPr>
        <p:blipFill>
          <a:blip r:embed="rId1"/>
          <a:stretch/>
        </p:blipFill>
        <p:spPr>
          <a:xfrm>
            <a:off x="7126200" y="4572000"/>
            <a:ext cx="1660680" cy="191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73"/>
                </a:solidFill>
                <a:latin typeface="Arial"/>
              </a:rPr>
              <a:t>Влияние дыхательной гимнастики на организм челове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Выполнение дыхательной гимнастики имеет 2 главные основополагающи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оказать направленное воздействие на дыхательный аппарат, увеличить его функциональные резер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вызвать изменения в различных органах и функциональных систе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Candy_Kid_with_gum_prv.gif"/>
          <p:cNvPicPr/>
          <p:nvPr/>
        </p:nvPicPr>
        <p:blipFill>
          <a:blip r:embed="rId1"/>
          <a:stretch/>
        </p:blipFill>
        <p:spPr>
          <a:xfrm>
            <a:off x="7358040" y="3071880"/>
            <a:ext cx="1519200" cy="174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6 основные группы дыхательных упраж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формирование рационального дых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увеличение резервных возможностей дыхательного ап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сопряженное влияние на функцию внутренних орга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нормализация психического состоя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влияние на функцию двигательного ап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влияние на речев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Photo 083.gif"/>
          <p:cNvPicPr/>
          <p:nvPr/>
        </p:nvPicPr>
        <p:blipFill>
          <a:blip r:embed="rId1"/>
          <a:stretch/>
        </p:blipFill>
        <p:spPr>
          <a:xfrm>
            <a:off x="7459560" y="4500720"/>
            <a:ext cx="1684440" cy="20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1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В мировой медицине имеется колоссальный опыт использования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ыхательной гимнастики 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для лечения заболеваний и поддержания хорошего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Она включает в себя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езаппаратные и аппаратные мет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nesnaika.gif"/>
          <p:cNvPicPr/>
          <p:nvPr/>
        </p:nvPicPr>
        <p:blipFill>
          <a:blip r:embed="rId1"/>
          <a:stretch/>
        </p:blipFill>
        <p:spPr>
          <a:xfrm>
            <a:off x="0" y="3429000"/>
            <a:ext cx="1857240" cy="163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7646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Arial"/>
              </a:rPr>
              <a:t>Дыхательная гимнастика А. Н. Стрельниковой 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является одной из наиболее популярных методик оздоровления организма. Ее особенностью и важным </a:t>
            </a:r>
            <a:r>
              <a:rPr b="1" i="1" lang="ru-RU" sz="3200" spc="-1" strike="noStrike">
                <a:solidFill>
                  <a:srgbClr val="222268"/>
                </a:solidFill>
                <a:latin typeface="Arial"/>
              </a:rPr>
              <a:t>преимуществом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 является использование форсированного вдоха и вовлечение самой мощной дыхательной мышцы – </a:t>
            </a:r>
            <a:r>
              <a:rPr b="1" i="1" lang="ru-RU" sz="3200" spc="-1" strike="noStrike" u="sng">
                <a:solidFill>
                  <a:srgbClr val="6b6bcf"/>
                </a:solidFill>
                <a:uFillTx/>
                <a:latin typeface="Arial"/>
              </a:rPr>
              <a:t>диафрагмы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0:41:19Z</dcterms:created>
  <dc:creator>МАРУСЯ</dc:creator>
  <dc:description/>
  <dc:language>en-US</dc:language>
  <cp:lastModifiedBy>Косулина</cp:lastModifiedBy>
  <dcterms:modified xsi:type="dcterms:W3CDTF">2017-01-10T10:54:33Z</dcterms:modified>
  <cp:revision>10</cp:revision>
  <dc:subject/>
  <dc:title>Парадоксальная дыхательная гимнастика А. Н. Стрельниковой</dc:title>
</cp:coreProperties>
</file>