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420-445F-4FF9-AB4F-A89D4431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342-79B7-4480-95DA-5B038218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50D-9644-4417-9F74-F9522B58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09D-A9B2-41A9-B058-1D842444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32F-C969-4AB4-BCF9-BBCB8DA2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CD7-0BCA-4B1D-8855-DE9D624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672-D837-42CC-90B8-4D404D6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286-DCCC-47EF-8AEC-FA4FBFE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3A8-E3FE-4106-932F-C55C76B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2A2-4163-46AE-A451-CD1FB91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718-84F5-4B9F-A8A8-89CD8DD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0D6-C787-4881-92FB-75283EC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ff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81EB-E14E-4BA3-8C7F-C182C1950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yandex.ru/images/search?text" TargetMode="External"/><Relationship Id="rId3" Type="http://schemas.openxmlformats.org/officeDocument/2006/relationships/hyperlink" Target="http://kommandir.info/100-samyh/100-velikih-geroev/gai-ulii-tscezar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древний мир рисунком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089000" y="1811160"/>
            <a:ext cx="6913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ай Юлий Цезарь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ерой или тиран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95280" y="19479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4760" y="1646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12920" y="4116240"/>
            <a:ext cx="83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Игнатенко Георгий 5 класс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Кадникова Светлана 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55480" y="404640"/>
            <a:ext cx="279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ле битвы располагал свою армию в три боевые линии, последняя из которых являлась резервом. Эффективно использовал разведку. После победы организовывал преследование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3735360" y="0"/>
            <a:ext cx="511164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55480" y="404640"/>
            <a:ext cx="552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лия Цезаря можно смело отнести к числу крупнейших военных историков Древнего мира. Он оставил после себя несколько интересных и содержательных трудов по истории войн. Великие полководцы генералиссимус А.В. Суворов и Наполеон Бонапарт считали, что каждый офицер должен изучить его тр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s://im0-tub-ru.yandex.net/i?id=84aea2527389cbe887a0bf8fe45fe6b4&amp;n=33&amp;h=215&amp;w=163"/>
          <p:cNvPicPr/>
          <p:nvPr/>
        </p:nvPicPr>
        <p:blipFill>
          <a:blip r:embed="rId2"/>
          <a:stretch/>
        </p:blipFill>
        <p:spPr>
          <a:xfrm>
            <a:off x="6183360" y="274680"/>
            <a:ext cx="2601720" cy="2506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651672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80836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755640" y="5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Гай Юлий Цезарь - ти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50920" y="119700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ясь достичь больших высот власти, Цезарь в 60 году до н.э. вступает в союз (триумвират). Затем Гай Юлий Цезарь стал консулом. Уже тогда он начал ограничивать власть Се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strategwar.ru/wp-content/uploads/2013/01/Caesar6.jpg"/>
          <p:cNvPicPr/>
          <p:nvPr/>
        </p:nvPicPr>
        <p:blipFill>
          <a:blip r:embed="rId2"/>
          <a:stretch/>
        </p:blipFill>
        <p:spPr>
          <a:xfrm>
            <a:off x="1332000" y="2924280"/>
            <a:ext cx="5970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98360" y="260280"/>
            <a:ext cx="523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м вместе с Гнеем Помпеем сенаторы торжественно провозгласили Цезаря диктатором. С этого дня он стал фактически монархом. Римской республике пришел ко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 в Риме пожизненным диктатором, Юлий Цезарь способствовал сплочению своих недругов. Поэтому ему не удалось поцарствовать в Древнем Риме даже одн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 Цезаря был организован заговор во главе с Брутом и Лонгином. Первому из них диктатор милостиво разрешил остаться у власти после окончания гражданской войны, а второй считался одним из ближайших его сора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http://1.bp.blogspot.com/-z-855v-i29Y/UIK0KylBccI/AAAAAAAAShQ/NEz14mlws5g/s1600/0_4b613_125875af_XL.jpg"/>
          <p:cNvPicPr/>
          <p:nvPr/>
        </p:nvPicPr>
        <p:blipFill>
          <a:blip r:embed="rId2"/>
          <a:stretch/>
        </p:blipFill>
        <p:spPr>
          <a:xfrm>
            <a:off x="5222880" y="1062000"/>
            <a:ext cx="392112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tmpitNg2b.jpeg"/>
          <p:cNvPicPr/>
          <p:nvPr/>
        </p:nvPicPr>
        <p:blipFill>
          <a:blip r:embed="rId2"/>
          <a:stretch/>
        </p:blipFill>
        <p:spPr>
          <a:xfrm>
            <a:off x="-17640" y="0"/>
            <a:ext cx="9269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395280" y="11592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77720" y="61272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понравилось мнение Плутарха. Он видит в Цезаре и милосердного, не лишенного чувства справедливости, гуманного правителя, овеянного к тому же воинской славой, но и осуждает его за стремление к царской власти и искоренение республики. Цезарь был щедрым и справедливым он раздавал бедным еду деньги. Он хотел много власти и все его боялись он вёл себя как тиран. Он был великолепным полководцем он знал много хитрых планов. Мне трудно определить к кому к герою или к тирану отнести Цезаря. Но, по-моему, героических качеств в нем было все таки было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95280" y="115920"/>
            <a:ext cx="82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я над проектом я больше узнал о Гай Юлии Цезаре: о его  жизни и деятельности,  каким был полковод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учился выделял и анализировать  информацию, оформлять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0" y="620640"/>
            <a:ext cx="86756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источ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yandex.ru/images/search?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ommandir.info/100-samyh/100-velikih-geroev/gai-ulii-tsceza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xliby.ru/istorija/velikie_cezari/p2.php#metkadoc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wisdoms.ru/avt/b26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opwar.ru/13100-gay-yuliy-cezar-velikiy-politik-i-polkovodec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opwar.ru/13100-gay-yuliy-cezar-velikiy-politik-i-polkovodec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9640" y="54936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интересна это тема.  Гай Юлий Цезарь был интересным, удивительным человеком. Мне стало интересно узнать каким  Цезарь был полководцем, как он жил и какой был личностью, ответить на вопрос: кто же все таки  он – тиран или гер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395280" y="1916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знать о Гай Юлии Цезаре и ответить на вопрос: герой он или тир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03280" y="299736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учить биографию Гай Юлия Цез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ыделить черты характера Цез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хракатеризовать поведение и деятельность Цез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формить презен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03280" y="5327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материал работы можно использовать на уроках истории, обществознании и возможно на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395280" y="1916280"/>
            <a:ext cx="7993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26920" y="2178000"/>
            <a:ext cx="69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ы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изнь и деятельность Гай Юлия Цез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чные качества Цез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оч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-ресурсы, учебник «История древнего мира» 5 класс, книга «100 правителей ми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5940360" y="12286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57200" y="274680"/>
            <a:ext cx="56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Жизнь и деятельность Цеза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28600" y="1268280"/>
            <a:ext cx="50641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й Юлий Цезарь родился примерно 12 июля 100 г до.н.э а был убит 15 марта 44 г до.н.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й происходил от одного из древнейших римских родов и принадлежал по рождению к высшей римской аристократии. Цезарь был прирождённый государственный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316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 rot="21239400">
            <a:off x="297360" y="176040"/>
            <a:ext cx="5040360" cy="4049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56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даты жизни и деятельности Гая Юлия Цез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 г. до Рождества Христова (по другим сведениям – 101 или даже 102 г.), 13 июля – дата р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6 – избрание жрецом Юпит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3 – женитьба на Корнел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0 – участие в войне с Митрида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8 – избрание квестором. Служба в Испа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3 – избрание великим понтификом. Заговор Катил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0 – первый триумвират (Помпей, Крас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зар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9 – консульство. Женитьба на Кальпу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8 – начало военной кампании в Галл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5 – военные походы за Рейн и в Брит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 rot="21136200">
            <a:off x="4871880" y="826920"/>
            <a:ext cx="4105440" cy="4293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662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3 – гибель Красса. Распад триумви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2 – война с Верцингеторигом и победа над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9 – переход Рубикона. Начало гражданск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6 – победа над помпеянцами в Африке. Триумфы. Начало реформ. Приезд Клеопатры в Р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5 – победа над сыновьями Помпея при Мунде в Испании. Очередной триумф. Титулы и поч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4 – пожизненная диктатура. Смерть от кинжалов заговорщиков в мартовские иды (15 мар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520560"/>
            <a:ext cx="78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ай Юлий Цезарь -  гер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24000" y="1062000"/>
            <a:ext cx="56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Цезаря был замечательный ораторский и литературный талант. Он обладал не только твёрдым характером, но и в высшей степени проницательным умом,  удерживал в голове огромную массу фактов и мог с легкостью вести одновременно самые различные дела. Цезарь никогда не был отуманен своими успехами, всегда он чувствовал, что не все достижимо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D:\cesar-small.jpg"/>
          <p:cNvPicPr/>
          <p:nvPr/>
        </p:nvPicPr>
        <p:blipFill>
          <a:blip r:embed="rId2"/>
          <a:stretch/>
        </p:blipFill>
        <p:spPr>
          <a:xfrm>
            <a:off x="6012000" y="0"/>
            <a:ext cx="3114360" cy="521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2232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3995640" y="122400"/>
            <a:ext cx="489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лий занимался хозяйственными делами Рима. Он тратил деньги на нужды города – ремонтировал дороги, организовывал гладиаторские бои, раздавал бедным людям хле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у удалось расширить владения Рима, он воевал на берегах Рейна, вторгался в пределы Британий.  В завещании велел раздать свои богатства друзьям и на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:\abd58f1d3febc568f72996e9206a5a72.jpg"/>
          <p:cNvPicPr/>
          <p:nvPr/>
        </p:nvPicPr>
        <p:blipFill>
          <a:blip r:embed="rId2"/>
          <a:stretch/>
        </p:blipFill>
        <p:spPr>
          <a:xfrm>
            <a:off x="0" y="0"/>
            <a:ext cx="391644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3816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01600" y="476280"/>
            <a:ext cx="4154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зарь внес значительный вклад в развитие воен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енных кампаниях Цезарь проявлял мудрость, смелость и осторожность. Его личная храбрость вызывала уважение даже противников, его же солдаты верили ему безгранично и отлично знали, что их вождь храбр и гениален, вынослив и неприхотлив в воинских походах, скромен в своих привычках и благороден, отлично управляется с конем и блестяще владеет оруж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www.playcast.ru/uploads/2015/03/15/12653276.jpg"/>
          <p:cNvPicPr/>
          <p:nvPr/>
        </p:nvPicPr>
        <p:blipFill>
          <a:blip r:embed="rId2"/>
          <a:srcRect l="16598" t="0" r="0" b="0"/>
          <a:stretch/>
        </p:blipFill>
        <p:spPr>
          <a:xfrm>
            <a:off x="4348080" y="1052640"/>
            <a:ext cx="487224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48:56Z</dcterms:created>
  <dc:creator>Оля</dc:creator>
  <dc:description/>
  <dc:language>en-US</dc:language>
  <cp:lastModifiedBy>Учитель</cp:lastModifiedBy>
  <dcterms:modified xsi:type="dcterms:W3CDTF">2016-06-01T02:01:55Z</dcterms:modified>
  <cp:revision>62</cp:revision>
  <dc:subject/>
  <dc:title>Слайд 1</dc:title>
</cp:coreProperties>
</file>