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4B5A-E71D-49C6-9B72-AF6300CC0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7D4A-3E18-4CAD-944D-75063381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A9CF-774C-4F42-BAB3-4F7730FCD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A54E-EDC4-4CB7-9582-6610E493B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8EF9-512D-4A5A-8C48-8EBC43A5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94F6-8E8E-4962-81FC-F79F4DDF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96A1-23DD-4BA9-9574-38029EA4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CF15-CFFE-4AF1-9BB6-B78EADF8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C4C5-AB07-479E-9EC9-2373B8C4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BA17-6104-40D3-A8CA-F9859342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3161-A114-47AD-8E6C-2C2EFC5D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E184-EFD1-4E52-9386-8E597F3B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ff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6015-FD05-40E4-ABA0-105045FA85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s://yandex.ru/images/search?text" TargetMode="External"/><Relationship Id="rId3" Type="http://schemas.openxmlformats.org/officeDocument/2006/relationships/hyperlink" Target="http://kommandir.info/100-samyh/100-velikih-geroev/gai-ulii-tscezar.html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древний мир рисунком"/>
          <p:cNvPicPr/>
          <p:nvPr/>
        </p:nvPicPr>
        <p:blipFill>
          <a:blip r:embed="rId1"/>
          <a:stretch/>
        </p:blipFill>
        <p:spPr>
          <a:xfrm>
            <a:off x="176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1089000" y="1811160"/>
            <a:ext cx="69134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Гай Юлий Цезарь: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герой или тиран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395280" y="19479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104760" y="164628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ектная раб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412920" y="4116240"/>
            <a:ext cx="83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 Игнатенко Георгий 5 класса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тель Кадникова Светлана  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древний мир рисунком 3"/>
          <p:cNvPicPr/>
          <p:nvPr/>
        </p:nvPicPr>
        <p:blipFill>
          <a:blip r:embed="rId1"/>
          <a:stretch/>
        </p:blipFill>
        <p:spPr>
          <a:xfrm>
            <a:off x="-176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555480" y="404640"/>
            <a:ext cx="27925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оле битвы располагал свою армию в три боевые линии, последняя из которых являлась резервом. Эффективно использовал разведку. После победы организовывал преследование против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1" descr=""/>
          <p:cNvPicPr/>
          <p:nvPr/>
        </p:nvPicPr>
        <p:blipFill>
          <a:blip r:embed="rId2"/>
          <a:stretch/>
        </p:blipFill>
        <p:spPr>
          <a:xfrm>
            <a:off x="3735360" y="0"/>
            <a:ext cx="5111640" cy="5229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древний мир рисунком 3"/>
          <p:cNvPicPr/>
          <p:nvPr/>
        </p:nvPicPr>
        <p:blipFill>
          <a:blip r:embed="rId1"/>
          <a:stretch/>
        </p:blipFill>
        <p:spPr>
          <a:xfrm>
            <a:off x="126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1"/>
          <p:cNvSpPr/>
          <p:nvPr/>
        </p:nvSpPr>
        <p:spPr>
          <a:xfrm>
            <a:off x="555480" y="404640"/>
            <a:ext cx="5529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Юлия Цезаря можно смело отнести к числу крупнейших военных историков Древнего мира. Он оставил после себя несколько интересных и содержательных трудов по истории войн. Великие полководцы генералиссимус А.В. Суворов и Наполеон Бонапарт считали, что каждый офицер должен изучить его тру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https://im0-tub-ru.yandex.net/i?id=84aea2527389cbe887a0bf8fe45fe6b4&amp;n=33&amp;h=215&amp;w=163"/>
          <p:cNvPicPr/>
          <p:nvPr/>
        </p:nvPicPr>
        <p:blipFill>
          <a:blip r:embed="rId2"/>
          <a:stretch/>
        </p:blipFill>
        <p:spPr>
          <a:xfrm>
            <a:off x="6183360" y="274680"/>
            <a:ext cx="2601720" cy="25066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"/>
          <p:cNvSpPr/>
          <p:nvPr/>
        </p:nvSpPr>
        <p:spPr>
          <a:xfrm>
            <a:off x="6516720" y="37162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1" descr=""/>
          <p:cNvPicPr/>
          <p:nvPr/>
        </p:nvPicPr>
        <p:blipFill>
          <a:blip r:embed="rId3"/>
          <a:stretch/>
        </p:blipFill>
        <p:spPr>
          <a:xfrm>
            <a:off x="6084720" y="2781360"/>
            <a:ext cx="2808360" cy="23032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древний мир рисунком 3"/>
          <p:cNvPicPr/>
          <p:nvPr/>
        </p:nvPicPr>
        <p:blipFill>
          <a:blip r:embed="rId1"/>
          <a:stretch/>
        </p:blipFill>
        <p:spPr>
          <a:xfrm>
            <a:off x="-176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"/>
          <p:cNvSpPr/>
          <p:nvPr/>
        </p:nvSpPr>
        <p:spPr>
          <a:xfrm>
            <a:off x="755640" y="54936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Гай Юлий Цезарь - тир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250920" y="1197000"/>
            <a:ext cx="763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емясь достичь больших высот власти, Цезарь в 60 году до н.э. вступает в союз (триумвират). Затем Гай Юлий Цезарь стал консулом. Уже тогда он начал ограничивать власть Сен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http://strategwar.ru/wp-content/uploads/2013/01/Caesar6.jpg"/>
          <p:cNvPicPr/>
          <p:nvPr/>
        </p:nvPicPr>
        <p:blipFill>
          <a:blip r:embed="rId2"/>
          <a:stretch/>
        </p:blipFill>
        <p:spPr>
          <a:xfrm>
            <a:off x="1332000" y="2924280"/>
            <a:ext cx="597060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древний мир рисунком 3"/>
          <p:cNvPicPr/>
          <p:nvPr/>
        </p:nvPicPr>
        <p:blipFill>
          <a:blip r:embed="rId1"/>
          <a:stretch/>
        </p:blipFill>
        <p:spPr>
          <a:xfrm>
            <a:off x="-176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"/>
          <p:cNvSpPr/>
          <p:nvPr/>
        </p:nvSpPr>
        <p:spPr>
          <a:xfrm>
            <a:off x="198360" y="260280"/>
            <a:ext cx="5237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им вместе с Гнеем Помпеем сенаторы торжественно провозгласили Цезаря диктатором. С этого дня он стал фактически монархом. Римской республике пришел коне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в в Риме пожизненным диктатором, Юлий Цезарь способствовал сплочению своих недругов. Поэтому ему не удалось поцарствовать в Древнем Риме даже одного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тив Цезаря был организован заговор во главе с Брутом и Лонгином. Первому из них диктатор милостиво разрешил остаться у власти после окончания гражданской войны, а второй считался одним из ближайших его сорат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1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3"/>
          <p:cNvSpPr/>
          <p:nvPr/>
        </p:nvSpPr>
        <p:spPr>
          <a:xfrm>
            <a:off x="612720" y="3128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5" descr="http://1.bp.blogspot.com/-z-855v-i29Y/UIK0KylBccI/AAAAAAAAShQ/NEz14mlws5g/s1600/0_4b613_125875af_XL.jpg"/>
          <p:cNvPicPr/>
          <p:nvPr/>
        </p:nvPicPr>
        <p:blipFill>
          <a:blip r:embed="rId2"/>
          <a:stretch/>
        </p:blipFill>
        <p:spPr>
          <a:xfrm>
            <a:off x="5222880" y="1062000"/>
            <a:ext cx="3921120" cy="236232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древний мир рисунком 3"/>
          <p:cNvPicPr/>
          <p:nvPr/>
        </p:nvPicPr>
        <p:blipFill>
          <a:blip r:embed="rId1"/>
          <a:stretch/>
        </p:blipFill>
        <p:spPr>
          <a:xfrm>
            <a:off x="-1764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F:\tmpitNg2b.jpeg"/>
          <p:cNvPicPr/>
          <p:nvPr/>
        </p:nvPicPr>
        <p:blipFill>
          <a:blip r:embed="rId2"/>
          <a:stretch/>
        </p:blipFill>
        <p:spPr>
          <a:xfrm>
            <a:off x="-17640" y="0"/>
            <a:ext cx="926964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древний мир рисунком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"/>
          <p:cNvSpPr/>
          <p:nvPr/>
        </p:nvSpPr>
        <p:spPr>
          <a:xfrm>
            <a:off x="395280" y="115920"/>
            <a:ext cx="82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ыв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477720" y="612720"/>
            <a:ext cx="820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е понравилось мнение Плутарха. Он видит в Цезаре и милосердного, не лишенного чувства справедливости, гуманного правителя, овеянного к тому же воинской славой, но и осуждает его за стремление к царской власти и искоренение республики. Цезарь был щедрым и справедливым он раздавал бедным еду деньги. Он хотел много власти и все его боялись он вёл себя как тиран. Он был великолепным полководцем он знал много хитрых планов. Мне трудно определить к кому к герою или к тирану отнести Цезаря. Но, по-моему, героических качеств в нем было все таки было бол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древний мир рисунком 3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"/>
          <p:cNvSpPr/>
          <p:nvPr/>
        </p:nvSpPr>
        <p:spPr>
          <a:xfrm>
            <a:off x="395280" y="115920"/>
            <a:ext cx="8291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я над проектом я больше узнал о Гай Юлии Цезаре: о его  жизни и деятельности,  каким был полководц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научился выделял и анализировать  информацию, оформлять презент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древний мир рисунком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"/>
          <p:cNvSpPr/>
          <p:nvPr/>
        </p:nvSpPr>
        <p:spPr>
          <a:xfrm>
            <a:off x="0" y="620640"/>
            <a:ext cx="867564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Используемые источник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yandex.ru/images/search?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kommandir.info/100-samyh/100-velikih-geroev/gai-ulii-tscezar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xliby.ru/istorija/velikie_cezari/p2.php#metkadoc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wisdoms.ru/avt/b266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topwar.ru/13100-gay-yuliy-cezar-velikiy-politik-i-polkovodec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topwar.ru/13100-gay-yuliy-cezar-velikiy-politik-i-polkovodec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древний мир рисунком 3"/>
          <p:cNvPicPr/>
          <p:nvPr/>
        </p:nvPicPr>
        <p:blipFill>
          <a:blip r:embed="rId1"/>
          <a:stretch/>
        </p:blipFill>
        <p:spPr>
          <a:xfrm>
            <a:off x="-176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539640" y="549360"/>
            <a:ext cx="820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е интересна это тема.  Гай Юлий Цезарь был интересным, удивительным человеком. Мне стало интересно узнать каким  Цезарь был полководцем, как он жил и какой был личностью, ответить на вопрос: кто же все таки  он – тиран или гер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древний мир рисунком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1"/>
          <p:cNvSpPr/>
          <p:nvPr/>
        </p:nvSpPr>
        <p:spPr>
          <a:xfrm>
            <a:off x="395280" y="191628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ль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знать о Гай Юлии Цезаре и ответить на вопрос: герой он или тиран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503280" y="299736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Изучить биографию Гай Юлия Цеза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Выделить черты характера Цезар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Охракатеризовать поведение и деятельность Цеза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Оформить презент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503280" y="532764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актическая значим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материал работы можно использовать на уроках истории, обществознании и возможно на литерату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древний мир рисунком 2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395280" y="1916280"/>
            <a:ext cx="79930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826920" y="2178000"/>
            <a:ext cx="691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бъекты исслед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жизнь и деятельность Гай Юлия Цезар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едме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ичные качества Цезар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Источник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нет-ресурсы, учебник «История древнего мира» 5 класс, книга «100 правителей мир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древний мир рисунком 3"/>
          <p:cNvPicPr/>
          <p:nvPr/>
        </p:nvPicPr>
        <p:blipFill>
          <a:blip r:embed="rId1"/>
          <a:stretch/>
        </p:blipFill>
        <p:spPr>
          <a:xfrm>
            <a:off x="-316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" descr=""/>
          <p:cNvPicPr/>
          <p:nvPr/>
        </p:nvPicPr>
        <p:blipFill>
          <a:blip r:embed="rId2"/>
          <a:stretch/>
        </p:blipFill>
        <p:spPr>
          <a:xfrm>
            <a:off x="5940360" y="122868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457200" y="274680"/>
            <a:ext cx="560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Жизнь и деятельность Цезар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228600" y="1268280"/>
            <a:ext cx="506412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й Юлий Цезарь родился примерно 12 июля 100 г до.н.э а был убит 15 марта 44 г до.н.э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лий происходил от одного из древнейших римских родов и принадлежал по рождению к высшей римской аристократии. Цезарь был прирождённый государственный челов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древний мир рисунком 3"/>
          <p:cNvPicPr/>
          <p:nvPr/>
        </p:nvPicPr>
        <p:blipFill>
          <a:blip r:embed="rId1"/>
          <a:stretch/>
        </p:blipFill>
        <p:spPr>
          <a:xfrm>
            <a:off x="-31680" y="-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 rot="21239400">
            <a:off x="297360" y="176040"/>
            <a:ext cx="5040360" cy="40496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56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ые даты жизни и деятельности Гая Юлия Цеза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0 г. до Рождества Христова (по другим сведениям – 101 или даже 102 г.), 13 июля – дата рожд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6 – избрание жрецом Юпите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3 – женитьба на Корнел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0 – участие в войне с Митрида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8 – избрание квестором. Служба в Испа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3 – избрание великим понтификом. Заговор Катили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0 – первый триумвират (Помпей, Красс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зарь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9 – консульство. Женитьба на Кальпур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8 – начало военной кампании в Галл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5 – военные походы за Рейн и в Британ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 rot="21136200">
            <a:off x="4871880" y="826920"/>
            <a:ext cx="4105440" cy="42930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662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3 – гибель Красса. Распад триумвира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2 – война с Верцингеторигом и победа над н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9 – переход Рубикона. Начало гражданской вой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6 – победа над помпеянцами в Африке. Триумфы. Начало реформ. Приезд Клеопатры в Р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5 – победа над сыновьями Помпея при Мунде в Испании. Очередной триумф. Титулы и поче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4 – пожизненная диктатура. Смерть от кинжалов заговорщиков в мартовские иды (15 март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древний мир рисунком 3"/>
          <p:cNvPicPr/>
          <p:nvPr/>
        </p:nvPicPr>
        <p:blipFill>
          <a:blip r:embed="rId1"/>
          <a:stretch/>
        </p:blipFill>
        <p:spPr>
          <a:xfrm>
            <a:off x="-176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Box 1"/>
          <p:cNvSpPr/>
          <p:nvPr/>
        </p:nvSpPr>
        <p:spPr>
          <a:xfrm>
            <a:off x="0" y="520560"/>
            <a:ext cx="785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Гай Юлий Цезарь -  герой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324000" y="1062000"/>
            <a:ext cx="5688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Цезаря был замечательный ораторский и литературный талант. Он обладал не только твёрдым характером, но и в высшей степени проницательным умом,  удерживал в голове огромную массу фактов и мог с легкостью вести одновременно самые различные дела. Цезарь никогда не был отуманен своими успехами, всегда он чувствовал, что не все достижимо для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D:\cesar-small.jpg"/>
          <p:cNvPicPr/>
          <p:nvPr/>
        </p:nvPicPr>
        <p:blipFill>
          <a:blip r:embed="rId2"/>
          <a:stretch/>
        </p:blipFill>
        <p:spPr>
          <a:xfrm>
            <a:off x="6012000" y="0"/>
            <a:ext cx="3114360" cy="5216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древний мир рисунком 3"/>
          <p:cNvPicPr/>
          <p:nvPr/>
        </p:nvPicPr>
        <p:blipFill>
          <a:blip r:embed="rId1"/>
          <a:stretch/>
        </p:blipFill>
        <p:spPr>
          <a:xfrm>
            <a:off x="-22320" y="-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2"/>
          <p:cNvSpPr/>
          <p:nvPr/>
        </p:nvSpPr>
        <p:spPr>
          <a:xfrm>
            <a:off x="3995640" y="122400"/>
            <a:ext cx="4897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Юлий занимался хозяйственными делами Рима. Он тратил деньги на нужды города – ремонтировал дороги, организовывал гладиаторские бои, раздавал бедным людям хле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у удалось расширить владения Рима, он воевал на берегах Рейна, вторгался в пределы Британий.  В завещании велел раздать свои богатства друзьям и нар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F:\abd58f1d3febc568f72996e9206a5a72.jpg"/>
          <p:cNvPicPr/>
          <p:nvPr/>
        </p:nvPicPr>
        <p:blipFill>
          <a:blip r:embed="rId2"/>
          <a:stretch/>
        </p:blipFill>
        <p:spPr>
          <a:xfrm>
            <a:off x="0" y="0"/>
            <a:ext cx="3916440" cy="50166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древний мир рисунком 3"/>
          <p:cNvPicPr/>
          <p:nvPr/>
        </p:nvPicPr>
        <p:blipFill>
          <a:blip r:embed="rId1"/>
          <a:stretch/>
        </p:blipFill>
        <p:spPr>
          <a:xfrm>
            <a:off x="38160" y="17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201600" y="476280"/>
            <a:ext cx="41544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зарь внес значительный вклад в развитие военного искус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военных кампаниях Цезарь проявлял мудрость, смелость и осторожность. Его личная храбрость вызывала уважение даже противников, его же солдаты верили ему безгранично и отлично знали, что их вождь храбр и гениален, вынослив и неприхотлив в воинских походах, скромен в своих привычках и благороден, отлично управляется с конем и блестяще владеет оружи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http://www.playcast.ru/uploads/2015/03/15/12653276.jpg"/>
          <p:cNvPicPr/>
          <p:nvPr/>
        </p:nvPicPr>
        <p:blipFill>
          <a:blip r:embed="rId2"/>
          <a:srcRect l="16598" t="0" r="0" b="0"/>
          <a:stretch/>
        </p:blipFill>
        <p:spPr>
          <a:xfrm>
            <a:off x="4348080" y="1052640"/>
            <a:ext cx="4872240" cy="3241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3T03:48:56Z</dcterms:created>
  <dc:creator>Оля</dc:creator>
  <dc:description/>
  <dc:language>en-US</dc:language>
  <cp:lastModifiedBy>Учитель</cp:lastModifiedBy>
  <dcterms:modified xsi:type="dcterms:W3CDTF">2016-06-01T02:01:55Z</dcterms:modified>
  <cp:revision>62</cp:revision>
  <dc:subject/>
  <dc:title>Слайд 1</dc:title>
</cp:coreProperties>
</file>