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9.png" ContentType="image/png"/>
  <Override PartName="/ppt/media/image5.gif" ContentType="image/gif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C08-2F28-4FF6-B066-8125124E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A5F-260A-411F-93FE-5864CAF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4D1-FBB8-4547-A2A3-AECE3AE8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2D4-1A46-43C5-A76D-8455575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584-B105-438A-93AA-3987006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F98-20B3-4501-9628-32F6C6ED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6F3-1E99-4D3B-8CF0-DDD1290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DEB-E259-4406-8488-28DD4C4D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C0C-3586-4871-976C-40A758AF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B10-EDE6-487F-BE68-9240B9D0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EEE-44B2-4CB2-830D-C153FB04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8CD-E371-4FC1-94EA-64B36FF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4537-CA67-45A1-B220-56B2DECF3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92280"/>
            <a:ext cx="77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Times New Roman"/>
              </a:rPr>
              <a:t>Геометрическ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Times New Roman"/>
              </a:rPr>
              <a:t>прогресс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43280" y="270828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рок алгебры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ля 9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4000" y="43657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4" descr="1"/>
          <p:cNvPicPr/>
          <p:nvPr/>
        </p:nvPicPr>
        <p:blipFill>
          <a:blip r:embed="rId1"/>
          <a:stretch/>
        </p:blipFill>
        <p:spPr>
          <a:xfrm>
            <a:off x="900000" y="2492280"/>
            <a:ext cx="1729080" cy="19447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45" name="Picture 35" descr="2"/>
          <p:cNvPicPr/>
          <p:nvPr/>
        </p:nvPicPr>
        <p:blipFill>
          <a:blip r:embed="rId2"/>
          <a:stretch/>
        </p:blipFill>
        <p:spPr>
          <a:xfrm>
            <a:off x="6207120" y="2492280"/>
            <a:ext cx="1965240" cy="19656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097280" y="571680"/>
            <a:ext cx="47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верка зна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Documents and Settings\Администратор\Мои документы\Мои рисунки\Анимированные рисунки по темам\Дети\1\baby18.gif"/>
          <p:cNvPicPr/>
          <p:nvPr/>
        </p:nvPicPr>
        <p:blipFill>
          <a:blip r:embed="rId1"/>
          <a:stretch/>
        </p:blipFill>
        <p:spPr>
          <a:xfrm>
            <a:off x="6215040" y="185724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0" y="1357200"/>
            <a:ext cx="657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сумму чисел, если её слагаемые являются  последовательными членами геометрической прогре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1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2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- 9, 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2,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3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4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 1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28 № 1, 2, 3, 4  (из текстов ОГ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Дана геометрическая прогрессия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наменатель которой равен 2, а              . Найдите сумму первых шести её 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ая прогрессия задана условием   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умму первых её 4 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ны первые несколько членов геометрической прогрессии: −1024; −256; −64; … Найдите сумму первых 5 её 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еометрической прогрессии сумма первого и второго членов равна 75, а сумма второго и третьего членов равна 150. Найдите первые три члена этой прогресс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ответе перечислите через точку с запятой первый, второй и третий члены про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http://sdamgia.ru/formula/29/29ec25ebfe00ba16dd5947b3dd90da31.png"/>
          <p:cNvPicPr/>
          <p:nvPr/>
        </p:nvPicPr>
        <p:blipFill>
          <a:blip r:embed="rId1"/>
          <a:stretch/>
        </p:blipFill>
        <p:spPr>
          <a:xfrm>
            <a:off x="7072200" y="2857680"/>
            <a:ext cx="128592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http://sdamgia.ru/formula/67/676da6d2d8d9343c96d4699d4bec94db.png"/>
          <p:cNvPicPr/>
          <p:nvPr/>
        </p:nvPicPr>
        <p:blipFill>
          <a:blip r:embed="rId2"/>
          <a:stretch/>
        </p:blipFill>
        <p:spPr>
          <a:xfrm>
            <a:off x="3214800" y="2286000"/>
            <a:ext cx="785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539640" y="364500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11280" y="43164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флекс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95280" y="11746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каждого из вас на столе карточки (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роз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елён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ёлт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Уходя из класса, прикрепите на доску одну из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очка </a:t>
            </a: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розового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цвет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бозна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“Я удовлетворён уроком, урок был полезен для меня, я много, с пользой и хорошо работал на уроке, и получил заслуженную оценку, я понимал всё, о чём говорилось и что делалось на урок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очка 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зеленого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цвета обозна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“Урок был интересен, я принимал в нём активное участие, урок был в определённой степени полезен для меня, я отвечал с места, я сумел выполнить ряд заданий, мне было на уроке достаточно комфортно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очка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желтого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цвета обозна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“Пользы от урока я получил мало, я не очень понимал, о чём идёт речь, мне это не очень нужно, домашнее задание я не понял, к ответу на уроке я был не готов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68360" y="47628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Тема урока: «Сумма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ервых членов геометрической прогрессии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116000" y="1700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й образовательный станд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84360" y="29242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. Систематизировать и обобщить изученный материал о прогресс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2. Научиться применять формулу вычисления суммы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первых членов геометрической про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Администратор\Мои документы\Мои рисунки\Анимированные рисунки по темам\Бабочки\B_Fly02.gif"/>
          <p:cNvPicPr/>
          <p:nvPr/>
        </p:nvPicPr>
        <p:blipFill>
          <a:blip r:embed="rId1"/>
          <a:stretch/>
        </p:blipFill>
        <p:spPr>
          <a:xfrm>
            <a:off x="6858000" y="4071960"/>
            <a:ext cx="2286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611280" y="47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0" y="123192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рессио – движение вперед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95280" y="25002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а стремится человек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ы космос и мор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енье звезд и вся Земл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математиков зове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ый лозунг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Прогрессио – движение вперед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Documents and Settings\Администратор\Мои документы\Мои рисунки\Анимированные рисунки по темам\Земля\j4.gif"/>
          <p:cNvPicPr/>
          <p:nvPr/>
        </p:nvPicPr>
        <p:blipFill>
          <a:blip r:embed="rId1"/>
          <a:stretch/>
        </p:blipFill>
        <p:spPr>
          <a:xfrm>
            <a:off x="5715000" y="2571840"/>
            <a:ext cx="2857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11280" y="3589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бобщающая табл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39640" y="364500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4"/>
          <p:cNvSpPr/>
          <p:nvPr/>
        </p:nvSpPr>
        <p:spPr>
          <a:xfrm>
            <a:off x="396720" y="101592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лните нижеприведенную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700280"/>
          <a:ext cx="8424720" cy="4022640"/>
        </p:xfrm>
        <a:graphic>
          <a:graphicData uri="http://schemas.openxmlformats.org/drawingml/2006/table">
            <a:tbl>
              <a:tblPr/>
              <a:tblGrid>
                <a:gridCol w="430200"/>
                <a:gridCol w="2459160"/>
                <a:gridCol w="2857320"/>
                <a:gridCol w="26780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рифметическая (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еометрическая (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ула для нахожд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-го ч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ум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-первых членов прогресс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4" descr="C:\Documents and Settings\Администратор\Мои документы\Мои рисунки\Анимированные рисунки по темам\Буквы\08\question_md_wht.gif"/>
          <p:cNvPicPr/>
          <p:nvPr/>
        </p:nvPicPr>
        <p:blipFill>
          <a:blip r:embed="rId1"/>
          <a:stretch/>
        </p:blipFill>
        <p:spPr>
          <a:xfrm>
            <a:off x="7215120" y="500040"/>
            <a:ext cx="900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7120" y="1500120"/>
          <a:ext cx="8425080" cy="4389480"/>
        </p:xfrm>
        <a:graphic>
          <a:graphicData uri="http://schemas.openxmlformats.org/drawingml/2006/table">
            <a:tbl>
              <a:tblPr/>
              <a:tblGrid>
                <a:gridCol w="430200"/>
                <a:gridCol w="2570400"/>
                <a:gridCol w="2786040"/>
                <a:gridCol w="263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рифметическая (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еометрическая (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+1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 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·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ула для нахо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-го ч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+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n – 1)d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умма n-первых членов прогресс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22" descr=""/>
          <p:cNvPicPr/>
          <p:nvPr/>
        </p:nvPicPr>
        <p:blipFill>
          <a:blip r:embed="rId1"/>
          <a:stretch/>
        </p:blipFill>
        <p:spPr>
          <a:xfrm>
            <a:off x="3714840" y="5000760"/>
            <a:ext cx="1752480" cy="60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Text Box 131"/>
          <p:cNvSpPr/>
          <p:nvPr/>
        </p:nvSpPr>
        <p:spPr>
          <a:xfrm>
            <a:off x="468360" y="476280"/>
            <a:ext cx="83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я эти формулы, можно решить много интерес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4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5" descr=""/>
          <p:cNvPicPr/>
          <p:nvPr/>
        </p:nvPicPr>
        <p:blipFill>
          <a:blip r:embed="rId2"/>
          <a:stretch/>
        </p:blipFill>
        <p:spPr>
          <a:xfrm>
            <a:off x="0" y="457200"/>
            <a:ext cx="1752480" cy="60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7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8" descr=""/>
          <p:cNvPicPr/>
          <p:nvPr/>
        </p:nvPicPr>
        <p:blipFill>
          <a:blip r:embed="rId3"/>
          <a:stretch/>
        </p:blipFill>
        <p:spPr>
          <a:xfrm>
            <a:off x="214200" y="428760"/>
            <a:ext cx="8715600" cy="928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0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4" descr="C:\Documents and Settings\Администратор\Мои документы\Мои рисунки\Анимированные рисунки по темам\Буквы\08\question_md_wht.gif"/>
          <p:cNvPicPr/>
          <p:nvPr/>
        </p:nvPicPr>
        <p:blipFill>
          <a:blip r:embed="rId4"/>
          <a:stretch/>
        </p:blipFill>
        <p:spPr>
          <a:xfrm>
            <a:off x="7000920" y="4786200"/>
            <a:ext cx="900000" cy="1071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3"/>
          <p:cNvSpPr/>
          <p:nvPr/>
        </p:nvSpPr>
        <p:spPr>
          <a:xfrm>
            <a:off x="7500960" y="3786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11280" y="5508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овт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341360"/>
            <a:ext cx="842472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член геометрической прогрессии равен 5, знаменатель – равен 3. Найти 4-ый член прогресси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) 5;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25;          C) 13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у может быть равен знаменатель геометрической прогрессии, есл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= 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 2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Documents and Settings\Администратор\Мои документы\Мои рисунки\Анимированные рисунки по темам\Разное\09\writingonbook.gif"/>
          <p:cNvPicPr/>
          <p:nvPr/>
        </p:nvPicPr>
        <p:blipFill>
          <a:blip r:embed="rId1"/>
          <a:stretch/>
        </p:blipFill>
        <p:spPr>
          <a:xfrm>
            <a:off x="2571840" y="392904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85880" y="4857840"/>
            <a:ext cx="150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714240" y="357120"/>
            <a:ext cx="81439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дача 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сумму первых пяти членов геометр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6, 2,      ,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₁ и </a:t>
            </a:r>
            <a:r>
              <a:rPr b="0" lang="en-US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 в этой задаче</a:t>
            </a:r>
            <a:r>
              <a:rPr b="0" lang="en-US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123840" cy="552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95400" cy="428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455720" y="702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0" y="457200"/>
            <a:ext cx="95400" cy="428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/>
          <p:cNvSpPr/>
          <p:nvPr/>
        </p:nvSpPr>
        <p:spPr>
          <a:xfrm>
            <a:off x="4455720" y="702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4452480" y="73440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52480" y="73440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785880" y="3714840"/>
            <a:ext cx="745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Что нужно знать, чтобы найти сумму первых пяти чл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геометрической прогрессии</a:t>
            </a: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1071720" y="314316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 Math"/>
                <a:ea typeface="Cambria Math"/>
              </a:rPr>
              <a:t>b₁ = 6 , q =</a:t>
            </a:r>
            <a:r>
              <a:rPr b="0" lang="ru-RU" sz="2400" spc="-1" strike="noStrike">
                <a:solidFill>
                  <a:srgbClr val="ffff00"/>
                </a:solidFill>
                <a:latin typeface="Cambria Math"/>
                <a:ea typeface="Cambria Math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4"/>
          <a:stretch/>
        </p:blipFill>
        <p:spPr>
          <a:xfrm>
            <a:off x="928800" y="4643280"/>
            <a:ext cx="2171520" cy="990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31"/>
          <p:cNvGrpSpPr/>
          <p:nvPr/>
        </p:nvGrpSpPr>
        <p:grpSpPr>
          <a:xfrm>
            <a:off x="4575600" y="4714920"/>
            <a:ext cx="2744280" cy="857160"/>
            <a:chOff x="4575600" y="4714920"/>
            <a:chExt cx="2744280" cy="857160"/>
          </a:xfrm>
        </p:grpSpPr>
        <p:pic>
          <p:nvPicPr>
            <p:cNvPr id="96" name="Picture 20" descr=""/>
            <p:cNvPicPr/>
            <p:nvPr/>
          </p:nvPicPr>
          <p:blipFill>
            <a:blip r:embed="rId5"/>
            <a:stretch/>
          </p:blipFill>
          <p:spPr>
            <a:xfrm>
              <a:off x="5286240" y="4714920"/>
              <a:ext cx="10094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9" descr=""/>
            <p:cNvPicPr/>
            <p:nvPr/>
          </p:nvPicPr>
          <p:blipFill>
            <a:blip r:embed="rId6"/>
            <a:stretch/>
          </p:blipFill>
          <p:spPr>
            <a:xfrm>
              <a:off x="6929640" y="4857840"/>
              <a:ext cx="3902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Прямоугольник 28"/>
            <p:cNvSpPr/>
            <p:nvPr/>
          </p:nvSpPr>
          <p:spPr>
            <a:xfrm>
              <a:off x="4575600" y="492912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S </a:t>
              </a:r>
              <a:r>
                <a:rPr b="0" lang="ru-RU" sz="12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5</a:t>
              </a: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29"/>
            <p:cNvSpPr/>
            <p:nvPr/>
          </p:nvSpPr>
          <p:spPr>
            <a:xfrm>
              <a:off x="6503040" y="5000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71680" y="50004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дача 3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еометрической прогрессии со знаменателем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1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мма первых шести членов равна 2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те первый член этой про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447080" y="122760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077200" y="357300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252 = 2b</a:t>
            </a:r>
            <a:r>
              <a:rPr b="0" lang="en-US" sz="2400" spc="-1" strike="noStrike">
                <a:solidFill>
                  <a:srgbClr val="ffff00"/>
                </a:solidFill>
                <a:latin typeface="Cambria Math"/>
                <a:ea typeface="Times New Roman"/>
              </a:rPr>
              <a:t>₁</a:t>
            </a:r>
            <a:r>
              <a:rPr b="0" lang="ru-RU" sz="2400" spc="-1" strike="noStrike">
                <a:solidFill>
                  <a:srgbClr val="ffff00"/>
                </a:solidFill>
                <a:latin typeface="Cambria Math"/>
                <a:ea typeface="Times New Roman"/>
              </a:rPr>
              <a:t>(1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4465440" y="456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14"/>
          <p:cNvGrpSpPr/>
          <p:nvPr/>
        </p:nvGrpSpPr>
        <p:grpSpPr>
          <a:xfrm>
            <a:off x="2005200" y="2500200"/>
            <a:ext cx="2495520" cy="2817720"/>
            <a:chOff x="2005200" y="2500200"/>
            <a:chExt cx="2495520" cy="2817720"/>
          </a:xfrm>
        </p:grpSpPr>
        <p:pic>
          <p:nvPicPr>
            <p:cNvPr id="106" name="Picture 8" descr=""/>
            <p:cNvPicPr/>
            <p:nvPr/>
          </p:nvPicPr>
          <p:blipFill>
            <a:blip r:embed="rId1"/>
            <a:stretch/>
          </p:blipFill>
          <p:spPr>
            <a:xfrm>
              <a:off x="2821320" y="2500200"/>
              <a:ext cx="105732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Прямоугольник 13"/>
            <p:cNvSpPr/>
            <p:nvPr/>
          </p:nvSpPr>
          <p:spPr>
            <a:xfrm>
              <a:off x="2005200" y="27072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25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1" descr=""/>
            <p:cNvPicPr/>
            <p:nvPr/>
          </p:nvPicPr>
          <p:blipFill>
            <a:blip r:embed="rId2"/>
            <a:stretch/>
          </p:blipFill>
          <p:spPr>
            <a:xfrm>
              <a:off x="4053240" y="3571920"/>
              <a:ext cx="44748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4" descr=""/>
            <p:cNvPicPr/>
            <p:nvPr/>
          </p:nvPicPr>
          <p:blipFill>
            <a:blip r:embed="rId3"/>
            <a:stretch/>
          </p:blipFill>
          <p:spPr>
            <a:xfrm>
              <a:off x="3035520" y="4142880"/>
              <a:ext cx="5428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Прямоугольник 22"/>
            <p:cNvSpPr/>
            <p:nvPr/>
          </p:nvSpPr>
          <p:spPr>
            <a:xfrm>
              <a:off x="2035440" y="4145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mbria Math"/>
                  <a:ea typeface="Times New Roman"/>
                </a:rPr>
                <a:t>25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24"/>
            <p:cNvSpPr/>
            <p:nvPr/>
          </p:nvSpPr>
          <p:spPr>
            <a:xfrm>
              <a:off x="2106720" y="4858200"/>
              <a:ext cx="15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mbria Math"/>
                  <a:ea typeface="Times New Roman"/>
                </a:rPr>
                <a:t>b₁=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8" descr=""/>
          <p:cNvPicPr/>
          <p:nvPr/>
        </p:nvPicPr>
        <p:blipFill>
          <a:blip r:embed="rId4"/>
          <a:stretch/>
        </p:blipFill>
        <p:spPr>
          <a:xfrm>
            <a:off x="5000760" y="2428920"/>
            <a:ext cx="2171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586800" y="500040"/>
            <a:ext cx="77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дача 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ервых членов  геометр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вна  -93. Первый член геометрической прогрессии равен -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знаменатель  равен 2. Найт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447080" y="93240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578440" y="2770560"/>
            <a:ext cx="2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160" y="10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22"/>
          <p:cNvGrpSpPr/>
          <p:nvPr/>
        </p:nvGrpSpPr>
        <p:grpSpPr>
          <a:xfrm>
            <a:off x="2299680" y="2000160"/>
            <a:ext cx="2167560" cy="3112920"/>
            <a:chOff x="2299680" y="2000160"/>
            <a:chExt cx="2167560" cy="311292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3286080" y="2000160"/>
              <a:ext cx="1181160" cy="70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Прямоугольник 5"/>
            <p:cNvSpPr/>
            <p:nvPr/>
          </p:nvSpPr>
          <p:spPr>
            <a:xfrm>
              <a:off x="2299680" y="21121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―</a:t>
              </a: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9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Группа 10"/>
            <p:cNvGrpSpPr/>
            <p:nvPr/>
          </p:nvGrpSpPr>
          <p:grpSpPr>
            <a:xfrm>
              <a:off x="2357280" y="2785680"/>
              <a:ext cx="1988280" cy="499680"/>
              <a:chOff x="2357280" y="2785680"/>
              <a:chExt cx="1988280" cy="499680"/>
            </a:xfrm>
          </p:grpSpPr>
          <p:pic>
            <p:nvPicPr>
              <p:cNvPr id="12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929040" y="2859840"/>
                <a:ext cx="333360" cy="4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Прямоугольник 9"/>
              <p:cNvSpPr/>
              <p:nvPr/>
            </p:nvSpPr>
            <p:spPr>
              <a:xfrm>
                <a:off x="2357280" y="278568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Calibri"/>
                    <a:ea typeface="Times New Roman"/>
                  </a:rPr>
                  <a:t>―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  <a:ea typeface="Times New Roman"/>
                  </a:rPr>
                  <a:t>93 = 3(1 -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Picture 7" descr=""/>
            <p:cNvPicPr/>
            <p:nvPr/>
          </p:nvPicPr>
          <p:blipFill>
            <a:blip r:embed="rId3"/>
            <a:stretch/>
          </p:blipFill>
          <p:spPr>
            <a:xfrm>
              <a:off x="3643560" y="3285720"/>
              <a:ext cx="33336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Прямоугольник 14"/>
            <p:cNvSpPr/>
            <p:nvPr/>
          </p:nvSpPr>
          <p:spPr>
            <a:xfrm>
              <a:off x="2357280" y="3214440"/>
              <a:ext cx="20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―</a:t>
              </a: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31 = 1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0" descr=""/>
            <p:cNvPicPr/>
            <p:nvPr/>
          </p:nvPicPr>
          <p:blipFill>
            <a:blip r:embed="rId4"/>
            <a:stretch/>
          </p:blipFill>
          <p:spPr>
            <a:xfrm>
              <a:off x="2643120" y="3714480"/>
              <a:ext cx="106668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3" descr=""/>
            <p:cNvPicPr/>
            <p:nvPr/>
          </p:nvPicPr>
          <p:blipFill>
            <a:blip r:embed="rId5"/>
            <a:stretch/>
          </p:blipFill>
          <p:spPr>
            <a:xfrm>
              <a:off x="2643120" y="4285800"/>
              <a:ext cx="10382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Прямоугольник 21"/>
            <p:cNvSpPr/>
            <p:nvPr/>
          </p:nvSpPr>
          <p:spPr>
            <a:xfrm>
              <a:off x="2643120" y="465336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n=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8" descr=""/>
          <p:cNvPicPr/>
          <p:nvPr/>
        </p:nvPicPr>
        <p:blipFill>
          <a:blip r:embed="rId6"/>
          <a:stretch/>
        </p:blipFill>
        <p:spPr>
          <a:xfrm>
            <a:off x="5643720" y="2786040"/>
            <a:ext cx="2171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10:12Z</dcterms:created>
  <dc:creator>Refat Halilov</dc:creator>
  <dc:description/>
  <dc:language>en-US</dc:language>
  <cp:lastModifiedBy>user</cp:lastModifiedBy>
  <dcterms:modified xsi:type="dcterms:W3CDTF">2017-01-10T16:48:33Z</dcterms:modified>
  <cp:revision>120</cp:revision>
  <dc:subject/>
  <dc:title>Слайд 1</dc:title>
</cp:coreProperties>
</file>