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gif" ContentType="image/gif"/>
  <Override PartName="/ppt/media/image11.png" ContentType="image/png"/>
  <Override PartName="/ppt/media/image6.png" ContentType="image/png"/>
  <Override PartName="/ppt/media/image3.gif" ContentType="image/gif"/>
  <Override PartName="/ppt/media/image9.png" ContentType="image/png"/>
  <Override PartName="/ppt/media/image5.gif" ContentType="image/gif"/>
  <Override PartName="/ppt/media/image13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23.png" ContentType="image/png"/>
  <Override PartName="/ppt/media/image22.png" ContentType="image/png"/>
  <Override PartName="/ppt/media/image10.png" ContentType="image/png"/>
  <Override PartName="/ppt/media/image21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DF1-64FA-42C2-9E77-36F7FE5A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EFC-DD6B-49CC-BA72-674A0A73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BC3-E85D-40CF-ADB1-7DD4CB79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A11-2310-49B7-9E05-779D5E4B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8DE-5569-4A79-A3F4-7FC8BFF7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EF9-2749-4920-ADD5-E362EDC1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2A7-4304-4DF4-B2C6-F818C7CB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4D99-3B99-4709-88B5-B52BCAF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1B44-4BA1-4528-A7FC-511A7912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4FFF-AFFD-47EC-8389-3DE8A4B0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370-1D43-4ED7-8606-F7E8F74B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C47-4336-4626-8796-3829421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6742-9576-4635-891F-BF312E678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55640" y="692280"/>
            <a:ext cx="7777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Times New Roman"/>
              </a:rPr>
              <a:t>Геометрическа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50000">
                      <a:srgbClr val="ffff00"/>
                    </a:gs>
                    <a:gs pos="100000">
                      <a:srgbClr val="00ff00"/>
                    </a:gs>
                  </a:gsLst>
                  <a:lin ang="2700000"/>
                </a:gradFill>
                <a:latin typeface="Times New Roman"/>
              </a:rPr>
              <a:t>прогрессия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50000">
                    <a:srgbClr val="ffff00"/>
                  </a:gs>
                  <a:gs pos="100000">
                    <a:srgbClr val="00ff00"/>
                  </a:gs>
                </a:gsLst>
                <a:lin ang="2700000"/>
              </a:gradFill>
              <a:latin typeface="Times New Roman"/>
              <a:ea typeface="Times New Roman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843280" y="270828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рок алгебры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для 9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24000" y="436572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4" descr="1"/>
          <p:cNvPicPr/>
          <p:nvPr/>
        </p:nvPicPr>
        <p:blipFill>
          <a:blip r:embed="rId1"/>
          <a:stretch/>
        </p:blipFill>
        <p:spPr>
          <a:xfrm>
            <a:off x="900000" y="2492280"/>
            <a:ext cx="1729080" cy="194472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  <p:pic>
        <p:nvPicPr>
          <p:cNvPr id="45" name="Picture 35" descr="2"/>
          <p:cNvPicPr/>
          <p:nvPr/>
        </p:nvPicPr>
        <p:blipFill>
          <a:blip r:embed="rId2"/>
          <a:stretch/>
        </p:blipFill>
        <p:spPr>
          <a:xfrm>
            <a:off x="6207120" y="2492280"/>
            <a:ext cx="1965240" cy="1965600"/>
          </a:xfrm>
          <a:prstGeom prst="rect">
            <a:avLst/>
          </a:prstGeom>
          <a:ln w="381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1097280" y="571680"/>
            <a:ext cx="471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роверка знаний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C:\Documents and Settings\Администратор\Мои документы\Мои рисунки\Анимированные рисунки по темам\Дети\1\baby18.gif"/>
          <p:cNvPicPr/>
          <p:nvPr/>
        </p:nvPicPr>
        <p:blipFill>
          <a:blip r:embed="rId1"/>
          <a:stretch/>
        </p:blipFill>
        <p:spPr>
          <a:xfrm>
            <a:off x="6215040" y="1857240"/>
            <a:ext cx="235764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0" y="1357200"/>
            <a:ext cx="6572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сумму чисел, если её слагаемые являются  последовательными членами геометрической прогресс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1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3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2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- 9, 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2,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3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0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1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ариант 4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q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 - 1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9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Домашнее зад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.28 № 1, 2, 3, 4  (из текстов ОГ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Дана геометрическая прогрессия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наменатель которой равен 2, а              . Найдите сумму первых шести её чл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ая прогрессия задана условием   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ите сумму первых её 4 чл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исаны первые несколько членов геометрической прогрессии: −1024; −256; −64; … Найдите сумму первых 5 её чле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геометрической прогрессии сумма первого и второго членов равна 75, а сумма второго и третьего членов равна 150. Найдите первые три члена этой прогресс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ответе перечислите через точку с запятой первый, второй и третий члены прогре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3" descr="http://sdamgia.ru/formula/29/29ec25ebfe00ba16dd5947b3dd90da31.png"/>
          <p:cNvPicPr/>
          <p:nvPr/>
        </p:nvPicPr>
        <p:blipFill>
          <a:blip r:embed="rId1"/>
          <a:stretch/>
        </p:blipFill>
        <p:spPr>
          <a:xfrm>
            <a:off x="7072200" y="2857680"/>
            <a:ext cx="1285920" cy="3571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http://sdamgia.ru/formula/67/676da6d2d8d9343c96d4699d4bec94db.png"/>
          <p:cNvPicPr/>
          <p:nvPr/>
        </p:nvPicPr>
        <p:blipFill>
          <a:blip r:embed="rId2"/>
          <a:stretch/>
        </p:blipFill>
        <p:spPr>
          <a:xfrm>
            <a:off x="3214800" y="2286000"/>
            <a:ext cx="785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539640" y="364500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324000" y="33336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11280" y="43164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Рефлекс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95280" y="117468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ите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 каждого из вас на столе карточки (</a:t>
            </a:r>
            <a:r>
              <a:rPr b="1" lang="ru-RU" sz="1800" spc="-1" strike="noStrike">
                <a:solidFill>
                  <a:srgbClr val="ff00ff"/>
                </a:solidFill>
                <a:latin typeface="Arial"/>
              </a:rPr>
              <a:t>розов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зелён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жёлта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 Уходя из класса, прикрепите на доску одну из ни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точка </a:t>
            </a:r>
            <a:r>
              <a:rPr b="1" i="1" lang="ru-RU" sz="1800" spc="-1" strike="noStrike">
                <a:solidFill>
                  <a:srgbClr val="ff00ff"/>
                </a:solidFill>
                <a:latin typeface="Arial"/>
              </a:rPr>
              <a:t>розового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цвет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бозна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“Я удовлетворён уроком, урок был полезен для меня, я много, с пользой и хорошо работал на уроке, и получил заслуженную оценку, я понимал всё, о чём говорилось и что делалось на уроке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точка </a:t>
            </a:r>
            <a:r>
              <a:rPr b="1" i="1" lang="ru-RU" sz="1800" spc="-1" strike="noStrike">
                <a:solidFill>
                  <a:srgbClr val="00b050"/>
                </a:solidFill>
                <a:latin typeface="Arial"/>
              </a:rPr>
              <a:t>зеленого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цвета обозна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“Урок был интересен, я принимал в нём активное участие, урок был в определённой степени полезен для меня, я отвечал с места, я сумел выполнить ряд заданий, мне было на уроке достаточно комфортно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рточка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желтого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цвета обознача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“Пользы от урока я получил мало, я не очень понимал, о чём идёт речь, мне это не очень нужно, домашнее задание я не понял, к ответу на уроке я был не готов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68360" y="476280"/>
            <a:ext cx="8136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Тема урока: «Сумма </a:t>
            </a:r>
            <a:r>
              <a:rPr b="0" i="1" lang="en-US" sz="3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ервых членов геометрической прогрессии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1116000" y="1700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сударственный образовательный станд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684360" y="2924280"/>
            <a:ext cx="7848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1. Систематизировать и обобщить изученный материал о прогресс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2. Научиться применять формулу вычисления суммы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первых членов геометрической прогрес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Администратор\Мои документы\Мои рисунки\Анимированные рисунки по темам\Бабочки\B_Fly02.gif"/>
          <p:cNvPicPr/>
          <p:nvPr/>
        </p:nvPicPr>
        <p:blipFill>
          <a:blip r:embed="rId1"/>
          <a:stretch/>
        </p:blipFill>
        <p:spPr>
          <a:xfrm>
            <a:off x="6858000" y="4071960"/>
            <a:ext cx="2286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611280" y="4777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0" y="123192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Прогрессио – движение вперед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4"/>
          <p:cNvSpPr/>
          <p:nvPr/>
        </p:nvSpPr>
        <p:spPr>
          <a:xfrm>
            <a:off x="395280" y="2500200"/>
            <a:ext cx="842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ончился двадцатый 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уда стремится человек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ы космос и мор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енье звезд и вся Земля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 математиков зове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естный лозунг: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“Прогрессио – движение вперед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C:\Documents and Settings\Администратор\Мои документы\Мои рисунки\Анимированные рисунки по темам\Земля\j4.gif"/>
          <p:cNvPicPr/>
          <p:nvPr/>
        </p:nvPicPr>
        <p:blipFill>
          <a:blip r:embed="rId1"/>
          <a:stretch/>
        </p:blipFill>
        <p:spPr>
          <a:xfrm>
            <a:off x="5715000" y="2571840"/>
            <a:ext cx="2857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611280" y="35892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Обобщающая табл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539640" y="364500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4"/>
          <p:cNvSpPr/>
          <p:nvPr/>
        </p:nvSpPr>
        <p:spPr>
          <a:xfrm>
            <a:off x="396720" y="1015920"/>
            <a:ext cx="835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олните нижеприведенную табл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68360" y="1700280"/>
          <a:ext cx="8424720" cy="4022640"/>
        </p:xfrm>
        <a:graphic>
          <a:graphicData uri="http://schemas.openxmlformats.org/drawingml/2006/table">
            <a:tbl>
              <a:tblPr/>
              <a:tblGrid>
                <a:gridCol w="430200"/>
                <a:gridCol w="2459160"/>
                <a:gridCol w="2857320"/>
                <a:gridCol w="26780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гре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рифметическая (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еометрическая (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реде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ула для нахожден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-го ч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умм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-первых членов прогресс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Picture 34" descr="C:\Documents and Settings\Администратор\Мои документы\Мои рисунки\Анимированные рисунки по темам\Буквы\08\question_md_wht.gif"/>
          <p:cNvPicPr/>
          <p:nvPr/>
        </p:nvPicPr>
        <p:blipFill>
          <a:blip r:embed="rId1"/>
          <a:stretch/>
        </p:blipFill>
        <p:spPr>
          <a:xfrm>
            <a:off x="7215120" y="500040"/>
            <a:ext cx="9003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7120" y="1500120"/>
          <a:ext cx="8425080" cy="4389480"/>
        </p:xfrm>
        <a:graphic>
          <a:graphicData uri="http://schemas.openxmlformats.org/drawingml/2006/table">
            <a:tbl>
              <a:tblPr/>
              <a:tblGrid>
                <a:gridCol w="430200"/>
                <a:gridCol w="2570400"/>
                <a:gridCol w="2786040"/>
                <a:gridCol w="263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рогрес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Арифметическая (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Геометрическая (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преде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</a:t>
                      </a: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+1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+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+1 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·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Формула для нахожд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-го чле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+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n – 1)d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=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b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q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умма n-первых членов прогресс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1" name="Picture 122" descr=""/>
          <p:cNvPicPr/>
          <p:nvPr/>
        </p:nvPicPr>
        <p:blipFill>
          <a:blip r:embed="rId1"/>
          <a:stretch/>
        </p:blipFill>
        <p:spPr>
          <a:xfrm>
            <a:off x="3714840" y="5000760"/>
            <a:ext cx="1752480" cy="60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2" name="Text Box 131"/>
          <p:cNvSpPr/>
          <p:nvPr/>
        </p:nvSpPr>
        <p:spPr>
          <a:xfrm>
            <a:off x="468360" y="476280"/>
            <a:ext cx="837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ная эти формулы, можно решить много интересных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34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5" descr=""/>
          <p:cNvPicPr/>
          <p:nvPr/>
        </p:nvPicPr>
        <p:blipFill>
          <a:blip r:embed="rId2"/>
          <a:stretch/>
        </p:blipFill>
        <p:spPr>
          <a:xfrm>
            <a:off x="0" y="457200"/>
            <a:ext cx="1752480" cy="6001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7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3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8" descr=""/>
          <p:cNvPicPr/>
          <p:nvPr/>
        </p:nvPicPr>
        <p:blipFill>
          <a:blip r:embed="rId3"/>
          <a:stretch/>
        </p:blipFill>
        <p:spPr>
          <a:xfrm>
            <a:off x="214200" y="428760"/>
            <a:ext cx="8715600" cy="9284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40"/>
          <p:cNvSpPr/>
          <p:nvPr/>
        </p:nvSpPr>
        <p:spPr>
          <a:xfrm>
            <a:off x="0" y="10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4" descr="C:\Documents and Settings\Администратор\Мои документы\Мои рисунки\Анимированные рисунки по темам\Буквы\08\question_md_wht.gif"/>
          <p:cNvPicPr/>
          <p:nvPr/>
        </p:nvPicPr>
        <p:blipFill>
          <a:blip r:embed="rId4"/>
          <a:stretch/>
        </p:blipFill>
        <p:spPr>
          <a:xfrm>
            <a:off x="7000920" y="4786200"/>
            <a:ext cx="900000" cy="10717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3"/>
          <p:cNvSpPr/>
          <p:nvPr/>
        </p:nvSpPr>
        <p:spPr>
          <a:xfrm>
            <a:off x="7500960" y="378612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11280" y="550800"/>
            <a:ext cx="799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00"/>
                </a:solidFill>
                <a:latin typeface="Arial"/>
              </a:rPr>
              <a:t>Повтор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324000" y="1341360"/>
            <a:ext cx="8424720" cy="33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ый член геометрической прогрессии равен 5, знаменатель – равен 3. Найти 4-ый член прогрессии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) 5;   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) 25;          C) 135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му может быть равен знаменатель геометрической прогрессии, есл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0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= 4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)  2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C:\Documents and Settings\Администратор\Мои документы\Мои рисунки\Анимированные рисунки по темам\Разное\09\writingonbook.gif"/>
          <p:cNvPicPr/>
          <p:nvPr/>
        </p:nvPicPr>
        <p:blipFill>
          <a:blip r:embed="rId1"/>
          <a:stretch/>
        </p:blipFill>
        <p:spPr>
          <a:xfrm>
            <a:off x="2571840" y="3929040"/>
            <a:ext cx="4429080" cy="2928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85880" y="4857840"/>
            <a:ext cx="1500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тв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714240" y="357120"/>
            <a:ext cx="814392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дача 2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ти сумму первых пяти членов геометр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6, 2,      ,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му равн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₁ и </a:t>
            </a:r>
            <a:r>
              <a:rPr b="0" lang="en-US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  в этой задаче</a:t>
            </a:r>
            <a:r>
              <a:rPr b="0" lang="en-US" sz="2400" spc="-1" strike="noStrike">
                <a:solidFill>
                  <a:srgbClr val="ffffff"/>
                </a:solidFill>
                <a:latin typeface="Cambria Math"/>
                <a:ea typeface="Cambria Math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428840" y="1643040"/>
            <a:ext cx="123840" cy="5526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0" y="457200"/>
            <a:ext cx="95400" cy="4287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455720" y="7020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"/>
          <p:cNvPicPr/>
          <p:nvPr/>
        </p:nvPicPr>
        <p:blipFill>
          <a:blip r:embed="rId3"/>
          <a:stretch/>
        </p:blipFill>
        <p:spPr>
          <a:xfrm>
            <a:off x="0" y="457200"/>
            <a:ext cx="95400" cy="428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1"/>
          <p:cNvSpPr/>
          <p:nvPr/>
        </p:nvSpPr>
        <p:spPr>
          <a:xfrm>
            <a:off x="4455720" y="70200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4452480" y="73440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52480" y="73440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1"/>
          <p:cNvSpPr/>
          <p:nvPr/>
        </p:nvSpPr>
        <p:spPr>
          <a:xfrm>
            <a:off x="785880" y="3714840"/>
            <a:ext cx="745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Что нужно знать, чтобы найти сумму первых пяти чл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геометрической прогрессии</a:t>
            </a:r>
            <a:r>
              <a:rPr b="0" lang="en-US" sz="2000" spc="-1" strike="noStrike">
                <a:solidFill>
                  <a:srgbClr val="f2f2f2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1071720" y="3143160"/>
            <a:ext cx="21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mbria Math"/>
                <a:ea typeface="Cambria Math"/>
              </a:rPr>
              <a:t>b₁ = 6 , q =</a:t>
            </a:r>
            <a:r>
              <a:rPr b="0" lang="ru-RU" sz="2400" spc="-1" strike="noStrike">
                <a:solidFill>
                  <a:srgbClr val="ffff00"/>
                </a:solidFill>
                <a:latin typeface="Cambria Math"/>
                <a:ea typeface="Cambria Math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8" descr=""/>
          <p:cNvPicPr/>
          <p:nvPr/>
        </p:nvPicPr>
        <p:blipFill>
          <a:blip r:embed="rId4"/>
          <a:stretch/>
        </p:blipFill>
        <p:spPr>
          <a:xfrm>
            <a:off x="928800" y="4643280"/>
            <a:ext cx="2171520" cy="990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3"/>
          <p:cNvSpPr/>
          <p:nvPr/>
        </p:nvSpPr>
        <p:spPr>
          <a:xfrm>
            <a:off x="0" y="18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Группа 31"/>
          <p:cNvGrpSpPr/>
          <p:nvPr/>
        </p:nvGrpSpPr>
        <p:grpSpPr>
          <a:xfrm>
            <a:off x="4575600" y="4714920"/>
            <a:ext cx="2744280" cy="857160"/>
            <a:chOff x="4575600" y="4714920"/>
            <a:chExt cx="2744280" cy="857160"/>
          </a:xfrm>
        </p:grpSpPr>
        <p:pic>
          <p:nvPicPr>
            <p:cNvPr id="96" name="Picture 20" descr=""/>
            <p:cNvPicPr/>
            <p:nvPr/>
          </p:nvPicPr>
          <p:blipFill>
            <a:blip r:embed="rId5"/>
            <a:stretch/>
          </p:blipFill>
          <p:spPr>
            <a:xfrm>
              <a:off x="5286240" y="4714920"/>
              <a:ext cx="10094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19" descr=""/>
            <p:cNvPicPr/>
            <p:nvPr/>
          </p:nvPicPr>
          <p:blipFill>
            <a:blip r:embed="rId6"/>
            <a:stretch/>
          </p:blipFill>
          <p:spPr>
            <a:xfrm>
              <a:off x="6929640" y="4857840"/>
              <a:ext cx="390240" cy="57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Прямоугольник 28"/>
            <p:cNvSpPr/>
            <p:nvPr/>
          </p:nvSpPr>
          <p:spPr>
            <a:xfrm>
              <a:off x="4575600" y="4929120"/>
              <a:ext cx="61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S </a:t>
              </a:r>
              <a:r>
                <a:rPr b="0" lang="ru-RU" sz="12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5</a:t>
              </a: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Прямоугольник 29"/>
            <p:cNvSpPr/>
            <p:nvPr/>
          </p:nvSpPr>
          <p:spPr>
            <a:xfrm>
              <a:off x="6503040" y="50007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571680" y="500040"/>
            <a:ext cx="807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Задача 3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геометрической прогрессии со знаменателем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= 1/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умма первых шести членов равна 25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йдите первый член этой прогре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4447080" y="122760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077200" y="3573000"/>
            <a:ext cx="19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252 = 2b</a:t>
            </a:r>
            <a:r>
              <a:rPr b="0" lang="en-US" sz="2400" spc="-1" strike="noStrike">
                <a:solidFill>
                  <a:srgbClr val="ffff00"/>
                </a:solidFill>
                <a:latin typeface="Cambria Math"/>
                <a:ea typeface="Times New Roman"/>
              </a:rPr>
              <a:t>₁</a:t>
            </a:r>
            <a:r>
              <a:rPr b="0" lang="ru-RU" sz="2400" spc="-1" strike="noStrike">
                <a:solidFill>
                  <a:srgbClr val="ffff00"/>
                </a:solidFill>
                <a:latin typeface="Cambria Math"/>
                <a:ea typeface="Times New Roman"/>
              </a:rPr>
              <a:t>(1</a:t>
            </a: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4465440" y="456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0" y="10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Группа 14"/>
          <p:cNvGrpSpPr/>
          <p:nvPr/>
        </p:nvGrpSpPr>
        <p:grpSpPr>
          <a:xfrm>
            <a:off x="2005200" y="2500200"/>
            <a:ext cx="2495520" cy="2817720"/>
            <a:chOff x="2005200" y="2500200"/>
            <a:chExt cx="2495520" cy="2817720"/>
          </a:xfrm>
        </p:grpSpPr>
        <p:pic>
          <p:nvPicPr>
            <p:cNvPr id="106" name="Picture 8" descr=""/>
            <p:cNvPicPr/>
            <p:nvPr/>
          </p:nvPicPr>
          <p:blipFill>
            <a:blip r:embed="rId1"/>
            <a:stretch/>
          </p:blipFill>
          <p:spPr>
            <a:xfrm>
              <a:off x="2821320" y="2500200"/>
              <a:ext cx="1057320" cy="9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Прямоугольник 13"/>
            <p:cNvSpPr/>
            <p:nvPr/>
          </p:nvSpPr>
          <p:spPr>
            <a:xfrm>
              <a:off x="2005200" y="270720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25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1" descr=""/>
            <p:cNvPicPr/>
            <p:nvPr/>
          </p:nvPicPr>
          <p:blipFill>
            <a:blip r:embed="rId2"/>
            <a:stretch/>
          </p:blipFill>
          <p:spPr>
            <a:xfrm>
              <a:off x="4053240" y="3571920"/>
              <a:ext cx="447480" cy="5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4" descr=""/>
            <p:cNvPicPr/>
            <p:nvPr/>
          </p:nvPicPr>
          <p:blipFill>
            <a:blip r:embed="rId3"/>
            <a:stretch/>
          </p:blipFill>
          <p:spPr>
            <a:xfrm>
              <a:off x="3035520" y="4142880"/>
              <a:ext cx="542880" cy="58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Прямоугольник 22"/>
            <p:cNvSpPr/>
            <p:nvPr/>
          </p:nvSpPr>
          <p:spPr>
            <a:xfrm>
              <a:off x="2035440" y="4145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mbria Math"/>
                  <a:ea typeface="Times New Roman"/>
                </a:rPr>
                <a:t>252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оугольник 24"/>
            <p:cNvSpPr/>
            <p:nvPr/>
          </p:nvSpPr>
          <p:spPr>
            <a:xfrm>
              <a:off x="2106720" y="4858200"/>
              <a:ext cx="15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mbria Math"/>
                  <a:ea typeface="Times New Roman"/>
                </a:rPr>
                <a:t>b₁=12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18" descr=""/>
          <p:cNvPicPr/>
          <p:nvPr/>
        </p:nvPicPr>
        <p:blipFill>
          <a:blip r:embed="rId4"/>
          <a:stretch/>
        </p:blipFill>
        <p:spPr>
          <a:xfrm>
            <a:off x="5000760" y="2428920"/>
            <a:ext cx="2171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586800" y="500040"/>
            <a:ext cx="77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Задача 4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мм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ервых членов  геометрической прогре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вна  -93. Первый член геометрической прогрессии равен -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знаменатель  равен 2. Найт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4447080" y="93240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578440" y="2770560"/>
            <a:ext cx="2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160" y="1080"/>
            <a:ext cx="2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22"/>
          <p:cNvGrpSpPr/>
          <p:nvPr/>
        </p:nvGrpSpPr>
        <p:grpSpPr>
          <a:xfrm>
            <a:off x="2299680" y="2000160"/>
            <a:ext cx="2167560" cy="3112920"/>
            <a:chOff x="2299680" y="2000160"/>
            <a:chExt cx="2167560" cy="3112920"/>
          </a:xfrm>
        </p:grpSpPr>
        <p:pic>
          <p:nvPicPr>
            <p:cNvPr id="122" name="Picture 1" descr=""/>
            <p:cNvPicPr/>
            <p:nvPr/>
          </p:nvPicPr>
          <p:blipFill>
            <a:blip r:embed="rId1"/>
            <a:stretch/>
          </p:blipFill>
          <p:spPr>
            <a:xfrm>
              <a:off x="3286080" y="2000160"/>
              <a:ext cx="1181160" cy="70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Прямоугольник 5"/>
            <p:cNvSpPr/>
            <p:nvPr/>
          </p:nvSpPr>
          <p:spPr>
            <a:xfrm>
              <a:off x="2299680" y="2112120"/>
              <a:ext cx="98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―</a:t>
              </a: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Calibri"/>
                </a:rPr>
                <a:t>9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Группа 10"/>
            <p:cNvGrpSpPr/>
            <p:nvPr/>
          </p:nvGrpSpPr>
          <p:grpSpPr>
            <a:xfrm>
              <a:off x="2357280" y="2785680"/>
              <a:ext cx="1988280" cy="499680"/>
              <a:chOff x="2357280" y="2785680"/>
              <a:chExt cx="1988280" cy="499680"/>
            </a:xfrm>
          </p:grpSpPr>
          <p:pic>
            <p:nvPicPr>
              <p:cNvPr id="12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929040" y="2859840"/>
                <a:ext cx="333360" cy="42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Прямоугольник 9"/>
              <p:cNvSpPr/>
              <p:nvPr/>
            </p:nvSpPr>
            <p:spPr>
              <a:xfrm>
                <a:off x="2357280" y="2785680"/>
                <a:ext cx="198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00"/>
                    </a:solidFill>
                    <a:latin typeface="Calibri"/>
                    <a:ea typeface="Times New Roman"/>
                  </a:rPr>
                  <a:t>―</a:t>
                </a:r>
                <a:r>
                  <a:rPr b="0" lang="en-US" sz="2400" spc="-1" strike="noStrike">
                    <a:solidFill>
                      <a:srgbClr val="ffff00"/>
                    </a:solidFill>
                    <a:latin typeface="Calibri"/>
                    <a:ea typeface="Times New Roman"/>
                  </a:rPr>
                  <a:t>93 = 3(1 -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7" name="Picture 7" descr=""/>
            <p:cNvPicPr/>
            <p:nvPr/>
          </p:nvPicPr>
          <p:blipFill>
            <a:blip r:embed="rId3"/>
            <a:stretch/>
          </p:blipFill>
          <p:spPr>
            <a:xfrm>
              <a:off x="3643560" y="3285720"/>
              <a:ext cx="33336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Прямоугольник 14"/>
            <p:cNvSpPr/>
            <p:nvPr/>
          </p:nvSpPr>
          <p:spPr>
            <a:xfrm>
              <a:off x="2357280" y="3214440"/>
              <a:ext cx="20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―</a:t>
              </a: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31 = 1-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10" descr=""/>
            <p:cNvPicPr/>
            <p:nvPr/>
          </p:nvPicPr>
          <p:blipFill>
            <a:blip r:embed="rId4"/>
            <a:stretch/>
          </p:blipFill>
          <p:spPr>
            <a:xfrm>
              <a:off x="2643120" y="3714480"/>
              <a:ext cx="1066680" cy="4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13" descr=""/>
            <p:cNvPicPr/>
            <p:nvPr/>
          </p:nvPicPr>
          <p:blipFill>
            <a:blip r:embed="rId5"/>
            <a:stretch/>
          </p:blipFill>
          <p:spPr>
            <a:xfrm>
              <a:off x="2643120" y="4285800"/>
              <a:ext cx="1038240" cy="41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Прямоугольник 21"/>
            <p:cNvSpPr/>
            <p:nvPr/>
          </p:nvSpPr>
          <p:spPr>
            <a:xfrm>
              <a:off x="2643120" y="4653360"/>
              <a:ext cx="92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Calibri"/>
                  <a:ea typeface="Times New Roman"/>
                </a:rPr>
                <a:t>n=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18" descr=""/>
          <p:cNvPicPr/>
          <p:nvPr/>
        </p:nvPicPr>
        <p:blipFill>
          <a:blip r:embed="rId6"/>
          <a:stretch/>
        </p:blipFill>
        <p:spPr>
          <a:xfrm>
            <a:off x="5643720" y="2786040"/>
            <a:ext cx="21715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0:10:12Z</dcterms:created>
  <dc:creator>Refat Halilov</dc:creator>
  <dc:description/>
  <dc:language>en-US</dc:language>
  <cp:lastModifiedBy>user</cp:lastModifiedBy>
  <dcterms:modified xsi:type="dcterms:W3CDTF">2017-01-10T16:48:33Z</dcterms:modified>
  <cp:revision>120</cp:revision>
  <dc:subject/>
  <dc:title>Слайд 1</dc:title>
</cp:coreProperties>
</file>