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4C05-DECC-4E7A-A516-BAA31198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27E-7A28-4704-8418-0B3D2C71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F2A-667E-4A03-87D2-B5CCC6D0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17C-F63A-46F9-9E5D-EF0C319F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EE8D-0119-4465-A20B-B50980BF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2C4-26C9-41CA-BD21-A5787049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292-5B3D-4E05-B2F2-E3A4E388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5EB-EEE8-4E3D-98D0-A647DEC6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78E4-E295-49A6-9A2F-42970126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BDE-C296-4879-87A4-AE019E98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CAB-1154-4867-9091-73BB7030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7E4-A24B-4C0B-8F89-E25F9674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AFA8-D08C-437A-BAC5-A124ADB44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Деятельности для детей 6-7 лет &quot;голубое чудо гжели"/>
          <p:cNvPicPr/>
          <p:nvPr/>
        </p:nvPicPr>
        <p:blipFill>
          <a:blip r:embed="rId1"/>
          <a:stretch/>
        </p:blipFill>
        <p:spPr>
          <a:xfrm>
            <a:off x="1476360" y="1916280"/>
            <a:ext cx="6264360" cy="41716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42" name="TextBox 2"/>
          <p:cNvGrpSpPr/>
          <p:nvPr/>
        </p:nvGrpSpPr>
        <p:grpSpPr>
          <a:xfrm>
            <a:off x="255600" y="92160"/>
            <a:ext cx="8632800" cy="1901880"/>
            <a:chOff x="255600" y="92160"/>
            <a:chExt cx="8632800" cy="1901880"/>
          </a:xfrm>
        </p:grpSpPr>
        <p:pic>
          <p:nvPicPr>
            <p:cNvPr id="43" name="TextBox 2" descr=""/>
            <p:cNvPicPr/>
            <p:nvPr/>
          </p:nvPicPr>
          <p:blipFill>
            <a:blip r:embed="rId2"/>
            <a:stretch/>
          </p:blipFill>
          <p:spPr>
            <a:xfrm>
              <a:off x="255600" y="92160"/>
              <a:ext cx="863280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24000" y="333360"/>
              <a:ext cx="8496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161645"/>
                  </a:solidFill>
                  <a:latin typeface="Arial"/>
                </a:rPr>
                <a:t>Гжель 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24000" y="404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Ещё один популярный мотив – это птицы. Их изображают в разных позах: поющими, летящими, сидящими на ве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Как нарисовать гжельскую розу Сайт о рисовании"/>
          <p:cNvPicPr/>
          <p:nvPr/>
        </p:nvPicPr>
        <p:blipFill>
          <a:blip r:embed="rId1"/>
          <a:stretch/>
        </p:blipFill>
        <p:spPr>
          <a:xfrm>
            <a:off x="395280" y="3429000"/>
            <a:ext cx="4316400" cy="27892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7" name="Picture 4" descr="Птица и букет - майский привет. Гжельская роспись."/>
          <p:cNvPicPr/>
          <p:nvPr/>
        </p:nvPicPr>
        <p:blipFill>
          <a:blip r:embed="rId2"/>
          <a:stretch/>
        </p:blipFill>
        <p:spPr>
          <a:xfrm>
            <a:off x="684360" y="1484280"/>
            <a:ext cx="3859200" cy="12970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8" name="Picture 6" descr="Гжель. Обсуждение на LiveInternet - Российский Сервис Онлайн-Дневников"/>
          <p:cNvPicPr/>
          <p:nvPr/>
        </p:nvPicPr>
        <p:blipFill>
          <a:blip r:embed="rId3"/>
          <a:stretch/>
        </p:blipFill>
        <p:spPr>
          <a:xfrm>
            <a:off x="5219640" y="1700280"/>
            <a:ext cx="3452760" cy="45370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Часто встречаются сцены из повседневной жизни людей: охота, праздники, различные битвы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Роспись в стиле &quot;Гжель&quot;. Ваш досуг"/>
          <p:cNvPicPr/>
          <p:nvPr/>
        </p:nvPicPr>
        <p:blipFill>
          <a:blip r:embed="rId1"/>
          <a:stretch/>
        </p:blipFill>
        <p:spPr>
          <a:xfrm>
            <a:off x="611280" y="1700280"/>
            <a:ext cx="7888320" cy="372564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324000" y="40464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Узоры уникальны, ведь каждое изделие расписывается вруч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В стране голубых роз и синих птиц - сказочная Гжель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755640" y="1125360"/>
            <a:ext cx="7586640" cy="48787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468360" y="189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В последнее время гжельская роспись, благодаря своей незамысловатой, ясной и лёгкой красоте набирает всё больше популярности. Красивыми и своеобразными завитками украшают разные ве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Роспись - Моя гжель, или кухня - к тарелкам &quot; Поиск мастер классов, поделок своими руками и рукоделия на SearchMasterclass.Net"/>
          <p:cNvPicPr/>
          <p:nvPr/>
        </p:nvPicPr>
        <p:blipFill>
          <a:blip r:embed="rId1"/>
          <a:stretch/>
        </p:blipFill>
        <p:spPr>
          <a:xfrm>
            <a:off x="4067280" y="1773360"/>
            <a:ext cx="2665440" cy="19969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5" name="Picture 8" descr="Публикации Bragina - Форум ЮТРК - Страница 9"/>
          <p:cNvPicPr/>
          <p:nvPr/>
        </p:nvPicPr>
        <p:blipFill>
          <a:blip r:embed="rId2"/>
          <a:stretch/>
        </p:blipFill>
        <p:spPr>
          <a:xfrm>
            <a:off x="4716360" y="4221000"/>
            <a:ext cx="3456000" cy="21463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6" name="Picture 10" descr="Свадьба в русском стиле DiscoverWedding.ru"/>
          <p:cNvPicPr/>
          <p:nvPr/>
        </p:nvPicPr>
        <p:blipFill>
          <a:blip r:embed="rId3"/>
          <a:stretch/>
        </p:blipFill>
        <p:spPr>
          <a:xfrm>
            <a:off x="468360" y="1773360"/>
            <a:ext cx="3095640" cy="46512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7" name="Picture 12" descr="Дизайнерские часы наручные, прикольные часы, прикольные часы наручные, часы картинки, циферблат часов картинки, молодежные часы,"/>
          <p:cNvPicPr/>
          <p:nvPr/>
        </p:nvPicPr>
        <p:blipFill>
          <a:blip r:embed="rId4"/>
          <a:stretch/>
        </p:blipFill>
        <p:spPr>
          <a:xfrm>
            <a:off x="7164360" y="1773360"/>
            <a:ext cx="1728720" cy="17269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87[1]"/>
          <p:cNvPicPr/>
          <p:nvPr/>
        </p:nvPicPr>
        <p:blipFill>
          <a:blip r:embed="rId1"/>
          <a:stretch/>
        </p:blipFill>
        <p:spPr>
          <a:xfrm>
            <a:off x="611280" y="692280"/>
            <a:ext cx="3889440" cy="51847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9" name="Picture 5" descr="85[1]"/>
          <p:cNvPicPr/>
          <p:nvPr/>
        </p:nvPicPr>
        <p:blipFill>
          <a:blip r:embed="rId2"/>
          <a:stretch/>
        </p:blipFill>
        <p:spPr>
          <a:xfrm>
            <a:off x="5003640" y="692280"/>
            <a:ext cx="3480120" cy="52164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147_1_big_retro_telefon_g20_02_big[1]"/>
          <p:cNvPicPr/>
          <p:nvPr/>
        </p:nvPicPr>
        <p:blipFill>
          <a:blip r:embed="rId1"/>
          <a:stretch/>
        </p:blipFill>
        <p:spPr>
          <a:xfrm>
            <a:off x="4572000" y="404640"/>
            <a:ext cx="3879720" cy="302436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1" name="Picture 4" descr="34"/>
          <p:cNvPicPr/>
          <p:nvPr/>
        </p:nvPicPr>
        <p:blipFill>
          <a:blip r:embed="rId2"/>
          <a:stretch/>
        </p:blipFill>
        <p:spPr>
          <a:xfrm>
            <a:off x="395280" y="3860640"/>
            <a:ext cx="4095720" cy="25146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2" name="Picture 4" descr="1283[1]"/>
          <p:cNvPicPr/>
          <p:nvPr/>
        </p:nvPicPr>
        <p:blipFill>
          <a:blip r:embed="rId3"/>
          <a:stretch/>
        </p:blipFill>
        <p:spPr>
          <a:xfrm>
            <a:off x="755640" y="620640"/>
            <a:ext cx="3121200" cy="280836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3" name="Picture 4" descr="2707[1]"/>
          <p:cNvPicPr/>
          <p:nvPr/>
        </p:nvPicPr>
        <p:blipFill>
          <a:blip r:embed="rId4"/>
          <a:stretch/>
        </p:blipFill>
        <p:spPr>
          <a:xfrm>
            <a:off x="5076720" y="3860640"/>
            <a:ext cx="3434040" cy="25765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50[1]"/>
          <p:cNvPicPr/>
          <p:nvPr/>
        </p:nvPicPr>
        <p:blipFill>
          <a:blip r:embed="rId1"/>
          <a:stretch/>
        </p:blipFill>
        <p:spPr>
          <a:xfrm>
            <a:off x="1619280" y="333360"/>
            <a:ext cx="6097680" cy="606744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192700405979[1]"/>
          <p:cNvPicPr/>
          <p:nvPr/>
        </p:nvPicPr>
        <p:blipFill>
          <a:blip r:embed="rId1"/>
          <a:stretch/>
        </p:blipFill>
        <p:spPr>
          <a:xfrm>
            <a:off x="826920" y="549360"/>
            <a:ext cx="7488360" cy="561636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gzhel[1]"/>
          <p:cNvPicPr/>
          <p:nvPr/>
        </p:nvPicPr>
        <p:blipFill>
          <a:blip r:embed="rId1"/>
          <a:stretch/>
        </p:blipFill>
        <p:spPr>
          <a:xfrm>
            <a:off x="6012000" y="333360"/>
            <a:ext cx="2624040" cy="442584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7" name="Picture 5" descr="HPIM0371[1]"/>
          <p:cNvPicPr/>
          <p:nvPr/>
        </p:nvPicPr>
        <p:blipFill>
          <a:blip r:embed="rId2"/>
          <a:stretch/>
        </p:blipFill>
        <p:spPr>
          <a:xfrm>
            <a:off x="3059280" y="2637000"/>
            <a:ext cx="2504880" cy="38862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8" name="Picture 7" descr="photo241[1]"/>
          <p:cNvPicPr/>
          <p:nvPr/>
        </p:nvPicPr>
        <p:blipFill>
          <a:blip r:embed="rId3"/>
          <a:stretch/>
        </p:blipFill>
        <p:spPr>
          <a:xfrm>
            <a:off x="611280" y="4221000"/>
            <a:ext cx="1866960" cy="21844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9" name="Picture 8" descr="photo9086b[1]"/>
          <p:cNvPicPr/>
          <p:nvPr/>
        </p:nvPicPr>
        <p:blipFill>
          <a:blip r:embed="rId4"/>
          <a:stretch/>
        </p:blipFill>
        <p:spPr>
          <a:xfrm>
            <a:off x="395280" y="404640"/>
            <a:ext cx="2392200" cy="3456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0" name="Picture 9" descr="vistavka_gzhel[1]"/>
          <p:cNvPicPr/>
          <p:nvPr/>
        </p:nvPicPr>
        <p:blipFill>
          <a:blip r:embed="rId5"/>
          <a:stretch/>
        </p:blipFill>
        <p:spPr>
          <a:xfrm>
            <a:off x="5940360" y="5013360"/>
            <a:ext cx="2409840" cy="16146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1" name="Picture 10" descr="IMGP0503m[1]"/>
          <p:cNvPicPr/>
          <p:nvPr/>
        </p:nvPicPr>
        <p:blipFill>
          <a:blip r:embed="rId6"/>
          <a:stretch/>
        </p:blipFill>
        <p:spPr>
          <a:xfrm>
            <a:off x="3132000" y="404640"/>
            <a:ext cx="2408400" cy="1911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1566"/>
          <p:cNvPicPr/>
          <p:nvPr/>
        </p:nvPicPr>
        <p:blipFill>
          <a:blip r:embed="rId1"/>
          <a:stretch/>
        </p:blipFill>
        <p:spPr>
          <a:xfrm>
            <a:off x="4859280" y="333360"/>
            <a:ext cx="3167280" cy="3032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3" name="Picture 7" descr="1567"/>
          <p:cNvPicPr/>
          <p:nvPr/>
        </p:nvPicPr>
        <p:blipFill>
          <a:blip r:embed="rId2"/>
          <a:stretch/>
        </p:blipFill>
        <p:spPr>
          <a:xfrm>
            <a:off x="468360" y="1557360"/>
            <a:ext cx="3333600" cy="42289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4" name="Picture 8" descr="1568"/>
          <p:cNvPicPr/>
          <p:nvPr/>
        </p:nvPicPr>
        <p:blipFill>
          <a:blip r:embed="rId3"/>
          <a:stretch/>
        </p:blipFill>
        <p:spPr>
          <a:xfrm>
            <a:off x="4211640" y="3645000"/>
            <a:ext cx="3386160" cy="28684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250920" y="33336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Гжельская керамика привлекает к себе всех, кто любит и ценит красивые вещи. Давайте же и мы приобщимся к этой крас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Как нарисовать гжельскую розу Сайт о рисовании"/>
          <p:cNvPicPr/>
          <p:nvPr/>
        </p:nvPicPr>
        <p:blipFill>
          <a:blip r:embed="rId1"/>
          <a:stretch/>
        </p:blipFill>
        <p:spPr>
          <a:xfrm>
            <a:off x="971640" y="1341360"/>
            <a:ext cx="7188120" cy="462924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3059280" y="18900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45"/>
                </a:solidFill>
                <a:latin typeface="Arial"/>
              </a:rPr>
              <a:t>Произ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pmvd.info/ru/wp-content/uploads/2012/10/IMG_1942.jpg"/>
          <p:cNvPicPr/>
          <p:nvPr/>
        </p:nvPicPr>
        <p:blipFill>
          <a:blip r:embed="rId1"/>
          <a:stretch/>
        </p:blipFill>
        <p:spPr>
          <a:xfrm>
            <a:off x="971640" y="836640"/>
            <a:ext cx="7232400" cy="482436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7" name="Прямоугольник 3"/>
          <p:cNvSpPr/>
          <p:nvPr/>
        </p:nvSpPr>
        <p:spPr>
          <a:xfrm>
            <a:off x="324000" y="587700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Это формовочный цех. Здесь смесь из которой потом получится фарфор заливают в формы и дают затвердеть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pmvd.info/ru/wp-content/uploads/2012/10/IMG_1937.jpg"/>
          <p:cNvPicPr/>
          <p:nvPr/>
        </p:nvPicPr>
        <p:blipFill>
          <a:blip r:embed="rId1"/>
          <a:stretch/>
        </p:blipFill>
        <p:spPr>
          <a:xfrm>
            <a:off x="900000" y="549360"/>
            <a:ext cx="7340760" cy="489564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9" name="Прямоугольник 2"/>
          <p:cNvSpPr/>
          <p:nvPr/>
        </p:nvSpPr>
        <p:spPr>
          <a:xfrm>
            <a:off x="539640" y="5805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Из этих заготовок выйдут отличные матре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pmvd.info/ru/wp-content/uploads/2012/10/IMG_1935.jpg"/>
          <p:cNvPicPr/>
          <p:nvPr/>
        </p:nvPicPr>
        <p:blipFill>
          <a:blip r:embed="rId1"/>
          <a:stretch/>
        </p:blipFill>
        <p:spPr>
          <a:xfrm>
            <a:off x="1187280" y="549360"/>
            <a:ext cx="6785280" cy="478296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Прямоугольник 2"/>
          <p:cNvSpPr/>
          <p:nvPr/>
        </p:nvSpPr>
        <p:spPr>
          <a:xfrm>
            <a:off x="468360" y="5732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У застывших форм обрезают шов и затирают место шва губ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395280" y="522936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После этого формы на палетах загоняют в печи. Обслуживает печь обжигальщик. Это очень важная профессия. Если обжигальщик поставит одну деталь с краю печи, а другую в центре, то в процессе обжига они ужмутся по-разному и будет бр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pmvd.info/ru/wp-content/uploads/2012/10/IMG_1946.jpg"/>
          <p:cNvPicPr/>
          <p:nvPr/>
        </p:nvPicPr>
        <p:blipFill>
          <a:blip r:embed="rId1"/>
          <a:stretch/>
        </p:blipFill>
        <p:spPr>
          <a:xfrm>
            <a:off x="1187280" y="404640"/>
            <a:ext cx="6729480" cy="46069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324000" y="5229360"/>
            <a:ext cx="84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После обжига фигурку окунают в подкрашенную воду. Так очень легко найти дефекты — различного рода трещины. Сoстав красителя такой, что после повторного обжига он выгорает без следа. После второго обжига изделие начинают расписы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://pmvd.info/ru/wp-content/uploads/2012/10/IMG_1949.jpg"/>
          <p:cNvPicPr/>
          <p:nvPr/>
        </p:nvPicPr>
        <p:blipFill>
          <a:blip r:embed="rId1"/>
          <a:stretch/>
        </p:blipFill>
        <p:spPr>
          <a:xfrm>
            <a:off x="1547640" y="333360"/>
            <a:ext cx="6239160" cy="47512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250920" y="551664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Расписчицы не имеют художественного образования, но художественным вкусом обладать обязаны. Грамотная расписчица может за день расписать несколько десятков чашек, тарелок и про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pmvd.info/ru/wp-content/uploads/2012/10/IMG_1947.jpg"/>
          <p:cNvPicPr/>
          <p:nvPr/>
        </p:nvPicPr>
        <p:blipFill>
          <a:blip r:embed="rId1"/>
          <a:stretch/>
        </p:blipFill>
        <p:spPr>
          <a:xfrm>
            <a:off x="1116000" y="549360"/>
            <a:ext cx="7016760" cy="46800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250920" y="530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Во время росписи кобальтовая краска черная и узор не особо читается. Красота мазков проступит только после финального обж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pmvd.info/ru/wp-content/uploads/2012/10/IMG_1948-e1351033007738.jpg"/>
          <p:cNvPicPr/>
          <p:nvPr/>
        </p:nvPicPr>
        <p:blipFill>
          <a:blip r:embed="rId1"/>
          <a:stretch/>
        </p:blipFill>
        <p:spPr>
          <a:xfrm>
            <a:off x="539640" y="765000"/>
            <a:ext cx="8086680" cy="392436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2"/>
          <p:cNvSpPr/>
          <p:nvPr/>
        </p:nvSpPr>
        <p:spPr>
          <a:xfrm>
            <a:off x="324000" y="5445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Расписанное изделие окунают в глазурь. Глазурь — это тоже глина и не представляет никакой опасности, поэтому макают изделие туда голыми ру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Прогулки по Гжели &quot; Поиск мастер классов, поделок своими руками и рукоделия на SearchMasterclass.Net"/>
          <p:cNvPicPr/>
          <p:nvPr/>
        </p:nvPicPr>
        <p:blipFill>
          <a:blip r:embed="rId1"/>
          <a:stretch/>
        </p:blipFill>
        <p:spPr>
          <a:xfrm>
            <a:off x="1692360" y="692280"/>
            <a:ext cx="5688000" cy="42670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324000" y="580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После финальный обжига изделие идет к потребит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Червлёный Яр - Бесконечная Гжель"/>
          <p:cNvPicPr/>
          <p:nvPr/>
        </p:nvPicPr>
        <p:blipFill>
          <a:blip r:embed="rId1"/>
          <a:stretch/>
        </p:blipFill>
        <p:spPr>
          <a:xfrm>
            <a:off x="900000" y="907920"/>
            <a:ext cx="7515360" cy="420876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://pmvd.info/ru/wp-content/uploads/2012/10/IMG_1950.jpg"/>
          <p:cNvPicPr/>
          <p:nvPr/>
        </p:nvPicPr>
        <p:blipFill>
          <a:blip r:embed="rId1"/>
          <a:stretch/>
        </p:blipFill>
        <p:spPr>
          <a:xfrm>
            <a:off x="1276200" y="696960"/>
            <a:ext cx="6662880" cy="45673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5" name="Прямоугольник 2"/>
          <p:cNvSpPr/>
          <p:nvPr/>
        </p:nvSpPr>
        <p:spPr>
          <a:xfrm>
            <a:off x="395280" y="5661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На настоящую «гжель» всегда ставят фирменное клей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5364000" y="476280"/>
            <a:ext cx="34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До Второй мировой войны фарфор был не только синим. После войны возникли проблемы с краской. Удалось достать только кобальтовую. Синий фарфор и получил Гран-При в Париже. Решили, что от добра добра не ищут и стали делать преимущественно си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pmvd.info/ru/wp-content/uploads/2012/10/IMG_1931.jpg"/>
          <p:cNvPicPr/>
          <p:nvPr/>
        </p:nvPicPr>
        <p:blipFill>
          <a:blip r:embed="rId1"/>
          <a:stretch/>
        </p:blipFill>
        <p:spPr>
          <a:xfrm>
            <a:off x="324000" y="404640"/>
            <a:ext cx="4814640" cy="59040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250920" y="981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С исторической точки зрения Гжель - это район, который состоит из 27 деревень и носящий название Гжельский Куст. Расположен в 60 километрах от Москвы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Аврора"/>
          <p:cNvPicPr/>
          <p:nvPr/>
        </p:nvPicPr>
        <p:blipFill>
          <a:blip r:embed="rId1"/>
          <a:stretch/>
        </p:blipFill>
        <p:spPr>
          <a:xfrm>
            <a:off x="826920" y="2205000"/>
            <a:ext cx="7506000" cy="39258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1" name="Прямоугольник 4"/>
          <p:cNvSpPr/>
          <p:nvPr/>
        </p:nvSpPr>
        <p:spPr>
          <a:xfrm>
            <a:off x="324000" y="2602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Гжельский фарфор, пожалуй, самый известный народный промысел Моск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Записи с меткой Дневник Bahit :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684360" y="765000"/>
            <a:ext cx="7765920" cy="51786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395280" y="404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Издавна гжель славилась своими глинами, из которой создавалась различная утварь, посуда, сосуды, игр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vedes_new_05[1]"/>
          <p:cNvPicPr/>
          <p:nvPr/>
        </p:nvPicPr>
        <p:blipFill>
          <a:blip r:embed="rId1"/>
          <a:stretch/>
        </p:blipFill>
        <p:spPr>
          <a:xfrm>
            <a:off x="1332000" y="1413000"/>
            <a:ext cx="6543720" cy="49003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468360" y="4046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Гжельская роспись, которая традиционно украшает гжельскую посуду, также является уникальной и характерной только для этого вида народного промы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Гжель - Ольга Васильевна Смирнова"/>
          <p:cNvPicPr/>
          <p:nvPr/>
        </p:nvPicPr>
        <p:blipFill>
          <a:blip r:embed="rId1"/>
          <a:stretch/>
        </p:blipFill>
        <p:spPr>
          <a:xfrm>
            <a:off x="468360" y="2637000"/>
            <a:ext cx="3689280" cy="32400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7" name="Picture 2" descr="Russian Ornaments In Gzhel Style. Gzhel (A Style Of Russian Ceramics, Painted With Blue On White) Векторная иллюстрация 56544829"/>
          <p:cNvPicPr/>
          <p:nvPr/>
        </p:nvPicPr>
        <p:blipFill>
          <a:blip r:embed="rId2"/>
          <a:stretch/>
        </p:blipFill>
        <p:spPr>
          <a:xfrm>
            <a:off x="4643280" y="1773360"/>
            <a:ext cx="4032360" cy="40780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4"/>
          <p:cNvSpPr/>
          <p:nvPr/>
        </p:nvSpPr>
        <p:spPr>
          <a:xfrm>
            <a:off x="395280" y="333360"/>
            <a:ext cx="842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Мастера гжельской живописи применяют очень необычную технику росписи. Обычно её называют “мазком на одну сторону”. Суть её заключается в том, чтобы тёмный оттенок синего плавно переходил в светлый. Чтобы получить такой эффект нужно правильно распределить краску на кисти – у края взять больше, в середине мен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Урок по гжельской росписи - Разное - Танец кисточки - Каталог статей - КИСТОЧКА"/>
          <p:cNvPicPr/>
          <p:nvPr/>
        </p:nvPicPr>
        <p:blipFill>
          <a:blip r:embed="rId1"/>
          <a:stretch/>
        </p:blipFill>
        <p:spPr>
          <a:xfrm>
            <a:off x="1547640" y="2492280"/>
            <a:ext cx="4753080" cy="15130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0" name="Picture 4" descr="Гжельская роспись * Рисунки на ногтях, дизайн ногтей"/>
          <p:cNvPicPr/>
          <p:nvPr/>
        </p:nvPicPr>
        <p:blipFill>
          <a:blip r:embed="rId2"/>
          <a:stretch/>
        </p:blipFill>
        <p:spPr>
          <a:xfrm>
            <a:off x="2843280" y="4508640"/>
            <a:ext cx="5227560" cy="16570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95280" y="404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Излюбленным узором гжельской росписи стала роза. Чаще всего её рисуют крупными широкими мазками, начиная с центра рису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Объединение Гжель: Сахарница 'Роза' авт.Федотов"/>
          <p:cNvPicPr/>
          <p:nvPr/>
        </p:nvPicPr>
        <p:blipFill>
          <a:blip r:embed="rId1"/>
          <a:stretch/>
        </p:blipFill>
        <p:spPr>
          <a:xfrm>
            <a:off x="4788000" y="1413000"/>
            <a:ext cx="3671640" cy="489564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3" name="Picture 4" descr="Как нарисовать гжельскую розу Сайт о рисовании"/>
          <p:cNvPicPr/>
          <p:nvPr/>
        </p:nvPicPr>
        <p:blipFill>
          <a:blip r:embed="rId2"/>
          <a:stretch/>
        </p:blipFill>
        <p:spPr>
          <a:xfrm>
            <a:off x="539640" y="3357720"/>
            <a:ext cx="3745080" cy="29574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4" name="Picture 6" descr="Урок по гжельской росписи - Разное - Танец кисточки - Катало…"/>
          <p:cNvPicPr/>
          <p:nvPr/>
        </p:nvPicPr>
        <p:blipFill>
          <a:blip r:embed="rId3"/>
          <a:stretch/>
        </p:blipFill>
        <p:spPr>
          <a:xfrm>
            <a:off x="468360" y="1484280"/>
            <a:ext cx="3859200" cy="12240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7:41:57Z</dcterms:created>
  <dc:creator>учитель</dc:creator>
  <dc:description/>
  <dc:language>en-US</dc:language>
  <cp:lastModifiedBy>lotos</cp:lastModifiedBy>
  <dcterms:modified xsi:type="dcterms:W3CDTF">2017-01-10T08:53:04Z</dcterms:modified>
  <cp:revision>23</cp:revision>
  <dc:subject/>
  <dc:title>Слайд 1</dc:title>
</cp:coreProperties>
</file>