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ng" ContentType="image/png"/>
  <Override PartName="/ppt/media/image30.wmf" ContentType="image/x-wmf"/>
  <Override PartName="/ppt/media/image27.png" ContentType="image/png"/>
  <Override PartName="/ppt/media/image5.png" ContentType="image/png"/>
  <Override PartName="/ppt/media/image28.png" ContentType="image/png"/>
  <Override PartName="/ppt/media/image11.gif" ContentType="image/gif"/>
  <Override PartName="/ppt/media/image7.gif" ContentType="image/gif"/>
  <Override PartName="/ppt/media/image8.png" ContentType="image/png"/>
  <Override PartName="/ppt/media/image13.png" ContentType="image/png"/>
  <Override PartName="/ppt/media/image10.gif" ContentType="image/gif"/>
  <Override PartName="/ppt/media/image9.gif" ContentType="image/gif"/>
  <Override PartName="/ppt/media/image20.jpeg" ContentType="image/jpeg"/>
  <Override PartName="/ppt/media/image1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gif" ContentType="image/gif"/>
  <Override PartName="/ppt/media/image15.gif" ContentType="image/gif"/>
  <Override PartName="/ppt/media/image18.png" ContentType="image/png"/>
  <Override PartName="/ppt/media/image16.gif" ContentType="image/gif"/>
  <Override PartName="/ppt/media/image25.png" ContentType="image/png"/>
  <Override PartName="/ppt/media/image19.jpeg" ContentType="image/jpeg"/>
  <Override PartName="/ppt/media/image22.png" ContentType="image/png"/>
  <Override PartName="/ppt/media/image23.png" ContentType="image/png"/>
  <Override PartName="/ppt/media/image29.png" ContentType="image/png"/>
  <Override PartName="/ppt/media/image21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DEB2-8A32-406D-9F80-A61B7F9C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C630-6BA9-4FC6-8968-CBE121C0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71F-B608-474F-95F2-CAE5798A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6ECA-8686-4F72-8432-3F6BCCD7C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7156-3628-433D-BEDC-52295956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C11E-70CC-428A-B437-50572299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6AB-85BF-4F01-86C3-BA0FF1B1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C5F-1BD2-4FB4-9AEC-D3DF712C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58FF-C4E6-4968-AC72-D1630E62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761-3CCE-4CAE-BE23-65CDC955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4744-252F-4E29-A6FE-9093331E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A97-B667-4959-9F24-6017C4DA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913A-2AA1-4102-946D-AD91C00FB9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hebyphoto.r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http://i56.photobucket.com/albums/g179/fotolamer/sinica2_900.jpg"/>
          <p:cNvPicPr/>
          <p:nvPr/>
        </p:nvPicPr>
        <p:blipFill>
          <a:blip r:embed="rId1"/>
          <a:stretch/>
        </p:blipFill>
        <p:spPr>
          <a:xfrm>
            <a:off x="179280" y="189000"/>
            <a:ext cx="3784680" cy="30258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3851280" y="260280"/>
            <a:ext cx="49687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ĕл каçакан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3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ĕçен кайăксем </a:t>
            </a:r>
            <a:endParaRPr b="0" lang="en-US" sz="3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5213520" y="5024880"/>
            <a:ext cx="368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Выполнила Васяткина О.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60093"/>
                </a:solidFill>
                <a:latin typeface="Arial"/>
              </a:rPr>
              <a:t>МБДОУ д/с №14 «Солнышк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7h"/>
          <p:cNvPicPr/>
          <p:nvPr/>
        </p:nvPicPr>
        <p:blipFill>
          <a:blip r:embed="rId7"/>
          <a:stretch/>
        </p:blipFill>
        <p:spPr>
          <a:xfrm>
            <a:off x="755640" y="335772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7h"/>
          <p:cNvPicPr/>
          <p:nvPr/>
        </p:nvPicPr>
        <p:blipFill>
          <a:blip r:embed="rId8"/>
          <a:stretch/>
        </p:blipFill>
        <p:spPr>
          <a:xfrm>
            <a:off x="1258920" y="429264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7h"/>
          <p:cNvPicPr/>
          <p:nvPr/>
        </p:nvPicPr>
        <p:blipFill>
          <a:blip r:embed="rId9"/>
          <a:stretch/>
        </p:blipFill>
        <p:spPr>
          <a:xfrm>
            <a:off x="1979640" y="321300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7h"/>
          <p:cNvPicPr/>
          <p:nvPr/>
        </p:nvPicPr>
        <p:blipFill>
          <a:blip r:embed="rId10"/>
          <a:stretch/>
        </p:blipFill>
        <p:spPr>
          <a:xfrm>
            <a:off x="2340000" y="4797360"/>
            <a:ext cx="1104840" cy="743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7h"/>
          <p:cNvPicPr/>
          <p:nvPr/>
        </p:nvPicPr>
        <p:blipFill>
          <a:blip r:embed="rId11"/>
          <a:stretch/>
        </p:blipFill>
        <p:spPr>
          <a:xfrm>
            <a:off x="3419640" y="3284640"/>
            <a:ext cx="1104840" cy="742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7h"/>
          <p:cNvPicPr/>
          <p:nvPr/>
        </p:nvPicPr>
        <p:blipFill>
          <a:blip r:embed="rId12"/>
          <a:stretch/>
        </p:blipFill>
        <p:spPr>
          <a:xfrm>
            <a:off x="3492360" y="5373720"/>
            <a:ext cx="1105200" cy="743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7h"/>
          <p:cNvPicPr/>
          <p:nvPr/>
        </p:nvPicPr>
        <p:blipFill>
          <a:blip r:embed="rId13"/>
          <a:stretch/>
        </p:blipFill>
        <p:spPr>
          <a:xfrm>
            <a:off x="4859280" y="3429000"/>
            <a:ext cx="11048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клипарт-птицы 2b34d7e66743[1]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50920" y="260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Ç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че пу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8 500 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ç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н ка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 пу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ть,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нчен 770-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пи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ĕ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 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2268360" y="727200"/>
            <a:ext cx="46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ff"/>
                </a:solidFill>
                <a:latin typeface="Arial"/>
              </a:rPr>
              <a:t>Эпир кайăксене мĕнле пулăшма пултаратпă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2" descr=""/>
          <p:cNvPicPr/>
          <p:nvPr/>
        </p:nvPicPr>
        <p:blipFill>
          <a:blip r:embed="rId1"/>
          <a:stretch/>
        </p:blipFill>
        <p:spPr>
          <a:xfrm>
            <a:off x="1403280" y="2417760"/>
            <a:ext cx="619308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5"/>
          <p:cNvSpPr txBox="1"/>
          <p:nvPr/>
        </p:nvSpPr>
        <p:spPr>
          <a:xfrm>
            <a:off x="1979640" y="0"/>
            <a:ext cx="4883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ятарлă правилăсем 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611280" y="182268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ырăшсем тĕрлĕрен пулаçç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Сырăша çакнă чух йывăç тураттисене ан хуçăр, вуллисене сиен ан кÿрĕ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Кайăксене кĕркуннерен пуçласа çуркуннеччен апат сапса пар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Сырăшра яланах апат пуррине тĕрĕслĕ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Сырăш патне пакетсем тата банкăсем пăрахса ан хăв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Сырăшра юр ан тăт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Асра тытăр: кайăксене хĕвелçаврăнăш, арбуз, кавăн вăррисене, тăварсăр сало, çăкăр тĕпренчĕкĕ хурса пам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3132000" y="404640"/>
            <a:ext cx="29527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«Кăсăя» 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788000" y="1145160"/>
            <a:ext cx="3887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у су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 чăн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нĕ пек пĕр ч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ккелет сив к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ăсă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 шăн,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тĕп эп с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ă çиме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пĕ сан вал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тăм бал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ăкă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ăх эс кăт та к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к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 та ç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 та ç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2" descr=""/>
          <p:cNvPicPr/>
          <p:nvPr/>
        </p:nvPicPr>
        <p:blipFill>
          <a:blip r:embed="rId1"/>
          <a:stretch/>
        </p:blipFill>
        <p:spPr>
          <a:xfrm>
            <a:off x="0" y="1268280"/>
            <a:ext cx="4716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539640" y="333360"/>
            <a:ext cx="504036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Чăваш Республикин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Хĕрлĕ кĕнекине кĕнĕ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  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вěçен кайăксем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135000" y="2503440"/>
            <a:ext cx="2089080" cy="2365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лебедь"/>
          <p:cNvPicPr/>
          <p:nvPr/>
        </p:nvPicPr>
        <p:blipFill>
          <a:blip r:embed="rId2"/>
          <a:stretch/>
        </p:blipFill>
        <p:spPr>
          <a:xfrm>
            <a:off x="2843280" y="1773360"/>
            <a:ext cx="1944720" cy="237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2016360" cy="27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4"/>
          <a:stretch/>
        </p:blipFill>
        <p:spPr>
          <a:xfrm>
            <a:off x="4643280" y="3213000"/>
            <a:ext cx="2143440" cy="282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6732720" y="3789360"/>
            <a:ext cx="2087280" cy="28083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/>
          <p:cNvSpPr/>
          <p:nvPr/>
        </p:nvSpPr>
        <p:spPr>
          <a:xfrm>
            <a:off x="3276720" y="3338640"/>
            <a:ext cx="138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Ак</a:t>
            </a: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ă</a:t>
            </a: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300720" y="270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Хура аи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перепел хохлатый"/>
          <p:cNvPicPr/>
          <p:nvPr/>
        </p:nvPicPr>
        <p:blipFill>
          <a:blip r:embed="rId6"/>
          <a:stretch/>
        </p:blipFill>
        <p:spPr>
          <a:xfrm>
            <a:off x="1692360" y="4005360"/>
            <a:ext cx="1971720" cy="25192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8"/>
          <p:cNvSpPr/>
          <p:nvPr/>
        </p:nvSpPr>
        <p:spPr>
          <a:xfrm>
            <a:off x="1980000" y="5857920"/>
            <a:ext cx="10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Arial"/>
              </a:rPr>
              <a:t>Пут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9"/>
          <p:cNvSpPr/>
          <p:nvPr/>
        </p:nvSpPr>
        <p:spPr>
          <a:xfrm>
            <a:off x="3059280" y="3357720"/>
            <a:ext cx="1349280" cy="5205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Ак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ă</a:t>
            </a: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0"/>
          <p:cNvSpPr/>
          <p:nvPr/>
        </p:nvSpPr>
        <p:spPr>
          <a:xfrm>
            <a:off x="6443640" y="2637000"/>
            <a:ext cx="1349280" cy="5205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Хура а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1979640" y="5661000"/>
            <a:ext cx="1351080" cy="520560"/>
          </a:xfrm>
          <a:custGeom>
            <a:avLst/>
            <a:gdLst>
              <a:gd name="textAreaLeft" fmla="*/ 0 w 1351080"/>
              <a:gd name="textAreaRight" fmla="*/ 1351440 w 13510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Пут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6"/>
          <p:cNvSpPr/>
          <p:nvPr/>
        </p:nvSpPr>
        <p:spPr>
          <a:xfrm>
            <a:off x="324000" y="4365720"/>
            <a:ext cx="1350720" cy="520560"/>
          </a:xfrm>
          <a:custGeom>
            <a:avLst/>
            <a:gdLst>
              <a:gd name="textAreaLeft" fmla="*/ 0 w 1350720"/>
              <a:gd name="textAreaRight" fmla="*/ 1350720 w 135072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т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ă</a:t>
            </a: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7"/>
          <p:cNvSpPr/>
          <p:nvPr/>
        </p:nvSpPr>
        <p:spPr>
          <a:xfrm>
            <a:off x="7093080" y="5950080"/>
            <a:ext cx="1349280" cy="520560"/>
          </a:xfrm>
          <a:custGeom>
            <a:avLst/>
            <a:gdLst>
              <a:gd name="textAreaLeft" fmla="*/ 0 w 1349280"/>
              <a:gd name="textAreaRight" fmla="*/ 1349640 w 13492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ÿ</a:t>
            </a: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х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8"/>
          <p:cNvSpPr/>
          <p:nvPr/>
        </p:nvSpPr>
        <p:spPr>
          <a:xfrm>
            <a:off x="4932360" y="5373720"/>
            <a:ext cx="1351080" cy="520560"/>
          </a:xfrm>
          <a:custGeom>
            <a:avLst/>
            <a:gdLst>
              <a:gd name="textAreaLeft" fmla="*/ 0 w 1351080"/>
              <a:gd name="textAreaRight" fmla="*/ 1351440 w 135108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т</a:t>
            </a:r>
            <a:r>
              <a:rPr b="1" lang="en-US" sz="1800" spc="-1" strike="noStrike">
                <a:solidFill>
                  <a:srgbClr val="9900ff"/>
                </a:solidFill>
                <a:latin typeface="Verdana"/>
              </a:rPr>
              <a:t>ă</a:t>
            </a:r>
            <a:r>
              <a:rPr b="1" lang="ru-RU" sz="1800" spc="-1" strike="noStrike">
                <a:solidFill>
                  <a:srgbClr val="9900ff"/>
                </a:solidFill>
                <a:latin typeface="Verdana"/>
              </a:rPr>
              <a:t>м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7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250920" y="583200"/>
            <a:ext cx="8893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олодин В.А., Вильчек Г.Е. «Энциклопедия для детей. Птицы и звери», М., «Аванта»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Кульев, О.Г. Тăван ен культури: 5-мĕш класс валли/ О.Г.Кульев. – Шупашкар: Чăваш кĕнеке изд-ви, 2002. – 80 с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ĕчĕккисен кĕнеки: Хрестоматии / Т.В.Артемьева; Г.Ф.Трофимов.-Шупашкар: Чăваш кĕнеке издательстви, 2006 ç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Природа чувашии и её охрана. Чебоксары., 197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Сладков Н. Вăрман пурнăçĕ. Чебоксары.,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Чăвашла-вырăсла словарь. Шупашкар, 1989 ç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Чăваш халăх сăмахлăхĕ, 5 том. Вак жанрсем.-Шупашкар, 1984 ç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.Интернет сайтсем: chrio.cap.ru., novsbk.cap.ru, www.trip-guide.ru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hebyphoto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468360" y="981000"/>
            <a:ext cx="8496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огите встретить птицам день, </a:t>
            </a:r>
            <a:endParaRPr b="0" lang="en-US" sz="3600" spc="1" strike="noStrike">
              <a:ln w="0">
                <a:noFill/>
              </a:ln>
              <a:solidFill>
                <a:srgbClr val="99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0">
                  <a:noFill/>
                </a:ln>
                <a:solidFill>
                  <a:srgbClr val="99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гда придёт весна. </a:t>
            </a:r>
            <a:endParaRPr b="0" lang="en-US" sz="3600" spc="1" strike="noStrike">
              <a:ln w="0">
                <a:noFill/>
              </a:ln>
              <a:solidFill>
                <a:srgbClr val="99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Picture 12" descr="D:\клипарты\животные\ptaснегирь.png"/>
          <p:cNvPicPr/>
          <p:nvPr/>
        </p:nvPicPr>
        <p:blipFill>
          <a:blip r:embed="rId1"/>
          <a:stretch/>
        </p:blipFill>
        <p:spPr>
          <a:xfrm>
            <a:off x="6672240" y="3914640"/>
            <a:ext cx="2471760" cy="2943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C:\Documents and Settings\323\Рабочий стол\Портфель\клипатры\Пташка.wmf"/>
          <p:cNvPicPr/>
          <p:nvPr/>
        </p:nvPicPr>
        <p:blipFill>
          <a:blip r:embed="rId2"/>
          <a:stretch/>
        </p:blipFill>
        <p:spPr>
          <a:xfrm>
            <a:off x="684360" y="4684680"/>
            <a:ext cx="26431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6"/>
          <p:cNvSpPr txBox="1"/>
          <p:nvPr/>
        </p:nvSpPr>
        <p:spPr>
          <a:xfrm>
            <a:off x="1382760" y="436680"/>
            <a:ext cx="56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84360" y="1650240"/>
            <a:ext cx="770400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ĕллевсе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1.Çут çанталăка хаклас, пĕтĕм чĕрĕ чуна упрас туйăма аталантарас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2.Хĕллехи кайăксен пурнăçĕ çинчен ытларах пĕлме тăрăшасси. «Хĕрлĕ кĕнеке» çинчен калаççас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3. Ачасен калаçăвне, тимлĕхне, пуплевне аталантарас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шупăр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ăвашсен ĕлĕк тăхăннă çипуç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харсăр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аттур, са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ырăш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рм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1332000" y="333360"/>
            <a:ext cx="6912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ловарь ĕçĕ:                  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5" name="Picture 14" descr="D:\клипарты\животные\ptah41.png"/>
          <p:cNvPicPr/>
          <p:nvPr/>
        </p:nvPicPr>
        <p:blipFill>
          <a:blip r:embed="rId1"/>
          <a:stretch/>
        </p:blipFill>
        <p:spPr>
          <a:xfrm>
            <a:off x="5948280" y="3819600"/>
            <a:ext cx="3195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907640" y="191628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йăксем –       вǎрттǎнлăхпа иле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йăксем – пирĕн туссем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3203640" y="404640"/>
            <a:ext cx="439272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пиграф:</a:t>
            </a:r>
            <a:endParaRPr b="0" lang="en-US" sz="3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Picture 7" descr="D:\клипарты\животные\ptah90.png"/>
          <p:cNvPicPr/>
          <p:nvPr/>
        </p:nvPicPr>
        <p:blipFill>
          <a:blip r:embed="rId1"/>
          <a:stretch/>
        </p:blipFill>
        <p:spPr>
          <a:xfrm>
            <a:off x="0" y="0"/>
            <a:ext cx="28512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1979640" y="260280"/>
            <a:ext cx="496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упмалли юмах </a:t>
            </a:r>
            <a:endParaRPr b="0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32640" y="2303640"/>
            <a:ext cx="707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ĕнчене илем кÿреççĕ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вăтаççĕ те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юрлаççĕ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тĕрлĕ саслă шăхăраççĕ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http://animashky.ru/flist/objiv/311/31.gif"/>
          <p:cNvPicPr/>
          <p:nvPr/>
        </p:nvPicPr>
        <p:blipFill>
          <a:blip r:embed="rId1"/>
          <a:stretch/>
        </p:blipFill>
        <p:spPr>
          <a:xfrm>
            <a:off x="1258920" y="5084640"/>
            <a:ext cx="1219320" cy="1209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ttp://capilka.narod.ru/grafika/gif/ptica/ptica1.gif"/>
          <p:cNvPicPr/>
          <p:nvPr/>
        </p:nvPicPr>
        <p:blipFill>
          <a:blip r:embed="rId2"/>
          <a:stretch/>
        </p:blipFill>
        <p:spPr>
          <a:xfrm>
            <a:off x="7380360" y="333360"/>
            <a:ext cx="1285920" cy="85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C:\Documents and Settings\323\Рабочий стол\Портфель\клипатры\ptah75.png"/>
          <p:cNvPicPr/>
          <p:nvPr/>
        </p:nvPicPr>
        <p:blipFill>
          <a:blip r:embed="rId3"/>
          <a:stretch/>
        </p:blipFill>
        <p:spPr>
          <a:xfrm>
            <a:off x="6443640" y="5157720"/>
            <a:ext cx="1785960" cy="131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animashky.ru/flist/objiv/311/172.gif"/>
          <p:cNvPicPr/>
          <p:nvPr/>
        </p:nvPicPr>
        <p:blipFill>
          <a:blip r:embed="rId4"/>
          <a:stretch/>
        </p:blipFill>
        <p:spPr>
          <a:xfrm>
            <a:off x="4140360" y="1052640"/>
            <a:ext cx="1685880" cy="1390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ttp://www.fantasyflash.ru/anime/bird/image/bird33.gif"/>
          <p:cNvPicPr/>
          <p:nvPr/>
        </p:nvPicPr>
        <p:blipFill>
          <a:blip r:embed="rId5"/>
          <a:stretch/>
        </p:blipFill>
        <p:spPr>
          <a:xfrm>
            <a:off x="468360" y="1052640"/>
            <a:ext cx="1143000" cy="1071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C:\Documents and Settings\323\Рабочий стол\Портфель\большие анимашки\086.gif"/>
          <p:cNvPicPr/>
          <p:nvPr/>
        </p:nvPicPr>
        <p:blipFill>
          <a:blip r:embed="rId6"/>
          <a:stretch/>
        </p:blipFill>
        <p:spPr>
          <a:xfrm>
            <a:off x="7885080" y="1844640"/>
            <a:ext cx="928800" cy="785880"/>
          </a:xfrm>
          <a:prstGeom prst="rect">
            <a:avLst/>
          </a:prstGeom>
          <a:ln w="0">
            <a:noFill/>
          </a:ln>
        </p:spPr>
      </p:pic>
      <p:pic>
        <p:nvPicPr>
          <p:cNvPr id="67" name="fore67.wav" descr=""/>
          <p:cNvPicPr/>
          <p:nvPr/>
        </p:nvPicPr>
        <p:blipFill>
          <a:blip r:embed="rId7"/>
          <a:stretch/>
        </p:blipFill>
        <p:spPr>
          <a:xfrm>
            <a:off x="817236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0816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900000" y="3284640"/>
            <a:ext cx="288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 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ç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кан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ě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н ка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с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2789280" y="404640"/>
            <a:ext cx="356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ěç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с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788000" y="321300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енне каяк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ěç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н ка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с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 flipH="1">
            <a:off x="1692000" y="1773360"/>
            <a:ext cx="208764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9"/>
          <p:cNvSpPr/>
          <p:nvPr/>
        </p:nvSpPr>
        <p:spPr>
          <a:xfrm>
            <a:off x="3995640" y="1773360"/>
            <a:ext cx="216072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:\Documents and Settings\323\Рабочий стол\Портфель\клипатры\синица.png"/>
          <p:cNvPicPr/>
          <p:nvPr/>
        </p:nvPicPr>
        <p:blipFill>
          <a:blip r:embed="rId1"/>
          <a:stretch/>
        </p:blipFill>
        <p:spPr>
          <a:xfrm>
            <a:off x="179280" y="5373720"/>
            <a:ext cx="1008000" cy="1282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:\Documents and Settings\323\Рабочий стол\Портфель\большие анимашки\84.gif"/>
          <p:cNvPicPr/>
          <p:nvPr/>
        </p:nvPicPr>
        <p:blipFill>
          <a:blip r:embed="rId2"/>
          <a:stretch/>
        </p:blipFill>
        <p:spPr>
          <a:xfrm>
            <a:off x="7236000" y="3573360"/>
            <a:ext cx="1609560" cy="11718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animashky.ru/flist/objiv/311/95.gif"/>
          <p:cNvPicPr/>
          <p:nvPr/>
        </p:nvPicPr>
        <p:blipFill>
          <a:blip r:embed="rId3"/>
          <a:stretch/>
        </p:blipFill>
        <p:spPr>
          <a:xfrm>
            <a:off x="7308720" y="4941720"/>
            <a:ext cx="1428840" cy="120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323\Рабочий стол\Портфель\большие анимашки\304.gif"/>
          <p:cNvPicPr/>
          <p:nvPr/>
        </p:nvPicPr>
        <p:blipFill>
          <a:blip r:embed="rId4"/>
          <a:stretch/>
        </p:blipFill>
        <p:spPr>
          <a:xfrm>
            <a:off x="0" y="1700280"/>
            <a:ext cx="15001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4643280" y="941760"/>
            <a:ext cx="40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м-чим-чим!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т кайăкĕ.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м кунта уй-хир хуç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имĕн те акса хум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ырă-пулă ÿстерме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3" descr="воробей.jpg"/>
          <p:cNvPicPr/>
          <p:nvPr/>
        </p:nvPicPr>
        <p:blipFill>
          <a:blip r:embed="rId1"/>
          <a:stretch/>
        </p:blipFill>
        <p:spPr>
          <a:xfrm>
            <a:off x="324000" y="836640"/>
            <a:ext cx="3816360" cy="5113440"/>
          </a:xfrm>
          <a:prstGeom prst="rect">
            <a:avLst/>
          </a:prstGeom>
          <a:ln w="0">
            <a:noFill/>
          </a:ln>
        </p:spPr>
      </p:pic>
      <p:pic>
        <p:nvPicPr>
          <p:cNvPr id="79" name="воро82.wav" descr=""/>
          <p:cNvPicPr/>
          <p:nvPr/>
        </p:nvPicPr>
        <p:blipFill>
          <a:blip r:embed="rId2"/>
          <a:stretch/>
        </p:blipFill>
        <p:spPr>
          <a:xfrm>
            <a:off x="8101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432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356000" y="148716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в палан çинче лар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уратăр-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ăккаланă çинĕ чу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Çырлисене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ĕп-хĕрлех хĕретн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ăй пĕсехине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"/>
          <p:cNvPicPr/>
          <p:nvPr/>
        </p:nvPicPr>
        <p:blipFill>
          <a:blip r:embed="rId1"/>
          <a:stretch/>
        </p:blipFill>
        <p:spPr>
          <a:xfrm>
            <a:off x="0" y="1125360"/>
            <a:ext cx="4178160" cy="76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4932360" y="1217520"/>
            <a:ext cx="338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лăм, мамăк, тĕк пухс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ил-çуртăма юсат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амăн сарă саппу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раласран хăратăп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fotoparus.com/photogalery/animals/wild_animals/bird/sinista_bolshaya/slides/2007_0202Parus_major1408.jpg"/>
          <p:cNvPicPr/>
          <p:nvPr/>
        </p:nvPicPr>
        <p:blipFill>
          <a:blip r:embed="rId1"/>
          <a:stretch/>
        </p:blipFill>
        <p:spPr>
          <a:xfrm>
            <a:off x="539640" y="549360"/>
            <a:ext cx="3816360" cy="5688000"/>
          </a:xfrm>
          <a:prstGeom prst="rect">
            <a:avLst/>
          </a:prstGeom>
          <a:ln w="0">
            <a:noFill/>
          </a:ln>
        </p:spPr>
      </p:pic>
      <p:pic>
        <p:nvPicPr>
          <p:cNvPr id="84" name="sini98.wav" descr=""/>
          <p:cNvPicPr/>
          <p:nvPr/>
        </p:nvPicPr>
        <p:blipFill>
          <a:blip r:embed="rId2"/>
          <a:stretch/>
        </p:blipFill>
        <p:spPr>
          <a:xfrm>
            <a:off x="802800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133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3:08:57Z</dcterms:created>
  <dc:creator>Сергей</dc:creator>
  <dc:description/>
  <dc:language>en-US</dc:language>
  <cp:lastModifiedBy>1</cp:lastModifiedBy>
  <dcterms:modified xsi:type="dcterms:W3CDTF">2014-01-16T08:49:44Z</dcterms:modified>
  <cp:revision>11</cp:revision>
  <dc:subject/>
  <dc:title>Слайд 1</dc:title>
</cp:coreProperties>
</file>