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28.png" ContentType="image/png"/>
  <Override PartName="/ppt/media/image11.gif" ContentType="image/gif"/>
  <Override PartName="/ppt/media/image7.gif" ContentType="image/gif"/>
  <Override PartName="/ppt/media/image8.png" ContentType="image/png"/>
  <Override PartName="/ppt/media/image13.png" ContentType="image/png"/>
  <Override PartName="/ppt/media/image10.gif" ContentType="image/gif"/>
  <Override PartName="/ppt/media/image9.gif" ContentType="image/gif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16.gif" ContentType="image/gif"/>
  <Override PartName="/ppt/media/image25.png" ContentType="image/png"/>
  <Override PartName="/ppt/media/image19.jpeg" ContentType="image/jpeg"/>
  <Override PartName="/ppt/media/image22.png" ContentType="image/png"/>
  <Override PartName="/ppt/media/image23.png" ContentType="image/png"/>
  <Override PartName="/ppt/media/image29.png" ContentType="image/png"/>
  <Override PartName="/ppt/media/image21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793-0F21-4293-BEFD-5CD2D7E7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8E9-A34B-4F27-8944-FD490164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E1E-3D38-4E6A-BD07-2786F17B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3DB-E62A-4800-8388-B3DD80D5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F78-5CF9-4646-95B4-20B4133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884-9726-4D20-B24B-D409CF5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CB9-E736-4695-9F40-D798506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B02-CB8D-4E03-A096-0C5175EA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F59-3506-4B85-BA67-795BC42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9EA-B7E1-4369-8C4E-386B4BC0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540-DC3C-46EE-B4F6-4FB44E7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F8F-AD9E-44B2-A8E4-ECE07A6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11C8-A58C-4703-8170-EFE1DA14A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byphoto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i56.photobucket.com/albums/g179/fotolamer/sinica2_900.jpg"/>
          <p:cNvPicPr/>
          <p:nvPr/>
        </p:nvPicPr>
        <p:blipFill>
          <a:blip r:embed="rId1"/>
          <a:stretch/>
        </p:blipFill>
        <p:spPr>
          <a:xfrm>
            <a:off x="179280" y="189000"/>
            <a:ext cx="3784680" cy="30258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851280" y="260280"/>
            <a:ext cx="4968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ĕл каçакан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ĕçен кайăксем 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213520" y="5024880"/>
            <a:ext cx="36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Выполнила Васяткина О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МБДОУ д/с №14 «Солныш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7h"/>
          <p:cNvPicPr/>
          <p:nvPr/>
        </p:nvPicPr>
        <p:blipFill>
          <a:blip r:embed="rId7"/>
          <a:stretch/>
        </p:blipFill>
        <p:spPr>
          <a:xfrm>
            <a:off x="755640" y="335772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7h"/>
          <p:cNvPicPr/>
          <p:nvPr/>
        </p:nvPicPr>
        <p:blipFill>
          <a:blip r:embed="rId8"/>
          <a:stretch/>
        </p:blipFill>
        <p:spPr>
          <a:xfrm>
            <a:off x="1258920" y="4292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7h"/>
          <p:cNvPicPr/>
          <p:nvPr/>
        </p:nvPicPr>
        <p:blipFill>
          <a:blip r:embed="rId9"/>
          <a:stretch/>
        </p:blipFill>
        <p:spPr>
          <a:xfrm>
            <a:off x="1979640" y="321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7h"/>
          <p:cNvPicPr/>
          <p:nvPr/>
        </p:nvPicPr>
        <p:blipFill>
          <a:blip r:embed="rId10"/>
          <a:stretch/>
        </p:blipFill>
        <p:spPr>
          <a:xfrm>
            <a:off x="2340000" y="479736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7h"/>
          <p:cNvPicPr/>
          <p:nvPr/>
        </p:nvPicPr>
        <p:blipFill>
          <a:blip r:embed="rId11"/>
          <a:stretch/>
        </p:blipFill>
        <p:spPr>
          <a:xfrm>
            <a:off x="3419640" y="328464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h"/>
          <p:cNvPicPr/>
          <p:nvPr/>
        </p:nvPicPr>
        <p:blipFill>
          <a:blip r:embed="rId12"/>
          <a:stretch/>
        </p:blipFill>
        <p:spPr>
          <a:xfrm>
            <a:off x="3492360" y="537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7h"/>
          <p:cNvPicPr/>
          <p:nvPr/>
        </p:nvPicPr>
        <p:blipFill>
          <a:blip r:embed="rId13"/>
          <a:stretch/>
        </p:blipFill>
        <p:spPr>
          <a:xfrm>
            <a:off x="4859280" y="34290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липарт-птицы 2b34d7e66743[1]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50920" y="26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Ç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че пу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 500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у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ь,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чен 770-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2268360" y="727200"/>
            <a:ext cx="46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Эпир кайăксене мĕнле пулăшма пултаратпă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1403280" y="2417760"/>
            <a:ext cx="61930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1979640" y="0"/>
            <a:ext cx="488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ятарлă правилăсем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11280" y="18226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ырăшсем тĕрлĕрен пулаçç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Сырăша çакнă чух йывăç тураттисене ан хуçăр, вуллисене сиен ан кÿрĕ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Кайăксене кĕркуннерен пуçласа çуркуннеччен апат сапса пар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ырăшра яланах апат пуррине тĕрĕслĕ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ырăш патне пакетсем тата банкăсем пăрахса ан хăв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ырăшра юр ан тăт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Асра тытăр: кайăксене хĕвелçаврăнăш, арбуз, кавăн вăррисене, тăварсăр сало, çăкăр тĕпренчĕкĕ хурса пам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3132000" y="404640"/>
            <a:ext cx="2952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«Кăсăя»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788000" y="1145160"/>
            <a:ext cx="388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у с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 чăн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ĕ пек пĕр ч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ккелет сив к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ăс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 шăн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тĕп эп 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ă çим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ĕ сан ва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тăм бал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ăк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ăх эс кăт та к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к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 та ç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 та ç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539640" y="333360"/>
            <a:ext cx="504036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Чăваш Республики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Хĕрлĕ кĕнекине кĕнĕ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вěçен кайăксе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35000" y="2503440"/>
            <a:ext cx="2089080" cy="2365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лебедь"/>
          <p:cNvPicPr/>
          <p:nvPr/>
        </p:nvPicPr>
        <p:blipFill>
          <a:blip r:embed="rId2"/>
          <a:stretch/>
        </p:blipFill>
        <p:spPr>
          <a:xfrm>
            <a:off x="2843280" y="177336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4643280" y="3213000"/>
            <a:ext cx="2143440" cy="282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6732720" y="3789360"/>
            <a:ext cx="208728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3276720" y="33386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Ак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ă</a:t>
            </a: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30072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Хура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перепел хохлатый"/>
          <p:cNvPicPr/>
          <p:nvPr/>
        </p:nvPicPr>
        <p:blipFill>
          <a:blip r:embed="rId6"/>
          <a:stretch/>
        </p:blipFill>
        <p:spPr>
          <a:xfrm>
            <a:off x="1692360" y="4005360"/>
            <a:ext cx="1971720" cy="2519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980000" y="585792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Пут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059280" y="335772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Ак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6443640" y="263700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Хура а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1979640" y="5661000"/>
            <a:ext cx="1351080" cy="52056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Пут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324000" y="4365720"/>
            <a:ext cx="1350720" cy="520560"/>
          </a:xfrm>
          <a:custGeom>
            <a:avLst/>
            <a:gdLst>
              <a:gd name="textAreaLeft" fmla="*/ 0 w 1350720"/>
              <a:gd name="textAreaRight" fmla="*/ 1350720 w 1350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т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7093080" y="595008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ÿ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х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8"/>
          <p:cNvSpPr/>
          <p:nvPr/>
        </p:nvSpPr>
        <p:spPr>
          <a:xfrm>
            <a:off x="4932360" y="5373720"/>
            <a:ext cx="1351080" cy="52056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т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50920" y="58320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олодин В.А., Вильчек Г.Е. «Энциклопедия для детей. Птицы и звери», М., «Аванта»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ульев, О.Г. Тăван ен культури: 5-мĕш класс валли/ О.Г.Кульев. – Шупашкар: Чăваш кĕнеке изд-ви, 2002. – 80 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ĕчĕккисен кĕнеки: Хрестоматии / Т.В.Артемьева; Г.Ф.Трофимов.-Шупашкар: Чăваш кĕнеке издательстви, 2006 ç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рирода чувашии и её охрана. Чебоксары.,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ладков Н. Вăрман пурнăçĕ. Чебоксары.,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Чăвашла-вырăсла словарь. Шупашкар, 1989 ç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Чăваш халăх сăмахлăхĕ, 5 том. Вак жанрсем.-Шупашкар, 1984 ç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Интернет сайтсем: chrio.cap.ru., novsbk.cap.ru, www.trip-guide.ru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ebyphoto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468360" y="981000"/>
            <a:ext cx="849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гите встретить птицам день, </a:t>
            </a:r>
            <a:endParaRPr b="0" lang="en-US" sz="3600" spc="1" strike="noStrike">
              <a:ln w="0">
                <a:noFill/>
              </a:ln>
              <a:solidFill>
                <a:srgbClr val="99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да придёт весна. </a:t>
            </a:r>
            <a:endParaRPr b="0" lang="en-US" sz="3600" spc="1" strike="noStrike">
              <a:ln w="0">
                <a:noFill/>
              </a:ln>
              <a:solidFill>
                <a:srgbClr val="99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12" descr="D:\клипарты\животные\ptaснегирь.png"/>
          <p:cNvPicPr/>
          <p:nvPr/>
        </p:nvPicPr>
        <p:blipFill>
          <a:blip r:embed="rId1"/>
          <a:stretch/>
        </p:blipFill>
        <p:spPr>
          <a:xfrm>
            <a:off x="6672240" y="3914640"/>
            <a:ext cx="2471760" cy="29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323\Рабочий стол\Портфель\клипатры\Пташка.wmf"/>
          <p:cNvPicPr/>
          <p:nvPr/>
        </p:nvPicPr>
        <p:blipFill>
          <a:blip r:embed="rId2"/>
          <a:stretch/>
        </p:blipFill>
        <p:spPr>
          <a:xfrm>
            <a:off x="684360" y="4684680"/>
            <a:ext cx="26431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382760" y="436680"/>
            <a:ext cx="56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84360" y="1650240"/>
            <a:ext cx="770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ĕллевс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.Çут çанталăка хаклас, пĕтĕм чĕрĕ чуна упрас туйăма аталантар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Хĕллехи кайăксен пурнăçĕ çинчен ытларах пĕлме тăрăшасси. «Хĕрлĕ кĕнеке» çинчен калаçç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. Ачасен калаçăвне, тимлĕхне, пуплевне аталантар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упăр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ăвашсен ĕлĕк тăхăннă çипуç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харсăр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аттур, са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ырăш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рм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332000" y="33336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рь ĕçĕ:                 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4" descr="D:\клипарты\животные\ptah41.png"/>
          <p:cNvPicPr/>
          <p:nvPr/>
        </p:nvPicPr>
        <p:blipFill>
          <a:blip r:embed="rId1"/>
          <a:stretch/>
        </p:blipFill>
        <p:spPr>
          <a:xfrm>
            <a:off x="5948280" y="3819600"/>
            <a:ext cx="3195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йăксем –       вǎрттǎнлăхпа ил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йăксем – пирĕн тусс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3203640" y="404640"/>
            <a:ext cx="4392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пиграф:</a:t>
            </a:r>
            <a:endParaRPr b="0" lang="en-US" sz="3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7" descr="D:\клипарты\животные\ptah90.png"/>
          <p:cNvPicPr/>
          <p:nvPr/>
        </p:nvPicPr>
        <p:blipFill>
          <a:blip r:embed="rId1"/>
          <a:stretch/>
        </p:blipFill>
        <p:spPr>
          <a:xfrm>
            <a:off x="0" y="0"/>
            <a:ext cx="28512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79640" y="260280"/>
            <a:ext cx="49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пмалли юмах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32640" y="2303640"/>
            <a:ext cx="707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ĕнчене илем кÿреççĕ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вăтаççĕ т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юрлаççĕ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ĕрлĕ саслă шăхăраççĕ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http://animashky.ru/flist/objiv/311/31.gif"/>
          <p:cNvPicPr/>
          <p:nvPr/>
        </p:nvPicPr>
        <p:blipFill>
          <a:blip r:embed="rId1"/>
          <a:stretch/>
        </p:blipFill>
        <p:spPr>
          <a:xfrm>
            <a:off x="1258920" y="5084640"/>
            <a:ext cx="1219320" cy="120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capilka.narod.ru/grafika/gif/ptica/ptica1.gif"/>
          <p:cNvPicPr/>
          <p:nvPr/>
        </p:nvPicPr>
        <p:blipFill>
          <a:blip r:embed="rId2"/>
          <a:stretch/>
        </p:blipFill>
        <p:spPr>
          <a:xfrm>
            <a:off x="7380360" y="33336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323\Рабочий стол\Портфель\клипатры\ptah75.png"/>
          <p:cNvPicPr/>
          <p:nvPr/>
        </p:nvPicPr>
        <p:blipFill>
          <a:blip r:embed="rId3"/>
          <a:stretch/>
        </p:blipFill>
        <p:spPr>
          <a:xfrm>
            <a:off x="6443640" y="5157720"/>
            <a:ext cx="178596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animashky.ru/flist/objiv/311/172.gif"/>
          <p:cNvPicPr/>
          <p:nvPr/>
        </p:nvPicPr>
        <p:blipFill>
          <a:blip r:embed="rId4"/>
          <a:stretch/>
        </p:blipFill>
        <p:spPr>
          <a:xfrm>
            <a:off x="4140360" y="1052640"/>
            <a:ext cx="1685880" cy="139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fantasyflash.ru/anime/bird/image/bird33.gif"/>
          <p:cNvPicPr/>
          <p:nvPr/>
        </p:nvPicPr>
        <p:blipFill>
          <a:blip r:embed="rId5"/>
          <a:stretch/>
        </p:blipFill>
        <p:spPr>
          <a:xfrm>
            <a:off x="468360" y="105264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323\Рабочий стол\Портфель\большие анимашки\086.gif"/>
          <p:cNvPicPr/>
          <p:nvPr/>
        </p:nvPicPr>
        <p:blipFill>
          <a:blip r:embed="rId6"/>
          <a:stretch/>
        </p:blipFill>
        <p:spPr>
          <a:xfrm>
            <a:off x="7885080" y="1844640"/>
            <a:ext cx="92880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fore67.wav" descr=""/>
          <p:cNvPicPr/>
          <p:nvPr/>
        </p:nvPicPr>
        <p:blipFill>
          <a:blip r:embed="rId7"/>
          <a:stretch/>
        </p:blipFill>
        <p:spPr>
          <a:xfrm>
            <a:off x="817236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81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900000" y="3284640"/>
            <a:ext cx="28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 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789280" y="40464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788000" y="32130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енне кая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1692000" y="1773360"/>
            <a:ext cx="2087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3995640" y="1773360"/>
            <a:ext cx="2160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323\Рабочий стол\Портфель\клипатры\синица.png"/>
          <p:cNvPicPr/>
          <p:nvPr/>
        </p:nvPicPr>
        <p:blipFill>
          <a:blip r:embed="rId1"/>
          <a:stretch/>
        </p:blipFill>
        <p:spPr>
          <a:xfrm>
            <a:off x="179280" y="5373720"/>
            <a:ext cx="1008000" cy="128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323\Рабочий стол\Портфель\большие анимашки\84.gif"/>
          <p:cNvPicPr/>
          <p:nvPr/>
        </p:nvPicPr>
        <p:blipFill>
          <a:blip r:embed="rId2"/>
          <a:stretch/>
        </p:blipFill>
        <p:spPr>
          <a:xfrm>
            <a:off x="7236000" y="3573360"/>
            <a:ext cx="160956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animashky.ru/flist/objiv/311/95.gif"/>
          <p:cNvPicPr/>
          <p:nvPr/>
        </p:nvPicPr>
        <p:blipFill>
          <a:blip r:embed="rId3"/>
          <a:stretch/>
        </p:blipFill>
        <p:spPr>
          <a:xfrm>
            <a:off x="7308720" y="494172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323\Рабочий стол\Портфель\большие анимашки\304.gif"/>
          <p:cNvPicPr/>
          <p:nvPr/>
        </p:nvPicPr>
        <p:blipFill>
          <a:blip r:embed="rId4"/>
          <a:stretch/>
        </p:blipFill>
        <p:spPr>
          <a:xfrm>
            <a:off x="0" y="1700280"/>
            <a:ext cx="1500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43280" y="94176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м-чим-чим!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т кайăкĕ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м кунта уй-хир хуç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мĕн те акса х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рă-пулă ÿстерм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воробей.jpg"/>
          <p:cNvPicPr/>
          <p:nvPr/>
        </p:nvPicPr>
        <p:blipFill>
          <a:blip r:embed="rId1"/>
          <a:stretch/>
        </p:blipFill>
        <p:spPr>
          <a:xfrm>
            <a:off x="324000" y="836640"/>
            <a:ext cx="3816360" cy="5113440"/>
          </a:xfrm>
          <a:prstGeom prst="rect">
            <a:avLst/>
          </a:prstGeom>
          <a:ln w="0">
            <a:noFill/>
          </a:ln>
        </p:spPr>
      </p:pic>
      <p:pic>
        <p:nvPicPr>
          <p:cNvPr id="79" name="воро82.wav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43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356000" y="14871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 палан çинче ла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ратăр-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ăккаланă çинĕ ч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Çырлисен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ĕп-хĕрлех хĕретн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ăй пĕсехине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178160" cy="76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932360" y="1217520"/>
            <a:ext cx="338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ăм, мамăк, тĕк пух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л-çуртăма юсат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мăн сарă саппу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аласран хăратă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fotoparus.com/photogalery/animals/wild_animals/bird/sinista_bolshaya/slides/2007_0202Parus_major1408.jpg"/>
          <p:cNvPicPr/>
          <p:nvPr/>
        </p:nvPicPr>
        <p:blipFill>
          <a:blip r:embed="rId1"/>
          <a:stretch/>
        </p:blipFill>
        <p:spPr>
          <a:xfrm>
            <a:off x="539640" y="549360"/>
            <a:ext cx="3816360" cy="5688000"/>
          </a:xfrm>
          <a:prstGeom prst="rect">
            <a:avLst/>
          </a:prstGeom>
          <a:ln w="0">
            <a:noFill/>
          </a:ln>
        </p:spPr>
      </p:pic>
      <p:pic>
        <p:nvPicPr>
          <p:cNvPr id="84" name="sini98.wav" descr=""/>
          <p:cNvPicPr/>
          <p:nvPr/>
        </p:nvPicPr>
        <p:blipFill>
          <a:blip r:embed="rId2"/>
          <a:stretch/>
        </p:blipFill>
        <p:spPr>
          <a:xfrm>
            <a:off x="802800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33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3:08:57Z</dcterms:created>
  <dc:creator>Сергей</dc:creator>
  <dc:description/>
  <dc:language>en-US</dc:language>
  <cp:lastModifiedBy>1</cp:lastModifiedBy>
  <dcterms:modified xsi:type="dcterms:W3CDTF">2014-01-16T08:49:44Z</dcterms:modified>
  <cp:revision>11</cp:revision>
  <dc:subject/>
  <dc:title>Слайд 1</dc:title>
</cp:coreProperties>
</file>