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302B-55DA-46B0-B196-63D9A90C6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991E-2630-404C-A384-CF886E40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314E-BE6B-4943-A15A-768B2C7A7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4EFA-B432-4E77-B9F7-EEFD54BD3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D247-C1BA-48EF-BA31-26FC1A7EF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D323-7617-4200-8D1D-A8D36652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8D2F-7282-4C23-A1CD-4D6AF56D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666F-41C1-43A7-8A78-D10EB59C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D5DA-E919-4BF1-8CC4-67147D0A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72F9-2AE8-4095-B148-501D048F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0F22-9A3C-49F1-AC2C-CA2FE8FC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A443-6E42-4821-9FDC-6C542949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E9A5-4D73-4FD7-B691-F8A03ABD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7472-5A28-4A2C-948B-05C04299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8F90-3DF6-4064-A851-0F38B60F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2041-E02A-4772-A9B4-317B51B20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9A4B-55B1-44A4-A923-A90B37677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7DD9-1840-4BE1-9F36-8565A60C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142F-42E0-44DA-8E65-8F37650B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9C48-C145-4EF9-BC18-2780BF51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2E3B-86B4-440C-93B3-2E8EB01D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2074-30A2-42CB-906A-35FA3244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11C9-6083-46C4-A7E1-D8D52E53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0F72-9E5B-4B1E-BFDA-9BC3B421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Picture 4" descr="A:\minispir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0A77-5E45-4852-834A-C80519DFF459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Picture 4" descr="A:\minispir.GIF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0239-A22D-4D37-B250-28EFB898D195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97164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            </a:t>
            </a:r>
            <a:r>
              <a:rPr b="1" i="1" lang="ru-RU" sz="4400" spc="-1" strike="noStrike">
                <a:solidFill>
                  <a:srgbClr val="402000"/>
                </a:solidFill>
                <a:latin typeface="Times New Roman"/>
              </a:rPr>
              <a:t>Игра по станциям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02000"/>
                </a:solidFill>
                <a:latin typeface="Times New Roman"/>
              </a:rPr>
              <a:t>«Марафон по русскому языку»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02000"/>
                </a:solidFill>
                <a:latin typeface="Times New Roman"/>
              </a:rPr>
              <a:t>                         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0" name="Picture 2" descr="E:\Школьные запросы\К уроку\54642065_Risunok1_ochen_interesno_2.gif"/>
          <p:cNvPicPr/>
          <p:nvPr/>
        </p:nvPicPr>
        <p:blipFill>
          <a:blip r:embed="rId1"/>
          <a:stretch/>
        </p:blipFill>
        <p:spPr>
          <a:xfrm>
            <a:off x="7451640" y="4724280"/>
            <a:ext cx="1297080" cy="16700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4284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             </a:t>
            </a: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Задание № 2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71640" y="2565000"/>
            <a:ext cx="777240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- Подобрать к выделенным словам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синонимы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(раздаточный материал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9" name="Picture 2" descr="E:\Школьные запросы\К уроку\54642065_Risunok1_ochen_interesno_2.gif"/>
          <p:cNvPicPr/>
          <p:nvPr/>
        </p:nvPicPr>
        <p:blipFill>
          <a:blip r:embed="rId1"/>
          <a:stretch/>
        </p:blipFill>
        <p:spPr>
          <a:xfrm>
            <a:off x="7451640" y="4724280"/>
            <a:ext cx="1297080" cy="1670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90720" y="1341360"/>
            <a:ext cx="77724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Подобрать к выделенным словам 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синонимы: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Длинная 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дорога –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длинный _______________________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Высокое 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здание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– высокий ________________________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Громко 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смеяться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– громко ________________________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Торопиться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на поезд -    ____________________  на            поезд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Большое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озеро - _________________________ озеро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Хорошее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дело - __________________________дело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4284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             </a:t>
            </a: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Задание № 3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71640" y="2565000"/>
            <a:ext cx="777240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- Вычеркните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«лишнее»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слово, которое не    является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синонимом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(раздаточный материал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4" name="Picture 2" descr="E:\Школьные запросы\К уроку\54642065_Risunok1_ochen_interesno_2.gif"/>
          <p:cNvPicPr/>
          <p:nvPr/>
        </p:nvPicPr>
        <p:blipFill>
          <a:blip r:embed="rId1"/>
          <a:stretch/>
        </p:blipFill>
        <p:spPr>
          <a:xfrm>
            <a:off x="7451640" y="4724280"/>
            <a:ext cx="1297080" cy="1670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6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90720" y="1267920"/>
            <a:ext cx="7772400" cy="46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Вычеркните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«лишнее»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слово, которое не    является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синонимом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а) огонь,   камин,   пламя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б) конница,    авиация,     кавалерия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в) бросать,   кидать,    прыгать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г) дождь,   пурга,   метель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4284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             </a:t>
            </a: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Задание № 4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71640" y="2565000"/>
            <a:ext cx="777240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- Подобрать к выделенным словам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антонимы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(раздаточный материал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9" name="Picture 2" descr="E:\Школьные запросы\К уроку\54642065_Risunok1_ochen_interesno_2.gif"/>
          <p:cNvPicPr/>
          <p:nvPr/>
        </p:nvPicPr>
        <p:blipFill>
          <a:blip r:embed="rId1"/>
          <a:stretch/>
        </p:blipFill>
        <p:spPr>
          <a:xfrm>
            <a:off x="7451640" y="4724280"/>
            <a:ext cx="1297080" cy="1670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77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9" dur="770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1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3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90720" y="1267920"/>
            <a:ext cx="7772400" cy="46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одобрать к выделенным словам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антонимы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Сильно 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любить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– сильно ______________________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Весёлая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история - ________________________ история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Уехать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на юг - _______________________ на юг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Сказать 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правду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– сказать _________________________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В 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первую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очередь – в ________________________ очередь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Урок 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закончить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– урок _______________________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4284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             </a:t>
            </a: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Задание № 5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71640" y="2565000"/>
            <a:ext cx="777240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- Вычеркните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«лишнее»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слово, которое не    является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антонимом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(раздаточный материал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4" name="Picture 2" descr="E:\Школьные запросы\К уроку\54642065_Risunok1_ochen_interesno_2.gif"/>
          <p:cNvPicPr/>
          <p:nvPr/>
        </p:nvPicPr>
        <p:blipFill>
          <a:blip r:embed="rId1"/>
          <a:stretch/>
        </p:blipFill>
        <p:spPr>
          <a:xfrm>
            <a:off x="7451640" y="4724280"/>
            <a:ext cx="1297080" cy="1670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77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8" dur="770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0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2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- Вычеркните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«лишнее»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слово, которое не    является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антонимом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а) весело,     весёлый,     грустный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б) смелый,    храбрец,     трусливый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в) лёгкий,     легко,     тяжёлый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г) твёрдый,    твёрдость,     мягкий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д) разлучаться,    встреча,     встречаться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4284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             </a:t>
            </a: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Задание № 6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71640" y="2565000"/>
            <a:ext cx="777240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Составить пословицы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(раздаточный материал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9" name="Picture 2" descr="E:\Школьные запросы\К уроку\54642065_Risunok1_ochen_interesno_2.gif"/>
          <p:cNvPicPr/>
          <p:nvPr/>
        </p:nvPicPr>
        <p:blipFill>
          <a:blip r:embed="rId1"/>
          <a:stretch/>
        </p:blipFill>
        <p:spPr>
          <a:xfrm>
            <a:off x="7451640" y="4724280"/>
            <a:ext cx="1297080" cy="1670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77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770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5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7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       </a:t>
            </a:r>
            <a:r>
              <a:rPr b="1" i="1" lang="ru-RU" sz="4000" spc="-1" strike="noStrike">
                <a:solidFill>
                  <a:srgbClr val="996633"/>
                </a:solidFill>
                <a:latin typeface="Times New Roman"/>
              </a:rPr>
              <a:t>Составить пословицы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9036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Ученье –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свет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Мягко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 стелет,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Трудно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 в ученье –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Утро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 –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Кто хочет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много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 знать,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Лучше горькая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правда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легко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 в бою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чем красивая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ложь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тому надо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мало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 спать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вечера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 мудренее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а неученье –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тьма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да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жёстко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 спать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             </a:t>
            </a:r>
            <a:r>
              <a:rPr b="1" i="1" lang="ru-RU" sz="4400" spc="-1" strike="noStrike">
                <a:solidFill>
                  <a:srgbClr val="4a301d"/>
                </a:solidFill>
                <a:latin typeface="Times New Roman"/>
              </a:rPr>
              <a:t>Станция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7164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            </a:t>
            </a:r>
            <a:r>
              <a:rPr b="1" i="1" lang="ru-RU" sz="4400" spc="-1" strike="noStrike">
                <a:solidFill>
                  <a:srgbClr val="402000"/>
                </a:solidFill>
                <a:latin typeface="Times New Roman"/>
              </a:rPr>
              <a:t>«Синонимы -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1" i="1" lang="ru-RU" sz="4400" spc="-1" strike="noStrike">
                <a:solidFill>
                  <a:srgbClr val="402000"/>
                </a:solidFill>
                <a:latin typeface="Times New Roman"/>
              </a:rPr>
              <a:t>Антонимы».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02000"/>
                </a:solidFill>
                <a:latin typeface="Times New Roman"/>
              </a:rPr>
              <a:t>                         </a:t>
            </a:r>
            <a:r>
              <a:rPr b="1" i="1" lang="ru-RU" sz="1600" spc="-1" strike="noStrike">
                <a:solidFill>
                  <a:srgbClr val="402000"/>
                </a:solidFill>
                <a:latin typeface="Times New Roman"/>
              </a:rPr>
              <a:t>Учитель Неклюкова Е.И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4" name="Picture 2" descr="E:\Школьные запросы\К уроку\54642065_Risunok1_ochen_interesno_2.gif"/>
          <p:cNvPicPr/>
          <p:nvPr/>
        </p:nvPicPr>
        <p:blipFill>
          <a:blip r:embed="rId1"/>
          <a:stretch/>
        </p:blipFill>
        <p:spPr>
          <a:xfrm>
            <a:off x="7451640" y="4724280"/>
            <a:ext cx="1297080" cy="1670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77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770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33"/>
                </a:solidFill>
                <a:latin typeface="Times New Roman"/>
              </a:rPr>
              <a:t>         </a:t>
            </a:r>
            <a:r>
              <a:rPr b="1" i="1" lang="ru-RU" sz="3600" spc="-1" strike="noStrike">
                <a:solidFill>
                  <a:srgbClr val="996633"/>
                </a:solidFill>
                <a:latin typeface="Times New Roman"/>
              </a:rPr>
              <a:t>Составть пословицы.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90720" y="1773360"/>
            <a:ext cx="7772400" cy="42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Ученье –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свет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, а неученье –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тьма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Мягко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стелет, да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жёстко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спать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Трудно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в ученье -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легко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в бою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Утро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- 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вечера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мудренее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Кто хочет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много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знать, тому надо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мало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спать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Лучше горькая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правда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, чем красивая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ложь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4284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             </a:t>
            </a: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Задание № 7.</a:t>
            </a:r>
            <a:br>
              <a:rPr sz="4400"/>
            </a:b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             (творческое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71640" y="2565000"/>
            <a:ext cx="777240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- Дополнить стихотворение об игре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                   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«Наоборот»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                    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(раздаточный материал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47" name="Picture 2" descr="E:\Школьные запросы\К уроку\54642065_Risunok1_ochen_interesno_2.gif"/>
          <p:cNvPicPr/>
          <p:nvPr/>
        </p:nvPicPr>
        <p:blipFill>
          <a:blip r:embed="rId1"/>
          <a:stretch/>
        </p:blipFill>
        <p:spPr>
          <a:xfrm>
            <a:off x="7451640" y="4724280"/>
            <a:ext cx="1297080" cy="1670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77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8" dur="770" fill="hold"/>
                                        <p:tgtEl>
                                          <p:spTgt spid="1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0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2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90720" y="90756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Дополнить стихотворение об игре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                </a:t>
            </a:r>
            <a:r>
              <a:rPr b="1" i="1" lang="ru-RU" sz="2000" spc="-1" strike="noStrike">
                <a:solidFill>
                  <a:srgbClr val="402000"/>
                </a:solidFill>
                <a:latin typeface="Times New Roman"/>
              </a:rPr>
              <a:t>«Наоборот»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Нам с тобой                                                                                                                                                                                                 Пришёл черёд                                                                                                                                                                                               Сыграть в игру                                                                                                                                                                                             «Наоборот».                                                                                                                                                                                                      Скажу я слово                                                                                                                                                                                              </a:t>
            </a:r>
            <a:r>
              <a:rPr b="1" i="1" lang="ru-RU" sz="1000" spc="-1" strike="noStrike">
                <a:solidFill>
                  <a:srgbClr val="402000"/>
                </a:solidFill>
                <a:latin typeface="Times New Roman"/>
              </a:rPr>
              <a:t>Высоко, 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                                         А ты ответишь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_________________,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Скажу я слово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    </a:t>
            </a:r>
            <a:r>
              <a:rPr b="1" i="1" lang="ru-RU" sz="1000" spc="-1" strike="noStrike">
                <a:solidFill>
                  <a:srgbClr val="402000"/>
                </a:solidFill>
                <a:latin typeface="Times New Roman"/>
              </a:rPr>
              <a:t>Далеко, 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                                 А ты ответишь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 ______________________.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                         Скажу я слово </a:t>
            </a:r>
            <a:r>
              <a:rPr b="1" i="1" lang="ru-RU" sz="1000" spc="-1" strike="noStrike">
                <a:solidFill>
                  <a:srgbClr val="402000"/>
                </a:solidFill>
                <a:latin typeface="Times New Roman"/>
              </a:rPr>
              <a:t>потолок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           А ты ответишь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                 _______________.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                     Скажу я слово </a:t>
            </a:r>
            <a:r>
              <a:rPr b="1" i="1" lang="ru-RU" sz="1000" spc="-1" strike="noStrike">
                <a:solidFill>
                  <a:srgbClr val="402000"/>
                </a:solidFill>
                <a:latin typeface="Times New Roman"/>
              </a:rPr>
              <a:t>потерял, 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                 И скажешь ты                                                                                                                                                                                 ____________________.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                               Скажу тебе я слово </a:t>
            </a:r>
            <a:r>
              <a:rPr b="1" i="1" lang="ru-RU" sz="1000" spc="-1" strike="noStrike">
                <a:solidFill>
                  <a:srgbClr val="402000"/>
                </a:solidFill>
                <a:latin typeface="Times New Roman"/>
              </a:rPr>
              <a:t>трус, 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                    Ответишь ты: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 _________________.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                        Теперь 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1000" spc="-1" strike="noStrike">
                <a:solidFill>
                  <a:srgbClr val="402000"/>
                </a:solidFill>
                <a:latin typeface="Times New Roman"/>
              </a:rPr>
              <a:t>Начало 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я скажу.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                               Ну, отвечай -  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_________________________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Содержимое 2" descr="01_11(1).jpg"/>
          <p:cNvPicPr/>
          <p:nvPr/>
        </p:nvPicPr>
        <p:blipFill>
          <a:blip r:embed="rId1"/>
          <a:stretch/>
        </p:blipFill>
        <p:spPr>
          <a:xfrm>
            <a:off x="6227640" y="1557360"/>
            <a:ext cx="2562480" cy="4762440"/>
          </a:xfrm>
          <a:prstGeom prst="rect">
            <a:avLst/>
          </a:prstGeom>
          <a:ln w="0">
            <a:noFill/>
          </a:ln>
        </p:spPr>
      </p:pic>
      <p:pic>
        <p:nvPicPr>
          <p:cNvPr id="151" name="TextBox 3" descr=""/>
          <p:cNvPicPr/>
          <p:nvPr/>
        </p:nvPicPr>
        <p:blipFill>
          <a:blip r:embed="rId2"/>
          <a:stretch/>
        </p:blipFill>
        <p:spPr>
          <a:xfrm>
            <a:off x="1176480" y="822240"/>
            <a:ext cx="3968640" cy="2560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             </a:t>
            </a:r>
            <a:r>
              <a:rPr b="1" lang="ru-RU" sz="4400" spc="-1" strike="noStrike">
                <a:solidFill>
                  <a:srgbClr val="4a301d"/>
                </a:solidFill>
                <a:latin typeface="Times New Roman"/>
              </a:rPr>
              <a:t>Интересно…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7164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1d130c"/>
                </a:solidFill>
                <a:latin typeface="Times New Roman"/>
              </a:rPr>
              <a:t>Откуда в русский язык пришли слова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130c"/>
                </a:solidFill>
                <a:latin typeface="Times New Roman"/>
              </a:rPr>
              <a:t>          </a:t>
            </a:r>
            <a:r>
              <a:rPr b="1" i="1" lang="ru-RU" sz="4400" spc="-1" strike="noStrike">
                <a:solidFill>
                  <a:srgbClr val="4a301d"/>
                </a:solidFill>
                <a:latin typeface="Times New Roman"/>
              </a:rPr>
              <a:t>Марафон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a301d"/>
                </a:solidFill>
                <a:latin typeface="Times New Roman"/>
              </a:rPr>
              <a:t>      </a:t>
            </a:r>
            <a:r>
              <a:rPr b="1" i="1" lang="ru-RU" sz="4400" spc="-1" strike="noStrike">
                <a:solidFill>
                  <a:srgbClr val="4a301d"/>
                </a:solidFill>
                <a:latin typeface="Times New Roman"/>
              </a:rPr>
              <a:t>Марафонский бег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1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7" name="Picture 2" descr="E:\Школьные запросы\К уроку\54642065_Risunok1_ochen_interesno_2.gif"/>
          <p:cNvPicPr/>
          <p:nvPr/>
        </p:nvPicPr>
        <p:blipFill>
          <a:blip r:embed="rId1"/>
          <a:stretch/>
        </p:blipFill>
        <p:spPr>
          <a:xfrm>
            <a:off x="7451640" y="4724280"/>
            <a:ext cx="1297080" cy="1670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301d"/>
                </a:solidFill>
                <a:latin typeface="Times New Roman"/>
              </a:rPr>
              <a:t>                           </a:t>
            </a:r>
            <a:r>
              <a:rPr b="1" lang="ru-RU" sz="2800" spc="-1" strike="noStrike">
                <a:solidFill>
                  <a:srgbClr val="4a301d"/>
                </a:solidFill>
                <a:latin typeface="Times New Roman"/>
              </a:rPr>
              <a:t>Из истории.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76320" y="1028520"/>
            <a:ext cx="7772400" cy="54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130c"/>
                </a:solidFill>
                <a:latin typeface="Times New Roman"/>
              </a:rPr>
              <a:t>Согласно легенде, во время Греко-персидской войны 490 года до н.э. возле греческого села </a:t>
            </a:r>
            <a:r>
              <a:rPr b="1" i="1" lang="ru-RU" sz="2400" spc="-1" strike="noStrike">
                <a:solidFill>
                  <a:srgbClr val="1d130c"/>
                </a:solidFill>
                <a:latin typeface="Times New Roman"/>
              </a:rPr>
              <a:t>Марафон</a:t>
            </a:r>
            <a:r>
              <a:rPr b="0" lang="ru-RU" sz="2400" spc="-1" strike="noStrike">
                <a:solidFill>
                  <a:srgbClr val="1d130c"/>
                </a:solidFill>
                <a:latin typeface="Times New Roman"/>
              </a:rPr>
              <a:t> произошла битва. Греки одержали победу над персами. Греческий воин, пробежав от села Марафон до столицы Греции Афины, воскликнул: «Радуйтесь, афиняне, мы победили!» и упал замертво.</a:t>
            </a:r>
            <a:r>
              <a:rPr b="0" lang="ru-RU" sz="2400" spc="-1" strike="noStrike">
                <a:solidFill>
                  <a:srgbClr val="1d130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1d130c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1d130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1d130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1d130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1d130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1d130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1d130c"/>
                </a:solidFill>
                <a:latin typeface="Times New Roman"/>
              </a:rPr>
              <a:t>  В 1896 году бег на длинную дистанцию был впервые включён в Олимпийские Игры, как олимпийская дисциплина по лёгкой атлетике. Позднее этот </a:t>
            </a:r>
            <a:r>
              <a:rPr b="1" i="1" lang="ru-RU" sz="2400" spc="-1" strike="noStrike">
                <a:solidFill>
                  <a:srgbClr val="1d130c"/>
                </a:solidFill>
                <a:latin typeface="Times New Roman"/>
              </a:rPr>
              <a:t>бег </a:t>
            </a:r>
            <a:r>
              <a:rPr b="0" lang="ru-RU" sz="2400" spc="-1" strike="noStrike">
                <a:solidFill>
                  <a:srgbClr val="1d130c"/>
                </a:solidFill>
                <a:latin typeface="Times New Roman"/>
              </a:rPr>
              <a:t>              стали называть </a:t>
            </a:r>
            <a:r>
              <a:rPr b="1" i="1" lang="ru-RU" sz="2400" spc="-1" strike="noStrike">
                <a:solidFill>
                  <a:srgbClr val="1d130c"/>
                </a:solidFill>
                <a:latin typeface="Times New Roman"/>
              </a:rPr>
              <a:t>Марафонским</a:t>
            </a:r>
            <a:r>
              <a:rPr b="0" lang="ru-RU" sz="2400" spc="-1" strike="noStrike">
                <a:solidFill>
                  <a:srgbClr val="1d130c"/>
                </a:solidFill>
                <a:latin typeface="Times New Roman"/>
              </a:rPr>
              <a:t>.     Дистанция              Марафонского бега равна </a:t>
            </a:r>
            <a:r>
              <a:rPr b="1" i="1" lang="ru-RU" sz="2400" spc="-1" strike="noStrike">
                <a:solidFill>
                  <a:srgbClr val="1d130c"/>
                </a:solidFill>
                <a:latin typeface="Times New Roman"/>
              </a:rPr>
              <a:t>42 км. 75 м</a:t>
            </a:r>
            <a:r>
              <a:rPr b="0" lang="ru-RU" sz="2400" spc="-1" strike="noStrike">
                <a:solidFill>
                  <a:srgbClr val="1d130c"/>
                </a:solidFill>
                <a:latin typeface="Times New Roman"/>
              </a:rPr>
              <a:t>.                                          </a:t>
            </a:r>
            <a:r>
              <a:rPr b="0" lang="ru-RU" sz="2400" spc="-1" strike="noStrike">
                <a:solidFill>
                  <a:srgbClr val="1d130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1d130c"/>
                </a:solidFill>
                <a:latin typeface="Times New Roman"/>
              </a:rPr>
              <a:t>В Марафонском беге принимают участие            как мужчины, так и женщины. 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0" name="Picture 2" descr="E:\Школьные запросы\К уроку\54642065_Risunok1_ochen_interesno_2.gif"/>
          <p:cNvPicPr/>
          <p:nvPr/>
        </p:nvPicPr>
        <p:blipFill>
          <a:blip r:embed="rId1"/>
          <a:stretch/>
        </p:blipFill>
        <p:spPr>
          <a:xfrm>
            <a:off x="7451640" y="4724280"/>
            <a:ext cx="1297080" cy="1670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7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70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                    </a:t>
            </a:r>
            <a:r>
              <a:rPr b="1" lang="ru-RU" sz="4400" spc="-1" strike="noStrike">
                <a:solidFill>
                  <a:srgbClr val="633000"/>
                </a:solidFill>
                <a:latin typeface="Times New Roman"/>
              </a:rPr>
              <a:t>???..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1" i="1" lang="ru-RU" sz="4400" spc="-1" strike="noStrike">
                <a:solidFill>
                  <a:srgbClr val="402000"/>
                </a:solidFill>
                <a:latin typeface="Times New Roman"/>
              </a:rPr>
              <a:t>Стайер -   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бегун на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длинную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дистанцию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02000"/>
                </a:solidFill>
                <a:latin typeface="Times New Roman"/>
              </a:rPr>
              <a:t>Спринтер –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бегун на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короткую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дистанцию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4" name="Picture 2" descr="E:\Школьные запросы\К уроку\54642065_Risunok1_ochen_interesno_2.gif"/>
          <p:cNvPicPr/>
          <p:nvPr/>
        </p:nvPicPr>
        <p:blipFill>
          <a:blip r:embed="rId1"/>
          <a:stretch/>
        </p:blipFill>
        <p:spPr>
          <a:xfrm>
            <a:off x="7451640" y="4724280"/>
            <a:ext cx="1297080" cy="1670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             </a:t>
            </a:r>
            <a:r>
              <a:rPr b="1" lang="ru-RU" sz="4800" spc="-1" strike="noStrike">
                <a:solidFill>
                  <a:srgbClr val="4a301d"/>
                </a:solidFill>
                <a:latin typeface="Times New Roman"/>
              </a:rPr>
              <a:t>Разминка</a:t>
            </a:r>
            <a:endParaRPr b="0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7164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1d130c"/>
                </a:solidFill>
                <a:latin typeface="Times New Roman"/>
              </a:rPr>
              <a:t>Что изучается в разделе науки русского языка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1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            </a:t>
            </a:r>
            <a:r>
              <a:rPr b="1" i="1" lang="ru-RU" sz="4400" spc="-1" strike="noStrike">
                <a:solidFill>
                  <a:srgbClr val="402000"/>
                </a:solidFill>
                <a:latin typeface="Times New Roman"/>
              </a:rPr>
              <a:t>«Лексикология»?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7" name="Picture 2" descr="E:\Школьные запросы\К уроку\54642065_Risunok1_ochen_interesno_2.gif"/>
          <p:cNvPicPr/>
          <p:nvPr/>
        </p:nvPicPr>
        <p:blipFill>
          <a:blip r:embed="rId1"/>
          <a:stretch/>
        </p:blipFill>
        <p:spPr>
          <a:xfrm>
            <a:off x="7451640" y="4724280"/>
            <a:ext cx="1297080" cy="1670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2020680"/>
            <a:ext cx="7772400" cy="17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33"/>
                </a:solidFill>
                <a:latin typeface="Times New Roman"/>
              </a:rPr>
              <a:t>                </a:t>
            </a:r>
            <a:r>
              <a:rPr b="1" lang="ru-RU" sz="4000" spc="-1" strike="noStrike">
                <a:solidFill>
                  <a:srgbClr val="996633"/>
                </a:solidFill>
                <a:latin typeface="Times New Roman"/>
              </a:rPr>
              <a:t>ЗАДАНИЕ № 1.                      </a:t>
            </a:r>
            <a:r>
              <a:rPr b="1" lang="ru-RU" sz="40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996633"/>
                </a:solidFill>
                <a:latin typeface="Times New Roman"/>
              </a:rPr>
              <a:t>ВЫБЕРИТЕ ПРАВИЛЬНЫЙ ОТВЕТ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996633"/>
                </a:solidFill>
                <a:latin typeface="Times New Roman"/>
              </a:rPr>
              <a:t>                       </a:t>
            </a:r>
            <a:r>
              <a:rPr b="1" lang="ru-RU" sz="2000" spc="-1" strike="noStrike">
                <a:solidFill>
                  <a:srgbClr val="996633"/>
                </a:solidFill>
                <a:latin typeface="Times New Roman"/>
              </a:rPr>
              <a:t>(РАЗДАТОЧНЫЙ МАТЕРИАЛ)</a:t>
            </a:r>
            <a:br>
              <a:rPr sz="2000"/>
            </a:br>
            <a:r>
              <a:rPr b="1" i="1" lang="ru-RU" sz="2800" spc="-1" strike="noStrike">
                <a:solidFill>
                  <a:srgbClr val="996633"/>
                </a:solidFill>
                <a:latin typeface="Times New Roman"/>
              </a:rPr>
              <a:t>            </a:t>
            </a:r>
            <a:br>
              <a:rPr sz="2800"/>
            </a:br>
            <a:r>
              <a:rPr b="1" i="1" lang="ru-RU" sz="2800" spc="-1" strike="noStrike">
                <a:solidFill>
                  <a:srgbClr val="996633"/>
                </a:solidFill>
                <a:latin typeface="Times New Roman"/>
              </a:rPr>
              <a:t>              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1988640"/>
            <a:ext cx="77724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0" name="Picture 2" descr="E:\Школьные запросы\К уроку\54642065_Risunok1_ochen_interesno_2.gif"/>
          <p:cNvPicPr/>
          <p:nvPr/>
        </p:nvPicPr>
        <p:blipFill>
          <a:blip r:embed="rId1"/>
          <a:stretch/>
        </p:blipFill>
        <p:spPr>
          <a:xfrm>
            <a:off x="7451640" y="4724280"/>
            <a:ext cx="1297080" cy="1670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77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770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2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                </a:t>
            </a: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Задание № 1.                      </a:t>
            </a: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996633"/>
                </a:solidFill>
                <a:latin typeface="Times New Roman"/>
              </a:rPr>
              <a:t>Выберите правильный ответ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7632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.Слова, противоположные по лексическому значению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- синонимы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- антонимы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.Слова, различные по звучанию, но одинаковые или близкие по лексическому значению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- антонимы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- синонимы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3" name="Picture 2" descr="E:\Школьные запросы\К уроку\54642065_Risunok1_ochen_interesno_2.gif"/>
          <p:cNvPicPr/>
          <p:nvPr/>
        </p:nvPicPr>
        <p:blipFill>
          <a:blip r:embed="rId1"/>
          <a:stretch/>
        </p:blipFill>
        <p:spPr>
          <a:xfrm>
            <a:off x="7451640" y="4724280"/>
            <a:ext cx="1297080" cy="1670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                </a:t>
            </a: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Словари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525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1.Словарь синонимов русского языка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2.Словарь антонимов русского языка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(наглядный материал: демонстрация словарей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6" name="Picture 2" descr="E:\Школьные запросы\К уроку\54642065_Risunok1_ochen_interesno_2.gif"/>
          <p:cNvPicPr/>
          <p:nvPr/>
        </p:nvPicPr>
        <p:blipFill>
          <a:blip r:embed="rId1"/>
          <a:stretch/>
        </p:blipFill>
        <p:spPr>
          <a:xfrm>
            <a:off x="7451640" y="4724280"/>
            <a:ext cx="1297080" cy="1670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6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8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0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3T22:13:01Z</dcterms:created>
  <dc:creator>Ольга</dc:creator>
  <dc:description/>
  <dc:language>en-US</dc:language>
  <cp:lastModifiedBy>Admin</cp:lastModifiedBy>
  <cp:lastPrinted>2015-04-16T12:01:42Z</cp:lastPrinted>
  <dcterms:modified xsi:type="dcterms:W3CDTF">2016-12-16T17:34:31Z</dcterms:modified>
  <cp:revision>95</cp:revision>
  <dc:subject/>
  <dc:title> Презентация (Смысловые группы наречий. 1 урок).</dc:title>
</cp:coreProperties>
</file>