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54BB-B7AC-4DE9-A17F-A2CBD7D5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823-AF62-4798-A23C-2F93D5D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323B-F889-4C61-BB6E-8DCA0984E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61A7-F769-4F38-9D4E-0F03AA2D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6760-7870-4B09-BF56-21AA8A6A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C945-936E-4818-9FC6-7D5673F3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1AF2-1591-4C9E-9AFF-47774D76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3FE0-3B38-4126-9442-8238989A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0C04-89C4-410A-A57E-053E15A3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5079-5548-49A7-8F63-25064AEC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B445E-B68C-4ECA-A8F0-5D54EC69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B55F-CE7F-42F9-82FD-BCF5B759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C64E-644C-46DC-A672-60C5B514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E979-4046-49EB-A2E5-D0788C50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F8A7-554E-496C-A6A4-36198B77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6653-2F0D-4827-AE78-DE689A151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18E2-7A3E-4200-A3B7-A83FAB44E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2E1F-AD41-45EC-89A9-55131989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78C3-9110-456C-841F-B81BFA3A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D863-3E8D-4304-9801-2A24EE7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9DD-1862-40AD-AA7A-2F791BAD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D54-B9D0-4727-8163-00A3647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13A7-E713-4121-AA51-4DC6622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221-BF5A-4C5C-B3AF-E12DF688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C514-07C1-4E46-871E-BD420E54221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C8D0-2D4C-413E-AA82-59D7FA618041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Игра по станциям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«Марафон по русскому языку»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0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2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Подобрать к выделенным словам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синонимы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341360"/>
            <a:ext cx="7772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добрать к выделенным словам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инонимы: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линна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орога –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длинный 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ысокое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здание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– высокий _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Громко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меяться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– громко _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оропиться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поезд -    ____________________  на            поезд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Большое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озеро - _________________________ озеро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Хорошее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ело - __________________________дело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3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Вычеркните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синоним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77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770" fill="hold"/>
                                        <p:tgtEl>
                                          <p:spTgt spid="1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267920"/>
            <a:ext cx="77724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ычеркни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синонимом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а) огонь,   камин,   плам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) конница,    авиация,     кавалер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) бросать,   кидать,    прыгат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г) дождь,   пурга,   метель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4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Подобрать к выделенным словам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антонимы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9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9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3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267920"/>
            <a:ext cx="7772400" cy="46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обрать к выделенным слова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антонимы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ильно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любить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– сильно 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Весёлая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история - ________________________ история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Уехать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на юг - _______________________ на юг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Сказать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равду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– сказать __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В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ервую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очередь – в ________________________ очередь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рок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закончить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– урок __________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5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Вычеркните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антоним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0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- Вычеркни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«лишнее»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лово, которое не    является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антонимо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а) весело,     весёлый,     грустны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) смелый,    храбрец,     трусливы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в) лёгкий,     легко,     тяжёлы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г) твёрдый,    твёрдость,     мягки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) разлучаться,    встреча,     встречатьс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6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Составить пословицы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9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77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770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7" dur="77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5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      </a:t>
            </a:r>
            <a:r>
              <a:rPr b="1" i="1" lang="ru-RU" sz="4000" spc="-1" strike="noStrike">
                <a:solidFill>
                  <a:srgbClr val="996633"/>
                </a:solidFill>
                <a:latin typeface="Times New Roman"/>
              </a:rPr>
              <a:t>Составить пословицы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9036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Ученье –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ягк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стелет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Трудн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в ученье –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Утр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Кто хочет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ног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знать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Лучше горька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правда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легк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в бою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чем красивая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лож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тому надо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мал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вечера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мудрене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а неученье –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тьма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д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</a:rPr>
              <a:t>жёстко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Стан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«Синонимы -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Антонимы».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                         </a:t>
            </a:r>
            <a:r>
              <a:rPr b="1" i="1" lang="ru-RU" sz="1600" spc="-1" strike="noStrike">
                <a:solidFill>
                  <a:srgbClr val="402000"/>
                </a:solidFill>
                <a:latin typeface="Times New Roman"/>
              </a:rPr>
              <a:t>Учитель Неклюкова Е.И.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77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770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" dur="77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1" i="1" lang="ru-RU" sz="3600" spc="-1" strike="noStrike">
                <a:solidFill>
                  <a:srgbClr val="996633"/>
                </a:solidFill>
                <a:latin typeface="Times New Roman"/>
              </a:rPr>
              <a:t>Составть пословицы.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773360"/>
            <a:ext cx="7772400" cy="42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Ученье –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, а неученье –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ьма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ягк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стелет, да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жёстк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Трудн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в ученье -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легк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в бою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Утр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- 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вечера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мудрене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то хочет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ног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знать, тому надо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мало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спа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Лучше горькая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авда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, чем красивая </a:t>
            </a: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лож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428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7.</a:t>
            </a:r>
            <a:br>
              <a:rPr sz="4400"/>
            </a:b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(творческое)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71640" y="2565000"/>
            <a:ext cx="777240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Дополнить стихотворение об игр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       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«Наоборот»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                  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(раздаточный материал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7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77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770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0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90720" y="90756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- Дополнить стихотворение об игре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2000"/>
                </a:solidFill>
                <a:latin typeface="Times New Roman"/>
              </a:rPr>
              <a:t>                 </a:t>
            </a:r>
            <a:r>
              <a:rPr b="1" i="1" lang="ru-RU" sz="2000" spc="-1" strike="noStrike">
                <a:solidFill>
                  <a:srgbClr val="402000"/>
                </a:solidFill>
                <a:latin typeface="Times New Roman"/>
              </a:rPr>
              <a:t>«Наоборот»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Нам с тобой                                                                                                                                                                                                 Пришёл черёд                                                                                                                                                                                               Сыграть в игру                                                                                                                                                                                             «Наоборот».                                                                                                                                                                                                      Скажу я слово                                                                                                                                                                                             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Высоко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А ты ответишь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_________________,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Скажу я слово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Далеко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А ты ответишь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_______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Скажу я слово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потолок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А ты ответишь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Скажу я слово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потерял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И скажешь ты                                                                                                                                                                                 _____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                      Скажу тебе я слово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трус,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Ответишь ты: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_________________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Теперь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402000"/>
                </a:solidFill>
                <a:latin typeface="Times New Roman"/>
              </a:rPr>
              <a:t>Начало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я скажу.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                             Ну, отвечай - 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_________________________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ru-RU" sz="1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Содержимое 2" descr="01_11(1).jpg"/>
          <p:cNvPicPr/>
          <p:nvPr/>
        </p:nvPicPr>
        <p:blipFill>
          <a:blip r:embed="rId1"/>
          <a:stretch/>
        </p:blipFill>
        <p:spPr>
          <a:xfrm>
            <a:off x="6227640" y="1557360"/>
            <a:ext cx="2562480" cy="4762440"/>
          </a:xfrm>
          <a:prstGeom prst="rect">
            <a:avLst/>
          </a:prstGeom>
          <a:ln w="0">
            <a:noFill/>
          </a:ln>
        </p:spPr>
      </p:pic>
      <p:pic>
        <p:nvPicPr>
          <p:cNvPr id="151" name="TextBox 3" descr=""/>
          <p:cNvPicPr/>
          <p:nvPr/>
        </p:nvPicPr>
        <p:blipFill>
          <a:blip r:embed="rId2"/>
          <a:stretch/>
        </p:blipFill>
        <p:spPr>
          <a:xfrm>
            <a:off x="1176480" y="822240"/>
            <a:ext cx="3968640" cy="2560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400" spc="-1" strike="noStrike">
                <a:solidFill>
                  <a:srgbClr val="4a301d"/>
                </a:solidFill>
                <a:latin typeface="Times New Roman"/>
              </a:rPr>
              <a:t>Интересно…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d130c"/>
                </a:solidFill>
                <a:latin typeface="Times New Roman"/>
              </a:rPr>
              <a:t>Откуда в русский язык пришли слов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d130c"/>
                </a:solidFill>
                <a:latin typeface="Times New Roman"/>
              </a:rPr>
              <a:t>          </a:t>
            </a: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Мараф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      </a:t>
            </a:r>
            <a:r>
              <a:rPr b="1" i="1" lang="ru-RU" sz="4400" spc="-1" strike="noStrike">
                <a:solidFill>
                  <a:srgbClr val="4a301d"/>
                </a:solidFill>
                <a:latin typeface="Times New Roman"/>
              </a:rPr>
              <a:t>Марафонский бег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7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a301d"/>
                </a:solidFill>
                <a:latin typeface="Times New Roman"/>
              </a:rPr>
              <a:t>                           </a:t>
            </a:r>
            <a:r>
              <a:rPr b="1" lang="ru-RU" sz="2800" spc="-1" strike="noStrike">
                <a:solidFill>
                  <a:srgbClr val="4a301d"/>
                </a:solidFill>
                <a:latin typeface="Times New Roman"/>
              </a:rPr>
              <a:t>Из истории.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76320" y="1028520"/>
            <a:ext cx="7772400" cy="54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Согласно легенде, во время Греко-персидской войны 490 года до н.э. возле греческого села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Марафон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произошла битва. Греки одержали победу над персами. Греческий воин, пробежав от села Марафон до столицы Греции Афины, воскликнул: «Радуйтесь, афиняне, мы победили!» и упал замертво.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 В 1896 году бег на длинную дистанцию был впервые включён в Олимпийские Игры, как олимпийская дисциплина по лёгкой атлетике. Позднее этот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бег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              стали называть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Марафонским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.     Дистанция              Марафонского бега равна </a:t>
            </a:r>
            <a:r>
              <a:rPr b="1" i="1" lang="ru-RU" sz="2400" spc="-1" strike="noStrike">
                <a:solidFill>
                  <a:srgbClr val="1d130c"/>
                </a:solidFill>
                <a:latin typeface="Times New Roman"/>
              </a:rPr>
              <a:t>42 км. 75 м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.                                          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1d130c"/>
                </a:solidFill>
                <a:latin typeface="Times New Roman"/>
              </a:rPr>
              <a:t>В Марафонском беге принимают участие            как мужчины, так и женщины.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0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                   </a:t>
            </a:r>
            <a:r>
              <a:rPr b="1" lang="ru-RU" sz="4400" spc="-1" strike="noStrike">
                <a:solidFill>
                  <a:srgbClr val="633000"/>
                </a:solidFill>
                <a:latin typeface="Times New Roman"/>
              </a:rPr>
              <a:t>???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Стайер -  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егун на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длинную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дистанцию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Спринтер –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бегун на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роткую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истанцию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</a:t>
            </a:r>
            <a:r>
              <a:rPr b="1" lang="ru-RU" sz="4800" spc="-1" strike="noStrike">
                <a:solidFill>
                  <a:srgbClr val="4a301d"/>
                </a:solidFill>
                <a:latin typeface="Times New Roman"/>
              </a:rPr>
              <a:t>Разминка</a:t>
            </a:r>
            <a:endParaRPr b="0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71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1d130c"/>
                </a:solidFill>
                <a:latin typeface="Times New Roman"/>
              </a:rPr>
              <a:t>Что изучается в разделе науки русского язы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i="1" lang="ru-RU" sz="4400" spc="-1" strike="noStrike">
                <a:solidFill>
                  <a:srgbClr val="402000"/>
                </a:solidFill>
                <a:latin typeface="Times New Roman"/>
              </a:rPr>
              <a:t>«Лексикология»?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202068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ЗАДАНИЕ № 1.                      </a:t>
            </a:r>
            <a:r>
              <a:rPr b="1" lang="ru-RU" sz="40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ВЫБЕРИТЕ ПРАВИЛЬНЫЙ ОТВЕТ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996633"/>
                </a:solidFill>
                <a:latin typeface="Times New Roman"/>
              </a:rPr>
              <a:t>(РАЗДАТОЧНЫЙ МАТЕРИАЛ)</a:t>
            </a:r>
            <a:br>
              <a:rPr sz="2000"/>
            </a:b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       </a:t>
            </a:r>
            <a:br>
              <a:rPr sz="2800"/>
            </a:b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             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198864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Задание № 1.         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996633"/>
                </a:solidFill>
                <a:latin typeface="Times New Roman"/>
              </a:rPr>
              <a:t>Выберите правильный ответ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63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Слова, противоположные по лексическому значению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син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ант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Слова, различные по звучанию, но одинаковые или близкие по лексическому значению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ант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- синони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                </a:t>
            </a: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Словари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525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1.Словарь синонимов русского язык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</a:rPr>
              <a:t>2.Словарь антонимов русского языка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(наглядный материал: демонстрация словарей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Picture 2" descr="E:\Школьные запросы\К уроку\54642065_Risunok1_ochen_interesno_2.gif"/>
          <p:cNvPicPr/>
          <p:nvPr/>
        </p:nvPicPr>
        <p:blipFill>
          <a:blip r:embed="rId1"/>
          <a:stretch/>
        </p:blipFill>
        <p:spPr>
          <a:xfrm>
            <a:off x="7451640" y="4724280"/>
            <a:ext cx="1297080" cy="1670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3T22:13:01Z</dcterms:created>
  <dc:creator>Ольга</dc:creator>
  <dc:description/>
  <dc:language>en-US</dc:language>
  <cp:lastModifiedBy>Admin</cp:lastModifiedBy>
  <cp:lastPrinted>2015-04-16T12:01:42Z</cp:lastPrinted>
  <dcterms:modified xsi:type="dcterms:W3CDTF">2016-12-16T17:34:31Z</dcterms:modified>
  <cp:revision>95</cp:revision>
  <dc:subject/>
  <dc:title> Презентация (Смысловые группы наречий. 1 урок).</dc:title>
</cp:coreProperties>
</file>