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5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22A-0498-4470-B86B-83F9A81FE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4EA-7306-42EB-AECD-179B187A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BA20-9525-48F1-AB69-F14E6592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E75-BC28-4BF0-8CC5-99E23D87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C976-8190-4635-AE80-401DE514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6386-AF63-408C-8E86-623E1651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E27F-3EBB-43D0-A2C6-DE764F96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E495-DC18-4CB1-A8A3-F91036EF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C34D-FE72-4A6B-B1B5-82C50CC6E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B9145-D8C1-4CB8-9426-C42E57DB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088B-48F0-47E6-8EBD-4EC92403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8BE-CD9D-45A0-9B97-F70F9D09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9F9F-7D5A-407E-8782-595AE9D0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CD54-8DC9-490F-982B-3E782B79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D76E-961C-4959-B502-11750A93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EC23-CCF6-4A59-9BFE-04849D0D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3B9E-6DB4-4C5B-8D0D-8A063EE4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9DF0E-7AD3-4EF8-B4E8-CC8F152C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7E11-CF5A-40C1-B0AB-1FB45158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DF1C-64DF-4C60-AFD5-5B9B043B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078FE-D5C0-4CF3-929E-622030D7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535D2-7114-4B52-853F-B7709211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37D-B523-4A60-89E3-F912A25F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3C1D2-8CA0-407A-B1E8-06480883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4F9DD-C611-484F-86EC-EE642B5C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75F42-3A44-4F44-92AD-6FE25ECC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B1010-642C-449F-AE18-398A162E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61B4C-D39D-48BA-9E70-7B606F00D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51E3-1500-4112-8997-B2EA0F1A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296A8-FCC0-4EFA-B030-F0F9637E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256D4-EE38-4E38-B074-AF34C490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38A82-7989-493E-919C-C7CE6118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1C446-4169-4A1F-91CC-5E3ACA2D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E1C-D393-452D-A0F0-4F56724C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DDFA9-32BA-4278-A22A-793FDD94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47BB7-8521-4442-B6B6-5AE9B329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F9BE7-C2A1-4124-BC60-E2887D23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D0FCB-8CCB-45A5-8A12-AC6D566E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23840-CA24-4CE6-8C8F-1E52B6CB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6EAEA-8511-4A8A-B59B-4B3FE0A3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8F1E8-7F88-446E-902D-EB01886E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9BA7C-9E48-469F-B2EA-FD66F4EC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C39C-008E-4307-AD01-F718A50D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13E-6289-4A8A-AE38-7C83880C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0D7-1866-4224-B8B8-986221B1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140-CFC4-44DC-8C82-8029F123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7BA-D99D-4419-9811-0C56321A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133-91CF-418E-B92E-B3A74820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9B68-F990-40D4-AF87-5E9A3435209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5545-C118-4796-8B26-8ADE89830201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C2BA-1AE5-4B75-95E8-E4FF910AB8AD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4566-5683-4EEA-BEAA-4449876A325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527280" y="5676840"/>
            <a:ext cx="56167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dc9e1f"/>
                </a:solidFill>
                <a:latin typeface="Arial Narrow"/>
              </a:rPr>
              <a:t>Презентацию подготовили ученицы 11 класса А: Малеева Екатерина, Рябова Александра, Савочкина Алёна, Самохвалова Татьяна и Ямушева Анна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68" name="Заголовок 1" descr=""/>
          <p:cNvPicPr/>
          <p:nvPr/>
        </p:nvPicPr>
        <p:blipFill>
          <a:blip r:embed="rId1"/>
          <a:stretch/>
        </p:blipFill>
        <p:spPr>
          <a:xfrm>
            <a:off x="689040" y="2004840"/>
            <a:ext cx="77724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9640" y="260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Таким образом, попытка получить блага, преимущества, избежать неприятностей при помощи взятки имеет своим последствием уголовное преследование и наказание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7" name="Picture 2" descr="D:\Users\User\Downloads\Коррупция\001.jpg"/>
          <p:cNvPicPr/>
          <p:nvPr/>
        </p:nvPicPr>
        <p:blipFill>
          <a:blip r:embed="rId1"/>
          <a:stretch/>
        </p:blipFill>
        <p:spPr>
          <a:xfrm>
            <a:off x="1401840" y="1628640"/>
            <a:ext cx="635004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10920" y="189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 2015 году в конце февраля Госдумой был принят закон о снижении минимальной кратности штрафа за получение взятки до десяти раз (ранее был минимум, равный 25-кратной сумме взятки) и установлении в качестве альтернативы фиксированного штрафа до 1 миллиона рублей. Штраф, назначаемый в виде дополнительного наказания к лишению свободы, будет устанавливаться на уровне от 10 до 20 сумм взятки. Минимальное наказание за дачу взятки предлагается снизить с 15- до 5-кратного штрафа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9" name="Picture 2" descr="D:\Users\User\Downloads\Коррупция\e.jpg"/>
          <p:cNvPicPr/>
          <p:nvPr/>
        </p:nvPicPr>
        <p:blipFill>
          <a:blip r:embed="rId1"/>
          <a:stretch/>
        </p:blipFill>
        <p:spPr>
          <a:xfrm>
            <a:off x="1763640" y="2276640"/>
            <a:ext cx="5732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2843280" y="3429000"/>
            <a:ext cx="5572080" cy="32958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ЮРИЙ ДЕНИСОВ, ЭКС-ЗАМГУБЕРНАТОРА АЛТАЙСКОГО КРАЯ. ВЗЯТКА, 200 ТЫСЯЧ РУБЛЕЙ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0320" y="1483920"/>
            <a:ext cx="79246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Этот человек попался, наверное, на самой маленькой взятке для своего статуса. Юрий Денисов подозревается в попытке получить 200 тысяч рублей от руководителя образовательного учреждения. Дело он проворачивал через свою супругу Татьяну. В итоге, деньги обнаружили в машине жены, она была поймана с поличным. На Денисова завели дело по статье "покушение на получение взятки в крупном размере", а на его супругу – по статье "посредничество во взяточничестве, совершенное в крупном размере"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ВИКТОР НЕЧАЕВ, ВИЦЕ-ГУБЕРНАТОР НОВГОРОДСКОЙ ОБЛАСТИ. ВЗЯТКА, 3 МИЛЛИОНА РУБЛЕЙ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Чиновник в 2015 году пообещал одному из муниципальных руководителей прикрыть его от уголовного преследования. За свои услуги Нечаев требовал 3 миллиона рублей. Взяли его с поличным в Москве. При этом отмечается, что вице-губернатор Новгородской области не был уполномочен исполнить свое обещание. Поэтому против него возбудили уголовное дело по статье "покушение на мошенничество". В феврале 2016 года информагентство "Великий Новгород" сообщало, что Нечаев признал вину и раскаялся в попытке оказать неправовую услугу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979640" y="3500280"/>
            <a:ext cx="557208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ОЛЕГ ЕЖОВ. ВИЦЕ-ГУБЕРНАТОР ПРИМОРЬЯ. УЩЕРБ БЮДЖЕТУ РЕГИОНА, 24,5 МИЛЛИОНА РУБЛЕЙ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рогорел на строительно-монтажных работах в пожарном депо. Несмотря на то, что подряд выполнен не был, выплатил полную сумму, определенную бюджетом. Был арестован в мае 2016 года на 2 месяца по подозрению в злоупотреблении полномочиями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557208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ВАДИМ ЛУКОЯНОВ, ВИЦЕ-ГУБЕРНАТОР КРАСНОДАРСКОГО КРАЯ. УЩЕРБ БЮДЖЕТУ РЕГИОНА, 32 МИЛЛИОНА РУБЛЕЙ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дозревается в мошенничестве в крупном размере. Был задержан 4 февраля 2015 года сотрудниками ФСБ Краснодарского края. Арестован по решению суда. В сентябре того же года отпущен под домашний арест. Суть дела: инициировал неправомерное включение торгового центра "МореМолл" в инвестиционную программу строительства линий электропередач на Кубани. Произошло это в период с декабря 2010 по ноябрь 2012 года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916360" y="3357720"/>
            <a:ext cx="55720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АЛЕКСАНДР ХОРОШАВИН. БЫВШИЙ ГУБЕРНАТОР САХАЛИНА. КОРРУПЦИЯ, 5,6 МИЛЛИОНА ДОЛЛАРОВ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лучал от организации ООО "Сахалинская компания "Энергострой" 6% ее доходов. "Дивиденды" Хорошавин собирал с 2011 года. Арестован в мате 2016 года, тогда же уволен с поста "в связи с утратой доверия". Дело рассматривается в Южно-Сахалинском городском суде. Хорошавин все еще находится под арестом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557208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ЮРИЙ ГАМБУРГ. ГУБЕРНАТОР ОМСКОЙ ОБЛАСТИ. УЩЕРБ БЮДЖЕТУ РЕГИОНА, 400 МИЛЛИОНОВ РУБЛЕЙ.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ризнан виновным в июне 2016 года. Совершил незаконную продажу 27 гектар земли на левом берегу реки Иртыш на коттеджную застройку. Сейчас там находится элитный микрорайон. Ущерб бюджету региона оценивается в 400 миллионов рублей. Гамбург был осужден на 5,5 лет тюремного заключения и оштрафован на 7,4 миллионов рублей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3276720" y="2852640"/>
            <a:ext cx="55720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 Narrow"/>
              </a:rPr>
              <a:t>ВЯЧЕСЛАВ ГАЙЗЕР. ГЛАВА РЕСПУБЛИКИ КОМИ. ОРГАНИЗАЦИЯ ОПГ, КОРРУПЦИЯ, 900 МИЛЛИОНОВ РУБЛЕЙ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09480" y="16002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Самое резонансное дело за последние несколько лет. Вячеслав Гайзер находится под арестом с 20 сентября 2015 года пообвинению в мошенничестве и организации преступной группировки. Она занималась незаконной приватизацией доходный предприятий в регионе. Деньги отмывались через офшоры. Гайзер – единственный человек из нашего списка, который вышел на "международный" уровень. "Благодаря" его деятельности бюджет Республики Коми недосчитался 900 миллионов рублей, считает следствие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3995640" y="3500280"/>
            <a:ext cx="420372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539640" y="2602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Коррупция – это отсутствие порядочности и честности (особенно подверженность взяточничеству); злоупотребление служебным положением для личной выгоды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0" name="Picture 2" descr="D:\Users\User\Downloads\Коррупция\eT5u5DCk5u0.jpg"/>
          <p:cNvPicPr/>
          <p:nvPr/>
        </p:nvPicPr>
        <p:blipFill>
          <a:blip r:embed="rId1"/>
          <a:stretch/>
        </p:blipFill>
        <p:spPr>
          <a:xfrm>
            <a:off x="1270080" y="2276640"/>
            <a:ext cx="668664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3120" y="333360"/>
            <a:ext cx="47545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Коррупция имеет много разновидностей: взяточничество, незаконное присвоение товаров и услуг, предназначенных для общественного потребления, кумовств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Narrow"/>
              </a:rPr>
              <a:t>о</a:t>
            </a:r>
            <a:r>
              <a:rPr b="0" lang="ru-RU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 Narrow"/>
              </a:rPr>
              <a:t>(когда при приеме на работу предпочтение отдается членам семьи), оказание влияния при выработке законов и правил в целях получения личной выгоды — все это распространенные примеры правонарушений и должностных преступлений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2" name="Picture 2" descr="D:\Users\User\Downloads\Коррупция\zWsqwmrmVGM.jpg"/>
          <p:cNvPicPr/>
          <p:nvPr/>
        </p:nvPicPr>
        <p:blipFill>
          <a:blip r:embed="rId1"/>
          <a:stretch/>
        </p:blipFill>
        <p:spPr>
          <a:xfrm>
            <a:off x="5292720" y="765000"/>
            <a:ext cx="309708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39640" y="40464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В Российской Федерации коррупция - понятие не уголовно-правовое, а собирательное, определяющее правонарушения самого различного вида - от дисциплинарных до уголовно-правовых. Антикоррупционными нормами Уголовного Кодекса  Российской Федерации являются в первую очередь нормы о должностных преступлениях: о злоупотреблении должностными полномочиями (ст. 285), о превышении должностных полномочий (ст. 286), о получении взятки (ст. 290), о служебном подлоге (ст. 292). В ряде государств (Украина, Беларусь и др.) приняты специальные законы по борьбе с коррупцией. Имеются также международные акты о сотрудничестве в области борьбы с коррупцией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4" name="Picture 2" descr="D:\Users\User\Downloads\Коррупция\dVNqeNxr9FM.jpg"/>
          <p:cNvPicPr/>
          <p:nvPr/>
        </p:nvPicPr>
        <p:blipFill>
          <a:blip r:embed="rId1"/>
          <a:stretch/>
        </p:blipFill>
        <p:spPr>
          <a:xfrm>
            <a:off x="1371600" y="3465360"/>
            <a:ext cx="6400800" cy="292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08000" y="3284280"/>
            <a:ext cx="75312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В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оответствии со статьей 13 Федерального закона от 19.12.2008 №273 граждане Российской Федерации, иностранные граждане и лица без гражданства за совершение коррупционных правонарушений несут уголовную, административную, гражданско-правовую и дисциплинарную ответственность в соответствии с законодательством Российской Федерации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6" name="Picture 2" descr="D:\Users\User\Downloads\Коррупция\kodeks.jpg"/>
          <p:cNvPicPr/>
          <p:nvPr/>
        </p:nvPicPr>
        <p:blipFill>
          <a:blip r:embed="rId1"/>
          <a:stretch/>
        </p:blipFill>
        <p:spPr>
          <a:xfrm>
            <a:off x="4427640" y="295200"/>
            <a:ext cx="42415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Users\User\Downloads\Коррупция\5196bb1612eeee507b719f1baf7.jpg"/>
          <p:cNvPicPr/>
          <p:nvPr/>
        </p:nvPicPr>
        <p:blipFill>
          <a:blip r:embed="rId1"/>
          <a:stretch/>
        </p:blipFill>
        <p:spPr>
          <a:xfrm>
            <a:off x="1908000" y="3179880"/>
            <a:ext cx="5508720" cy="366876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1" descr=""/>
          <p:cNvPicPr/>
          <p:nvPr/>
        </p:nvPicPr>
        <p:blipFill>
          <a:blip r:embed="rId2"/>
          <a:stretch/>
        </p:blipFill>
        <p:spPr>
          <a:xfrm>
            <a:off x="609480" y="-244440"/>
            <a:ext cx="7925040" cy="1366920"/>
          </a:xfrm>
          <a:prstGeom prst="rect">
            <a:avLst/>
          </a:prstGeom>
          <a:ln w="0">
            <a:noFill/>
          </a:ln>
        </p:spPr>
      </p:pic>
      <p:pic>
        <p:nvPicPr>
          <p:cNvPr id="179" name="Объект 2" descr=""/>
          <p:cNvPicPr/>
          <p:nvPr/>
        </p:nvPicPr>
        <p:blipFill>
          <a:blip r:embed="rId3"/>
          <a:stretch/>
        </p:blipFill>
        <p:spPr>
          <a:xfrm>
            <a:off x="426960" y="957240"/>
            <a:ext cx="804708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10920" y="189000"/>
            <a:ext cx="79246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Самым мягким наказанием за взятку является штраф, а самым суровым – лишение свободы на срок до 12 лет. Получение взятки при отягчающих обстоятельствах наказывается лишением свободы на срок от трёх до семи лет с лишением права занимать определённые должности или заниматься определённой деятельностью на срок до трёх лет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1" name="Picture 4" descr="D:\Users\User\Downloads\Коррупция\nezakonnoe-predprinimatelstvo.jpg"/>
          <p:cNvPicPr/>
          <p:nvPr/>
        </p:nvPicPr>
        <p:blipFill>
          <a:blip r:embed="rId1"/>
          <a:stretch/>
        </p:blipFill>
        <p:spPr>
          <a:xfrm>
            <a:off x="2050920" y="1754280"/>
            <a:ext cx="534060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68360" y="188640"/>
            <a:ext cx="8136000" cy="35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Обстоятельствами, отягчающими уголовную ответственность за получение взятки, являются: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лучение должностным лицом взятки за незаконные действия (бездействие);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лучение взятки лицом, занимающим государственную должность Российской Федерации или государственную должность субъекта Российской Федерации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лучение взятки группой лиц по предварительному сговору или организованной группой (2 и более человек);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ымогательство взятки;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•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получение взятки в крупном размере (крупным размером признаются сумма денег, стоимость ценных бумаг, иного имущества или выгод имущественного характера, превышающие 150 тысяч рублей).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3" name="Picture 2" descr="D:\Users\User\Downloads\Коррупция\уголовная-Ответственность-за-банкротство.jpg"/>
          <p:cNvPicPr/>
          <p:nvPr/>
        </p:nvPicPr>
        <p:blipFill>
          <a:blip r:embed="rId1"/>
          <a:stretch/>
        </p:blipFill>
        <p:spPr>
          <a:xfrm>
            <a:off x="2627280" y="3573360"/>
            <a:ext cx="394956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68000" y="40428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Необходимо помнить, что лицо, давшее взятку, освобождается от уголовной ответственности. Если имело место: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а) вымогательство взятки со стороны должностного лица;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б) если лицо добровольно сообщило органу, имеющему право возбудить уголовное дело, о даче взятки.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5" name="Picture 4" descr="D:\Users\User\Downloads\Коррупция\korruptsiya-2.jpg"/>
          <p:cNvPicPr/>
          <p:nvPr/>
        </p:nvPicPr>
        <p:blipFill>
          <a:blip r:embed="rId1"/>
          <a:stretch/>
        </p:blipFill>
        <p:spPr>
          <a:xfrm>
            <a:off x="1908000" y="2432160"/>
            <a:ext cx="50403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19:36:53Z</dcterms:created>
  <dc:creator>User</dc:creator>
  <dc:description/>
  <dc:language>en-US</dc:language>
  <cp:lastModifiedBy>User</cp:lastModifiedBy>
  <dcterms:modified xsi:type="dcterms:W3CDTF">2016-12-13T20:42:00Z</dcterms:modified>
  <cp:revision>12</cp:revision>
  <dc:subject/>
  <dc:title>Коррупция</dc:title>
</cp:coreProperties>
</file>