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59B-F058-40E9-BB73-EA69B0E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E0-0285-498D-A756-33725F0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B4F-C054-4A55-A868-9A1C872D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C7F-8FC8-4AB3-AF4F-F66EAF7B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3435-9DFD-44BD-8A51-8D0FFBCD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717C-E571-4C1B-90D9-F0D435E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C43-B1A7-4746-B872-EE59BD86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6FD-1F2C-4C4B-9910-AC71317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45BD-1BE7-4023-A482-F36A70AB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D2AA-DFEF-4DBC-9508-64F4A4E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A618-888A-4762-9020-4253FE3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8A5-A56F-4DB6-A013-5A436E33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D7BD-4D17-4AD1-9DB4-B158B5D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E411-1EAF-46B7-B0F1-728B5D4A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8E9D-F6E3-420E-A58A-1762FA4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142-9431-4BF4-942B-4981FF33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EC1B-60FE-43B2-92F6-F5C59E2C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26F7-CD6D-48A2-ABC9-A23C1794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0595-B140-4779-B612-177E3CF1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B9C5-4B45-42F3-AD54-DADA0709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7ACA-0696-48F5-ABCB-72EF0E9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5AE7D-4640-40F5-B917-4437F2D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3EF-FB2B-4CAE-AC1B-AB2CC69C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CF57-D166-4BCA-B24A-B3ADBDC4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7677-9700-4CBA-8D55-E7A76BD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295E-1E0E-4D4B-A850-18B5378A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9F9C-DFBC-42FF-A1D9-0BA86D1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291D-2C6A-43ED-A955-2EEBDC7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0CB5-58A4-41DD-83CC-0805DA0C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B165-0735-43AB-A6E0-F680EA4E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22BD-E178-4DEF-A166-7FCAB9C2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1069-2657-40CC-BD5C-DB43AE5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5C23-C309-403D-97EF-2F99046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BA6-8EF6-483B-87BF-607B5FB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1287-53D2-4B65-86C1-6CA620DA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56F6C-9C20-4F48-8123-FD5E5219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D613-8D13-45CD-AE31-B6BCF7B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C6386-095A-4D15-9119-3149D2E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9557-EE0C-4A5C-9132-949140B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87E6F-C69F-4C88-9D06-5CDD7650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0EA3-F30F-4C23-8DDB-B4F6E5B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ED54C-D209-4221-BB20-3FB7E361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7813-595A-4058-A073-D2CAF085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69C-4313-4539-97BE-467FDD1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5EF-D7F7-4417-AA92-0BA9B865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A7D-76E1-41A3-8CAD-6FECFD2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911-715A-4741-A6D4-3E360E3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7F7-2CE1-46D2-ABEA-00236753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CB1-2E11-42F4-846A-EFA7DCAC52C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8AF4-642B-4791-951F-7AAD3B905ED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C6B-6292-4F0B-9841-C0E03C4AB4F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E1B-8B12-4EB5-82FF-768C4113808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527280" y="5676840"/>
            <a:ext cx="5616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c9e1f"/>
                </a:solidFill>
                <a:latin typeface="Arial Narrow"/>
              </a:rPr>
              <a:t>Презентацию подготовили ученицы 11 класса А: Малеева Екатерина, Рябова Александра, Савочкина Алёна, Самохвалова Татьяна и Ямушева Ан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689040" y="2004840"/>
            <a:ext cx="77724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26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аким образом, попытка получить блага, преимущества, избежать неприятностей при помощи взятки имеет своим последствием уголовное преследование и наказани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D:\Users\User\Downloads\Коррупция\001.jpg"/>
          <p:cNvPicPr/>
          <p:nvPr/>
        </p:nvPicPr>
        <p:blipFill>
          <a:blip r:embed="rId1"/>
          <a:stretch/>
        </p:blipFill>
        <p:spPr>
          <a:xfrm>
            <a:off x="1401840" y="162864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10920" y="189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2015 году в конце февраля Госдумой был принят закон о снижении минимальной кратности штрафа за получение взятки до десяти раз (ранее был минимум, равный 25-кратной сумме взятки) и установлении в качестве альтернативы фиксированного штрафа до 1 миллиона рублей. Штраф, назначаемый в виде дополнительного наказания к лишению свободы, будет устанавливаться на уровне от 10 до 20 сумм взятки. Минимальное наказание за дачу взятки предлагается снизить с 15- до 5-кратного штраф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2" descr="D:\Users\User\Downloads\Коррупция\e.jpg"/>
          <p:cNvPicPr/>
          <p:nvPr/>
        </p:nvPicPr>
        <p:blipFill>
          <a:blip r:embed="rId1"/>
          <a:stretch/>
        </p:blipFill>
        <p:spPr>
          <a:xfrm>
            <a:off x="1763640" y="2276640"/>
            <a:ext cx="5732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5572080" cy="32958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ДЕНИСОВ, ЭКС-ЗАМГУБЕРНАТОРА АЛТАЙСКОГО КРАЯ. ВЗЯТКА, 200 ТЫСЯЧ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0320" y="1483920"/>
            <a:ext cx="79246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Этот человек попался, наверное, на самой маленькой взятке для своего статуса. Юрий Денисов подозревается в попытке получить 200 тысяч рублей от руководителя образовательного учреждения. Дело он проворачивал через свою супругу Татьяну. В итоге, деньги обнаружили в машине жены, она была поймана с поличным. На Денисова завели дело по статье "покушение на получение взятки в крупном размере", а на его супругу – по статье "посредничество во взяточничестве, совершенное в крупном размере"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ИКТОР НЕЧАЕВ, ВИЦЕ-ГУБЕРНАТОР НОВГОРОДСКОЙ ОБЛАСТИ. ВЗЯТКА, 3 МИЛЛИОНА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иновник в 2015 году пообещал одному из муниципальных руководителей прикрыть его от уголовного преследования. За свои услуги Нечаев требовал 3 миллиона рублей. Взяли его с поличным в Москве. При этом отмечается, что вице-губернатор Новгородской области не был уполномочен исполнить свое обещание. Поэтому против него возбудили уголовное дело по статье "покушение на мошенничество". В феврале 2016 года информагентство "Великий Новгород" сообщало, что Нечаев признал вину и раскаялся в попытке оказать неправовую услугу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5720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ОЛЕГ ЕЖОВ. ВИЦЕ-ГУБЕРНАТОР ПРИМОРЬЯ. УЩЕРБ БЮДЖЕТУ РЕГИОНА, 24,5 МИЛЛИОНА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рогорел на строительно-монтажных работах в пожарном депо. Несмотря на то, что подряд выполнен не был, выплатил полную сумму, определенную бюджетом. Был арестован в мае 2016 года на 2 месяца по подозрению в злоупотреблении полномочия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5572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АДИМ ЛУКОЯНОВ, ВИЦЕ-ГУБЕРНАТОР КРАСНОДАРСКОГО КРАЯ. УЩЕРБ БЮДЖЕТУ РЕГИОНА, 32 МИЛЛИОНА РУБЛЕЙ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дозревается в мошенничестве в крупном размере. Был задержан 4 февраля 2015 года сотрудниками ФСБ Краснодарского края. Арестован по решению суда. В сентябре того же года отпущен под домашний арест. Суть дела: инициировал неправомерное включение торгового центра "МореМолл" в инвестиционную программу строительства линий электропередач на Кубани. Произошло это в период с декабря 2010 по ноябрь 2012 год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5572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ЛЕКСАНДР ХОРОШАВИН. БЫВШИЙ ГУБЕРНАТОР САХАЛИНА. КОРРУПЦИЯ, 5,6 МИЛЛИОНА ДОЛЛАРОВ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ал от организации ООО "Сахалинская компания "Энергострой" 6% ее доходов. "Дивиденды" Хорошавин собирал с 2011 года. Арестован в мате 2016 года, тогда же уволен с поста "в связи с утратой доверия". Дело рассматривается в Южно-Сахалинском городском суде. Хорошавин все еще находится под арестом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5572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ГАМБУРГ. ГУБЕРНАТОР ОМСКОЙ ОБЛАСТИ. УЩЕРБ БЮДЖЕТУ РЕГИОНА, 400 МИЛЛИОНОВ РУБЛЕЙ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ризнан виновным в июне 2016 года. Совершил незаконную продажу 27 гектар земли на левом берегу реки Иртыш на коттеджную застройку. Сейчас там находится элитный микрорайон. Ущерб бюджету региона оценивается в 400 миллионов рублей. Гамбург был осужден на 5,5 лет тюремного заключения и оштрафован на 7,4 миллионов рубл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5720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ЯЧЕСЛАВ ГАЙЗЕР. ГЛАВА РЕСПУБЛИКИ КОМИ. ОРГАНИЗАЦИЯ ОПГ, КОРРУПЦИЯ, 900 МИЛЛИОНОВ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амое резонансное дело за последние несколько лет. Вячеслав Гайзер находится под арестом с 20 сентября 2015 года пообвинению в мошенничестве и организации преступной группировки. Она занималась незаконной приватизацией доходный предприятий в регионе. Деньги отмывались через офшоры. Гайзер – единственный человек из нашего списка, который вышел на "международный" уровень. "Благодаря" его деятельности бюджет Республики Коми недосчитался 900 миллионов рублей, считает следстви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4203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640" y="26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оррупция – это отсутствие порядочности и честности (особенно подверженность взяточничеству); злоупотребление служебным положением для личной выгоды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2" descr="D:\Users\User\Downloads\Коррупция\eT5u5DCk5u0.jpg"/>
          <p:cNvPicPr/>
          <p:nvPr/>
        </p:nvPicPr>
        <p:blipFill>
          <a:blip r:embed="rId1"/>
          <a:stretch/>
        </p:blipFill>
        <p:spPr>
          <a:xfrm>
            <a:off x="1270080" y="2276640"/>
            <a:ext cx="66866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3120" y="333360"/>
            <a:ext cx="4754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ррупция имеет много разновидностей: взяточничество, незаконное присвоение товаров и услуг, предназначенных для общественного потребления, кумовст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Narrow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(когда при приеме на работу предпочтение отдается членам семьи), оказание влияния при выработке законов и правил в целях получения личной выгоды — все это распространенные примеры правонарушений и должностных преступлений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2" name="Picture 2" descr="D:\Users\User\Downloads\Коррупция\zWsqwmrmVGM.jpg"/>
          <p:cNvPicPr/>
          <p:nvPr/>
        </p:nvPicPr>
        <p:blipFill>
          <a:blip r:embed="rId1"/>
          <a:stretch/>
        </p:blipFill>
        <p:spPr>
          <a:xfrm>
            <a:off x="5292720" y="765000"/>
            <a:ext cx="309708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640" y="404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 Российской Федерации коррупция - понятие не уголовно-правовое, а собирательное, определяющее правонарушения самого различного вида - от дисциплинарных до уголовно-правовых. Антикоррупционными нормами Уголовного Кодекса  Российской Федерации являются в первую очередь нормы о должностных преступлениях: о злоупотреблении должностными полномочиями (ст. 285), о превышении должностных полномочий (ст. 286), о получении взятки (ст. 290), о служебном подлоге (ст. 292). В ряде государств (Украина, Беларусь и др.) приняты специальные законы по борьбе с коррупцией. Имеются также международные акты о сотрудничестве в области борьбы с коррупцие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2" descr="D:\Users\User\Downloads\Коррупция\dVNqeNxr9FM.jpg"/>
          <p:cNvPicPr/>
          <p:nvPr/>
        </p:nvPicPr>
        <p:blipFill>
          <a:blip r:embed="rId1"/>
          <a:stretch/>
        </p:blipFill>
        <p:spPr>
          <a:xfrm>
            <a:off x="1371600" y="3465360"/>
            <a:ext cx="6400800" cy="292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8000" y="3284280"/>
            <a:ext cx="75312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ответствии со статьей 13 Федерального закона от 19.12.2008 №273 граждане Российской Федерации, иностранные граждане и лица без гражданства за совершение коррупционных правонарушений несут уголовную, административную, гражданско-правовую и дисциплинарную ответственность в соответствии с законода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Picture 2" descr="D:\Users\User\Downloads\Коррупция\kodeks.jpg"/>
          <p:cNvPicPr/>
          <p:nvPr/>
        </p:nvPicPr>
        <p:blipFill>
          <a:blip r:embed="rId1"/>
          <a:stretch/>
        </p:blipFill>
        <p:spPr>
          <a:xfrm>
            <a:off x="4427640" y="295200"/>
            <a:ext cx="42415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Users\User\Downloads\Коррупция\5196bb1612eeee507b719f1baf7.jpg"/>
          <p:cNvPicPr/>
          <p:nvPr/>
        </p:nvPicPr>
        <p:blipFill>
          <a:blip r:embed="rId1"/>
          <a:stretch/>
        </p:blipFill>
        <p:spPr>
          <a:xfrm>
            <a:off x="1908000" y="317988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609480" y="-244440"/>
            <a:ext cx="7925040" cy="136692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2" descr=""/>
          <p:cNvPicPr/>
          <p:nvPr/>
        </p:nvPicPr>
        <p:blipFill>
          <a:blip r:embed="rId3"/>
          <a:stretch/>
        </p:blipFill>
        <p:spPr>
          <a:xfrm>
            <a:off x="426960" y="957240"/>
            <a:ext cx="80470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10920" y="189000"/>
            <a:ext cx="79246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амым мягким наказанием за взятку является штраф, а самым суровым – лишение свободы на срок до 12 лет. Получение взятки при отягчающих обстоятельствах наказывается лишением свободы на срок от трёх до семи лет с лишением права занимать определённые должности или заниматься определённой деятельностью на срок до трёх лет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4" descr="D:\Users\User\Downloads\Коррупция\nezakonnoe-predprinimatelstvo.jpg"/>
          <p:cNvPicPr/>
          <p:nvPr/>
        </p:nvPicPr>
        <p:blipFill>
          <a:blip r:embed="rId1"/>
          <a:stretch/>
        </p:blipFill>
        <p:spPr>
          <a:xfrm>
            <a:off x="2050920" y="1754280"/>
            <a:ext cx="53406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188640"/>
            <a:ext cx="81360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стоятельствами, отягчающими уголовную ответственность за получение взятки, являются: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должностным лицом взятки за незаконные действия (бездействие);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лицом, занимающим государственную должность Российской Федерации или государственную должность субъекта Российской Федерации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группой лиц по предварительному сговору или организованной группой (2 и более человек);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ымогательство взятки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в крупном размере (крупным размером признаются сумма денег, стоимость ценных бумаг, иного имущества или выгод имущественного характера, превышающие 150 тысяч рублей).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2" descr="D:\Users\User\Downloads\Коррупция\уголовная-Ответственность-за-банкротство.jpg"/>
          <p:cNvPicPr/>
          <p:nvPr/>
        </p:nvPicPr>
        <p:blipFill>
          <a:blip r:embed="rId1"/>
          <a:stretch/>
        </p:blipFill>
        <p:spPr>
          <a:xfrm>
            <a:off x="2627280" y="3573360"/>
            <a:ext cx="39495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000" y="40428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Необходимо помнить, что лицо, давшее взятку, освобождается от уголовной ответственности. Если имело место: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а) вымогательство взятки со стороны должностного лица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б) если лицо добровольно сообщило органу, имеющему право возбудить уголовное дело, о даче взятки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4" descr="D:\Users\User\Downloads\Коррупция\korruptsiya-2.jpg"/>
          <p:cNvPicPr/>
          <p:nvPr/>
        </p:nvPicPr>
        <p:blipFill>
          <a:blip r:embed="rId1"/>
          <a:stretch/>
        </p:blipFill>
        <p:spPr>
          <a:xfrm>
            <a:off x="1908000" y="2432160"/>
            <a:ext cx="5040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19:36:53Z</dcterms:created>
  <dc:creator>User</dc:creator>
  <dc:description/>
  <dc:language>en-US</dc:language>
  <cp:lastModifiedBy>User</cp:lastModifiedBy>
  <dcterms:modified xsi:type="dcterms:W3CDTF">2016-12-13T20:42:00Z</dcterms:modified>
  <cp:revision>12</cp:revision>
  <dc:subject/>
  <dc:title>Коррупция</dc:title>
</cp:coreProperties>
</file>