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624-A940-4897-B7BF-42968A99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22A-E698-4238-8106-820E2AC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FA4-574C-4D63-89D1-86D9F08B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030-05AB-4A93-B74B-F4C717B3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B12-BD38-47B5-9FDE-9CC7CDA7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FCE5-7019-4D7E-9EF4-2EF64AA2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3123-8F20-44CB-85A5-259DAE3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7D9-0448-4995-932C-2EC221EA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C7D-6BD7-4DD5-808C-E1FE2C4B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33D-1A9F-4D0C-9A2C-A2AB3CA6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6CF4-759A-449A-A1B5-F2254A91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2B7-3728-4C1C-87BA-3B96C0B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4DC-8417-406B-91EA-E2B1BC6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B558-EE98-490B-8BEC-C8C11C8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3100-A5B1-464F-A0E9-6CF94DA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E0D-7B37-4720-BD22-36ED1510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787-89D1-41D9-B1D3-794662C9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555-1BFF-4322-8507-0A93ACC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9213-DCCE-443E-984B-3F80E2B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251-3923-4689-A3F2-25B5BBE3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FAA-1619-4838-851E-7FFD152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722-BA13-4B84-A306-E0D89AED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AAA-0508-4ACB-AA9A-7731F9A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CE7-6566-4F78-9657-F1BDCFA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F973-4AD2-4B0A-93F2-70AF340037C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0C68-98A8-4741-A0CD-4A311C8D19A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9028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836640"/>
          <a:ext cx="6769080" cy="6308640"/>
        </p:xfrm>
        <a:graphic>
          <a:graphicData uri="http://schemas.openxmlformats.org/drawingml/2006/table">
            <a:tbl>
              <a:tblPr/>
              <a:tblGrid>
                <a:gridCol w="550800"/>
                <a:gridCol w="550800"/>
                <a:gridCol w="549360"/>
                <a:gridCol w="550800"/>
                <a:gridCol w="608040"/>
                <a:gridCol w="606240"/>
                <a:gridCol w="574920"/>
                <a:gridCol w="573120"/>
                <a:gridCol w="574560"/>
                <a:gridCol w="542880"/>
                <a:gridCol w="544680"/>
                <a:gridCol w="542880"/>
              </a:tblGrid>
              <a:tr h="701280">
                <a:tc rowSpan="4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3419640" y="471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россвор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95280" y="10026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Times New Roman"/>
                <a:ea typeface="Calibri"/>
              </a:rPr>
              <a:t>Критерии оценивания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правильно выполнен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8-9 слов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5 баллов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5-7 слов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4 балл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3-4 слова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3 балл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1-2 слова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2 балл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асса веществ, вступивших в реакцию, равна массе веществ, образовавшихся   в результате реакци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щества не исчезают бесследно и не образуются из нич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щность химических явлений заключается в перераспределении атомов исходных веществ с образованием нов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воляет составлять уравнения реакций и производить расч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7858080" cy="95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23640" y="580536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В центре цветка нарисуйте смайлик, отображающий ваше настро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3924360" y="2852640"/>
            <a:ext cx="1295280" cy="1224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4211640" y="10526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Овал 5"/>
          <p:cNvSpPr/>
          <p:nvPr/>
        </p:nvSpPr>
        <p:spPr>
          <a:xfrm rot="2857800">
            <a:off x="5403960" y="17474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Овал 7"/>
          <p:cNvSpPr/>
          <p:nvPr/>
        </p:nvSpPr>
        <p:spPr>
          <a:xfrm rot="18997800">
            <a:off x="3041640" y="159192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4140360" y="40766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Овал 11"/>
          <p:cNvSpPr/>
          <p:nvPr/>
        </p:nvSpPr>
        <p:spPr>
          <a:xfrm rot="15153600">
            <a:off x="2626560" y="3045240"/>
            <a:ext cx="792000" cy="17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Овал 12"/>
          <p:cNvSpPr/>
          <p:nvPr/>
        </p:nvSpPr>
        <p:spPr>
          <a:xfrm rot="6361200">
            <a:off x="5619600" y="318420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20:14:47Z</dcterms:created>
  <dc:creator>User</dc:creator>
  <dc:description/>
  <dc:language>en-US</dc:language>
  <cp:lastModifiedBy>User</cp:lastModifiedBy>
  <dcterms:modified xsi:type="dcterms:W3CDTF">2016-12-19T20:37:14Z</dcterms:modified>
  <cp:revision>3</cp:revision>
  <dc:subject/>
  <dc:title>Михаил Васильевич Ломоносов.  Закон сохранения массы веществ.</dc:title>
</cp:coreProperties>
</file>