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67AE-19C9-489E-B51F-52CFC5B6F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2D00-5265-4C4A-879B-BD3FC6F5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4D8B-D253-4D94-B5AC-C330AE675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D392-406C-4D4D-B732-D688C028F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CDF9-9101-4804-89C0-83E678D7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971C-D64A-45CC-ADEE-3A4C76B3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A90B-30F1-4B0E-8970-B6A65252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2DF5-F433-4414-B2B1-5817FD42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AB11-7397-4DF0-9FAA-2D7A613F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EE8F-0631-4006-982D-B8FA3B3A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601E-529B-41F0-9234-24FDE2C7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1563-E723-4C03-8A44-6C92B620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2D544-28FC-4003-8A5E-8DACD123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D5EF-2717-4535-9B24-D4ADE859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57B1-8971-438B-B99E-E2F94FFF7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BB8B-54E7-4E16-93B5-D203FECA4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18B4-48C9-49D5-B5B6-07DE6458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4A85-E62D-4C16-9F99-38FD1E24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B37F-6A08-49A2-8C16-13C37D7E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5A5D-66D4-4B2F-8576-7F426B00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3C26-1F4F-4BA1-A7AC-D9305CF9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96C2-16B3-405E-9696-BD7864A2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4EE8-16CB-4D5C-94C5-B1EBBE09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7F8F-AFB1-48C3-B3A2-8798FE95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9762-4D54-43EC-AFA7-0C36F7F13EBA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7E74-72BF-4D0E-B85B-9BCEC52BF4E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9028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971640" y="836640"/>
          <a:ext cx="6769080" cy="6308640"/>
        </p:xfrm>
        <a:graphic>
          <a:graphicData uri="http://schemas.openxmlformats.org/drawingml/2006/table">
            <a:tbl>
              <a:tblPr/>
              <a:tblGrid>
                <a:gridCol w="550800"/>
                <a:gridCol w="550800"/>
                <a:gridCol w="549360"/>
                <a:gridCol w="550800"/>
                <a:gridCol w="608040"/>
                <a:gridCol w="606240"/>
                <a:gridCol w="574920"/>
                <a:gridCol w="573120"/>
                <a:gridCol w="574560"/>
                <a:gridCol w="542880"/>
                <a:gridCol w="544680"/>
                <a:gridCol w="542880"/>
              </a:tblGrid>
              <a:tr h="701280">
                <a:tc rowSpan="4"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ь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я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х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я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ы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280"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я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280">
                <a:tc rowSpan="2"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ы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ы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280">
                <a:tc gridSpan="2"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д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092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щ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т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Rectangle 1"/>
          <p:cNvSpPr/>
          <p:nvPr/>
        </p:nvSpPr>
        <p:spPr>
          <a:xfrm>
            <a:off x="3419640" y="4716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Кроссвор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395280" y="1002600"/>
            <a:ext cx="820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000"/>
                </a:solidFill>
                <a:latin typeface="Times New Roman"/>
                <a:ea typeface="Calibri"/>
              </a:rPr>
              <a:t>Критерии оценивания: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Calibri"/>
              </a:rPr>
              <a:t>Если правильно выполнено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Calibri"/>
              </a:rPr>
              <a:t>8-9 слов 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  <a:ea typeface="Calibri"/>
              </a:rPr>
              <a:t>–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Calibri"/>
              </a:rPr>
              <a:t> 5 баллов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Calibri"/>
              </a:rPr>
              <a:t>5-7 слов 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  <a:ea typeface="Calibri"/>
              </a:rPr>
              <a:t>–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Calibri"/>
              </a:rPr>
              <a:t> 4 балла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Calibri"/>
              </a:rPr>
              <a:t>3-4 слова 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  <a:ea typeface="Calibri"/>
              </a:rPr>
              <a:t>–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Calibri"/>
              </a:rPr>
              <a:t> 3 балла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Calibri"/>
              </a:rPr>
              <a:t>1-2 слова 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  <a:ea typeface="Calibri"/>
              </a:rPr>
              <a:t>–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Calibri"/>
              </a:rPr>
              <a:t> 2 балла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4" descr=""/>
          <p:cNvPicPr/>
          <p:nvPr/>
        </p:nvPicPr>
        <p:blipFill>
          <a:blip r:embed="rId1"/>
          <a:stretch/>
        </p:blipFill>
        <p:spPr>
          <a:xfrm>
            <a:off x="450720" y="-23760"/>
            <a:ext cx="8242560" cy="2071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2349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Масса веществ, вступивших в реакцию, равна массе веществ, образовавшихся   в результате реакции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0720" y="401760"/>
            <a:ext cx="8242560" cy="1042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щества не исчезают бесследно и не образуются из ничег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ущность химических явлений заключается в перераспределении атомов исходных веществ с образованием новых вещест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зволяет составлять уравнения реакций и производить расчет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63680" y="96840"/>
            <a:ext cx="7858080" cy="957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323640" y="5805360"/>
            <a:ext cx="80643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ff33"/>
                </a:solidFill>
                <a:latin typeface="Times New Roman"/>
              </a:rPr>
              <a:t>В центре цветка нарисуйте смайлик, отображающий ваше настроени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Овал 3"/>
          <p:cNvSpPr/>
          <p:nvPr/>
        </p:nvSpPr>
        <p:spPr>
          <a:xfrm>
            <a:off x="3924360" y="2852640"/>
            <a:ext cx="1295280" cy="122400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Овал 4"/>
          <p:cNvSpPr/>
          <p:nvPr/>
        </p:nvSpPr>
        <p:spPr>
          <a:xfrm>
            <a:off x="4211640" y="1052640"/>
            <a:ext cx="792000" cy="1728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9cb0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Овал 5"/>
          <p:cNvSpPr/>
          <p:nvPr/>
        </p:nvSpPr>
        <p:spPr>
          <a:xfrm rot="2857800">
            <a:off x="5403960" y="1747440"/>
            <a:ext cx="792000" cy="1728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Овал 7"/>
          <p:cNvSpPr/>
          <p:nvPr/>
        </p:nvSpPr>
        <p:spPr>
          <a:xfrm rot="18997800">
            <a:off x="3041640" y="1591920"/>
            <a:ext cx="792000" cy="1728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Овал 8"/>
          <p:cNvSpPr/>
          <p:nvPr/>
        </p:nvSpPr>
        <p:spPr>
          <a:xfrm>
            <a:off x="4140360" y="4076640"/>
            <a:ext cx="792000" cy="1728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Овал 11"/>
          <p:cNvSpPr/>
          <p:nvPr/>
        </p:nvSpPr>
        <p:spPr>
          <a:xfrm rot="15153600">
            <a:off x="2626560" y="3045240"/>
            <a:ext cx="792000" cy="1727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Овал 12"/>
          <p:cNvSpPr/>
          <p:nvPr/>
        </p:nvSpPr>
        <p:spPr>
          <a:xfrm rot="6361200">
            <a:off x="5619600" y="3184200"/>
            <a:ext cx="792000" cy="1728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a379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9T20:14:47Z</dcterms:created>
  <dc:creator>User</dc:creator>
  <dc:description/>
  <dc:language>en-US</dc:language>
  <cp:lastModifiedBy>User</cp:lastModifiedBy>
  <dcterms:modified xsi:type="dcterms:W3CDTF">2016-12-19T20:37:14Z</dcterms:modified>
  <cp:revision>3</cp:revision>
  <dc:subject/>
  <dc:title>Михаил Васильевич Ломоносов.  Закон сохранения массы веществ.</dc:title>
</cp:coreProperties>
</file>