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BBF9-92DB-4F38-A7C3-2BA27730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E4D8-886B-4ED1-98AB-F1CF9874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EE4365-3A4C-4923-B74A-DBC90DDB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D5D450-6B2A-4841-AE35-2D1D1291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E4873E-0970-4AFC-A30E-8061024B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7345B9-7E7A-4B47-8617-7B24926F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50C60C-08A6-4F28-BCB7-49184E36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A45555-E2BB-4698-BA19-7BD83062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DCB184-4F3B-4217-808D-32EF50FB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6B9DB9-D03C-439F-93ED-FAECEF81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6EA06B-674C-44ED-AA59-E96356B2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C5A2BB-8027-4899-9494-C7EE4E49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6069-1C65-449E-9586-25E6DB63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4D5F1D-37C7-43FE-B151-C3D99C25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76D0A9-2C02-4AE1-BFA3-3EF6A779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AF03ED-815E-4E55-9951-0BE15D08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6535F9-496D-4AB6-A9C7-376BF397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097982-35D5-4703-A515-E438793A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25170C-33A2-49FE-9360-C69B95B3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82F50F-D72F-46CF-BBFD-5226A58F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368D10-BCCF-4E04-86E4-F938899C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371927-E76D-461D-8A2A-3E4EE757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050682-FBBD-483E-AC1B-5D7D0FCAB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694F-7E80-4ABD-BBC3-2D4C7F6E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BEB445-13FD-4850-B632-F09DE55E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1C6FC-2115-4267-AF4E-561A7C98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E2898-72AA-4042-A6B7-495AD051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34EBC-AE7E-4A10-83C8-7149F9D3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ACE3F-9B28-41EE-A8A8-DB2FE5BA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78631-F698-4747-8C07-0DEF7339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02201-9834-40A0-8308-F8A0F3E9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043A3-2238-496B-BB89-EB754074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765B0-847F-442A-BEDF-65738285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173AF-7B98-4B80-8444-E18B140A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6337-B051-4D6A-81A2-B8DCAB0A6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BC514-8C4E-471E-A3D4-6BB8E955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31C7C-92E9-4A53-B2B1-649FB961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B1A5F-7631-4CE4-AFB9-6172FAA7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195CE9-E8CD-4C3D-8882-2A8DF848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BA218E-4DE2-43E0-80EF-9763CE24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7605B8-522C-41A4-98AD-D23EB66B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236AD-EC80-4E3F-BB80-B79286AE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AE6435-B06F-4DD7-8325-2FBFA5AE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BA4782-423C-41E3-B2AE-3CA67F05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59DCED-7416-475D-9AE4-7870FD62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ECE3-2A2E-44BE-B93B-10F63DC5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DF6CEA-8D07-46E5-AFB8-6BDB6F8D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B2876B-6CDB-4C08-8D66-FA19AF9E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BCD16A-62D5-446A-896A-54EB8911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8261F1-E559-49D9-B05C-80889CC2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59E1C4-AAA7-48DC-A970-AA13DF18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F9A9-6427-475A-9357-CD9EFF36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7D48-99C7-4FBC-9044-A0B73D2A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29BC-E084-4C92-9DFD-60E309ED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68E6-A29C-43F5-9420-19C9E2C2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9BDA-6C2E-4E3B-BCB0-AFCEA2A1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4D3E-39C5-441E-927C-417BBDB0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9ABB-DA6E-4186-97C5-C4B30195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E8E3-C517-4ED9-9570-2554355D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A309-31DA-458D-8941-83B2B6C5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F6BE-A4C1-45DF-9AE3-3FC53577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F19C-D520-4647-95F9-0D3E3BA2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FAE49-9CCA-41C4-A2CA-F1E8D9CF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439BD-F1BA-4D28-8067-4CBAB255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1041D-B8C4-4C31-B806-62CFEBBA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49D28-A768-4BE6-B44B-F01B80A1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6E902-9A56-4C25-934A-ECA5F235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F952-4FDD-40AB-8746-0540C1E3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11749-6AC8-45CF-8316-7C38F390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448D4-1676-43FC-8513-8CF211F8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A895B-C306-4ADB-85D4-23BA3769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B7BEE-890A-4917-A282-DC71F712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8611D-0D0A-4460-AC2C-2D83B1C8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FA549-8352-4B4F-BCDF-1FFD052E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E6990-AD1A-460B-A5E5-CE87511B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110CB-6198-48D9-94E1-B2039D57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1E91A-272E-4D45-980D-7E802689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B931A-C994-42B5-BC62-12A78CE9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1BD9-9D22-4F12-83FC-F644C9E3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82275-4210-4F91-97C6-C75F7773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3A18E-72DA-4EC4-98DF-1C4BBAF9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F1CF8-05DA-44CF-B008-CAD34718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36A1E-C853-4C2E-B9C7-3512F6A6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446B2-448F-43B8-B97B-5C45C748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DC25A-31CC-4742-83AF-D81E4233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70632-E0B9-4045-8F81-092BAF59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816B7-F191-4DAE-9669-36FFB1F2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CD6A9-6E23-47CE-8A7A-3AFEAAA1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F3775-28C8-46BA-88DB-1E891D42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ECD6-9C88-4B58-A065-EEB2ED23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8BDC0-1856-4A62-9269-20DA7AC4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50E68-C17A-4C6F-9722-4A4B0A52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049D7-9233-4C35-8C0D-D4CE75AC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1A028-112F-4B66-9E60-F60D5517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8EBD0-30AC-41BF-A819-349D4E1F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181F2-2676-4249-A5AE-41B62CBA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6FED6-7D6D-4CFB-B06F-77EB3758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CCAD6-924E-4E48-9998-651E08A1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40486-59F1-483D-933B-15EF724C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DDF90-2196-4AB7-95DF-0BC4A971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F355-D957-430C-8E59-DF72A85E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29C91-5511-4A9C-AAD8-68E68A17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0BD6A-4454-4B03-9D87-E22BDC1B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80F7C-681B-4CC8-AA4C-6B0E22BB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6180D-89E9-47B6-8F6D-DB62EE40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E1578-7C30-4F95-A51A-B50C2131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F6998-9F37-4B29-A14D-A58CD1AC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3B132-B324-4B24-96F3-6DD916AB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C622D-CDBC-4D52-B39A-AE565F24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5A32F-D3BA-4427-B8F2-B4BB20EC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C562C-7A68-4BB6-8D22-EB508682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5979-D05F-4A1E-B2DB-EAEC577B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B5B34-7DE2-44F5-8500-88BF6BC7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74C75-9461-474F-AA81-742EFE26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F4DFC-0FF8-4DA6-A100-D0ECE22D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C69ED-1313-4CA7-8485-5A0048A9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BE0EA-1496-47E2-A4F5-EE092C49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B1D83-7D8C-498E-8408-B693B1B1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58879-AA09-4EC9-8176-D5B5C921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2857B-0B44-4782-AC6F-5676906C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1304B-D0B0-4A35-A3A0-3E210C91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20778-6A53-4487-A633-B83FB47E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BFCD-64A7-4933-965D-FAFE96BC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179F0-3A86-47C9-A288-EEBC2F81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5DA1A-02FF-4406-938A-A0470181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6B5D9-B766-4656-A95E-12EDFDCC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228FD-91EE-4DC1-ACB6-F8DBE9AD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D17DC-6219-4EAF-89C4-68336054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83F5C-51FC-416E-8801-827B9D6CE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BDF6C-BE71-4A6B-9A23-DCB42847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9634B-8700-4082-B214-B17EFEFF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C4599-828C-4219-AA7B-C5E86A70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2DEB9-B077-4B6F-8480-765504AA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C2E5-E0E6-4881-973D-004DA602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96105-A8F1-4117-BF29-7E2422A8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7E047-3716-4253-9F67-54D67444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C8331-14B5-42D9-B57A-A0839E1B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F6592-BE7A-4C80-9ED8-57B60059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4B8CA-A41D-43B0-9702-8E667FE7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DB7FD-60B5-4CD0-BA04-74E2D954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5070E-573F-4875-9237-67803812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B841F9-FBBA-4175-A41B-041EE96E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D39321-78E4-4952-A01F-E4A2E771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EAF9EE-DBCF-43A8-8465-66347483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A092-5707-4507-85EA-293623B127D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F2F2-0687-45CB-8830-01E46AFA1E4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C061-916D-4031-B576-FF1B0557A4E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C45C-1354-4634-81D5-FCF42486745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579D-83A9-4D1A-8FDA-3D4DEAE0B2A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3F84-E0C6-4EC5-8918-85910F49458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7BA9-68DC-4A40-85A7-F634B0D170A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B3CD-B910-407C-8D1F-D1F459E8BCD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4AD2-8008-4F78-BF9A-64D2652ED3F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3856-49CF-4525-99B4-3F6A98FF3AC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C313-6FB1-434C-9EB8-553C101B0F30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BF7E-7A1A-44A4-91C0-9873BF17921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d16349"/>
                </a:solidFill>
                <a:uFillTx/>
                <a:latin typeface="Georgia"/>
              </a:rPr>
              <a:t>Обучение написанию делового </a:t>
            </a:r>
            <a:br>
              <a:rPr sz="3800"/>
            </a:br>
            <a:r>
              <a:rPr b="0" lang="ru-RU" sz="3800" spc="-1" strike="noStrike" u="sng">
                <a:solidFill>
                  <a:srgbClr val="d16349"/>
                </a:solidFill>
                <a:uFillTx/>
                <a:latin typeface="Georgia"/>
              </a:rPr>
              <a:t>и личного письма на </a:t>
            </a:r>
            <a:br>
              <a:rPr sz="3800"/>
            </a:br>
            <a:r>
              <a:rPr b="0" lang="ru-RU" sz="3800" spc="-1" strike="noStrike" u="sng">
                <a:solidFill>
                  <a:srgbClr val="d16349"/>
                </a:solidFill>
                <a:uFillTx/>
                <a:latin typeface="Georgia"/>
              </a:rPr>
              <a:t>английском языке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Подзаголовок 2"/>
          <p:cNvSpPr/>
          <p:nvPr/>
        </p:nvSpPr>
        <p:spPr>
          <a:xfrm>
            <a:off x="2484360" y="3284640"/>
            <a:ext cx="6400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Georgia"/>
              </a:rPr>
              <a:t>АВТО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Georgia"/>
              </a:rPr>
              <a:t>ЩЕРБАКОВА ЮЛИЯ СЕРГЕЕ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Georgia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Georgia"/>
              </a:rPr>
              <a:t>МБОУ СОШ №2 ИМ. А.АСЕЕВА И Ю.ГОЛ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114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Основной текст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должен быть помещен в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центральной части письм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just">
              <a:lnSpc>
                <a:spcPct val="114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Главная мысль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исьма может начинаться с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причины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обращения: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"I am writing to you to ..."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just">
              <a:lnSpc>
                <a:spcPct val="114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бычно письмо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заканчивается высказыванием благо-дарности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 ("Thank you for your prompt help...") и приветст-вием "Yours sincerely," если автор знает имя адресата и “Yours faithfully”, если нет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just">
              <a:lnSpc>
                <a:spcPct val="114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Четырьмя строками ниже ставится полное имя автора и должность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just">
              <a:lnSpc>
                <a:spcPct val="114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дпись автора ставится между приветствием и именем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Georgia"/>
              </a:rPr>
              <a:t>Образец делового письма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ABC-company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Office 2002, Entrance 1B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verskaya Street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Moscow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20 June 2004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Dear Nikolay,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I'm writing to you in regard of your enquiry. Please find enclosed our information pack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which contains our brochures and general details on our schools and summer centres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In England we have two schools, Brighton and Bath, both beautiful locations which I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am  sure  you  and  your  students  will  like.  Our  schools  are  located  in  attractive  premises  in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onvenient,  central  positions.  Brighton  is  a  clean  and  safe  town  with  a  beautiful  bay  and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ountryside nearby. Bath is one of the most famous historic cities in England, famous for its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Georgian architecture and Roman Baths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Accommodation is provided in host families chosen for the ability to provide comfortable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homes, a friendly welcome and a suitable environment, in which students can practice English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and enjoy their stay. We have full-time Activities Organisers responsible for sports, cultural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activities and weekly excursions.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Please  complete  and  return  the  enclosed  registration  form  in  order  to  receive  more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brochures and other promotional materials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I look forward to hearing from you and later hope to welcome your students to our schools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and summer centres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Yours sincerely,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omas Green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Managing Director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Georgia"/>
              </a:rPr>
              <a:t>Существуют  стандартные  выражения,  часто  употребляемые  в  деловой  переписке на английском языке, использование которых, придаст вежливый и официальный тон вашему посланию</a:t>
            </a:r>
            <a:endParaRPr b="0" lang="en-US" sz="1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1.  Обращ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ear Sirs, Dear Sir or Madam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сли вам неизвестно имя адресата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ear Mr, Mrs, Miss or M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сли  вам  известно  имя  адресата;  в  том случае 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когда  вы  не  знаете  семейное положение  женщины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ледует  писать 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M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грубой  ошибко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является  использование фразы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Mrs or Miss”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ear Frank,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обращении к знакомому человеку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2. Вступление, предыдущее общение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Thank you for your e-mail of (date)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пасибо за ваше письмо от (числа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Further to your last e-mail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твечая на ваше письмо…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I apologize for not getting in contact with you</a:t>
            </a: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before now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Я  прошу  прощения,  что  до  сих  пор  не написал вам…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Thank you for your letter of the 5th of March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пасибо за ваше письмо от 5 Марта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With reference to your letter of 23rd March</a:t>
            </a: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тносительно вашего письма от 23 Марта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With reference to your advertisement in «The</a:t>
            </a: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Times»</a:t>
            </a: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тносительно вашей рекламы в Таймс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3.Указание причин написания письм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I am writing to enquire about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Я пишу вам, чтобы узнать…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I am writing to apologize for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Я пишу вам, чтобы извиниться за…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I am writing to confirm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Я пишу вам, что бы подтвердить…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I am writing in connection with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Я пишу вам в связи с…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We would like to point out that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Мы  хотели  бы  обратить  ваше  внимание на ..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4. Просьб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Could you possibly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е могли бы вы…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I would be grateful if you could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Я был бы признателен вам, если бы вы ..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I would like to receive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Я бы хотел получить..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Please could you send me…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е могли бы вы выслать мне…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5. Соглашение с условиями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I would be delighted to …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был бы рад 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I would be happy to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был бы счастлив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I would be glad to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был бы рад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6. Сообщение плохих новостей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Unfortunately …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 сожалению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I am afraid that …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оюсь, что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I am sorry to inform you that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не тяжело сообщать вам, но 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We regret to inform you that…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  сожалению,  мы  вынуждены  сообщить вам о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7. Приложение к письму дополнительных материалов</a:t>
            </a:r>
            <a:endParaRPr b="0" lang="en-US" sz="2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We are pleased to enclose.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ы с удовольствием вкладываем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Attached you will find.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прикрепленном файле вы найдете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We enclose.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ы прилагаем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Please find attached (for e-mails)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ы найдете прикрепленный файл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8. Высказывание благодарности за проявленный интерес</a:t>
            </a:r>
            <a:endParaRPr b="0" lang="en-US" sz="2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Thank you for your letter of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пасибо за ваше письм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Thank you for enquiring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пасибо за проявлен-ный интере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We would like to thank you for your letter of 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ы хотели бы поблагодарить вас за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Теоретические предпосылки обучения учащихся элементам делового и личного письма на английском языке</a:t>
            </a:r>
            <a:endParaRPr b="0" lang="en-US" sz="1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14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Существует комплекс объективных и субъективных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причин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, который выдвигает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задачу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подготовки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учащихся старших классов к деловому общению на иностранном языке в целом и в письменной форме, в частности, в число наиболее актуальных. В качестве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основных причин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можно выделить следующие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114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114000"/>
              </a:lnSpc>
              <a:spcBef>
                <a:spcPts val="476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Школьники старших классов готовятся к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профессиональному самоопределению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114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114000"/>
              </a:lnSpc>
              <a:spcBef>
                <a:spcPts val="476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старшем школьном возрасте происходит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активное социальное формирование личности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, вступление молодых людей в мир взрослых отношений,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столкновение с законами рынка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9. Переход к другой теме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We would also like to inform you.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ы так же хотели бы сообщить вам о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Regarding your question about...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тносительно вашего вопроса о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In answer to your question (enquiry) about.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ответ на ваш вопрос о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I also wonder if.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еня так же интересует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10. Дополнительные вопросы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I am a little unsure about.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немного не уверен в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I do not fully understand what.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не до конца понял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Could you possibly explain.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е могли бы вы объяснить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11. Передача информации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I'm writing to let you know that.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пишу, чтобы сообщить о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We are able to confirm to you.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ы можем подтвердить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I am delighted to tell you that.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ы с удоволь-ствием сообщаем о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We regret to inform you that.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  сожалению,  мы  вынуждены  сообщить вам о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12. Предложение своей помощи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Would you like me to...?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Могу ли я (сделать)...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If you wish, I would be happy to.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Если хотите, я с радостью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Let me know whether you would like me to.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ообщите,  если  вам  понадобится  моя помощь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13. Напоминание о намеченной встрече или ожидании ответа</a:t>
            </a:r>
            <a:endParaRPr b="0" lang="en-US" sz="2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I look forward to.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с нетерпением жд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hearing from you soon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гда смогу снова услышать ва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meeting you next Tuesday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стречи с вами в следующий Вторни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seeing you next Thursday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стречи с вами в Четверг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14. Подпись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Kind regards,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 уважением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Yours faithfully,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скренне Ваш, (если имя человека Вам не известно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Yours sincerely,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(если имя Вам известно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Правила оформления и структура письма личного характера</a:t>
            </a:r>
            <a:endParaRPr b="0" lang="en-US" sz="2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01320" y="1527120"/>
            <a:ext cx="85042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труктуру личного или неформального письма на английском языке в наиболее полном ее виде можно представить следующим образом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348120">
              <a:spcBef>
                <a:spcPts val="550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адрес отправителя (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sender's address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348120">
              <a:spcBef>
                <a:spcPts val="550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дата (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date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348120">
              <a:spcBef>
                <a:spcPts val="550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бращение (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salutation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348120">
              <a:spcBef>
                <a:spcPts val="550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ступление (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opening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sentence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348120">
              <a:spcBef>
                <a:spcPts val="550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сновная часть или тело письма (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body of the letter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)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348120">
              <a:spcBef>
                <a:spcPts val="550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заключение (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closing sentence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348120">
              <a:spcBef>
                <a:spcPts val="550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заключительная вежливая фраза (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complimentary close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348120">
              <a:spcBef>
                <a:spcPts val="550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дпись (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signature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)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348120">
              <a:spcBef>
                <a:spcPts val="550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риписка (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P. S. или Postscript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188640"/>
            <a:ext cx="85345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 u="sng">
                <a:solidFill>
                  <a:srgbClr val="000000"/>
                </a:solidFill>
                <a:uFillTx/>
                <a:latin typeface="Georgia"/>
              </a:rPr>
              <a:t>Во вступлении можно написать о причине обращения, сослаться на предыдущее письмо, поблагодарить за что-нибудь (за ответ, за внимание и   т. п.). Вступление, как правило, оформляется одним предложением:</a:t>
            </a:r>
            <a:endParaRPr b="0" lang="en-US" sz="1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Thank you for your letter concerning…</a:t>
            </a: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- спасибо за твое письмо, касающееся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I appreciate your…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- я высоко ценю твою...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I am writing you because…</a:t>
            </a: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- я пишу тебе потому, что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Please forgive me for troubling you…</a:t>
            </a: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- пожалуйста, прости меня за беспокойство...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I received your letter…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- я получил от тебя письмо...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Georgia"/>
              </a:rPr>
              <a:t>В структуре письма на английском языке большую часть текста занимает основная часть.</a:t>
            </a:r>
            <a:br>
              <a:rPr sz="1300"/>
            </a:b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Georgia"/>
              </a:rPr>
              <a:t>В основной части пишется сама суть обращения, главная мысль. </a:t>
            </a:r>
            <a:br>
              <a:rPr sz="1300"/>
            </a:b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Georgia"/>
              </a:rPr>
              <a:t>В заключительной фразе пишите о том, что ждёте ответа, или чего-нибудь пожелайте:</a:t>
            </a:r>
            <a:endParaRPr b="0" lang="en-US" sz="1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Please write soon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- пожалуйста напиши скорее 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I would appreciate an early reply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- буду признателен за скорый отве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Let me know what you decide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- дай мне знать, что ты решиш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I hope you will have a very nice holiday</a:t>
            </a: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- надеюсь, у тебя будет хороший выходной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исьмо завершается и подписывается: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Sincerely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- искренн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Sincerely yours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- искренне тв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Truly yours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- с уважение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 algn="just">
              <a:lnSpc>
                <a:spcPct val="104000"/>
              </a:lnSpc>
              <a:spcBef>
                <a:spcPts val="624"/>
              </a:spcBef>
              <a:buClr>
                <a:srgbClr val="000000"/>
              </a:buClr>
              <a:buSzPct val="8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Учащиеся школ имеют меньше возможностей устного общения на иностранном языке, чем в письменном виде, например через систему </a:t>
            </a: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Internet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493560" indent="-493560" algn="just">
              <a:lnSpc>
                <a:spcPct val="104000"/>
              </a:lnSpc>
              <a:spcBef>
                <a:spcPts val="624"/>
              </a:spcBef>
              <a:buClr>
                <a:srgbClr val="000000"/>
              </a:buClr>
              <a:buSzPct val="8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Многие из школьников готовятся сдавать единый </a:t>
            </a: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государственный экзамен (ЕГЭ),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экзамены (КЕТ, PET, САЕ, FCE, ВЕС и др.) для получения международного сертификата по английскому языку, задания которых предусматривают разностороннее владение иностранным языком, в том числе и умением делового письма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Список литератур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6760"/>
            <a:ext cx="850428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74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Басс Э. М. Научная и деловая корреспонденция. Английский язык. / Каф. иностранных языков АН СССР. М.: Наука, 1991 - 176 с. 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374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Бедросова Г. Г. Обучение письму как одному из форм коммуникации: Автореф. дис. канд. пед. наук М., 1979 - 19 с.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374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Казарицкая Т. А. Проблемы содержания обучения письму в языковом вузе. / Методы и организация обучения иностранному языку в языковом вузе. - М., 1991 - С. 63-74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374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Кононенко И. О. Подготовка старшеклассников к деловому общению.: Дис. канд. пед. наук. Красноярск, 1995 - 187 с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374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Мелех И. Я. Как пишут письма на английском языке. Пособие по самообразованию. М.: Высш. ж,, 1993 - 80 с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374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Настольная книга секретаря-референта. Контракты, деловая корреспонденция на английском и русском языках. Составлено Н. А. Самуэльян. — М.: Менеджер, 1997 224 с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374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Павлова И. В. Преподавание курса делового английского языка в старших классах школ с углубленным изучением иностранного языка: Дис. канд. пед. наук. М., 2000 - 156 с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374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Пассов Е.И. Основы коммуникативной методики обучения иностранному общению. М.: Русский язык, 1989. - 276 с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374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Салтовская Г. Н. Приемы развития коммуникативных умений иноязычного письма на старшем этапе школы-гимназии / Обучение иноязычным компетенциям. Сб. науч. статей. Пятигорск: Изд-во ПГЛУ. - 2002 - С. 78-84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14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Проект Федерального компонента государствен-ного образовательного стандарта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общего образова-ния предъявляет 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высокие требования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к уровню подготовки выпускников 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в области письменной речи на иностранном языке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, тем самым, отражая новые тенденции, происходящие в современной жизни. Так, базовый уровень предполагает «написание личного и делового письма, письма-заявки (например, на курс обучения), заполнения различного вида анкет, формуляров ... в форме, принятой в стране изучаемого языка». [Федеральный компонент 2002:29]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Язык, стиль, культура оформления делового письма</a:t>
            </a:r>
            <a:endParaRPr b="0" lang="en-US" sz="2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14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Официально-деловой стиль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выражается такими основными признаками как 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стандартизированность, официальность, ясность, эффективность, вежливость, логическая последовательность, завершенность, отсутствие эмоциональной окрашенности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14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Деловое письмо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отличается 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четкой структурой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, определенным 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набором реквизитов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стабильным расположением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каждого из них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14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Язык делового письма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тличается от языка других письменных текстов как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на лексико-грамматическом, так и на синтаксическом уровня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Главным конституирующим фактором текста деловой переписки является его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коммуника-тивное назначени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 u="sng">
                <a:solidFill>
                  <a:srgbClr val="000000"/>
                </a:solidFill>
                <a:uFillTx/>
                <a:latin typeface="Georgia"/>
              </a:rPr>
              <a:t>Разные типы деловых писем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75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исьмо-поздравление –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Letter of Congratulatio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исьмо-приглашение –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Letter of Invitatio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исьмо о приёме на работу –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Letter of Acceptanc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исьмо-заявление –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Application lett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исьмо-предложение –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Commercial Off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исьмо-жалоба –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Letter of Complain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675"/>
              </a:spcBef>
              <a:buClr>
                <a:srgbClr val="000000"/>
              </a:buClr>
              <a:buSzPct val="85000"/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исьмо-запрос, требование –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Enquiry Lett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75"/>
              </a:spcBef>
              <a:buClr>
                <a:srgbClr val="000000"/>
              </a:buClr>
              <a:buSzPct val="85000"/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исьмо-ответ на запрос –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Reply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(Quotation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75"/>
              </a:spcBef>
              <a:buClr>
                <a:srgbClr val="000000"/>
              </a:buClr>
              <a:buSzPct val="85000"/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исьмо-встречное предложение –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Counter –proposal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75"/>
              </a:spcBef>
              <a:buClr>
                <a:srgbClr val="000000"/>
              </a:buClr>
              <a:buSzPct val="85000"/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исьмо-заказ –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Ord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75"/>
              </a:spcBef>
              <a:buClr>
                <a:srgbClr val="000000"/>
              </a:buClr>
              <a:buSzPct val="85000"/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твет на заказ -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Response to Ord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75"/>
              </a:spcBef>
              <a:buClr>
                <a:srgbClr val="000000"/>
              </a:buClr>
              <a:buSzPct val="85000"/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чёт-фактура –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Invoic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75"/>
              </a:spcBef>
              <a:buClr>
                <a:srgbClr val="000000"/>
              </a:buClr>
              <a:buSzPct val="85000"/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исьмо-отчёт (из банка), счёт –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Statemen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Georgia"/>
              </a:rPr>
              <a:t>Составление  любого  делового  письма  на  английском  языке  подчиняется  общим правилам: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14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есь текст разделяется на абзацы без использования красной строк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14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верхнем левом углу письма указывается полное имя отправителя или название компании с адресо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14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алее  указывается  имя  адресата  и  название  компа-нии,  которой  письмо предназначено, а также ее адрес (с новой строки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14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ата отправления указывается тремя строками ниже или в верхнем правом углу письм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12:28:33Z</dcterms:created>
  <dc:creator>Шаройков</dc:creator>
  <dc:description/>
  <dc:language>en-US</dc:language>
  <cp:lastModifiedBy>документы</cp:lastModifiedBy>
  <dcterms:modified xsi:type="dcterms:W3CDTF">2016-12-15T12:10:28Z</dcterms:modified>
  <cp:revision>25</cp:revision>
  <dc:subject/>
  <dc:title>Обучение написанию делового  и личного письма на  английском языке</dc:title>
</cp:coreProperties>
</file>