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0FF-2622-4C62-A570-6ED3BEB5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294-8F04-4024-A669-940121E2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897BFD-3977-4F79-BED4-321146AE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163E4C-BCF2-4B0B-B363-8A966FB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7A482-06A0-44F7-8FDD-8421A9D0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7F68E-D6EA-4686-9A4D-0F6471E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4B463-D93B-4BA1-BCBE-F9DD084C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F742CC-1B72-458A-80BA-AF51CEF1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E7AF8-B73C-4C72-8FF5-B50AFF9D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5C0427-7BCF-49D5-827B-0BBACEB5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B31E7-858B-47CB-9A8F-88FC4A45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6EA7B-9106-441C-AF9C-3EEDCB53C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A83-A7CE-48A0-BDA1-AC10F0056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C43B0-1F52-4804-B170-DB4A4B4A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05019-BAD6-4605-B794-48A5D764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B158C-0AC5-4D86-BB52-B2FC1765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F778E-298B-4918-9629-578E583B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85503-A1BF-4DB3-BB65-1CC4D98C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5E1B1B-6F72-4535-8DE0-5F28FE31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9358D6-F610-42CF-A3C2-5A4FD735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96EA82-C55D-4A62-845E-760D300A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2BA7B2-9D86-4EDA-AD65-7A97D1A7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57C79-9E6E-416C-ACF0-A4D2C701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BD1-3CEF-45D0-8A7F-3D8A807E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AC13CA-DEB5-4BA8-9E56-0394FF0CC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194AE-A785-4906-980D-4F2945A9A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46190-93F5-4EB4-91A8-64E4491F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9837E-CB0B-4533-9847-4AB7B1F3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5F6BD-2196-4BEB-A11F-EF746EBA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34318-BAF2-47D5-A10C-32EC24FB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AEA2C-98FB-4AE7-BF18-AEB6CF16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37495-DC91-4C09-9C77-6C9322FE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56A0F-36D8-45DB-9DD6-B3D4D294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D1CBB4-B523-4D26-9A95-81F2D1CC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B694-3E36-473C-8D97-EBC134CC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E4B6D-E339-48F1-91D6-98B87DE4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CE066-1DC7-4DAB-8FDB-12E14569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7831A-C54B-4359-A419-3E8AB8B4B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732E62-868B-47FB-92BA-9D13249C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19413-6F8B-4947-A335-A3B26ABD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203D5F-9A73-423A-B0DA-250E16B4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09A32-77B7-4FEA-B1DE-3FBAA94A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F5A1FF-3CA2-4B3C-9D08-C2690D45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33C9D2-61EC-4F8E-A43E-63B05544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56FA82-4AB4-4A0B-8EC4-11B8D74A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013D-28AA-4D13-B153-FCBC766D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031BC2-D6D1-41CC-A8B0-5840F34E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8FC6C-E69D-4385-A9DC-3B77A341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AC08DC-22D7-48CF-BBE4-E33FB855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10391-C712-4F80-AD18-E494282B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8F52C-ADF7-486F-A04E-C32655AC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E0C6-4656-494E-A2D4-9CB6F603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94DA-2824-4682-9806-56FE97BC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C765-1EEA-4C3C-B5F7-B395C803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D9EF-22BC-4AD9-B261-7B494995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47B5-BA19-4E61-AFC6-866FC110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D63-0CA7-4F5E-A6AC-666F3EECE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A61F5-B1B4-4093-BF93-0635292B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C467-5DA8-46B5-83D3-EDEEDA27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BF62-0014-4270-8690-270CDBAE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23B2-41DC-4F3B-9641-734BD13B7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CF69-5A94-4CC8-AEDD-23C5E38D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F0E4-9F7E-4C86-89A8-32128467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EBB3F-83B9-4B4B-B49D-7ACAC369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60178-54D8-4EC5-9CA4-6A15F18F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8A3EC-1179-4710-A494-D0C612C0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A7FE7-37F1-401F-983A-BFFAEC64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02D-D9AB-491C-993E-B6CB39D0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F39D4-FC19-4B74-AAEC-B510D45D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BD11D-FE7C-4188-8E9B-E040AD1A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8B3B9-E0CF-4899-9459-CF9EB5A0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99210-945D-4FE9-A0C4-65D5B088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9E6A1-68F6-4116-B08B-5C5F98A2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37BF5-E3E9-47C3-9FFB-43C41CEF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0EEC5-1E9C-48D1-ADC5-D8CB8338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5C763-B634-44FF-A17F-C3359E9C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5F02B-467C-42AE-8930-1467C960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F1BE0-4D84-4495-A49B-64C629EF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E345-7B0C-4712-8464-8D68DBF8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68C2-3B8C-4424-BA79-22C87E72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84DAC-C450-40E8-97CE-9667729F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053FE-42C4-4DE6-862E-09C8094A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D0C59-95D2-4BA4-9805-BB4BC085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12612-052E-4B4C-A282-A931C5C1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07881-962F-4261-A845-83DBA8F6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30957-9FD9-4E6E-8FE7-DC17ABA7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945EF-5075-4D4A-A424-B3EE7F08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1D284-43B7-4950-8F8D-FBC42CF7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53F5C-0233-46C6-A3BA-0F967F1F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9A36-B529-4339-A18E-08C9C6B1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94B91-C1C4-41E3-A7C0-B4C51D46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ACCFC-637F-4AD9-85F9-57B2007E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98BBF-1B97-4E8C-AC58-D2A9F88F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DD3E8-8029-4334-A8B7-FF95F27E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747FF-1B5B-416D-B391-CF25DA97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5729E-377D-4655-88B7-0F854911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DCE62-C7A8-4EDC-9A98-0A496044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CB87-B21B-4705-9556-F75A504B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2489A-03AC-48D3-887F-26CC588D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A564C-0C19-4216-A32E-08D340B3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F32-F9B5-4A85-869D-759E8B76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2CA21-7F30-46F6-958C-49B69A98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E3E72-2D3F-465B-B567-94ED36F46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54E65-A083-4BDB-9ED3-64292560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A20E0-A33E-4A2B-9DCA-5A762B3F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4F578-77D4-4778-88BD-0D13E610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24DBF-D6A8-44D5-A406-6EAB9B27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C56CA-FA98-4638-82A7-D330D044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DD55D-A658-4176-A4E1-E1540172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F8CDB-8D60-46FF-9692-AC5AD546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052F1-B4ED-43B5-901B-52E2A35E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82D-F512-42CF-A7CF-D3C67C85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19EFC-5601-4580-99CD-048E6349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6E898-9D2F-45D2-A7CA-AE5C5EE3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2DA23-7EDC-407E-A895-3E2AFC9E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E311A-66D1-4A8D-888A-9DA2B662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4E0A8-3D0E-4227-AC58-A1AB4588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2D0CC-1169-4591-9DFC-8DF648AC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F0746-14C8-4079-BAFB-2B2009E6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D78D4-9AD3-4DA4-BBBC-AF1EFA7D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EA580-45E8-466E-B27B-B4DF55BB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EAD91-ACB2-4F3B-8662-DCB8D278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FDF1-97A4-40B3-AD79-D88E2E24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E14DB-9835-4059-B201-A0A4D7F4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573C2-62F6-4FFB-962B-8BC5A4AC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BF41A-1D0D-4105-85BF-432A5F2B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D656D-BF05-472B-A270-9520E6B1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69E03-4C08-4700-975B-20D95AA8D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1D3C5-16B2-4592-8D9A-38F849E21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71D162-C143-4CEB-B130-E86CA843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33283-C35B-4773-AABB-7B145A8C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E875A-1E4C-4347-A104-BC84A2A7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5CB52-F4C2-44FB-8C68-1FD15A91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EAE-8E93-4173-925A-404CA6C6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C4F40-5AD7-45FD-9EF0-983EB786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3397F-7E1D-44F1-A2B5-DF87466A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567B8-EE13-4736-A8A4-50212CCF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EDA05-351E-4270-8C52-DE48AAA2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C91BC-32E8-4000-B92C-07297238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5D3AE-42D1-4A22-9F31-3038631A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64BD0-6BF7-47A4-8161-8C609AE11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E0E3B-8982-4A65-9415-10825AC1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71E14A-35B3-4EAF-9075-C7DECDAF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24A1A-6FD7-4A89-BBF9-9DD70405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2D1F-8A21-442C-AF8D-1A227C317FD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1047-028C-4D88-A2B1-083C594C5F3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B909-F6AF-4AC8-9BCA-2A2A727E990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A71E-67E6-47F8-93A5-1FA703B306A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4D801-F020-4CCE-AD5C-2D60419DF3E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FCFC-CB45-409B-84EF-E2D92F6751B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4368-158C-41E9-BE6D-58A7E464DCF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B108-6A36-42EB-A0E6-D5102E71D97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8928-E3CA-4C9E-A357-B10C57FA91E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4818-E16D-46D0-AE1E-8273AD90F25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51F7-C5F4-4AD9-9523-483F20782B83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4377-D823-43E7-98AF-32123031076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d16349"/>
                </a:solidFill>
                <a:uFillTx/>
                <a:latin typeface="Georgia"/>
              </a:rPr>
              <a:t>Обучение написанию делового </a:t>
            </a:r>
            <a:br>
              <a:rPr sz="3800"/>
            </a:br>
            <a:r>
              <a:rPr b="0" lang="ru-RU" sz="3800" spc="-1" strike="noStrike" u="sng">
                <a:solidFill>
                  <a:srgbClr val="d16349"/>
                </a:solidFill>
                <a:uFillTx/>
                <a:latin typeface="Georgia"/>
              </a:rPr>
              <a:t>и личного письма на </a:t>
            </a:r>
            <a:br>
              <a:rPr sz="3800"/>
            </a:br>
            <a:r>
              <a:rPr b="0" lang="ru-RU" sz="3800" spc="-1" strike="noStrike" u="sng">
                <a:solidFill>
                  <a:srgbClr val="d16349"/>
                </a:solidFill>
                <a:uFillTx/>
                <a:latin typeface="Georgia"/>
              </a:rPr>
              <a:t>английском языке</a:t>
            </a:r>
            <a:endParaRPr b="0" lang="en-US" sz="3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Подзаголовок 2"/>
          <p:cNvSpPr/>
          <p:nvPr/>
        </p:nvSpPr>
        <p:spPr>
          <a:xfrm>
            <a:off x="2484360" y="3284640"/>
            <a:ext cx="6400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Georgia"/>
              </a:rPr>
              <a:t>АВТОР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Georgia"/>
              </a:rPr>
              <a:t>ЩЕРБАКОВА ЮЛИЯ СЕРГЕ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Georgia"/>
              </a:rPr>
              <a:t>УЧИТЕЛЬ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Georgia"/>
              </a:rPr>
              <a:t>МБОУ СОШ №2 ИМ. А.АСЕЕВА И Ю.ГОЛ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14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сновной текст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олжен быть помещен в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центральной части письма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114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Главная мысль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исьма может начинаться с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причины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обращения: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"I am writing to you to ..."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114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бычно письмо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заканчивается высказыванием благо-дарности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  ("Thank you for your prompt help...") и приветст-вием "Yours sincerely," если автор знает имя адресата и “Yours faithfully”, если нет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114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Четырьмя строками ниже ставится полное имя автора и должность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 algn="just">
              <a:lnSpc>
                <a:spcPct val="114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дпись автора ставится между приветствием и именем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Georgia"/>
              </a:rPr>
              <a:t>Образец делового письма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BC-company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Office 2002, Entrance 1B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verskaya Street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Moscow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20 June 2004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Dear Nikolay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'm writing to you in regard of your enquiry. Please find enclosed our information pack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which contains our brochures and general details on our schools and summer centres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n England we have two schools, Brighton and Bath, both beautiful locations which I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m  sure  you  and  your  students  will  like.  Our  schools  are  located  in  attractive  premises  in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nvenient,  central  positions.  Brighton  is  a  clean  and  safe  town  with  a  beautiful  bay  and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countryside nearby. Bath is one of the most famous historic cities in England, famous for its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Georgian architecture and Roman Baths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ccommodation is provided in host families chosen for the ability to provide comfortable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homes, a friendly welcome and a suitable environment, in which students can practice English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nd enjoy their stay. We have full-time Activities Organisers responsible for sports, cultural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ctivities and weekly excursions.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lease  complete  and  return  the  enclosed  registration  form  in  order  to  receive  more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brochures and other promotional materials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I look forward to hearing from you and later hope to welcome your students to our schools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and summer centres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Yours sincerely,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omas Green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Managing Director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Georgia"/>
              </a:rPr>
              <a:t>Существуют  стандартные  выражения,  часто  употребляемые  в  деловой  переписке на английском языке, использование которых, придаст вежливый и официальный тон вашему посланию</a:t>
            </a:r>
            <a:endParaRPr b="0" lang="en-US" sz="17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1.  Обращени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ear Sirs, Dear Sir or Madam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вам неизвестно имя адресата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ear Mr, Mrs, Miss or M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если  вам  известно  имя  адресата;  в  том случае  </a:t>
            </a: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когда  вы  не  знаете  семейное положение  женщины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следует  писать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грубой  ошибкой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 является  использование фразы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Mrs or Miss”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Dear Frank,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обращении к знакомому человеку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2. Вступление, предыдущее общени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320" y="1527120"/>
            <a:ext cx="8504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Thank you for your e-mail of (date)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пасибо за ваше письмо от (числа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Further to your last e-mail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вечая на ваше письмо…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I apologize for not getting in contact with you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before now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…</a:t>
            </a: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Я  прошу  прощения,  что  до  сих  пор  не написал вам…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Thank you for your letter of the 5th of March</a:t>
            </a:r>
            <a:r>
              <a:rPr b="0" i="1" lang="en-US" sz="22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пасибо за ваше письмо от 5 Март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With reference to your letter of 23rd March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носительно вашего письма от 23 Марта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With reference to your advertisement in «The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Georgia"/>
              </a:rPr>
              <a:t>Times»</a:t>
            </a:r>
            <a:r>
              <a:rPr b="1" i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тносительно вашей рекламы в Таймс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3.Указание причин написания письм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I am writing to enquire about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Я пишу вам, чтобы узнать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I am writing to apologize for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Я пишу вам, чтобы извиниться за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I am writing to confirm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Я пишу вам, что бы подтвердить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I am writing in connection with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Я пишу вам в связи с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We would like to point out that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Мы  хотели  бы  обратить  ваше  внимание на ..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4. Просьб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Could you possibly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е могли бы вы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I would be grateful if you could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…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Я был бы признателен вам, если бы вы ..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Georgia"/>
              </a:rPr>
              <a:t>I would like to receive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Я бы хотел получить..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Please could you send me…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Не могли бы вы выслать мне…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5. Соглашение с условиями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I would be delighted to …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ыл бы рад 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I would be happy to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ыл бы счастлив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I would be glad to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был бы рад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6. Сообщение плохих новостей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Unfortunately …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сожалению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am afraid that …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Боюсь, что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am sorry to inform you that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не тяжело сообщать вам, но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regret to inform you that…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 сожалению,  мы  вынуждены  сообщить вам о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7. Приложение к письму дополнительных материалов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are pleased to enclose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с удовольствием вкладываем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Attached you will find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прикрепленном файле вы найдете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enclose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прилагаем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Please find attached (for e-mails)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ы найдете прикрепленный файл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8. Высказывание благодарности за проявленный интерес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Thank you for your letter of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пасибо за ваше письмо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Thank you for enquiring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пасибо за проявлен-ный интере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would like to thank you for your letter of 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хотели бы поблагодарить вас за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Теоретические предпосылки обучения учащихся элементам делового и личного письма на английском языке</a:t>
            </a:r>
            <a:endParaRPr b="0" lang="en-US" sz="1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14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уществует комплекс объективных и субъективных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ричин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, который выдвигает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задачу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одготовки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учащихся старших классов к деловому общению на иностранном языке в целом и в письменной форме, в частности, в число наиболее актуальных. В качестве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основных причин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можно выделить следующие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114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114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Школьники старших классов готовятся к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рофессиональному самоопределению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114000"/>
              </a:lnSpc>
              <a:spcBef>
                <a:spcPts val="476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lnSpc>
                <a:spcPct val="114000"/>
              </a:lnSpc>
              <a:spcBef>
                <a:spcPts val="476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старшем школьном возрасте происходит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активное социальное формирование личности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, вступление молодых людей в мир взрослых отношений,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столкновение с законами рынка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9. Переход к другой тем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would also like to inform you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так же хотели бы сообщить вам о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Regarding your question about..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носительно вашего вопроса о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n answer to your question (enquiry) about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ответ на ваш вопрос о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also wonder if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еня так же интересует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10. Дополнительные вопросы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am a little unsure about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немного не уверен в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do not fully understand what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не до конца понял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Could you possibly explain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Не могли бы вы объяснить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11. Передача информации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'm writing to let you know that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пишу, чтобы сообщить о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are able to confirm to you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можем подтвердить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am delighted to tell you that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ы с удоволь-ствием сообщаем о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We regret to inform you that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  сожалению,  мы  вынуждены  сообщить вам о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12. Предложение своей помощи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Would you like me to...?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Могу ли я (сделать)...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f you wish, I would be happy to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Если хотите, я с радостью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Let me know whether you would like me to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общите,  если  вам  понадобится  моя помощь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13. Напоминание о намеченной встрече или ожидании ответа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look forward to...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Я с нетерпением жду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hearing from you soon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огда смогу снова услышать вас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meeting you next Tuesday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стречи с вами в следующий Вторник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seeing you next Thursday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стречи с вами в Четверг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14. Подпись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Kind regards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 уважением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Yours faithfully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скренне Ваш, (если имя человека Вам не известно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Yours sincerely,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(если имя Вам известно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Правила оформления и структура письма личного характера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01320" y="1527120"/>
            <a:ext cx="85042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труктуру личного или неформального письма на английском языке в наиболее полном ее виде можно представить следующим образом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адрес отправителя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sender's address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дата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date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бращение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salutation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ступление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opening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sentence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основная часть или тело письма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body of the letter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заключение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closing sentence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заключительная вежливая фраза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complimentary close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одпись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signature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 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indent="348120">
              <a:spcBef>
                <a:spcPts val="550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приписка (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P. S. или Postscript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1320" y="188640"/>
            <a:ext cx="8534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Georgia"/>
              </a:rPr>
              <a:t>Во вступлении можно написать о причине обращения, сослаться на предыдущее письмо, поблагодарить за что-нибудь (за ответ, за внимание и   т. п.). Вступление, как правило, оформляется одним предложением:</a:t>
            </a:r>
            <a:endParaRPr b="0" lang="en-US" sz="1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Thank you for your letter concerning…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спасибо за твое письмо, касающееся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I appreciate your…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я высоко ценю твою...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am writing you because…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я пишу тебе потому, что..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Please forgive me for troubling you…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пожалуйста, прости меня за беспокойство...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I received your letter…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я получил от тебя письмо...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928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Georgia"/>
              </a:rPr>
              <a:t>В структуре письма на английском языке большую часть текста занимает основная часть.</a:t>
            </a:r>
            <a:br>
              <a:rPr sz="1300"/>
            </a:b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Georgia"/>
              </a:rPr>
              <a:t>В основной части пишется сама суть обращения, главная мысль. </a:t>
            </a:r>
            <a:br>
              <a:rPr sz="1300"/>
            </a:br>
            <a:r>
              <a:rPr b="1" i="1" lang="ru-RU" sz="1300" spc="-1" strike="noStrike" u="sng">
                <a:solidFill>
                  <a:srgbClr val="000000"/>
                </a:solidFill>
                <a:uFillTx/>
                <a:latin typeface="Georgia"/>
              </a:rPr>
              <a:t>В заключительной фразе пишите о том, что ждёте ответа, или чего-нибудь пожелайте:</a:t>
            </a:r>
            <a:endParaRPr b="0" lang="en-US" sz="1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Please write soon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пожалуйста напиши скорее 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would appreciate an early reply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 буду признателен за скорый ответ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Let me know what you decide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 дай мне знать, что ты решиш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eorgia"/>
              </a:rPr>
              <a:t>I hope you will have a very nice holiday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надеюсь, у тебя будет хороший выходной 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исьмо завершается и подписывается: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Sincerely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- искренне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Sincerely yours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искренне тво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Truly yours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- с уважением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 algn="just">
              <a:lnSpc>
                <a:spcPct val="104000"/>
              </a:lnSpc>
              <a:spcBef>
                <a:spcPts val="624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чащиеся школ имеют меньше возможностей устного общения на иностранном языке, чем в письменном виде, например через систему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Internet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 algn="just">
              <a:lnSpc>
                <a:spcPct val="104000"/>
              </a:lnSpc>
              <a:spcBef>
                <a:spcPts val="624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Многие из школьников готовятся сдавать единый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государственный экзамен (ЕГЭ),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экзамены (КЕТ, PET, САЕ, FCE, ВЕС и др.) для получения международного сертификата по английскому языку, задания которых предусматривают разностороннее владение иностранным языком, в том числе и умением делового письма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6760"/>
            <a:ext cx="85042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Басс Э. М. Научная и деловая корреспонденция. Английский язык. / Каф. иностранных языков АН СССР. М.: Наука, 1991 - 176 с. 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Бедросова Г. Г. Обучение письму как одному из форм коммуникации: Автореф. дис. канд. пед. наук М., 1979 - 19 с.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азарицкая Т. А. Проблемы содержания обучения письму в языковом вузе. / Методы и организация обучения иностранному языку в языковом вузе. - М., 1991 - С. 63-7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Кононенко И. О. Подготовка старшеклассников к деловому общению.: Дис. канд. пед. наук. Красноярск, 1995 - 187 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Мелех И. Я. Как пишут письма на английском языке. Пособие по самообразованию. М.: Высш. ж,, 1993 - 80 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Настольная книга секретаря-референта. Контракты, деловая корреспонденция на английском и русском языках. Составлено Н. А. Самуэльян. — М.: Менеджер, 1997 224 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авлова И. В. Преподавание курса делового английского языка в старших классах школ с углубленным изучением иностранного языка: Дис. канд. пед. наук. М., 2000 - 156 с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Пассов Е.И. Основы коммуникативной методики обучения иностранному общению. М.: Русский язык, 1989. - 276 с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74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eorgia"/>
              </a:rPr>
              <a:t>Салтовская Г. Н. Приемы развития коммуникативных умений иноязычного письма на старшем этапе школы-гимназии / Обучение иноязычным компетенциям. Сб. науч. статей. Пятигорск: Изд-во ПГЛУ. - 2002 - С. 78-84.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114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Проект Федерального компонента государствен-ного образовательного стандарта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общего образова-ния предъявляет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высокие требования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к уровню подготовки выпускников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в области письменной речи на иностранном языке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, тем самым, отражая новые тенденции, происходящие в современной жизни. Так, базовый уровень предполагает «написание личного и делового письма, письма-заявки (например, на курс обучения), заполнения различного вида анкет, формуляров ... в форме, принятой в стране изучаемого языка». [Федеральный компонент 2002:29]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Georgia"/>
              </a:rPr>
              <a:t>Язык, стиль, культура оформления делового письма</a:t>
            </a: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4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Официально-деловой стиль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ыражается такими основными признаками как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стандартизированность, официальность, ясность, эффективность, вежливость, логическая последовательность, завершенность, отсутствие эмоциональной окрашенности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14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Деловое письмо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отличается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четкой структурой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, определенным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набором реквизитов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стабильным расположением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каждого из них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14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Язык делового письма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личается от языка других письменных текстов как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на лексико-грамматическом, так и на синтаксическом уровнях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лавным конституирующим фактором текста деловой переписки является его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коммуника-тивное назначение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 u="sng">
                <a:solidFill>
                  <a:srgbClr val="000000"/>
                </a:solidFill>
                <a:uFillTx/>
                <a:latin typeface="Georgia"/>
              </a:rPr>
              <a:t>Разные типы деловых писем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поздравление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Letter of Congratula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приглашение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Letter of Invitatio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 о приёме на работу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Letter of Acceptance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заявление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Application lett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предложение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Commercial Off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жалоба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Letter of Complaint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запрос, требование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Enquiry Lett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ответ на запрос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Reply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(Quotation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встречное предложение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Counter –proposal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заказ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Ord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твет на заказ -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Response to Order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чёт-фактура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Invoice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000000"/>
              </a:buClr>
              <a:buSzPct val="85000"/>
              <a:buFont typeface="Georgi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исьмо-отчёт (из банка), счёт – </a:t>
            </a:r>
            <a:r>
              <a:rPr b="1" lang="en-US" sz="2700" spc="-1" strike="noStrike">
                <a:solidFill>
                  <a:srgbClr val="000000"/>
                </a:solidFill>
                <a:latin typeface="Georgia"/>
              </a:rPr>
              <a:t>Statement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Georgia"/>
              </a:rPr>
              <a:t>Составление  любого  делового  письма  на  английском  языке  подчиняется  общим правилам:</a:t>
            </a:r>
            <a:endParaRPr b="0" lang="en-US" sz="2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4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есь текст разделяется на абзацы без использования красной строк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14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верхнем левом углу письма указывается полное имя отправителя или название компании с адрес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14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алее  указывается  имя  адресата  и  название  компа-нии,  которой  письмо предназначено, а также ее адрес (с новой строки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114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ата отправления указывается тремя строками ниже или в верхнем правом углу письм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1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2:28:33Z</dcterms:created>
  <dc:creator>Шаройков</dc:creator>
  <dc:description/>
  <dc:language>en-US</dc:language>
  <cp:lastModifiedBy>документы</cp:lastModifiedBy>
  <dcterms:modified xsi:type="dcterms:W3CDTF">2016-12-15T12:10:28Z</dcterms:modified>
  <cp:revision>25</cp:revision>
  <dc:subject/>
  <dc:title>Обучение написанию делового  и личного письма на  английском языке</dc:title>
</cp:coreProperties>
</file>