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BC49-7819-44EE-9E90-218905FA85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248E-7E1D-45D4-A9FF-EC9DDF2EC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19A-4D9A-40FF-A999-2F10EF21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381-8778-4523-9D55-C6D1D7E8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631-7BE1-49B9-A8BD-B1C2A8B4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182-76BD-4679-BD22-F5CCC933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0E65-5983-44E1-A9F5-E2A9E7BE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3EA6-9275-4D6A-B459-D5E29596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AE01-173B-4F39-95E4-7445DEA8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9C87-5F6B-40FB-B098-2839EE2A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B298-1525-4EBA-B7F5-8EFF360C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6FDA-B602-43AD-B28D-B8E5F2CB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4AC9-480A-4A4E-9547-F88AE2E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C27-18C8-4D74-8945-A286761E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4F01-AF21-4388-8A71-4409283C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5958-5025-47F3-8E34-AA1736A2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C921-99F6-4CC3-B792-088FD36A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D259-A996-4AFE-A19A-D6555CF9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922-2DAD-42AF-93D6-2E7FA6A0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312-848D-4507-9917-8B55C3C1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2FB-207F-4DD1-864E-4A6A0536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05B-C8CD-4C9A-8053-19425512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994-E34C-420D-9C47-CB36FC30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37A-25A6-4F85-A77B-613092CE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FD2-B881-4CAA-8071-F72586EF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37D-9AFE-4C0A-99E5-8B2D205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F5F6-A898-4EEC-B847-17EE17502F9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9FD6-56D3-49CC-A045-4F2327088B6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сихологического комфорта в класс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воспитатель ГБОУ «Новоторъяльская школа-интернат» Республики Марий Эл Багаутдинова А.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395280" y="4797360"/>
            <a:ext cx="1717560" cy="1644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88b00"/>
                </a:solidFill>
                <a:latin typeface="Arial"/>
              </a:rPr>
              <a:t>Выво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c99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тверждают специалисты, и свидетельствует практика, важным условием благополучного развития личности школьников является наличие в школе и классе благоприятного психологического климата, комф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F:\папка к педсовету\что такое комфорт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, определяющие эффективность влияния педагогов на психологический комфорт в детском коллектив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981920" cy="4319640"/>
          </a:xfrm>
          <a:prstGeom prst="rect">
            <a:avLst/>
          </a:prstGeom>
          <a:solidFill>
            <a:srgbClr val="deff7d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"/>
              </a:rPr>
              <a:t>Личностные качества педагог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Профессиональные качества педагог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Ориентация педагогов на эмоциональный комфорт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:\Users\Админ\Desktop\P1000650.JPG"/>
          <p:cNvPicPr/>
          <p:nvPr/>
        </p:nvPicPr>
        <p:blipFill>
          <a:blip r:embed="rId1"/>
          <a:stretch/>
        </p:blipFill>
        <p:spPr>
          <a:xfrm>
            <a:off x="611280" y="4732200"/>
            <a:ext cx="3744720" cy="212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Админ\Desktop\P1270043.JPG"/>
          <p:cNvPicPr/>
          <p:nvPr/>
        </p:nvPicPr>
        <p:blipFill>
          <a:blip r:embed="rId2"/>
          <a:stretch/>
        </p:blipFill>
        <p:spPr>
          <a:xfrm>
            <a:off x="4932360" y="4732200"/>
            <a:ext cx="3887640" cy="2144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Админ\Desktop\SDC11102.JPG"/>
          <p:cNvPicPr/>
          <p:nvPr/>
        </p:nvPicPr>
        <p:blipFill>
          <a:blip r:embed="rId1"/>
          <a:stretch/>
        </p:blipFill>
        <p:spPr>
          <a:xfrm>
            <a:off x="4255920" y="3327480"/>
            <a:ext cx="4888080" cy="3530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Админ\Desktop\P1000646.JPG"/>
          <p:cNvPicPr/>
          <p:nvPr/>
        </p:nvPicPr>
        <p:blipFill>
          <a:blip r:embed="rId2"/>
          <a:stretch/>
        </p:blipFill>
        <p:spPr>
          <a:xfrm>
            <a:off x="-181080" y="0"/>
            <a:ext cx="4494240" cy="3327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Users\Админ\Desktop\DSCN2385.JPG"/>
          <p:cNvPicPr/>
          <p:nvPr/>
        </p:nvPicPr>
        <p:blipFill>
          <a:blip r:embed="rId3"/>
          <a:stretch/>
        </p:blipFill>
        <p:spPr>
          <a:xfrm>
            <a:off x="-181080" y="3327480"/>
            <a:ext cx="4471920" cy="353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Users\Админ\Desktop\курсы 137.jpg"/>
          <p:cNvPicPr/>
          <p:nvPr/>
        </p:nvPicPr>
        <p:blipFill>
          <a:blip r:embed="rId4"/>
          <a:stretch/>
        </p:blipFill>
        <p:spPr>
          <a:xfrm>
            <a:off x="4329000" y="3240"/>
            <a:ext cx="4830840" cy="33274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3059280" y="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 воскрес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Объект 1" descr=""/>
          <p:cNvPicPr/>
          <p:nvPr/>
        </p:nvPicPr>
        <p:blipFill>
          <a:blip r:embed="rId1"/>
          <a:stretch/>
        </p:blipFill>
        <p:spPr>
          <a:xfrm>
            <a:off x="1730520" y="6080040"/>
            <a:ext cx="571320" cy="49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F:\папка к педсовету\Фото 1730.jpg"/>
          <p:cNvPicPr/>
          <p:nvPr/>
        </p:nvPicPr>
        <p:blipFill>
          <a:blip r:embed="rId2"/>
          <a:stretch/>
        </p:blipFill>
        <p:spPr>
          <a:xfrm>
            <a:off x="1440" y="3429000"/>
            <a:ext cx="499608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F:\папка к педсовету\Фото 1570.jpg"/>
          <p:cNvPicPr/>
          <p:nvPr/>
        </p:nvPicPr>
        <p:blipFill>
          <a:blip r:embed="rId3"/>
          <a:stretch/>
        </p:blipFill>
        <p:spPr>
          <a:xfrm>
            <a:off x="1440" y="14400"/>
            <a:ext cx="4996080" cy="34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Users\Админ\Desktop\Фото 1779.jpg"/>
          <p:cNvPicPr/>
          <p:nvPr/>
        </p:nvPicPr>
        <p:blipFill>
          <a:blip r:embed="rId4"/>
          <a:stretch/>
        </p:blipFill>
        <p:spPr>
          <a:xfrm>
            <a:off x="4997520" y="-14400"/>
            <a:ext cx="414648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2500200" y="14400"/>
            <a:ext cx="43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Укрепляем здоров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Админ\Desktop\Фото 1735.jpg"/>
          <p:cNvPicPr/>
          <p:nvPr/>
        </p:nvPicPr>
        <p:blipFill>
          <a:blip r:embed="rId1"/>
          <a:stretch/>
        </p:blipFill>
        <p:spPr>
          <a:xfrm>
            <a:off x="4680" y="3510000"/>
            <a:ext cx="4465800" cy="334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Админ\Desktop\Фото 1736.jpg"/>
          <p:cNvPicPr/>
          <p:nvPr/>
        </p:nvPicPr>
        <p:blipFill>
          <a:blip r:embed="rId2"/>
          <a:stretch/>
        </p:blipFill>
        <p:spPr>
          <a:xfrm>
            <a:off x="4470480" y="19080"/>
            <a:ext cx="4673520" cy="350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Users\Админ\Desktop\Фото 1785.jpg"/>
          <p:cNvPicPr/>
          <p:nvPr/>
        </p:nvPicPr>
        <p:blipFill>
          <a:blip r:embed="rId3"/>
          <a:stretch/>
        </p:blipFill>
        <p:spPr>
          <a:xfrm>
            <a:off x="4470480" y="3486240"/>
            <a:ext cx="4673520" cy="3371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C:\Users\Админ\Desktop\DSCN1908.JPG"/>
          <p:cNvPicPr/>
          <p:nvPr/>
        </p:nvPicPr>
        <p:blipFill>
          <a:blip r:embed="rId4"/>
          <a:stretch/>
        </p:blipFill>
        <p:spPr>
          <a:xfrm>
            <a:off x="4680" y="19080"/>
            <a:ext cx="4476960" cy="35053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3708360" y="-1440"/>
            <a:ext cx="191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Наши</a:t>
            </a:r>
            <a:r>
              <a:rPr b="0" i="1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625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агоприятный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ий клима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deff7d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ладает бодрый, жизнерадостный тон взаимоотношений между ребятами, оптимизм в настроен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едливое и уважительное отношение ко всем его член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о ценят ответственность, честность, трудолюбие и бескорыст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класса активны, добиваются высоких показателей в учебной и досугов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пехи или неудачи вызывают сопережива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ное расположение, понимание, сотруд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6" descr=""/>
          <p:cNvPicPr/>
          <p:nvPr/>
        </p:nvPicPr>
        <p:blipFill>
          <a:blip r:embed="rId1"/>
          <a:stretch/>
        </p:blipFill>
        <p:spPr>
          <a:xfrm>
            <a:off x="6780240" y="115920"/>
            <a:ext cx="2266920" cy="1701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F:\папка к педсовету\Фото 1578.jpg"/>
          <p:cNvPicPr/>
          <p:nvPr/>
        </p:nvPicPr>
        <p:blipFill>
          <a:blip r:embed="rId2"/>
          <a:stretch/>
        </p:blipFill>
        <p:spPr>
          <a:xfrm>
            <a:off x="6408720" y="-14940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02400" y="562320"/>
            <a:ext cx="7599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КА ЭМОЦИОНАЛЬНО-ПСИХОЛОГИЧЕСКОГО КЛИМАТА КЛАС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280" y="2492280"/>
            <a:ext cx="7737480" cy="309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5-2,6 ситуативно-положительный климат или неустойчивый с преобладанием положительных характеристик.    11 человек,принявших участие в тестировании, в целом отражают показатель 3,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ы исследования: результаты проведенной методики соответствуют средним показателям.  Необходимо  продолжать работу по улучшению психологического климата в коллективе. Больше уделять внимания общим коллективным делам, связанных с  совместным и пережив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ее эффективные способы формирования и поддержания психологического климата в класс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deff7d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вить цели и создавать условия для организации совместной деятельности детей, поощрять активность, инициати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ить общие интере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традиции кла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ситуации коллективного сопереживания значимых собы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щрять к открытости, доброжелательности, не навязывать друг другу свое мнение, приходить к общему, компромиссному решен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условия для повышения комфортности самочувствия, сохранять стабильно - положительные отношения между учителями и учащими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коммуникативную куль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9:31:29Z</dcterms:created>
  <dc:creator>klass</dc:creator>
  <dc:description/>
  <dc:language>en-US</dc:language>
  <cp:lastModifiedBy>Админ</cp:lastModifiedBy>
  <dcterms:modified xsi:type="dcterms:W3CDTF">2016-11-14T09:42:44Z</dcterms:modified>
  <cp:revision>40</cp:revision>
  <dc:subject/>
  <dc:title>Формирование благоприятного социально-психологического климата в классе</dc:title>
</cp:coreProperties>
</file>