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F689-0DB3-4DD8-8C79-99E69686A9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74F6-8982-4575-A3A7-CB2F2064D5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5EB5-A47C-4537-A097-393D9DDF0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34D7-2C46-49F3-BB06-51DB9612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2812-DEEF-4A4D-8EB2-7EA6DFA10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84A1-ED54-42E1-AA8F-B1B9525B3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5452-3697-4356-8A5C-F9708DD8C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CAC6-D6AF-4B43-B5CB-710169D5E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EEE0-AB61-469E-A736-81187914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B9E8E-DF22-41AA-A677-992BBC53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45BF-7B26-4984-8BEA-66457FFC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6BB3-85AE-4889-A826-00A84629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73CD-2C86-46B9-8688-E369CC0B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B04B-0A01-4D8E-9CD7-691990A8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9F6D-F4C7-4DB1-8BCD-A6A59B6C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BA88-5A30-4F1A-9103-295C5E41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730B-0B73-4223-874E-BA6BD4C8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D437-CD91-4579-84B0-4FEF65C6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1101B-F470-4ADF-A595-37CCEE61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2EFB-1583-40A9-B3E4-0B18919B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992A-7732-40CA-A807-15052AB2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99D0-662D-4723-8E50-EEADCF0B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7FC9-6117-4939-99BB-F87346A5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63EB-DF9E-46F2-82A3-6D34E0AC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202D-1A4C-4CDA-B3FD-F5892341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B35D-52C0-442C-97D7-8AA5C97D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D41C-17D7-4E02-A717-19FD1203750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3DD9-4F48-48CD-BD57-57CF0C59BEE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психологического комфорта в класс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: воспитатель ГБОУ «Новоторъяльская школа-интернат» Республики Марий Эл Багаутдинова А.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1" descr=""/>
          <p:cNvPicPr/>
          <p:nvPr/>
        </p:nvPicPr>
        <p:blipFill>
          <a:blip r:embed="rId1"/>
          <a:stretch/>
        </p:blipFill>
        <p:spPr>
          <a:xfrm>
            <a:off x="395280" y="4797360"/>
            <a:ext cx="1717560" cy="1644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88b00"/>
                </a:solidFill>
                <a:latin typeface="Arial"/>
              </a:rPr>
              <a:t>Выво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solidFill>
            <a:srgbClr val="ffc99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утверждают специалисты, и свидетельствует практика, важным условием благополучного развития личности школьников является наличие в школе и классе благоприятного психологического климата, комф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F:\папка к педсовету\что такое комфорт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ловия, определяющие эффективность влияния педагогов на психологический комфорт в детском коллектив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49000"/>
            <a:ext cx="7981920" cy="4319640"/>
          </a:xfrm>
          <a:prstGeom prst="rect">
            <a:avLst/>
          </a:prstGeom>
          <a:solidFill>
            <a:srgbClr val="deff7d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Arial"/>
              </a:rPr>
              <a:t>Личностные качества педагог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Профессиональные качества педагог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Arial"/>
              </a:rPr>
              <a:t>Ориентация педагогов на эмоциональный комфорт школь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C:\Users\Админ\Desktop\P1000650.JPG"/>
          <p:cNvPicPr/>
          <p:nvPr/>
        </p:nvPicPr>
        <p:blipFill>
          <a:blip r:embed="rId1"/>
          <a:stretch/>
        </p:blipFill>
        <p:spPr>
          <a:xfrm>
            <a:off x="611280" y="4732200"/>
            <a:ext cx="3744720" cy="2125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Users\Админ\Desktop\P1270043.JPG"/>
          <p:cNvPicPr/>
          <p:nvPr/>
        </p:nvPicPr>
        <p:blipFill>
          <a:blip r:embed="rId2"/>
          <a:stretch/>
        </p:blipFill>
        <p:spPr>
          <a:xfrm>
            <a:off x="4932360" y="4732200"/>
            <a:ext cx="3887640" cy="2144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Users\Админ\Desktop\SDC11102.JPG"/>
          <p:cNvPicPr/>
          <p:nvPr/>
        </p:nvPicPr>
        <p:blipFill>
          <a:blip r:embed="rId1"/>
          <a:stretch/>
        </p:blipFill>
        <p:spPr>
          <a:xfrm>
            <a:off x="4255920" y="3327480"/>
            <a:ext cx="4888080" cy="3530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:\Users\Админ\Desktop\P1000646.JPG"/>
          <p:cNvPicPr/>
          <p:nvPr/>
        </p:nvPicPr>
        <p:blipFill>
          <a:blip r:embed="rId2"/>
          <a:stretch/>
        </p:blipFill>
        <p:spPr>
          <a:xfrm>
            <a:off x="-181080" y="0"/>
            <a:ext cx="4494240" cy="3327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C:\Users\Админ\Desktop\DSCN2385.JPG"/>
          <p:cNvPicPr/>
          <p:nvPr/>
        </p:nvPicPr>
        <p:blipFill>
          <a:blip r:embed="rId3"/>
          <a:stretch/>
        </p:blipFill>
        <p:spPr>
          <a:xfrm>
            <a:off x="-181080" y="3327480"/>
            <a:ext cx="4471920" cy="3530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C:\Users\Админ\Desktop\курсы 137.jpg"/>
          <p:cNvPicPr/>
          <p:nvPr/>
        </p:nvPicPr>
        <p:blipFill>
          <a:blip r:embed="rId4"/>
          <a:stretch/>
        </p:blipFill>
        <p:spPr>
          <a:xfrm>
            <a:off x="4329000" y="3240"/>
            <a:ext cx="4830840" cy="33274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3059280" y="0"/>
            <a:ext cx="27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В воскресной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Объект 1" descr=""/>
          <p:cNvPicPr/>
          <p:nvPr/>
        </p:nvPicPr>
        <p:blipFill>
          <a:blip r:embed="rId1"/>
          <a:stretch/>
        </p:blipFill>
        <p:spPr>
          <a:xfrm>
            <a:off x="1730520" y="6080040"/>
            <a:ext cx="571320" cy="490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F:\папка к педсовету\Фото 1730.jpg"/>
          <p:cNvPicPr/>
          <p:nvPr/>
        </p:nvPicPr>
        <p:blipFill>
          <a:blip r:embed="rId2"/>
          <a:stretch/>
        </p:blipFill>
        <p:spPr>
          <a:xfrm>
            <a:off x="1440" y="3429000"/>
            <a:ext cx="4996080" cy="3429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F:\папка к педсовету\Фото 1570.jpg"/>
          <p:cNvPicPr/>
          <p:nvPr/>
        </p:nvPicPr>
        <p:blipFill>
          <a:blip r:embed="rId3"/>
          <a:stretch/>
        </p:blipFill>
        <p:spPr>
          <a:xfrm>
            <a:off x="1440" y="14400"/>
            <a:ext cx="4996080" cy="3414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C:\Users\Админ\Desktop\Фото 1779.jpg"/>
          <p:cNvPicPr/>
          <p:nvPr/>
        </p:nvPicPr>
        <p:blipFill>
          <a:blip r:embed="rId4"/>
          <a:stretch/>
        </p:blipFill>
        <p:spPr>
          <a:xfrm>
            <a:off x="4997520" y="-14400"/>
            <a:ext cx="4146480" cy="68724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"/>
          <p:cNvSpPr/>
          <p:nvPr/>
        </p:nvSpPr>
        <p:spPr>
          <a:xfrm>
            <a:off x="2500200" y="14400"/>
            <a:ext cx="437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Укрепляем здоровь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Users\Админ\Desktop\Фото 1735.jpg"/>
          <p:cNvPicPr/>
          <p:nvPr/>
        </p:nvPicPr>
        <p:blipFill>
          <a:blip r:embed="rId1"/>
          <a:stretch/>
        </p:blipFill>
        <p:spPr>
          <a:xfrm>
            <a:off x="4680" y="3510000"/>
            <a:ext cx="4465800" cy="334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Users\Админ\Desktop\Фото 1736.jpg"/>
          <p:cNvPicPr/>
          <p:nvPr/>
        </p:nvPicPr>
        <p:blipFill>
          <a:blip r:embed="rId2"/>
          <a:stretch/>
        </p:blipFill>
        <p:spPr>
          <a:xfrm>
            <a:off x="4470480" y="19080"/>
            <a:ext cx="4673520" cy="3505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C:\Users\Админ\Desktop\Фото 1785.jpg"/>
          <p:cNvPicPr/>
          <p:nvPr/>
        </p:nvPicPr>
        <p:blipFill>
          <a:blip r:embed="rId3"/>
          <a:stretch/>
        </p:blipFill>
        <p:spPr>
          <a:xfrm>
            <a:off x="4470480" y="3486240"/>
            <a:ext cx="4673520" cy="3371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C:\Users\Админ\Desktop\DSCN1908.JPG"/>
          <p:cNvPicPr/>
          <p:nvPr/>
        </p:nvPicPr>
        <p:blipFill>
          <a:blip r:embed="rId4"/>
          <a:stretch/>
        </p:blipFill>
        <p:spPr>
          <a:xfrm>
            <a:off x="4680" y="19080"/>
            <a:ext cx="4476960" cy="35053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"/>
          <p:cNvSpPr/>
          <p:nvPr/>
        </p:nvSpPr>
        <p:spPr>
          <a:xfrm>
            <a:off x="3708360" y="-1440"/>
            <a:ext cx="191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b050"/>
                </a:solidFill>
                <a:latin typeface="Arial"/>
              </a:rPr>
              <a:t>Наши</a:t>
            </a:r>
            <a:r>
              <a:rPr b="0" i="1" lang="ru-RU" sz="2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b050"/>
                </a:solidFill>
                <a:latin typeface="Arial"/>
              </a:rPr>
              <a:t>за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625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лагоприятный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сихологический климат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solidFill>
            <a:srgbClr val="deff7d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обладает бодрый, жизнерадостный тон взаимоотношений между ребятами, оптимизм в настроен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раведливое и уважительное отношение ко всем его член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ко ценят ответственность, честность, трудолюбие и бескорыст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лены класса активны, добиваются высоких показателей в учебной и досугов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пехи или неудачи вызывают сопереживан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аимное расположение, понимание, сотрудни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6" descr=""/>
          <p:cNvPicPr/>
          <p:nvPr/>
        </p:nvPicPr>
        <p:blipFill>
          <a:blip r:embed="rId1"/>
          <a:stretch/>
        </p:blipFill>
        <p:spPr>
          <a:xfrm>
            <a:off x="6780240" y="115920"/>
            <a:ext cx="2266920" cy="1701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F:\папка к педсовету\Фото 1578.jpg"/>
          <p:cNvPicPr/>
          <p:nvPr/>
        </p:nvPicPr>
        <p:blipFill>
          <a:blip r:embed="rId2"/>
          <a:stretch/>
        </p:blipFill>
        <p:spPr>
          <a:xfrm>
            <a:off x="6408720" y="-149400"/>
            <a:ext cx="2735280" cy="2052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202400" y="562320"/>
            <a:ext cx="759960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ЦЕНКА ЭМОЦИОНАЛЬНО-ПСИХОЛОГИЧЕСКОГО КЛИМАТА КЛАСС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55280" y="2492280"/>
            <a:ext cx="7737480" cy="309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,5-2,6 ситуативно-положительный климат или неустойчивый с преобладанием положительных характеристик.    11 человек,принявших участие в тестировании, в целом отражают показатель 3,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ы исследования: результаты проведенной методики соответствуют средним показателям.  Необходимо  продолжать работу по улучшению психологического климата в коллективе. Больше уделять внимания общим коллективным делам, связанных с  совместным и пережива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иболее эффективные способы формирования и поддержания психологического климата в класс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495680"/>
          </a:xfrm>
          <a:prstGeom prst="rect">
            <a:avLst/>
          </a:prstGeom>
          <a:solidFill>
            <a:srgbClr val="deff7d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вить цели и создавать условия для организации совместной деятельности детей, поощрять активность, инициатив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ходить общие интерес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ть традиции кла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вать ситуации коллективного сопереживания значимых событ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ощрять к открытости, доброжелательности, не навязывать друг другу свое мнение, приходить к общему, компромиссному решению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здавать условия для повышения комфортности самочувствия, сохранять стабильно - положительные отношения между учителями и учащимис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ть коммуникативную культу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9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9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9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09:31:29Z</dcterms:created>
  <dc:creator>klass</dc:creator>
  <dc:description/>
  <dc:language>en-US</dc:language>
  <cp:lastModifiedBy>Админ</cp:lastModifiedBy>
  <dcterms:modified xsi:type="dcterms:W3CDTF">2016-11-14T09:42:44Z</dcterms:modified>
  <cp:revision>40</cp:revision>
  <dc:subject/>
  <dc:title>Формирование благоприятного социально-психологического климата в классе</dc:title>
</cp:coreProperties>
</file>