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CC5-E228-40EA-906C-ECC983D0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F80-2C3D-417A-ACF9-E2D867B4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136-D251-44A2-B93E-F267F85F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F63-A142-4BDA-A19C-96E1551C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AD6-7AC6-4B41-9C34-B6FD5273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6BE-BDC3-4A5A-B103-3358263D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73E-65E4-4CB3-BFA3-B8A4AEAD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994-4872-4F1C-B3A5-E493579D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927-9C33-44AE-8997-C7837753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67C-78E0-4F53-9D8D-FE948D26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09F-8A14-4BF1-B095-06E43F54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EEF-63D7-42D4-A968-1FEB687E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16F4-5871-4497-8B8E-08A7D4F60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3040" y="1428840"/>
            <a:ext cx="7500960" cy="21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.Д. Паустовск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«Заячьи лапы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writer_rus144.jpg"/>
          <p:cNvPicPr/>
          <p:nvPr/>
        </p:nvPicPr>
        <p:blipFill>
          <a:blip r:embed="rId2"/>
          <a:stretch/>
        </p:blipFill>
        <p:spPr>
          <a:xfrm>
            <a:off x="500040" y="1000080"/>
            <a:ext cx="2019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я сегодня работа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D:\Работа Наташа\Уроки\УР\untitled.bmp"/>
          <p:cNvPicPr/>
          <p:nvPr/>
        </p:nvPicPr>
        <p:blipFill>
          <a:blip r:embed="rId1"/>
          <a:stretch/>
        </p:blipFill>
        <p:spPr>
          <a:xfrm>
            <a:off x="5786280" y="1357200"/>
            <a:ext cx="1938600" cy="150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D:\Работа Наташа\Уроки\УР\жир.bmp"/>
          <p:cNvPicPr/>
          <p:nvPr/>
        </p:nvPicPr>
        <p:blipFill>
          <a:blip r:embed="rId2"/>
          <a:stretch/>
        </p:blipFill>
        <p:spPr>
          <a:xfrm>
            <a:off x="3429000" y="1785960"/>
            <a:ext cx="2143080" cy="3143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D:\Работа Наташа\Уроки\УР\untitled чер.bmp"/>
          <p:cNvPicPr/>
          <p:nvPr/>
        </p:nvPicPr>
        <p:blipFill>
          <a:blip r:embed="rId3"/>
          <a:stretch/>
        </p:blipFill>
        <p:spPr>
          <a:xfrm>
            <a:off x="1000080" y="385776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парю; мне легко; тема интересна; я в творческом полё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D:\Работа Наташа\Уроки\УР\untitled.bmp"/>
          <p:cNvPicPr/>
          <p:nvPr/>
        </p:nvPicPr>
        <p:blipFill>
          <a:blip r:embed="rId1"/>
          <a:stretch/>
        </p:blipFill>
        <p:spPr>
          <a:xfrm>
            <a:off x="1000080" y="2643120"/>
            <a:ext cx="6286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ыли затруднения, но  тему понял, поэтому  своей работой удовлетворё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D:\Работа Наташа\Уроки\УР\жир.bmp"/>
          <p:cNvPicPr/>
          <p:nvPr/>
        </p:nvPicPr>
        <p:blipFill>
          <a:blip r:embed="rId1"/>
          <a:stretch/>
        </p:blipFill>
        <p:spPr>
          <a:xfrm>
            <a:off x="2714760" y="2643120"/>
            <a:ext cx="2928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изучении темы я иду медленно, но вер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D:\Работа Наташа\Уроки\УР\untitled чер.bmp"/>
          <p:cNvPicPr/>
          <p:nvPr/>
        </p:nvPicPr>
        <p:blipFill>
          <a:blip r:embed="rId1"/>
          <a:stretch/>
        </p:blipFill>
        <p:spPr>
          <a:xfrm>
            <a:off x="1928880" y="2214720"/>
            <a:ext cx="50720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ерея иллюстр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Работа Наташа\Уроки\УР\99729.jpg"/>
          <p:cNvPicPr/>
          <p:nvPr/>
        </p:nvPicPr>
        <p:blipFill>
          <a:blip r:embed="rId1"/>
          <a:stretch/>
        </p:blipFill>
        <p:spPr>
          <a:xfrm>
            <a:off x="500040" y="1643040"/>
            <a:ext cx="339084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Работа Наташа\Уроки\УР\99729_2.jpg"/>
          <p:cNvPicPr/>
          <p:nvPr/>
        </p:nvPicPr>
        <p:blipFill>
          <a:blip r:embed="rId2"/>
          <a:stretch/>
        </p:blipFill>
        <p:spPr>
          <a:xfrm>
            <a:off x="4071960" y="1214280"/>
            <a:ext cx="392436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ерея иллюстр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D:\Работа Наташа\Уроки\УР\99729_1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ерея иллюстр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D:\Работа Наташа\Уроки\УР\99729_3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ерея иллюстр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:\Работа Наташа\Уроки\УР\99729_4.jpg"/>
          <p:cNvPicPr/>
          <p:nvPr/>
        </p:nvPicPr>
        <p:blipFill>
          <a:blip r:embed="rId1"/>
          <a:stretch/>
        </p:blipFill>
        <p:spPr>
          <a:xfrm>
            <a:off x="2860560" y="1600200"/>
            <a:ext cx="342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9"/>
          <p:cNvSpPr/>
          <p:nvPr/>
        </p:nvSpPr>
        <p:spPr>
          <a:xfrm>
            <a:off x="535788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642960" y="4287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НКР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6286680" y="4287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РГ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928800" y="3214800"/>
            <a:ext cx="15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6643800" y="321480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ИТ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378612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421488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485784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50072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514368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400068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371484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342900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3"/>
          <p:cNvSpPr/>
          <p:nvPr/>
        </p:nvSpPr>
        <p:spPr>
          <a:xfrm>
            <a:off x="342900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450072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414324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507204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478620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8"/>
          <p:cNvSpPr/>
          <p:nvPr/>
        </p:nvSpPr>
        <p:spPr>
          <a:xfrm>
            <a:off x="564372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0"/>
          <p:cNvSpPr/>
          <p:nvPr/>
        </p:nvSpPr>
        <p:spPr>
          <a:xfrm>
            <a:off x="314316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-0.19219 0.24931 E">
                                      <p:cBhvr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-0.12934 0.24931 E">
                                      <p:cBhvr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-0.05885 0.24931 E">
                                      <p:cBhvr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04 0.24931 E">
                                      <p:cBhvr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0.05885 0.24931 E">
                                      <p:cBhvr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0.11371 0.24931 E">
                                      <p:cBhvr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0.17656 0.24931 E">
                                      <p:cBhvr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-0.27829 0.28403 E">
                                      <p:cBhvr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-0.21562 0.28403 E">
                                      <p:cBhvr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-0.15277 0.28403 E">
                                      <p:cBhvr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44444E-006 L -0.08663 0.28334 E">
                                      <p:cBhvr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4.44444E-006 L -0.0236 0.28334 E">
                                      <p:cBhvr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04722 0.28334 E">
                                      <p:cBhvr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L 0.12604 0.28334 E">
                                      <p:cBhvr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0.20017 0.28403 E">
                                      <p:cBhvr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0.2677 0.28334 E">
                                      <p:cBhvr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0" y="2858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тношение человека и природы  в рассказ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Г. Паустовского «Заячьи лап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D:\Работа Наташа\Уроки\УР\99729_2.jpg"/>
          <p:cNvPicPr/>
          <p:nvPr/>
        </p:nvPicPr>
        <p:blipFill>
          <a:blip r:embed="rId2"/>
          <a:stretch/>
        </p:blipFill>
        <p:spPr>
          <a:xfrm>
            <a:off x="2643120" y="3357720"/>
            <a:ext cx="33908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сск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просно-ответная перестрел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0" y="4287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сска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285920" y="214308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ня у ветерин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285920" y="300024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рл Петрович вылечил зай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285920" y="4214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сной пож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7 C 0.22501 -0.05509 0.45001 -0.10995 0.45139 -0.17106 C 0.45278 -0.23194 0.08264 -0.33403 0.00886 -0.36643 E">
                                      <p:cBhvr>
                                        <p:cTn id="1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 -…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400068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роспектива – взгляд в прошло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D:\Работа Наташа\Уроки\УР\99729_1.jpg"/>
          <p:cNvPicPr/>
          <p:nvPr/>
        </p:nvPicPr>
        <p:blipFill>
          <a:blip r:embed="rId1"/>
          <a:stretch/>
        </p:blipFill>
        <p:spPr>
          <a:xfrm>
            <a:off x="628560" y="1928880"/>
            <a:ext cx="7372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19101640_100__Zayac_.jpg"/>
          <p:cNvPicPr/>
          <p:nvPr/>
        </p:nvPicPr>
        <p:blipFill>
          <a:blip r:embed="rId2"/>
          <a:stretch/>
        </p:blipFill>
        <p:spPr>
          <a:xfrm>
            <a:off x="3071880" y="4214880"/>
            <a:ext cx="25732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18"/>
          <p:cNvGrpSpPr/>
          <p:nvPr/>
        </p:nvGrpSpPr>
        <p:grpSpPr>
          <a:xfrm>
            <a:off x="285840" y="214200"/>
            <a:ext cx="3071880" cy="1465560"/>
            <a:chOff x="285840" y="214200"/>
            <a:chExt cx="3071880" cy="1465560"/>
          </a:xfrm>
        </p:grpSpPr>
        <p:sp>
          <p:nvSpPr>
            <p:cNvPr id="57" name="TextBox 6"/>
            <p:cNvSpPr/>
            <p:nvPr/>
          </p:nvSpPr>
          <p:spPr>
            <a:xfrm>
              <a:off x="285840" y="214200"/>
              <a:ext cx="2071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ЕТЕРИН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авнодуш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Зл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Невоспита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ЖЕСТ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7"/>
            <p:cNvSpPr/>
            <p:nvPr/>
          </p:nvSpPr>
          <p:spPr>
            <a:xfrm>
              <a:off x="2000520" y="214200"/>
              <a:ext cx="135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Грубо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крич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Группа 20"/>
          <p:cNvGrpSpPr/>
          <p:nvPr/>
        </p:nvGrpSpPr>
        <p:grpSpPr>
          <a:xfrm>
            <a:off x="285840" y="2214720"/>
            <a:ext cx="3071880" cy="1465560"/>
            <a:chOff x="285840" y="2214720"/>
            <a:chExt cx="3071880" cy="1465560"/>
          </a:xfrm>
        </p:grpSpPr>
        <p:sp>
          <p:nvSpPr>
            <p:cNvPr id="60" name="TextBox 8"/>
            <p:cNvSpPr/>
            <p:nvPr/>
          </p:nvSpPr>
          <p:spPr>
            <a:xfrm>
              <a:off x="285840" y="2214720"/>
              <a:ext cx="1857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БАБКА АНИС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Жалостли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Любопыт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Душев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ДОБР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9"/>
            <p:cNvSpPr/>
            <p:nvPr/>
          </p:nvSpPr>
          <p:spPr>
            <a:xfrm>
              <a:off x="2000520" y="2214720"/>
              <a:ext cx="135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Напевн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шамка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21"/>
          <p:cNvGrpSpPr/>
          <p:nvPr/>
        </p:nvGrpSpPr>
        <p:grpSpPr>
          <a:xfrm>
            <a:off x="5643720" y="4357800"/>
            <a:ext cx="3500280" cy="2288520"/>
            <a:chOff x="5643720" y="4357800"/>
            <a:chExt cx="3500280" cy="2288520"/>
          </a:xfrm>
        </p:grpSpPr>
        <p:sp>
          <p:nvSpPr>
            <p:cNvPr id="63" name="TextBox 10"/>
            <p:cNvSpPr/>
            <p:nvPr/>
          </p:nvSpPr>
          <p:spPr>
            <a:xfrm>
              <a:off x="6929640" y="4357800"/>
              <a:ext cx="2214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А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еживающ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ынослив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пор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Заботлив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таратель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Шустр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Очень ДОБР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1"/>
            <p:cNvSpPr/>
            <p:nvPr/>
          </p:nvSpPr>
          <p:spPr>
            <a:xfrm>
              <a:off x="5643720" y="4357800"/>
              <a:ext cx="135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олнуясь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шеп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19"/>
          <p:cNvGrpSpPr/>
          <p:nvPr/>
        </p:nvGrpSpPr>
        <p:grpSpPr>
          <a:xfrm>
            <a:off x="214200" y="4429080"/>
            <a:ext cx="3071880" cy="1739880"/>
            <a:chOff x="214200" y="4429080"/>
            <a:chExt cx="3071880" cy="1739880"/>
          </a:xfrm>
        </p:grpSpPr>
        <p:sp>
          <p:nvSpPr>
            <p:cNvPr id="66" name="TextBox 12"/>
            <p:cNvSpPr/>
            <p:nvPr/>
          </p:nvSpPr>
          <p:spPr>
            <a:xfrm>
              <a:off x="214200" y="4429080"/>
              <a:ext cx="1785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АПТЕКАР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Нерв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ердит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трог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аздраж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ДОБР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3"/>
            <p:cNvSpPr/>
            <p:nvPr/>
          </p:nvSpPr>
          <p:spPr>
            <a:xfrm>
              <a:off x="1928880" y="4429080"/>
              <a:ext cx="135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ердито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говор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23"/>
          <p:cNvGrpSpPr/>
          <p:nvPr/>
        </p:nvGrpSpPr>
        <p:grpSpPr>
          <a:xfrm>
            <a:off x="5214960" y="214200"/>
            <a:ext cx="4500720" cy="1739880"/>
            <a:chOff x="5214960" y="214200"/>
            <a:chExt cx="4500720" cy="1739880"/>
          </a:xfrm>
        </p:grpSpPr>
        <p:sp>
          <p:nvSpPr>
            <p:cNvPr id="69" name="TextBox 14"/>
            <p:cNvSpPr/>
            <p:nvPr/>
          </p:nvSpPr>
          <p:spPr>
            <a:xfrm>
              <a:off x="6929640" y="214200"/>
              <a:ext cx="2786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ДОКТО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КАРЛ ПЕТРОВИ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Интеллигент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бразова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трог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ДОБР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5"/>
            <p:cNvSpPr/>
            <p:nvPr/>
          </p:nvSpPr>
          <p:spPr>
            <a:xfrm>
              <a:off x="5214960" y="356760"/>
              <a:ext cx="178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трого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разговарива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Группа 22"/>
          <p:cNvGrpSpPr/>
          <p:nvPr/>
        </p:nvGrpSpPr>
        <p:grpSpPr>
          <a:xfrm>
            <a:off x="5643720" y="2571840"/>
            <a:ext cx="3214080" cy="1191240"/>
            <a:chOff x="5643720" y="2571840"/>
            <a:chExt cx="3214080" cy="1191240"/>
          </a:xfrm>
        </p:grpSpPr>
        <p:sp>
          <p:nvSpPr>
            <p:cNvPr id="72" name="TextBox 16"/>
            <p:cNvSpPr/>
            <p:nvPr/>
          </p:nvSpPr>
          <p:spPr>
            <a:xfrm>
              <a:off x="6929280" y="2571840"/>
              <a:ext cx="1928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ДЕД ЛАРИ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тзывчив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об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ДОБР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17"/>
            <p:cNvSpPr/>
            <p:nvPr/>
          </p:nvSpPr>
          <p:spPr>
            <a:xfrm>
              <a:off x="5643720" y="2786040"/>
              <a:ext cx="135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прямо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бормо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квейн (отражающий тем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су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пр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гла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афоризм (можно свою фраз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межд. или смай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Содержимое 2"/>
          <p:cNvGrpSpPr/>
          <p:nvPr/>
        </p:nvGrpSpPr>
        <p:grpSpPr>
          <a:xfrm>
            <a:off x="450720" y="566640"/>
            <a:ext cx="8242560" cy="5565960"/>
            <a:chOff x="450720" y="566640"/>
            <a:chExt cx="8242560" cy="5565960"/>
          </a:xfrm>
        </p:grpSpPr>
        <p:pic>
          <p:nvPicPr>
            <p:cNvPr id="7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50720" y="566640"/>
              <a:ext cx="8242560" cy="55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57200" y="571680"/>
              <a:ext cx="8229600" cy="55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alibri"/>
                </a:rPr>
                <a:t>«Добро, которое мы делаем другим, добром же служит нам самим»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alibri"/>
                </a:rPr>
                <a:t>Жан Лафонте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разительное чтение расск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ыбор: а)придумать рассказ на основе реальных событий (человек и животное  в стих бедствиях); б) иллюстрацию к эпизоду рассказа «Заячьи лапы»; в) инсценировку эпизода из «Заячьих лап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12T04:06:50Z</dcterms:modified>
  <cp:revision>20</cp:revision>
  <dc:subject/>
  <dc:title>К.Д. Паустовский</dc:title>
</cp:coreProperties>
</file>