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5E49-19C8-4F3C-9AA2-B8B862878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4BB0-3053-41AD-847A-9028EF5DDF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2601-0B54-42D0-8511-823B76976A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6892-FBDA-4E61-9BB9-5EE0B7C54C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B8F7-2D8C-4CCC-8E41-A06FC5D0D2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733-E3E6-47A7-ADC2-69D0BB85D8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CA93-9276-4ED8-A1CB-6CE3EDE15C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BB01-7F4A-4084-8E1C-0EBF8E01C6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7919-0EC4-48A7-9481-B761EE83BB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A789-8841-4CF2-93D5-ED73376F34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9D8C-D3A4-48B5-9EC3-F48C9E809F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656-E3F5-435C-9602-AD53229C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D4E-3B82-4CF5-942B-46049EF1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E29-F05A-4505-8E2D-DB33C0B1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452-4435-47B3-88AA-AC2866FD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F002-8EA8-47FD-A164-FE9CEA13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8F89-3F54-48BE-8EEA-A7D1BF64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37A-C2B7-488D-9840-4908B48B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187A-FB9D-4C6B-9FC6-A0EECBA9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A877-7C57-431D-8806-A5B65D87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1D63-3723-48B4-9A09-380B2B5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782E-88B9-45E2-ABA6-66838299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6F3-9C26-4FFA-BCDB-A5E58BB9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03D3-61D1-4B0E-9CAA-322119DD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3D56-5DCF-4F29-B53A-BB54180D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5271-2C7E-4023-88B9-A59101B5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3DEC-908D-4B4B-BBA8-1C2101FC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9497-B445-472D-89EB-C185AC9B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51C5-5D7F-4355-98F5-576F45AA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2D1A-9676-450B-8575-D8255A24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CB73-6835-45A7-B33E-71C04101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D943-17AA-4909-9D05-C51E7D1D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59F2-5144-4F76-A95C-D7A4EA3C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C78-CB46-4035-A421-5668B1FF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A709-219B-465E-A9C2-DDB901C3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ADAC-92F2-4EA5-86B9-F096543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C1A4-D6DD-492A-96C9-631BA116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76F6-6F7B-4C4D-8C33-2CE39A3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2D1F-91BC-45B3-9B23-A05BA909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387A-5D88-430D-AE19-52541126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108C-F839-4965-9D9B-0E762017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665F-04A0-4C89-8997-0E2F828A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B50B-B1DF-4ECB-9389-975D849B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FCDC9-BA71-4084-8800-80D22DD9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B2D-F3BC-4C8F-9282-F89ADA3C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EC07-3774-40AE-8245-FE1CC71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1444F-51B1-46FD-96B9-6B662FB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CC03B-A69F-4210-999C-B3B3AEE8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4F4F-9076-464C-AAB8-9A03D4A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80093-D2F3-4A68-913A-A5F8E2DC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219C-D77C-4707-96B0-D2723E5B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41FC-7950-40A6-B55E-87359855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8F475-F3A9-4A32-8F4B-36002FF1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DE331-901C-4206-99A3-70B2C358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6B5-AC3F-45E0-AE5A-BE112F56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57C-A1AB-4045-AD75-4BBA775E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463-C93A-4684-9834-9E19506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9B1-BEE4-48B1-AC19-D60D6C51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D9D-7060-4680-89B7-F7FD0FE2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5861-F004-42FD-B57F-9798E8371950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D9CE-C932-4FB6-8640-4485BF928068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1FE6-57B6-4E62-A278-CE829B237B41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D13F-9284-4A03-8CF2-8B8955D5533C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6;&#1091;&#1085;&#1077;&#1090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1440" y="437760"/>
            <a:ext cx="93711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Century Gothic"/>
              </a:rPr>
              <a:t>Велик и могуч...</a:t>
            </a:r>
            <a:endParaRPr b="0" lang="en-US" sz="8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10" name="Объект 5" descr="1377255806-dcb055f839185c24a92726ae314c1f67.jpg"/>
          <p:cNvPicPr/>
          <p:nvPr/>
        </p:nvPicPr>
        <p:blipFill>
          <a:blip r:embed="rId1"/>
          <a:stretch/>
        </p:blipFill>
        <p:spPr>
          <a:xfrm>
            <a:off x="2182680" y="1979640"/>
            <a:ext cx="71121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5600" y="835200"/>
            <a:ext cx="340056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Gothic"/>
              </a:rPr>
              <a:t>       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ДАВАЙТЕ ОДУМАЕМСЯ!!!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28" name="Объект 4" descr="2d216af5bcec82d38964a8a3bdc03d7c.jpg"/>
          <p:cNvPicPr/>
          <p:nvPr/>
        </p:nvPicPr>
        <p:blipFill>
          <a:blip r:embed="rId1"/>
          <a:stretch/>
        </p:blipFill>
        <p:spPr>
          <a:xfrm>
            <a:off x="4905360" y="947880"/>
            <a:ext cx="6243480" cy="49863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5600" y="2414520"/>
            <a:ext cx="340056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аздо страшнее ,если мы начнем на этом языке думать! 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    </a:t>
            </a:r>
            <a:r>
              <a:rPr b="0" lang="en-US" sz="4200" spc="-1" strike="noStrike">
                <a:solidFill>
                  <a:srgbClr val="ffff00"/>
                </a:solidFill>
                <a:latin typeface="Century Gothic"/>
              </a:rPr>
              <a:t>Как слышицца/так пишицц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33120" y="202860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«Падонкаффский»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, или 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«олбанский» йезыг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или 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йАзЫк пАдОнКаФф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 — распространившийся в </a:t>
            </a:r>
            <a:r>
              <a:rPr b="0" lang="en-US" sz="2600" spc="-1" strike="noStrike" u="sng">
                <a:solidFill>
                  <a:srgbClr val="58c1ba"/>
                </a:solidFill>
                <a:uFillTx/>
                <a:latin typeface="Century Gothic"/>
                <a:hlinkClick r:id="rId1"/>
              </a:rPr>
              <a:t>Рунете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entury Gothic"/>
              </a:rPr>
              <a:t> в начале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2000-х годов  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стиль употребления русского языка с фонетически почти верным, но орфографически нарочно неправильным написанием слочастым употреблением ненормативной лексики и определённых штампов, характерных для сленгов. Чаще всего используется при написании комментариев к текстам в блогах, чатах и веб-форума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   </a:t>
            </a:r>
            <a:r>
              <a:rPr b="0" lang="en-US" sz="4200" spc="-1" strike="noStrike">
                <a:solidFill>
                  <a:srgbClr val="ffff00"/>
                </a:solidFill>
                <a:latin typeface="Century Gothic"/>
              </a:rPr>
              <a:t>Почему он так популярен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entury Gothic"/>
              </a:rPr>
              <a:t>1.Анонимность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entury Gothic"/>
              </a:rPr>
              <a:t>2.Необходимость максимально кратко  выражать свои мысли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entury Gothic"/>
              </a:rPr>
              <a:t>3.Можно прикрыть свою безграмотность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entury Gothic"/>
              </a:rPr>
              <a:t>4.Стремление к моде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5840" y="163440"/>
            <a:ext cx="940428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Падонковская речь «шагает» в массы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На языке падонков заговорила не только молодежь, но и взрослые, состоявшиеся личности, акцент на этом новом веянии делается в университетах, эти сленговые словечки перекочевали в лексику журналистов… Так что такими темпами, возможно, в скором времени с трибуны какой-то известный политик, как лицо страны, поприветствует нас: «Превед!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5840" y="371160"/>
            <a:ext cx="940428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18" name="Объект 3" descr="102203973_102152337_15860.jpg"/>
          <p:cNvPicPr/>
          <p:nvPr/>
        </p:nvPicPr>
        <p:blipFill>
          <a:blip r:embed="rId1"/>
          <a:stretch/>
        </p:blipFill>
        <p:spPr>
          <a:xfrm>
            <a:off x="1758960" y="930240"/>
            <a:ext cx="858996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5840" y="82440"/>
            <a:ext cx="940428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03040" y="299880"/>
            <a:ext cx="8947080" cy="594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Это фонетически правильная, но орфографически некорректная запись (так называемое «неграмотное письмо»),появления аканья, отвердения шипящих, оглушения конечных, упрощения сочетаний сделали возможными графически верные записи, не соответствующие принятой в книжном письме этимологической орфографи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Например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.Употребление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вместо безударного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(автор-аффтар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.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Щ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вместо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СЧ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и наоборот (ещё-исчо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.Замена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Ё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на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О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(зачет-зачот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.Употребление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ЦЦ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и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Ц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вместо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ТС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ТЬС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(нравится-нравицца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5.Отсутствие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Ь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после шипящих на конце (жжешь-жжош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6.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-ЧЕГ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вместо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-ЧИК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(красавчик-красавчег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 другое коверкание языка..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entury Gothic"/>
              </a:rPr>
              <a:t>            </a:t>
            </a:r>
            <a:r>
              <a:rPr b="0" lang="en-US" sz="6000" spc="-1" strike="noStrike">
                <a:solidFill>
                  <a:srgbClr val="ffff00"/>
                </a:solidFill>
                <a:latin typeface="Century Gothic"/>
              </a:rPr>
              <a:t>Мнение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Речевое поведение отражается на повседневном поведении человека.Привычка общаться на интернет-сленге сказывается и на грамотности.Человек привыкает писать слова так,как слышит,и со временем начинает сомневаться в своих знаниях русского языка.Спасение от беды только в одном:у молодежи должны быть перед глазами достойные примеры для подража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              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В.Семенцов.(кандидат педагогических наук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1120" y="-123840"/>
            <a:ext cx="940428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24" name="Объект 3" descr="7225774_34011.jpg"/>
          <p:cNvPicPr/>
          <p:nvPr/>
        </p:nvPicPr>
        <p:blipFill>
          <a:blip r:embed="rId1"/>
          <a:stretch/>
        </p:blipFill>
        <p:spPr>
          <a:xfrm>
            <a:off x="728640" y="714240"/>
            <a:ext cx="105156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entury Gothic"/>
              </a:rPr>
              <a:t>Вот так будут писать лет через 10...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     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Пад бурйами сутьбы жистокай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    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Увйал цветусчий мой винец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     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Жыву пичальный,адынокий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     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И жду:придет ли мой канец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23:42:41Z</dcterms:created>
  <dc:creator/>
  <dc:description/>
  <dc:language>en-US</dc:language>
  <cp:lastModifiedBy/>
  <dcterms:modified xsi:type="dcterms:W3CDTF">2016-11-20T16:34:04Z</dcterms:modified>
  <cp:revision>2</cp:revision>
  <dc:subject/>
  <dc:title>Велик и могуч...</dc:title>
</cp:coreProperties>
</file>