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630F-4A95-446D-9F50-196CDEC36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8973-F9F6-4C7B-BA88-59B6C1B320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E29B-54C0-413A-A678-5762812F5B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6ACF-DB84-4095-8C35-DABC8A314E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28EB-97B7-40D7-8FDE-6FE740F810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FE3E-9FFB-4A1E-BF8C-AE30843779E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290A-76BE-4402-B3B8-F3D213C6E9C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8616-014A-4BFD-8147-3E8C474F11A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3A6D-E236-4A27-9B02-E6DAD675FB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567A-360A-4FAD-96C0-1B536945299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1764-587D-477D-8D6D-BB585119FCA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B8CF-F284-413B-9DAC-6D796279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CD50-1BAE-4448-A2AB-C8745B77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EE3A-778F-4607-8D22-D8385C1C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DB7E-FD1C-451B-809A-325740D6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C4E0-A17E-4C02-A870-66D69ECC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BFC1-F310-4F88-990D-01B3D141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6237-37F1-47C1-9246-38761BE3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70E4-CBC8-4340-978F-B221C8E6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B4C6-E91B-4034-89E9-6A7D71EE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5738-B24B-4EEC-B62D-03072F06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F080-FCEC-41BC-A9AF-5353C42D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56E8-CB01-49B5-9387-5C007E10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298C-0BEF-4CED-A64F-14553106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E870-ED8A-458C-88E7-1B6E14A4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3EB3-69BB-4B78-ABE2-DB617DAB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6EFC-E6E9-4EF5-B2C9-EA1613C7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2A73-E9D0-4A99-A099-ED087ECC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A011C-B430-4DC8-B5BA-B17CF640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26400-6C0E-4E57-AAA9-23648C27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A3664-F4BE-4CC1-B2FF-72B47552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2863E-C854-4D42-BA01-CADA7BF0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FBD60-3D80-4C52-B634-D98AB123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FBE-467A-47A6-A8EB-53BD97CC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61951-4916-4A4B-817E-3E144232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41466-DAE9-4354-8C7E-C7DD35C6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A387B-D8A5-4150-BD0A-CF44B599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9FEFB-B8E1-47AD-838B-BD78FF25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A1A09-22D7-4416-AF86-997F5F2E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6B3F7-F6A9-4F8A-8C3F-6C60B6487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79DC7-8937-4789-BC8A-DDDCE6648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97042-8A24-4BFA-99EC-5A4F400F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FFD13-E62B-4BA4-8A3E-0B9FBBB7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08563-B91B-4BE8-BABF-808FFC06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9AE-97F7-46D9-8C1F-95D869A7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84518-CBE8-4633-A42E-E2438D7F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66C0F-E56D-44F5-81C4-3354B0EA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BF3E5-3034-4BBE-BE2A-42F737BA3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7A32C-1B6F-4DCA-81EF-81C05463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C56E3-F2A2-4C79-B8C6-56081468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F1E19-B03C-46D1-BAFB-287BA897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99837-5163-4E58-8506-2DD5CF50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00FBB-5EA1-4D9B-94EE-E0D849D6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B6FE1-97A1-495D-BD05-74E10119D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2F8-5293-40B8-A722-8B407C75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CEF-C407-419B-BB3A-DAA0D110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7E3-63CD-42DB-8EE7-AF7F70B9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FF3-823D-4FB5-82D2-8AE4FE50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8A5-714D-49E7-B860-0B571540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3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6AF4-734E-4CCA-8C38-01188F4D0734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52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A738-D840-40A4-B3D4-1C01C0C3350E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103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6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7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E3C7-EB7F-4DAC-A102-5729A50D1576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3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4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1120" y="1670040"/>
            <a:ext cx="2835360" cy="2835360"/>
            <a:chOff x="8601120" y="1670040"/>
            <a:chExt cx="2835360" cy="2835360"/>
          </a:xfrm>
        </p:grpSpPr>
        <p:pic>
          <p:nvPicPr>
            <p:cNvPr id="154" name="Oval 15" descr=""/>
            <p:cNvPicPr/>
            <p:nvPr/>
          </p:nvPicPr>
          <p:blipFill>
            <a:blip r:embed="rId5"/>
            <a:stretch/>
          </p:blipFill>
          <p:spPr>
            <a:xfrm>
              <a:off x="8601120" y="1670040"/>
              <a:ext cx="2835360" cy="28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6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7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8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9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5474-5083-407F-9DD9-2530BC737D2F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6;&#1091;&#1085;&#1077;&#1090;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31440" y="437760"/>
            <a:ext cx="93711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ffff00"/>
                </a:solidFill>
                <a:latin typeface="Century Gothic"/>
              </a:rPr>
              <a:t>Велик и могуч...</a:t>
            </a:r>
            <a:endParaRPr b="0" lang="en-US" sz="88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10" name="Объект 5" descr="1377255806-dcb055f839185c24a92726ae314c1f67.jpg"/>
          <p:cNvPicPr/>
          <p:nvPr/>
        </p:nvPicPr>
        <p:blipFill>
          <a:blip r:embed="rId1"/>
          <a:stretch/>
        </p:blipFill>
        <p:spPr>
          <a:xfrm>
            <a:off x="2182680" y="1979640"/>
            <a:ext cx="71121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5600" y="835200"/>
            <a:ext cx="3400560" cy="122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entury Gothic"/>
              </a:rPr>
              <a:t>       </a:t>
            </a:r>
            <a:r>
              <a:rPr b="0" lang="en-US" sz="3200" spc="-1" strike="noStrike">
                <a:solidFill>
                  <a:srgbClr val="c00000"/>
                </a:solidFill>
                <a:latin typeface="Century Gothic"/>
              </a:rPr>
              <a:t>ДАВАЙТЕ ОДУМАЕМСЯ!!!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28" name="Объект 4" descr="2d216af5bcec82d38964a8a3bdc03d7c.jpg"/>
          <p:cNvPicPr/>
          <p:nvPr/>
        </p:nvPicPr>
        <p:blipFill>
          <a:blip r:embed="rId1"/>
          <a:stretch/>
        </p:blipFill>
        <p:spPr>
          <a:xfrm>
            <a:off x="4905360" y="947880"/>
            <a:ext cx="6243480" cy="49863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55600" y="2414520"/>
            <a:ext cx="3400560" cy="36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ораздо страшнее ,если мы начнем на этом языке думать! 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    </a:t>
            </a:r>
            <a:r>
              <a:rPr b="0" lang="en-US" sz="4200" spc="-1" strike="noStrike">
                <a:solidFill>
                  <a:srgbClr val="ffff00"/>
                </a:solidFill>
                <a:latin typeface="Century Gothic"/>
              </a:rPr>
              <a:t>Как слышицца/так пишицца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33120" y="202860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«Падонкаффский»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, или 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«олбанский» йезыг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или 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йАзЫк пАдОнКаФф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 — распространившийся в </a:t>
            </a:r>
            <a:r>
              <a:rPr b="0" lang="en-US" sz="2600" spc="-1" strike="noStrike" u="sng">
                <a:solidFill>
                  <a:srgbClr val="58c1ba"/>
                </a:solidFill>
                <a:uFillTx/>
                <a:latin typeface="Century Gothic"/>
                <a:hlinkClick r:id="rId1"/>
              </a:rPr>
              <a:t>Рунете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entury Gothic"/>
              </a:rPr>
              <a:t> в начале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2000-х годов  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стиль употребления русского языка с фонетически почти верным, но орфографически нарочно неправильным написанием слочастым употреблением ненормативной лексики и определённых штампов, характерных для сленгов. Чаще всего используется при написании комментариев к текстам в блогах, чатах и веб-форумах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   </a:t>
            </a:r>
            <a:r>
              <a:rPr b="0" lang="en-US" sz="4200" spc="-1" strike="noStrike">
                <a:solidFill>
                  <a:srgbClr val="ffff00"/>
                </a:solidFill>
                <a:latin typeface="Century Gothic"/>
              </a:rPr>
              <a:t>Почему он так популярен?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entury Gothic"/>
              </a:rPr>
              <a:t>1.Анонимность</a:t>
            </a: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entury Gothic"/>
              </a:rPr>
              <a:t>2.Необходимость максимально кратко  выражать свои мысли</a:t>
            </a: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entury Gothic"/>
              </a:rPr>
              <a:t>3.Можно прикрыть свою безграмотность</a:t>
            </a: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entury Gothic"/>
              </a:rPr>
              <a:t>4.Стремление к моде</a:t>
            </a: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5840" y="163440"/>
            <a:ext cx="940428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entury Gothic"/>
              </a:rPr>
              <a:t>Падонковская речь «шагает» в массы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На языке падонков заговорила не только молодежь, но и взрослые, состоявшиеся личности, акцент на этом новом веянии делается в университетах, эти сленговые словечки перекочевали в лексику журналистов… Так что такими темпами, возможно, в скором времени с трибуны какой-то известный политик, как лицо страны, поприветствует нас: «Превед!»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5840" y="371160"/>
            <a:ext cx="940428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18" name="Объект 3" descr="102203973_102152337_15860.jpg"/>
          <p:cNvPicPr/>
          <p:nvPr/>
        </p:nvPicPr>
        <p:blipFill>
          <a:blip r:embed="rId1"/>
          <a:stretch/>
        </p:blipFill>
        <p:spPr>
          <a:xfrm>
            <a:off x="1758960" y="930240"/>
            <a:ext cx="858996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5840" y="82440"/>
            <a:ext cx="940428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03040" y="299880"/>
            <a:ext cx="8947080" cy="594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Это фонетически правильная, но орфографически некорректная запись (так называемое «неграмотное письмо»),появления аканья, отвердения шипящих, оглушения конечных, упрощения сочетаний сделали возможными графически верные записи, не соответствующие принятой в книжном письме этимологической орфографи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Например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.Употребление 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вместо безударного 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О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(автор-аффтар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2.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Щ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вместо 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СЧ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и наоборот (ещё-исчо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3.Замена 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Ё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на 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О 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(зачет-зачот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4.Употребление 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ЦЦ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и 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Ц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вместо 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ТС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,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ТЬС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(нравится-нравицца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5.Отсутствие 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Ь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после шипящих на конце (жжешь-жжош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6.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-ЧЕГ 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вместо 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-ЧИК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(красавчик-красавчег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И другое коверкание языка..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Century Gothic"/>
              </a:rPr>
              <a:t>            </a:t>
            </a:r>
            <a:r>
              <a:rPr b="0" lang="en-US" sz="6000" spc="-1" strike="noStrike">
                <a:solidFill>
                  <a:srgbClr val="ffff00"/>
                </a:solidFill>
                <a:latin typeface="Century Gothic"/>
              </a:rPr>
              <a:t>Мнение</a:t>
            </a:r>
            <a:endParaRPr b="0" lang="en-US" sz="6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Речевое поведение отражается на повседневном поведении человека.Привычка общаться на интернет-сленге сказывается и на грамотности.Человек привыкает писать слова так,как слышит,и со временем начинает сомневаться в своих знаниях русского языка.Спасение от беды только в одном:у молодежи должны быть перед глазами достойные примеры для подражан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               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В.Семенцов.(кандидат педагогических наук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71120" y="-123840"/>
            <a:ext cx="940428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24" name="Объект 3" descr="7225774_34011.jpg"/>
          <p:cNvPicPr/>
          <p:nvPr/>
        </p:nvPicPr>
        <p:blipFill>
          <a:blip r:embed="rId1"/>
          <a:stretch/>
        </p:blipFill>
        <p:spPr>
          <a:xfrm>
            <a:off x="728640" y="714240"/>
            <a:ext cx="10515600" cy="58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entury Gothic"/>
              </a:rPr>
              <a:t>Вот так будут писать лет через 10...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     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Пад бурйами сутьбы жистокай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    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Увйал цветусчий мой винец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     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Жыву пичальный,адынокий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     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И жду:придет ли мой канец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0T23:42:41Z</dcterms:created>
  <dc:creator/>
  <dc:description/>
  <dc:language>en-US</dc:language>
  <cp:lastModifiedBy/>
  <dcterms:modified xsi:type="dcterms:W3CDTF">2016-11-20T16:34:04Z</dcterms:modified>
  <cp:revision>2</cp:revision>
  <dc:subject/>
  <dc:title>Велик и могуч...</dc:title>
</cp:coreProperties>
</file>