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12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png" ContentType="image/pn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EC13-4AD6-4BC8-8443-912D05FE6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FD2B-897A-432E-99C8-4F2C04BA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3EE1FB-79F7-4EFE-B43A-6E45CA97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A1C0AF-A54E-4A82-984C-7965E4AB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590F7-212A-4C0E-B689-63CE943E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D4D358-F593-4AAC-ABE0-729043CC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6DAD6-96B7-44DD-8E74-FB75A177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B8E209-1856-4BC7-9734-393F06D6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B022A-A012-43DE-B7CC-D7061FD2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90B0D-00D3-495C-9B05-546D09483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E5085-D201-4C29-A0F3-341B2BD9A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E7EA-2464-40DA-B0BA-869052E93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6DAF-64A0-4DE2-84D2-8D3A5A432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9A54-8B02-4D40-AD75-C94AFF01B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B182-88D1-45DB-9AD4-A25E5E8B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B0BA-C4E1-4144-AE20-483ADE85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9B13D-5945-406C-A6E1-FC3F52AD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696D-38DA-419F-B006-57040568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AE2E-5809-46F2-9D1C-9E771DB5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0450-94F7-4F62-81E8-3643A78B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EF30-2E3F-4F07-829F-0122D0F3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6BD08-9ACB-49DB-9597-7F80D41C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6885-DD7A-43B6-BFAD-F280E919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3065-38FD-4E51-9123-90381AB5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A1727-15C9-4642-B0DF-242496082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BC24-78A4-44EF-922D-981120B8D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FB253-ABDC-425C-9C8A-A0A41DBE0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FD366-C019-46B6-8D51-337FCADA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B0B8D-C14F-4CF8-B59F-E2079152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FDF03-2F9B-4136-8896-F1113E02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331C1-77BD-4D37-A0AA-FC872352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F427-CE05-4D6B-ADA7-F215EF07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C5851-6B9E-424D-A635-A5960E41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3C226-ADFB-4CB2-8EBC-907C0C97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19D6A-0E00-40F7-96A8-E2AFC911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7783F-B9FD-44E7-AC53-EE448F5D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2F0BB-6E9A-4D6B-8265-7278D27B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93BDD-E066-4401-B267-3EF535561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B6AC5-D06E-4243-82F8-09B62FF9B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6E4CE-1FBA-4A1B-BABF-5C7155E37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DF2B7-EA41-47AC-A13F-43DEE743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6F417-660A-4AE6-9AC2-C9315A70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CAAC-5168-4A18-ABCC-EB4FCE20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CBBC8-1BD4-44BE-9427-84D6D956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FDF16-B8D9-403A-998C-3268E86A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6EB52-B149-4790-AD50-26B5E9AC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BE2A1-A329-42F9-BC0A-69DF3232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6D180-3649-4BD0-8C5F-00DC70C8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874AD-9921-4FCF-872D-6F44CE95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1AAF7-C57D-4F4E-B20F-9FB591C2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F2C1E-CA1E-4118-AB4D-8943E59DD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A3681-1963-4D29-B94E-277A493E9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B8D03-FECB-449E-803E-1D22D556E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2A65-6EB7-4EB7-AE40-50A54818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A99F5-0BC6-460A-86EF-064D2BAE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DC728-5289-477B-82BC-7BA3F1EF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14486-9383-4B38-91F7-1F0D93E0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B4868-C9C1-4374-A0A4-1665E9A8D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BEB1E-C9E3-489C-B204-D88A4B33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17A30-8558-4ED3-8EFC-6AF70978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B72AF-55B8-41F3-934E-164563DF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F8A35-9F1D-42F4-B50D-53EA7F01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BF241-DE83-43D5-B359-C9922506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297A6-0BAD-4DB6-9663-D89E90480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7F8C-5C90-4564-A437-A25720A0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1861C-7104-4617-9E9B-E59C25286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13075-EFEC-48A8-8DCD-3BAA9E8C6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7EC3C-05C3-4780-B4FA-84C2540E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CA6AB-F89D-4071-BF56-8C998AB61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885CE-D613-4597-B49F-735098A5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EC981-2C81-4C14-8C8F-D554F83B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CB0E8-CCBD-4C49-AB91-BDA5CCFB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9208F-C5F1-48C9-8B03-0D6D3BBC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3CDED-FC87-46D7-8671-0646AAC4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CF2D2-C325-43D6-8619-E4E1C93C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D014-B1A3-49C9-8CF2-37B005B6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3D572-580F-498C-B6BA-8B72E11E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D8FEF-D2E2-438C-B331-A81A986B6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22E99-7E9E-4D12-AD80-B8CE4B40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A849D-120A-4B22-A5BB-219251EFF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70D22-2518-41FB-8219-E62DA8B0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326BE-9F43-4DB0-8E5E-C5DB89F7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88D58-3112-4ABA-BF7F-81D652A93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9166C9-DC6A-4388-B305-7388AE6B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6F4C9-080A-4D1C-B329-0E5DE62D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23DC5-8349-40F4-9B82-FFCCFB38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ED55-0980-4251-9063-0EC30E06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C850F-9C47-4409-858D-396D0E8C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1B6DE-A8BA-40E9-93BB-4139A7EF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8B2FD-D033-4728-AFDD-FFE98C3D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00364-9B5F-4C86-B533-EEF894C38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52FEC-2051-4DB2-8B40-3EB7F3BE2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F3F7D-0CF3-4957-8C1B-2D4A1F11D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1112E-AA2B-4C17-9E45-3AAC49D9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DB08D-55DE-4A9D-8332-B48B0C7E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AF77C0-F456-4176-B0C3-07B0A7D5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5B650-2650-4E74-A4DC-85DD017D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A4E1-4E58-4D6B-A231-F2FD76C2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6031C-B79C-4457-8288-D404ADFB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4F563-27C2-4D8B-A19F-9836A307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71CD8-1A9E-48EF-86D8-F81D3D9B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2317D-2934-4F9A-926D-E8DD611B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3CB74-3851-4AB6-B1AB-26A9C522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E432E-AC06-40CD-912B-31360F725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0ABB0-C427-4BDB-AB05-0A1C5FD20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22396-67F8-4C71-874C-24ED3C9D1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014C15-9578-416C-BF62-E03B13AF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F75103-64A4-4792-A146-91C6779F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9F20-7302-404B-AA97-96C0A2BAA44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A33B-E8E3-4696-AB30-6FE5BFD687F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459A-2728-47AC-97D0-5787684BA11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C26D-03AF-4540-AB8C-F0E5EFB89BA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530A-0EF7-4900-ADE8-9897D1FE90A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14BD-C23A-4708-BC31-0F5FDEADC84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2D6D-60B1-4E60-AF16-AB417C45484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768A-6C11-4676-8C22-81BF46D0B82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270E-CA2D-4CBF-840F-642C7638DF2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antclub.ru/cat/term/sushchestva/tli" TargetMode="External"/><Relationship Id="rId3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96400" cy="186516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Подготовила Прен О.И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Учитель биологи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528040" cy="884160"/>
          </a:xfrm>
          <a:prstGeom prst="rect">
            <a:avLst/>
          </a:prstGeom>
          <a:ln w="0">
            <a:noFill/>
          </a:ln>
        </p:spPr>
      </p:pic>
      <p:sp>
        <p:nvSpPr>
          <p:cNvPr id="420" name="TextBox 3"/>
          <p:cNvSpPr/>
          <p:nvPr/>
        </p:nvSpPr>
        <p:spPr>
          <a:xfrm>
            <a:off x="395280" y="1413000"/>
            <a:ext cx="806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  <a:ea typeface="Times New Roman"/>
              </a:rPr>
              <a:t>Большие муравейники без преувеличения можно назвать «фабриками плодородия». Рядом с муравейниками быстрей растут сосны, выше и гуще травостой, появляются требовательные к плодородию почвы растения, например дуб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2" descr="http://www.pd4pic.com/images/forest-ant-hill-huge-hill-wood-ants-ants-formica.jpg"/>
          <p:cNvPicPr/>
          <p:nvPr/>
        </p:nvPicPr>
        <p:blipFill>
          <a:blip r:embed="rId2"/>
          <a:stretch/>
        </p:blipFill>
        <p:spPr>
          <a:xfrm>
            <a:off x="1979640" y="2816280"/>
            <a:ext cx="504036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" descr=""/>
          <p:cNvPicPr/>
          <p:nvPr/>
        </p:nvPicPr>
        <p:blipFill>
          <a:blip r:embed="rId1"/>
          <a:stretch/>
        </p:blipFill>
        <p:spPr>
          <a:xfrm>
            <a:off x="1763640" y="268200"/>
            <a:ext cx="4969080" cy="3313080"/>
          </a:xfrm>
          <a:prstGeom prst="rect">
            <a:avLst/>
          </a:prstGeom>
          <a:ln w="0">
            <a:noFill/>
          </a:ln>
        </p:spPr>
      </p:pic>
      <p:sp>
        <p:nvSpPr>
          <p:cNvPr id="423" name="TextBox 6"/>
          <p:cNvSpPr/>
          <p:nvPr/>
        </p:nvSpPr>
        <p:spPr>
          <a:xfrm>
            <a:off x="387360" y="3645000"/>
            <a:ext cx="8064360" cy="30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окрытие из иголок и веточек. Защищает жилище от превратностей погоды, ремонтируется и обновляется рабочими муравь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"Солярий" - камера, нагреваемая лучами солнца. Весной обитатели забегают сюда погреть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дин из входов. Охраняется солдатами. Служит вентиляционным канал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"Кладбище". Сюда рабочие муравьи относят умерших собратьев и мусо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Зимовальная камера. Насекомые собираются здесь, чтобы пережить холода в состоянии полуспяч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"Хлебный амбар". Здесь муравьи хранят зер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Царская камера, где живет матка, откладывающая до полутора тысяч яиц в день. За ней ухаживают рабочие муравь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Камеры с яйцами, личинками и кукол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"Коровник", где муравьи содержат</a:t>
            </a:r>
            <a:r>
              <a:rPr b="0" lang="ru-RU" sz="1600" spc="-1" strike="noStrike" u="sng">
                <a:solidFill>
                  <a:srgbClr val="ff8119"/>
                </a:solidFill>
                <a:uFillTx/>
                <a:latin typeface="Times New Roman"/>
                <a:ea typeface="Times New Roman"/>
                <a:hlinkClick r:id="rId2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"Мясная кладовка", куда фуражиры приносят гусениц и другую добыч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охотник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няньки         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строител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фермеры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охранники 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«скотоводы»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сборщики падал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сборщики семян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60480" y="281160"/>
            <a:ext cx="8497800" cy="1150920"/>
          </a:xfrm>
          <a:prstGeom prst="rect">
            <a:avLst/>
          </a:prstGeom>
          <a:ln w="0">
            <a:noFill/>
          </a:ln>
        </p:spPr>
      </p:pic>
      <p:pic>
        <p:nvPicPr>
          <p:cNvPr id="426" name="Прямоугольник 5" descr=""/>
          <p:cNvPicPr/>
          <p:nvPr/>
        </p:nvPicPr>
        <p:blipFill>
          <a:blip r:embed="rId2"/>
          <a:stretch/>
        </p:blipFill>
        <p:spPr>
          <a:xfrm>
            <a:off x="401760" y="1133640"/>
            <a:ext cx="4700520" cy="8474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4" descr="http://www.discoverlife.org/IM/I_ALW/0001/mx/Formica_fusca,_worker_tending_aphids,I_ALW112.jpg"/>
          <p:cNvPicPr/>
          <p:nvPr/>
        </p:nvPicPr>
        <p:blipFill>
          <a:blip r:embed="rId3"/>
          <a:stretch/>
        </p:blipFill>
        <p:spPr>
          <a:xfrm>
            <a:off x="3643200" y="1714680"/>
            <a:ext cx="531360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539640" y="1738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амки-матк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амцы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9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547120" cy="1158840"/>
          </a:xfrm>
          <a:prstGeom prst="rect">
            <a:avLst/>
          </a:prstGeom>
          <a:ln w="0">
            <a:noFill/>
          </a:ln>
        </p:spPr>
      </p:pic>
      <p:pic>
        <p:nvPicPr>
          <p:cNvPr id="430" name="Прямоугольник 4" descr=""/>
          <p:cNvPicPr/>
          <p:nvPr/>
        </p:nvPicPr>
        <p:blipFill>
          <a:blip r:embed="rId2"/>
          <a:stretch/>
        </p:blipFill>
        <p:spPr>
          <a:xfrm>
            <a:off x="1785960" y="1116000"/>
            <a:ext cx="2730600" cy="8460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4" descr="http://edu.zelenogorsk.ru/projs/eko/bespozv/265.jpg"/>
          <p:cNvPicPr/>
          <p:nvPr/>
        </p:nvPicPr>
        <p:blipFill>
          <a:blip r:embed="rId3"/>
          <a:stretch/>
        </p:blipFill>
        <p:spPr>
          <a:xfrm>
            <a:off x="4859280" y="1197000"/>
            <a:ext cx="374508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6378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8T16:01:14Z</dcterms:created>
  <dc:creator>Елена</dc:creator>
  <dc:description/>
  <dc:language>en-US</dc:language>
  <cp:lastModifiedBy>kasya</cp:lastModifiedBy>
  <dcterms:modified xsi:type="dcterms:W3CDTF">2017-01-09T23:47:16Z</dcterms:modified>
  <cp:revision>39</cp:revision>
  <dc:subject/>
  <dc:title>Название презентации</dc:title>
</cp:coreProperties>
</file>