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C7F-EBB5-4DA7-A5CE-F9881301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B13-B170-4CE7-86F6-90CD7ACF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279A9-9DC9-4572-808D-FEDFB54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0C572-A89A-4ACE-8DFB-9106BBDE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E9623-EA03-4939-A050-110E622E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11B76-C72D-4347-B694-99D8D56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801B4-D46E-480B-B2A2-98929EE8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9D045-88B3-40EE-800F-3DB5490D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F20B9-D276-44FE-813F-73629AE2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CB163-535B-4232-B3A2-66AED2A1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30163-6E2C-4C2F-B615-9A8DE7BF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D64-3E86-4A34-9B13-81DF9461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4D4-93AD-454C-9B2D-12BCC1C9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88C2-91FB-406F-91CE-76EC1FB1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000E-F774-4993-94DA-B056D539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2901-5A53-4009-A9BB-575874C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E84E-D073-41D5-B666-91B5B64F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283A-4E39-4594-BDEA-814EAAE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B660-2822-453F-B6F1-F02C3E92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F287-F321-4538-90A2-C6AFE3C8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AF4-BABF-4CE6-BF8D-D39320B8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8DD1-C8BC-4B55-BB8B-0FCAA53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55A0-F383-4EFE-986A-F7383584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AF7E-5D0E-4A1D-8F8B-6F89AC17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2EFD-342E-46E9-9DF6-67F75FCF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527-1B89-44A4-AEAD-DE370634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9230-E240-4505-B9D7-CB9161F7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B19E-E195-427E-A817-00FA7673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0B37-263F-4635-ABC7-08BEFDA4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C438-8855-4B8F-89F7-C700B291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F386-6847-4F14-990C-5598410D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E46-6D54-4FE4-9B82-2B80ADB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5459-51A3-49E8-B6B9-0DC1B93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F06E-6403-4157-A4F8-5D10F827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DE1B-6196-4D03-B3D9-2CC3E54F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3B10A-C3E2-4CB8-AD5A-37ED059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4EF4-D912-4B1A-A605-7E5F503D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5E05-5BF1-4491-BE3B-45A804BB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8C1E-C1FB-447C-9A61-596F7052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7E88-0DCC-4EC1-8CE0-CEB564D8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FE19-7B92-4E9C-B987-D0EBE43A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7798B-361F-49B9-850F-5B210E88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2F9-100C-4132-AA39-1DC716F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DDC9-5B2C-4434-AB43-582289D5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F729-A3F9-4031-99B5-E64D6A96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0571-3BAD-4FFB-988C-6766275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7BE3-69DA-4534-AEE9-6F845C97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E584-433A-400B-AD80-9A94B844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E1F8-CB1C-40DE-98AC-C14071A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A200-D7D3-4012-8405-1ED3E4CF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4ADE-A1AE-4A1E-8A81-77A9D53A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C9FB-5416-4BB0-8D60-9F269D7A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C8D1-D757-4FF0-A702-D06BD47C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16A-EA28-4149-A6FE-A646CAD4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0419-A58F-4814-A93B-CC1A684B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0C48-7823-4222-951F-343617E8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A6E6-F646-473B-AE3E-4718BBA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AA59-97DF-4CF2-B7FB-DD094A86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8D5E-DDE5-4F50-89B3-770C7487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FF11-4D65-4974-BC6F-2CEAAC0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FD26-167D-4E73-BCDD-9CC2517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37C4-504B-4AE0-86F9-494AE18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43F5-0B8B-40B4-BC33-1259706E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08A4-1A9D-4D24-87DA-3361E778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64A-2225-40FC-A8F5-7DFDA736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F66B-8944-420D-9FF1-C01739E8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36770-BB78-4ED6-A567-2C03DFCF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1CA7B-3847-44CB-9CF3-6D5841B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397A-A1EC-4D81-9E81-DA2C2EF9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576BB-9B13-493E-A4D6-41D42AD7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0EBD-7906-4D5E-914A-CF79F832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F7C5E-FA07-4A20-B2C8-39E0666F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320F9-0998-4325-A0D9-D67BCDB7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F322-F3DD-48E6-8DCF-8BD6224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218D-80BE-4BC9-B046-C2F3E4F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39E-C8EE-4727-B3BB-83BC837E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CD14B-2EA1-4DC7-9D27-F9EB44A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932F1-5775-4347-8AEF-8B575CCA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C590-1787-4541-AE4E-ACC61E00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26E2-B8D7-4D0D-A715-B4658953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70453-83EB-4915-A3F6-AFDDC25E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A94EF-482F-4B14-AF26-493EC8B9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CC6D-17F5-418A-9173-9795D6D0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CD58-5B29-4F20-8AEC-E7C27C16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9A28-40E3-47CC-A592-8BBD4A0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3AB71-CB98-4FCE-B8DC-3BE746BC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B79-4CC6-4A6F-81EB-8CE7158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42C0-5FD7-4022-AC74-9F10FDB1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7680E-C81E-4857-817F-E8546C9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0C00-F643-45B8-A9F9-402AE3D7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4CA62-8C53-4C50-8F92-22D0A1F8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34C6B-8C92-44F4-9DE9-40DE0320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5993B-0D88-4F36-A3A3-C7D5CC86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B6C7-F08C-4BBE-98BD-C60E07C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28091-8AFF-4DCB-B8B5-FAB5B845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433E-8BCB-4B2F-BC44-55219A92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7982-C907-4D05-A9B3-C0BB7F6D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587-CF41-4DF5-B180-60EEC740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93CAD-D098-47FF-BB17-5484DE54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8126-B8A6-4A17-AE79-9B0EEAB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B18FE-D584-44CD-B711-EB7C6E3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0D9FA-6F0A-4144-AE89-F38E060A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D9433-F7D6-48F8-8CEB-8B8872AA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12B26-C040-4D44-9B96-B9C7A467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7CA85-35C6-4443-8B4D-31EA8190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9C3F9-FA5D-4506-B854-76781132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EE466-13F9-4BD4-8C4C-F4C9CC88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E258B-879F-4A72-8792-165BA13B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150-71D4-4777-9297-285D07CE8B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E11E-2F64-4707-8033-AF227B63EA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310F-DCC2-4A3F-A656-6D85D9DEC6A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F4E0-4E58-4929-93D4-D7E4E4CB36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915E-5323-46B5-8D90-2606468F96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5ECB-E084-4A92-B7BF-D4153AF15E5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90ED-02D5-4F2E-A6A0-E024821B2A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80C0-3344-499D-B83D-5A169B0BC6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1C6-C4CF-4DF4-8FBC-B7E433EABB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antclub.ru/cat/term/sushchestva/tli" TargetMode="External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651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 Прен О.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читель биолог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528040" cy="8841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3"/>
          <p:cNvSpPr/>
          <p:nvPr/>
        </p:nvSpPr>
        <p:spPr>
          <a:xfrm>
            <a:off x="395280" y="1413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Большие муравейники без преувеличения можно назвать «фабриками плодородия». Рядом с муравейниками быстрей растут сосны, выше и гуще травостой, появляются требовательные к плодородию почвы растения, например д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http://www.pd4pic.com/images/forest-ant-hill-huge-hill-wood-ants-ants-formica.jpg"/>
          <p:cNvPicPr/>
          <p:nvPr/>
        </p:nvPicPr>
        <p:blipFill>
          <a:blip r:embed="rId2"/>
          <a:stretch/>
        </p:blipFill>
        <p:spPr>
          <a:xfrm>
            <a:off x="1979640" y="281628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763640" y="268200"/>
            <a:ext cx="4969080" cy="331308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387360" y="3645000"/>
            <a:ext cx="806436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ытие из иголок и веточек. Защищает жилище от превратностей погоды, ремонтируется и обновляется рабочими мурав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"Солярий" - камера, нагреваемая лучами солнца. Весной обитатели забегают сюда погре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дин из входов. Охраняется солдатами. Служит вентиляционным кан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"Кладбище". Сюда рабочие муравьи относят умерших собратьев и мус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имовальная камера. Насекомые собираются здесь, чтобы пережить холода в состоянии полуспя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"Хлебный амбар". Здесь муравьи хранят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Царская камера, где живет матка, откладывающая до полутора тысяч яиц в день. За ней ухаживают рабочие мурав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меры с яйцами, личинками и кукол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"Коровник", где муравьи содержат</a:t>
            </a:r>
            <a:r>
              <a:rPr b="0" lang="ru-RU" sz="1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"Мясная кладовка", куда фуражиры приносят гусениц и другую добыч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охотни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няньки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троител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фермер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охранники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«скотоводы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борщики падал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борщики семя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60480" y="281160"/>
            <a:ext cx="8497800" cy="11509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1133640"/>
            <a:ext cx="4700520" cy="847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http://www.discoverlife.org/IM/I_ALW/0001/mx/Formica_fusca,_worker_tending_aphids,I_ALW112.jpg"/>
          <p:cNvPicPr/>
          <p:nvPr/>
        </p:nvPicPr>
        <p:blipFill>
          <a:blip r:embed="rId3"/>
          <a:stretch/>
        </p:blipFill>
        <p:spPr>
          <a:xfrm>
            <a:off x="3643200" y="1714680"/>
            <a:ext cx="53136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39640" y="1738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ки-мат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ц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47120" cy="115884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4" descr=""/>
          <p:cNvPicPr/>
          <p:nvPr/>
        </p:nvPicPr>
        <p:blipFill>
          <a:blip r:embed="rId2"/>
          <a:stretch/>
        </p:blipFill>
        <p:spPr>
          <a:xfrm>
            <a:off x="1785960" y="1116000"/>
            <a:ext cx="2730600" cy="846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edu.zelenogorsk.ru/projs/eko/bespozv/265.jpg"/>
          <p:cNvPicPr/>
          <p:nvPr/>
        </p:nvPicPr>
        <p:blipFill>
          <a:blip r:embed="rId3"/>
          <a:stretch/>
        </p:blipFill>
        <p:spPr>
          <a:xfrm>
            <a:off x="4859280" y="1197000"/>
            <a:ext cx="374508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37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kasya</cp:lastModifiedBy>
  <dcterms:modified xsi:type="dcterms:W3CDTF">2017-01-09T23:47:16Z</dcterms:modified>
  <cp:revision>39</cp:revision>
  <dc:subject/>
  <dc:title>Название презентации</dc:title>
</cp:coreProperties>
</file>