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B12-7FBE-44FD-9A82-23F736C8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8B2-17FD-4FD2-A6D0-844EA132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307-4589-4F46-9D1B-BEC441CC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03A-6373-4695-AD58-9150BFFC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91C-76C6-4164-B987-22C6AED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05D-DE3A-44A6-A5E4-314A135B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DE2-3B5C-4A76-85D4-B90F4CC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874-D6D4-4DFE-BEAA-A8601C98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19C-CB67-4CBB-A7F8-F5654946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C51-0FB0-4C62-B634-57CD889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FA3-CC3E-40C8-A567-5411171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E35-D107-453B-95AC-9B284B90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8028-DBC1-494B-B10D-B80A5172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360360"/>
            <a:ext cx="95392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нязь Владими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043928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77760"/>
            <a:ext cx="10080720" cy="76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5-02-21T11:14:05Z</dcterms:modified>
  <cp:revision>5</cp:revision>
  <dc:subject/>
  <dc:title/>
</cp:coreProperties>
</file>