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53F8-86EC-4C5E-8B5F-5DAE6F3D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607-DEE3-4CB6-A3D1-BBF9ADEA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2006-728B-475E-AE09-F506AF46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EC7-B0A9-47D9-B6D9-4294FE16C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03F0-3E77-4AAA-80C5-6DA4AC29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9B19-F4C9-41AF-9706-49037D31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CB79-0E98-4967-ADBA-C463440D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3A78-CEAF-4107-A13C-57D564A3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1962-CF1D-4C7F-AA55-890AE895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3DB3-AE97-4138-BEF8-F4717366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8932-424E-4972-A4C5-EBBBE46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C278-7B0D-497A-9C6F-A2A8821C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446F7-456F-438B-B555-9DC293D49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60360"/>
            <a:ext cx="10080720" cy="630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79640" y="360360"/>
            <a:ext cx="953928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5240" bIns="450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нязь Владими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60360" y="0"/>
            <a:ext cx="10439280" cy="77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77760"/>
            <a:ext cx="10080720" cy="763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0920" cy="15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15-02-21T11:14:05Z</dcterms:modified>
  <cp:revision>5</cp:revision>
  <dc:subject/>
  <dc:title/>
</cp:coreProperties>
</file>