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EEC-E740-42A2-B2B7-49FA5ED1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E0E9-D611-4E08-BC20-CE70021D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391-984B-4721-AB05-EEF5F7E4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620C-BA9B-41D8-BFCA-29A157B9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5126-8D24-4435-9C21-49A4B2A88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ED53-1D32-42C8-B1DB-28FA7C48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BBB8-207A-4836-BB59-B8C916C2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15B6-4744-4146-B10A-22AE3F46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AF18-4A01-4896-9960-FB26BBC8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07A6-FFCF-4A0D-9F07-4366D6E6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1913-4D7F-4777-8C0E-2DD4350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DF76-845E-4F05-8EDD-33E1BEBF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261C-EF63-4428-B090-504AFE3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94DE-FD27-4C94-8703-0FAEE9D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796D-EC28-470D-89BC-B3A08883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8FA5-8418-4690-8A35-EBAD733D1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ADC7-27F3-4078-BB2A-246E21F5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75B-FF61-40C8-BC27-5F3EAD54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E25B-4BF4-4345-AB45-CABEC766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1FBD-AFB9-451C-83A7-DA23F440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081D-4290-42F9-A59F-7C7B2C0E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FC42-3D7A-4D72-B058-90A75975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0BEF-BF82-47C3-A2DA-55E23DFB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4048-6F2A-439B-A800-C8D0837E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6DF6-97F2-4B52-BECC-D023D852369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1844-820A-4759-A182-8E0A8D46624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2997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Что такое детектив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uaro3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" dur="2931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Лейтенант Коломб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3" descr="121"/>
          <p:cNvPicPr/>
          <p:nvPr/>
        </p:nvPicPr>
        <p:blipFill>
          <a:blip r:embed="rId1"/>
          <a:stretch/>
        </p:blipFill>
        <p:spPr>
          <a:xfrm>
            <a:off x="2411280" y="2060640"/>
            <a:ext cx="4077000" cy="4543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Фильм_00017.wmv" descr=""/>
          <p:cNvPicPr/>
          <p:nvPr/>
        </p:nvPicPr>
        <p:blipFill>
          <a:blip r:embed="rId1"/>
          <a:stretch/>
        </p:blipFill>
        <p:spPr>
          <a:xfrm>
            <a:off x="1403280" y="907920"/>
            <a:ext cx="6624720" cy="4969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76256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4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4692"/>
                </a:solidFill>
                <a:latin typeface="Comic Sans MS"/>
              </a:rPr>
              <a:t>Запишем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торое «открытие» –главный герой: неординарная личность, обладающая необыкновенными аналитическими способностями и странностями в характере и поведении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октор Уотсон, помощник Шерлока Холмс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3" descr="32-d0e7b"/>
          <p:cNvPicPr/>
          <p:nvPr/>
        </p:nvPicPr>
        <p:blipFill>
          <a:blip r:embed="rId1"/>
          <a:stretch/>
        </p:blipFill>
        <p:spPr>
          <a:xfrm>
            <a:off x="2050920" y="2852640"/>
            <a:ext cx="4680000" cy="3575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Безымянный4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Безымянный5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0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Безымянный6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1" dur="indefinite" restart="never" nodeType="tmRoot">
          <p:childTnLst>
            <p:seq>
              <p:cTn id="21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6" dur="1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Капитан Гастингс,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руг Пуар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icture 3" descr="1arthur"/>
          <p:cNvPicPr/>
          <p:nvPr/>
        </p:nvPicPr>
        <p:blipFill>
          <a:blip r:embed="rId1"/>
          <a:stretch/>
        </p:blipFill>
        <p:spPr>
          <a:xfrm>
            <a:off x="2627280" y="220500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uaro2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71434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696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4000" spc="-1" strike="noStrike">
                <a:solidFill>
                  <a:srgbClr val="006600"/>
                </a:solidFill>
                <a:latin typeface="Comic Sans MS"/>
              </a:rPr>
              <a:t>Детектив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в переводе с английского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tective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значает </a:t>
            </a:r>
            <a:r>
              <a:rPr b="1" i="1" lang="ru-RU" sz="4000" spc="-1" strike="noStrike">
                <a:solidFill>
                  <a:srgbClr val="006600"/>
                </a:solidFill>
                <a:latin typeface="Comic Sans MS"/>
              </a:rPr>
              <a:t>сыщик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uaro4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" dur="29450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9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4692"/>
                </a:solidFill>
                <a:latin typeface="Comic Sans MS"/>
              </a:rPr>
              <a:t>Запишем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етье «открытие» – введение второго героя, обыкновенного человек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ть статью в учебнике на страницах 71-72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помнить то, что вам известно об Эдгаре По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очитать рассказ Эдгара По на страницах 72 – 88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4360" y="260280"/>
            <a:ext cx="769608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Эдгар Аллан По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 основоположник детективной литератур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3" descr="200px-Edgar_Allan_Poe_2"/>
          <p:cNvPicPr/>
          <p:nvPr/>
        </p:nvPicPr>
        <p:blipFill>
          <a:blip r:embed="rId1"/>
          <a:stretch/>
        </p:blipFill>
        <p:spPr>
          <a:xfrm>
            <a:off x="3059280" y="2133720"/>
            <a:ext cx="357156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4692"/>
                </a:solidFill>
                <a:latin typeface="Comic Sans MS"/>
              </a:rPr>
              <a:t>Запишем в тетрад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ервое «открытие» По – построение рассказов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кспози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вяз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итие действ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ульминац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язк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торое «открытие» П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Главный геро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7489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Comic Sans MS"/>
              </a:rPr>
              <a:t>Мистер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 Sans MS"/>
              </a:rPr>
              <a:t>Шерлок Холм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3" descr="tru(12)"/>
          <p:cNvPicPr/>
          <p:nvPr/>
        </p:nvPicPr>
        <p:blipFill>
          <a:blip r:embed="rId1"/>
          <a:stretch/>
        </p:blipFill>
        <p:spPr>
          <a:xfrm>
            <a:off x="2124000" y="2421000"/>
            <a:ext cx="4599000" cy="3736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Эркюль Пуар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3" descr="puaro-2"/>
          <p:cNvPicPr/>
          <p:nvPr/>
        </p:nvPicPr>
        <p:blipFill>
          <a:blip r:embed="rId1"/>
          <a:stretch/>
        </p:blipFill>
        <p:spPr>
          <a:xfrm>
            <a:off x="2987640" y="1989000"/>
            <a:ext cx="3192480" cy="4237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uaro1.wmv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38186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ФильмУсы.wmv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201080" cy="5398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3614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138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1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0:03:42Z</dcterms:created>
  <dc:creator>Динка</dc:creator>
  <dc:description/>
  <dc:language>en-US</dc:language>
  <cp:lastModifiedBy>Учитель</cp:lastModifiedBy>
  <dcterms:modified xsi:type="dcterms:W3CDTF">2017-01-10T10:07:50Z</dcterms:modified>
  <cp:revision>38</cp:revision>
  <dc:subject/>
  <dc:title>Урок по литературе XXI века</dc:title>
</cp:coreProperties>
</file>