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FC2-4956-46A9-882E-8F368BB7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885-5F35-4A18-A635-52C0A32C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B627-8502-4F59-8D47-69B6ECA8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7B7-43AD-4D24-844E-19A62C96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D1C9-0D2D-400E-B69F-96BB1084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AB54-799F-40CF-BFBE-F651F5EF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49C9-E342-4C1B-ACC4-C4F601F7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18A8-BD87-417B-92FE-E189493C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7DFE-81D9-475B-B3C4-1E28D249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0BA5-0501-482E-B304-F854D75D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3332-915C-4A00-AE4C-625EA190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320-D119-49BB-AD24-E38C605B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E300-2F9B-496E-952E-BABBF61C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B5C6-F5F6-4003-8A34-FEA96F8A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9ABE-ADBE-46D4-BFD9-EA15D0B1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7A50-7D97-4B01-9816-445DFD3D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4F17-11C4-4A97-A350-422634E2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DC0C-1A18-4EAB-A4A0-796CF5CE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BDE7-8AE9-4D02-8B3D-5E511D5C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136-2FA7-40EE-AB74-346FAFD2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9AD-8AD3-4186-90C1-B873782B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83A-C88C-486F-BB0D-25DB0FB1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305-B0B6-4E9F-92A2-5F8B1922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FF4-BEBF-480F-B6BD-941033F6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3B25-B3ED-4A44-A84D-B26BB0E0A9F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E767-7CD1-4980-9647-1342BFFA881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2997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Что такое детектив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uaro3.wmv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29312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Лейтенант Коломб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3" descr="121"/>
          <p:cNvPicPr/>
          <p:nvPr/>
        </p:nvPicPr>
        <p:blipFill>
          <a:blip r:embed="rId1"/>
          <a:stretch/>
        </p:blipFill>
        <p:spPr>
          <a:xfrm>
            <a:off x="2411280" y="2060640"/>
            <a:ext cx="4077000" cy="4543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Фильм_00017.wmv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76256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4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4692"/>
                </a:solidFill>
                <a:latin typeface="Comic Sans MS"/>
              </a:rPr>
              <a:t>Запишем в тетрад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торое «открытие» –главный герой: неординарная личность, обладающая необыкновенными аналитическими способностями и странностями в характере и поведени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27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Доктор Уотсон, помощник Шерлока Холмс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3" descr="32-d0e7b"/>
          <p:cNvPicPr/>
          <p:nvPr/>
        </p:nvPicPr>
        <p:blipFill>
          <a:blip r:embed="rId1"/>
          <a:stretch/>
        </p:blipFill>
        <p:spPr>
          <a:xfrm>
            <a:off x="2050920" y="2852640"/>
            <a:ext cx="4680000" cy="3575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Безымянный4.wmv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4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Безымянный5.wmv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0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Безымянный6.wmv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6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Капитан Гастингс,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друг Пуар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3" descr="1arthur"/>
          <p:cNvPicPr/>
          <p:nvPr/>
        </p:nvPicPr>
        <p:blipFill>
          <a:blip r:embed="rId1"/>
          <a:stretch/>
        </p:blipFill>
        <p:spPr>
          <a:xfrm>
            <a:off x="2627280" y="2205000"/>
            <a:ext cx="3889440" cy="3889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uaro2.wmv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7143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8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006600"/>
                </a:solidFill>
                <a:latin typeface="Comic Sans MS"/>
              </a:rPr>
              <a:t>Детектив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(в переводе с английского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tective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значает </a:t>
            </a:r>
            <a:r>
              <a:rPr b="1" i="1" lang="ru-RU" sz="4000" spc="-1" strike="noStrike">
                <a:solidFill>
                  <a:srgbClr val="006600"/>
                </a:solidFill>
                <a:latin typeface="Comic Sans MS"/>
              </a:rPr>
              <a:t>сыщик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uaro4.wmv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29450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9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4692"/>
                </a:solidFill>
                <a:latin typeface="Comic Sans MS"/>
              </a:rPr>
              <a:t>Запишем в тетрад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етье «открытие» – введение второго героя, обыкновенного челове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ть статью в учебнике на страницах 71-72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помнить то, что вам известно об Эдгаре По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ть рассказ Эдгара По на страницах 72 – 88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4360" y="260280"/>
            <a:ext cx="76960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Эдгар Аллан По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 основоположник детективной литератур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3" descr="200px-Edgar_Allan_Poe_2"/>
          <p:cNvPicPr/>
          <p:nvPr/>
        </p:nvPicPr>
        <p:blipFill>
          <a:blip r:embed="rId1"/>
          <a:stretch/>
        </p:blipFill>
        <p:spPr>
          <a:xfrm>
            <a:off x="3059280" y="2133720"/>
            <a:ext cx="357156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4692"/>
                </a:solidFill>
                <a:latin typeface="Comic Sans MS"/>
              </a:rPr>
              <a:t>Запишем в тетрад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ервое «открытие» По – построение рассказов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кспозиц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вяз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витие действ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ульминац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вяз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торое «открытие» П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лавный геро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4898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Comic Sans MS"/>
              </a:rPr>
              <a:t>Мистер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 Sans MS"/>
              </a:rPr>
              <a:t>Шерлок Холмс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3" descr="tru(12)"/>
          <p:cNvPicPr/>
          <p:nvPr/>
        </p:nvPicPr>
        <p:blipFill>
          <a:blip r:embed="rId1"/>
          <a:stretch/>
        </p:blipFill>
        <p:spPr>
          <a:xfrm>
            <a:off x="2124000" y="2421000"/>
            <a:ext cx="4599000" cy="3736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Эркюль Пуар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3" descr="puaro-2"/>
          <p:cNvPicPr/>
          <p:nvPr/>
        </p:nvPicPr>
        <p:blipFill>
          <a:blip r:embed="rId1"/>
          <a:stretch/>
        </p:blipFill>
        <p:spPr>
          <a:xfrm>
            <a:off x="2987640" y="1989000"/>
            <a:ext cx="3192480" cy="4237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uaro1.wmv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38186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0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ФильмУсы.wmv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201080" cy="5398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36149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1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0:03:42Z</dcterms:created>
  <dc:creator>Динка</dc:creator>
  <dc:description/>
  <dc:language>en-US</dc:language>
  <cp:lastModifiedBy>Учитель</cp:lastModifiedBy>
  <dcterms:modified xsi:type="dcterms:W3CDTF">2017-01-10T10:07:50Z</dcterms:modified>
  <cp:revision>38</cp:revision>
  <dc:subject/>
  <dc:title>Урок по литературе XXI века</dc:title>
</cp:coreProperties>
</file>