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CE0-E101-40B6-999A-EFA4CC4A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699-E86B-403D-B474-3C5AF60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C9A-EE57-497A-9F47-2C03E00C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031-A180-4A96-B9F2-DA21D0E2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C09-0D4B-4665-B349-2218A94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240-D732-403C-8382-E86D35C5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241-50BD-4305-8AAD-CC6BFEA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78A-336A-40B4-9003-3DAFAF49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36F-E7D5-40B0-8F81-A466AF0D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5D1-E74F-4E13-88B4-5D031B27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676-00FF-48D7-8ED2-D69967C0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D3E-8200-4267-96A3-06A3DEF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8893-93D1-4063-9070-6C3F85B5E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stalker.petrovka.ua/thumbs/96898----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87280" y="119700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prstDash val="sysDot"/>
                  <a:miter/>
                </a:ln>
                <a:solidFill>
                  <a:srgbClr val="0000ff"/>
                </a:solidFill>
                <a:latin typeface="Monotype Corsiva"/>
              </a:rPr>
              <a:t>Обращение</a:t>
            </a:r>
            <a:endParaRPr b="1" i="1" lang="en-US" sz="1800" spc="1" strike="noStrike">
              <a:ln w="15840">
                <a:solidFill>
                  <a:srgbClr val="000000"/>
                </a:solidFill>
                <a:prstDash val="sysDot"/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547640" y="3860640"/>
            <a:ext cx="66009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Book Antiqua"/>
              </a:rPr>
              <a:t>и знаки препинания при нё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Book Antiqua"/>
              <a:ea typeface="Book Antiqu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42920" y="4581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рок русского языка в 8 к-2 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64000" y="55548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Автор: Невакшен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116000" y="30240"/>
            <a:ext cx="734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Муниципальное 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Гатчинская  СОШ № 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8"/>
          <p:cNvPicPr/>
          <p:nvPr/>
        </p:nvPicPr>
        <p:blipFill>
          <a:blip r:embed="rId1"/>
          <a:stretch/>
        </p:blipFill>
        <p:spPr>
          <a:xfrm>
            <a:off x="108000" y="4800600"/>
            <a:ext cx="22320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30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611280" y="907920"/>
            <a:ext cx="79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Назовите произведения А.С.Пушкина, в которых воспроизводится эта пес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21225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56536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шуми, мати, зелёная дубраву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мешай мне, доброму молодцу, думу дум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Что заутра мне, доброму молодцу, в допрос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еред грозного судью - самого цар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4067280" y="5661000"/>
            <a:ext cx="742680" cy="101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а 26 из 5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125360"/>
            <a:ext cx="3724200" cy="5113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Картинка 4 из 519"/>
          <p:cNvPicPr/>
          <p:nvPr/>
        </p:nvPicPr>
        <p:blipFill>
          <a:blip r:embed="rId5"/>
          <a:stretch/>
        </p:blipFill>
        <p:spPr>
          <a:xfrm>
            <a:off x="4859280" y="1052640"/>
            <a:ext cx="4011840" cy="5184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"/>
          <p:cNvSpPr/>
          <p:nvPr/>
        </p:nvSpPr>
        <p:spPr>
          <a:xfrm>
            <a:off x="8172360" y="6031080"/>
            <a:ext cx="971640" cy="826920"/>
          </a:xfrm>
          <a:custGeom>
            <a:avLst/>
            <a:gdLst>
              <a:gd name="textAreaLeft" fmla="*/ 53280 w 971640"/>
              <a:gd name="textAreaRight" fmla="*/ 918360 w 97164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5379" h="21600">
                <a:moveTo>
                  <a:pt x="0" y="0"/>
                </a:moveTo>
                <a:lnTo>
                  <a:pt x="25379" y="0"/>
                </a:lnTo>
                <a:lnTo>
                  <a:pt x="25379" y="21600"/>
                </a:lnTo>
                <a:lnTo>
                  <a:pt x="0" y="21600"/>
                </a:lnTo>
                <a:close/>
              </a:path>
              <a:path fill="lightenLess" w="25379" h="21600">
                <a:moveTo>
                  <a:pt x="0" y="0"/>
                </a:moveTo>
                <a:lnTo>
                  <a:pt x="25379" y="0"/>
                </a:lnTo>
                <a:lnTo>
                  <a:pt x="23979" y="1400"/>
                </a:lnTo>
                <a:lnTo>
                  <a:pt x="1400" y="1400"/>
                </a:lnTo>
                <a:close/>
              </a:path>
              <a:path fill="darken" w="25379" h="21600">
                <a:moveTo>
                  <a:pt x="25379" y="0"/>
                </a:moveTo>
                <a:lnTo>
                  <a:pt x="25379" y="21600"/>
                </a:lnTo>
                <a:lnTo>
                  <a:pt x="23979" y="20200"/>
                </a:lnTo>
                <a:lnTo>
                  <a:pt x="23979" y="1400"/>
                </a:lnTo>
                <a:close/>
              </a:path>
              <a:path fill="darkenLess" w="25379" h="21600">
                <a:moveTo>
                  <a:pt x="25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9" y="20200"/>
                </a:lnTo>
                <a:close/>
              </a:path>
              <a:path fill="lighten" w="25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9" h="21600">
                <a:moveTo>
                  <a:pt x="5683" y="10800"/>
                </a:moveTo>
                <a:lnTo>
                  <a:pt x="19696" y="3794"/>
                </a:lnTo>
                <a:lnTo>
                  <a:pt x="1969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324000" y="11592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Распространённые и нераспространё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бращ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39" name="Picture 3" descr="32"/>
          <p:cNvPicPr/>
          <p:nvPr/>
        </p:nvPicPr>
        <p:blipFill>
          <a:blip r:embed="rId1"/>
          <a:stretch/>
        </p:blipFill>
        <p:spPr>
          <a:xfrm>
            <a:off x="7956720" y="549360"/>
            <a:ext cx="1008000" cy="1052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0" y="1484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распространённые обращения выражены одним сл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Старик! Я слышал много раз, что ты меня от смерти спас (Лермон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Распространённые обращения включают в себя пояснитель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Эй, славяне, что с Кубани, с Дона, с Волги, с Иртыша, занимай высоты в бане, закрепляйся не спеша! (Твардовски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245440" y="6031080"/>
            <a:ext cx="898560" cy="826920"/>
          </a:xfrm>
          <a:custGeom>
            <a:avLst/>
            <a:gdLst>
              <a:gd name="textAreaLeft" fmla="*/ 53280 w 898560"/>
              <a:gd name="textAreaRight" fmla="*/ 845280 w 8985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3470" h="21600">
                <a:moveTo>
                  <a:pt x="0" y="0"/>
                </a:moveTo>
                <a:lnTo>
                  <a:pt x="23470" y="0"/>
                </a:lnTo>
                <a:lnTo>
                  <a:pt x="23470" y="21600"/>
                </a:lnTo>
                <a:lnTo>
                  <a:pt x="0" y="21600"/>
                </a:lnTo>
                <a:close/>
              </a:path>
              <a:path fill="lightenLess" w="23470" h="21600">
                <a:moveTo>
                  <a:pt x="0" y="0"/>
                </a:moveTo>
                <a:lnTo>
                  <a:pt x="23470" y="0"/>
                </a:lnTo>
                <a:lnTo>
                  <a:pt x="22070" y="1400"/>
                </a:lnTo>
                <a:lnTo>
                  <a:pt x="1400" y="1400"/>
                </a:lnTo>
                <a:close/>
              </a:path>
              <a:path fill="darken" w="23470" h="21600">
                <a:moveTo>
                  <a:pt x="23470" y="0"/>
                </a:moveTo>
                <a:lnTo>
                  <a:pt x="23470" y="21600"/>
                </a:lnTo>
                <a:lnTo>
                  <a:pt x="22070" y="20200"/>
                </a:lnTo>
                <a:lnTo>
                  <a:pt x="22070" y="1400"/>
                </a:lnTo>
                <a:close/>
              </a:path>
              <a:path fill="darkenLess" w="23470" h="21600">
                <a:moveTo>
                  <a:pt x="23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70" y="20200"/>
                </a:lnTo>
                <a:close/>
              </a:path>
              <a:path fill="lighten" w="23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0" h="21600">
                <a:moveTo>
                  <a:pt x="4729" y="3794"/>
                </a:moveTo>
                <a:lnTo>
                  <a:pt x="18742" y="10800"/>
                </a:lnTo>
                <a:lnTo>
                  <a:pt x="472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43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684360" y="83664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Распространите обращения прилага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0" y="19065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частники конференции, просим вас пройти регистрацию в кабинете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друг! Эта книга поведёт тебя в мир удивительных приклю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ама, я очень скуч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39640" y="2205000"/>
            <a:ext cx="2089440" cy="87480"/>
          </a:xfrm>
          <a:prstGeom prst="rect">
            <a:avLst/>
          </a:prstGeom>
        </p:spPr>
        <p:txBody>
          <a:bodyPr wrap="none" lIns="90000" rIns="90000" tIns="40680" bIns="406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-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826920" y="3645000"/>
            <a:ext cx="2089440" cy="87120"/>
          </a:xfrm>
          <a:prstGeom prst="rect">
            <a:avLst/>
          </a:prstGeom>
        </p:spPr>
        <p:txBody>
          <a:bodyPr wrap="none" lIns="90000" rIns="90000" tIns="40680" bIns="406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-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755640" y="4653000"/>
            <a:ext cx="2089080" cy="87120"/>
          </a:xfrm>
          <a:prstGeom prst="rect">
            <a:avLst/>
          </a:prstGeom>
        </p:spPr>
        <p:txBody>
          <a:bodyPr wrap="none" lIns="90000" rIns="90000" tIns="40680" bIns="406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-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2700360" y="4869000"/>
            <a:ext cx="3228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Monotype Corsiva"/>
              </a:rPr>
              <a:t>Слова для справ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755640" y="5589720"/>
            <a:ext cx="16556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Ми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1" name="WordArt 11"/>
          <p:cNvSpPr txBox="1"/>
          <p:nvPr/>
        </p:nvSpPr>
        <p:spPr>
          <a:xfrm>
            <a:off x="3564000" y="5516640"/>
            <a:ext cx="18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важае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6372360" y="5661000"/>
            <a:ext cx="16556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Дорог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53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7956720" y="422100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4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10800"/>
                </a:moveTo>
                <a:lnTo>
                  <a:pt x="19548" y="3794"/>
                </a:lnTo>
                <a:lnTo>
                  <a:pt x="1954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941E-006 L 0.03559 -0.17049 E">
                                      <p:cBhvr>
                                        <p:cTn id="7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4187 L -0.33055 -0.53481 E">
                                      <p:cBhvr>
                                        <p:cTn id="7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72588E-006 L -0.59844 -0.30419 E">
                                      <p:cBhvr>
                                        <p:cTn id="7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1268280"/>
            <a:ext cx="91440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устной речи обращения служат для привлечения внимания собеседника и одновременно для выражения отношения говорящего к собеседн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Monotype Corsiva"/>
              </a:rPr>
              <a:t>Провожающие, просим вас освободить ваг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письменной речи обращения служат для выражения отношения пишущего к адрес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Monotype Corsiva"/>
              </a:rPr>
              <a:t>Милый Миша, здравству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1979640" y="18900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Роль в язы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5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332000" y="115920"/>
            <a:ext cx="669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Использование обращений 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оэтической ре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60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0" y="1413000"/>
            <a:ext cx="914400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поэтических текстах нередко в качестве обращений используются неодушевлённые предметы. Такая стилистическая фигура речи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риторическим обращением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Риторические обращения не требуют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Не шуми ты, рожь, спелым колосом (Кольцов</a:t>
            </a: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>
            <a:hlinkClick r:id="" action="ppaction://hlinkshowjump?jump=next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3794"/>
                </a:moveTo>
                <a:lnTo>
                  <a:pt x="19711" y="10800"/>
                </a:lnTo>
                <a:lnTo>
                  <a:pt x="569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64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179280" y="2565360"/>
            <a:ext cx="4464000" cy="4103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56000" y="2565360"/>
            <a:ext cx="4464000" cy="4103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900000" y="75420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На уроках литературы мы недавно знакомились с произведениями  Ф.И.Тютчева. Запишите по памяти строки с обращениями, соответствующими данным иллюстр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84360" y="3130560"/>
            <a:ext cx="34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Что ты клонишь над вод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ва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, макушку с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10"/>
          <p:cNvPicPr/>
          <p:nvPr/>
        </p:nvPicPr>
        <p:blipFill>
          <a:blip r:embed="rId2"/>
          <a:stretch/>
        </p:blipFill>
        <p:spPr>
          <a:xfrm>
            <a:off x="684360" y="3213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4859280" y="328464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ы, волна моя морск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военравная вол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, покоясь иль иг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Чудной жизни ты пол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14"/>
          <p:cNvPicPr/>
          <p:nvPr/>
        </p:nvPicPr>
        <p:blipFill>
          <a:blip r:embed="rId3"/>
          <a:stretch/>
        </p:blipFill>
        <p:spPr>
          <a:xfrm>
            <a:off x="4859280" y="3357720"/>
            <a:ext cx="3457800" cy="2593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8703_205_1000"/>
          <p:cNvPicPr/>
          <p:nvPr/>
        </p:nvPicPr>
        <p:blipFill>
          <a:blip r:embed="rId4"/>
          <a:srcRect l="24392" t="0" r="23986" b="0"/>
          <a:stretch/>
        </p:blipFill>
        <p:spPr>
          <a:xfrm>
            <a:off x="4140360" y="566100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12"/>
          <p:cNvSpPr txBox="1"/>
          <p:nvPr/>
        </p:nvSpPr>
        <p:spPr>
          <a:xfrm>
            <a:off x="2340000" y="256536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9829800" y="256536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6732720" y="2565360"/>
            <a:ext cx="358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78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0" y="1628640"/>
            <a:ext cx="899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Обращение может стоять в начале, в середине и в конце предлож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Обращение не является членом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" action="ppaction://hlinkshowjump?jump=nex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900000" y="76500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Перестройте предложение, чтобы оно соответствовало сх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83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79280" y="1844640"/>
          <a:ext cx="8785440" cy="4032360"/>
        </p:xfrm>
        <a:graphic>
          <a:graphicData uri="http://schemas.openxmlformats.org/drawingml/2006/table">
            <a:tbl>
              <a:tblPr/>
              <a:tblGrid>
                <a:gridCol w="1976400"/>
                <a:gridCol w="680904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19"/>
          <p:cNvSpPr/>
          <p:nvPr/>
        </p:nvSpPr>
        <p:spPr>
          <a:xfrm>
            <a:off x="468360" y="2205000"/>
            <a:ext cx="1439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468360" y="3500280"/>
            <a:ext cx="143964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468360" y="4797360"/>
            <a:ext cx="1439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22"/>
          <p:cNvSpPr txBox="1"/>
          <p:nvPr/>
        </p:nvSpPr>
        <p:spPr>
          <a:xfrm>
            <a:off x="539640" y="2276640"/>
            <a:ext cx="400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971640" y="3573360"/>
            <a:ext cx="399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1403280" y="4869000"/>
            <a:ext cx="399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91" name="WordArt 25"/>
          <p:cNvSpPr txBox="1"/>
          <p:nvPr/>
        </p:nvSpPr>
        <p:spPr>
          <a:xfrm>
            <a:off x="2340000" y="1916280"/>
            <a:ext cx="6480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илые мои внуки, родилась я под Киев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тихой дерев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2340000" y="3213000"/>
            <a:ext cx="64800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дилась я под Киевом, милые мои внук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тихой дерев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93" name="WordArt 27"/>
          <p:cNvSpPr txBox="1"/>
          <p:nvPr/>
        </p:nvSpPr>
        <p:spPr>
          <a:xfrm>
            <a:off x="2268360" y="4581360"/>
            <a:ext cx="6480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дилась я под Киев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тихой деревне, милые мои вну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194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1547640" y="573408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29"/>
          <p:cNvSpPr/>
          <p:nvPr/>
        </p:nvSpPr>
        <p:spPr>
          <a:xfrm>
            <a:off x="8317080" y="603108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979640" y="18900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Интон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97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0" y="1484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Обращение произносится  со </a:t>
            </a: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звательной интонацией</a:t>
            </a: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, то есть с усиленным удар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" action="ppaction://hlinkshowjump?jump=nextslide"/>
          </p:cNvPr>
          <p:cNvSpPr/>
          <p:nvPr/>
        </p:nvSpPr>
        <p:spPr>
          <a:xfrm>
            <a:off x="8317080" y="603108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01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042920" y="76500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Book Antiqua"/>
              </a:rPr>
              <a:t>Прослушайте в исполнении актёра Дениса Некрасова отрывки с обращениями из рассказов А.П.Чехова. Выпишите обращения из каждого отры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24000" y="234936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427640" y="234936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1979640" y="2349360"/>
            <a:ext cx="192420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"Хамелеон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5651640" y="2349360"/>
            <a:ext cx="27367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"Толстый и тонкий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07" name="Picture 9" descr="5326"/>
          <p:cNvPicPr/>
          <p:nvPr/>
        </p:nvPicPr>
        <p:blipFill>
          <a:blip r:embed="rId2"/>
          <a:stretch/>
        </p:blipFill>
        <p:spPr>
          <a:xfrm>
            <a:off x="1979640" y="544500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5326"/>
          <p:cNvPicPr/>
          <p:nvPr/>
        </p:nvPicPr>
        <p:blipFill>
          <a:blip r:embed="rId3"/>
          <a:stretch/>
        </p:blipFill>
        <p:spPr>
          <a:xfrm>
            <a:off x="6227640" y="537372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8" descr="8703_205_1000"/>
          <p:cNvPicPr/>
          <p:nvPr/>
        </p:nvPicPr>
        <p:blipFill>
          <a:blip r:embed="rId4"/>
          <a:srcRect l="24392" t="0" r="23986" b="0"/>
          <a:stretch/>
        </p:blipFill>
        <p:spPr>
          <a:xfrm>
            <a:off x="971640" y="5373720"/>
            <a:ext cx="743040" cy="101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8703_205_1000"/>
          <p:cNvPicPr/>
          <p:nvPr/>
        </p:nvPicPr>
        <p:blipFill>
          <a:blip r:embed="rId5"/>
          <a:srcRect l="24392" t="0" r="23986" b="0"/>
          <a:stretch/>
        </p:blipFill>
        <p:spPr>
          <a:xfrm>
            <a:off x="7524720" y="537372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826920" y="3130560"/>
            <a:ext cx="34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кая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Ребя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4932360" y="305928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рфи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Голубчик 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руг дет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аудио 1.wma" descr=""/>
          <p:cNvPicPr/>
          <p:nvPr/>
        </p:nvPicPr>
        <p:blipFill>
          <a:blip r:embed="rId6"/>
          <a:stretch/>
        </p:blipFill>
        <p:spPr>
          <a:xfrm>
            <a:off x="23400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Аудио2.wma" descr=""/>
          <p:cNvPicPr/>
          <p:nvPr/>
        </p:nvPicPr>
        <p:blipFill>
          <a:blip r:embed="rId7"/>
          <a:stretch/>
        </p:blipFill>
        <p:spPr>
          <a:xfrm>
            <a:off x="665964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767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741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907920"/>
            <a:ext cx="5435640" cy="649440"/>
          </a:xfrm>
          <a:custGeom>
            <a:avLst/>
            <a:gdLst>
              <a:gd name="textAreaLeft" fmla="*/ 0 w 5435640"/>
              <a:gd name="textAreaRight" fmla="*/ 5436000 w 5435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0" y="1557360"/>
            <a:ext cx="6012000" cy="649440"/>
          </a:xfrm>
          <a:custGeom>
            <a:avLst/>
            <a:gdLst>
              <a:gd name="textAreaLeft" fmla="*/ 0 w 6012000"/>
              <a:gd name="textAreaRight" fmla="*/ 6012360 w 601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205000"/>
            <a:ext cx="6443640" cy="64944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0" y="2852640"/>
            <a:ext cx="7020000" cy="649440"/>
          </a:xfrm>
          <a:custGeom>
            <a:avLst/>
            <a:gdLst>
              <a:gd name="textAreaLeft" fmla="*/ 0 w 7020000"/>
              <a:gd name="textAreaRight" fmla="*/ 7020360 w 7020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0" y="3500280"/>
            <a:ext cx="7740720" cy="649440"/>
          </a:xfrm>
          <a:custGeom>
            <a:avLst/>
            <a:gdLst>
              <a:gd name="textAreaLeft" fmla="*/ 0 w 7740720"/>
              <a:gd name="textAreaRight" fmla="*/ 7741080 w 7740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4149720"/>
            <a:ext cx="8172360" cy="649440"/>
          </a:xfrm>
          <a:custGeom>
            <a:avLst/>
            <a:gdLst>
              <a:gd name="textAreaLeft" fmla="*/ 0 w 8172360"/>
              <a:gd name="textAreaRight" fmla="*/ 8172720 w 8172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0" y="4797360"/>
            <a:ext cx="8675640" cy="649440"/>
          </a:xfrm>
          <a:custGeom>
            <a:avLst/>
            <a:gdLst>
              <a:gd name="textAreaLeft" fmla="*/ 0 w 8675640"/>
              <a:gd name="textAreaRight" fmla="*/ 8676000 w 8675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0" y="5445000"/>
            <a:ext cx="9144000" cy="649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468360" y="981000"/>
            <a:ext cx="2879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Опреде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1692360" y="189000"/>
            <a:ext cx="574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н изучения обра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AutoShape 12">
            <a:hlinkClick r:id="rId1" action="ppaction://hlinksldjump"/>
          </p:cNvPr>
          <p:cNvSpPr/>
          <p:nvPr/>
        </p:nvSpPr>
        <p:spPr>
          <a:xfrm>
            <a:off x="3492360" y="98100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84360" y="6308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ля перехода к соответствующему разделу нажм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rId2" action="ppaction://hlinksldjump"/>
          </p:cNvPr>
          <p:cNvSpPr/>
          <p:nvPr/>
        </p:nvSpPr>
        <p:spPr>
          <a:xfrm>
            <a:off x="4572000" y="227664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250920" y="1628640"/>
            <a:ext cx="33145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1" name="AutoShape 16">
            <a:hlinkClick r:id="rId3" action="ppaction://hlinksldjump"/>
          </p:cNvPr>
          <p:cNvSpPr/>
          <p:nvPr/>
        </p:nvSpPr>
        <p:spPr>
          <a:xfrm>
            <a:off x="3995640" y="162864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7"/>
          <p:cNvSpPr txBox="1"/>
          <p:nvPr/>
        </p:nvSpPr>
        <p:spPr>
          <a:xfrm>
            <a:off x="108000" y="2276640"/>
            <a:ext cx="4419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Грамматическая фо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7596360" y="6237360"/>
            <a:ext cx="1079280" cy="43164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9"/>
          <p:cNvSpPr txBox="1"/>
          <p:nvPr/>
        </p:nvSpPr>
        <p:spPr>
          <a:xfrm>
            <a:off x="539640" y="2924280"/>
            <a:ext cx="3745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аспространённые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нераспространё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5" name="AutoShape 20">
            <a:hlinkClick r:id="rId4" action="ppaction://hlinksldjump"/>
          </p:cNvPr>
          <p:cNvSpPr/>
          <p:nvPr/>
        </p:nvSpPr>
        <p:spPr>
          <a:xfrm>
            <a:off x="5003640" y="292428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21"/>
          <p:cNvSpPr txBox="1"/>
          <p:nvPr/>
        </p:nvSpPr>
        <p:spPr>
          <a:xfrm>
            <a:off x="611280" y="3573360"/>
            <a:ext cx="2952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ль в язы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7" name="AutoShape 22">
            <a:hlinkClick r:id="rId5" action="ppaction://hlinksldjump"/>
          </p:cNvPr>
          <p:cNvSpPr/>
          <p:nvPr/>
        </p:nvSpPr>
        <p:spPr>
          <a:xfrm>
            <a:off x="5580000" y="357336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3" descr="32"/>
          <p:cNvPicPr/>
          <p:nvPr/>
        </p:nvPicPr>
        <p:blipFill>
          <a:blip r:embed="rId6"/>
          <a:stretch/>
        </p:blipFill>
        <p:spPr>
          <a:xfrm>
            <a:off x="6804000" y="981000"/>
            <a:ext cx="213984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24"/>
          <p:cNvSpPr txBox="1"/>
          <p:nvPr/>
        </p:nvSpPr>
        <p:spPr>
          <a:xfrm>
            <a:off x="250920" y="4221000"/>
            <a:ext cx="453708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0" name="AutoShape 25">
            <a:hlinkClick r:id="rId7" action="ppaction://hlinksldjump"/>
          </p:cNvPr>
          <p:cNvSpPr/>
          <p:nvPr/>
        </p:nvSpPr>
        <p:spPr>
          <a:xfrm>
            <a:off x="6012000" y="4221000"/>
            <a:ext cx="1079280" cy="43200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6"/>
          <p:cNvSpPr txBox="1"/>
          <p:nvPr/>
        </p:nvSpPr>
        <p:spPr>
          <a:xfrm>
            <a:off x="755640" y="4869000"/>
            <a:ext cx="3384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Интон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2" name="AutoShape 27">
            <a:hlinkClick r:id="rId8" action="ppaction://hlinksldjump"/>
          </p:cNvPr>
          <p:cNvSpPr/>
          <p:nvPr/>
        </p:nvSpPr>
        <p:spPr>
          <a:xfrm>
            <a:off x="6443640" y="486900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8"/>
          <p:cNvSpPr txBox="1"/>
          <p:nvPr/>
        </p:nvSpPr>
        <p:spPr>
          <a:xfrm>
            <a:off x="395280" y="5516640"/>
            <a:ext cx="4319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4" name="AutoShape 29">
            <a:hlinkClick r:id="rId9" action="ppaction://hlinksldjump"/>
          </p:cNvPr>
          <p:cNvSpPr/>
          <p:nvPr/>
        </p:nvSpPr>
        <p:spPr>
          <a:xfrm>
            <a:off x="6877080" y="551664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0">
            <a:hlinkClick r:id="rId10" action="ppaction://hlinksldjump"/>
          </p:cNvPr>
          <p:cNvSpPr/>
          <p:nvPr/>
        </p:nvSpPr>
        <p:spPr>
          <a:xfrm>
            <a:off x="7958160" y="0"/>
            <a:ext cx="1185840" cy="765000"/>
          </a:xfrm>
          <a:custGeom>
            <a:avLst/>
            <a:gdLst>
              <a:gd name="textAreaLeft" fmla="*/ 49320 w 1185840"/>
              <a:gd name="textAreaRight" fmla="*/ 1136520 w 11858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477" h="21600">
                <a:moveTo>
                  <a:pt x="0" y="0"/>
                </a:moveTo>
                <a:lnTo>
                  <a:pt x="33477" y="0"/>
                </a:lnTo>
                <a:lnTo>
                  <a:pt x="33477" y="21600"/>
                </a:lnTo>
                <a:lnTo>
                  <a:pt x="0" y="21600"/>
                </a:lnTo>
                <a:close/>
              </a:path>
              <a:path fill="lightenLess" w="33477" h="21600">
                <a:moveTo>
                  <a:pt x="0" y="0"/>
                </a:moveTo>
                <a:lnTo>
                  <a:pt x="33477" y="0"/>
                </a:lnTo>
                <a:lnTo>
                  <a:pt x="32077" y="1400"/>
                </a:lnTo>
                <a:lnTo>
                  <a:pt x="1400" y="1400"/>
                </a:lnTo>
                <a:close/>
              </a:path>
              <a:path fill="darken" w="33477" h="21600">
                <a:moveTo>
                  <a:pt x="33477" y="0"/>
                </a:moveTo>
                <a:lnTo>
                  <a:pt x="33477" y="21600"/>
                </a:lnTo>
                <a:lnTo>
                  <a:pt x="32077" y="20200"/>
                </a:lnTo>
                <a:lnTo>
                  <a:pt x="32077" y="1400"/>
                </a:lnTo>
                <a:close/>
              </a:path>
              <a:path fill="darkenLess" w="33477" h="21600">
                <a:moveTo>
                  <a:pt x="33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77" y="20200"/>
                </a:lnTo>
                <a:close/>
              </a:path>
              <a:path fill="lighten" w="33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477" h="21600">
                <a:moveTo>
                  <a:pt x="9732" y="3794"/>
                </a:moveTo>
                <a:lnTo>
                  <a:pt x="23745" y="10800"/>
                </a:lnTo>
                <a:lnTo>
                  <a:pt x="9732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217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250920" y="1397160"/>
          <a:ext cx="8713800" cy="450504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бращение выделяется запятым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Наташа, иди сюд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Вперёд тебе наука, друг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7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стоит в начале предложения и произносится с восклицательной интонацией, после него ставится восклицательный знак, а идущее дальше предложение начинается с прописной буквы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Соседушка, мой свет! Пожалуйста, покуш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разбито на части, выделяется запятыми каждая часть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Отколе, умная, бредёшь ты, голов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3794"/>
                </a:moveTo>
                <a:lnTo>
                  <a:pt x="20468" y="10800"/>
                </a:lnTo>
                <a:lnTo>
                  <a:pt x="645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222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79280" y="1268280"/>
          <a:ext cx="8785440" cy="49323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231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ица О, стоящая перед обращением, не отделяется от него никаким знаком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О небо, над нами сине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Так вот судьба твоих сынов, о Рим, о громкая держав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днородные обращения, соединённые союзом И или ДА запятой не разделяютс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Здравствуй, солнце да утро весёлое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ицы А и ДА, стоящие перед обращением, запятой от них не отделяются, а перед ними запятая ставитс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Петька, да Петька же, куда ты запропастился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19"/>
          <p:cNvSpPr/>
          <p:nvPr/>
        </p:nvSpPr>
        <p:spPr>
          <a:xfrm>
            <a:off x="123984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3794"/>
                </a:moveTo>
                <a:lnTo>
                  <a:pt x="24413" y="10800"/>
                </a:lnTo>
                <a:lnTo>
                  <a:pt x="1040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0" y="-212760"/>
            <a:ext cx="8747280" cy="1773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"/>
          <p:cNvSpPr/>
          <p:nvPr/>
        </p:nvSpPr>
        <p:spPr>
          <a:xfrm>
            <a:off x="108000" y="907920"/>
            <a:ext cx="8928000" cy="9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Перестройте предложения так, чтобы подлежащее стало обращением. Рас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етер поёт нам про дикие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ражданин спасает раненого бо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илая матушка говорит со мной шёпо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Друзья любят смотреть на синие, туманные равн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Болельщики команды надеются на поддер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25"/>
          <p:cNvPicPr/>
          <p:nvPr/>
        </p:nvPicPr>
        <p:blipFill>
          <a:blip r:embed="rId2"/>
          <a:stretch/>
        </p:blipFill>
        <p:spPr>
          <a:xfrm>
            <a:off x="130320" y="17640"/>
            <a:ext cx="617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30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1042920" y="76500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Перестройте предложения так, чтобы подлежащее стало об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2050920"/>
            <a:ext cx="914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етер  спой нам про дикие г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ражданин  Спасите раненого бой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илая матушка</a:t>
            </a: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овори со мной шеп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Люблю  друзья  смотреть на синие, туманные равн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Болельщики</a:t>
            </a: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манда надеется на вашу поддерж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6"/>
          <p:cNvSpPr txBox="1"/>
          <p:nvPr/>
        </p:nvSpPr>
        <p:spPr>
          <a:xfrm>
            <a:off x="1476360" y="2421000"/>
            <a:ext cx="216000" cy="2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34" name="WordArt 7"/>
          <p:cNvSpPr txBox="1"/>
          <p:nvPr/>
        </p:nvSpPr>
        <p:spPr>
          <a:xfrm>
            <a:off x="2700360" y="2492280"/>
            <a:ext cx="216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1871640" y="4292640"/>
            <a:ext cx="1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36" name="WordArt 9"/>
          <p:cNvSpPr txBox="1"/>
          <p:nvPr/>
        </p:nvSpPr>
        <p:spPr>
          <a:xfrm>
            <a:off x="3419640" y="429264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37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6875640" y="570240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3"/>
          <p:cNvSpPr/>
          <p:nvPr/>
        </p:nvSpPr>
        <p:spPr>
          <a:xfrm>
            <a:off x="817236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32" h="21600">
                <a:moveTo>
                  <a:pt x="6709" y="10800"/>
                </a:moveTo>
                <a:lnTo>
                  <a:pt x="20722" y="3794"/>
                </a:lnTo>
                <a:lnTo>
                  <a:pt x="20722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971640" y="115920"/>
            <a:ext cx="7920000" cy="74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    Подготовить устный рассказ об обращении по плану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 Выполните упражнение 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979640" y="18900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преде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8000" y="1474920"/>
            <a:ext cx="903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Обращение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– это существительное, одно или с зависимыми словами, называющее того, кому адресована ре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515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Саша, у тебя сегодня сколько урок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389800" y="6093000"/>
            <a:ext cx="754200" cy="76500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765000"/>
              <a:gd name="textAreaBottom" fmla="*/ 716400 h 765000"/>
            </a:gdLst>
            <a:ahLst/>
            <a:rect l="textAreaLeft" t="textAreaTop" r="textAreaRight" b="textAreaBottom"/>
            <a:pathLst>
              <a:path w="21600" h="21909">
                <a:moveTo>
                  <a:pt x="0" y="0"/>
                </a:moveTo>
                <a:lnTo>
                  <a:pt x="21600" y="0"/>
                </a:lnTo>
                <a:lnTo>
                  <a:pt x="21600" y="21909"/>
                </a:lnTo>
                <a:lnTo>
                  <a:pt x="0" y="21909"/>
                </a:lnTo>
                <a:close/>
              </a:path>
              <a:path fill="lightenLess" w="21600" h="219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09">
                <a:moveTo>
                  <a:pt x="21600" y="0"/>
                </a:moveTo>
                <a:lnTo>
                  <a:pt x="21600" y="21909"/>
                </a:lnTo>
                <a:lnTo>
                  <a:pt x="20200" y="20509"/>
                </a:lnTo>
                <a:lnTo>
                  <a:pt x="20200" y="1400"/>
                </a:lnTo>
                <a:close/>
              </a:path>
              <a:path fill="darkenLess" w="21600" h="21909">
                <a:moveTo>
                  <a:pt x="21600" y="21909"/>
                </a:moveTo>
                <a:lnTo>
                  <a:pt x="0" y="21909"/>
                </a:lnTo>
                <a:lnTo>
                  <a:pt x="1400" y="20509"/>
                </a:lnTo>
                <a:lnTo>
                  <a:pt x="20200" y="20509"/>
                </a:lnTo>
                <a:close/>
              </a:path>
              <a:path fill="lighten" w="21600" h="21909">
                <a:moveTo>
                  <a:pt x="0" y="219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09"/>
                </a:lnTo>
                <a:close/>
              </a:path>
              <a:path fill="darken" w="21600" h="21909">
                <a:moveTo>
                  <a:pt x="3794" y="3948"/>
                </a:moveTo>
                <a:lnTo>
                  <a:pt x="17806" y="10955"/>
                </a:lnTo>
                <a:lnTo>
                  <a:pt x="3794" y="1796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82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042920" y="836640"/>
            <a:ext cx="81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Выпишите номера предложений, в которых есть обращения (знаки препинания не расставлены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205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е трещите морозы в заповедном б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 утру мороз креп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ылезайте муравьи после зимней сту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уравьи санитары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огорай костёр до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00720" y="2133720"/>
            <a:ext cx="464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Что ты рано осень в гости к нам при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дкралась осень не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8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эту пронесём друзья по с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9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рузья познаются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0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ощай любимый 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3851280" y="537372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3419640" y="6461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 Antiqua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Book Antiqua"/>
              </a:rPr>
              <a:t>1, 3,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716360" y="5661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6</a:t>
            </a:r>
            <a:r>
              <a:rPr b="1" lang="ru-RU" sz="2800" spc="-1" strike="noStrike">
                <a:solidFill>
                  <a:srgbClr val="009900"/>
                </a:solidFill>
                <a:latin typeface="Book Antiqua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8</a:t>
            </a:r>
            <a:r>
              <a:rPr b="1" lang="ru-RU" sz="2800" spc="-1" strike="noStrike">
                <a:solidFill>
                  <a:srgbClr val="009900"/>
                </a:solidFill>
                <a:latin typeface="Book Antiqua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>
            <a:hlinkClick r:id="rId3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10800"/>
                </a:moveTo>
                <a:lnTo>
                  <a:pt x="19711" y="3794"/>
                </a:lnTo>
                <a:lnTo>
                  <a:pt x="197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763640" y="0"/>
            <a:ext cx="540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92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0" y="1042920"/>
            <a:ext cx="914400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бращения обычно выражено именами существительными одушевлёнными, реже прилагательными или причастиями в значении 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Хорошая, любимая, родная, мы друг от друга далеко живём (Щип.).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 роли обращений чаще всего выступают собственные имена и существительные, называющие лиц по родству, по общественному положению, по професс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т, Любушка, Митя проститься пришёл: он едет к матушке своей (Ост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чные местоимения 2 лица ТЫ и ВЫ чаще входят в состав особого оборота, выступающего в роли обращения и заключающего в себе качественную оценку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Что вы такой герцогиней смотрите, красавица вы мо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 языке художественной литературы, особенно в поэтических текстах, используются обращения к неодушевлённы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Красуйся, град Петров, и 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Неколебимо, как Россия (Пушк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>
            <a:hlinkClick r:id="" action="ppaction://hlinkshowjump?jump=nextslide"/>
          </p:cNvPr>
          <p:cNvSpPr/>
          <p:nvPr/>
        </p:nvSpPr>
        <p:spPr>
          <a:xfrm>
            <a:off x="8317080" y="610236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96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58920" y="76500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Запишите номера предложений в таблицу в зависимости от значения обращений в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2133720"/>
          <a:ext cx="9144000" cy="1677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бственное им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лица по родств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лица по профес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лица по возраст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ица по общественному поло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5"/>
          <p:cNvSpPr/>
          <p:nvPr/>
        </p:nvSpPr>
        <p:spPr>
          <a:xfrm>
            <a:off x="0" y="3789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ергей Сергеевич, это вы 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осударь мой премилостивый! Я до тех пор не намерен в Покровское, пока не вышлите вы мне псаря Парамошку с повинн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шёл, куче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Я и не отговариваюсь, тёт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Ты что же, молодчик, оброка не плат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6"/>
          <p:cNvSpPr txBox="1"/>
          <p:nvPr/>
        </p:nvSpPr>
        <p:spPr>
          <a:xfrm>
            <a:off x="755640" y="321300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WordArt 27"/>
          <p:cNvSpPr txBox="1"/>
          <p:nvPr/>
        </p:nvSpPr>
        <p:spPr>
          <a:xfrm>
            <a:off x="2556000" y="3213000"/>
            <a:ext cx="358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2" name="WordArt 28"/>
          <p:cNvSpPr txBox="1"/>
          <p:nvPr/>
        </p:nvSpPr>
        <p:spPr>
          <a:xfrm>
            <a:off x="4356000" y="321300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3" name="WordArt 29"/>
          <p:cNvSpPr txBox="1"/>
          <p:nvPr/>
        </p:nvSpPr>
        <p:spPr>
          <a:xfrm>
            <a:off x="6300720" y="321300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4" name="WordArt 30"/>
          <p:cNvSpPr txBox="1"/>
          <p:nvPr/>
        </p:nvSpPr>
        <p:spPr>
          <a:xfrm>
            <a:off x="8101080" y="3213000"/>
            <a:ext cx="358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05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6588000" y="515772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2">
            <a:hlinkClick r:id="rId3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10800"/>
                </a:moveTo>
                <a:lnTo>
                  <a:pt x="19711" y="3794"/>
                </a:lnTo>
                <a:lnTo>
                  <a:pt x="197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Грамматическая фо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08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0" y="98100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бращение имеет форму именительного падежа и произносится с особой звательной интона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Друзья мои, прекрасен наш союз (Пушкин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разговорной речи существуют особые формы обращения: так называемый усечённый именительный падеж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Маш, дай руч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Петь, а Петь, приходи порань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" action="ppaction://hlinkshowjump?jump=next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3794"/>
                </a:moveTo>
                <a:lnTo>
                  <a:pt x="19548" y="10800"/>
                </a:lnTo>
                <a:lnTo>
                  <a:pt x="553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324000" y="115920"/>
            <a:ext cx="84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История обращения в русском язы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8985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древнерусском языке для обращений существовал специальный падеж (седьмой). Он назывался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звательным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. В сказке А.С.Пушкина мы находим древнюю форму обращения «старч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5"/>
          <p:cNvPicPr/>
          <p:nvPr/>
        </p:nvPicPr>
        <p:blipFill>
          <a:blip r:embed="rId1"/>
          <a:stretch/>
        </p:blipFill>
        <p:spPr>
          <a:xfrm>
            <a:off x="468360" y="2781360"/>
            <a:ext cx="262872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059280" y="3357720"/>
            <a:ext cx="590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Приплыла к нему рыбка, спрос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«Чего тебе надобно, старч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" action="ppaction://hlinkshowjump?jump=nex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4"/>
          <p:cNvPicPr/>
          <p:nvPr/>
        </p:nvPicPr>
        <p:blipFill>
          <a:blip r:embed="rId2"/>
          <a:stretch/>
        </p:blipFill>
        <p:spPr>
          <a:xfrm>
            <a:off x="5148360" y="5300640"/>
            <a:ext cx="141588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18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116000" y="765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Подчеркните древние формы обра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6588000" y="1484280"/>
            <a:ext cx="193356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 Antiqua"/>
              </a:rPr>
              <a:t>v v v v v 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 Antiqua"/>
              <a:ea typeface="Book Antiqu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0" y="198900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500720" y="198900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39640" y="2492280"/>
            <a:ext cx="338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ародная разбойничья пес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Не шуми, мати, зелёная дубрав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Не мешай мне, доброму молодцу, думу дум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2340000" y="3645000"/>
            <a:ext cx="108108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 Antiqua"/>
              </a:rPr>
              <a:t>v v v v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 Antiqua"/>
              <a:ea typeface="Book Antiqu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076720" y="2421000"/>
            <a:ext cx="33829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 Antiqua"/>
              </a:rPr>
              <a:t>Моли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тче наш, Иже еси на небес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а святится Имя Т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а приидет Царствие Т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а будет воля Твоя, яко на небеси и 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219640" y="3068640"/>
            <a:ext cx="136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 Antiqua"/>
              </a:rPr>
              <a:t>v v v v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 Antiqua"/>
              <a:ea typeface="Book Antiqua"/>
            </a:endParaRPr>
          </a:p>
        </p:txBody>
      </p:sp>
      <p:pic>
        <p:nvPicPr>
          <p:cNvPr id="127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4140360" y="429264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3:13:50Z</dcterms:created>
  <dc:creator>Admin</dc:creator>
  <dc:description/>
  <dc:language>en-US</dc:language>
  <cp:lastModifiedBy>RePack by Diakov</cp:lastModifiedBy>
  <dcterms:modified xsi:type="dcterms:W3CDTF">2016-04-06T12:35:18Z</dcterms:modified>
  <cp:revision>16</cp:revision>
  <dc:subject/>
  <dc:title>Слайд 1</dc:title>
</cp:coreProperties>
</file>