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7E2-31BE-41BC-BC96-C63532AB9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0D8-5099-4923-B414-D08F6D9B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E227-5DA2-4837-90A5-3EA3E008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EFB2-1193-4F73-8C23-5640742A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BF15-97DC-4237-A8AA-111ED842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DCFC-F43D-4A9E-AA15-071E3E03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98E-F898-492E-9608-521F68F2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FDA5-FDDC-4089-BE05-FDE9CA23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DF4-F332-4759-B57B-56ECB949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8F11-685F-4BA6-9547-ACD048AC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1A63-56F2-40C9-AA00-2FBA1DD8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564-5DC3-45A5-82F7-9B0EDFD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CDE2-BC9A-4916-A2AE-00F79D4EF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stalker.petrovka.ua/thumbs/96898----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7.xml"/><Relationship Id="rId3" Type="http://schemas.openxmlformats.org/officeDocument/2006/relationships/slide" Target="slide5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image" Target="../media/image2.png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187280" y="1197000"/>
            <a:ext cx="6985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prstDash val="sysDot"/>
                  <a:miter/>
                </a:ln>
                <a:solidFill>
                  <a:srgbClr val="0000ff"/>
                </a:solidFill>
                <a:latin typeface="Monotype Corsiva"/>
              </a:rPr>
              <a:t>Обращение</a:t>
            </a:r>
            <a:endParaRPr b="1" i="1" lang="en-US" sz="1800" spc="1" strike="noStrike">
              <a:ln w="15840">
                <a:solidFill>
                  <a:srgbClr val="000000"/>
                </a:solidFill>
                <a:prstDash val="sysDot"/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1547640" y="3860640"/>
            <a:ext cx="660096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Book Antiqua"/>
              </a:rPr>
              <a:t>и знаки препинания при нё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Book Antiqua"/>
              <a:ea typeface="Book Antiqu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42920" y="4581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Урок русского языка в 8 к-2 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564000" y="555480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Автор: Невакшенова Наталь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116000" y="30240"/>
            <a:ext cx="734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Муниципальное  бюджет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 Antiqua"/>
              </a:rPr>
              <a:t>«Гатчинская  СОШ № 11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8"/>
          <p:cNvPicPr/>
          <p:nvPr/>
        </p:nvPicPr>
        <p:blipFill>
          <a:blip r:embed="rId1"/>
          <a:stretch/>
        </p:blipFill>
        <p:spPr>
          <a:xfrm>
            <a:off x="108000" y="4800600"/>
            <a:ext cx="223200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30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611280" y="907920"/>
            <a:ext cx="79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Назовите произведения А.С.Пушкина, в которых воспроизводится эта песн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0" y="21225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0" y="2565360"/>
            <a:ext cx="90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е шуми, мати, зелёная дубраву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е мешай мне, доброму молодцу, думу дум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Что заутра мне, доброму молодцу, в допрос ид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еред грозного судью - самого цар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4067280" y="5661000"/>
            <a:ext cx="742680" cy="1011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Картинка 26 из 5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1125360"/>
            <a:ext cx="3724200" cy="5113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Картинка 4 из 519"/>
          <p:cNvPicPr/>
          <p:nvPr/>
        </p:nvPicPr>
        <p:blipFill>
          <a:blip r:embed="rId5"/>
          <a:stretch/>
        </p:blipFill>
        <p:spPr>
          <a:xfrm>
            <a:off x="4859280" y="1052640"/>
            <a:ext cx="4011840" cy="5184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10"/>
          <p:cNvSpPr/>
          <p:nvPr/>
        </p:nvSpPr>
        <p:spPr>
          <a:xfrm>
            <a:off x="8172360" y="6031080"/>
            <a:ext cx="971640" cy="826920"/>
          </a:xfrm>
          <a:custGeom>
            <a:avLst/>
            <a:gdLst>
              <a:gd name="textAreaLeft" fmla="*/ 53280 w 971640"/>
              <a:gd name="textAreaRight" fmla="*/ 918360 w 97164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5379" h="21600">
                <a:moveTo>
                  <a:pt x="0" y="0"/>
                </a:moveTo>
                <a:lnTo>
                  <a:pt x="25379" y="0"/>
                </a:lnTo>
                <a:lnTo>
                  <a:pt x="25379" y="21600"/>
                </a:lnTo>
                <a:lnTo>
                  <a:pt x="0" y="21600"/>
                </a:lnTo>
                <a:close/>
              </a:path>
              <a:path fill="lightenLess" w="25379" h="21600">
                <a:moveTo>
                  <a:pt x="0" y="0"/>
                </a:moveTo>
                <a:lnTo>
                  <a:pt x="25379" y="0"/>
                </a:lnTo>
                <a:lnTo>
                  <a:pt x="23979" y="1400"/>
                </a:lnTo>
                <a:lnTo>
                  <a:pt x="1400" y="1400"/>
                </a:lnTo>
                <a:close/>
              </a:path>
              <a:path fill="darken" w="25379" h="21600">
                <a:moveTo>
                  <a:pt x="25379" y="0"/>
                </a:moveTo>
                <a:lnTo>
                  <a:pt x="25379" y="21600"/>
                </a:lnTo>
                <a:lnTo>
                  <a:pt x="23979" y="20200"/>
                </a:lnTo>
                <a:lnTo>
                  <a:pt x="23979" y="1400"/>
                </a:lnTo>
                <a:close/>
              </a:path>
              <a:path fill="darkenLess" w="25379" h="21600">
                <a:moveTo>
                  <a:pt x="253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79" y="20200"/>
                </a:lnTo>
                <a:close/>
              </a:path>
              <a:path fill="lighten" w="253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79" h="21600">
                <a:moveTo>
                  <a:pt x="5683" y="10800"/>
                </a:moveTo>
                <a:lnTo>
                  <a:pt x="19696" y="3794"/>
                </a:lnTo>
                <a:lnTo>
                  <a:pt x="1969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324000" y="115920"/>
            <a:ext cx="84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Распространённые и нераспространён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обращ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39" name="Picture 3" descr="32"/>
          <p:cNvPicPr/>
          <p:nvPr/>
        </p:nvPicPr>
        <p:blipFill>
          <a:blip r:embed="rId1"/>
          <a:stretch/>
        </p:blipFill>
        <p:spPr>
          <a:xfrm>
            <a:off x="7956720" y="549360"/>
            <a:ext cx="1008000" cy="10522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0" y="1484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Нераспространённые обращения выражены одним сло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Старик! Я слышал много раз, что ты меня от смерти спас (Лермонт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Распространённые обращения включают в себя пояснительные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</a:rPr>
              <a:t>Эй, славяне, что с Кубани, с Дона, с Волги, с Иртыша, занимай высоты в бане, закрепляйся не спеша! (Твардовский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>
            <a:hlinkClick r:id="" action="ppaction://hlinkshowjump?jump=nextslide"/>
          </p:cNvPr>
          <p:cNvSpPr/>
          <p:nvPr/>
        </p:nvSpPr>
        <p:spPr>
          <a:xfrm>
            <a:off x="8245440" y="6031080"/>
            <a:ext cx="898560" cy="826920"/>
          </a:xfrm>
          <a:custGeom>
            <a:avLst/>
            <a:gdLst>
              <a:gd name="textAreaLeft" fmla="*/ 53280 w 898560"/>
              <a:gd name="textAreaRight" fmla="*/ 845280 w 89856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3470" h="21600">
                <a:moveTo>
                  <a:pt x="0" y="0"/>
                </a:moveTo>
                <a:lnTo>
                  <a:pt x="23470" y="0"/>
                </a:lnTo>
                <a:lnTo>
                  <a:pt x="23470" y="21600"/>
                </a:lnTo>
                <a:lnTo>
                  <a:pt x="0" y="21600"/>
                </a:lnTo>
                <a:close/>
              </a:path>
              <a:path fill="lightenLess" w="23470" h="21600">
                <a:moveTo>
                  <a:pt x="0" y="0"/>
                </a:moveTo>
                <a:lnTo>
                  <a:pt x="23470" y="0"/>
                </a:lnTo>
                <a:lnTo>
                  <a:pt x="22070" y="1400"/>
                </a:lnTo>
                <a:lnTo>
                  <a:pt x="1400" y="1400"/>
                </a:lnTo>
                <a:close/>
              </a:path>
              <a:path fill="darken" w="23470" h="21600">
                <a:moveTo>
                  <a:pt x="23470" y="0"/>
                </a:moveTo>
                <a:lnTo>
                  <a:pt x="23470" y="21600"/>
                </a:lnTo>
                <a:lnTo>
                  <a:pt x="22070" y="20200"/>
                </a:lnTo>
                <a:lnTo>
                  <a:pt x="22070" y="1400"/>
                </a:lnTo>
                <a:close/>
              </a:path>
              <a:path fill="darkenLess" w="23470" h="21600">
                <a:moveTo>
                  <a:pt x="23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70" y="20200"/>
                </a:lnTo>
                <a:close/>
              </a:path>
              <a:path fill="lighten" w="23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70" h="21600">
                <a:moveTo>
                  <a:pt x="4729" y="3794"/>
                </a:moveTo>
                <a:lnTo>
                  <a:pt x="18742" y="10800"/>
                </a:lnTo>
                <a:lnTo>
                  <a:pt x="4729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43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684360" y="836640"/>
            <a:ext cx="80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Распространите обращения прилагатель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0" y="190656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участники конференции, просим вас пройти регистрацию в кабинете №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друг! Эта книга поведёт тебя в мир удивительных приключ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мама, я очень скуч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6"/>
          <p:cNvSpPr txBox="1"/>
          <p:nvPr/>
        </p:nvSpPr>
        <p:spPr>
          <a:xfrm>
            <a:off x="539640" y="2205000"/>
            <a:ext cx="2089440" cy="87480"/>
          </a:xfrm>
          <a:prstGeom prst="rect">
            <a:avLst/>
          </a:prstGeom>
        </p:spPr>
        <p:txBody>
          <a:bodyPr wrap="none" lIns="90000" rIns="90000" tIns="40680" bIns="406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----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47" name="WordArt 7"/>
          <p:cNvSpPr txBox="1"/>
          <p:nvPr/>
        </p:nvSpPr>
        <p:spPr>
          <a:xfrm>
            <a:off x="826920" y="3645000"/>
            <a:ext cx="2089440" cy="87120"/>
          </a:xfrm>
          <a:prstGeom prst="rect">
            <a:avLst/>
          </a:prstGeom>
        </p:spPr>
        <p:txBody>
          <a:bodyPr wrap="none" lIns="90000" rIns="90000" tIns="40680" bIns="406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----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48" name="WordArt 8"/>
          <p:cNvSpPr txBox="1"/>
          <p:nvPr/>
        </p:nvSpPr>
        <p:spPr>
          <a:xfrm>
            <a:off x="755640" y="4653000"/>
            <a:ext cx="2089080" cy="87120"/>
          </a:xfrm>
          <a:prstGeom prst="rect">
            <a:avLst/>
          </a:prstGeom>
        </p:spPr>
        <p:txBody>
          <a:bodyPr wrap="none" lIns="90000" rIns="90000" tIns="40680" bIns="4068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----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49" name="WordArt 9"/>
          <p:cNvSpPr txBox="1"/>
          <p:nvPr/>
        </p:nvSpPr>
        <p:spPr>
          <a:xfrm>
            <a:off x="2700360" y="4869000"/>
            <a:ext cx="32288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Monotype Corsiva"/>
              </a:rPr>
              <a:t>Слова для справо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</p:txBody>
      </p:sp>
      <p:sp>
        <p:nvSpPr>
          <p:cNvPr id="150" name="WordArt 10"/>
          <p:cNvSpPr txBox="1"/>
          <p:nvPr/>
        </p:nvSpPr>
        <p:spPr>
          <a:xfrm>
            <a:off x="755640" y="5589720"/>
            <a:ext cx="165564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Мил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51" name="WordArt 11"/>
          <p:cNvSpPr txBox="1"/>
          <p:nvPr/>
        </p:nvSpPr>
        <p:spPr>
          <a:xfrm>
            <a:off x="3564000" y="5516640"/>
            <a:ext cx="1871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Уважаем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52" name="WordArt 12"/>
          <p:cNvSpPr txBox="1"/>
          <p:nvPr/>
        </p:nvSpPr>
        <p:spPr>
          <a:xfrm>
            <a:off x="6372360" y="5661000"/>
            <a:ext cx="165564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Дорог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53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7956720" y="4221000"/>
            <a:ext cx="742680" cy="10112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4"/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10800"/>
                </a:moveTo>
                <a:lnTo>
                  <a:pt x="19548" y="3794"/>
                </a:lnTo>
                <a:lnTo>
                  <a:pt x="19548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58941E-006 L 0.03559 -0.17049 E">
                                      <p:cBhvr>
                                        <p:cTn id="7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4187 L -0.33055 -0.53481 E">
                                      <p:cBhvr>
                                        <p:cTn id="76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72588E-006 L -0.59844 -0.30419 E">
                                      <p:cBhvr>
                                        <p:cTn id="7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0" y="1268280"/>
            <a:ext cx="9144000" cy="53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 устной речи обращения служат для привлечения внимания собеседника и одновременно для выражения отношения говорящего к собеседни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Monotype Corsiva"/>
              </a:rPr>
              <a:t>Провожающие, просим вас освободить ваго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 письменной речи обращения служат для выражения отношения пишущего к адреса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Monotype Corsiva"/>
              </a:rPr>
              <a:t>Милый Миша, здравству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3"/>
          <p:cNvSpPr txBox="1"/>
          <p:nvPr/>
        </p:nvSpPr>
        <p:spPr>
          <a:xfrm>
            <a:off x="1979640" y="18900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Роль в язы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57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5">
            <a:hlinkClick r:id="" action="ppaction://hlinkshowjump?jump=nextslide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2"/>
          <p:cNvSpPr txBox="1"/>
          <p:nvPr/>
        </p:nvSpPr>
        <p:spPr>
          <a:xfrm>
            <a:off x="1332000" y="115920"/>
            <a:ext cx="6696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Использование обращений в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поэтической ре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60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0" y="1413000"/>
            <a:ext cx="914400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 поэтических текстах нередко в качестве обращений используются неодушевлённые предметы. Такая стилистическая фигура речи называется </a:t>
            </a: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риторическим обращением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Риторические обращения не требуют от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Monotype Corsiva"/>
              </a:rPr>
              <a:t>Не шуми ты, рожь, спелым колосом (Кольцов</a:t>
            </a:r>
            <a:r>
              <a:rPr b="1" lang="ru-RU" sz="3600" spc="-1" strike="noStrike">
                <a:solidFill>
                  <a:srgbClr val="009900"/>
                </a:solidFill>
                <a:latin typeface="Monotype Corsiva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>
            <a:hlinkClick r:id="" action="ppaction://hlinkshowjump?jump=nextslide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3794"/>
                </a:moveTo>
                <a:lnTo>
                  <a:pt x="19711" y="10800"/>
                </a:lnTo>
                <a:lnTo>
                  <a:pt x="5699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64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4"/>
          <p:cNvSpPr/>
          <p:nvPr/>
        </p:nvSpPr>
        <p:spPr>
          <a:xfrm>
            <a:off x="179280" y="2565360"/>
            <a:ext cx="4464000" cy="4103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4356000" y="2565360"/>
            <a:ext cx="4464000" cy="41036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900000" y="75420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Book Antiqua"/>
              </a:rPr>
              <a:t>На уроках литературы мы недавно знакомились с произведениями  Ф.И.Тютчева. Запишите по памяти строки с обращениями, соответствующими данным иллюстр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684360" y="3130560"/>
            <a:ext cx="345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Что ты клонишь над вод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Ива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, макушку св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10"/>
          <p:cNvPicPr/>
          <p:nvPr/>
        </p:nvPicPr>
        <p:blipFill>
          <a:blip r:embed="rId2"/>
          <a:stretch/>
        </p:blipFill>
        <p:spPr>
          <a:xfrm>
            <a:off x="684360" y="3213000"/>
            <a:ext cx="3456000" cy="2592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9"/>
          <p:cNvSpPr/>
          <p:nvPr/>
        </p:nvSpPr>
        <p:spPr>
          <a:xfrm>
            <a:off x="4859280" y="328464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Ты, волна моя морск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военравная вол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ак, покоясь иль игр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Чудной жизни ты полн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10" descr="14"/>
          <p:cNvPicPr/>
          <p:nvPr/>
        </p:nvPicPr>
        <p:blipFill>
          <a:blip r:embed="rId3"/>
          <a:stretch/>
        </p:blipFill>
        <p:spPr>
          <a:xfrm>
            <a:off x="4859280" y="3357720"/>
            <a:ext cx="3457800" cy="2593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8" descr="8703_205_1000"/>
          <p:cNvPicPr/>
          <p:nvPr/>
        </p:nvPicPr>
        <p:blipFill>
          <a:blip r:embed="rId4"/>
          <a:srcRect l="24392" t="0" r="23986" b="0"/>
          <a:stretch/>
        </p:blipFill>
        <p:spPr>
          <a:xfrm>
            <a:off x="4140360" y="5661000"/>
            <a:ext cx="742680" cy="10112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12"/>
          <p:cNvSpPr txBox="1"/>
          <p:nvPr/>
        </p:nvSpPr>
        <p:spPr>
          <a:xfrm>
            <a:off x="2340000" y="2565360"/>
            <a:ext cx="358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9829800" y="2565360"/>
            <a:ext cx="358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5" name="WordArt 14"/>
          <p:cNvSpPr txBox="1"/>
          <p:nvPr/>
        </p:nvSpPr>
        <p:spPr>
          <a:xfrm>
            <a:off x="6732720" y="2565360"/>
            <a:ext cx="3585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WordArt 2"/>
          <p:cNvSpPr txBox="1"/>
          <p:nvPr/>
        </p:nvSpPr>
        <p:spPr>
          <a:xfrm>
            <a:off x="1619280" y="11592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Место в предложе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78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0" y="1628640"/>
            <a:ext cx="89996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Обращение может стоять в начале, в середине и в конце предложен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Обращение не является членом предлож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>
            <a:hlinkClick r:id="" action="ppaction://hlinkshowjump?jump=nextslide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3794"/>
                </a:moveTo>
                <a:lnTo>
                  <a:pt x="18624" y="10800"/>
                </a:lnTo>
                <a:lnTo>
                  <a:pt x="461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900000" y="76500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Перестройте предложение, чтобы оно соответствовало схем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3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83" name="Picture 4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79280" y="1844640"/>
          <a:ext cx="8785440" cy="4032360"/>
        </p:xfrm>
        <a:graphic>
          <a:graphicData uri="http://schemas.openxmlformats.org/drawingml/2006/table">
            <a:tbl>
              <a:tblPr/>
              <a:tblGrid>
                <a:gridCol w="1976400"/>
                <a:gridCol w="6809040"/>
              </a:tblGrid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19"/>
          <p:cNvSpPr/>
          <p:nvPr/>
        </p:nvSpPr>
        <p:spPr>
          <a:xfrm>
            <a:off x="468360" y="2205000"/>
            <a:ext cx="1439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0"/>
          <p:cNvSpPr/>
          <p:nvPr/>
        </p:nvSpPr>
        <p:spPr>
          <a:xfrm>
            <a:off x="468360" y="3500280"/>
            <a:ext cx="1439640" cy="6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1"/>
          <p:cNvSpPr/>
          <p:nvPr/>
        </p:nvSpPr>
        <p:spPr>
          <a:xfrm>
            <a:off x="468360" y="4797360"/>
            <a:ext cx="1439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22"/>
          <p:cNvSpPr txBox="1"/>
          <p:nvPr/>
        </p:nvSpPr>
        <p:spPr>
          <a:xfrm>
            <a:off x="539640" y="2276640"/>
            <a:ext cx="4003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89" name="WordArt 23"/>
          <p:cNvSpPr txBox="1"/>
          <p:nvPr/>
        </p:nvSpPr>
        <p:spPr>
          <a:xfrm>
            <a:off x="971640" y="3573360"/>
            <a:ext cx="3999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,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90" name="WordArt 24"/>
          <p:cNvSpPr txBox="1"/>
          <p:nvPr/>
        </p:nvSpPr>
        <p:spPr>
          <a:xfrm>
            <a:off x="1403280" y="4869000"/>
            <a:ext cx="3999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,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91" name="WordArt 25"/>
          <p:cNvSpPr txBox="1"/>
          <p:nvPr/>
        </p:nvSpPr>
        <p:spPr>
          <a:xfrm>
            <a:off x="2340000" y="1916280"/>
            <a:ext cx="6480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илые мои внуки, родилась я под Киево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 тихой деревн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92" name="WordArt 26"/>
          <p:cNvSpPr txBox="1"/>
          <p:nvPr/>
        </p:nvSpPr>
        <p:spPr>
          <a:xfrm>
            <a:off x="2340000" y="3213000"/>
            <a:ext cx="648000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Родилась я под Киевом, милые мои внук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 тихой деревн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193" name="WordArt 27"/>
          <p:cNvSpPr txBox="1"/>
          <p:nvPr/>
        </p:nvSpPr>
        <p:spPr>
          <a:xfrm>
            <a:off x="2268360" y="4581360"/>
            <a:ext cx="6480360" cy="12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Родилась я под Киевом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в тихой деревне, милые мои вну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194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1547640" y="5734080"/>
            <a:ext cx="743040" cy="101124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29"/>
          <p:cNvSpPr/>
          <p:nvPr/>
        </p:nvSpPr>
        <p:spPr>
          <a:xfrm>
            <a:off x="8317080" y="6031080"/>
            <a:ext cx="826920" cy="826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WordArt 2"/>
          <p:cNvSpPr txBox="1"/>
          <p:nvPr/>
        </p:nvSpPr>
        <p:spPr>
          <a:xfrm>
            <a:off x="1979640" y="18900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Интонац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97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4"/>
          <p:cNvSpPr/>
          <p:nvPr/>
        </p:nvSpPr>
        <p:spPr>
          <a:xfrm>
            <a:off x="0" y="14842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Book Antiqua"/>
              </a:rPr>
              <a:t>Обращение произносится  со </a:t>
            </a:r>
            <a:r>
              <a:rPr b="1" lang="ru-RU" sz="5400" spc="-1" strike="noStrike">
                <a:solidFill>
                  <a:srgbClr val="ff0000"/>
                </a:solidFill>
                <a:latin typeface="Book Antiqua"/>
              </a:rPr>
              <a:t>звательной интонацией</a:t>
            </a:r>
            <a:r>
              <a:rPr b="1" lang="ru-RU" sz="5400" spc="-1" strike="noStrike">
                <a:solidFill>
                  <a:srgbClr val="000000"/>
                </a:solidFill>
                <a:latin typeface="Book Antiqua"/>
              </a:rPr>
              <a:t>, то есть с усиленным ударен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>
            <a:hlinkClick r:id="" action="ppaction://hlinkshowjump?jump=nextslide"/>
          </p:cNvPr>
          <p:cNvSpPr/>
          <p:nvPr/>
        </p:nvSpPr>
        <p:spPr>
          <a:xfrm>
            <a:off x="8317080" y="6031080"/>
            <a:ext cx="826920" cy="826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26920"/>
              <a:gd name="textAreaBottom" fmla="*/ 773640 h 8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201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"/>
          <p:cNvSpPr/>
          <p:nvPr/>
        </p:nvSpPr>
        <p:spPr>
          <a:xfrm>
            <a:off x="1042920" y="765000"/>
            <a:ext cx="810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Book Antiqua"/>
              </a:rPr>
              <a:t>Прослушайте в исполнении актёра Дениса Некрасова отрывки с обращениями из рассказов А.П.Чехова. Выпишите обращения из каждого отрыв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24000" y="2349360"/>
            <a:ext cx="4464000" cy="4104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427640" y="2349360"/>
            <a:ext cx="4464000" cy="4104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1979640" y="2349360"/>
            <a:ext cx="192420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"Хамелеон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206" name="WordArt 8"/>
          <p:cNvSpPr txBox="1"/>
          <p:nvPr/>
        </p:nvSpPr>
        <p:spPr>
          <a:xfrm>
            <a:off x="5651640" y="2349360"/>
            <a:ext cx="273672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"Толстый и тонкий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207" name="Picture 9" descr="5326"/>
          <p:cNvPicPr/>
          <p:nvPr/>
        </p:nvPicPr>
        <p:blipFill>
          <a:blip r:embed="rId2"/>
          <a:stretch/>
        </p:blipFill>
        <p:spPr>
          <a:xfrm>
            <a:off x="1979640" y="544500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5326"/>
          <p:cNvPicPr/>
          <p:nvPr/>
        </p:nvPicPr>
        <p:blipFill>
          <a:blip r:embed="rId3"/>
          <a:stretch/>
        </p:blipFill>
        <p:spPr>
          <a:xfrm>
            <a:off x="6227640" y="537372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8" descr="8703_205_1000"/>
          <p:cNvPicPr/>
          <p:nvPr/>
        </p:nvPicPr>
        <p:blipFill>
          <a:blip r:embed="rId4"/>
          <a:srcRect l="24392" t="0" r="23986" b="0"/>
          <a:stretch/>
        </p:blipFill>
        <p:spPr>
          <a:xfrm>
            <a:off x="971640" y="5373720"/>
            <a:ext cx="743040" cy="1011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8" descr="8703_205_1000"/>
          <p:cNvPicPr/>
          <p:nvPr/>
        </p:nvPicPr>
        <p:blipFill>
          <a:blip r:embed="rId5"/>
          <a:srcRect l="24392" t="0" r="23986" b="0"/>
          <a:stretch/>
        </p:blipFill>
        <p:spPr>
          <a:xfrm>
            <a:off x="7524720" y="5373720"/>
            <a:ext cx="743040" cy="1011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4"/>
          <p:cNvSpPr/>
          <p:nvPr/>
        </p:nvSpPr>
        <p:spPr>
          <a:xfrm>
            <a:off x="826920" y="3130560"/>
            <a:ext cx="34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кая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Ребя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4932360" y="3059280"/>
            <a:ext cx="3456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рфи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Голубчик м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и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руг дет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аудио 1.wma" descr=""/>
          <p:cNvPicPr/>
          <p:nvPr/>
        </p:nvPicPr>
        <p:blipFill>
          <a:blip r:embed="rId6"/>
          <a:stretch/>
        </p:blipFill>
        <p:spPr>
          <a:xfrm>
            <a:off x="234000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Аудио2.wma" descr=""/>
          <p:cNvPicPr/>
          <p:nvPr/>
        </p:nvPicPr>
        <p:blipFill>
          <a:blip r:embed="rId7"/>
          <a:stretch/>
        </p:blipFill>
        <p:spPr>
          <a:xfrm>
            <a:off x="665964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10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10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27677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7414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0" y="907920"/>
            <a:ext cx="5435640" cy="649440"/>
          </a:xfrm>
          <a:custGeom>
            <a:avLst/>
            <a:gdLst>
              <a:gd name="textAreaLeft" fmla="*/ 0 w 5435640"/>
              <a:gd name="textAreaRight" fmla="*/ 5436000 w 5435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0" y="1557360"/>
            <a:ext cx="6012000" cy="649440"/>
          </a:xfrm>
          <a:custGeom>
            <a:avLst/>
            <a:gdLst>
              <a:gd name="textAreaLeft" fmla="*/ 0 w 6012000"/>
              <a:gd name="textAreaRight" fmla="*/ 6012360 w 6012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2205000"/>
            <a:ext cx="6443640" cy="649440"/>
          </a:xfrm>
          <a:custGeom>
            <a:avLst/>
            <a:gdLst>
              <a:gd name="textAreaLeft" fmla="*/ 0 w 6443640"/>
              <a:gd name="textAreaRight" fmla="*/ 6444000 w 6443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0" y="2852640"/>
            <a:ext cx="7020000" cy="649440"/>
          </a:xfrm>
          <a:custGeom>
            <a:avLst/>
            <a:gdLst>
              <a:gd name="textAreaLeft" fmla="*/ 0 w 7020000"/>
              <a:gd name="textAreaRight" fmla="*/ 7020360 w 7020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0" y="3500280"/>
            <a:ext cx="7740720" cy="649440"/>
          </a:xfrm>
          <a:custGeom>
            <a:avLst/>
            <a:gdLst>
              <a:gd name="textAreaLeft" fmla="*/ 0 w 7740720"/>
              <a:gd name="textAreaRight" fmla="*/ 7741080 w 7740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0" y="4149720"/>
            <a:ext cx="8172360" cy="649440"/>
          </a:xfrm>
          <a:custGeom>
            <a:avLst/>
            <a:gdLst>
              <a:gd name="textAreaLeft" fmla="*/ 0 w 8172360"/>
              <a:gd name="textAreaRight" fmla="*/ 8172720 w 81723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0" y="4797360"/>
            <a:ext cx="8675640" cy="649440"/>
          </a:xfrm>
          <a:custGeom>
            <a:avLst/>
            <a:gdLst>
              <a:gd name="textAreaLeft" fmla="*/ 0 w 8675640"/>
              <a:gd name="textAreaRight" fmla="*/ 8676000 w 8675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0" y="5445000"/>
            <a:ext cx="9144000" cy="6494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0"/>
          <p:cNvSpPr txBox="1"/>
          <p:nvPr/>
        </p:nvSpPr>
        <p:spPr>
          <a:xfrm>
            <a:off x="468360" y="981000"/>
            <a:ext cx="2879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Определ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56" name="WordArt 11"/>
          <p:cNvSpPr txBox="1"/>
          <p:nvPr/>
        </p:nvSpPr>
        <p:spPr>
          <a:xfrm>
            <a:off x="1692360" y="189000"/>
            <a:ext cx="574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лан изучения обращ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7" name="AutoShape 12">
            <a:hlinkClick r:id="rId1" action="ppaction://hlinksldjump"/>
          </p:cNvPr>
          <p:cNvSpPr/>
          <p:nvPr/>
        </p:nvSpPr>
        <p:spPr>
          <a:xfrm>
            <a:off x="3492360" y="981000"/>
            <a:ext cx="1079640" cy="432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684360" y="630864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ля перехода к соответствующему разделу нажмит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>
            <a:hlinkClick r:id="rId2" action="ppaction://hlinksldjump"/>
          </p:cNvPr>
          <p:cNvSpPr/>
          <p:nvPr/>
        </p:nvSpPr>
        <p:spPr>
          <a:xfrm>
            <a:off x="4572000" y="2276640"/>
            <a:ext cx="1079640" cy="43164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15"/>
          <p:cNvSpPr txBox="1"/>
          <p:nvPr/>
        </p:nvSpPr>
        <p:spPr>
          <a:xfrm>
            <a:off x="250920" y="1628640"/>
            <a:ext cx="331452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Способ выра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61" name="AutoShape 16">
            <a:hlinkClick r:id="rId3" action="ppaction://hlinksldjump"/>
          </p:cNvPr>
          <p:cNvSpPr/>
          <p:nvPr/>
        </p:nvSpPr>
        <p:spPr>
          <a:xfrm>
            <a:off x="3995640" y="1628640"/>
            <a:ext cx="1079640" cy="432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7"/>
          <p:cNvSpPr txBox="1"/>
          <p:nvPr/>
        </p:nvSpPr>
        <p:spPr>
          <a:xfrm>
            <a:off x="108000" y="2276640"/>
            <a:ext cx="4419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Грамматическая фо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63" name="AutoShape 18"/>
          <p:cNvSpPr/>
          <p:nvPr/>
        </p:nvSpPr>
        <p:spPr>
          <a:xfrm>
            <a:off x="7596360" y="6237360"/>
            <a:ext cx="1079280" cy="43164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19"/>
          <p:cNvSpPr txBox="1"/>
          <p:nvPr/>
        </p:nvSpPr>
        <p:spPr>
          <a:xfrm>
            <a:off x="539640" y="2924280"/>
            <a:ext cx="37450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Распространённые 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нераспространён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65" name="AutoShape 20">
            <a:hlinkClick r:id="rId4" action="ppaction://hlinksldjump"/>
          </p:cNvPr>
          <p:cNvSpPr/>
          <p:nvPr/>
        </p:nvSpPr>
        <p:spPr>
          <a:xfrm>
            <a:off x="5003640" y="2924280"/>
            <a:ext cx="1079640" cy="43164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21"/>
          <p:cNvSpPr txBox="1"/>
          <p:nvPr/>
        </p:nvSpPr>
        <p:spPr>
          <a:xfrm>
            <a:off x="611280" y="3573360"/>
            <a:ext cx="2952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Роль в язы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67" name="AutoShape 22">
            <a:hlinkClick r:id="rId5" action="ppaction://hlinksldjump"/>
          </p:cNvPr>
          <p:cNvSpPr/>
          <p:nvPr/>
        </p:nvSpPr>
        <p:spPr>
          <a:xfrm>
            <a:off x="5580000" y="3573360"/>
            <a:ext cx="1079640" cy="43200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3" descr="32"/>
          <p:cNvPicPr/>
          <p:nvPr/>
        </p:nvPicPr>
        <p:blipFill>
          <a:blip r:embed="rId6"/>
          <a:stretch/>
        </p:blipFill>
        <p:spPr>
          <a:xfrm>
            <a:off x="6804000" y="981000"/>
            <a:ext cx="2139840" cy="2232000"/>
          </a:xfrm>
          <a:prstGeom prst="rect">
            <a:avLst/>
          </a:prstGeom>
          <a:ln w="0">
            <a:noFill/>
          </a:ln>
        </p:spPr>
      </p:pic>
      <p:sp>
        <p:nvSpPr>
          <p:cNvPr id="69" name="WordArt 24"/>
          <p:cNvSpPr txBox="1"/>
          <p:nvPr/>
        </p:nvSpPr>
        <p:spPr>
          <a:xfrm>
            <a:off x="250920" y="4221000"/>
            <a:ext cx="4537080" cy="54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есто в предложе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70" name="AutoShape 25">
            <a:hlinkClick r:id="rId7" action="ppaction://hlinksldjump"/>
          </p:cNvPr>
          <p:cNvSpPr/>
          <p:nvPr/>
        </p:nvSpPr>
        <p:spPr>
          <a:xfrm>
            <a:off x="6012000" y="4221000"/>
            <a:ext cx="1079280" cy="432000"/>
          </a:xfrm>
          <a:custGeom>
            <a:avLst/>
            <a:gdLst>
              <a:gd name="textAreaLeft" fmla="*/ 188640 w 1079280"/>
              <a:gd name="textAreaRight" fmla="*/ 782640 w 10792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26"/>
          <p:cNvSpPr txBox="1"/>
          <p:nvPr/>
        </p:nvSpPr>
        <p:spPr>
          <a:xfrm>
            <a:off x="755640" y="4869000"/>
            <a:ext cx="3384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Интон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72" name="AutoShape 27">
            <a:hlinkClick r:id="rId8" action="ppaction://hlinksldjump"/>
          </p:cNvPr>
          <p:cNvSpPr/>
          <p:nvPr/>
        </p:nvSpPr>
        <p:spPr>
          <a:xfrm>
            <a:off x="6443640" y="4869000"/>
            <a:ext cx="1079640" cy="43164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28"/>
          <p:cNvSpPr txBox="1"/>
          <p:nvPr/>
        </p:nvSpPr>
        <p:spPr>
          <a:xfrm>
            <a:off x="395280" y="5516640"/>
            <a:ext cx="43196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Знаки препин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sp>
        <p:nvSpPr>
          <p:cNvPr id="74" name="AutoShape 29">
            <a:hlinkClick r:id="rId9" action="ppaction://hlinksldjump"/>
          </p:cNvPr>
          <p:cNvSpPr/>
          <p:nvPr/>
        </p:nvSpPr>
        <p:spPr>
          <a:xfrm>
            <a:off x="6877080" y="5516640"/>
            <a:ext cx="1079640" cy="431640"/>
          </a:xfrm>
          <a:custGeom>
            <a:avLst/>
            <a:gdLst>
              <a:gd name="textAreaLeft" fmla="*/ 189000 w 1079640"/>
              <a:gd name="textAreaRight" fmla="*/ 783000 w 107964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0">
            <a:hlinkClick r:id="rId10" action="ppaction://hlinksldjump"/>
          </p:cNvPr>
          <p:cNvSpPr/>
          <p:nvPr/>
        </p:nvSpPr>
        <p:spPr>
          <a:xfrm>
            <a:off x="7958160" y="0"/>
            <a:ext cx="1185840" cy="765000"/>
          </a:xfrm>
          <a:custGeom>
            <a:avLst/>
            <a:gdLst>
              <a:gd name="textAreaLeft" fmla="*/ 49320 w 1185840"/>
              <a:gd name="textAreaRight" fmla="*/ 1136520 w 11858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3477" h="21600">
                <a:moveTo>
                  <a:pt x="0" y="0"/>
                </a:moveTo>
                <a:lnTo>
                  <a:pt x="33477" y="0"/>
                </a:lnTo>
                <a:lnTo>
                  <a:pt x="33477" y="21600"/>
                </a:lnTo>
                <a:lnTo>
                  <a:pt x="0" y="21600"/>
                </a:lnTo>
                <a:close/>
              </a:path>
              <a:path fill="lightenLess" w="33477" h="21600">
                <a:moveTo>
                  <a:pt x="0" y="0"/>
                </a:moveTo>
                <a:lnTo>
                  <a:pt x="33477" y="0"/>
                </a:lnTo>
                <a:lnTo>
                  <a:pt x="32077" y="1400"/>
                </a:lnTo>
                <a:lnTo>
                  <a:pt x="1400" y="1400"/>
                </a:lnTo>
                <a:close/>
              </a:path>
              <a:path fill="darken" w="33477" h="21600">
                <a:moveTo>
                  <a:pt x="33477" y="0"/>
                </a:moveTo>
                <a:lnTo>
                  <a:pt x="33477" y="21600"/>
                </a:lnTo>
                <a:lnTo>
                  <a:pt x="32077" y="20200"/>
                </a:lnTo>
                <a:lnTo>
                  <a:pt x="32077" y="1400"/>
                </a:lnTo>
                <a:close/>
              </a:path>
              <a:path fill="darkenLess" w="33477" h="21600">
                <a:moveTo>
                  <a:pt x="334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077" y="20200"/>
                </a:lnTo>
                <a:close/>
              </a:path>
              <a:path fill="lighten" w="334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477" h="21600">
                <a:moveTo>
                  <a:pt x="9732" y="3794"/>
                </a:moveTo>
                <a:lnTo>
                  <a:pt x="23745" y="10800"/>
                </a:lnTo>
                <a:lnTo>
                  <a:pt x="9732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2"/>
          <p:cNvSpPr txBox="1"/>
          <p:nvPr/>
        </p:nvSpPr>
        <p:spPr>
          <a:xfrm>
            <a:off x="1619280" y="11592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Знаки препин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217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250920" y="1397160"/>
          <a:ext cx="8713800" cy="450504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14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бращение выделяется запятыми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Наташа, иди сюда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Вперёд тебе наука, друг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7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ли обращение стоит в начале предложения и произносится с восклицательной интонацией, после него ставится восклицательный знак, а идущее дальше предложение начинается с прописной буквы.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Соседушка, мой свет! Пожалуйста, покуша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Если обращение разбито на части, выделяется запятыми каждая часть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Отколе, умная, бредёшь ты, голов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AutoShape 18">
            <a:hlinkClick r:id="" action="ppaction://hlinkshowjump?jump=nextslide"/>
          </p:cNvPr>
          <p:cNvSpPr/>
          <p:nvPr/>
        </p:nvSpPr>
        <p:spPr>
          <a:xfrm>
            <a:off x="8101080" y="6021360"/>
            <a:ext cx="1042920" cy="83664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923" h="21600">
                <a:moveTo>
                  <a:pt x="0" y="0"/>
                </a:moveTo>
                <a:lnTo>
                  <a:pt x="26923" y="0"/>
                </a:lnTo>
                <a:lnTo>
                  <a:pt x="26923" y="21600"/>
                </a:lnTo>
                <a:lnTo>
                  <a:pt x="0" y="21600"/>
                </a:lnTo>
                <a:close/>
              </a:path>
              <a:path fill="lightenLess" w="26923" h="21600">
                <a:moveTo>
                  <a:pt x="0" y="0"/>
                </a:moveTo>
                <a:lnTo>
                  <a:pt x="26923" y="0"/>
                </a:lnTo>
                <a:lnTo>
                  <a:pt x="25523" y="1400"/>
                </a:lnTo>
                <a:lnTo>
                  <a:pt x="1400" y="1400"/>
                </a:lnTo>
                <a:close/>
              </a:path>
              <a:path fill="darken" w="26923" h="21600">
                <a:moveTo>
                  <a:pt x="26923" y="0"/>
                </a:moveTo>
                <a:lnTo>
                  <a:pt x="26923" y="21600"/>
                </a:lnTo>
                <a:lnTo>
                  <a:pt x="25523" y="20200"/>
                </a:lnTo>
                <a:lnTo>
                  <a:pt x="25523" y="1400"/>
                </a:lnTo>
                <a:close/>
              </a:path>
              <a:path fill="darkenLess" w="26923" h="21600">
                <a:moveTo>
                  <a:pt x="26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3" y="20200"/>
                </a:lnTo>
                <a:close/>
              </a:path>
              <a:path fill="lighten" w="26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3" h="21600">
                <a:moveTo>
                  <a:pt x="6455" y="3794"/>
                </a:moveTo>
                <a:lnTo>
                  <a:pt x="20468" y="10800"/>
                </a:lnTo>
                <a:lnTo>
                  <a:pt x="645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WordArt 3"/>
          <p:cNvSpPr txBox="1"/>
          <p:nvPr/>
        </p:nvSpPr>
        <p:spPr>
          <a:xfrm>
            <a:off x="1619280" y="11592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Знаки препин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222" name="Picture 4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179280" y="1268280"/>
          <a:ext cx="8785440" cy="493236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2313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астица О, стоящая перед обращением, не отделяется от него никаким знаком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О небо, над нами синей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Так вот судьба твоих сынов, о Рим, о громкая держава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днородные обращения, соединённые союзом И или ДА запятой не разделяютс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Здравствуй, солнце да утро весёлое!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Частицы А и ДА, стоящие перед обращением, запятой от них не отделяются, а перед ними запятая ставитс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00"/>
                          </a:solidFill>
                          <a:latin typeface="Monotype Corsiva"/>
                        </a:rPr>
                        <a:t>Петька, да Петька же, куда ты запропастился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19"/>
          <p:cNvSpPr/>
          <p:nvPr/>
        </p:nvSpPr>
        <p:spPr>
          <a:xfrm>
            <a:off x="1239840" y="5465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0">
            <a:hlinkClick r:id="" action="ppaction://hlinkshowjump?jump=nextslide"/>
          </p:cNvPr>
          <p:cNvSpPr/>
          <p:nvPr/>
        </p:nvSpPr>
        <p:spPr>
          <a:xfrm>
            <a:off x="802800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3794"/>
                </a:moveTo>
                <a:lnTo>
                  <a:pt x="24413" y="10800"/>
                </a:lnTo>
                <a:lnTo>
                  <a:pt x="10400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Прямоугольник 1" descr=""/>
          <p:cNvPicPr/>
          <p:nvPr/>
        </p:nvPicPr>
        <p:blipFill>
          <a:blip r:embed="rId1"/>
          <a:stretch/>
        </p:blipFill>
        <p:spPr>
          <a:xfrm>
            <a:off x="0" y="-212760"/>
            <a:ext cx="8747280" cy="17733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2"/>
          <p:cNvSpPr/>
          <p:nvPr/>
        </p:nvSpPr>
        <p:spPr>
          <a:xfrm>
            <a:off x="108000" y="907920"/>
            <a:ext cx="8928000" cy="9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 Antiqua"/>
              </a:rPr>
              <a:t>Перестройте предложения так, чтобы подлежащее стало обращением. Расставьте знаки препи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етер поёт нам про дикие го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Гражданин спасает раненого бой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Милая матушка говорит со мной шёпо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Друзья любят смотреть на синие, туманные равн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Болельщики команды надеются на поддерж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25"/>
          <p:cNvPicPr/>
          <p:nvPr/>
        </p:nvPicPr>
        <p:blipFill>
          <a:blip r:embed="rId2"/>
          <a:stretch/>
        </p:blipFill>
        <p:spPr>
          <a:xfrm>
            <a:off x="130320" y="17640"/>
            <a:ext cx="6174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230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1042920" y="765000"/>
            <a:ext cx="81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Перестройте предложения так, чтобы подлежащее стало об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0" y="2050920"/>
            <a:ext cx="9144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етер  спой нам про дикие г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Гражданин  Спасите раненого бойц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Милая матушка</a:t>
            </a:r>
            <a:r>
              <a:rPr b="1" lang="ru-RU" sz="6000" spc="-1" strike="noStrike">
                <a:solidFill>
                  <a:srgbClr val="ff0000"/>
                </a:solidFill>
                <a:latin typeface="Book Antiqua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Говори со мной шепо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Люблю  друзья  смотреть на синие, туманные равн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Болельщики</a:t>
            </a:r>
            <a:r>
              <a:rPr b="1" lang="ru-RU" sz="6000" spc="-1" strike="noStrike">
                <a:solidFill>
                  <a:srgbClr val="ff0000"/>
                </a:solidFill>
                <a:latin typeface="Book Antiqua"/>
              </a:rPr>
              <a:t>!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Команда надеется на вашу поддержк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6"/>
          <p:cNvSpPr txBox="1"/>
          <p:nvPr/>
        </p:nvSpPr>
        <p:spPr>
          <a:xfrm>
            <a:off x="1476360" y="2421000"/>
            <a:ext cx="216000" cy="27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234" name="WordArt 7"/>
          <p:cNvSpPr txBox="1"/>
          <p:nvPr/>
        </p:nvSpPr>
        <p:spPr>
          <a:xfrm>
            <a:off x="2700360" y="2492280"/>
            <a:ext cx="216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235" name="WordArt 8"/>
          <p:cNvSpPr txBox="1"/>
          <p:nvPr/>
        </p:nvSpPr>
        <p:spPr>
          <a:xfrm>
            <a:off x="1871640" y="4292640"/>
            <a:ext cx="17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236" name="WordArt 9"/>
          <p:cNvSpPr txBox="1"/>
          <p:nvPr/>
        </p:nvSpPr>
        <p:spPr>
          <a:xfrm>
            <a:off x="3419640" y="4292640"/>
            <a:ext cx="215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237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6875640" y="5702400"/>
            <a:ext cx="742680" cy="101124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13"/>
          <p:cNvSpPr/>
          <p:nvPr/>
        </p:nvSpPr>
        <p:spPr>
          <a:xfrm>
            <a:off x="8172360" y="6093000"/>
            <a:ext cx="971640" cy="765000"/>
          </a:xfrm>
          <a:custGeom>
            <a:avLst/>
            <a:gdLst>
              <a:gd name="textAreaLeft" fmla="*/ 49320 w 971640"/>
              <a:gd name="textAreaRight" fmla="*/ 922320 w 971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7432" h="21600">
                <a:moveTo>
                  <a:pt x="0" y="0"/>
                </a:moveTo>
                <a:lnTo>
                  <a:pt x="27432" y="0"/>
                </a:lnTo>
                <a:lnTo>
                  <a:pt x="27432" y="21600"/>
                </a:lnTo>
                <a:lnTo>
                  <a:pt x="0" y="21600"/>
                </a:lnTo>
                <a:close/>
              </a:path>
              <a:path fill="lightenLess" w="27432" h="21600">
                <a:moveTo>
                  <a:pt x="0" y="0"/>
                </a:moveTo>
                <a:lnTo>
                  <a:pt x="27432" y="0"/>
                </a:lnTo>
                <a:lnTo>
                  <a:pt x="26032" y="1400"/>
                </a:lnTo>
                <a:lnTo>
                  <a:pt x="1400" y="1400"/>
                </a:lnTo>
                <a:close/>
              </a:path>
              <a:path fill="darken" w="27432" h="21600">
                <a:moveTo>
                  <a:pt x="27432" y="0"/>
                </a:moveTo>
                <a:lnTo>
                  <a:pt x="27432" y="21600"/>
                </a:lnTo>
                <a:lnTo>
                  <a:pt x="26032" y="20200"/>
                </a:lnTo>
                <a:lnTo>
                  <a:pt x="26032" y="1400"/>
                </a:lnTo>
                <a:close/>
              </a:path>
              <a:path fill="darkenLess" w="27432" h="21600">
                <a:moveTo>
                  <a:pt x="27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32" y="20200"/>
                </a:lnTo>
                <a:close/>
              </a:path>
              <a:path fill="lighten" w="27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32" h="21600">
                <a:moveTo>
                  <a:pt x="6709" y="10800"/>
                </a:moveTo>
                <a:lnTo>
                  <a:pt x="20722" y="3794"/>
                </a:lnTo>
                <a:lnTo>
                  <a:pt x="20722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971640" y="115920"/>
            <a:ext cx="7920000" cy="74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 Black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.     Подготовить устный рассказ об обращении по плану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.  Выполните упражнение 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1979640" y="189000"/>
            <a:ext cx="5113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Определ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08000" y="1474920"/>
            <a:ext cx="9036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ook Antiqua"/>
              </a:rPr>
              <a:t>Обращение</a:t>
            </a:r>
            <a:r>
              <a:rPr b="1" lang="ru-RU" sz="4400" spc="-1" strike="noStrike">
                <a:solidFill>
                  <a:srgbClr val="000000"/>
                </a:solidFill>
                <a:latin typeface="Book Antiqua"/>
              </a:rPr>
              <a:t> – это существительное, одно или с зависимыми словами, называющее того, кому адресована реч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515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Саша, у тебя сегодня сколько уроков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32"/>
          <p:cNvPicPr/>
          <p:nvPr/>
        </p:nvPicPr>
        <p:blipFill>
          <a:blip r:embed="rId1"/>
          <a:stretch/>
        </p:blipFill>
        <p:spPr>
          <a:xfrm>
            <a:off x="0" y="0"/>
            <a:ext cx="1353960" cy="1413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>
            <a:hlinkClick r:id="" action="ppaction://hlinkshowjump?jump=nextslide"/>
          </p:cNvPr>
          <p:cNvSpPr/>
          <p:nvPr/>
        </p:nvSpPr>
        <p:spPr>
          <a:xfrm>
            <a:off x="8389800" y="6093000"/>
            <a:ext cx="754200" cy="765000"/>
          </a:xfrm>
          <a:custGeom>
            <a:avLst/>
            <a:gdLst>
              <a:gd name="textAreaLeft" fmla="*/ 48600 w 754200"/>
              <a:gd name="textAreaRight" fmla="*/ 705600 w 754200"/>
              <a:gd name="textAreaTop" fmla="*/ 48600 h 765000"/>
              <a:gd name="textAreaBottom" fmla="*/ 716400 h 765000"/>
            </a:gdLst>
            <a:ahLst/>
            <a:rect l="textAreaLeft" t="textAreaTop" r="textAreaRight" b="textAreaBottom"/>
            <a:pathLst>
              <a:path w="21600" h="21909">
                <a:moveTo>
                  <a:pt x="0" y="0"/>
                </a:moveTo>
                <a:lnTo>
                  <a:pt x="21600" y="0"/>
                </a:lnTo>
                <a:lnTo>
                  <a:pt x="21600" y="21909"/>
                </a:lnTo>
                <a:lnTo>
                  <a:pt x="0" y="21909"/>
                </a:lnTo>
                <a:close/>
              </a:path>
              <a:path fill="lightenLess" w="21600" h="2190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09">
                <a:moveTo>
                  <a:pt x="21600" y="0"/>
                </a:moveTo>
                <a:lnTo>
                  <a:pt x="21600" y="21909"/>
                </a:lnTo>
                <a:lnTo>
                  <a:pt x="20200" y="20509"/>
                </a:lnTo>
                <a:lnTo>
                  <a:pt x="20200" y="1400"/>
                </a:lnTo>
                <a:close/>
              </a:path>
              <a:path fill="darkenLess" w="21600" h="21909">
                <a:moveTo>
                  <a:pt x="21600" y="21909"/>
                </a:moveTo>
                <a:lnTo>
                  <a:pt x="0" y="21909"/>
                </a:lnTo>
                <a:lnTo>
                  <a:pt x="1400" y="20509"/>
                </a:lnTo>
                <a:lnTo>
                  <a:pt x="20200" y="20509"/>
                </a:lnTo>
                <a:close/>
              </a:path>
              <a:path fill="lighten" w="21600" h="21909">
                <a:moveTo>
                  <a:pt x="0" y="21909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09"/>
                </a:lnTo>
                <a:close/>
              </a:path>
              <a:path fill="darken" w="21600" h="21909">
                <a:moveTo>
                  <a:pt x="3794" y="3948"/>
                </a:moveTo>
                <a:lnTo>
                  <a:pt x="17806" y="10955"/>
                </a:lnTo>
                <a:lnTo>
                  <a:pt x="3794" y="17961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82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042920" y="836640"/>
            <a:ext cx="81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 Antiqua"/>
              </a:rPr>
              <a:t>Выпишите номера предложений, в которых есть обращения (знаки препинания не расставлены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0" y="22050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Не трещите морозы в заповедном б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 утру мороз крепч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Вылезайте муравьи после зимней сту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уравьи санитары л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огорай костёр дот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500720" y="2133720"/>
            <a:ext cx="464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6.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Что ты рано осень в гости к нам приш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7.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дкралась осень незаме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8.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эту пронесём друзья по св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9.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рузья познаются в бе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0.</a:t>
            </a: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рощай любимый гор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3851280" y="5373720"/>
            <a:ext cx="743040" cy="1011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3419640" y="646128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 Antiqua"/>
              </a:rPr>
              <a:t>Провер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558972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Book Antiqua"/>
              </a:rPr>
              <a:t>1, 3,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4716360" y="5661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Book Antiqua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Book Antiqua"/>
              </a:rPr>
              <a:t>6</a:t>
            </a:r>
            <a:r>
              <a:rPr b="1" lang="ru-RU" sz="2800" spc="-1" strike="noStrike">
                <a:solidFill>
                  <a:srgbClr val="009900"/>
                </a:solidFill>
                <a:latin typeface="Book Antiqua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Book Antiqua"/>
              </a:rPr>
              <a:t>8</a:t>
            </a:r>
            <a:r>
              <a:rPr b="1" lang="ru-RU" sz="2800" spc="-1" strike="noStrike">
                <a:solidFill>
                  <a:srgbClr val="009900"/>
                </a:solidFill>
                <a:latin typeface="Book Antiqua"/>
              </a:rPr>
              <a:t>, </a:t>
            </a:r>
            <a:r>
              <a:rPr b="1" lang="en-US" sz="2800" spc="-1" strike="noStrike">
                <a:solidFill>
                  <a:srgbClr val="009900"/>
                </a:solidFill>
                <a:latin typeface="Book Antiqu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>
            <a:hlinkClick r:id="rId3" action="ppaction://hlinksldjump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10800"/>
                </a:moveTo>
                <a:lnTo>
                  <a:pt x="19711" y="3794"/>
                </a:lnTo>
                <a:lnTo>
                  <a:pt x="1971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1763640" y="0"/>
            <a:ext cx="5400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Способ выраж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92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008000" cy="10526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0" y="1042920"/>
            <a:ext cx="9144000" cy="69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бращения обычно выражено именами существительными одушевлёнными, реже прилагательными или причастиями в значении существитель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Хорошая, любимая, родная, мы друг от друга далеко живём (Щип.).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 роли обращений чаще всего выступают собственные имена и существительные, называющие лиц по родству, по общественному положению, по професс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Monotype Corsiva"/>
              </a:rPr>
              <a:t>Вот, Любушка, Митя проститься пришёл: он едет к матушке своей (Ост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ичные местоимения 2 лица ТЫ и ВЫ чаще входят в состав особого оборота, выступающего в роли обращения и заключающего в себе качественную оценку л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Что вы такой герцогиней смотрите, красавица вы мо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 языке художественной литературы, особенно в поэтических текстах, используются обращения к неодушевлённым предме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Красуйся, град Петров, и 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Monotype Corsiva"/>
              </a:rPr>
              <a:t>Неколебимо, как Россия (Пушк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>
            <a:hlinkClick r:id="" action="ppaction://hlinkshowjump?jump=nextslide"/>
          </p:cNvPr>
          <p:cNvSpPr/>
          <p:nvPr/>
        </p:nvSpPr>
        <p:spPr>
          <a:xfrm>
            <a:off x="8317080" y="6102360"/>
            <a:ext cx="826920" cy="755640"/>
          </a:xfrm>
          <a:custGeom>
            <a:avLst/>
            <a:gdLst>
              <a:gd name="textAreaLeft" fmla="*/ 48960 w 826920"/>
              <a:gd name="textAreaRight" fmla="*/ 777960 w 826920"/>
              <a:gd name="textAreaTop" fmla="*/ 48960 h 755640"/>
              <a:gd name="textAreaBottom" fmla="*/ 706680 h 755640"/>
            </a:gdLst>
            <a:ahLst/>
            <a:rect l="textAreaLeft" t="textAreaTop" r="textAreaRight" b="textAreaBottom"/>
            <a:pathLst>
              <a:path w="23637" h="21600">
                <a:moveTo>
                  <a:pt x="0" y="0"/>
                </a:moveTo>
                <a:lnTo>
                  <a:pt x="23637" y="0"/>
                </a:lnTo>
                <a:lnTo>
                  <a:pt x="23637" y="21600"/>
                </a:lnTo>
                <a:lnTo>
                  <a:pt x="0" y="21600"/>
                </a:lnTo>
                <a:close/>
              </a:path>
              <a:path fill="lightenLess" w="23637" h="21600">
                <a:moveTo>
                  <a:pt x="0" y="0"/>
                </a:moveTo>
                <a:lnTo>
                  <a:pt x="23637" y="0"/>
                </a:lnTo>
                <a:lnTo>
                  <a:pt x="22237" y="1400"/>
                </a:lnTo>
                <a:lnTo>
                  <a:pt x="1400" y="1400"/>
                </a:lnTo>
                <a:close/>
              </a:path>
              <a:path fill="darken" w="23637" h="21600">
                <a:moveTo>
                  <a:pt x="23637" y="0"/>
                </a:moveTo>
                <a:lnTo>
                  <a:pt x="23637" y="21600"/>
                </a:lnTo>
                <a:lnTo>
                  <a:pt x="22237" y="20200"/>
                </a:lnTo>
                <a:lnTo>
                  <a:pt x="22237" y="1400"/>
                </a:lnTo>
                <a:close/>
              </a:path>
              <a:path fill="darkenLess" w="23637" h="21600">
                <a:moveTo>
                  <a:pt x="23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37" y="20200"/>
                </a:lnTo>
                <a:close/>
              </a:path>
              <a:path fill="lighten" w="23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37" h="21600">
                <a:moveTo>
                  <a:pt x="4812" y="3794"/>
                </a:moveTo>
                <a:lnTo>
                  <a:pt x="18825" y="10800"/>
                </a:lnTo>
                <a:lnTo>
                  <a:pt x="4812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96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258920" y="765000"/>
            <a:ext cx="78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Book Antiqua"/>
              </a:rPr>
              <a:t>Запишите номера предложений в таблицу в зависимости от значения обращений в н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2133720"/>
          <a:ext cx="9144000" cy="16779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обственное имя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звание лица по родств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звание лица по професси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Название лица по возрасту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лица по общественному положе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Text Box 25"/>
          <p:cNvSpPr/>
          <p:nvPr/>
        </p:nvSpPr>
        <p:spPr>
          <a:xfrm>
            <a:off x="0" y="3789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Сергей Сергеевич, это вы 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Государь мой премилостивый! Я до тех пор не намерен в Покровское, пока не вышлите вы мне псаря Парамошку с повинн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Пошёл, кучер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Я и не отговариваюсь, тёту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Ты что же, молодчик, оброка не плати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26"/>
          <p:cNvSpPr txBox="1"/>
          <p:nvPr/>
        </p:nvSpPr>
        <p:spPr>
          <a:xfrm>
            <a:off x="755640" y="3213000"/>
            <a:ext cx="358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01" name="WordArt 27"/>
          <p:cNvSpPr txBox="1"/>
          <p:nvPr/>
        </p:nvSpPr>
        <p:spPr>
          <a:xfrm>
            <a:off x="2556000" y="3213000"/>
            <a:ext cx="3585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02" name="WordArt 28"/>
          <p:cNvSpPr txBox="1"/>
          <p:nvPr/>
        </p:nvSpPr>
        <p:spPr>
          <a:xfrm>
            <a:off x="4356000" y="3213000"/>
            <a:ext cx="358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03" name="WordArt 29"/>
          <p:cNvSpPr txBox="1"/>
          <p:nvPr/>
        </p:nvSpPr>
        <p:spPr>
          <a:xfrm>
            <a:off x="6300720" y="3213000"/>
            <a:ext cx="3589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sp>
        <p:nvSpPr>
          <p:cNvPr id="104" name="WordArt 30"/>
          <p:cNvSpPr txBox="1"/>
          <p:nvPr/>
        </p:nvSpPr>
        <p:spPr>
          <a:xfrm>
            <a:off x="8101080" y="3213000"/>
            <a:ext cx="3585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05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6588000" y="5157720"/>
            <a:ext cx="743040" cy="10112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2">
            <a:hlinkClick r:id="rId3" action="ppaction://hlinksldjump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10800"/>
                </a:moveTo>
                <a:lnTo>
                  <a:pt x="19711" y="3794"/>
                </a:lnTo>
                <a:lnTo>
                  <a:pt x="1971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619280" y="115920"/>
            <a:ext cx="57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Грамматическая форм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pic>
        <p:nvPicPr>
          <p:cNvPr id="108" name="Picture 3" descr="32"/>
          <p:cNvPicPr/>
          <p:nvPr/>
        </p:nvPicPr>
        <p:blipFill>
          <a:blip r:embed="rId1"/>
          <a:stretch/>
        </p:blipFill>
        <p:spPr>
          <a:xfrm>
            <a:off x="0" y="0"/>
            <a:ext cx="1008000" cy="1052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0" y="981000"/>
            <a:ext cx="91440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бращение имеет форму именительного падежа и произносится с особой звательной интонаци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</a:rPr>
              <a:t>Друзья мои, прекрасен наш союз (Пушкин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В разговорной речи существуют особые формы обращения: так называемый усечённый именительный падеж существитель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</a:rPr>
              <a:t>Маш, дай ручку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00"/>
                </a:solidFill>
                <a:latin typeface="Monotype Corsiva"/>
              </a:rPr>
              <a:t>Петь, а Петь, приходи пораньш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>
            <a:hlinkClick r:id="" action="ppaction://hlinkshowjump?jump=nextslide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3794"/>
                </a:moveTo>
                <a:lnTo>
                  <a:pt x="19548" y="10800"/>
                </a:lnTo>
                <a:lnTo>
                  <a:pt x="5535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2"/>
          <p:cNvSpPr txBox="1"/>
          <p:nvPr/>
        </p:nvSpPr>
        <p:spPr>
          <a:xfrm>
            <a:off x="324000" y="115920"/>
            <a:ext cx="842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История обращения в русском язык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0" y="89856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древнерусском языке для обращений существовал специальный падеж (седьмой). Он назывался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звательным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. В сказке А.С.Пушкина мы находим древнюю форму обращения «старч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5"/>
          <p:cNvPicPr/>
          <p:nvPr/>
        </p:nvPicPr>
        <p:blipFill>
          <a:blip r:embed="rId1"/>
          <a:stretch/>
        </p:blipFill>
        <p:spPr>
          <a:xfrm>
            <a:off x="468360" y="2781360"/>
            <a:ext cx="2628720" cy="38098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059280" y="3357720"/>
            <a:ext cx="590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ook Antiqua"/>
              </a:rPr>
              <a:t>Приплыла к нему рыбка, спрос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ook Antiqu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Book Antiqua"/>
              </a:rPr>
              <a:t>«Чего тебе надобно, старче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6">
            <a:hlinkClick r:id="" action="ppaction://hlinkshowjump?jump=nextslide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3794"/>
                </a:moveTo>
                <a:lnTo>
                  <a:pt x="18624" y="10800"/>
                </a:lnTo>
                <a:lnTo>
                  <a:pt x="4611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4"/>
          <p:cNvPicPr/>
          <p:nvPr/>
        </p:nvPicPr>
        <p:blipFill>
          <a:blip r:embed="rId2"/>
          <a:stretch/>
        </p:blipFill>
        <p:spPr>
          <a:xfrm>
            <a:off x="5148360" y="5300640"/>
            <a:ext cx="1415880" cy="142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2"/>
          <p:cNvSpPr txBox="1"/>
          <p:nvPr/>
        </p:nvSpPr>
        <p:spPr>
          <a:xfrm>
            <a:off x="2627280" y="115920"/>
            <a:ext cx="374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Зад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118" name="Picture 3" descr="25"/>
          <p:cNvPicPr/>
          <p:nvPr/>
        </p:nvPicPr>
        <p:blipFill>
          <a:blip r:embed="rId1"/>
          <a:stretch/>
        </p:blipFill>
        <p:spPr>
          <a:xfrm>
            <a:off x="0" y="0"/>
            <a:ext cx="1235160" cy="13413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1116000" y="765000"/>
            <a:ext cx="80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Book Antiqua"/>
              </a:rPr>
              <a:t>Подчеркните древние формы обращ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5"/>
          <p:cNvSpPr txBox="1"/>
          <p:nvPr/>
        </p:nvSpPr>
        <p:spPr>
          <a:xfrm>
            <a:off x="6588000" y="1484280"/>
            <a:ext cx="1933560" cy="1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 Antiqua"/>
              </a:rPr>
              <a:t>v v v v v v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 Antiqua"/>
              <a:ea typeface="Book Antiqua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0" y="1989000"/>
            <a:ext cx="4464000" cy="4104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4500720" y="1989000"/>
            <a:ext cx="4464000" cy="41040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539640" y="2492280"/>
            <a:ext cx="338472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Book Antiqua"/>
              </a:rPr>
              <a:t>Народная разбойничья пес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Не шуми, мати, зелёная дубрав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Не мешай мне, доброму молодцу, думу дума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9"/>
          <p:cNvSpPr txBox="1"/>
          <p:nvPr/>
        </p:nvSpPr>
        <p:spPr>
          <a:xfrm>
            <a:off x="2340000" y="3645000"/>
            <a:ext cx="1081080" cy="1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 Antiqua"/>
              </a:rPr>
              <a:t>v v v v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 Antiqua"/>
              <a:ea typeface="Book Antiqua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5076720" y="2421000"/>
            <a:ext cx="338292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ook Antiqua"/>
              </a:rPr>
              <a:t>Молит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Отче наш, Иже еси на небесе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а святится Имя Тв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а приидет Царствие Тво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да будет воля Твоя, яко на небеси и на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219640" y="3068640"/>
            <a:ext cx="1368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Book Antiqua"/>
              </a:rPr>
              <a:t>v v v v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Book Antiqua"/>
              <a:ea typeface="Book Antiqua"/>
            </a:endParaRPr>
          </a:p>
        </p:txBody>
      </p:sp>
      <p:pic>
        <p:nvPicPr>
          <p:cNvPr id="127" name="Picture 28" descr="8703_205_1000"/>
          <p:cNvPicPr/>
          <p:nvPr/>
        </p:nvPicPr>
        <p:blipFill>
          <a:blip r:embed="rId2"/>
          <a:srcRect l="24392" t="0" r="23986" b="0"/>
          <a:stretch/>
        </p:blipFill>
        <p:spPr>
          <a:xfrm>
            <a:off x="4140360" y="4292640"/>
            <a:ext cx="742680" cy="10112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3">
            <a:hlinkClick r:id="" action="ppaction://hlinkshowjump?jump=nextslide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3794"/>
                </a:moveTo>
                <a:lnTo>
                  <a:pt x="18680" y="10800"/>
                </a:lnTo>
                <a:lnTo>
                  <a:pt x="4667" y="17806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1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3:13:50Z</dcterms:created>
  <dc:creator>Admin</dc:creator>
  <dc:description/>
  <dc:language>en-US</dc:language>
  <cp:lastModifiedBy>RePack by Diakov</cp:lastModifiedBy>
  <dcterms:modified xsi:type="dcterms:W3CDTF">2016-04-06T12:35:18Z</dcterms:modified>
  <cp:revision>16</cp:revision>
  <dc:subject/>
  <dc:title>Слайд 1</dc:title>
</cp:coreProperties>
</file>