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612AE0-73C8-4275-AC37-74BAEBA909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1CD90D-9428-4AF1-A2B3-60A934C8E1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5F73ED-17B3-47B0-9B8E-62AF0C9C4F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666132-9E77-4E62-A61C-8AF75CB50C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A45D3A-4330-4875-8169-6BF53FD0F00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BC95B6-A1F9-421D-86C0-0402B6C0A6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05722F-F913-411A-B355-6D14154DAF3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8686C5-371F-4642-9730-1DFDADB491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C64AB3-C308-45B8-9B83-0E558F2264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170B50-47A2-4AA6-9742-8EF58E8AB0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0E391C-B1F8-45B4-A98B-54AD085986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44CAF7-E6AF-440C-8083-0B7F4CA6DA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4D1E9A-1B85-4FF9-8F6B-4C8AAA27C0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E7DBB6-8471-41A2-A0D0-3C51E024CE9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AE2ABB-6383-4E31-9B81-4F8FF0D299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ECBD97-1037-4EA5-928B-FE870172607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9EE0AB-ABD0-4351-8E1D-D7307F71DE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258-43F5-46E7-95B7-13410BB7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BAF-0D30-4EF3-994C-1759E0F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561-AA7E-4EF2-8C14-1965B41F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FBC-8547-4C24-A462-BECDCE4B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B2084-8F88-4E1E-A58A-90A74EA4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27F74-3864-4F27-892F-2D7BCB0A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2A249-E858-43CA-A4BA-92635852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A378-A3E3-4CD0-A346-70DEE90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61048-29AB-4263-8793-42885A5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DF80D-3B8D-4EE6-AFEF-FBB61B5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5C574-CA0D-42C2-B2E2-4F4BE19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5B7-A81B-42E9-BADC-C598B14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6B6FC-8249-4A40-AC09-120234F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F2140-D449-498C-957F-E837F6D4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37E66-C695-40C9-9ABE-AE5B1379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74B68-4C31-40F0-A5C1-6A639161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5FA2A-BF4A-4E24-9364-D038311A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15C-8681-4A8A-8D89-1D85B1B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159-D97D-472C-95DD-88394322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F66-7AFA-4B53-A3DD-D52EB8E3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3C9-2D56-476E-B0A4-CCCB986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807-3FD1-45ED-B942-4963F96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52D-91C2-4D21-9C74-4E56E20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AFD-8047-4D0B-A8B5-65684E5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380BB2-DDCE-469D-9BA4-294D963BF210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Freeform 2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C3C763-29EC-4289-942E-7F25E73504F2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"/>
          <p:cNvSpPr txBox="1"/>
          <p:nvPr/>
        </p:nvSpPr>
        <p:spPr>
          <a:xfrm>
            <a:off x="684360" y="692280"/>
            <a:ext cx="777528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03640" y="5805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Изготовл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матрё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«малышка» готова, приступают к следующей фигурке, в которую войдёт первая. Заготовка необходимой высоты обрабатывается и разрезается на верхнюю и нижнюю части. Первой делается нижняя часть. Затем удаляют древесину изнутри обеих частей второй куклы так, чтобы меньшая кукла плотно вставлялась внутрь. Потом процесс повторяется для куклы бо́льшего размера, в которую войдут две предыдущие и т. д. Количество кукол может быть разл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ключении процесса каждую куклу покрывают масляным лаком. После окончательной сушки и полировки художник приступает к раскраске. В качестве красок используется как гуашь, так и масляные крас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673440" cy="296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817800" cy="2859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3743280" cy="287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7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1042920" y="5589720"/>
            <a:ext cx="7058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хов-майданские матреш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979640" y="0"/>
            <a:ext cx="57592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324000" y="189000"/>
            <a:ext cx="3024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орска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ть русской матрёшки – дружба и любовь. Как посланница этих добрых чувств она приходит в дом, излучая истинную русскую красу, дарит всем радость, напоминает о широте и размахе русской душ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какого слова произошло название матрёш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ом году кукла получила бронзу на всемирной выставке в Париж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числите, что входит в наряд традиционной матрё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акого материала делают игруш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акие группы делят матрёшек по видам роспис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 ком так говоря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этой молоди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ячутся сестриц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ждая сестрица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меньшей темниц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Showcard Gothic"/>
              </a:rPr>
              <a:t>Матрёш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и 2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СОШ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лина Дар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личенко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арушина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: Евтюхина Г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сширить знания о русской матрёшк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знакомиться с историей возникновения русской матрёшки, отличительными особенностями росписи различных их вид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вивать чувство прекрасного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 лет назад известный мас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ушку чудную созд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ушка – кукла расписн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как назвать её, не з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ивая игрушка, похожа на Катюш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может, на Танюшку? – ей имя подбир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ивая игрушка, как русская девчуш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мастер ту игрушку, Матрёшкою назв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ерс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озникнове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матрё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евяностых годах XIX века в Московскую игрушечную мастерскую "Детское воспитание" А. Мамонтова привезла из Японии фигурку лысого старика мудреца Фукурума. Она состояла из нескольких вложенных одна в другую фигурок. Токарь по дереву Василий Звёздочкин, трудившийся в этой мастерской, выточил из дерева похожие фигурки, которые вкладывались одна в другую, а художник Сергей Малютин расписал их под девушек в русском стиле одеж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Изготовл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матрёш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подбирают подходящий вид древесины. Из-за мягкости в основном выбирают липу, реже ольху или берёзу. Деревья обычно срубают ранней весной, снимают кору, но не полностью, чтобы во время сушки древесина не давала трещин. Затем бревна складируют и сушат в течение нескольких лет в хорошо вентилируемом мес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обработке древесины необходимо приступать тогда, когда она не сухая, но и не сырая. Каждая заготовка проходит более десятка операций. Самую маленькую куклу — неразборную — делают пер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3:07:58Z</dcterms:created>
  <dc:creator>student</dc:creator>
  <dc:description/>
  <dc:language>en-US</dc:language>
  <cp:lastModifiedBy>1</cp:lastModifiedBy>
  <dcterms:modified xsi:type="dcterms:W3CDTF">2017-01-10T06:48:33Z</dcterms:modified>
  <cp:revision>21</cp:revision>
  <dc:subject/>
  <dc:title>Слайд 1</dc:title>
</cp:coreProperties>
</file>