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77520"/>
            <a:ext cx="4570560" cy="34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F15F520-E43A-4535-A9CB-D6B5198A461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C1AB1D-23D4-4D39-AC65-03955E408FE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A1B8E9-A1B3-403D-A859-83C086F6A58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B1774B-707F-4D88-A3F3-B0015696171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03E339-2AC8-4038-AE33-046C01483A9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61B039-4119-4B45-9A6C-CBF3A51B295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7D5FBE-22C3-4962-B389-4FF88F84473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6B757A9-4BB9-436B-849E-5F382BD5DCC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64FD0F-889E-4C8F-A058-13B7FE07608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5961EBD-8D6E-4D69-87C2-D98EC082916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8021A7-ED4A-4105-9767-C533EF80B06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38D2BC5-4D76-47C5-BD1A-CA40FF561E2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2CAA3E-3263-4333-A72B-7BB2385DE0F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B5568B-1F2A-4C6C-A12F-5074AA25611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0A2292-A13A-4956-B6C7-4A0F08B27A3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7BF253-CE3D-487C-9613-08EEC01A94F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412FF9-7165-4BC3-94A8-2853B442D79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F2EC-AFBD-439A-AA04-E833CC2E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4448-C4FB-4BCE-A8BE-7CA3FAFD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BE8-C1F9-45EF-B75C-69BA6CE4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2DF9-DDEE-4394-A48B-F47E152A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70CF8-CB4F-45AB-BCA3-FE1B79F6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3A54C-7A80-4CD0-AF4D-FB574ACC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9050B-0820-4E6F-9442-325E3FCB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E0679-81E7-45FE-897E-4E0443FA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3071B-724C-4FE2-AE1D-0116C5B1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FE6D5-87A0-40C1-81C8-A3B4B37E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29D55-5ABA-4BE7-8AE7-A66BE9E6D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6540-79BF-4555-B6F4-80386869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64EF7-8E5D-459F-8952-EE4D6CD1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BE811-17C4-41BA-AE1A-DC9EB7B5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56CA7-C9E5-4371-A4C7-AC3D2115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F8FED-5649-42E2-A29F-211216C1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867DC-A3E0-4396-BDE9-C9688262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A3E0-734B-454B-A3AA-F9DDEF85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BE54-3689-4AAE-8E6A-E86A7D16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6D80-4A07-438F-8510-6F7A5053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F1B1-E849-492A-B9B0-49342680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8FD1-3927-4108-9B61-E19AE248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EFF9-39AB-4AE7-9AE9-B8120F54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AF8C-93AD-4788-8E7A-2013495E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351B86B-6027-4FA4-8724-3A920D32005D}" type="slidenum">
              <a:rPr b="0" lang="ru-RU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40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Freeform 2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745BC0-D5D1-41A8-98A9-D9A88683586A}" type="slidenum">
              <a:rPr b="0" lang="ru-RU" sz="1400" spc="-1" strike="noStrike">
                <a:solidFill>
                  <a:srgbClr val="ffffff"/>
                </a:solidFill>
                <a:latin typeface="Arial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1"/>
          <p:cNvSpPr txBox="1"/>
          <p:nvPr/>
        </p:nvSpPr>
        <p:spPr>
          <a:xfrm>
            <a:off x="684360" y="692280"/>
            <a:ext cx="777528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2 КЛАСС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5003640" y="580536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     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Изготовление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матрёшк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гда «малышка» готова, приступают к следующей фигурке, в которую войдёт первая. Заготовка необходимой высоты обрабатывается и разрезается на верхнюю и нижнюю части. Первой делается нижняя часть. Затем удаляют древесину изнутри обеих частей второй куклы так, чтобы меньшая кукла плотно вставлялась внутрь. Потом процесс повторяется для куклы бо́льшего размера, в которую войдут две предыдущие и т. д. Количество кукол может быть различны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заключении процесса каждую куклу покрывают масляным лаком. После окончательной сушки и полировки художник приступает к раскраске. В качестве красок используется как гуашь, так и масляные крас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0520"/>
            <a:ext cx="8229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3673440" cy="2967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4643280" y="260280"/>
            <a:ext cx="3889440" cy="2913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250920" y="3573360"/>
            <a:ext cx="3817800" cy="2859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4"/>
          <a:stretch/>
        </p:blipFill>
        <p:spPr>
          <a:xfrm>
            <a:off x="4716360" y="3573360"/>
            <a:ext cx="3743280" cy="2874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4211640" y="0"/>
            <a:ext cx="4932360" cy="687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WordArt 3"/>
          <p:cNvSpPr txBox="1"/>
          <p:nvPr/>
        </p:nvSpPr>
        <p:spPr>
          <a:xfrm>
            <a:off x="1042920" y="5589720"/>
            <a:ext cx="70581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хов-майданские матрешк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1979640" y="0"/>
            <a:ext cx="5759280" cy="7029360"/>
          </a:xfrm>
          <a:prstGeom prst="rect">
            <a:avLst/>
          </a:prstGeom>
          <a:ln w="0">
            <a:noFill/>
          </a:ln>
        </p:spPr>
      </p:pic>
      <p:sp>
        <p:nvSpPr>
          <p:cNvPr id="119" name="WordArt 2"/>
          <p:cNvSpPr txBox="1"/>
          <p:nvPr/>
        </p:nvSpPr>
        <p:spPr>
          <a:xfrm>
            <a:off x="324000" y="189000"/>
            <a:ext cx="302400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горска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ть русской матрёшки – дружба и любовь. Как посланница этих добрых чувств она приходит в дом, излучая истинную русскую красу, дарит всем радость, напоминает о широте и размахе русской душ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 какого слова произошло название матрёшк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аком году кукла получила бронзу на всемирной выставке в Париж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речислите, что входит в наряд традиционной матрёш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какого материала делают игрушку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какие группы делят матрёшек по видам роспис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0520"/>
            <a:ext cx="8229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Georgi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 ком так говорят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этой молодиц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ячутся сестрицы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Каждая сестрица –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я меньшей темниц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0520"/>
            <a:ext cx="8229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4800" spc="-1" strike="noStrike" u="sng">
                <a:solidFill>
                  <a:srgbClr val="ffffff"/>
                </a:solidFill>
                <a:uFillTx/>
                <a:latin typeface="Showcard Gothic"/>
              </a:rPr>
              <a:t>Матрёшки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ники 2 кла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БОУ СОШ №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алина Дарь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уличенко Екате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гарушина Екатери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уководитель: Евтюхина Г.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Цель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сширить знания о русской матрёшке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Задачи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2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ознакомиться с историей возникновения русской матрёшки, отличительными особенностями росписи различных их видов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0840" indent="-33084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звивать чувство прекрасного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0520"/>
            <a:ext cx="822960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о лет назад известный маст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грушку чудную созд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грушка – кукла расписна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как назвать её, не зн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асивая игрушка, похожа на Катюшк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может, на Танюшку? – ей имя подбир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асивая игрушка, как русская девчуш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мастер ту игрушку, Матрёшкою назв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Версия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возникновения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Tahoma"/>
              </a:rPr>
              <a:t>матрёшк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девяностых годах XIX века в Московскую игрушечную мастерскую "Детское воспитание" А. Мамонтова привезла из Японии фигурку лысого старика мудреца Фукурума. Она состояла из нескольких вложенных одна в другую фигурок. Токарь по дереву Василий Звёздочкин, трудившийся в этой мастерской, выточил из дерева похожие фигурки, которые вкладывались одна в другую, а художник Сергей Малютин расписал их под девушек в русском стиле одеж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Изготовление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 u="sng">
                <a:solidFill>
                  <a:srgbClr val="ffffff"/>
                </a:solidFill>
                <a:uFillTx/>
                <a:latin typeface="Tahoma"/>
              </a:rPr>
              <a:t>матрёш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7600" indent="-327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начала подбирают подходящий вид древесины. Из-за мягкости в основном выбирают липу, реже ольху или берёзу. Деревья обычно срубают ранней весной, снимают кору, но не полностью, чтобы во время сушки древесина не давала трещин. Затем бревна складируют и сушат в течение нескольких лет в хорошо вентилируемом мес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7600" indent="-327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обработке древесины необходимо приступать тогда, когда она не сухая, но и не сырая. Каждая заготовка проходит более десятка операций. Самую маленькую куклу — неразборную — делают перв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03:07:58Z</dcterms:created>
  <dc:creator>student</dc:creator>
  <dc:description/>
  <dc:language>en-US</dc:language>
  <cp:lastModifiedBy>1</cp:lastModifiedBy>
  <dcterms:modified xsi:type="dcterms:W3CDTF">2017-01-10T06:48:33Z</dcterms:modified>
  <cp:revision>21</cp:revision>
  <dc:subject/>
  <dc:title>Слайд 1</dc:title>
</cp:coreProperties>
</file>