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B5A9-3107-4745-AA3C-A506C1ACA0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427D-E8D9-4F1E-A491-5DC52445A29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A548-F260-4912-AFD6-45B4DC2C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B3B-505C-49D3-B4B9-A0810061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5F9E-41C3-45DD-BEE9-A3EE72FD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7BFD-EF62-48E4-AA4E-26D436B63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3856-B88F-431D-B6D0-DF761770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530C-6CF6-4C6E-A091-CD0650A2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D524-B2C3-4A8A-B624-C8D96BAE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4395-7F3E-49C8-8313-7246A534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5EAB-7787-46CB-B4C7-6554262F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16A-F4E7-4562-B451-C087BCCE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3D0D-7F78-4061-AF90-7C9025E0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AA5-C05D-49A2-93D1-EFB5BBD0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787B-5708-4D08-A2C8-3D0663FFC9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dictionary-economics.ru/word/&#1040;&#1082;&#1090;&#1080;&#1074;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66"/>
                </a:solidFill>
                <a:latin typeface="Arial"/>
              </a:rPr>
              <a:t>Производство – основа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5084280"/>
            <a:ext cx="6400800" cy="12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ШимолинаТ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читель ГБОУ школа№4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Г. Санкт- 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ШимолинаТВ\Pictures\i6OXWTRQL.jpg"/>
          <p:cNvPicPr/>
          <p:nvPr/>
        </p:nvPicPr>
        <p:blipFill>
          <a:blip r:embed="rId1"/>
          <a:stretch/>
        </p:blipFill>
        <p:spPr>
          <a:xfrm>
            <a:off x="900000" y="2133720"/>
            <a:ext cx="6840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Какие отрасли получат  большее развитие в 21 ве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. 116. Сельское хозяйство или промышленность?. С чем это связ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.К. за последние 50 лет количество работников в с/х. сократилось с 36 до8%, а в  не аграрном производстве выросло в 2 раз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:\Users\ШимолинаТВ\Pictures\iXSRW0209.jpg"/>
          <p:cNvPicPr/>
          <p:nvPr/>
        </p:nvPicPr>
        <p:blipFill>
          <a:blip r:embed="rId1"/>
          <a:stretch/>
        </p:blipFill>
        <p:spPr>
          <a:xfrm>
            <a:off x="4643280" y="4292640"/>
            <a:ext cx="3529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акторы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Зем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природные ресурсы, используемые в производстве: земля, полезные ископаемые, леса, вода,  Растительный и животный мир природ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Тру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физические и умственные усилия, способности и умения, здоровье и квалификация работник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Капит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созданные людьми средства производства: здания и сооружения,  машины и инструменты, оборудова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Предпринимательские способ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совокупность  энергичной деятельности предпринимателей, их организационно- хозяйственного новаторства и готовности к риску при организации своего дел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й фактор производства изображ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данном рисун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:\Users\ШимолинаТВ\Pictures\0_9612.jpg"/>
          <p:cNvPicPr/>
          <p:nvPr/>
        </p:nvPicPr>
        <p:blipFill>
          <a:blip r:embed="rId1"/>
          <a:stretch/>
        </p:blipFill>
        <p:spPr>
          <a:xfrm>
            <a:off x="7020000" y="4869000"/>
            <a:ext cx="17287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Факторные дох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Зарпла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Рен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Процен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Прибы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 какому факторному доходу относится данный рисунок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C:\Users\ШимолинаТВ\Pictures\i2FEWXEFW.jpg"/>
          <p:cNvPicPr/>
          <p:nvPr/>
        </p:nvPicPr>
        <p:blipFill>
          <a:blip r:embed="rId1"/>
          <a:stretch/>
        </p:blipFill>
        <p:spPr>
          <a:xfrm>
            <a:off x="4932360" y="2565360"/>
            <a:ext cx="19335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нформация и ее роль в современном ми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. 119. Объяснить причины особенностей  использования этого ресурса в современном мир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иды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Текстовая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передаваемая в виде символов, предназначенных обозначать лексемы язы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Число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в виде цифр и знаков, обозначающих математические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Графическ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в виде изображений, предметов, граф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Звуковая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— устная или в виде записи и передачи лексем языка аудиальным путё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Видео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— передаваемая в виде видеоза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вид информации изображенражен на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Users\ШимолинаТВ\Pictures\i1MJBQ6QK.jpg"/>
          <p:cNvPicPr/>
          <p:nvPr/>
        </p:nvPicPr>
        <p:blipFill>
          <a:blip r:embed="rId1"/>
          <a:stretch/>
        </p:blipFill>
        <p:spPr>
          <a:xfrm>
            <a:off x="7175520" y="306864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Что влияет на производительность тру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Новые технолог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Мастерство работник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. Разделение тру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. Специализа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:\Users\ШимолинаТВ\Pictures\what-is-the-temp_-in-which-the-cotton-grows.jpg"/>
          <p:cNvPicPr/>
          <p:nvPr/>
        </p:nvPicPr>
        <p:blipFill>
          <a:blip r:embed="rId1"/>
          <a:stretch/>
        </p:blipFill>
        <p:spPr>
          <a:xfrm>
            <a:off x="5940360" y="4076640"/>
            <a:ext cx="2587680" cy="1722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ШимолинаТВ\Pictures\matrix-wheat.jpg"/>
          <p:cNvPicPr/>
          <p:nvPr/>
        </p:nvPicPr>
        <p:blipFill>
          <a:blip r:embed="rId2"/>
          <a:stretch/>
        </p:blipFill>
        <p:spPr>
          <a:xfrm>
            <a:off x="1116000" y="4724280"/>
            <a:ext cx="21337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« Исследования о природе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 причинах богатства народов» </a:t>
            </a:r>
            <a:br>
              <a:rPr sz="3200"/>
            </a:b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Адам  См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.120-121. Почему Адам Смит в развитии производства отдал  приоритет разделению труда? Пример булавочной фабрики( один работник, выполняя все операции в день делал20 булавок, а 10 работников в условия х разделения труда изготавливали48тысяч булавок. Сколько один рабочий изготавливал булавок  при разделении труда?) Вспомните Генри Форда:что позволило ему увеличить производительность труда в 8 раз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C:\Users\ШимолинаТВ\Pictures\adam-smith.jpg"/>
          <p:cNvPicPr/>
          <p:nvPr/>
        </p:nvPicPr>
        <p:blipFill>
          <a:blip r:embed="rId1"/>
          <a:stretch/>
        </p:blipFill>
        <p:spPr>
          <a:xfrm>
            <a:off x="179280" y="26028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иды специал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р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Рай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другие 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C:\Users\ШимолинаТВ\Pictures\i0XOFHO0D.jpg"/>
          <p:cNvPicPr/>
          <p:nvPr/>
        </p:nvPicPr>
        <p:blipFill>
          <a:blip r:embed="rId1"/>
          <a:stretch/>
        </p:blipFill>
        <p:spPr>
          <a:xfrm>
            <a:off x="6372360" y="3645000"/>
            <a:ext cx="2160360" cy="223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ШимолинаТВ\Pictures\i0G84DEXF.jpg"/>
          <p:cNvPicPr/>
          <p:nvPr/>
        </p:nvPicPr>
        <p:blipFill>
          <a:blip r:embed="rId2"/>
          <a:stretch/>
        </p:blipFill>
        <p:spPr>
          <a:xfrm>
            <a:off x="3419640" y="1484280"/>
            <a:ext cx="237636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апита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е значение слова - состояние, накопления, сбере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е короткое "экономическое" определение капитала – </a:t>
            </a:r>
            <a:r>
              <a:rPr b="0" lang="ru-RU" sz="20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акти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 зависимости от их формы капитал может быть финансовым или физическим. Но не зависимо от их формы капитал – это тольк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 ресурсы, которые непосредственно не удовлетворяют потребности человека, а используются для производства товаров и услу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заимствовано из немецкого или французского языка в начале XVIII века. Первая фиксация - в 1715 году. Немецко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kapit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 итальянского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capital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основной. Истоки восходят к латинскому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capitali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сновной, главный, что является дериватом, то есть производным о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capu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глава, верхняя часть и как в случае со словом "товарищ" относит нас в те далекие времена, когда главным объектом купли–продажи был скот, а число голов скота определяло положение его владель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граф№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изводство- основа эконо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исать эссе на тему «Если можно использовать в качествен капитала свои идеи и ресурсы своей страны, значит, можно использовать в качестве капитала свой труд» Ф. Рай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написать эссе на тему «Работа, которой я готов посвятить всю свою дальнейшую жизн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Ур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Образовательная цел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ка: познакомить учащихся 8-х классов с темой: производство, которое является основой эконом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Воспитательная цель уро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способствовать воспитанию в учащихся стремления  творчески реализовать себя в любимой трудов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Метод работ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комбинирован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ер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Производство-это процесс создания экономических благ для удовлетворения потребностей люд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Блага- это товары и услу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Производство- это основа  для развития экономи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Предприятие- основная производственная ячейка( завод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Отрасль экономики-совокупность предприятий и организаций, производящих однородную продукцию или услу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 Продукт-результат экономической деятельности, воплощенный в вещах и услуг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 Товар- продукт труда, предназначенный для продаж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 Товарное производство- производство продукции на рын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. Факторы производ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. Информация-ресурс, используемый в  экономических процессах(разъяснение, изложение : знания, сведения, сообщени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.Производительность труда- производство продукции за единицу врем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. Разделение труда-разделение процесса производства на ряд  отдельных операций, выполняемых разными работниками( измеряется количеством времени, затраченным на производство единицы продукци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3.Специализация-сосредоточение деятельности на относительно узких направлениях, производственных операциях или видах выпускаемой продукции( Фирма « Би Лайн специализируется на производстве услуг мобильной связи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войства това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Потребительная стоим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способность быть полез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Меновая стоим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способность обмениваться на другие това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иды това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964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Средства производст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 станки, оборудование, рабочие здания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70c0"/>
                </a:solidFill>
                <a:latin typeface="Arial"/>
              </a:rPr>
              <a:t>Предметы потреблен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 продукты питания, одежда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:\Users\ШимолинаТВ\Pictures\iVL9A6YY7.jpg"/>
          <p:cNvPicPr/>
          <p:nvPr/>
        </p:nvPicPr>
        <p:blipFill>
          <a:blip r:embed="rId1"/>
          <a:stretch/>
        </p:blipFill>
        <p:spPr>
          <a:xfrm>
            <a:off x="6156360" y="2708280"/>
            <a:ext cx="2519280" cy="100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C:\Users\ШимолинаТВ\Pictures\LO019EWODT26_4156894_1_v2.jpg"/>
          <p:cNvPicPr/>
          <p:nvPr/>
        </p:nvPicPr>
        <p:blipFill>
          <a:blip r:embed="rId2"/>
          <a:stretch/>
        </p:blipFill>
        <p:spPr>
          <a:xfrm>
            <a:off x="7164360" y="4000680"/>
            <a:ext cx="181944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Arial"/>
              </a:rPr>
              <a:t>Услуги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ческая деятельность, приносящая удовлетворение личных потребностей населения и общества в це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Отрасли услу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унальное хозяй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овое обслужи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вид услуг изображ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данном рису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Users\ШимолинаТВ\Pictures\i.jpg"/>
          <p:cNvPicPr/>
          <p:nvPr/>
        </p:nvPicPr>
        <p:blipFill>
          <a:blip r:embed="rId1"/>
          <a:stretch/>
        </p:blipFill>
        <p:spPr>
          <a:xfrm>
            <a:off x="6012000" y="3068640"/>
            <a:ext cx="2952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Развитие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 Первый этап в истории человечества – сельское хозяй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торой этап- промышленное производ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С середины 20 века технический прогресс превратил науку в главную производительную силу экономического разви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оказатели производ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Что производ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 каком количестве производ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Численность занятых рабо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асштабы производства(от домашнего производства до  производства стран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иды отраслей эконом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Первая груп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трасли, производящие материальные блага( средства производства и предметы потребления. К первой группе относится промышленность, сельское хозяйство, строитель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Вторая группа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отрасли, производящие услуги. К ней относятся образование. Медицина, искусство, наука, транспорт, связ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какой группе относится данный рисуно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:\Users\ШимолинаТВ\Pictures\i7HCYL1Z1.jpg"/>
          <p:cNvPicPr/>
          <p:nvPr/>
        </p:nvPicPr>
        <p:blipFill>
          <a:blip r:embed="rId1"/>
          <a:stretch/>
        </p:blipFill>
        <p:spPr>
          <a:xfrm>
            <a:off x="5508720" y="4365720"/>
            <a:ext cx="32400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1T13:10:56Z</dcterms:created>
  <dc:creator>dwfman</dc:creator>
  <dc:description/>
  <dc:language>en-US</dc:language>
  <cp:lastModifiedBy>Татьяна Васильевна Шимолина</cp:lastModifiedBy>
  <dcterms:modified xsi:type="dcterms:W3CDTF">2017-01-10T11:02:21Z</dcterms:modified>
  <cp:revision>34</cp:revision>
  <dc:subject/>
  <dc:title>Производство – основа экономики</dc:title>
</cp:coreProperties>
</file>