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6D6D-000E-4908-B30D-49E18A473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2EBB-EE02-4D9D-AF22-E3E2A90FF6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67A-E09F-409B-B297-51C851B1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975-F0AC-4B50-B072-E830EDB1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34F-13D5-4E39-8B39-C2B0B502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612-98A8-4C85-AD39-D7603EC8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52F-EAFF-4819-B69A-9124991A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C1A-CDC5-468E-A0AD-A26D4A28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989-F41B-496A-B587-03BF345E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598-E19E-402C-9A75-7F0030F1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404-CE24-4049-80FC-1FE368AA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BF5-A192-4F96-8024-170A5339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D54-5C33-4D22-B600-45170103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7E9-3703-42A5-AD98-ADBC857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323-2073-4AFC-87FE-79601EDF2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dictionary-economics.ru/word/&#1040;&#1082;&#1090;&#1080;&#1074;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"/>
              </a:rPr>
              <a:t>Производство – основа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ШимолинаТ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читель ГБОУ школа№4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. Санкт- 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ШимолинаТВ\Pictures\i6OXWTRQL.jpg"/>
          <p:cNvPicPr/>
          <p:nvPr/>
        </p:nvPicPr>
        <p:blipFill>
          <a:blip r:embed="rId1"/>
          <a:stretch/>
        </p:blipFill>
        <p:spPr>
          <a:xfrm>
            <a:off x="900000" y="2133720"/>
            <a:ext cx="6840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Какие отрасли получат  большее развитие в 21 ве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116. Сельское хозяйство или промышленность?. С чем это связ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К. за последние 50 лет количество работников в с/х. сократилось с 36 до8%, а в  не аграрном производстве выросло в 2 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ШимолинаТВ\Pictures\iXSRW0209.jpg"/>
          <p:cNvPicPr/>
          <p:nvPr/>
        </p:nvPicPr>
        <p:blipFill>
          <a:blip r:embed="rId1"/>
          <a:stretch/>
        </p:blipFill>
        <p:spPr>
          <a:xfrm>
            <a:off x="4643280" y="4292640"/>
            <a:ext cx="3529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Зем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природные ресурсы, используемые в производстве: земля, полезные ископаемые, леса, вода,  Растительный и животный мир приро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ру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физические и умственные усилия, способности и умения, здоровье и квалификация работн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Капит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созданные людьми средства производства: здания и сооружения,  машины и инструменты, оборудова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редпринимательские способ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совокупность  энергичной деятельности предпринимателей, их организационно- хозяйственного новаторства и готовности к риску при организации своего де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фактор производства изображ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анном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ШимолинаТВ\Pictures\0_9612.jpg"/>
          <p:cNvPicPr/>
          <p:nvPr/>
        </p:nvPicPr>
        <p:blipFill>
          <a:blip r:embed="rId1"/>
          <a:stretch/>
        </p:blipFill>
        <p:spPr>
          <a:xfrm>
            <a:off x="7020000" y="4869000"/>
            <a:ext cx="1728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Факторные до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Зарпл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Рен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Процен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Прибы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какому факторному доходу относится данный рисун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Users\ШимолинаТВ\Pictures\i2FEWXEFW.jpg"/>
          <p:cNvPicPr/>
          <p:nvPr/>
        </p:nvPicPr>
        <p:blipFill>
          <a:blip r:embed="rId1"/>
          <a:stretch/>
        </p:blipFill>
        <p:spPr>
          <a:xfrm>
            <a:off x="4932360" y="2565360"/>
            <a:ext cx="1933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формация и ее роль в современном ми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. 119. Объяснить причины особенностей  использования этого ресурса в современном ми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Текстовая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передаваемая в виде символов, предназначенных обозначать лексемы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Чис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в виде цифр и знаков, обозначающих математические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Графиче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в виде изображений, предметов, граф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Звуковая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устная или в виде записи и передачи лексем языка аудиальным пут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идео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ередаваемая в виде видео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ид информации изображенражен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ШимолинаТВ\Pictures\i1MJBQ6QK.jpg"/>
          <p:cNvPicPr/>
          <p:nvPr/>
        </p:nvPicPr>
        <p:blipFill>
          <a:blip r:embed="rId1"/>
          <a:stretch/>
        </p:blipFill>
        <p:spPr>
          <a:xfrm>
            <a:off x="7175520" y="306864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то влияет на производительность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Новые техноло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Мастерство работни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Разделение тру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Специал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ШимолинаТВ\Pictures\what-is-the-temp_-in-which-the-cotton-grows.jpg"/>
          <p:cNvPicPr/>
          <p:nvPr/>
        </p:nvPicPr>
        <p:blipFill>
          <a:blip r:embed="rId1"/>
          <a:stretch/>
        </p:blipFill>
        <p:spPr>
          <a:xfrm>
            <a:off x="5940360" y="4076640"/>
            <a:ext cx="2587680" cy="172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ШимолинаТВ\Pictures\matrix-wheat.jpg"/>
          <p:cNvPicPr/>
          <p:nvPr/>
        </p:nvPicPr>
        <p:blipFill>
          <a:blip r:embed="rId2"/>
          <a:stretch/>
        </p:blipFill>
        <p:spPr>
          <a:xfrm>
            <a:off x="1116000" y="4724280"/>
            <a:ext cx="213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« Исследования о природе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 причинах богатства народов»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дам  См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120-121. Почему Адам Смит в развитии производства отдал  приоритет разделению труда? Пример булавочной фабрики( один работник, выполняя все операции в день делал20 булавок, а 10 работников в условия х разделения труда изготавливали48тысяч булавок. Сколько один рабочий изготавливал булавок  при разделении труда?) Вспомните Генри Форда:что позволило ему увеличить производительность труда в 8 р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Users\ШимолинаТВ\Pictures\adam-smith.jpg"/>
          <p:cNvPicPr/>
          <p:nvPr/>
        </p:nvPicPr>
        <p:blipFill>
          <a:blip r:embed="rId1"/>
          <a:stretch/>
        </p:blipFill>
        <p:spPr>
          <a:xfrm>
            <a:off x="179280" y="26028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ы специа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р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Рай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други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ШимолинаТВ\Pictures\i0XOFHO0D.jpg"/>
          <p:cNvPicPr/>
          <p:nvPr/>
        </p:nvPicPr>
        <p:blipFill>
          <a:blip r:embed="rId1"/>
          <a:stretch/>
        </p:blipFill>
        <p:spPr>
          <a:xfrm>
            <a:off x="6372360" y="3645000"/>
            <a:ext cx="216036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ШимолинаТВ\Pictures\i0G84DEXF.jpg"/>
          <p:cNvPicPr/>
          <p:nvPr/>
        </p:nvPicPr>
        <p:blipFill>
          <a:blip r:embed="rId2"/>
          <a:stretch/>
        </p:blipFill>
        <p:spPr>
          <a:xfrm>
            <a:off x="3419640" y="1484280"/>
            <a:ext cx="23763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пит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значение слова - состояние, накопления, сбере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е короткое "экономическое" определение капитала –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акти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зависимости от их формы капитал может быть финансовым или физическим. Но не зависимо от их формы капитал – это тольк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 ресурсы, которые непосредственно не удовлетворяют потребности человека, а используются для производства товаров и услу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заимствовано из немецкого или французского языка в начале XVIII века. Первая фиксация - в 1715 году. Немецко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apit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итальянског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apita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сновной. Истоки восходят к латинском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apita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сновной, главный, что является дериватом, то есть производным о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apu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лава, верхняя часть и как в случае со словом "товарищ" относит нас в те далекие времена, когда главным объектом купли–продажи был скот, а число голов скота определяло положение его вла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граф№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- основа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эссе на тему «Если можно использовать в качествен капитала свои идеи и ресурсы своей страны, значит, можно использовать в качестве капитала свой труд» Ф. Р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написать эссе на тему «Работа, которой я готов посвятить всю свою дальнейшую жиз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Образовательная цел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а: познакомить учащихся 8-х классов с темой: производство, которое является основой эконом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оспитательная цель у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способствовать воспитанию в учащихся стремления  творчески реализовать себя в любимой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Метод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омбинирова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роизводство-это процесс создания экономических благ для удовлетворения потребностей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Блага- это товары и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Производство- это основа  для развития эконом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Предприятие- основная производственная ячейка( заво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Отрасль экономики-совокупность предприятий и организаций, производящих однородную продукцию или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Продукт-результат экономической деятельности, воплощенный в вещах и услуг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Товар- продукт труда, предназначенный для прода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Товарное производство- производство продукции на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Факторы произво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Информация-ресурс, используемый в  экономических процессах(разъяснение, изложение : знания, сведения, сообщ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Производительность труда- производство продукции за единицу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 Разделение труда-разделение процесса производства на ряд  отдельных операций, выполняемых разными работниками( измеряется количеством времени, затраченным на производство единицы продукц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Специализация-сосредоточение деятельности на относительно узких направлениях, производственных операциях или видах выпускаемой продукции( Фирма « Би Лайн специализируется на производстве услуг мобильной связ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войства тов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требительная стоим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пособность быть полез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Меновая стоим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пособность обмениваться на другие това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иды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Средства производ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станки, оборудование, рабочие здани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редметы потребл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продукты питания, одежда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Users\ШимолинаТВ\Pictures\iVL9A6YY7.jpg"/>
          <p:cNvPicPr/>
          <p:nvPr/>
        </p:nvPicPr>
        <p:blipFill>
          <a:blip r:embed="rId1"/>
          <a:stretch/>
        </p:blipFill>
        <p:spPr>
          <a:xfrm>
            <a:off x="6156360" y="2708280"/>
            <a:ext cx="2519280" cy="100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ШимолинаТВ\Pictures\LO019EWODT26_4156894_1_v2.jpg"/>
          <p:cNvPicPr/>
          <p:nvPr/>
        </p:nvPicPr>
        <p:blipFill>
          <a:blip r:embed="rId2"/>
          <a:stretch/>
        </p:blipFill>
        <p:spPr>
          <a:xfrm>
            <a:off x="7164360" y="4000680"/>
            <a:ext cx="18194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Услуг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 деятельность, приносящая удовлетворение личных потребностей населения и общест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трасли услу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альное хозяй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ое обслуж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ид услуг изображ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анном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ШимолинаТВ\Pictures\i.jpg"/>
          <p:cNvPicPr/>
          <p:nvPr/>
        </p:nvPicPr>
        <p:blipFill>
          <a:blip r:embed="rId1"/>
          <a:stretch/>
        </p:blipFill>
        <p:spPr>
          <a:xfrm>
            <a:off x="6012000" y="3068640"/>
            <a:ext cx="2952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азвитие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Первый этап в истории человечества – сельское хозяй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торой этап- промышленное произ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 середины 20 века технический прогресс превратил науку в главную производительную силу экономического разв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казатели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произво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 каком количестве произво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исленность занятых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асштабы производства(от домашнего производства до  производства стран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ы отраслей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ервая 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расли, производящие материальные блага( средства производства и предметы потребления. К первой группе относится промышленность, сельское хозяйство, строи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Вторая группа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трасли, производящие услуги. К ней относятся образование. Медицина, искусство, наука, транспорт,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акой группе относится данный рисун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Users\ШимолинаТВ\Pictures\i7HCYL1Z1.jpg"/>
          <p:cNvPicPr/>
          <p:nvPr/>
        </p:nvPicPr>
        <p:blipFill>
          <a:blip r:embed="rId1"/>
          <a:stretch/>
        </p:blipFill>
        <p:spPr>
          <a:xfrm>
            <a:off x="5508720" y="4365720"/>
            <a:ext cx="3240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3:10:56Z</dcterms:created>
  <dc:creator>dwfman</dc:creator>
  <dc:description/>
  <dc:language>en-US</dc:language>
  <cp:lastModifiedBy>Татьяна Васильевна Шимолина</cp:lastModifiedBy>
  <dcterms:modified xsi:type="dcterms:W3CDTF">2017-01-10T11:02:21Z</dcterms:modified>
  <cp:revision>34</cp:revision>
  <dc:subject/>
  <dc:title>Производство – основа экономики</dc:title>
</cp:coreProperties>
</file>