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15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sldNum" idx="1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7D33529-7DCE-4DE9-ACD7-62E18053B3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ED2B7D-8EF0-4D05-A9DD-0914F883D4A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284BE-A8F7-4F45-971E-0E5E2AE167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E7CE-FAB8-4551-AA60-7070F3FF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75573-114B-4541-AD43-4081CDE1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340-F6A9-4F75-B4DE-BFC123B2D0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230A5-052A-4BB2-A90B-EA9FEE3583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972AB-FAD4-4AA9-ADF6-E09013A2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0FEBC-B5DE-4D63-8EB0-971EBA37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2E25C-DAD6-4ED9-868C-DB92BD08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A761C-24C7-4EF2-AC2E-CF27CC7D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862E95-19BA-4A23-A951-7636A8F2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18DD4-EFC6-4919-9A7D-FDF4500A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98E0B-22C6-4CA1-A3F4-211A6BEE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15AE0-7D51-48E0-BE62-06248994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BF334-09E1-4ED5-B133-17E2CCB6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4E9F1-4800-4EC7-9FFA-CD1C2175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903851-0EA2-4E05-87FE-2DB9ACDB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B57DC2-76B8-4BA1-9726-153CFBF857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5210-ACB7-4571-A6AF-F71E00F0B2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84F8-661E-4D0B-8A0C-7C98DF9B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D308-D19A-479E-9F56-EA66B0B5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34C6-7751-4FA9-8470-331D7F64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D54C-FF42-4E2A-8F56-4A98A5B0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9B5FA-159E-456B-B502-3E325AA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A5C6-3815-42FB-BBF4-16A4B3850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AC9E-9426-4A03-ACDB-CCEC7812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4E7C-BB1B-4550-8F1B-1547212D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73B-3B1C-4809-8843-57CC9EE7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00A2-0BE7-47E3-9657-001B3D5E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4930-84F2-4584-ACEA-E09D60F9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3C90-5FD9-4B3D-B4CA-0E80D51754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317DF-944C-4D93-9BD6-F55A12355B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54167C-39D2-440B-88B3-72841415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86ECD-0DFB-44A1-BFA9-D0D55EBA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BAC1-F432-4DE6-B52D-94E4A038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65D4B-7557-4005-832C-DA31BD82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C56E8-440F-4970-BC5F-D179CB49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79DBF-A328-4B70-AA2B-48335E97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6E27E-1E02-4B55-B97D-D0D4986DF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6402E-734A-4C6B-AAF2-341620C3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5DBB3-160D-42EC-8B46-C68C1F79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B9031-944B-472B-8033-5822835F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E3426-BA97-495A-B273-2DF6F3B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8D512-C5B2-4136-B44C-7E1F939248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75DDB6-58E9-4F52-B443-FE1CE2D669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BEAF0-DA7A-4BC7-9987-2A60DD89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9BC35A-E9EB-4B62-BA90-9E739B58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7AA01-06F2-426A-9581-B1B75E5E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A93316-B03B-4774-AABD-A016EC2B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ABA237-3876-4E41-94E7-6EF961C2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0F5FD2-915A-4212-B2F6-147EE921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33D3C-3C78-4B42-A174-ACB171D0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143F57-0440-42C6-B17D-1F385684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C412B9-E2BC-476F-900F-CD2BA5C9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C16EE-2C3D-4610-A963-0E9D2C0C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75BC1D-CA6A-4FD7-A841-C4615F0A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E7317-2F75-4259-A7D6-9770689E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DF88AB-3A1D-408C-B88F-EDCFA8E54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851CE-2548-4C53-B26A-E699C0781C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B1A37-2CDE-4EB7-A3C0-DFCD4EAA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BF2D-F35F-4528-B5DC-6BE3919F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0AA2B-CF5B-44E2-B536-345548B4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E5130-E039-42D5-A065-7A10C6387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E4777-E38B-4F98-9D9B-1947CB225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E2BE-F382-43C0-8FC5-7D1B2F9F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38C4-2A8C-47E3-B542-541C5B0E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6A118-37A7-47E5-916B-2A0CFA56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6FC7D-4918-4165-9AAF-2E4D27C49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914AA-189C-4825-8D36-70633FC3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C4951-1E9F-4C47-860C-CBEF5A5B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BF761-8D43-47C9-AD6A-152A8DA475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B4B8DF-7F0D-41BA-9483-2C1D46F28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AB89E-3A0E-4F65-BA09-C62023BF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8CF36-40E3-4027-AE47-08334BDE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6916D6-FDC4-45FF-9CDA-8605E9E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13729-AE4A-4626-82AB-AAA305C67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7036D-0EA5-4BF3-AD61-250D2ADD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56919-91C5-4CE6-BA26-1CEA8D93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BE9EC-FFC0-4C03-B91B-33FED49F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61754-579B-4F99-B48C-BEA0F9BE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0BF608-56CB-464D-ABA8-AB2DCA34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3CB4A4-21B5-4A69-AA80-525C2E37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06205-E4E0-4141-BF84-72AE2CB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944627-77A8-4AEE-B272-B04C4FB273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6ABFE-99FA-40D7-B666-4CF76C6A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7C475F-706E-4691-BDA9-4F5ED17341D2}" type="slidenum">
              <a:rPr b="0" lang="ru-RU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1360" y="1042920"/>
            <a:ext cx="1155960" cy="1149480"/>
            <a:chOff x="171360" y="1042920"/>
            <a:chExt cx="1155960" cy="114948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5960" cy="11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20880" y="1414440"/>
            <a:ext cx="217440" cy="211320"/>
            <a:chOff x="920880" y="1414440"/>
            <a:chExt cx="217440" cy="2113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7440" cy="2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FACD664-110D-479F-9974-BE990985FAB0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70080" y="2816280"/>
            <a:ext cx="217440" cy="210960"/>
            <a:chOff x="2170080" y="2816280"/>
            <a:chExt cx="217440" cy="21096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7440" cy="2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0B84055-18B5-4D73-AFAF-5A84B9DF7064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CCD112C-1686-4B29-958C-63DA3170D08F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4B4EFF8-5203-415B-A3B9-B02447AC9C8A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2A40D57-C695-419C-80E6-A0DD0BCE037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52320" y="974880"/>
            <a:ext cx="4795920" cy="4795560"/>
            <a:chOff x="652320" y="974880"/>
            <a:chExt cx="4795920" cy="479556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5920" cy="47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816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5a788"/>
                </a:solidFill>
                <a:latin typeface="Corbel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42C29E5-CE9F-4FD7-ABFB-684CD37B50FB}" type="slidenum">
              <a:rPr b="0" lang="ru-RU" sz="1200" spc="-1" strike="noStrike">
                <a:solidFill>
                  <a:srgbClr val="b5a788"/>
                </a:solidFill>
                <a:latin typeface="Corbel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c5d7"/>
            </a:gs>
            <a:gs pos="100000">
              <a:srgbClr val="e1ec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03280" y="260280"/>
            <a:ext cx="7283520" cy="58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7ec3d4"/>
                </a:solidFill>
                <a:latin typeface="Corbel"/>
                <a:ea typeface="Microsoft YaHei"/>
              </a:rPr>
              <a:t>«Психолого-педагогическое сопровождение детей «группы риска»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Светличная И.С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Microsoft YaHei"/>
              </a:rPr>
              <a:t>Педагог-психолог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584360" y="260280"/>
            <a:ext cx="77040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81000"/>
                <a:tab algn="l" pos="995400"/>
                <a:tab algn="l" pos="1909800"/>
                <a:tab algn="l" pos="2824200"/>
                <a:tab algn="l" pos="3738600"/>
                <a:tab algn="l" pos="4653000"/>
                <a:tab algn="l" pos="5567400"/>
                <a:tab algn="l" pos="6481800"/>
                <a:tab algn="l" pos="7396200"/>
                <a:tab algn="l" pos="8310600"/>
                <a:tab algn="l" pos="9225000"/>
                <a:tab algn="l" pos="10139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  <a:ea typeface="Microsoft YaHei"/>
              </a:rPr>
              <a:t>              </a:t>
            </a:r>
            <a:r>
              <a:rPr b="1" lang="ru-RU" sz="3600" spc="-1" strike="noStrike">
                <a:solidFill>
                  <a:srgbClr val="00b0f0"/>
                </a:solidFill>
                <a:latin typeface="Corbel"/>
                <a:ea typeface="Microsoft YaHei"/>
              </a:rPr>
              <a:t>Д</a:t>
            </a:r>
            <a:r>
              <a:rPr b="1" lang="ru-RU" sz="3600" spc="-1" strike="noStrike">
                <a:solidFill>
                  <a:srgbClr val="00b0f0"/>
                </a:solidFill>
                <a:latin typeface="Tahoma"/>
                <a:ea typeface="Times New Roman"/>
              </a:rPr>
              <a:t>ети «группы риска»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b0f0"/>
                </a:solidFill>
                <a:latin typeface="Tahoma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  <a:ea typeface="Microsoft YaHei"/>
              </a:rPr>
              <a:t>это дети, чье поведение отклоняется от принятых в обществе стандартов и норм;</a:t>
            </a:r>
            <a:br>
              <a:rPr sz="3600"/>
            </a:br>
            <a:r>
              <a:rPr b="1" lang="ru-RU" sz="3600" spc="-1" strike="noStrike">
                <a:solidFill>
                  <a:srgbClr val="00b0f0"/>
                </a:solidFill>
                <a:latin typeface="Tahoma"/>
                <a:ea typeface="Times New Roman"/>
              </a:rPr>
              <a:t>- 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  <a:ea typeface="Microsoft YaHei"/>
              </a:rPr>
              <a:t>дети, имеющие различного рода проблемы.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042920" y="260280"/>
            <a:ext cx="789156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  <a:ea typeface="Times New Roman"/>
              </a:rPr>
              <a:t>Причины, по которым появляются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ahoma"/>
                <a:ea typeface="Times New Roman"/>
              </a:rPr>
              <a:t>дети «группы риска»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81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1. Нет целенаправленной воспитательной работы с детьми с раннего дошкольного возраста;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 Окружающие не знают их потребностей, круга интерес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3. Неблагополучные отношения в семь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4. Нет контроля за поведением детей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. Занятость родителей и, как следствие, потеря эмоционального контакта с детьми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81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6. Увеличение количества разводов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28560"/>
                <a:tab algn="l" pos="1542960"/>
                <a:tab algn="l" pos="2457360"/>
                <a:tab algn="l" pos="3371760"/>
                <a:tab algn="l" pos="4286160"/>
                <a:tab algn="l" pos="5200560"/>
                <a:tab algn="l" pos="6114960"/>
                <a:tab algn="l" pos="7029360"/>
                <a:tab algn="l" pos="7943760"/>
                <a:tab algn="l" pos="8858160"/>
                <a:tab algn="l" pos="9772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042920" y="42840"/>
            <a:ext cx="7925040" cy="15112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1189080" y="1352520"/>
            <a:ext cx="777888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150920" y="11592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та с учащимися  будет эффективной и полезной при взаимодействии школы, семьи и других общественных институтов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rcRect l="11492" t="32372" r="37036" b="27225"/>
          <a:stretch/>
        </p:blipFill>
        <p:spPr>
          <a:xfrm>
            <a:off x="1042920" y="1125360"/>
            <a:ext cx="79930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2"/>
          <a:srcRect l="10163" t="38145" r="28901" b="18759"/>
          <a:stretch/>
        </p:blipFill>
        <p:spPr>
          <a:xfrm>
            <a:off x="1079640" y="1008000"/>
            <a:ext cx="79930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16000" y="115920"/>
            <a:ext cx="78804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7ec3d4"/>
                </a:solidFill>
                <a:latin typeface="Corbel"/>
                <a:ea typeface="Microsoft YaHei"/>
              </a:rPr>
              <a:t>Основные направления деятельности психолога с детьми «группы риска»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  <a:ea typeface="Microsoft YaHe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"/>
          <p:cNvSpPr/>
          <p:nvPr/>
        </p:nvSpPr>
        <p:spPr>
          <a:xfrm>
            <a:off x="1116000" y="1844640"/>
            <a:ext cx="7632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Психологическое просвещени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Диагностик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Коррекционная работа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555555"/>
                </a:solidFill>
                <a:latin typeface="Corbel"/>
                <a:ea typeface="Times New Roman"/>
              </a:rPr>
              <a:t>Консультирование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360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 rot="20220000">
            <a:off x="734760" y="1185840"/>
            <a:ext cx="5278320" cy="1749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358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358000"/>
              </a:gradFill>
              <a:latin typeface="Impact"/>
              <a:ea typeface="Impact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15:51:47Z</dcterms:created>
  <dc:creator>user</dc:creator>
  <dc:description/>
  <dc:language>en-US</dc:language>
  <cp:lastModifiedBy/>
  <dcterms:modified xsi:type="dcterms:W3CDTF">2016-11-15T09:34:39Z</dcterms:modified>
  <cp:revision>40</cp:revision>
  <dc:subject/>
  <dc:title>Презентация PowerPoint</dc:title>
</cp:coreProperties>
</file>