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BC61AD-4CC3-4D64-AA29-36553A64E0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D182C9-C98A-4E11-A750-5FC3FB9372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06E6-08DD-42B6-B8F6-AC6E31D6F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CD53-F999-4715-8666-91D299C4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2EDB-1B91-4572-8054-308A5CA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882A-CE8F-44C3-9F71-35DC9D3A2A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656BB-D0DF-4069-A355-353DC25DB6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B4D15-9E79-44DD-AB37-5CE49E49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32732-21BE-47F4-B036-DCF6A04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7F6EB-BC54-4D69-A5E9-13D3810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4176D-F0C4-4C8E-9136-D2F7620B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A1077-861E-4B17-9A5C-145B85A5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692EC-05DD-49A2-ADC3-C4989C40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5F1C-336C-45B0-AD41-B42D55E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B721D-914C-45F6-AE56-9DF09E94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17F6D-2266-427B-8A46-7794F15F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A5382-A192-4085-9613-1833CD6E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A51AB-9874-4C57-9231-2D3CD76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A8092-DFA9-4B2E-9C2A-1F874E540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7458-30E7-4278-991D-D6C0FCBE7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3E5-2E72-403E-B89B-CC14639F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0F66-64CB-400C-BECD-81C180A8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4EA-0B41-49CF-8B40-6CC9592D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A716-79C1-4A9F-BBBE-10AAE75E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592F-0C35-41A1-8FC7-E17CE80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8FE4-9E4C-4AE1-96AE-2DC093BC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0D46-9E56-4636-99C0-AAAED6D1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E843-6581-4846-90FA-0588AD71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9C35-04AE-40B2-96B8-5B2CC5D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3F75-715C-482D-B8EE-2C01A462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251F-FE99-44DC-8EC5-E338E0D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04C2-983F-448D-80D1-5AB255855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831B5-986B-41C9-817F-0851B37FD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F76CF-049C-43B2-A443-9E71865A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B25A0-6CCC-4B7A-83B4-5016532F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C2A5-D494-4A0A-949E-AD93FD7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E7210-35AA-4A07-AEDB-7E0C5C0F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047A8-E438-4F48-857E-531623F1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3CC2E-6E12-4E46-9FD6-00AD82C2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3D6F1-9340-4E40-9051-DFB7EE8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E59AC-801E-472F-BCB0-F9E46B7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3E5F7-AB93-479C-8CF8-D67C38E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B7F08-B4FF-4218-8AEC-510777F0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B90AC-A26E-44A6-833C-243B588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6AF01-19A2-47C3-9869-8BFD6D6B3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F0808-906E-4571-86F9-51535939F2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A8CE-DFC9-4A7E-BE15-EC5AFC8B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D86DE-4422-4364-8D62-596391C9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44E18-238D-4D02-87B0-B1A37DAE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CB7B4-04B9-4B4F-B987-819A683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C784F-4CD5-430D-B5BF-D8B77A3A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250EB-5273-4A30-ABD1-FC69A337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6240F-FB37-4D49-9467-58F7BE52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834DA-BBEF-4192-B381-25E461C3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084B8-C603-4F6F-91DF-A777ADE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16215-C401-4934-A8AE-DA2652C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9F11F-DC84-48A7-BD5B-14681DA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C94D-A5E4-4423-A727-F2C0F84C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F0F9B-F534-4212-8136-BD902BC5D8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203E-7B2B-4947-B7FB-73C37536D0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565B-1AF1-46C6-9491-5AB7B055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2BB0-FD6A-441B-ADBA-59D18A97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4E92-C74F-4698-864E-156AD74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C849-597E-4BC8-AAE1-766A44EB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2D2A-6F74-4616-BA0D-A92287A6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84F7-4672-4D5C-8298-25D50529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33CC-8936-4037-A57F-C0CDD83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EA5F-0C76-4844-98E3-0E204729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6115-DA7E-41C8-BF2F-9B1D221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EDE8-A862-4553-BB54-DF5FE91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423F-390A-49E2-95F3-4A563159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D189-048C-4C1F-9001-167B343BA5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EE6E6-28E6-4A95-AA22-07EAC0292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09DDF-C942-4470-A076-D1A48AA8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1C042-3B90-450C-A707-BA4BC362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56700-10D0-46C6-AF2F-7BF31677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47558-7913-4F1A-A82C-46F0A634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AE4FB-AE5E-46A9-B1E4-D01A2B0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2204F-0CB3-4578-9544-80FE0EA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4ED3-B2FC-40CB-B2B3-C2E5FC4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E4885-20A8-4751-9F9A-C0B2FC95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34FA6-B00F-4674-9DB8-4E3FFBE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E0850-642B-48EE-A4E8-FB04FE70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E121F-558E-49D5-840D-B13A406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AFE92-2895-41E5-B619-2F3395F6FF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7B05-9F1A-4635-8076-903D41A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1DF122-E0C7-4498-9CCE-6F04B27DE036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20880" y="1414440"/>
            <a:ext cx="217440" cy="211320"/>
            <a:chOff x="920880" y="1414440"/>
            <a:chExt cx="217440" cy="2113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744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026B65E-F2B7-4BE4-98CD-05AA09347323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70080" y="2816280"/>
            <a:ext cx="217440" cy="210960"/>
            <a:chOff x="2170080" y="2816280"/>
            <a:chExt cx="217440" cy="2109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744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EDB55C0-076D-4BDC-80F4-1CC9BA9B92C8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FEA4D56-F232-49C4-8AFF-E3959D49D72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45EF745-730E-4491-A12F-8D3E4A4B8E8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DBB6ECC-0A4F-46BB-A57B-9FB3A6FADBA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52320" y="974880"/>
            <a:ext cx="4795920" cy="4795560"/>
            <a:chOff x="652320" y="974880"/>
            <a:chExt cx="4795920" cy="47955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5920" cy="47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3AA36F2-9CD5-4E9F-A875-C994E3E7BA15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03280" y="260280"/>
            <a:ext cx="72835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ec3d4"/>
                </a:solidFill>
                <a:latin typeface="Corbel"/>
                <a:ea typeface="Microsoft YaHei"/>
              </a:rPr>
              <a:t>«Психолого-педагогическое сопровождение детей «группы риска»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Светличная И.С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Педагог-психоло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84360" y="260280"/>
            <a:ext cx="770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1000"/>
                <a:tab algn="l" pos="995400"/>
                <a:tab algn="l" pos="1909800"/>
                <a:tab algn="l" pos="2824200"/>
                <a:tab algn="l" pos="3738600"/>
                <a:tab algn="l" pos="4653000"/>
                <a:tab algn="l" pos="5567400"/>
                <a:tab algn="l" pos="6481800"/>
                <a:tab algn="l" pos="7396200"/>
                <a:tab algn="l" pos="8310600"/>
                <a:tab algn="l" pos="9225000"/>
                <a:tab algn="l" pos="10139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Microsoft YaHei"/>
              </a:rPr>
              <a:t>              </a:t>
            </a:r>
            <a:r>
              <a:rPr b="1" lang="ru-RU" sz="3600" spc="-1" strike="noStrike">
                <a:solidFill>
                  <a:srgbClr val="00b0f0"/>
                </a:solidFill>
                <a:latin typeface="Corbel"/>
                <a:ea typeface="Microsoft YaHei"/>
              </a:rPr>
              <a:t>Д</a:t>
            </a:r>
            <a:r>
              <a:rPr b="1" lang="ru-RU" sz="3600" spc="-1" strike="noStrike">
                <a:solidFill>
                  <a:srgbClr val="00b0f0"/>
                </a:solidFill>
                <a:latin typeface="Tahoma"/>
                <a:ea typeface="Times New Roman"/>
              </a:rPr>
              <a:t>ети «группы риска»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b0f0"/>
                </a:solidFill>
                <a:latin typeface="Tahoma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  <a:ea typeface="Microsoft YaHei"/>
              </a:rPr>
              <a:t>это дети, чье поведение отклоняется от принятых в обществе стандартов и норм;</a:t>
            </a:r>
            <a:br>
              <a:rPr sz="3600"/>
            </a:br>
            <a:r>
              <a:rPr b="1" lang="ru-RU" sz="3600" spc="-1" strike="noStrike">
                <a:solidFill>
                  <a:srgbClr val="00b0f0"/>
                </a:solidFill>
                <a:latin typeface="Tahoma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  <a:ea typeface="Microsoft YaHei"/>
              </a:rPr>
              <a:t>дети, имеющие различного рода проблемы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042920" y="260280"/>
            <a:ext cx="78915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  <a:ea typeface="Times New Roman"/>
              </a:rPr>
              <a:t>Причины, по которым появляются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  <a:ea typeface="Times New Roman"/>
              </a:rPr>
              <a:t>дети «группы риска»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Нет целенаправленной воспитательной работы с детьми с ранн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 Окружающие не знают их потребностей, круга интерес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Неблагополучные отношения в семь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. Нет контроля за поведением дете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. Занятость родителей и, как следствие, потеря эмоционального контакта с деть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Увеличение количества разв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042920" y="42840"/>
            <a:ext cx="7925040" cy="1511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1189080" y="1352520"/>
            <a:ext cx="777888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50920" y="1159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 учащимися  будет эффективной и полезной при взаимодействии школы, семьи и других общественных институтов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11492" t="32372" r="37036" b="27225"/>
          <a:stretch/>
        </p:blipFill>
        <p:spPr>
          <a:xfrm>
            <a:off x="1042920" y="1125360"/>
            <a:ext cx="7993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rcRect l="10163" t="38145" r="28901" b="18759"/>
          <a:stretch/>
        </p:blipFill>
        <p:spPr>
          <a:xfrm>
            <a:off x="1079640" y="100800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16000" y="115920"/>
            <a:ext cx="7880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ec3d4"/>
                </a:solidFill>
                <a:latin typeface="Corbel"/>
                <a:ea typeface="Microsoft YaHei"/>
              </a:rPr>
              <a:t>Основные направления деятельности психолога с детьми «группы риска»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  <a:ea typeface="Microsoft Ya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"/>
          <p:cNvSpPr/>
          <p:nvPr/>
        </p:nvSpPr>
        <p:spPr>
          <a:xfrm>
            <a:off x="1116000" y="1844640"/>
            <a:ext cx="7632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Психологическое просвещени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Диагности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Коррекционная рабо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Консультировани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 rot="20220000">
            <a:off x="734760" y="1185840"/>
            <a:ext cx="5278320" cy="1749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358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358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51:47Z</dcterms:created>
  <dc:creator>user</dc:creator>
  <dc:description/>
  <dc:language>en-US</dc:language>
  <cp:lastModifiedBy/>
  <dcterms:modified xsi:type="dcterms:W3CDTF">2016-11-15T09:34:39Z</dcterms:modified>
  <cp:revision>40</cp:revision>
  <dc:subject/>
  <dc:title>Презентация PowerPoint</dc:title>
</cp:coreProperties>
</file>