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57E-9AC7-40D8-9961-0D698233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2C13-2F4C-4566-BA1B-5EAA253C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661E-8873-414F-9943-E75FCE97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41E0-2C8A-49C7-91FD-C58E6887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4F9E-7B8B-428D-BD72-FC9687C9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95FE-6B11-4DF0-A8DF-D76A29FF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502-A69E-4B28-B20F-0729BE9E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1DD-545A-46A1-85A8-B3D01421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6290-3A5C-4F6C-A8CE-D4873F31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DA4E-660A-4402-99FD-81BC49B4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D8F-DB4D-48CA-AE0B-5D9229BE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125-E87E-4521-86BA-15E7F452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4283-5C2A-4867-9436-374CE17B80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731880" y="-41400"/>
            <a:ext cx="10728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БОУ «Шелаболихинская СОШ № 2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«Тем, кто шёл в бой за Родину, выстоял и победил….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Работа выполнена ученицей 1 класса Михайловой Варва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Педагог-консультант  -  Евтюхина Галина Геннад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Arial"/>
                <a:ea typeface="Arial"/>
              </a:rPr>
              <a:t>2015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89000" y="189000"/>
            <a:ext cx="846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ъект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-100080" y="1063800"/>
            <a:ext cx="119062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графия моего прадеда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касова Евгения Ефимовича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Методы исслед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семейных фото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оминания моей бабушк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99880" y="173160"/>
            <a:ext cx="472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накомьтес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4" descr="C:\Documents and Settings\1\Рабочий стол\SAM_5049.JPG"/>
          <p:cNvPicPr/>
          <p:nvPr/>
        </p:nvPicPr>
        <p:blipFill>
          <a:blip r:embed="rId2"/>
          <a:stretch/>
        </p:blipFill>
        <p:spPr>
          <a:xfrm>
            <a:off x="498600" y="942840"/>
            <a:ext cx="3527280" cy="4321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527280" y="1160640"/>
            <a:ext cx="866484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екасов Евгений Ефимови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Shruti"/>
              </a:rPr>
              <a:t>одился 27 сентября 1927 г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еле Шелаболи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кончил 7 классов сельской шко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зван на военную службу 16 ноября 1944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лжность и воинское звание по штату – электрик-связист береговой артиллер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инская часть 3108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"/>
          <p:cNvPicPr/>
          <p:nvPr/>
        </p:nvPicPr>
        <p:blipFill>
          <a:blip r:embed="rId2"/>
          <a:stretch/>
        </p:blipFill>
        <p:spPr>
          <a:xfrm>
            <a:off x="5076720" y="3673440"/>
            <a:ext cx="3452760" cy="23335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"/>
          <p:cNvPicPr/>
          <p:nvPr/>
        </p:nvPicPr>
        <p:blipFill>
          <a:blip r:embed="rId3"/>
          <a:stretch/>
        </p:blipFill>
        <p:spPr>
          <a:xfrm rot="20079000">
            <a:off x="414360" y="1261800"/>
            <a:ext cx="3462480" cy="25984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4"/>
          <a:stretch/>
        </p:blipFill>
        <p:spPr>
          <a:xfrm>
            <a:off x="976320" y="4476600"/>
            <a:ext cx="3516480" cy="22640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"/>
          <p:cNvPicPr/>
          <p:nvPr/>
        </p:nvPicPr>
        <p:blipFill>
          <a:blip r:embed="rId5"/>
          <a:stretch/>
        </p:blipFill>
        <p:spPr>
          <a:xfrm>
            <a:off x="8982000" y="2003400"/>
            <a:ext cx="2759040" cy="3193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1422360" y="955800"/>
            <a:ext cx="1031868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М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прадедушка, электрик-связист,  воевал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роти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японцев в составе подводно-кабельной партии с 9 августа 194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анений не им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179280" y="76320"/>
            <a:ext cx="48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енный пу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204840" y="204840"/>
            <a:ext cx="79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изнь после вой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7769160" y="204840"/>
            <a:ext cx="4086360" cy="5776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0" y="974880"/>
            <a:ext cx="805644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В 1951 году 8 марта был уволен в запас.        Всю оставшуюся жизнь прожил в Хабаровском крае. Работал на Северном заводе Министерства морского флота мастером-электрик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Умер 7 февраля 1995 год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Ему было 67 лет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14:07:12Z</dcterms:created>
  <dc:creator>Ирина Евтюхина</dc:creator>
  <dc:description/>
  <dc:language>en-US</dc:language>
  <cp:lastModifiedBy>1</cp:lastModifiedBy>
  <dcterms:modified xsi:type="dcterms:W3CDTF">2017-01-10T11:22:37Z</dcterms:modified>
  <cp:revision>28</cp:revision>
  <dc:subject/>
  <dc:title>Презентация PowerPoint</dc:title>
</cp:coreProperties>
</file>