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724-DC0D-4766-9708-1F5042A5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894-1B96-4E31-837E-26A64AD1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FC0-265C-40F0-97EA-2C3BA654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F25-CD30-46EE-82A0-FA4BED1D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F82-3B55-4DFD-BAB3-EE90EE83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E62-67B3-4BAA-A2F4-2C2E3D4F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615-05AE-43F5-A435-2C56C735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81E-D36C-48AF-B9D4-FB3F352E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DA5-A953-49B6-AB3B-D8986C15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692-15D7-4D98-99D3-9778016E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14B-861E-4389-8DB3-D1F7EAE2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914-E1DD-41AE-ACFA-5E56E6E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DFCB-6D9E-479C-8BC9-6F4F103F7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731880" y="-41400"/>
            <a:ext cx="10728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БОУ «Шелаболихинская СОШ № 2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«Тем, кто шёл в бой за Родину, выстоял и победил….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Работа выполнена ученицей 1 класса Михайловой Варва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Педагог-консультант  -  Евтюхина Галина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89000" y="189000"/>
            <a:ext cx="846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00080" y="1063800"/>
            <a:ext cx="119062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я моего прадеда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касова Евгения Ефимович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емейных фото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оминания моей бабушк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99880" y="173160"/>
            <a:ext cx="47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накомьте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C:\Documents and Settings\1\Рабочий стол\SAM_5049.JPG"/>
          <p:cNvPicPr/>
          <p:nvPr/>
        </p:nvPicPr>
        <p:blipFill>
          <a:blip r:embed="rId2"/>
          <a:stretch/>
        </p:blipFill>
        <p:spPr>
          <a:xfrm>
            <a:off x="498600" y="942840"/>
            <a:ext cx="3527280" cy="432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527280" y="1160640"/>
            <a:ext cx="86648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касов Евгений Ефим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hruti"/>
              </a:rPr>
              <a:t>одился 27 сентября 1927 г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еле Шелаболи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чил 7 классов сельской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зван на военную службу 16 ноября 194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лжность и воинское звание по штату – электрик-связист береговой артилле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инская часть 3108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2"/>
          <a:stretch/>
        </p:blipFill>
        <p:spPr>
          <a:xfrm>
            <a:off x="5076720" y="3673440"/>
            <a:ext cx="3452760" cy="2333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"/>
          <p:cNvPicPr/>
          <p:nvPr/>
        </p:nvPicPr>
        <p:blipFill>
          <a:blip r:embed="rId3"/>
          <a:stretch/>
        </p:blipFill>
        <p:spPr>
          <a:xfrm rot="20079000">
            <a:off x="414360" y="1261800"/>
            <a:ext cx="3462480" cy="2598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4"/>
          <a:stretch/>
        </p:blipFill>
        <p:spPr>
          <a:xfrm>
            <a:off x="976320" y="4476600"/>
            <a:ext cx="3516480" cy="2264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5"/>
          <a:stretch/>
        </p:blipFill>
        <p:spPr>
          <a:xfrm>
            <a:off x="8982000" y="2003400"/>
            <a:ext cx="2759040" cy="3193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422360" y="955800"/>
            <a:ext cx="1031868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радедушка, электрик-связист,  воевал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и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японцев в составе подводно-кабельной партии с 9 августа 194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нений не им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79280" y="7632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енный п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204840" y="2048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знь после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7769160" y="204840"/>
            <a:ext cx="4086360" cy="5776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0" y="974880"/>
            <a:ext cx="80564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 1951 году 8 марта был уволен в запас.        Всю оставшуюся жизнь прожил в Хабаровском крае. Работал на Северном заводе Министерства морского флота мастером-электри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Умер 7 февраля 1995 год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Ему было 67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14:07:12Z</dcterms:created>
  <dc:creator>Ирина Евтюхина</dc:creator>
  <dc:description/>
  <dc:language>en-US</dc:language>
  <cp:lastModifiedBy>1</cp:lastModifiedBy>
  <dcterms:modified xsi:type="dcterms:W3CDTF">2017-01-10T11:22:37Z</dcterms:modified>
  <cp:revision>28</cp:revision>
  <dc:subject/>
  <dc:title>Презентация PowerPoint</dc:title>
</cp:coreProperties>
</file>