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932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27000" y="163152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7164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4932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27000" y="3944160"/>
            <a:ext cx="254988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71640" y="297000"/>
            <a:ext cx="79200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920" y="394416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1640" y="243000"/>
            <a:ext cx="7920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7164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9920" y="1631520"/>
            <a:ext cx="38646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71640" y="3944160"/>
            <a:ext cx="7920000" cy="21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a452a"/>
                </a:solidFill>
                <a:latin typeface="Cassandra"/>
              </a:rPr>
              <a:t>Click to edit the title text format</a:t>
            </a:r>
            <a:endParaRPr b="0" lang="en-US" sz="6000" spc="-1" strike="noStrike">
              <a:solidFill>
                <a:srgbClr val="4a452a"/>
              </a:solidFill>
              <a:latin typeface="Cassandr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71640" y="163152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a452a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a45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452a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a452a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6"/>
          <p:cNvSpPr/>
          <p:nvPr/>
        </p:nvSpPr>
        <p:spPr>
          <a:xfrm>
            <a:off x="3821400" y="3213000"/>
            <a:ext cx="495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щенко 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4327560" y="3753000"/>
            <a:ext cx="214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395280" y="441360"/>
            <a:ext cx="82454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ющая система обучения Л.В. Занкова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3"/>
          <p:cNvSpPr/>
          <p:nvPr/>
        </p:nvSpPr>
        <p:spPr>
          <a:xfrm>
            <a:off x="324000" y="225360"/>
            <a:ext cx="8351640" cy="57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е формы познания в ходе решения проблемных, творческих заданий: наблюдение, опыты, дискуссия, учебный диалог (обсуждение разных мнений, гипотез) и др.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проведение исследовательских и проектных работ, развитие информационной культуры;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индивидуализацию обучения, которая тесно связана с формированием мотивов деятельности, распространяясь на детей разных типов по характеру познавательной деятельности, эмоционально-коммуникативным особенностям, по гендерным признакам. Индивидуализация реализуется в том числе посредством трех уровней содержания: базовому, расширенному и углубленному.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люс 2"/>
          <p:cNvSpPr/>
          <p:nvPr/>
        </p:nvSpPr>
        <p:spPr>
          <a:xfrm>
            <a:off x="1403280" y="260280"/>
            <a:ext cx="2268720" cy="1908360"/>
          </a:xfrm>
          <a:custGeom>
            <a:avLst/>
            <a:gdLst>
              <a:gd name="textAreaLeft" fmla="*/ 300600 w 2268720"/>
              <a:gd name="textAreaRight" fmla="*/ 1968120 w 2268720"/>
              <a:gd name="textAreaTop" fmla="*/ 729720 h 1908360"/>
              <a:gd name="textAreaBottom" fmla="*/ 1178640 h 1908360"/>
            </a:gdLst>
            <a:ahLst/>
            <a:rect l="textAreaLeft" t="textAreaTop" r="textAreaRight" b="textAreaBottom"/>
            <a:pathLst>
              <a:path w="2268538" h="1908175">
                <a:moveTo>
                  <a:pt x="300695" y="729686"/>
                </a:moveTo>
                <a:lnTo>
                  <a:pt x="909868" y="729686"/>
                </a:lnTo>
                <a:lnTo>
                  <a:pt x="909868" y="252929"/>
                </a:lnTo>
                <a:lnTo>
                  <a:pt x="1358670" y="252929"/>
                </a:lnTo>
                <a:lnTo>
                  <a:pt x="1358670" y="729686"/>
                </a:lnTo>
                <a:lnTo>
                  <a:pt x="1967843" y="729686"/>
                </a:lnTo>
                <a:lnTo>
                  <a:pt x="1967843" y="1178489"/>
                </a:lnTo>
                <a:lnTo>
                  <a:pt x="1358670" y="1178489"/>
                </a:lnTo>
                <a:lnTo>
                  <a:pt x="1358670" y="1655246"/>
                </a:lnTo>
                <a:lnTo>
                  <a:pt x="909868" y="1655246"/>
                </a:lnTo>
                <a:lnTo>
                  <a:pt x="909868" y="1178489"/>
                </a:lnTo>
                <a:lnTo>
                  <a:pt x="300695" y="11784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инус 3"/>
          <p:cNvSpPr/>
          <p:nvPr/>
        </p:nvSpPr>
        <p:spPr>
          <a:xfrm>
            <a:off x="5832360" y="297000"/>
            <a:ext cx="2448000" cy="1439640"/>
          </a:xfrm>
          <a:custGeom>
            <a:avLst/>
            <a:gdLst>
              <a:gd name="textAreaLeft" fmla="*/ 324360 w 2448000"/>
              <a:gd name="textAreaRight" fmla="*/ 2123640 w 2448000"/>
              <a:gd name="textAreaTop" fmla="*/ 550440 h 1439640"/>
              <a:gd name="textAreaBottom" fmla="*/ 889200 h 1439640"/>
            </a:gdLst>
            <a:ahLst/>
            <a:rect l="textAreaLeft" t="textAreaTop" r="textAreaRight" b="textAreaBottom"/>
            <a:pathLst>
              <a:path w="2447925" h="1439862">
                <a:moveTo>
                  <a:pt x="324472" y="550603"/>
                </a:moveTo>
                <a:lnTo>
                  <a:pt x="2123453" y="550603"/>
                </a:lnTo>
                <a:lnTo>
                  <a:pt x="2123453" y="889259"/>
                </a:lnTo>
                <a:lnTo>
                  <a:pt x="324472" y="88925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5"/>
          <p:cNvCxnSpPr>
            <a:stCxn id="100" idx="1"/>
          </p:cNvCxnSpPr>
          <p:nvPr/>
        </p:nvCxnSpPr>
        <p:spPr>
          <a:xfrm flipH="1">
            <a:off x="2518560" y="1915920"/>
            <a:ext cx="19800" cy="14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3" name="Прямая со стрелкой 6"/>
          <p:cNvCxnSpPr/>
          <p:nvPr/>
        </p:nvCxnSpPr>
        <p:spPr>
          <a:xfrm flipH="1">
            <a:off x="6984720" y="1557000"/>
            <a:ext cx="18000" cy="19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TextBox 10"/>
          <p:cNvSpPr/>
          <p:nvPr/>
        </p:nvSpPr>
        <p:spPr>
          <a:xfrm>
            <a:off x="5400720" y="3645000"/>
            <a:ext cx="302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а не получает достойного продолжения на более высоких ступенях шко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358920" y="3392640"/>
            <a:ext cx="45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вый подход к процессу 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ознание ми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выступает не как наставник, а как друг и помощник, направляющий ход мысли детей. Цель этой программы — научить ребенка мыслить нестандар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5"/>
          <p:cNvSpPr/>
          <p:nvPr/>
        </p:nvSpPr>
        <p:spPr>
          <a:xfrm>
            <a:off x="156600" y="225360"/>
            <a:ext cx="5560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онид Владимирович Занков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901-1977 гг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7"/>
          <p:cNvSpPr/>
          <p:nvPr/>
        </p:nvSpPr>
        <p:spPr>
          <a:xfrm>
            <a:off x="250920" y="1376280"/>
            <a:ext cx="522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ор, академик. Специалист в области дефектологии, памяти, запоминания, педагогической психоло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Л. С. Выготск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це 1950-х гг. научным коллективом под руководством Л.В. Занкова было начато масштабное экспериментальное исследование по изучению объективных закономерностей процесса обуч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:\Users\Вадим\Desktop\Занков.jpg"/>
          <p:cNvPicPr/>
          <p:nvPr/>
        </p:nvPicPr>
        <p:blipFill>
          <a:blip r:embed="rId1"/>
          <a:stretch/>
        </p:blipFill>
        <p:spPr>
          <a:xfrm>
            <a:off x="6156360" y="260280"/>
            <a:ext cx="2519280" cy="3409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9"/>
          <p:cNvSpPr/>
          <p:nvPr/>
        </p:nvSpPr>
        <p:spPr>
          <a:xfrm>
            <a:off x="952560" y="4149720"/>
            <a:ext cx="7691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было предпринято с целью развития идей и положений Л.С. Выготского о соотношении обучения и общего психического развития учащихся. Рассматривал проблему факторов обучения и развития учащихся, в частности взаимодействия слова и наглядности в обучении. Автор развивающей системы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1995 — 1996 гг. система Л. В. Занкова признана как параллельная государственная система начального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7"/>
          <p:cNvSpPr/>
          <p:nvPr/>
        </p:nvSpPr>
        <p:spPr>
          <a:xfrm>
            <a:off x="660240" y="333360"/>
            <a:ext cx="772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системы обучения Л.В. Занко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358920" y="1015920"/>
            <a:ext cx="828180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общее развитие учащихся, которое понимается как развитие ума, воли, школьников и как надежная основа усвоение ими знаний, умений, и навык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редставить учащимся целостную широкую картину мира средствами науки, литературы, искусства и непосредственного познания. Так же одна из важнейших задач — воспитание у младшего школьника отношения к себе как к ценности. Обучение должно быть ориентировано не столько на весь класс как единое целое, сколько на каждого конкретного ученика. При этом ставится цель не «подтянуть» слабых учеников до уровня сильных, а раскрыть индивидуальность и оптимально развить каждого школьника, независимо от того, считается ли он в классе «сильным» или «слабым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5"/>
          <p:cNvSpPr/>
          <p:nvPr/>
        </p:nvSpPr>
        <p:spPr>
          <a:xfrm>
            <a:off x="539640" y="512640"/>
            <a:ext cx="8172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: 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сть учащегося, творческое постижение материала. Учитель не выдаёт школьникам истины, а заставляет до них «докапываться» самим. Схема обратная традиционной: сначала даются примеры, а учащиеся сами должны сделать теоретические выводы. Усвоенный материал также закрепляется практическими заданиями. Новые дидактические принципы этой системы — это быстрое освоение материала, высокий уровень трудности, ведущая роль теоретических знаний. Постижение понятий должно происходить в понимании системных взаимосвяз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5"/>
          <p:cNvSpPr/>
          <p:nvPr/>
        </p:nvSpPr>
        <p:spPr>
          <a:xfrm>
            <a:off x="395280" y="3141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250920" y="260280"/>
            <a:ext cx="8677080" cy="65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принципы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учение на высоком уровне трудности с соблюдением меры трудности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поисковая деятельность, в которой ребенок должен анализировать, сравнивать и сопоставлять, обобщать. При этом он действует в соответствии с особенностями развития своего мозга. Обучение на высоком уровне трудности предполагает задания, «нащупывающие» верхний предел возможностей учащих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дущая роль теоретических знаний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инцип совсем не обозначает того, что ученики должны заниматься изучением теории, запоминать научные термины. Это было бы нагрузкой на память и увеличило бы трудность обучения. Этот принцип предполагает, что ученики в процессе упражнений ведут наблюдения над материалом, при этом учитель направляет их внимание и ведет к раскрытию существенных связей и зависимостей в самом материале. Ученики подводятся к уяснению определенных закономерностей, делают выводы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216000" y="115920"/>
            <a:ext cx="8748720" cy="70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ознание процесса учени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ие самим учеником протекания у него процесса познания: что он до этого знал, а что нового еще ему открылось в изучаемом предмете, рассказе, явлении. Такое осознание определяет наиболее правильные взаимоотношения человека с окружающим миром, а впоследствии развивает самокритичность как черту личности. Принцип осознания школьниками самого процесса обучения направлен на то, чтобы дети задумывались, зачем нужны знания;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ыстрый темп прохождения учебного материал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материала быстрым темпом противостоит топтанию на месте, однотипности упражнений при изучении одной темы. Более быстрое продвижение в познании не противоречит, а отвечает потребности детей: их больше интересует узнавать новое, чем долго повторять уже знакомый материал. Быстрое продвижение вперед в системе Занкова идет одновременно с возвращением к пройденному и сопровождается открытием новых граней. Быстрый темп прохождения программы не означает торопливости в изучении материала и спешки на уроках;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4"/>
          <p:cNvSpPr/>
          <p:nvPr/>
        </p:nvSpPr>
        <p:spPr>
          <a:xfrm>
            <a:off x="468360" y="1268280"/>
            <a:ext cx="82440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бота над развитием каждого ребенка, в том числе и слабого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т принцип подтверждает высокую гуманную направленность дидактической системы Л.В. Занкова. Все дети, если у них нет каких-либо патологических нарушений, могут продвигаться в своем развитии. Сам же процесс развития идее то замедленно, то скачкообразно. Л.В. Занков считал, что слабые и сильные ученики должны учиться вместе, где каждый ученик вносит в общую жизнь свою лепту. Любое обособление он считал вредным, так как дети лишаются возможности оценить себя на другом фоне, что мешает продвижению учащихся в их развит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1118880" y="189000"/>
            <a:ext cx="70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по системе обучения Л.В. Занко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4"/>
          <p:cNvSpPr/>
          <p:nvPr/>
        </p:nvSpPr>
        <p:spPr>
          <a:xfrm>
            <a:off x="324000" y="1305000"/>
            <a:ext cx="2952720" cy="287964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е, доверительные отношения между учителем и учениками и между самими уче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5"/>
          <p:cNvSpPr/>
          <p:nvPr/>
        </p:nvSpPr>
        <p:spPr>
          <a:xfrm>
            <a:off x="2951280" y="3213000"/>
            <a:ext cx="3528720" cy="349272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добывает знания самостоятельно, а учитель только помогает ему, направляя на нужный путь. Урок ведется в форме диску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6"/>
          <p:cNvSpPr/>
          <p:nvPr/>
        </p:nvSpPr>
        <p:spPr>
          <a:xfrm>
            <a:off x="6012000" y="1266840"/>
            <a:ext cx="2952720" cy="2881440"/>
          </a:xfrm>
          <a:prstGeom prst="ellipse">
            <a:avLst/>
          </a:prstGeom>
          <a:solidFill>
            <a:srgbClr val="ffff0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лагается разнообразие форм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Прямая со стрелкой 9"/>
          <p:cNvCxnSpPr/>
          <p:nvPr/>
        </p:nvCxnSpPr>
        <p:spPr>
          <a:xfrm flipH="1">
            <a:off x="2484000" y="764640"/>
            <a:ext cx="540720" cy="577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Прямая со стрелкой 11"/>
          <p:cNvCxnSpPr/>
          <p:nvPr/>
        </p:nvCxnSpPr>
        <p:spPr>
          <a:xfrm>
            <a:off x="4427280" y="799920"/>
            <a:ext cx="1080" cy="226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Прямая со стрелкой 13"/>
          <p:cNvCxnSpPr/>
          <p:nvPr/>
        </p:nvCxnSpPr>
        <p:spPr>
          <a:xfrm>
            <a:off x="5832360" y="872640"/>
            <a:ext cx="504000" cy="685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3"/>
          <p:cNvSpPr/>
          <p:nvPr/>
        </p:nvSpPr>
        <p:spPr>
          <a:xfrm>
            <a:off x="1698480" y="0"/>
            <a:ext cx="574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 методический компле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287280" y="512640"/>
            <a:ext cx="849780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ние взаимосвязей и взаимозависимостей изучаемых объектов, явлений благодаря интегрированному характеру содержания, что выражается в сочетании материала разного уровня обобщения (надпредметного, меж- и внутрипредметного), а также в сочетании его теоретической и практической направленности, интеллектуальной и эмоциональной насыщенност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ние понятиями, необходимыми для дальнейшего образовани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, практическую значимость учебного  материал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егос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для решения воспитательных задач, социально-личностного, интеллектуального, эстетического развития ребенка, для формирования учебных и универсальных (общеучебных) умений; </a:t>
            </a:r>
            <a:br>
              <a:rPr sz="2300"/>
            </a:br>
            <a:br>
              <a:rPr sz="2300"/>
            </a:b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Admin</cp:lastModifiedBy>
  <dcterms:modified xsi:type="dcterms:W3CDTF">2017-01-10T02:09:22Z</dcterms:modified>
  <cp:revision>34</cp:revision>
  <dc:subject/>
  <dc:title>Слайд 1</dc:title>
</cp:coreProperties>
</file>