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1.jpeg" ContentType="image/jpeg"/>
  <Override PartName="/ppt/media/chimes.wav" ContentType="audio/x-wav"/>
  <Override PartName="/ppt/media/image1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6.jpeg" ContentType="image/jpeg"/>
  <Override PartName="/ppt/media/image19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0.png" ContentType="image/png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74C-481E-4837-B095-4DD7648F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FAA-A66B-44FC-A3A7-CFFE068D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F0F-2166-4B8E-8B7C-F838706F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D0E-B0E9-434D-8AD3-DF9E7367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25E2-A2D8-4CDB-B26C-771E910A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6BA9-71C5-4873-8FD2-333F657A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DACB-2E56-4851-B976-828502E7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3680-6362-4A6C-BF1C-7B18D7F4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4658-7928-4C88-999D-9D8D7493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783D-BC98-4033-8273-6ED31B57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50BE-C16B-406D-8415-E51FFA46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6EC-BCA5-429C-8527-4146155B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3C1C-6E48-4D51-BB0B-27F5C890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CC68-164E-46ED-93E2-0E14D2B9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9182-512E-451D-8697-BF13750F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0A3F-4417-4326-9678-8DC8D186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A042-208D-4BB6-A397-1E309DA9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EC5-F5CE-4CA2-8C59-1B144EB0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0C0B-4580-4F99-B2C8-0F70FDC0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144-30F6-496F-B350-A1D75FC6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1E4-1506-453C-8693-87F907C7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78D-4A58-4D67-848E-F03D283B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D96-2B99-490E-B922-41981286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9D5-3687-4459-B0A5-937CA1C8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22C7-AE41-45CF-83D8-B429A61DCAD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BA2C-8412-444A-8A8E-56CB437F648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585756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КОУ ПЗСОШ №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дагог- психолог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аскина Е.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28760" y="428760"/>
            <a:ext cx="771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« Роль родителей в воспитании ребенка. 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8" descr="acecha_img2"/>
          <p:cNvPicPr/>
          <p:nvPr/>
        </p:nvPicPr>
        <p:blipFill>
          <a:blip r:embed="rId1"/>
          <a:stretch/>
        </p:blipFill>
        <p:spPr>
          <a:xfrm>
            <a:off x="5572080" y="3143160"/>
            <a:ext cx="3311640" cy="22082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http://images4.alphacoders.com/288/thumbbig-288658.jpg"/>
          <p:cNvPicPr/>
          <p:nvPr/>
        </p:nvPicPr>
        <p:blipFill>
          <a:blip r:embed="rId2"/>
          <a:stretch/>
        </p:blipFill>
        <p:spPr>
          <a:xfrm>
            <a:off x="7058160" y="0"/>
            <a:ext cx="2085840" cy="1214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0" y="2286000"/>
            <a:ext cx="5286240" cy="3514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"/>
          <p:cNvSpPr/>
          <p:nvPr/>
        </p:nvSpPr>
        <p:spPr>
          <a:xfrm>
            <a:off x="285840" y="428760"/>
            <a:ext cx="80722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Будь взрослым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е будь ребенком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ы как маленький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анижена самооценка, сложности в отношени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Сусанин / Двухлетний мальчик едва не сгорел в автомобиле родителей в Башкирии"/>
          <p:cNvPicPr/>
          <p:nvPr/>
        </p:nvPicPr>
        <p:blipFill>
          <a:blip r:embed="rId1"/>
          <a:stretch/>
        </p:blipFill>
        <p:spPr>
          <a:xfrm>
            <a:off x="2143080" y="3214800"/>
            <a:ext cx="4429080" cy="3314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МБДОУ города Костромы &quot;Детский сад 27&quot; - РОДИТЕЛЬСКИЙ УГОЛОК"/>
          <p:cNvPicPr/>
          <p:nvPr/>
        </p:nvPicPr>
        <p:blipFill>
          <a:blip r:embed="rId2"/>
          <a:stretch/>
        </p:blipFill>
        <p:spPr>
          <a:xfrm>
            <a:off x="6459480" y="0"/>
            <a:ext cx="268452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3"/>
          <p:cNvSpPr/>
          <p:nvPr/>
        </p:nvSpPr>
        <p:spPr>
          <a:xfrm>
            <a:off x="857160" y="357120"/>
            <a:ext cx="742968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«Будь маленьким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аслаждайся детством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ся жизнь вперед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ы еще успееш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етство лучшая пора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Дети становятся инфантильными, несамостоятельными, не могут устроить свою личную жиз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Застенчивые дети: как придать уверенности ребенку - Статьи - Дети 3-7 лет - Дети Mail.Ru"/>
          <p:cNvPicPr/>
          <p:nvPr/>
        </p:nvPicPr>
        <p:blipFill>
          <a:blip r:embed="rId1"/>
          <a:stretch/>
        </p:blipFill>
        <p:spPr>
          <a:xfrm>
            <a:off x="1857240" y="3867120"/>
            <a:ext cx="4786560" cy="2990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В московских детских садах предельный размер родительской платы не изменится Реальная школа"/>
          <p:cNvPicPr/>
          <p:nvPr/>
        </p:nvPicPr>
        <p:blipFill>
          <a:blip r:embed="rId2"/>
          <a:stretch/>
        </p:blipFill>
        <p:spPr>
          <a:xfrm>
            <a:off x="6442200" y="0"/>
            <a:ext cx="2701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2" descr=""/>
          <p:cNvPicPr/>
          <p:nvPr/>
        </p:nvPicPr>
        <p:blipFill>
          <a:blip r:embed="rId1"/>
          <a:stretch/>
        </p:blipFill>
        <p:spPr>
          <a:xfrm>
            <a:off x="633240" y="281160"/>
            <a:ext cx="7255080" cy="2724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http://www.psihologion.ru/upload/images/blog/samostoyatelnyy.jpg"/>
          <p:cNvPicPr/>
          <p:nvPr/>
        </p:nvPicPr>
        <p:blipFill>
          <a:blip r:embed="rId2"/>
          <a:stretch/>
        </p:blipFill>
        <p:spPr>
          <a:xfrm>
            <a:off x="428760" y="1508040"/>
            <a:ext cx="8032680" cy="47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500040" y="714240"/>
          <a:ext cx="7929720" cy="5762880"/>
        </p:xfrm>
        <a:graphic>
          <a:graphicData uri="http://schemas.openxmlformats.org/drawingml/2006/table">
            <a:tbl>
              <a:tblPr/>
              <a:tblGrid>
                <a:gridCol w="3963960"/>
                <a:gridCol w="3965760"/>
              </a:tblGrid>
              <a:tr h="586080"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воспитания, вызывающие у ребён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ительные эмо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ицательные эмо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15880"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колько раз Вы сегодня ребён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52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вали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ощря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добря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елова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бнима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аска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импатизирова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опережива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лыбались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осхищались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елали приятные сюрпризы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елали подарк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екали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авля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нижа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виня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ужда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рга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ёргива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ори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тали нотаци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шали чего – то необходимого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лёпали, поро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вили в уго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1"/>
          <p:cNvSpPr/>
          <p:nvPr/>
        </p:nvSpPr>
        <p:spPr>
          <a:xfrm>
            <a:off x="0" y="-10332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Шкала общения родителей с ребён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571680" y="64296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Нет ничего невозможного, когда рядом тот, кто в тебя верит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http://pazitiff.info/uploads/posts/2011-05/thumbs/1305824370_motivator-17693.jpg"/>
          <p:cNvPicPr/>
          <p:nvPr/>
        </p:nvPicPr>
        <p:blipFill>
          <a:blip r:embed="rId1"/>
          <a:stretch/>
        </p:blipFill>
        <p:spPr>
          <a:xfrm>
            <a:off x="2357280" y="1785960"/>
            <a:ext cx="36529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714240" y="500040"/>
            <a:ext cx="6572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Правила для роди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ние личности ребенка и его неприкосновен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адекватной самооценки. </a:t>
            </a:r>
            <a:r>
              <a:rPr b="0" lang="ru-RU" sz="1800" spc="-1" strike="noStrike">
                <a:solidFill>
                  <a:srgbClr val="2308c8"/>
                </a:solidFill>
                <a:latin typeface="Times New Roman"/>
                <a:ea typeface="Times New Roman"/>
              </a:rPr>
              <a:t>(человек с низкой самооценкой постоянно зависит от других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общать к реальным делам сем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силу во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ь планиро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общать к тру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ить общаться с другими людь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http://img1.liveinternet.ru/images/attach/c/8/104/677/104677315_e3126bf063bee1040cb5624bebbb9c33.jpg"/>
          <p:cNvPicPr/>
          <p:nvPr/>
        </p:nvPicPr>
        <p:blipFill>
          <a:blip r:embed="rId1"/>
          <a:stretch/>
        </p:blipFill>
        <p:spPr>
          <a:xfrm>
            <a:off x="2536920" y="3500280"/>
            <a:ext cx="3035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0" y="375120"/>
            <a:ext cx="780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094"/>
                </a:solidFill>
                <a:latin typeface="Arial"/>
                <a:ea typeface="Times New Roman"/>
              </a:rPr>
              <a:t>Что можно сделать для воспитания учебной самостоятельно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094"/>
                </a:solidFill>
                <a:latin typeface="Arial"/>
                <a:ea typeface="Times New Roman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нимайте с себя заботу и ответственность за учебу и личные дела Вашего ребенка и передавайте их е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094"/>
                </a:solidFill>
                <a:latin typeface="Arial"/>
                <a:ea typeface="Times New Roman"/>
              </a:rPr>
              <a:t>2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могайте ему ровно настолько, насколько он в этом действительно нуждается, и ни в коем случае не делайте за ребенка то, что он может выполнить с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094"/>
                </a:solidFill>
                <a:latin typeface="Arial"/>
                <a:ea typeface="Times New Roman"/>
              </a:rPr>
              <a:t>3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еритесь мужества и позвольте своему чаду встретиться с негативными последствиями несделанных домашних заданий, чтобы он научился быть самостоятель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094"/>
                </a:solidFill>
                <a:latin typeface="Arial"/>
                <a:ea typeface="Times New Roman"/>
              </a:rPr>
              <a:t>4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мните: если ребенок самостоятелен, то он самостоятелен во всём, а не только за письменным сто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http://goon.ru/news/uploads/posts/2013-09/1378224205_d0a5d0bed187d183_d0bcd0bdd0bed0b3d0be_d0b7d0bdd0b0d182d18c.jpg"/>
          <p:cNvPicPr/>
          <p:nvPr/>
        </p:nvPicPr>
        <p:blipFill>
          <a:blip r:embed="rId1"/>
          <a:stretch/>
        </p:blipFill>
        <p:spPr>
          <a:xfrm>
            <a:off x="2286000" y="3857760"/>
            <a:ext cx="31431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714240" y="500040"/>
            <a:ext cx="65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Не важно сколь человек подня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 важно как он при этом напрягс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http://kotygoroshko.com.ua/_pu/0/19118283.jpg"/>
          <p:cNvPicPr/>
          <p:nvPr/>
        </p:nvPicPr>
        <p:blipFill>
          <a:blip r:embed="rId1"/>
          <a:stretch/>
        </p:blipFill>
        <p:spPr>
          <a:xfrm>
            <a:off x="785880" y="1928880"/>
            <a:ext cx="609588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0" y="29016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Дети </a:t>
            </a:r>
            <a:r>
              <a:rPr b="1" i="1" lang="ru-RU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это люди, данные нам на врем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и от нас зависит их вера в 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и любовь к миру</a:t>
            </a:r>
            <a:r>
              <a:rPr b="1" i="1" lang="ru-RU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…»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" descr="http://clip-arts.ru/data/media/86/children-0402-chld-0402.jpg"/>
          <p:cNvPicPr/>
          <p:nvPr/>
        </p:nvPicPr>
        <p:blipFill>
          <a:blip r:embed="rId1"/>
          <a:stretch/>
        </p:blipFill>
        <p:spPr>
          <a:xfrm>
            <a:off x="1000080" y="1714680"/>
            <a:ext cx="60958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2" descr="http://img0.liveinternet.ru/images/attach/c/1/63/915/63915484_63071966_Bezuymyannuyy.jpg"/>
          <p:cNvPicPr/>
          <p:nvPr/>
        </p:nvPicPr>
        <p:blipFill>
          <a:blip r:embed="rId1"/>
          <a:stretch/>
        </p:blipFill>
        <p:spPr>
          <a:xfrm>
            <a:off x="785880" y="2305080"/>
            <a:ext cx="750096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785880" y="64296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Пикап-форум - Амплуа и Сти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1143000" y="571680"/>
            <a:ext cx="67867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Уже к 1,5 годам закладывается сценарий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 6- 7 годам эта программа уже полностью сформиров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 подростковом возрасте она лишь немного меня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Все решаемо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Все можно изменить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0c9f8"/>
                </a:solidFill>
                <a:latin typeface="Times New Roman"/>
              </a:rPr>
              <a:t>Все в Ваших руках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Рисунок 5" descr="http://images4.alphacoders.com/288/thumbbig-288658.jpg"/>
          <p:cNvPicPr/>
          <p:nvPr/>
        </p:nvPicPr>
        <p:blipFill>
          <a:blip r:embed="rId1"/>
          <a:stretch/>
        </p:blipFill>
        <p:spPr>
          <a:xfrm>
            <a:off x="4848120" y="4357800"/>
            <a:ext cx="4295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0 &quot;нельзя&quot; в воспитании ребёнка"/>
          <p:cNvPicPr/>
          <p:nvPr/>
        </p:nvPicPr>
        <p:blipFill>
          <a:blip r:embed="rId1"/>
          <a:stretch/>
        </p:blipFill>
        <p:spPr>
          <a:xfrm>
            <a:off x="0" y="3643200"/>
            <a:ext cx="3240000" cy="3214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714240" y="42876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«Токсичное»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граммирование реб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14200" y="1500120"/>
            <a:ext cx="85010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оксичность- это вред, деструктивные програм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лишняя кри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 претенз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тим ребенка не ради него, а ради себ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http://img1.liveinternet.ru/images/attach/c/8/104/677/104677315_e3126bf063bee1040cb5624bebbb9c33.jpg"/>
          <p:cNvPicPr/>
          <p:nvPr/>
        </p:nvPicPr>
        <p:blipFill>
          <a:blip r:embed="rId2"/>
          <a:stretch/>
        </p:blipFill>
        <p:spPr>
          <a:xfrm>
            <a:off x="6108840" y="3809880"/>
            <a:ext cx="3035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4"/>
          <p:cNvSpPr/>
          <p:nvPr/>
        </p:nvSpPr>
        <p:spPr>
          <a:xfrm>
            <a:off x="0" y="71424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ринимающ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0" y="385776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ритикующ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1643040" y="78588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внимате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7"/>
          <p:cNvSpPr/>
          <p:nvPr/>
        </p:nvSpPr>
        <p:spPr>
          <a:xfrm>
            <a:off x="1571760" y="400068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ез вним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18"/>
          <p:cNvSpPr/>
          <p:nvPr/>
        </p:nvSpPr>
        <p:spPr>
          <a:xfrm>
            <a:off x="3357720" y="85716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заботлив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9"/>
          <p:cNvSpPr/>
          <p:nvPr/>
        </p:nvSpPr>
        <p:spPr>
          <a:xfrm>
            <a:off x="3143160" y="3929040"/>
            <a:ext cx="164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ало дает заб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0"/>
          <p:cNvSpPr/>
          <p:nvPr/>
        </p:nvSpPr>
        <p:spPr>
          <a:xfrm>
            <a:off x="5143680" y="928800"/>
            <a:ext cx="164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Высокие требо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1"/>
          <p:cNvSpPr/>
          <p:nvPr/>
        </p:nvSpPr>
        <p:spPr>
          <a:xfrm>
            <a:off x="4643280" y="3857760"/>
            <a:ext cx="18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изкие требо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2"/>
          <p:cNvSpPr/>
          <p:nvPr/>
        </p:nvSpPr>
        <p:spPr>
          <a:xfrm>
            <a:off x="6572160" y="71424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Много врем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6572160" y="392904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ало врем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0" y="464328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Где вы сейчас ?  Где вам нужно меняться 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http://im1-tub-ru.yandex.net/i?id=4193566c59c0b720ede55ca915848607-89-144&amp;n=21"/>
          <p:cNvPicPr/>
          <p:nvPr/>
        </p:nvPicPr>
        <p:blipFill>
          <a:blip r:embed="rId1"/>
          <a:stretch/>
        </p:blipFill>
        <p:spPr>
          <a:xfrm>
            <a:off x="6858000" y="514368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106" name="Двойная стрелка вверх/вниз 27"/>
          <p:cNvSpPr/>
          <p:nvPr/>
        </p:nvSpPr>
        <p:spPr>
          <a:xfrm>
            <a:off x="714240" y="1000080"/>
            <a:ext cx="285840" cy="2857680"/>
          </a:xfrm>
          <a:prstGeom prst="upDownArrow">
            <a:avLst>
              <a:gd name="adj1" fmla="val 50000"/>
              <a:gd name="adj2" fmla="val 4998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Двойная стрелка вверх/вниз 28"/>
          <p:cNvSpPr/>
          <p:nvPr/>
        </p:nvSpPr>
        <p:spPr>
          <a:xfrm>
            <a:off x="2500200" y="1071720"/>
            <a:ext cx="285840" cy="2928960"/>
          </a:xfrm>
          <a:prstGeom prst="upDownArrow">
            <a:avLst>
              <a:gd name="adj1" fmla="val 50000"/>
              <a:gd name="adj2" fmla="val 5000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Двойная стрелка вверх/вниз 29"/>
          <p:cNvSpPr/>
          <p:nvPr/>
        </p:nvSpPr>
        <p:spPr>
          <a:xfrm>
            <a:off x="4000680" y="1143000"/>
            <a:ext cx="285480" cy="2786040"/>
          </a:xfrm>
          <a:prstGeom prst="upDownArrow">
            <a:avLst>
              <a:gd name="adj1" fmla="val 50000"/>
              <a:gd name="adj2" fmla="val 5006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Двойная стрелка вверх/вниз 30"/>
          <p:cNvSpPr/>
          <p:nvPr/>
        </p:nvSpPr>
        <p:spPr>
          <a:xfrm>
            <a:off x="5715000" y="1500120"/>
            <a:ext cx="285840" cy="2571840"/>
          </a:xfrm>
          <a:prstGeom prst="upDown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Двойная стрелка вверх/вниз 31"/>
          <p:cNvSpPr/>
          <p:nvPr/>
        </p:nvSpPr>
        <p:spPr>
          <a:xfrm>
            <a:off x="7143840" y="1071720"/>
            <a:ext cx="285840" cy="2857320"/>
          </a:xfrm>
          <a:prstGeom prst="up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5241960"/>
            <a:ext cx="2585880" cy="1616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3643200" y="5429160"/>
            <a:ext cx="20098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714240" y="285840"/>
            <a:ext cx="707256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Родительские послания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«Не живи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Уйди с глаз долой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колько ты можешь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Ты не меняешьс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Мне надоел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Не живи для себя, а живи для меня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-Ты мне должен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Родителям - Детская психология и тесты - Дайте ребенку право на ошибку"/>
          <p:cNvPicPr/>
          <p:nvPr/>
        </p:nvPicPr>
        <p:blipFill>
          <a:blip r:embed="rId1"/>
          <a:stretch/>
        </p:blipFill>
        <p:spPr>
          <a:xfrm>
            <a:off x="5572080" y="4110120"/>
            <a:ext cx="3571920" cy="2679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Как правильно наказывать ребенка"/>
          <p:cNvPicPr/>
          <p:nvPr/>
        </p:nvPicPr>
        <p:blipFill>
          <a:blip r:embed="rId2"/>
          <a:stretch/>
        </p:blipFill>
        <p:spPr>
          <a:xfrm>
            <a:off x="0" y="4394160"/>
            <a:ext cx="32860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1214280" y="428760"/>
            <a:ext cx="67154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« Не чувствуй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е рев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чего боишься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е дрож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будь мужчиной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Чувства не нужны, не важны- это плох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DELFI foto Метка ребенок"/>
          <p:cNvPicPr/>
          <p:nvPr/>
        </p:nvPicPr>
        <p:blipFill>
          <a:blip r:embed="rId1"/>
          <a:stretch/>
        </p:blipFill>
        <p:spPr>
          <a:xfrm>
            <a:off x="6215040" y="0"/>
            <a:ext cx="2928960" cy="2336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Мир детства Женский Журнал - Part 41"/>
          <p:cNvPicPr/>
          <p:nvPr/>
        </p:nvPicPr>
        <p:blipFill>
          <a:blip r:embed="rId2"/>
          <a:stretch/>
        </p:blipFill>
        <p:spPr>
          <a:xfrm>
            <a:off x="4303800" y="3643200"/>
            <a:ext cx="4840200" cy="3214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img.dailymail.co.uk/i/pix/2007/08_01/p46telloffkids_468x460.jpg"/>
          <p:cNvPicPr/>
          <p:nvPr/>
        </p:nvPicPr>
        <p:blipFill>
          <a:blip r:embed="rId3"/>
          <a:stretch/>
        </p:blipFill>
        <p:spPr>
          <a:xfrm>
            <a:off x="0" y="3338640"/>
            <a:ext cx="342900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143000" y="357120"/>
            <a:ext cx="6715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«Не думай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е умничай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е думай только о себ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Украинцы пытаются сделать из своих детей гениев Новости FaceNews"/>
          <p:cNvPicPr/>
          <p:nvPr/>
        </p:nvPicPr>
        <p:blipFill>
          <a:blip r:embed="rId1"/>
          <a:stretch/>
        </p:blipFill>
        <p:spPr>
          <a:xfrm>
            <a:off x="1214280" y="2198520"/>
            <a:ext cx="66438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1000080" y="500040"/>
            <a:ext cx="7500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Доверяй только нам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ивязываем только к себе ( тревожный, пугливы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PhotoCol.net &quot; детские фото. Фото, фотографии, обои, картинки бесплатно. Фотки коллекция. Качать и смотреть бесплатно."/>
          <p:cNvPicPr/>
          <p:nvPr/>
        </p:nvPicPr>
        <p:blipFill>
          <a:blip r:embed="rId1"/>
          <a:stretch/>
        </p:blipFill>
        <p:spPr>
          <a:xfrm>
            <a:off x="1500120" y="2214720"/>
            <a:ext cx="581040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1:53:40Z</dcterms:created>
  <dc:creator>Admin</dc:creator>
  <dc:description/>
  <dc:language>en-US</dc:language>
  <cp:lastModifiedBy>Admin</cp:lastModifiedBy>
  <dcterms:modified xsi:type="dcterms:W3CDTF">2017-01-10T18:46:55Z</dcterms:modified>
  <cp:revision>80</cp:revision>
  <dc:subject/>
  <dc:title>Слайд 1</dc:title>
</cp:coreProperties>
</file>