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1.jpeg" ContentType="image/jpeg"/>
  <Override PartName="/ppt/media/chimes.wav" ContentType="audio/x-wav"/>
  <Override PartName="/ppt/media/image1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6.jpeg" ContentType="image/jpeg"/>
  <Override PartName="/ppt/media/image19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3.jpeg" ContentType="image/jpeg"/>
  <Override PartName="/ppt/media/image10.png" ContentType="image/png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DA1-301A-472C-8F3F-C36BEDFC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B455-7CDE-4B2D-9310-55E1BC2E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2DB-C94D-454D-9F3F-7165D645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EEC8-534F-427C-9143-A807195D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1A5B-85AC-483C-AA21-3DFEAB902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A9C2-A271-4DE3-A772-7E99B295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F9E6-CDC0-4B0E-BCCA-2497858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E9E-359D-4B2B-8970-EA33D991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DC11-3D4D-4EFC-A515-52E61DB7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93EA-06E4-4B9F-BE6C-B1A8EEA9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4141-91C7-4DA3-9ABC-96E746A0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0F87-6039-44DB-837D-8E5A8A3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4B21-1F61-4588-96EB-2C9288F6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1A92-469F-4DAF-86FE-F091745B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6F68-B851-4790-AD1B-29307647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BD46-21D5-438B-B95C-B448C5F9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F507-200B-4D84-8F0E-A7F6F3FA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7C02-38F8-4F5A-91DD-0129081B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2351-5658-4F51-894F-B06E005B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E19-D6F2-4809-83DA-CD9EA664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026A-DB89-4563-B221-ADFDFEF0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5D0-B49E-44CA-8367-DC2F77AF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FF4-ABF4-45E0-A151-32F75F98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958-91F8-49DC-B19A-4A2D5058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3F85-B9CE-473A-9F0B-458ED4E0E005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AEEA-787D-4E04-A25C-1A033EDCD73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585756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КОУ ПЗСОШ №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- психолог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скина Е.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428760" y="428760"/>
            <a:ext cx="771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Times New Roman"/>
              </a:rPr>
              <a:t>« Роль родителей в воспитании ребенка. 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8" descr="acecha_img2"/>
          <p:cNvPicPr/>
          <p:nvPr/>
        </p:nvPicPr>
        <p:blipFill>
          <a:blip r:embed="rId1"/>
          <a:stretch/>
        </p:blipFill>
        <p:spPr>
          <a:xfrm>
            <a:off x="5572080" y="3143160"/>
            <a:ext cx="3311640" cy="22082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5" descr="http://images4.alphacoders.com/288/thumbbig-288658.jpg"/>
          <p:cNvPicPr/>
          <p:nvPr/>
        </p:nvPicPr>
        <p:blipFill>
          <a:blip r:embed="rId2"/>
          <a:stretch/>
        </p:blipFill>
        <p:spPr>
          <a:xfrm>
            <a:off x="7058160" y="0"/>
            <a:ext cx="2085840" cy="1214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2286000"/>
            <a:ext cx="5286240" cy="3514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"/>
          <p:cNvSpPr/>
          <p:nvPr/>
        </p:nvSpPr>
        <p:spPr>
          <a:xfrm>
            <a:off x="285840" y="428760"/>
            <a:ext cx="80722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Будь взрослым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будь ребенк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ы как маленьки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нижена самооценка, сложности в отношени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Сусанин / Двухлетний мальчик едва не сгорел в автомобиле родителей в Башкирии"/>
          <p:cNvPicPr/>
          <p:nvPr/>
        </p:nvPicPr>
        <p:blipFill>
          <a:blip r:embed="rId1"/>
          <a:stretch/>
        </p:blipFill>
        <p:spPr>
          <a:xfrm>
            <a:off x="2143080" y="3214800"/>
            <a:ext cx="4429080" cy="3314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МБДОУ города Костромы &quot;Детский сад 27&quot; - РОДИТЕЛЬСКИЙ УГОЛОК"/>
          <p:cNvPicPr/>
          <p:nvPr/>
        </p:nvPicPr>
        <p:blipFill>
          <a:blip r:embed="rId2"/>
          <a:stretch/>
        </p:blipFill>
        <p:spPr>
          <a:xfrm>
            <a:off x="6459480" y="0"/>
            <a:ext cx="2684520" cy="20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857160" y="357120"/>
            <a:ext cx="7429680" cy="33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Будь маленьким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слаждайся детством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вся жизнь вперед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ы еще успеешь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етство лучшая пора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Дети становятся инфантильными, несамостоятельными, не могут устроить свою личную жиз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2" descr="Застенчивые дети: как придать уверенности ребенку - Статьи - Дети 3-7 лет - Дети Mail.Ru"/>
          <p:cNvPicPr/>
          <p:nvPr/>
        </p:nvPicPr>
        <p:blipFill>
          <a:blip r:embed="rId1"/>
          <a:stretch/>
        </p:blipFill>
        <p:spPr>
          <a:xfrm>
            <a:off x="1857240" y="3867120"/>
            <a:ext cx="4786560" cy="2990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В московских детских садах предельный размер родительской платы не изменится Реальная школа"/>
          <p:cNvPicPr/>
          <p:nvPr/>
        </p:nvPicPr>
        <p:blipFill>
          <a:blip r:embed="rId2"/>
          <a:stretch/>
        </p:blipFill>
        <p:spPr>
          <a:xfrm>
            <a:off x="6442200" y="0"/>
            <a:ext cx="27018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Rectangle 2" descr=""/>
          <p:cNvPicPr/>
          <p:nvPr/>
        </p:nvPicPr>
        <p:blipFill>
          <a:blip r:embed="rId1"/>
          <a:stretch/>
        </p:blipFill>
        <p:spPr>
          <a:xfrm>
            <a:off x="633240" y="281160"/>
            <a:ext cx="7255080" cy="272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http://www.psihologion.ru/upload/images/blog/samostoyatelnyy.jpg"/>
          <p:cNvPicPr/>
          <p:nvPr/>
        </p:nvPicPr>
        <p:blipFill>
          <a:blip r:embed="rId2"/>
          <a:stretch/>
        </p:blipFill>
        <p:spPr>
          <a:xfrm>
            <a:off x="428760" y="1508040"/>
            <a:ext cx="8032680" cy="47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500040" y="714240"/>
          <a:ext cx="7929720" cy="5762880"/>
        </p:xfrm>
        <a:graphic>
          <a:graphicData uri="http://schemas.openxmlformats.org/drawingml/2006/table">
            <a:tbl>
              <a:tblPr/>
              <a:tblGrid>
                <a:gridCol w="3963960"/>
                <a:gridCol w="3965760"/>
              </a:tblGrid>
              <a:tr h="586080"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 воспитания, вызывающие у ребё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ительные эмо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ицательные эмо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ffcc"/>
                    </a:solidFill>
                  </a:tcPr>
                </a:tc>
              </a:tr>
              <a:tr h="515880">
                <a:tc gridSpan="2"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колько раз Вы сегодня ребён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520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хвали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поощря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добря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целов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обним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ласк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импатизиров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сопережив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улыбались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восхищались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лали приятные сюрпризы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делали подарки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екали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давля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ниж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виня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ужд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рг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дёргива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ори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тали нотаци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ишали чего – то необходимого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лёпали, пороли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вили в уго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1"/>
          <p:cNvSpPr/>
          <p:nvPr/>
        </p:nvSpPr>
        <p:spPr>
          <a:xfrm>
            <a:off x="0" y="-1033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Шкала общения родителей с ребён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571680" y="642960"/>
            <a:ext cx="72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«Нет ничего невозможного, когда рядом тот, кто в тебя верит.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" descr="http://pazitiff.info/uploads/posts/2011-05/thumbs/1305824370_motivator-17693.jpg"/>
          <p:cNvPicPr/>
          <p:nvPr/>
        </p:nvPicPr>
        <p:blipFill>
          <a:blip r:embed="rId1"/>
          <a:stretch/>
        </p:blipFill>
        <p:spPr>
          <a:xfrm>
            <a:off x="2357280" y="1785960"/>
            <a:ext cx="36529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3"/>
          <p:cNvSpPr/>
          <p:nvPr/>
        </p:nvSpPr>
        <p:spPr>
          <a:xfrm>
            <a:off x="714240" y="500040"/>
            <a:ext cx="657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</a:rPr>
              <a:t>Правила для род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ние личности ребенка и его неприкосновен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адекватной самооценки. </a:t>
            </a:r>
            <a:r>
              <a:rPr b="0" lang="ru-RU" sz="1800" spc="-1" strike="noStrike">
                <a:solidFill>
                  <a:srgbClr val="2308c8"/>
                </a:solidFill>
                <a:latin typeface="Times New Roman"/>
                <a:ea typeface="Times New Roman"/>
              </a:rPr>
              <a:t>(человек с низкой самооценкой постоянно зависит от других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щать к реальным делам сем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вать силу во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ь планиро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общать к тру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учить общаться с другими людь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http://img1.liveinternet.ru/images/attach/c/8/104/677/104677315_e3126bf063bee1040cb5624bebbb9c33.jpg"/>
          <p:cNvPicPr/>
          <p:nvPr/>
        </p:nvPicPr>
        <p:blipFill>
          <a:blip r:embed="rId1"/>
          <a:stretch/>
        </p:blipFill>
        <p:spPr>
          <a:xfrm>
            <a:off x="2536920" y="3500280"/>
            <a:ext cx="3035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0" y="375120"/>
            <a:ext cx="7805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Что можно сделать для воспитания учебной самостоятельност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1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нимайте с себя заботу и ответственность за учебу и личные дела Вашего ребенка и передавайте их ем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П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могайте ему ровно настолько, насколько он в этом действительно нуждается, и ни в коем случае не делайте за ребенка то, что он может выполнить с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3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еритесь мужества и позвольте своему чаду встретиться с негативными последствиями несделанных домашних заданий, чтобы он научился быть самостоятель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b0094"/>
                </a:solidFill>
                <a:latin typeface="Arial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мните: если ребенок самостоятелен, то он самостоятелен во всём, а не только за письменным стол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3" descr="http://goon.ru/news/uploads/posts/2013-09/1378224205_d0a5d0bed187d183_d0bcd0bdd0bed0b3d0be_d0b7d0bdd0b0d182d18c.jpg"/>
          <p:cNvPicPr/>
          <p:nvPr/>
        </p:nvPicPr>
        <p:blipFill>
          <a:blip r:embed="rId1"/>
          <a:stretch/>
        </p:blipFill>
        <p:spPr>
          <a:xfrm>
            <a:off x="2286000" y="3857760"/>
            <a:ext cx="31431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3"/>
          <p:cNvSpPr/>
          <p:nvPr/>
        </p:nvSpPr>
        <p:spPr>
          <a:xfrm>
            <a:off x="714240" y="500040"/>
            <a:ext cx="65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«Не важно сколь человек подня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а важно как он при этом напрягс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http://kotygoroshko.com.ua/_pu/0/19118283.jpg"/>
          <p:cNvPicPr/>
          <p:nvPr/>
        </p:nvPicPr>
        <p:blipFill>
          <a:blip r:embed="rId1"/>
          <a:stretch/>
        </p:blipFill>
        <p:spPr>
          <a:xfrm>
            <a:off x="785880" y="1928880"/>
            <a:ext cx="609588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0" y="29016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Дети 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это люди, данные нам на врем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и от нас зависит их вера в себ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и любовь к миру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…»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" descr="http://clip-arts.ru/data/media/86/children-0402-chld-0402.jpg"/>
          <p:cNvPicPr/>
          <p:nvPr/>
        </p:nvPicPr>
        <p:blipFill>
          <a:blip r:embed="rId1"/>
          <a:stretch/>
        </p:blipFill>
        <p:spPr>
          <a:xfrm>
            <a:off x="1000080" y="1714680"/>
            <a:ext cx="60958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2" descr="http://img0.liveinternet.ru/images/attach/c/1/63/915/63915484_63071966_Bezuymyannuyy.jpg"/>
          <p:cNvPicPr/>
          <p:nvPr/>
        </p:nvPicPr>
        <p:blipFill>
          <a:blip r:embed="rId1"/>
          <a:stretch/>
        </p:blipFill>
        <p:spPr>
          <a:xfrm>
            <a:off x="785880" y="2305080"/>
            <a:ext cx="750096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785880" y="64296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Пикап-форум - Амплуа и Сти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143000" y="571680"/>
            <a:ext cx="67867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же к 1,5 годам закладывается сценарий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К 6- 7 годам эта программа уже полностью сформиров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В подростковом возрасте она лишь немного меня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Все решаемо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Все можно изменить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0c9f8"/>
                </a:solidFill>
                <a:latin typeface="Times New Roman"/>
              </a:rPr>
              <a:t>Все в Ваших руках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Рисунок 5" descr="http://images4.alphacoders.com/288/thumbbig-288658.jpg"/>
          <p:cNvPicPr/>
          <p:nvPr/>
        </p:nvPicPr>
        <p:blipFill>
          <a:blip r:embed="rId1"/>
          <a:stretch/>
        </p:blipFill>
        <p:spPr>
          <a:xfrm>
            <a:off x="4848120" y="4357800"/>
            <a:ext cx="42958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0 &quot;нельзя&quot; в воспитании ребёнка"/>
          <p:cNvPicPr/>
          <p:nvPr/>
        </p:nvPicPr>
        <p:blipFill>
          <a:blip r:embed="rId1"/>
          <a:stretch/>
        </p:blipFill>
        <p:spPr>
          <a:xfrm>
            <a:off x="0" y="3643200"/>
            <a:ext cx="3240000" cy="3214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714240" y="42876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«Токсичное»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граммирование ребен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14200" y="1500120"/>
            <a:ext cx="85010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Токсичность- это вред, деструктивные програм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лишняя кри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претенз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тим ребенка не ради него, а ради себ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2" descr="http://img1.liveinternet.ru/images/attach/c/8/104/677/104677315_e3126bf063bee1040cb5624bebbb9c33.jpg"/>
          <p:cNvPicPr/>
          <p:nvPr/>
        </p:nvPicPr>
        <p:blipFill>
          <a:blip r:embed="rId2"/>
          <a:stretch/>
        </p:blipFill>
        <p:spPr>
          <a:xfrm>
            <a:off x="6108840" y="3809880"/>
            <a:ext cx="30351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4"/>
          <p:cNvSpPr/>
          <p:nvPr/>
        </p:nvSpPr>
        <p:spPr>
          <a:xfrm>
            <a:off x="0" y="714240"/>
            <a:ext cx="15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инимающ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0" y="38577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ритикующ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1643040" y="7858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нимате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7"/>
          <p:cNvSpPr/>
          <p:nvPr/>
        </p:nvSpPr>
        <p:spPr>
          <a:xfrm>
            <a:off x="1571760" y="40006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ез вним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18"/>
          <p:cNvSpPr/>
          <p:nvPr/>
        </p:nvSpPr>
        <p:spPr>
          <a:xfrm>
            <a:off x="3357720" y="857160"/>
            <a:ext cx="142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заботли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9"/>
          <p:cNvSpPr/>
          <p:nvPr/>
        </p:nvSpPr>
        <p:spPr>
          <a:xfrm>
            <a:off x="3143160" y="392904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ло дает заб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20"/>
          <p:cNvSpPr/>
          <p:nvPr/>
        </p:nvSpPr>
        <p:spPr>
          <a:xfrm>
            <a:off x="5143680" y="928800"/>
            <a:ext cx="164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Высокие треб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21"/>
          <p:cNvSpPr/>
          <p:nvPr/>
        </p:nvSpPr>
        <p:spPr>
          <a:xfrm>
            <a:off x="4643280" y="3857760"/>
            <a:ext cx="18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Низкие треб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22"/>
          <p:cNvSpPr/>
          <p:nvPr/>
        </p:nvSpPr>
        <p:spPr>
          <a:xfrm>
            <a:off x="6572160" y="71424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Много 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Box 23"/>
          <p:cNvSpPr/>
          <p:nvPr/>
        </p:nvSpPr>
        <p:spPr>
          <a:xfrm>
            <a:off x="6572160" y="3929040"/>
            <a:ext cx="235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Мало 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24"/>
          <p:cNvSpPr/>
          <p:nvPr/>
        </p:nvSpPr>
        <p:spPr>
          <a:xfrm>
            <a:off x="0" y="464328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Где вы сейчас ?  Где вам нужно меняться 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http://im1-tub-ru.yandex.net/i?id=4193566c59c0b720ede55ca915848607-89-144&amp;n=21"/>
          <p:cNvPicPr/>
          <p:nvPr/>
        </p:nvPicPr>
        <p:blipFill>
          <a:blip r:embed="rId1"/>
          <a:stretch/>
        </p:blipFill>
        <p:spPr>
          <a:xfrm>
            <a:off x="6858000" y="514368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06" name="Двойная стрелка вверх/вниз 27"/>
          <p:cNvSpPr/>
          <p:nvPr/>
        </p:nvSpPr>
        <p:spPr>
          <a:xfrm>
            <a:off x="714240" y="1000080"/>
            <a:ext cx="285840" cy="2857680"/>
          </a:xfrm>
          <a:prstGeom prst="upDown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Двойная стрелка вверх/вниз 28"/>
          <p:cNvSpPr/>
          <p:nvPr/>
        </p:nvSpPr>
        <p:spPr>
          <a:xfrm>
            <a:off x="2500200" y="1071720"/>
            <a:ext cx="285840" cy="2928960"/>
          </a:xfrm>
          <a:prstGeom prst="upDownArrow">
            <a:avLst>
              <a:gd name="adj1" fmla="val 50000"/>
              <a:gd name="adj2" fmla="val 5000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Двойная стрелка вверх/вниз 29"/>
          <p:cNvSpPr/>
          <p:nvPr/>
        </p:nvSpPr>
        <p:spPr>
          <a:xfrm>
            <a:off x="4000680" y="1143000"/>
            <a:ext cx="285480" cy="2786040"/>
          </a:xfrm>
          <a:prstGeom prst="upDownArrow">
            <a:avLst>
              <a:gd name="adj1" fmla="val 50000"/>
              <a:gd name="adj2" fmla="val 5006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Двойная стрелка вверх/вниз 30"/>
          <p:cNvSpPr/>
          <p:nvPr/>
        </p:nvSpPr>
        <p:spPr>
          <a:xfrm>
            <a:off x="5715000" y="1500120"/>
            <a:ext cx="285840" cy="2571840"/>
          </a:xfrm>
          <a:prstGeom prst="upDownArrow">
            <a:avLst>
              <a:gd name="adj1" fmla="val 50000"/>
              <a:gd name="adj2" fmla="val 4998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Двойная стрелка вверх/вниз 31"/>
          <p:cNvSpPr/>
          <p:nvPr/>
        </p:nvSpPr>
        <p:spPr>
          <a:xfrm>
            <a:off x="7143840" y="1071720"/>
            <a:ext cx="285840" cy="2857320"/>
          </a:xfrm>
          <a:prstGeom prst="upDownArrow">
            <a:avLst>
              <a:gd name="adj1" fmla="val 50000"/>
              <a:gd name="adj2" fmla="val 4998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5241960"/>
            <a:ext cx="2585880" cy="1616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3643200" y="5429160"/>
            <a:ext cx="200988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714240" y="285840"/>
            <a:ext cx="707256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Родительские послания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Не живи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йди с глаз долой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Сколько ты можеш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Ты не меняешь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не надоел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Не живи для себя, а живи для меня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-Ты мне должен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Родителям - Детская психология и тесты - Дайте ребенку право на ошибку"/>
          <p:cNvPicPr/>
          <p:nvPr/>
        </p:nvPicPr>
        <p:blipFill>
          <a:blip r:embed="rId1"/>
          <a:stretch/>
        </p:blipFill>
        <p:spPr>
          <a:xfrm>
            <a:off x="5572080" y="4110120"/>
            <a:ext cx="3571920" cy="2679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Как правильно наказывать ребенка"/>
          <p:cNvPicPr/>
          <p:nvPr/>
        </p:nvPicPr>
        <p:blipFill>
          <a:blip r:embed="rId2"/>
          <a:stretch/>
        </p:blipFill>
        <p:spPr>
          <a:xfrm>
            <a:off x="0" y="4394160"/>
            <a:ext cx="328608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3"/>
          <p:cNvSpPr/>
          <p:nvPr/>
        </p:nvSpPr>
        <p:spPr>
          <a:xfrm>
            <a:off x="1214280" y="428760"/>
            <a:ext cx="67154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 Не чувствуй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рев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его боишься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е дрожи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будь мужчиной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Чувства не нужны, не важны- это плохо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DELFI foto Метка ребенок"/>
          <p:cNvPicPr/>
          <p:nvPr/>
        </p:nvPicPr>
        <p:blipFill>
          <a:blip r:embed="rId1"/>
          <a:stretch/>
        </p:blipFill>
        <p:spPr>
          <a:xfrm>
            <a:off x="6215040" y="0"/>
            <a:ext cx="2928960" cy="2336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Мир детства Женский Журнал - Part 41"/>
          <p:cNvPicPr/>
          <p:nvPr/>
        </p:nvPicPr>
        <p:blipFill>
          <a:blip r:embed="rId2"/>
          <a:stretch/>
        </p:blipFill>
        <p:spPr>
          <a:xfrm>
            <a:off x="4303800" y="3643200"/>
            <a:ext cx="4840200" cy="32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img.dailymail.co.uk/i/pix/2007/08_01/p46telloffkids_468x460.jpg"/>
          <p:cNvPicPr/>
          <p:nvPr/>
        </p:nvPicPr>
        <p:blipFill>
          <a:blip r:embed="rId3"/>
          <a:stretch/>
        </p:blipFill>
        <p:spPr>
          <a:xfrm>
            <a:off x="0" y="3338640"/>
            <a:ext cx="34290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143000" y="357120"/>
            <a:ext cx="6715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Не думай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 умничай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 думай только о себе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2" descr="Украинцы пытаются сделать из своих детей гениев Новости FaceNews"/>
          <p:cNvPicPr/>
          <p:nvPr/>
        </p:nvPicPr>
        <p:blipFill>
          <a:blip r:embed="rId1"/>
          <a:stretch/>
        </p:blipFill>
        <p:spPr>
          <a:xfrm>
            <a:off x="1214280" y="2198520"/>
            <a:ext cx="66438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1000080" y="500040"/>
            <a:ext cx="7500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«Доверяй только нам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вязываем только к себе ( тревожный, пугливы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PhotoCol.net &quot; детские фото. Фото, фотографии, обои, картинки бесплатно. Фотки коллекция. Качать и смотреть бесплатно."/>
          <p:cNvPicPr/>
          <p:nvPr/>
        </p:nvPicPr>
        <p:blipFill>
          <a:blip r:embed="rId1"/>
          <a:stretch/>
        </p:blipFill>
        <p:spPr>
          <a:xfrm>
            <a:off x="1500120" y="2214720"/>
            <a:ext cx="581040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21:53:40Z</dcterms:created>
  <dc:creator>Admin</dc:creator>
  <dc:description/>
  <dc:language>en-US</dc:language>
  <cp:lastModifiedBy>Admin</cp:lastModifiedBy>
  <dcterms:modified xsi:type="dcterms:W3CDTF">2017-01-10T18:46:55Z</dcterms:modified>
  <cp:revision>80</cp:revision>
  <dc:subject/>
  <dc:title>Слайд 1</dc:title>
</cp:coreProperties>
</file>