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C20EF-8327-4148-8075-E87AA8C5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D201-314E-4741-A270-91EE8EC6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2C0A5-54E7-400A-AAF7-9FDDB56A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8B60C-BEBF-4603-B4EB-C5EB1566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A483-F26A-4787-91CC-A716787E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AD0C-1628-42AB-8AC7-662F9E75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5F28-D9AA-4F28-A4B4-FB7D4BC6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FA00-F2F4-4762-8E97-14A14A64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8E28-BEA6-4A12-B372-550C2D0E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1DEB-0772-4268-BEB9-F258F11F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6E49-9934-4DE7-A9A6-CE751E11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5FCB1-B667-40FB-99A2-D8C14B08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5214-FF28-4DC2-AEE1-4350D3A6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FC23-8D56-4C86-B83E-F991A773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9BC9-8D3D-422A-8F0D-8D481940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4D35-5FEB-4275-86A8-0610DE9F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D239-DFD1-4B42-B3D7-14FD6F97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A9960-709F-4BDD-B6A8-9C3C0DAB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C8F1F-922B-4C51-805A-5427E299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A76A8-3878-4AA8-A455-3C509672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39B48-592A-40C6-821A-00223F41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29D03-3016-41E6-A2F8-90FAE402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FD21C-8332-45A9-8A4B-6CE33957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F9D7E-B107-45BD-8056-1898CAF1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D2196-D441-4F7E-933B-BB51F52E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ACB92-1268-4596-A593-8EF195D0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A15D5-CC77-46A8-9FFC-09AAA6A4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8FB9A-7E3F-442E-96AA-1D33A45F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BECDB-1698-4EE5-AEE5-E6ABB7A1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45DE0-F37A-4CA2-A113-464152BA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31A71-F0A7-4585-8EBA-E8FD1987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0CD58-53F2-4C09-8803-DE57ACA8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B8D8E-DD66-45B5-BFC5-CFF394DA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35E8B-EC87-4D85-853F-2F15B74A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02BE4-F14A-4EA9-97E2-B9DA0FDB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3FCDE-0E26-4642-A5B9-3725D406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51FE9-3C93-432A-861C-6EA9B703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D067F-4F56-45B5-A750-6CEFA7A8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04FBA-720C-4779-933D-54DBF820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17AA7-BB4C-4F16-8851-C760F59A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F6781-E04F-4E28-8ED8-26CF8C65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86EA4-C6BF-44EA-B460-4CC157394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1652A-FE47-4AFE-8AD8-9D548A31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14C76-15E0-4C33-ADD3-79C2D14E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FC558-5354-4492-95C8-9B8985C8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874E0-9871-48EF-B1AB-D6A4F301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0EE61-ED72-496E-B63D-1B38BD4A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F99D3-3D66-481B-9EF3-F5B20917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98E88-B46B-4E5B-BD69-C9E0B1CE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1639C-EE28-47F1-990B-3AB501D9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D8B73-51D0-4572-B5D0-D334F5D1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85ACF-7B4E-4961-9593-6B21B104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CE87C-45EB-4067-821A-07B6C233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BB5BE-55DE-47B7-AE58-3CE66757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48429-721B-4EC3-8679-AD482CA5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F0A6E-ABBA-42DA-A084-836AA580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3FBEE-30CE-4E96-BFF9-684DEB06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B2E4F-0155-48EE-900F-2C6481DB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E1BC3-7CD9-4C53-B6CA-7194A5FD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0FCE0-6529-4085-9ABA-5B63D2A7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ECAD2-8B14-41A2-8F83-5CBFA5F6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0BAFE-CC94-43BC-9B1C-A28B9EFA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DDF4C-014C-404B-8BE2-F1A7D227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C70DE-75F0-4672-B3A7-03D2DFB0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FB155-FBC3-44FE-9B9D-EA85AD43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19884-D1AD-4074-801B-160FEA65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82540-0337-48A9-BF81-053D7368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62FC8-B455-4FA8-BF2A-4CF17BEC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369F3-FDB3-4F28-AA57-0C5710815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4E18F-2134-4189-8B52-1EC01790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C92E8-50C5-43ED-A5DA-9D8C3819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5E740-417C-47E8-AEBB-0F31DF7B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541B7-CA40-46A1-B8F3-9EB07F29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96A08-AF83-4E4D-A1B3-9E8B872F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A3C1A-B54F-45D1-81F2-455CE200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67A07-A51E-488B-A65D-09C4C7E5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8F16E-52F8-4FF5-B0BF-B1C56683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CE915-18F1-48D3-9B3C-7FD52BC5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2A570-291D-4CC8-B849-0E1E1498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37D9E-E69A-4673-A0F9-E5B67B1E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AAC46-66D4-4D0D-9A49-C7D9EC51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30507-9A9B-4C63-B9B2-AAD4AB4B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8980E-54FE-4EB7-B87E-51B02D4E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EB46E-3723-41BC-9BC2-8827D44F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AC526-20E1-4B16-83FE-D5E66743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DC907-8563-4912-8FA8-424BE58E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61CB2-293A-44DC-A268-D113C00D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9EA04-5A9C-4897-B80D-CAA8E263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67013-B94D-41B0-A150-B19112FE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DE7AD-A3AE-46B9-BFD1-BEA1759E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80BB2-15D5-4B2B-AB80-A4C5DD09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4DFB9-ABB4-447E-A166-A005E801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8542B-FC7D-497B-85C2-AED98FA3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9573A-684F-4630-8042-582EA07A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4B77A-9900-49EE-A391-0138AA73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C887B-BC42-4386-8806-A93207A1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с двумя скругленными противолежащими углами 6"/>
          <p:cNvSpPr/>
          <p:nvPr/>
        </p:nvSpPr>
        <p:spPr>
          <a:xfrm>
            <a:off x="324000" y="260280"/>
            <a:ext cx="8424720" cy="6408720"/>
          </a:xfrm>
          <a:custGeom>
            <a:avLst/>
            <a:gdLst/>
            <a:ahLst/>
            <a:rect l="l" t="t" r="r" b="b"/>
            <a:pathLst>
              <a:path w="8424863" h="6408738">
                <a:moveTo>
                  <a:pt x="1068144" y="0"/>
                </a:moveTo>
                <a:lnTo>
                  <a:pt x="8424863" y="0"/>
                </a:lnTo>
                <a:lnTo>
                  <a:pt x="8424863" y="0"/>
                </a:lnTo>
                <a:lnTo>
                  <a:pt x="8424863" y="5340594"/>
                </a:lnTo>
                <a:cubicBezTo>
                  <a:pt x="8424863" y="5930514"/>
                  <a:pt x="7946639" y="6408738"/>
                  <a:pt x="7356719" y="6408738"/>
                </a:cubicBezTo>
                <a:lnTo>
                  <a:pt x="0" y="6408738"/>
                </a:lnTo>
                <a:lnTo>
                  <a:pt x="0" y="6408738"/>
                </a:lnTo>
                <a:lnTo>
                  <a:pt x="0" y="1068144"/>
                </a:lnTo>
                <a:cubicBezTo>
                  <a:pt x="0" y="478224"/>
                  <a:pt x="478224" y="0"/>
                  <a:pt x="1068144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2160">
            <a:solidFill>
              <a:srgbClr val="51d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D117-8A4D-40F3-BF67-C71EA82F88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2" descr="D:\Natalia\ЖОНКИНА ПИСАНИНА\для тренажеров\66326180_00.png"/>
          <p:cNvPicPr/>
          <p:nvPr/>
        </p:nvPicPr>
        <p:blipFill>
          <a:blip r:embed="rId4"/>
          <a:stretch/>
        </p:blipFill>
        <p:spPr>
          <a:xfrm rot="20739600">
            <a:off x="-161640" y="17640"/>
            <a:ext cx="2808360" cy="16617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539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</a:rPr>
              <a:t>Кулакова Н.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с двумя скругленными противолежащими углами 6"/>
          <p:cNvSpPr/>
          <p:nvPr/>
        </p:nvSpPr>
        <p:spPr>
          <a:xfrm>
            <a:off x="324000" y="260280"/>
            <a:ext cx="8424720" cy="6408720"/>
          </a:xfrm>
          <a:custGeom>
            <a:avLst/>
            <a:gdLst/>
            <a:ahLst/>
            <a:rect l="l" t="t" r="r" b="b"/>
            <a:pathLst>
              <a:path w="8424863" h="6408738">
                <a:moveTo>
                  <a:pt x="1068144" y="0"/>
                </a:moveTo>
                <a:lnTo>
                  <a:pt x="8424863" y="0"/>
                </a:lnTo>
                <a:lnTo>
                  <a:pt x="8424863" y="0"/>
                </a:lnTo>
                <a:lnTo>
                  <a:pt x="8424863" y="5340594"/>
                </a:lnTo>
                <a:cubicBezTo>
                  <a:pt x="8424863" y="5930514"/>
                  <a:pt x="7946639" y="6408738"/>
                  <a:pt x="7356719" y="6408738"/>
                </a:cubicBezTo>
                <a:lnTo>
                  <a:pt x="0" y="6408738"/>
                </a:lnTo>
                <a:lnTo>
                  <a:pt x="0" y="6408738"/>
                </a:lnTo>
                <a:lnTo>
                  <a:pt x="0" y="1068144"/>
                </a:lnTo>
                <a:cubicBezTo>
                  <a:pt x="0" y="478224"/>
                  <a:pt x="478224" y="0"/>
                  <a:pt x="1068144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2160">
            <a:solidFill>
              <a:srgbClr val="51d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" name="Picture 2" descr="D:\Natalia\ЖОНКИНА ПИСАНИНА\для тренажеров\66326180_00.png"/>
          <p:cNvPicPr/>
          <p:nvPr/>
        </p:nvPicPr>
        <p:blipFill>
          <a:blip r:embed="rId4"/>
          <a:stretch/>
        </p:blipFill>
        <p:spPr>
          <a:xfrm rot="20739600">
            <a:off x="-161640" y="17640"/>
            <a:ext cx="2808360" cy="1661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D:\Natalia\ЖОНКИНА ПИСАНИНА\для тренажеров\27daac2b504d.png"/>
          <p:cNvPicPr/>
          <p:nvPr/>
        </p:nvPicPr>
        <p:blipFill>
          <a:blip r:embed="rId5"/>
          <a:stretch/>
        </p:blipFill>
        <p:spPr>
          <a:xfrm>
            <a:off x="23760" y="3652920"/>
            <a:ext cx="5453280" cy="3440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D:\Natalia\ЖОНКИНА ПИСАНИНА\для тренажеров\27daac2b504d.png"/>
          <p:cNvPicPr/>
          <p:nvPr/>
        </p:nvPicPr>
        <p:blipFill>
          <a:blip r:embed="rId6"/>
          <a:stretch/>
        </p:blipFill>
        <p:spPr>
          <a:xfrm>
            <a:off x="4643280" y="3652920"/>
            <a:ext cx="4497480" cy="3440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3419280" y="616536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5"/>
          </p:nvPr>
        </p:nvSpPr>
        <p:spPr>
          <a:xfrm>
            <a:off x="826560" y="6021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Кулакова Н.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7CA1-4C85-4EA9-A5DE-AED0C84C46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с двумя скругленными противолежащими углами 6"/>
          <p:cNvSpPr/>
          <p:nvPr/>
        </p:nvSpPr>
        <p:spPr>
          <a:xfrm>
            <a:off x="324000" y="260280"/>
            <a:ext cx="8424720" cy="6408720"/>
          </a:xfrm>
          <a:custGeom>
            <a:avLst/>
            <a:gdLst/>
            <a:ahLst/>
            <a:rect l="l" t="t" r="r" b="b"/>
            <a:pathLst>
              <a:path w="8424863" h="6408738">
                <a:moveTo>
                  <a:pt x="1068144" y="0"/>
                </a:moveTo>
                <a:lnTo>
                  <a:pt x="8424863" y="0"/>
                </a:lnTo>
                <a:lnTo>
                  <a:pt x="8424863" y="0"/>
                </a:lnTo>
                <a:lnTo>
                  <a:pt x="8424863" y="5340594"/>
                </a:lnTo>
                <a:cubicBezTo>
                  <a:pt x="8424863" y="5930514"/>
                  <a:pt x="7946639" y="6408738"/>
                  <a:pt x="7356719" y="6408738"/>
                </a:cubicBezTo>
                <a:lnTo>
                  <a:pt x="0" y="6408738"/>
                </a:lnTo>
                <a:lnTo>
                  <a:pt x="0" y="6408738"/>
                </a:lnTo>
                <a:lnTo>
                  <a:pt x="0" y="1068144"/>
                </a:lnTo>
                <a:cubicBezTo>
                  <a:pt x="0" y="478224"/>
                  <a:pt x="478224" y="0"/>
                  <a:pt x="1068144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2160">
            <a:solidFill>
              <a:srgbClr val="51d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" name="Picture 2" descr="D:\Natalia\ЖОНКИНА ПИСАНИНА\для тренажеров\66326180_00.png"/>
          <p:cNvPicPr/>
          <p:nvPr/>
        </p:nvPicPr>
        <p:blipFill>
          <a:blip r:embed="rId4"/>
          <a:stretch/>
        </p:blipFill>
        <p:spPr>
          <a:xfrm rot="20739600">
            <a:off x="-161640" y="17640"/>
            <a:ext cx="2808360" cy="16617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9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185B-DDB0-4DCB-80C1-D9A28283CE7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с двумя скругленными противолежащими углами 6"/>
          <p:cNvSpPr/>
          <p:nvPr/>
        </p:nvSpPr>
        <p:spPr>
          <a:xfrm>
            <a:off x="324000" y="260280"/>
            <a:ext cx="8424720" cy="6408720"/>
          </a:xfrm>
          <a:custGeom>
            <a:avLst/>
            <a:gdLst/>
            <a:ahLst/>
            <a:rect l="l" t="t" r="r" b="b"/>
            <a:pathLst>
              <a:path w="8424863" h="6408738">
                <a:moveTo>
                  <a:pt x="1068144" y="0"/>
                </a:moveTo>
                <a:lnTo>
                  <a:pt x="8424863" y="0"/>
                </a:lnTo>
                <a:lnTo>
                  <a:pt x="8424863" y="0"/>
                </a:lnTo>
                <a:lnTo>
                  <a:pt x="8424863" y="5340594"/>
                </a:lnTo>
                <a:cubicBezTo>
                  <a:pt x="8424863" y="5930514"/>
                  <a:pt x="7946639" y="6408738"/>
                  <a:pt x="7356719" y="6408738"/>
                </a:cubicBezTo>
                <a:lnTo>
                  <a:pt x="0" y="6408738"/>
                </a:lnTo>
                <a:lnTo>
                  <a:pt x="0" y="6408738"/>
                </a:lnTo>
                <a:lnTo>
                  <a:pt x="0" y="1068144"/>
                </a:lnTo>
                <a:cubicBezTo>
                  <a:pt x="0" y="478224"/>
                  <a:pt x="478224" y="0"/>
                  <a:pt x="1068144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2160">
            <a:solidFill>
              <a:srgbClr val="51d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2" descr="D:\Natalia\ЖОНКИНА ПИСАНИНА\для тренажеров\66326180_00.png"/>
          <p:cNvPicPr/>
          <p:nvPr/>
        </p:nvPicPr>
        <p:blipFill>
          <a:blip r:embed="rId4"/>
          <a:stretch/>
        </p:blipFill>
        <p:spPr>
          <a:xfrm rot="20739600">
            <a:off x="-161640" y="17640"/>
            <a:ext cx="2808360" cy="16617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39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C2B8-D0ED-416A-908A-8C267D7077C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с двумя скругленными противолежащими углами 6"/>
          <p:cNvSpPr/>
          <p:nvPr/>
        </p:nvSpPr>
        <p:spPr>
          <a:xfrm>
            <a:off x="324000" y="260280"/>
            <a:ext cx="8424720" cy="6408720"/>
          </a:xfrm>
          <a:custGeom>
            <a:avLst/>
            <a:gdLst/>
            <a:ahLst/>
            <a:rect l="l" t="t" r="r" b="b"/>
            <a:pathLst>
              <a:path w="8424863" h="6408738">
                <a:moveTo>
                  <a:pt x="1068144" y="0"/>
                </a:moveTo>
                <a:lnTo>
                  <a:pt x="8424863" y="0"/>
                </a:lnTo>
                <a:lnTo>
                  <a:pt x="8424863" y="0"/>
                </a:lnTo>
                <a:lnTo>
                  <a:pt x="8424863" y="5340594"/>
                </a:lnTo>
                <a:cubicBezTo>
                  <a:pt x="8424863" y="5930514"/>
                  <a:pt x="7946639" y="6408738"/>
                  <a:pt x="7356719" y="6408738"/>
                </a:cubicBezTo>
                <a:lnTo>
                  <a:pt x="0" y="6408738"/>
                </a:lnTo>
                <a:lnTo>
                  <a:pt x="0" y="6408738"/>
                </a:lnTo>
                <a:lnTo>
                  <a:pt x="0" y="1068144"/>
                </a:lnTo>
                <a:cubicBezTo>
                  <a:pt x="0" y="478224"/>
                  <a:pt x="478224" y="0"/>
                  <a:pt x="1068144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2160">
            <a:solidFill>
              <a:srgbClr val="51d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5" name="Picture 2" descr="D:\Natalia\ЖОНКИНА ПИСАНИНА\для тренажеров\66326180_00.png"/>
          <p:cNvPicPr/>
          <p:nvPr/>
        </p:nvPicPr>
        <p:blipFill>
          <a:blip r:embed="rId4"/>
          <a:stretch/>
        </p:blipFill>
        <p:spPr>
          <a:xfrm rot="20739600">
            <a:off x="-161640" y="17640"/>
            <a:ext cx="2808360" cy="16617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539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6836-F6CF-4568-96DA-051A657CD3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с двумя скругленными противолежащими углами 6"/>
          <p:cNvSpPr/>
          <p:nvPr/>
        </p:nvSpPr>
        <p:spPr>
          <a:xfrm>
            <a:off x="324000" y="260280"/>
            <a:ext cx="8424720" cy="6408720"/>
          </a:xfrm>
          <a:custGeom>
            <a:avLst/>
            <a:gdLst/>
            <a:ahLst/>
            <a:rect l="l" t="t" r="r" b="b"/>
            <a:pathLst>
              <a:path w="8424863" h="6408738">
                <a:moveTo>
                  <a:pt x="1068144" y="0"/>
                </a:moveTo>
                <a:lnTo>
                  <a:pt x="8424863" y="0"/>
                </a:lnTo>
                <a:lnTo>
                  <a:pt x="8424863" y="0"/>
                </a:lnTo>
                <a:lnTo>
                  <a:pt x="8424863" y="5340594"/>
                </a:lnTo>
                <a:cubicBezTo>
                  <a:pt x="8424863" y="5930514"/>
                  <a:pt x="7946639" y="6408738"/>
                  <a:pt x="7356719" y="6408738"/>
                </a:cubicBezTo>
                <a:lnTo>
                  <a:pt x="0" y="6408738"/>
                </a:lnTo>
                <a:lnTo>
                  <a:pt x="0" y="6408738"/>
                </a:lnTo>
                <a:lnTo>
                  <a:pt x="0" y="1068144"/>
                </a:lnTo>
                <a:cubicBezTo>
                  <a:pt x="0" y="478224"/>
                  <a:pt x="478224" y="0"/>
                  <a:pt x="1068144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2160">
            <a:solidFill>
              <a:srgbClr val="51d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D:\Natalia\ЖОНКИНА ПИСАНИНА\для тренажеров\66326180_00.png"/>
          <p:cNvPicPr/>
          <p:nvPr/>
        </p:nvPicPr>
        <p:blipFill>
          <a:blip r:embed="rId4"/>
          <a:stretch/>
        </p:blipFill>
        <p:spPr>
          <a:xfrm rot="20739600">
            <a:off x="-161640" y="17640"/>
            <a:ext cx="2808360" cy="16617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539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2459-3747-439B-B35E-D9AC01BE65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с двумя скругленными противолежащими углами 6"/>
          <p:cNvSpPr/>
          <p:nvPr/>
        </p:nvSpPr>
        <p:spPr>
          <a:xfrm>
            <a:off x="324000" y="260280"/>
            <a:ext cx="8424720" cy="6408720"/>
          </a:xfrm>
          <a:custGeom>
            <a:avLst/>
            <a:gdLst/>
            <a:ahLst/>
            <a:rect l="l" t="t" r="r" b="b"/>
            <a:pathLst>
              <a:path w="8424863" h="6408738">
                <a:moveTo>
                  <a:pt x="1068144" y="0"/>
                </a:moveTo>
                <a:lnTo>
                  <a:pt x="8424863" y="0"/>
                </a:lnTo>
                <a:lnTo>
                  <a:pt x="8424863" y="0"/>
                </a:lnTo>
                <a:lnTo>
                  <a:pt x="8424863" y="5340594"/>
                </a:lnTo>
                <a:cubicBezTo>
                  <a:pt x="8424863" y="5930514"/>
                  <a:pt x="7946639" y="6408738"/>
                  <a:pt x="7356719" y="6408738"/>
                </a:cubicBezTo>
                <a:lnTo>
                  <a:pt x="0" y="6408738"/>
                </a:lnTo>
                <a:lnTo>
                  <a:pt x="0" y="6408738"/>
                </a:lnTo>
                <a:lnTo>
                  <a:pt x="0" y="1068144"/>
                </a:lnTo>
                <a:cubicBezTo>
                  <a:pt x="0" y="478224"/>
                  <a:pt x="478224" y="0"/>
                  <a:pt x="1068144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2160">
            <a:solidFill>
              <a:srgbClr val="51d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2" descr="D:\Natalia\ЖОНКИНА ПИСАНИНА\для тренажеров\66326180_00.png"/>
          <p:cNvPicPr/>
          <p:nvPr/>
        </p:nvPicPr>
        <p:blipFill>
          <a:blip r:embed="rId4"/>
          <a:stretch/>
        </p:blipFill>
        <p:spPr>
          <a:xfrm rot="20739600">
            <a:off x="-161640" y="17640"/>
            <a:ext cx="2808360" cy="16617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39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B945-D939-421F-8084-AD91E037C2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с двумя скругленными противолежащими углами 6"/>
          <p:cNvSpPr/>
          <p:nvPr/>
        </p:nvSpPr>
        <p:spPr>
          <a:xfrm>
            <a:off x="324000" y="260280"/>
            <a:ext cx="8424720" cy="6408720"/>
          </a:xfrm>
          <a:custGeom>
            <a:avLst/>
            <a:gdLst/>
            <a:ahLst/>
            <a:rect l="l" t="t" r="r" b="b"/>
            <a:pathLst>
              <a:path w="8424863" h="6408738">
                <a:moveTo>
                  <a:pt x="1068144" y="0"/>
                </a:moveTo>
                <a:lnTo>
                  <a:pt x="8424863" y="0"/>
                </a:lnTo>
                <a:lnTo>
                  <a:pt x="8424863" y="0"/>
                </a:lnTo>
                <a:lnTo>
                  <a:pt x="8424863" y="5340594"/>
                </a:lnTo>
                <a:cubicBezTo>
                  <a:pt x="8424863" y="5930514"/>
                  <a:pt x="7946639" y="6408738"/>
                  <a:pt x="7356719" y="6408738"/>
                </a:cubicBezTo>
                <a:lnTo>
                  <a:pt x="0" y="6408738"/>
                </a:lnTo>
                <a:lnTo>
                  <a:pt x="0" y="6408738"/>
                </a:lnTo>
                <a:lnTo>
                  <a:pt x="0" y="1068144"/>
                </a:lnTo>
                <a:cubicBezTo>
                  <a:pt x="0" y="478224"/>
                  <a:pt x="478224" y="0"/>
                  <a:pt x="1068144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2160">
            <a:solidFill>
              <a:srgbClr val="51d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4" name="Picture 2" descr="D:\Natalia\ЖОНКИНА ПИСАНИНА\для тренажеров\66326180_00.png"/>
          <p:cNvPicPr/>
          <p:nvPr/>
        </p:nvPicPr>
        <p:blipFill>
          <a:blip r:embed="rId4"/>
          <a:stretch/>
        </p:blipFill>
        <p:spPr>
          <a:xfrm rot="20739600">
            <a:off x="-161640" y="17640"/>
            <a:ext cx="2808360" cy="16617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539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8D32-850D-4DC4-9299-112A18D4B48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2626920" y="4005360"/>
            <a:ext cx="4321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Руководители проект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Пирожкова Л.Е. и Репникова А.Ф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Участник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Зоренко Таня, Зырянова Ольга, Панасенко Иван, Зырянова Юл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7" name="Прямоугольник 3" descr=""/>
          <p:cNvPicPr/>
          <p:nvPr/>
        </p:nvPicPr>
        <p:blipFill>
          <a:blip r:embed="rId1"/>
          <a:stretch/>
        </p:blipFill>
        <p:spPr>
          <a:xfrm>
            <a:off x="933480" y="549360"/>
            <a:ext cx="770400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Рисунок 1" descr=""/>
          <p:cNvPicPr/>
          <p:nvPr/>
        </p:nvPicPr>
        <p:blipFill>
          <a:blip r:embed="rId1"/>
          <a:stretch/>
        </p:blipFill>
        <p:spPr>
          <a:xfrm>
            <a:off x="698400" y="1093680"/>
            <a:ext cx="3409920" cy="2571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67" name="Рисунок 2" descr=""/>
          <p:cNvPicPr/>
          <p:nvPr/>
        </p:nvPicPr>
        <p:blipFill>
          <a:blip r:embed="rId2"/>
          <a:stretch/>
        </p:blipFill>
        <p:spPr>
          <a:xfrm>
            <a:off x="684360" y="3890880"/>
            <a:ext cx="3409920" cy="2559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68" name="Рисунок 3" descr=""/>
          <p:cNvPicPr/>
          <p:nvPr/>
        </p:nvPicPr>
        <p:blipFill>
          <a:blip r:embed="rId3"/>
          <a:stretch/>
        </p:blipFill>
        <p:spPr>
          <a:xfrm>
            <a:off x="4727520" y="3890880"/>
            <a:ext cx="3432240" cy="2567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284360" y="1123560"/>
            <a:ext cx="431964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Тихой ночью в Палестине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Воссияла всему мир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Днесь рождением Бога Сын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Вифлеемская Звезда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Озарила нас надеждой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Чтоб не жили мы как прежде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Задыхаясь безнадежно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В темном сумраке грех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Славят Пастыри Христовы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Рождество в вертепе с Богом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Вместе с воинством небесным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льется ангельская песнь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И волхвы пришли с чужбины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поклониться Богу Сыну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Ярко путь им освеща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Вифлеемская Звезда!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1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3552840" cy="26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71" name="Рисунок 2" descr=""/>
          <p:cNvPicPr/>
          <p:nvPr/>
        </p:nvPicPr>
        <p:blipFill>
          <a:blip r:embed="rId2"/>
          <a:stretch/>
        </p:blipFill>
        <p:spPr>
          <a:xfrm>
            <a:off x="826920" y="3668760"/>
            <a:ext cx="3552840" cy="2776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72" name="Рисунок 3" descr=""/>
          <p:cNvPicPr/>
          <p:nvPr/>
        </p:nvPicPr>
        <p:blipFill>
          <a:blip r:embed="rId3"/>
          <a:stretch/>
        </p:blipFill>
        <p:spPr>
          <a:xfrm>
            <a:off x="4643280" y="981000"/>
            <a:ext cx="3905280" cy="4897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186920" y="836280"/>
            <a:ext cx="7417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данного проек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углубить знания детей о Рождестве Спасителя; развивать познавательный интерес, интеллектуальные, творческие и коммуникативные способности дете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детей с евангельской историей Рождества Христов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удить в детях милосердие и сострадани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художественно-творческие наклонности дете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вертеп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любовь к творческому наследию нашего народ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щать к духовной культуре, привлечь внимание детей к христианским традиция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Традиции и история рождественского вертепа</a:t>
            </a: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Есть старинная традиция – под Рождество ставить в доме вертеп. Это модель Вифлеемской пещеры с куколками внутри. Кто-то покупает его в магазине или на ярмарке, ну а мы с детьми предпочли смастерить вертеп своими руками . </a:t>
            </a: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Вертепы бывают разные. В тех, что устанавливают дома, чаще всего можно увидеть фигуры Младенца Христа, Богородицы, Иосифа, ангелов, пастухов, волхвов и животных. В храмах мастерят вертепы из еловых веток – своеобразный шатер. Его устанавливают над праздничной иконой Рождества, и все, кто подходит поклониться иконе, оказываются таким образом внутри рождественской пещеры. А в самых холодных регионах, например, в Якутии, на городских площадях и у церквей можно увидеть очень красивые вертепы изо льда.</a:t>
            </a:r>
            <a:br>
              <a:rPr sz="1800"/>
            </a:b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Вертеп в переводе со старославянского — пещера. Как правило, так называют ту единственную пещеру, в которой родился Христос.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574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В основе вертепного представления лежит сюжет о приходе на землю Спасителя. Ангел возвещает о рождении Бога. Новорожденному Младенцу приходят поклониться Пастух, три Волхва. Последние рассказывают о встрече с Иродом, которому они сообщили о рождении будущего великого Царя. Ангел предупреждает Волхвов, чтобы они «не ходили к Ироду», не выдавали ему Христа (Ирод боится, что родившийся Царь отнимет у него власть). Разгневанный Ирод повелевает Воину «избить младенцев» в Вифлееме. К нему приходит Рахиль, умоляя не убивать ее чадо: «Глас в Раме слышен, плач и рыдание, и вопль великий; Рахиль плачет о детях своих и не хочет утешиться, ибо их нет» (Иер. 31:15, Мф. 2:18). Но Ирод глух к ее мольбам. Ангел утешает Рахиль. К Ироду же приходит Смерть, он просит у нее отсрочки, но Смерть зовет Черта, и тот утаскивает Ирода в преисподнюю.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32000" y="141264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Вертеп был и остается одной из любимых традиций празднования Рождества. И каким бы он ни был, статичным, механическим или даже живым, с участием актеров-людей, для зрителя он, прежде всего, — чудесный знак, указывающий на ту самую, Вифлеемскую, пещеру.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2" name="Рисунок 2" descr=""/>
          <p:cNvPicPr/>
          <p:nvPr/>
        </p:nvPicPr>
        <p:blipFill>
          <a:blip r:embed="rId1"/>
          <a:stretch/>
        </p:blipFill>
        <p:spPr>
          <a:xfrm>
            <a:off x="1619280" y="2556000"/>
            <a:ext cx="5832360" cy="76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коллективная работа с детьми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кукол и пещер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4" name="Рисунок 4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4761000" cy="381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55" name="Рисунок 5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2925720" cy="381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1" descr=""/>
          <p:cNvPicPr/>
          <p:nvPr/>
        </p:nvPicPr>
        <p:blipFill>
          <a:blip r:embed="rId1"/>
          <a:stretch/>
        </p:blipFill>
        <p:spPr>
          <a:xfrm>
            <a:off x="5003640" y="692280"/>
            <a:ext cx="3399120" cy="254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57" name="Рисунок 3" descr=""/>
          <p:cNvPicPr/>
          <p:nvPr/>
        </p:nvPicPr>
        <p:blipFill>
          <a:blip r:embed="rId2"/>
          <a:stretch/>
        </p:blipFill>
        <p:spPr>
          <a:xfrm>
            <a:off x="826920" y="3933720"/>
            <a:ext cx="3225960" cy="2548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58" name="Рисунок 2" descr=""/>
          <p:cNvPicPr/>
          <p:nvPr/>
        </p:nvPicPr>
        <p:blipFill>
          <a:blip r:embed="rId3"/>
          <a:stretch/>
        </p:blipFill>
        <p:spPr>
          <a:xfrm>
            <a:off x="1403280" y="476280"/>
            <a:ext cx="2894040" cy="321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59" name="Рисунок 4" descr=""/>
          <p:cNvPicPr/>
          <p:nvPr/>
        </p:nvPicPr>
        <p:blipFill>
          <a:blip r:embed="rId4"/>
          <a:stretch/>
        </p:blipFill>
        <p:spPr>
          <a:xfrm>
            <a:off x="4859280" y="3537000"/>
            <a:ext cx="3313080" cy="248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1" descr=""/>
          <p:cNvPicPr/>
          <p:nvPr/>
        </p:nvPicPr>
        <p:blipFill>
          <a:blip r:embed="rId1"/>
          <a:stretch/>
        </p:blipFill>
        <p:spPr>
          <a:xfrm>
            <a:off x="2843280" y="476280"/>
            <a:ext cx="3365280" cy="2523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61" name="Рисунок 2" descr=""/>
          <p:cNvPicPr/>
          <p:nvPr/>
        </p:nvPicPr>
        <p:blipFill>
          <a:blip r:embed="rId2"/>
          <a:stretch/>
        </p:blipFill>
        <p:spPr>
          <a:xfrm>
            <a:off x="5076720" y="3284640"/>
            <a:ext cx="3430800" cy="2709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62" name="Рисунок 3" descr=""/>
          <p:cNvPicPr/>
          <p:nvPr/>
        </p:nvPicPr>
        <p:blipFill>
          <a:blip r:embed="rId3"/>
          <a:stretch/>
        </p:blipFill>
        <p:spPr>
          <a:xfrm>
            <a:off x="755640" y="3284640"/>
            <a:ext cx="3611520" cy="2709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Рисунок 1" descr=""/>
          <p:cNvPicPr/>
          <p:nvPr/>
        </p:nvPicPr>
        <p:blipFill>
          <a:blip r:embed="rId1"/>
          <a:stretch/>
        </p:blipFill>
        <p:spPr>
          <a:xfrm>
            <a:off x="2847960" y="476280"/>
            <a:ext cx="3538440" cy="265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64" name="Рисунок 2" descr=""/>
          <p:cNvPicPr/>
          <p:nvPr/>
        </p:nvPicPr>
        <p:blipFill>
          <a:blip r:embed="rId2"/>
          <a:stretch/>
        </p:blipFill>
        <p:spPr>
          <a:xfrm>
            <a:off x="611280" y="3276720"/>
            <a:ext cx="3771720" cy="28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65" name="Рисунок 3" descr=""/>
          <p:cNvPicPr/>
          <p:nvPr/>
        </p:nvPicPr>
        <p:blipFill>
          <a:blip r:embed="rId3"/>
          <a:stretch/>
        </p:blipFill>
        <p:spPr>
          <a:xfrm>
            <a:off x="4616280" y="3281400"/>
            <a:ext cx="3805560" cy="2824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2T19:53:29Z</dcterms:created>
  <dc:creator>-</dc:creator>
  <dc:description/>
  <dc:language>en-US</dc:language>
  <cp:lastModifiedBy>Андрей</cp:lastModifiedBy>
  <dcterms:modified xsi:type="dcterms:W3CDTF">2007-12-31T21:35:16Z</dcterms:modified>
  <cp:revision>20</cp:revision>
  <dc:subject/>
  <dc:title>Презентация PowerPoint</dc:title>
</cp:coreProperties>
</file>