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36758-83B7-4346-A724-497949C6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B3479-BA49-48DF-BEDD-D7AD9F12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2349A-681D-486D-95C1-B2CB88AD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CBE9-D81C-4CE5-9D5C-8AC476DB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D4C6-2810-4567-8363-88BE1A2D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BBFD5-4F7A-494B-98BC-98E36AE9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C0F0-CA86-4F16-B8D0-7A590E66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2AD1-83A1-4FC9-BCEA-2E093CD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420-28AF-4D7D-8F06-DF9BB76E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CFD0-3490-4AC0-BC73-F321D998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E20-6005-4B7E-B648-C53AC6A7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04C53-8AC4-4419-BD98-680C97BB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C92D3-22F4-45F6-9B14-3ADBFA1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79FD-FD89-4FD9-A92D-3A31015A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8EA3-4B14-445F-94F6-E17BD4AE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AE56-FE32-4F85-9B75-F1FC20AC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F7A8-A476-4CDC-867A-E90552F3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BC79-283C-4F16-AC74-56B6297B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407FA-9A37-4F9C-B0EE-091AE057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2F29-E729-40EF-8D9C-CA5E6637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736E4-9180-40D4-AB35-02C38CB7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9BD6-27A8-47B9-AB26-C13896C0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A7359-5611-4D30-88F6-A905B5F3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3ED0D-C9CB-4EB0-A75E-CE0F50F2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D0532-FF89-4C89-B78A-C229BAE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18093-8736-4540-9BAA-4A17E014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B894-5CF8-4E17-BAA2-5DED4EF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DD03-6034-435B-B828-93A17ADE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23B4-A34C-4510-AB6B-68A56FD43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13A05-93D8-4A47-B81A-D923A2CB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A874-10AD-4441-ABCF-9F1A12EE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4047-CD2C-4FEE-B6A2-2CA7D023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60FA2-0857-4D14-B01E-FE0A4619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21D5F-39A6-4F83-AA36-ECF8E72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20190-A3F8-440B-AC48-98B90171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91DA-4D87-4D18-9951-84B06B0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C059F-526A-4330-A094-D97A8F74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B8ECF-1771-4AAC-AB73-6068301C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EFF3-21E3-4F94-A2BA-906E556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3A690-8529-42A4-902C-0C7202C4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17FC1-3ABF-4C29-9A8B-E9E34DE7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469E1-2FFF-4AF2-8F43-7CCDAF8B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9E16-63EA-4179-8EF5-63DAF148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361D6-9CCC-4C1A-A112-668152E1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A36F2-1B31-4287-B1A4-9582E9D7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0CB95-C64F-432E-9154-05A8FF7C7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F633D-92A4-4337-A2E2-1C77A900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338FA-1893-4576-8666-665393E41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9BBD-39D3-413A-8FC1-63B8E382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134E2-3D01-4ECD-80DE-FB136869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60F61-B115-40DB-8539-F056DD90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9620B-0ECB-4A1A-83F1-46EFE54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773F0-33E2-4667-AF9D-05B10485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82314-881C-4216-BBF5-56FAC34B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73D35-AC1C-4F28-A07F-B181B0714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021E-F262-4B23-AFDB-3E65D18F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AFB3C-7083-4459-B2F2-528FA6B9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FC36-F87F-44FF-B500-200E8AAF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FD006-5E9F-4281-906A-AD6B10C1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AB94-EE15-4DE2-8E07-49FB62EF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D923F-94FD-4F24-B5F0-C768B172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4D04A-1FB3-45CE-8ECA-25142C4D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AF17-85C5-46A5-8A75-D961F23E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DFE4-BCB2-4BB0-9420-2B831233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26DB-ED96-4B5D-89ED-0D6D6E7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208B1-F1E8-4FE8-A740-AC9968F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F0C7-FFB4-4D31-AC5C-216477BD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9E7C4-155E-46E0-847B-F16501E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82DAC-4D7A-4420-9407-0E61A88B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45F6-0314-4AB9-8B9B-D6584FF0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22D15-BAC2-4EDC-A21D-12CA4A93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F5B7C-4021-45A7-A00B-55BD9822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6C28-C3BB-4BAE-8578-CC9B003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BD317-3118-4467-834D-EBA2111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4A75A-1F98-4C33-866C-2DDC683A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6E5A-D5B7-4181-ACD8-7ACDC73B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9F909-02D2-4AE6-9B68-5A7F924C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4974-82B1-435D-B1FD-86E94D8E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0B6D8-F4E7-4ACC-8C4C-EA1C0257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C345E-29A1-4BD8-BF83-FE8ADE8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ABA6F-FC74-420D-9D74-09A22FFD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28E31-778D-43B9-B6EB-4583E4955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8CEF0-2A5F-48B8-93D5-FA7CB31C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2E342-1225-4469-90CE-F78D10A7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BF85F-8992-44ED-9284-57EF7AFE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E95E4-645B-4658-95FE-E4EC25C2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AD918-B556-4F17-A7A0-B503E8D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056063-594D-4F0A-80BD-9D5F996A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6C1C-9F3A-457D-BDC6-1A24C6E7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12C46-767C-4BC4-92AA-7AC0B39C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4304-DE8C-4F9A-ABEA-361CFBA4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31FE-0C85-4348-BC50-E2096292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694B1-14FC-4FC9-B7DC-9E1DB7A2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13B55-EAF0-4AF1-AECB-D1829B84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EFE42-0E9D-42E6-9B53-4ABFB1DD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D8C1A-6F4F-4FFD-9C09-D5B3EC9F3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3AE-813B-428A-9079-83DC780C68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Кулакова Н.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Natalia\ЖОНКИНА ПИСАНИНА\для тренажеров\27daac2b504d.png"/>
          <p:cNvPicPr/>
          <p:nvPr/>
        </p:nvPicPr>
        <p:blipFill>
          <a:blip r:embed="rId5"/>
          <a:stretch/>
        </p:blipFill>
        <p:spPr>
          <a:xfrm>
            <a:off x="23760" y="3652920"/>
            <a:ext cx="5453280" cy="3440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Natalia\ЖОНКИНА ПИСАНИНА\для тренажеров\27daac2b504d.png"/>
          <p:cNvPicPr/>
          <p:nvPr/>
        </p:nvPicPr>
        <p:blipFill>
          <a:blip r:embed="rId6"/>
          <a:stretch/>
        </p:blipFill>
        <p:spPr>
          <a:xfrm>
            <a:off x="4643280" y="3652920"/>
            <a:ext cx="4497480" cy="3440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419280" y="616536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5"/>
          </p:nvPr>
        </p:nvSpPr>
        <p:spPr>
          <a:xfrm>
            <a:off x="826560" y="60213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улакова Н.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FFA-D797-4CD6-8F0F-DCBF711643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B106-2761-419F-BE3A-3F6B6A1935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2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04B6-5BE5-4A5D-80E9-19BA7831FD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5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E917-F744-4F7B-A0DD-F132C7D499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2099-99CB-44F7-9005-A20C7EA1DD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2048-559C-4D59-8396-F9427B2A8E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оугольник с двумя скругленными противолежащими углами 6"/>
          <p:cNvSpPr/>
          <p:nvPr/>
        </p:nvSpPr>
        <p:spPr>
          <a:xfrm>
            <a:off x="324000" y="260280"/>
            <a:ext cx="8424720" cy="6408720"/>
          </a:xfrm>
          <a:custGeom>
            <a:avLst/>
            <a:gdLst/>
            <a:ahLst/>
            <a:rect l="l" t="t" r="r" b="b"/>
            <a:pathLst>
              <a:path w="8424863" h="6408738">
                <a:moveTo>
                  <a:pt x="1068144" y="0"/>
                </a:moveTo>
                <a:lnTo>
                  <a:pt x="8424863" y="0"/>
                </a:lnTo>
                <a:lnTo>
                  <a:pt x="8424863" y="0"/>
                </a:lnTo>
                <a:lnTo>
                  <a:pt x="8424863" y="5340594"/>
                </a:lnTo>
                <a:cubicBezTo>
                  <a:pt x="8424863" y="5930514"/>
                  <a:pt x="7946639" y="6408738"/>
                  <a:pt x="7356719" y="6408738"/>
                </a:cubicBezTo>
                <a:lnTo>
                  <a:pt x="0" y="6408738"/>
                </a:lnTo>
                <a:lnTo>
                  <a:pt x="0" y="6408738"/>
                </a:lnTo>
                <a:lnTo>
                  <a:pt x="0" y="1068144"/>
                </a:lnTo>
                <a:cubicBezTo>
                  <a:pt x="0" y="478224"/>
                  <a:pt x="478224" y="0"/>
                  <a:pt x="1068144" y="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2160">
            <a:solidFill>
              <a:srgbClr val="51da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4" name="Picture 2" descr="D:\Natalia\ЖОНКИНА ПИСАНИНА\для тренажеров\66326180_00.png"/>
          <p:cNvPicPr/>
          <p:nvPr/>
        </p:nvPicPr>
        <p:blipFill>
          <a:blip r:embed="rId4"/>
          <a:stretch/>
        </p:blipFill>
        <p:spPr>
          <a:xfrm rot="20739600">
            <a:off x="-161640" y="17640"/>
            <a:ext cx="2808360" cy="16617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39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7F2A-28FA-4BF5-A1C8-656EE47F29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2626920" y="4005360"/>
            <a:ext cx="4321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Руководители проект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Пирожкова Л.Е. и Репникова А.Ф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Участник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nstantia"/>
              </a:rPr>
              <a:t>Зоренко Таня, Зырянова Ольга, Панасенко Иван, Зырянова Юл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7" name="Прямоугольник 3" descr=""/>
          <p:cNvPicPr/>
          <p:nvPr/>
        </p:nvPicPr>
        <p:blipFill>
          <a:blip r:embed="rId1"/>
          <a:stretch/>
        </p:blipFill>
        <p:spPr>
          <a:xfrm>
            <a:off x="933480" y="549360"/>
            <a:ext cx="770400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1" descr=""/>
          <p:cNvPicPr/>
          <p:nvPr/>
        </p:nvPicPr>
        <p:blipFill>
          <a:blip r:embed="rId1"/>
          <a:stretch/>
        </p:blipFill>
        <p:spPr>
          <a:xfrm>
            <a:off x="698400" y="1093680"/>
            <a:ext cx="3409920" cy="25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7" name="Рисунок 2" descr=""/>
          <p:cNvPicPr/>
          <p:nvPr/>
        </p:nvPicPr>
        <p:blipFill>
          <a:blip r:embed="rId2"/>
          <a:stretch/>
        </p:blipFill>
        <p:spPr>
          <a:xfrm>
            <a:off x="684360" y="3890880"/>
            <a:ext cx="3409920" cy="255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8" name="Рисунок 3" descr=""/>
          <p:cNvPicPr/>
          <p:nvPr/>
        </p:nvPicPr>
        <p:blipFill>
          <a:blip r:embed="rId3"/>
          <a:stretch/>
        </p:blipFill>
        <p:spPr>
          <a:xfrm>
            <a:off x="4727520" y="3890880"/>
            <a:ext cx="3432240" cy="256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284360" y="1123560"/>
            <a:ext cx="431964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Тихой ночью в Палестин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оссияла всему мир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Днесь рождением Бога Сын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ифлеемская Звезда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Озарила нас надеж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Чтоб не жили мы как прежд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Задыхаясь безнадежн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 темном сумраке грех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Славят Пастыри Христов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Рождество в вертепе с Бог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месте с воинством небесны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льется ангельская песнь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И волхвы пришли с чужбины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поклониться Богу Сыну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Ярко путь им освещал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Segoe Script"/>
                <a:ea typeface="Times New Roman"/>
              </a:rPr>
              <a:t>Вифлеемская Звезда!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1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552840" cy="26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1" name="Рисунок 2" descr=""/>
          <p:cNvPicPr/>
          <p:nvPr/>
        </p:nvPicPr>
        <p:blipFill>
          <a:blip r:embed="rId2"/>
          <a:stretch/>
        </p:blipFill>
        <p:spPr>
          <a:xfrm>
            <a:off x="826920" y="3668760"/>
            <a:ext cx="3552840" cy="2776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72" name="Рисунок 3" descr=""/>
          <p:cNvPicPr/>
          <p:nvPr/>
        </p:nvPicPr>
        <p:blipFill>
          <a:blip r:embed="rId3"/>
          <a:stretch/>
        </p:blipFill>
        <p:spPr>
          <a:xfrm>
            <a:off x="4643280" y="981000"/>
            <a:ext cx="3905280" cy="4897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186920" y="836280"/>
            <a:ext cx="74170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анного проек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углубить знания детей о Рождестве Спасителя; развивать познавательный интерес, интеллектуальные, творческие и коммуникативные способности детей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детей с евангельской историей Рождества Христо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удить в детях милосердие и сострадание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художественно-творческие наклонности детей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вертеп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любовь к творческому наследию нашего наро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ь к духовной культуре, привлечь внимание детей к христианским традиция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Традиции и история рождественского вертепа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 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Есть старинная традиция – под Рождество ставить в доме вертеп. Это модель Вифлеемской пещеры с куколками внутри. Кто-то покупает его в магазине или на ярмарке, ну а мы с детьми предпочли смастерить вертеп своими руками . </a:t>
            </a: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ы бывают разные. В тех, что устанавливают дома, чаще всего можно увидеть фигуры Младенца Христа, Богородицы, Иосифа, ангелов, пастухов, волхвов и животных. В храмах мастерят вертепы из еловых веток – своеобразный шатер. Его устанавливают над праздничной иконой Рождества, и все, кто подходит поклониться иконе, оказываются таким образом внутри рождественской пещеры. А в самых холодных регионах, например, в Якутии, на городских площадях и у церквей можно увидеть очень красивые вертепы изо льда.</a:t>
            </a:r>
            <a:br>
              <a:rPr sz="1800"/>
            </a:br>
            <a:br>
              <a:rPr sz="14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 в переводе со старославянского — пещера. Как правило, так называют ту единственную пещеру, в которой родился Христос.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574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 основе вертепного представления лежит сюжет о приходе на землю Спасителя. Ангел возвещает о рождении Бога. Новорожденному Младенцу приходят поклониться Пастух, три Волхва. Последние рассказывают о встрече с Иродом, которому они сообщили о рождении будущего великого Царя. Ангел предупреждает Волхвов, чтобы они «не ходили к Ироду», не выдавали ему Христа (Ирод боится, что родившийся Царь отнимет у него власть). Разгневанный Ирод повелевает Воину «избить младенцев» в Вифлееме. К нему приходит Рахиль, умоляя не убивать ее чадо: «Глас в Раме слышен, плач и рыдание, и вопль великий; Рахиль плачет о детях своих и не хочет утешиться, ибо их нет» (Иер. 31:15, Мф. 2:18). Но Ирод глух к ее мольбам. Ангел утешает Рахиль. К Ироду же приходит Смерть, он просит у нее отсрочки, но Смерть зовет Черта, и тот утаскивает Ирода в преисподнюю.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32000" y="14126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Вертеп был и остается одной из любимых традиций празднования Рождества. И каким бы он ни был, статичным, механическим или даже живым, с участием актеров-людей, для зрителя он, прежде всего, — чудесный знак, указывающий на ту самую, Вифлеемскую, пещеру.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2" name="Рисунок 2" descr=""/>
          <p:cNvPicPr/>
          <p:nvPr/>
        </p:nvPicPr>
        <p:blipFill>
          <a:blip r:embed="rId1"/>
          <a:stretch/>
        </p:blipFill>
        <p:spPr>
          <a:xfrm>
            <a:off x="1619280" y="2556000"/>
            <a:ext cx="5832360" cy="76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а коллективная работа с детьми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укол и пещер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Рисунок 4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476100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5" name="Рисунок 5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2925720" cy="3816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Рисунок 1" descr=""/>
          <p:cNvPicPr/>
          <p:nvPr/>
        </p:nvPicPr>
        <p:blipFill>
          <a:blip r:embed="rId1"/>
          <a:stretch/>
        </p:blipFill>
        <p:spPr>
          <a:xfrm>
            <a:off x="5003640" y="692280"/>
            <a:ext cx="3399120" cy="2549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7" name="Рисунок 3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3225960" cy="2548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8" name="Рисунок 2" descr=""/>
          <p:cNvPicPr/>
          <p:nvPr/>
        </p:nvPicPr>
        <p:blipFill>
          <a:blip r:embed="rId3"/>
          <a:stretch/>
        </p:blipFill>
        <p:spPr>
          <a:xfrm>
            <a:off x="1403280" y="476280"/>
            <a:ext cx="2894040" cy="321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59" name="Рисунок 4" descr=""/>
          <p:cNvPicPr/>
          <p:nvPr/>
        </p:nvPicPr>
        <p:blipFill>
          <a:blip r:embed="rId4"/>
          <a:stretch/>
        </p:blipFill>
        <p:spPr>
          <a:xfrm>
            <a:off x="4859280" y="3537000"/>
            <a:ext cx="3313080" cy="2484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Рисунок 1" descr=""/>
          <p:cNvPicPr/>
          <p:nvPr/>
        </p:nvPicPr>
        <p:blipFill>
          <a:blip r:embed="rId1"/>
          <a:stretch/>
        </p:blipFill>
        <p:spPr>
          <a:xfrm>
            <a:off x="2843280" y="476280"/>
            <a:ext cx="3365280" cy="252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1" name="Рисунок 2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3430800" cy="27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2" name="Рисунок 3" descr=""/>
          <p:cNvPicPr/>
          <p:nvPr/>
        </p:nvPicPr>
        <p:blipFill>
          <a:blip r:embed="rId3"/>
          <a:stretch/>
        </p:blipFill>
        <p:spPr>
          <a:xfrm>
            <a:off x="755640" y="3284640"/>
            <a:ext cx="3611520" cy="2709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1" descr=""/>
          <p:cNvPicPr/>
          <p:nvPr/>
        </p:nvPicPr>
        <p:blipFill>
          <a:blip r:embed="rId1"/>
          <a:stretch/>
        </p:blipFill>
        <p:spPr>
          <a:xfrm>
            <a:off x="2847960" y="476280"/>
            <a:ext cx="3538440" cy="2655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4" name="Рисунок 2" descr=""/>
          <p:cNvPicPr/>
          <p:nvPr/>
        </p:nvPicPr>
        <p:blipFill>
          <a:blip r:embed="rId2"/>
          <a:stretch/>
        </p:blipFill>
        <p:spPr>
          <a:xfrm>
            <a:off x="611280" y="3276720"/>
            <a:ext cx="37717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5" name="Рисунок 3" descr=""/>
          <p:cNvPicPr/>
          <p:nvPr/>
        </p:nvPicPr>
        <p:blipFill>
          <a:blip r:embed="rId3"/>
          <a:stretch/>
        </p:blipFill>
        <p:spPr>
          <a:xfrm>
            <a:off x="4616280" y="3281400"/>
            <a:ext cx="3805560" cy="282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9:53:29Z</dcterms:created>
  <dc:creator>-</dc:creator>
  <dc:description/>
  <dc:language>en-US</dc:language>
  <cp:lastModifiedBy>Андрей</cp:lastModifiedBy>
  <dcterms:modified xsi:type="dcterms:W3CDTF">2007-12-31T21:35:16Z</dcterms:modified>
  <cp:revision>20</cp:revision>
  <dc:subject/>
  <dc:title>Презентация PowerPoint</dc:title>
</cp:coreProperties>
</file>