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1.gif" ContentType="image/gif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277-1B17-44A9-BA62-013AA78B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141-3AAD-4B02-B3AE-3A76B5AC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6BB-75AC-448E-AC24-BB4B7F96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BB3-3759-4DE7-9314-398815B7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E81-578D-48D7-94EB-61DA142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F65-EC43-4D63-80D5-13B8735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A48-5403-41B0-82E5-4C60901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B1E-1108-42DB-8C07-5771D6E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873-FCA4-41B9-85BE-0DEC01BC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734-6A3A-44D2-B588-766F767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18E-5048-439F-9E84-6527A91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580-607A-4187-97D7-6A85543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556b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E2B5-90C1-4D7F-B091-05C2D578993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0717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 теме «Изменение глаголов по числам»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680" y="3000240"/>
            <a:ext cx="854064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н учителем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новой Галиной Александров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лес зимний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дорога"/>
          <p:cNvPicPr/>
          <p:nvPr/>
        </p:nvPicPr>
        <p:blipFill>
          <a:blip r:embed="rId2"/>
          <a:stretch/>
        </p:blipFill>
        <p:spPr>
          <a:xfrm>
            <a:off x="0" y="2205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A2N8DEB"/>
          <p:cNvPicPr/>
          <p:nvPr/>
        </p:nvPicPr>
        <p:blipFill>
          <a:blip r:embed="rId3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-541440" y="54936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оро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2637000"/>
            <a:ext cx="3059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аши-ны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-468360" y="494172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ер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627280" y="692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замерзли/замерзл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203640" y="4941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чится/мча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916360" y="285264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ходит/проходя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лес зимний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дорога"/>
          <p:cNvPicPr/>
          <p:nvPr/>
        </p:nvPicPr>
        <p:blipFill>
          <a:blip r:embed="rId2"/>
          <a:stretch/>
        </p:blipFill>
        <p:spPr>
          <a:xfrm>
            <a:off x="0" y="2205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2N8DEB"/>
          <p:cNvPicPr/>
          <p:nvPr/>
        </p:nvPicPr>
        <p:blipFill>
          <a:blip r:embed="rId3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-541440" y="54936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оро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0" y="2637000"/>
            <a:ext cx="3059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аши-ны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-468360" y="494172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ер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32000" y="692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замерзл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03640" y="4941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ча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203640" y="285264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ход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600"/>
                            </p:stCondLst>
                            <p:childTnLst>
                              <p:par>
                                <p:cTn id="2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00781 0.62732 E">
                                      <p:cBhvr>
                                        <p:cTn id="31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2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991 L -0.0118 -0.35324 E">
                                      <p:cBhvr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66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6"/>
          <p:cNvSpPr/>
          <p:nvPr/>
        </p:nvSpPr>
        <p:spPr>
          <a:xfrm>
            <a:off x="1258920" y="333360"/>
            <a:ext cx="7164360" cy="89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332000" y="404640"/>
            <a:ext cx="6180120" cy="99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зменение глаголов по  числ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187280" y="1844640"/>
            <a:ext cx="2160720" cy="993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Ед. 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5219640" y="1844640"/>
            <a:ext cx="2232000" cy="93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Мн. 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4572000" y="314172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250920" y="3068640"/>
            <a:ext cx="3708360" cy="3789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Самостоятельно подобрать по два глагола на тему «Море», записать в два столб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1979640" y="1197000"/>
            <a:ext cx="431640" cy="649440"/>
          </a:xfrm>
          <a:prstGeom prst="downArrow">
            <a:avLst>
              <a:gd name="adj1" fmla="val 50000"/>
              <a:gd name="adj2" fmla="val 376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8"/>
          <p:cNvSpPr/>
          <p:nvPr/>
        </p:nvSpPr>
        <p:spPr>
          <a:xfrm>
            <a:off x="6156360" y="1197000"/>
            <a:ext cx="431640" cy="649440"/>
          </a:xfrm>
          <a:prstGeom prst="downArrow">
            <a:avLst>
              <a:gd name="adj1" fmla="val 50000"/>
              <a:gd name="adj2" fmla="val 376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4572000" y="321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Волны бью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Чайки крич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Плывем на кораб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Светит солнц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510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9396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0" y="0"/>
            <a:ext cx="9144000" cy="647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14842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На стене корабля висит картина. На ней светит яркое солнце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Длинные дороги ведут к замку. Художник изобразил красивый пейза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loki02"/>
          <p:cNvPicPr/>
          <p:nvPr/>
        </p:nvPicPr>
        <p:blipFill>
          <a:blip r:embed="rId1"/>
          <a:stretch/>
        </p:blipFill>
        <p:spPr>
          <a:xfrm>
            <a:off x="8124840" y="404640"/>
            <a:ext cx="431640" cy="1035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9"/>
          <p:cNvSpPr/>
          <p:nvPr/>
        </p:nvSpPr>
        <p:spPr>
          <a:xfrm>
            <a:off x="0" y="1916280"/>
            <a:ext cx="3995640" cy="2017440"/>
          </a:xfrm>
          <a:prstGeom prst="downArrowCallout">
            <a:avLst>
              <a:gd name="adj1" fmla="val 49518"/>
              <a:gd name="adj2" fmla="val 49514"/>
              <a:gd name="adj3" fmla="val 16667"/>
              <a:gd name="adj4" fmla="val 66667"/>
            </a:avLst>
          </a:prstGeom>
          <a:solidFill>
            <a:srgbClr val="ffff00"/>
          </a:solidFill>
          <a:ln w="381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исит,  све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едут, изобраз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500720" y="1916280"/>
            <a:ext cx="4643280" cy="3168360"/>
          </a:xfrm>
          <a:prstGeom prst="downArrowCallout">
            <a:avLst>
              <a:gd name="adj1" fmla="val 36641"/>
              <a:gd name="adj2" fmla="val 36638"/>
              <a:gd name="adj3" fmla="val 16667"/>
              <a:gd name="adj4" fmla="val 66667"/>
            </a:avLst>
          </a:prstGeom>
          <a:solidFill>
            <a:srgbClr val="ff99cc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исит – висят, светит- свет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едет- веду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зобразил – изобрази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tebulb"/>
          <p:cNvSpPr/>
          <p:nvPr/>
        </p:nvSpPr>
        <p:spPr>
          <a:xfrm>
            <a:off x="539640" y="4808520"/>
            <a:ext cx="1656000" cy="2049480"/>
          </a:xfrm>
          <a:prstGeom prst="pi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1  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tebulb"/>
          <p:cNvSpPr/>
          <p:nvPr/>
        </p:nvSpPr>
        <p:spPr>
          <a:xfrm>
            <a:off x="6948360" y="4808520"/>
            <a:ext cx="1656000" cy="2049480"/>
          </a:xfrm>
          <a:prstGeom prst="pie">
            <a:avLst/>
          </a:prstGeom>
          <a:solidFill>
            <a:srgbClr val="ff99cc"/>
          </a:solidFill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2 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15092 L 0.01198 -0.23495 E">
                                      <p:cBhvr>
                                        <p:cTn id="487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5092 L -0.00382 -0.22453 E">
                                      <p:cBhvr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етер по морю гуля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И кораблик подгоня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Он бежит себе в волна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На поднятых парус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ff"/>
                </a:solidFill>
                <a:latin typeface="Lucida Calligraphy"/>
              </a:rPr>
              <a:t>Подведём     итог.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Как изменяются глагол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На какие вопросы они отвеч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Что обознач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6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не всё понятно, работал хорошо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6360" y="5229000"/>
            <a:ext cx="5759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не трудно, нужна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592360" cy="214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755640" y="233280"/>
            <a:ext cx="2217600" cy="161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1655640" cy="1505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19640" y="3068280"/>
            <a:ext cx="5256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ог бы работать лучше, кое- что не понима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Homepage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3645000"/>
            <a:ext cx="914400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Arial"/>
              </a:rPr>
              <a:t>на листа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ko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1628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Долгожданный дан зв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начинается ур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Встанем, подравняемся, с трудностями справим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535320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g00319_"/>
          <p:cNvPicPr/>
          <p:nvPr/>
        </p:nvPicPr>
        <p:blipFill>
          <a:blip r:embed="rId2"/>
          <a:stretch/>
        </p:blipFill>
        <p:spPr>
          <a:xfrm>
            <a:off x="2916360" y="2852640"/>
            <a:ext cx="5400720" cy="345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36640"/>
            <a:ext cx="85104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Californian FB"/>
              </a:rPr>
              <a:t>Минутка красивого пись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4653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92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Крас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16360" y="400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прелес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588000" y="393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крас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1" descr="girl2"/>
          <p:cNvPicPr/>
          <p:nvPr/>
        </p:nvPicPr>
        <p:blipFill>
          <a:blip r:embed="rId1"/>
          <a:stretch/>
        </p:blipFill>
        <p:spPr>
          <a:xfrm>
            <a:off x="0" y="0"/>
            <a:ext cx="2305080" cy="199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411280" y="333360"/>
            <a:ext cx="597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 </a:t>
            </a: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Шестнадцатое апреля, вторн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0" y="0"/>
            <a:ext cx="8820000" cy="685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843280" y="333360"/>
            <a:ext cx="1800000" cy="158292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1258920" y="1989000"/>
            <a:ext cx="230508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ла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5148360" y="1125360"/>
            <a:ext cx="2160360" cy="2303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1692360" y="3716280"/>
            <a:ext cx="2735280" cy="1873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716360" y="3716280"/>
            <a:ext cx="2808360" cy="16574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сто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артинный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13" descr="5"/>
          <p:cNvPicPr/>
          <p:nvPr/>
        </p:nvPicPr>
        <p:blipFill>
          <a:blip r:embed="rId1"/>
          <a:stretch/>
        </p:blipFill>
        <p:spPr>
          <a:xfrm>
            <a:off x="0" y="4694400"/>
            <a:ext cx="2268360" cy="2163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3"/>
          <p:cNvPicPr/>
          <p:nvPr/>
        </p:nvPicPr>
        <p:blipFill>
          <a:blip r:embed="rId2"/>
          <a:stretch/>
        </p:blipFill>
        <p:spPr>
          <a:xfrm>
            <a:off x="0" y="1700280"/>
            <a:ext cx="2268360" cy="22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9"/>
          <p:cNvPicPr/>
          <p:nvPr/>
        </p:nvPicPr>
        <p:blipFill>
          <a:blip r:embed="rId3"/>
          <a:stretch/>
        </p:blipFill>
        <p:spPr>
          <a:xfrm>
            <a:off x="6551640" y="162864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2"/>
          <p:cNvPicPr/>
          <p:nvPr/>
        </p:nvPicPr>
        <p:blipFill>
          <a:blip r:embed="rId4"/>
          <a:stretch/>
        </p:blipFill>
        <p:spPr>
          <a:xfrm>
            <a:off x="6635880" y="4653000"/>
            <a:ext cx="250812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11"/>
          <p:cNvPicPr/>
          <p:nvPr/>
        </p:nvPicPr>
        <p:blipFill>
          <a:blip r:embed="rId5"/>
          <a:stretch/>
        </p:blipFill>
        <p:spPr>
          <a:xfrm>
            <a:off x="3203640" y="4653000"/>
            <a:ext cx="2392200" cy="22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333"/>
          <p:cNvPicPr/>
          <p:nvPr/>
        </p:nvPicPr>
        <p:blipFill>
          <a:blip r:embed="rId6"/>
          <a:stretch/>
        </p:blipFill>
        <p:spPr>
          <a:xfrm>
            <a:off x="3203640" y="1700280"/>
            <a:ext cx="2357280" cy="2219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оседа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250920" y="4076640"/>
            <a:ext cx="2160360" cy="206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3"/>
          <p:cNvPicPr/>
          <p:nvPr/>
        </p:nvPicPr>
        <p:blipFill>
          <a:blip r:embed="rId2"/>
          <a:stretch/>
        </p:blipFill>
        <p:spPr>
          <a:xfrm>
            <a:off x="324000" y="141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9"/>
          <p:cNvPicPr/>
          <p:nvPr/>
        </p:nvPicPr>
        <p:blipFill>
          <a:blip r:embed="rId3"/>
          <a:stretch/>
        </p:blipFill>
        <p:spPr>
          <a:xfrm>
            <a:off x="6156360" y="1341360"/>
            <a:ext cx="2592360" cy="21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"/>
          <p:cNvPicPr/>
          <p:nvPr/>
        </p:nvPicPr>
        <p:blipFill>
          <a:blip r:embed="rId4"/>
          <a:stretch/>
        </p:blipFill>
        <p:spPr>
          <a:xfrm>
            <a:off x="6300720" y="4076640"/>
            <a:ext cx="2508480" cy="20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1"/>
          <p:cNvPicPr/>
          <p:nvPr/>
        </p:nvPicPr>
        <p:blipFill>
          <a:blip r:embed="rId5"/>
          <a:stretch/>
        </p:blipFill>
        <p:spPr>
          <a:xfrm>
            <a:off x="3132000" y="4076640"/>
            <a:ext cx="2176560" cy="20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333"/>
          <p:cNvPicPr/>
          <p:nvPr/>
        </p:nvPicPr>
        <p:blipFill>
          <a:blip r:embed="rId6"/>
          <a:stretch/>
        </p:blipFill>
        <p:spPr>
          <a:xfrm>
            <a:off x="3132000" y="1413000"/>
            <a:ext cx="214164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24000" y="342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276720" y="350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372360" y="342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95280" y="6237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203640" y="623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588000" y="6165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9" descr="loki02"/>
          <p:cNvPicPr/>
          <p:nvPr/>
        </p:nvPicPr>
        <p:blipFill>
          <a:blip r:embed="rId7"/>
          <a:stretch/>
        </p:blipFill>
        <p:spPr>
          <a:xfrm>
            <a:off x="7956720" y="0"/>
            <a:ext cx="599760" cy="14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8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8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Задание в группа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. Прочитайте слова на карточ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. Разделите слова на две групп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. По какому признаку раздел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. Сформулируйте тему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</a:rPr>
              <a:t>Для чего нужно уметь изменять глаголы по  числам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В лесу очень шумно, один родничок тихо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журча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. Я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подош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к нему. Он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бы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чистый-чистый. Вокруг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пела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птицы, и он вместе с ними пел нежную песн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468360" y="1557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11280" y="26028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ема: «Изменение глагол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по числам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Цель: «Научиться различать глаголы в ед. и мн. ч.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2" descr="img18"/>
          <p:cNvPicPr/>
          <p:nvPr/>
        </p:nvPicPr>
        <p:blipFill>
          <a:blip r:embed="rId1"/>
          <a:stretch/>
        </p:blipFill>
        <p:spPr>
          <a:xfrm>
            <a:off x="0" y="4289400"/>
            <a:ext cx="356400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5:40:09Z</dcterms:created>
  <dc:creator>K-</dc:creator>
  <dc:description/>
  <dc:language>en-US</dc:language>
  <cp:lastModifiedBy>User</cp:lastModifiedBy>
  <dcterms:modified xsi:type="dcterms:W3CDTF">2016-12-27T07:56:49Z</dcterms:modified>
  <cp:revision>96</cp:revision>
  <dc:subject/>
  <dc:title>Урок русского языка</dc:title>
</cp:coreProperties>
</file>