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FBDA-9CA2-44FC-BA2E-2E6A15FF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5A09-2715-40B1-97F0-F9A200F2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ACA0-1D98-4C8E-9B9D-4BBE146B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FBE6-17A5-400B-943B-02598ABC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E7AA-78AF-4BD1-9F96-D27B906F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5990C-B692-4E6C-B015-162BB76B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C866-F643-461D-A245-BCC54432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EF73D-636C-4D8E-B866-378A4A3B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BB210-AD98-4848-BF9E-14C6ADA2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5855-A8FD-4B0B-B908-B17E867E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635A-ECED-4A47-B8AE-5DCB2AA3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F1ED-39D9-4732-BF14-966BAF09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8D9A-C06D-4544-9292-8EAA57E3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DB3C-D766-49D9-B902-D51E4E17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D9C3-B29F-41DD-B21A-59C0F699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9441B-9764-43F7-90BE-A1B2AEFC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D7FA-569A-4253-B1E6-D19FCD9E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B873-B394-41D3-A2E1-6F6A7FAA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C9C-39E3-4442-A4EB-A775E0CF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40CC-F9B6-48E5-B083-3B2E5095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7271-6CCD-4F0F-A085-1F31DF09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0AE-5AE6-4DAC-B8C1-F0D441E0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73D-4925-4D48-BB55-A42A4832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470-4E2F-4DAE-8613-A84A637E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170B-16C4-4FC5-8E6E-9CF50B18BDE8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327C-61FF-4CFB-82C9-531A3022379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http://progr.narod.ru/math/logic_paradox/logic.htm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1628280"/>
            <a:ext cx="7272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cademy Italic"/>
              </a:rPr>
              <a:t>«Правильно понятая ошибка-это путь к открытию»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Academy Italic"/>
              </a:rPr>
              <a:t>                                               И.П.Павлов</a:t>
            </a:r>
            <a:r>
              <a:rPr b="0" lang="en-US" sz="2400" spc="-1" strike="noStrike">
                <a:solidFill>
                  <a:srgbClr val="ff6699"/>
                </a:solidFill>
                <a:latin typeface="Academy Italic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0" y="5805000"/>
            <a:ext cx="4176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Учащиеся 7 класса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3168360" cy="2536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708360" y="3284640"/>
            <a:ext cx="49672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6699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физмы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ff6699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Разбор софизмов прежде всего развивает логическое мышление, т.е. прививает навыки правильного мышления. Обнаружить ошибку в софизме - это значит осознать ее, а осознание ошибки предупреждает  от повторения ее в других математических рассуждениях. Помните, что важно добиться отчетливого понимания ошибок, иначе софизмы будут бесполезны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2375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Для начала разберемся,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что же такое софизм?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Заглянем сперва в словарь Ожегова: Софизм, -а,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м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. (книжн.).</a:t>
            </a:r>
            <a:br>
              <a:rPr sz="3200"/>
            </a:b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Формально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кажущееся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правильным,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 но </a:t>
            </a:r>
            <a:r>
              <a:rPr b="1" lang="en-US" sz="3200" spc="-1" strike="noStrike">
                <a:solidFill>
                  <a:srgbClr val="996633"/>
                </a:solidFill>
                <a:latin typeface="Arial"/>
              </a:rPr>
              <a:t>по существу ложное умозаключение</a:t>
            </a:r>
            <a:r>
              <a:rPr b="1" lang="en-US" sz="3200" spc="-1" strike="noStrike">
                <a:solidFill>
                  <a:srgbClr val="292929"/>
                </a:solidFill>
                <a:latin typeface="Arial"/>
              </a:rPr>
              <a:t>, основанное на преднамеренно неправильном подборе исходных положений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физм 64 = 65 (</a:t>
            </a:r>
            <a:r>
              <a:rPr b="0" lang="ru-RU" sz="3200" spc="-1" strike="noStrike" u="sng">
                <a:solidFill>
                  <a:srgbClr val="999933"/>
                </a:solidFill>
                <a:uFillTx/>
                <a:latin typeface="Arial"/>
                <a:hlinkClick r:id="rId1" action="ppaction://hlinksldjump"/>
              </a:rPr>
              <a:t>hin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999933"/>
                </a:solidFill>
                <a:uFillTx/>
                <a:latin typeface="Arial"/>
                <a:hlinkClick r:id="rId2" action="ppaction://hlinksldjump"/>
              </a:rPr>
              <a:t>реш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152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Слева имеем на клетчатой бумаге нарисованный прямоугольник размерами 5 x 13, т.е. площадью 65. Справа имеем квадрат 8 x 8 = 64. Обе фигуры разрезаны на попарно равные части. Отсюда, их площади равны; следовательно, 64 = 65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В этом софизме проявляется еще одно интересное свойство </a:t>
            </a: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hlinkClick r:id="rId3" action="ppaction://hlinksldjump"/>
              </a:rPr>
              <a:t>чисел Фибоначчи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 (он же Леонардо Пизанский (1180 - 1240), итальянский математик). Вкратце это так: первоначальный прямоугольник 5 x 13 разрезан на такие части, что 5 + 8 = 13 (по оси x). Квадрат же составлен 8 x 8, т.е. среднее между числами 5 и 13 в ряде Фибоначчи. Подробнее об этом можно узнать </a:t>
            </a: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здесь</a:t>
            </a:r>
            <a:r>
              <a:rPr b="0" lang="en-US" sz="2400" spc="-1" strike="noStrike" u="sng">
                <a:solidFill>
                  <a:srgbClr val="292929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-4573080" y="2832480"/>
            <a:ext cx="182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682b4"/>
                </a:solidFill>
                <a:latin typeface="Arial"/>
                <a:ea typeface="Arial"/>
              </a:rPr>
              <a:t>              </a:t>
            </a:r>
            <a:r>
              <a:rPr b="1" lang="en-US" sz="7200" spc="-1" strike="noStrike">
                <a:solidFill>
                  <a:srgbClr val="4682b4"/>
                </a:solidFill>
                <a:latin typeface="Arial"/>
                <a:ea typeface="Arial"/>
              </a:rPr>
              <a:t> </a:t>
            </a:r>
            <a:r>
              <a:rPr b="1" lang="en-US" sz="800" spc="-1" strike="noStrike">
                <a:solidFill>
                  <a:srgbClr val="4682b4"/>
                </a:solidFill>
                <a:latin typeface="Arial"/>
                <a:ea typeface="Arial"/>
              </a:rPr>
              <a:t>                                  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866600" cy="1009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4572000" y="5445000"/>
            <a:ext cx="1200240" cy="115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497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се числа равны друг другу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1) Пусть c=a+b, где a, b -произвольные числа 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2) a2-b2=(a-b)(a+b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3) т.к. a+b=c, то получим следующее тождество: a2-b2=(a-b)c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4) раскроем скобки в правой части: a2-b2=ac-bc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5) добавим к правой и левой части "ab": a2+ab-b2=ac-bc+ab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6) перенесём из левой части в правую "b2": a2+ab=ac-bc+ab+b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7) перенесём из правой части в левую "ac": a2+ab-ac=ab-bc+b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8) вынесем за скобку в левой части "a", а в правой "b": a(a-c+b)=b(a-c+b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9) сократим в левой и правой части на "a-c+b": a=b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10) Т.к. a и b -произвольные, то все числа равны друг другу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2) вынесем в левой части "4" и в правой части "5": 4(1:1)=5(1:1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3) сократим в левой и в правой части на 1:1: 4=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2) 16 - 36 + 81/4 = 25 - 45 + 81/4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3) 42 - 2 * 4 * 9/2 + (9/2)2 = 52 - 2 * 5 * 9/2 + (9/2)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4) (4 - 9/2)2 = (5 - 9/2)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5) 4 - 9/2 = 5 - 9/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6) 4 = 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7) 2 x 2 = 5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Не верь своим глаза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213372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1.Муха вдвое тяжелее слон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  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2.Расстояние от Земли до Солнца равно       толщине  волоск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  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3.64=65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292929"/>
                </a:solidFill>
                <a:latin typeface="Arial"/>
              </a:rPr>
              <a:t>4.Спичка вдвое длиннее телеграфного    столб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1700280"/>
            <a:ext cx="7158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Arial"/>
              </a:rPr>
              <a:t>Цели 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48960" y="2781000"/>
            <a:ext cx="76611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.Найти ошибку в рассуждени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2.Дать математическое обоснование найденной ошибке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3.Найти аналогичные примеры «ошибок».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54936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В математических вопросах нельзя пренебрегать даже с самыми малыми ошибкам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                                                                                    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И. Ньютон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1916280"/>
            <a:ext cx="7157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3409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Arial"/>
              </a:rPr>
              <a:t>Задачи иссле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3068280"/>
            <a:ext cx="7661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1.Научить обосновывать свои утверждения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2.Анализировать результат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Arial"/>
              </a:rPr>
              <a:t>3. Находить верное решение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62064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В математических вопросах нельзя пренебрегать даже с самыми малыми ошибками.                                       И.Ньютон                                                                      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-468720" y="3357720"/>
            <a:ext cx="9001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70000" indent="-3873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.Все числа равны между собой. 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Любое число равно противоположному ему числу. 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.Отрицательное число больше положительного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*2=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549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Только с алгеброй начинается строгое математическое учени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                                                                       </a:t>
            </a: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Н.И.Лобачевски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16000" y="1628640"/>
            <a:ext cx="6769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99cc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физмы в алгебре</a:t>
            </a:r>
            <a:endParaRPr b="0" lang="en-US" sz="1800" spc="1" strike="noStrike">
              <a:ln w="9360">
                <a:solidFill>
                  <a:srgbClr val="ff6699"/>
                </a:solidFill>
                <a:miter/>
              </a:ln>
              <a:solidFill>
                <a:srgbClr val="ff99cc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3573360"/>
            <a:ext cx="76611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en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Через точку не лежащую на прямой можно провести две прямые, параллельные данной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ямой угол равен тупому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сякий треугольник равнобедренный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8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нешний угол треугольника равен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16000" y="1773360"/>
            <a:ext cx="6985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6699"/>
                  </a:solidFill>
                  <a:miter/>
                </a:ln>
                <a:solidFill>
                  <a:srgbClr val="ff66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офизмы в геометрии</a:t>
            </a:r>
            <a:endParaRPr b="0" lang="en-US" sz="3200" spc="1" strike="noStrike">
              <a:ln w="9360">
                <a:solidFill>
                  <a:srgbClr val="ff6699"/>
                </a:solidFill>
                <a:miter/>
              </a:ln>
              <a:solidFill>
                <a:srgbClr val="ff66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116000" y="1052280"/>
            <a:ext cx="698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360" y="333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6633"/>
                </a:solidFill>
                <a:latin typeface="Arial"/>
              </a:rPr>
              <a:t>Геометрия полна приключений, потому что за каждой задачей скрывается приключение мысли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6633"/>
                </a:solidFill>
                <a:latin typeface="Arial"/>
              </a:rPr>
              <a:t>                                                                   </a:t>
            </a:r>
            <a:r>
              <a:rPr b="0" i="1" lang="en-US" sz="1800" spc="-1" strike="noStrike">
                <a:solidFill>
                  <a:srgbClr val="996633"/>
                </a:solidFill>
                <a:latin typeface="Arial"/>
              </a:rPr>
              <a:t>В. Произволов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403280" y="3141720"/>
            <a:ext cx="6553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292929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Расстояние от Земли до Солнца равно толщине волоска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292929"/>
                </a:solidFill>
                <a:latin typeface="Arial"/>
              </a:rPr>
              <a:t>2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Муха вдвое тяжелее слона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292929"/>
                </a:solidFill>
                <a:latin typeface="Arial"/>
              </a:rPr>
              <a:t>3.64=65.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292929"/>
                </a:solidFill>
                <a:latin typeface="Arial"/>
              </a:rPr>
              <a:t>4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Спичка вдвое длиннее телеграфного столба.</a:t>
            </a:r>
            <a:r>
              <a:rPr b="0" lang="en" sz="2800" spc="-1" strike="noStrike">
                <a:solidFill>
                  <a:srgbClr val="292929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58920" y="-459000"/>
            <a:ext cx="69134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Предмет математики столь серьезен, что не следует упускать ни одной возможности сделать его более занимательным. </a:t>
            </a:r>
            <a:br>
              <a:rPr sz="1800"/>
            </a:b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                                                                                 (Б. Паскаль)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11280" y="1989000"/>
            <a:ext cx="68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е верь глазам своим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3348000" cy="201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Arial"/>
              </a:rPr>
              <a:t>Именно математика дает надежнейшие правила: кто им следует – тому не опасен обман чувств                                Л. Эйл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2708280"/>
            <a:ext cx="6048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.Разбор софизмов помогает сознательному усвоению изучаемого материал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.Развивает наблюдательность и вдумчивость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3.Позволяет критически относится к изучаемому материалу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2700360" cy="4680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826920" y="1916280"/>
            <a:ext cx="396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воды:</a:t>
            </a:r>
            <a:endParaRPr b="0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Величие человека - в его способности мыслить.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    </a:t>
            </a:r>
            <a:br>
              <a:rPr sz="2000"/>
            </a:b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                                                                    </a:t>
            </a: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(Б. Паскаль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озьмем произвольное число а, обозначим его х (а = х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.Обе части этого равенства умножим на -4а.(-4ах=4а 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3. К обеим частям этого равенства прибавим х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.(х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-4ах+4а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= х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4.Получим:(х-2а)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= х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х-2а=х,но х =  а ,поэтому а-2а=а,или а = -а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756720" y="227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48960" y="692280"/>
            <a:ext cx="766116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Arial"/>
              </a:rPr>
              <a:t>СОФИЗМ "СПИЧКА ВДВОЕ ДЛИННЕЕ ТЕЛЕГРАФНОГО СТОЛБА«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усть 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а дм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- длина спички и b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дм -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длина столба. Разность между b и  a  обозначим через c 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меем  b - a = c, b = a + c. Перемножаем два эти равенства по частям, находим: b2 - ab = ca + c2. Вычтем из обеих частей bc. Получим: b2- ab - bc = ca + c2 - bc, или b(b - a - c) = - c(b - a - c), откуда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b = - c, но c = b - a, поэтому b = a - b, или a = 2b.    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ДОКАЗАТЕЛЬСТВО СОФИЗМА</a:t>
            </a:r>
            <a:br>
              <a:rPr sz="2000"/>
            </a:b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"СПИЧКА ВДВОЕ ДЛИННЕЕ ТЕЛЕГРАФНОГО СТОЛБА"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 выражении b(b-a-c )= -c(b-a-c) производится деление на (b-a-c), а этого делать нельзя, так как b-a-c=0.Значит, спичка не может быть вдвое длиннее телеграфного столба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9:56:45Z</dcterms:created>
  <dc:creator>user</dc:creator>
  <dc:description/>
  <dc:language>en-US</dc:language>
  <cp:lastModifiedBy>Танюляr</cp:lastModifiedBy>
  <dcterms:modified xsi:type="dcterms:W3CDTF">2009-04-07T14:36:26Z</dcterms:modified>
  <cp:revision>19</cp:revision>
  <dc:subject/>
  <dc:title>Презентация</dc:title>
</cp:coreProperties>
</file>