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097-E380-4381-A3F0-AAA5E238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D53-5A3F-4BFD-ADE0-975899AF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2A7-6F6B-4FB7-8A43-A4AB7EC1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7E5-C98D-4996-BAFB-4492A7AE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D92E-B019-4D13-9538-40432C16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6682-45D7-4D04-A437-2C069CEB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A274-B178-4E5F-9A64-69092477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B7D1-8A09-4665-AFF9-0C27DED2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D66A-B513-4EF3-BCA1-E3E91948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D2D6-51EF-4325-B892-CCC1126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DC49-9EEE-4A70-AA00-2339B5D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D2D-EFD0-49A3-A249-6146EAAC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FC7-6B2F-49ED-B15A-30072E8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3B98-C657-44AC-B318-FC9B762A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4415-02D8-450C-B835-BBF4981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96C-7EAC-4D2C-8925-85CFC800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27DE-1D4F-4EC5-9670-1923C3A0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4FA-43CE-464A-B47C-2DCC1B48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639-BE05-436A-BA32-85083D58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160-EF56-4E1B-B8BD-81070FAF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084-A92A-4226-9C5A-CE8951E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509-E72B-4BD8-8F85-E713934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96E-ABB0-4CBB-8DD2-AD24B4DD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CAF-7B96-4539-BB4F-D4CED3CA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22CF-6F91-4207-9382-95C0D6C1A84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8FA-D2B9-45B9-BADA-2152F0516C3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http://progr.narod.ru/math/logic_paradox/logic.htm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7272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cademy Italic"/>
              </a:rPr>
              <a:t>«Правильно понятая ошибка-это путь к открытию»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Academy Italic"/>
              </a:rPr>
              <a:t>                                               И.П.Павлов</a:t>
            </a:r>
            <a:r>
              <a:rPr b="0" lang="en-US" sz="2400" spc="-1" strike="noStrike">
                <a:solidFill>
                  <a:srgbClr val="ff6699"/>
                </a:solidFill>
                <a:latin typeface="Academy Italic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0" y="5805000"/>
            <a:ext cx="4176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Учащиеся 7 класса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168360" cy="2536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708360" y="3284640"/>
            <a:ext cx="4967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физмы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Разбор софизмов прежде всего развивает логическое мышление, т.е. прививает навыки правильного мышления. Обнаружить ошибку в софизме - это значит осознать ее, а осознание ошибки предупреждает  от повторения ее в других математических рассуждениях. Помните, что важно добиться отчетливого понимания ошибок, иначе софизмы будут бесполезны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375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Для начала разберемся,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что же такое софизм?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Заглянем сперва в словарь Ожегова: Софизм, -а,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м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 (книжн.).</a:t>
            </a:r>
            <a:br>
              <a:rPr sz="3200"/>
            </a:b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Формально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кажущееся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авильным,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но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о существу ложное умозаключение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, основанное на преднамеренно неправильном подборе исходных положени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физм 64 = 65 (</a:t>
            </a:r>
            <a:r>
              <a:rPr b="0" lang="ru-RU" sz="3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hi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999933"/>
                </a:solidFill>
                <a:uFillTx/>
                <a:latin typeface="Arial"/>
                <a:hlinkClick r:id="rId2" action="ppaction://hlinksldjump"/>
              </a:rPr>
              <a:t>реш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15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Слева имеем на клетчатой бумаге нарисованный прямоугольник размерами 5 x 13, т.е. площадью 65. Справа имеем квадрат 8 x 8 = 64. Обе фигуры разрезаны на попарно равные части. Отсюда, их площади равны; следовательно, 64 = 65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В этом софизме проявляется еще одно интересное свойство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3" action="ppaction://hlinksldjump"/>
              </a:rPr>
              <a:t>чисел Фибоначчи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 (он же Леонардо Пизанский (1180 - 1240), итальянский математик). Вкратце это так: первоначальный прямоугольник 5 x 13 разрезан на такие части, что 5 + 8 = 13 (по оси x). Квадрат же составлен 8 x 8, т.е. среднее между числами 5 и 13 в ряде Фибоначчи. Подробнее об этом можно узнать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здесь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4573080" y="2832480"/>
            <a:ext cx="182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682b4"/>
                </a:solidFill>
                <a:latin typeface="Arial"/>
                <a:ea typeface="Arial"/>
              </a:rPr>
              <a:t>              </a:t>
            </a:r>
            <a:r>
              <a:rPr b="1" lang="en-US" sz="7200" spc="-1" strike="noStrike">
                <a:solidFill>
                  <a:srgbClr val="4682b4"/>
                </a:solidFill>
                <a:latin typeface="Arial"/>
                <a:ea typeface="Arial"/>
              </a:rPr>
              <a:t> </a:t>
            </a:r>
            <a:r>
              <a:rPr b="1" lang="en-US" sz="800" spc="-1" strike="noStrike">
                <a:solidFill>
                  <a:srgbClr val="4682b4"/>
                </a:solidFill>
                <a:latin typeface="Arial"/>
                <a:ea typeface="Arial"/>
              </a:rPr>
              <a:t>                                  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866600" cy="100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572000" y="5445000"/>
            <a:ext cx="120024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 числа равны друг другу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Пусть c=a+b, где a, b -произвольные числа 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a2-b2=(a-b)(a+b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3) т.к. a+b=c, то получим следующее тождество: a2-b2=(a-b)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4) раскроем скобки в правой части: a2-b2=ac-b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5) добавим к правой и левой части "ab": a2+ab-b2=ac-bc+ab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6) перенесём из левой части в правую "b2": a2+ab=ac-bc+ab+b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7) перенесём из правой части в левую "ac": a2+ab-ac=ab-bc+b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8) вынесем за скобку в левой части "a", а в правой "b": a(a-c+b)=b(a-c+b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9) сократим в левой и правой части на "a-c+b": a=b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0) Т.к. a и b -произвольные, то все числа равны друг другу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вынесем в левой части "4" и в правой части "5": 4(1:1)=5(1:1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3) сократим в левой и в правой части на 1:1: 4=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16 - 36 + 81/4 = 25 - 45 + 81/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3) 42 - 2 * 4 * 9/2 + (9/2)2 = 52 - 2 * 5 * 9/2 + (9/2)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4) (4 - 9/2)2 = (5 - 9/2)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5) 4 - 9/2 = 5 - 9/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6) 4 = 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7) 2 x 2 = 5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Не верь своим глаз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1.Муха вдвое тяжелее слон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  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2.Расстояние от Земли до Солнца равно       толщине  волоск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  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3.64=6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4.Спичка вдвое длиннее телеграфного    столб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158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Цели 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2781000"/>
            <a:ext cx="7661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Найти ошибку в рассуждени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Дать математическое обоснование найденной ошибке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Найти аналогичные примеры «ошибок»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4936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 математических вопросах нельзя пренебрегать даже с самыми малыми ошибкам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И. Ньютон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1916280"/>
            <a:ext cx="7157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Задачи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3068280"/>
            <a:ext cx="7661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1.Научить обосновывать свои утверждения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2.Анализировать результат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3. Находить верное решение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62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 математических вопросах нельзя пренебрегать даже с самыми малыми ошибками.                                       И.Ньютон                                                                   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468720" y="3357720"/>
            <a:ext cx="900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Все числа равны между собой.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Любое число равно противоположному ему числу.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Отрицательное число больше положительног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*2=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549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Только с алгеброй начинается строгое математическое уч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Н.И.Лобачев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16000" y="1628640"/>
            <a:ext cx="6769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99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физмы в алгебре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99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3573360"/>
            <a:ext cx="76611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рез точку не лежащую на прямой можно провести две прямые, параллельные данной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ямой угол равен тупому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сякий треугольник равнобедренный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нешний угол треугольника равен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16000" y="177336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физмы в геометрии</a:t>
            </a:r>
            <a:endParaRPr b="0" lang="en-US" sz="32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16000" y="1052280"/>
            <a:ext cx="698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3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33"/>
                </a:solidFill>
                <a:latin typeface="Arial"/>
              </a:rPr>
              <a:t>Геометрия полна приключений, потому что за каждой задачей скрывается приключение мысл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</a:t>
            </a:r>
            <a:r>
              <a:rPr b="0" i="1" lang="en-US" sz="1800" spc="-1" strike="noStrike">
                <a:solidFill>
                  <a:srgbClr val="996633"/>
                </a:solidFill>
                <a:latin typeface="Arial"/>
              </a:rPr>
              <a:t>В. Произволов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3280" y="3141720"/>
            <a:ext cx="65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сстояние от Земли до Солнца равно толщине волоска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Муха вдвое тяжелее слона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3.64=65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пичка вдвое длиннее телеграфного столба.</a:t>
            </a: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58920" y="-459000"/>
            <a:ext cx="691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редмет математики столь серьезен, что не следует упускать ни одной возможности сделать его более занимательным. </a:t>
            </a:r>
            <a:br>
              <a:rPr sz="1800"/>
            </a:b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             (Б. Паскаль)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1280" y="1989000"/>
            <a:ext cx="68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 верь глазам свои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3348000" cy="20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Именно математика дает надежнейшие правила: кто им следует – тому не опасен обман чувств                                Л. 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604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Разбор софизмов помогает сознательному усвоению изучаемого матери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Развивает наблюдательность и вдумчивос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Позволяет критически относится к изучаемому материал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70036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826920" y="1916280"/>
            <a:ext cx="39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: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Величие человека - в его способности мыслить.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(Б. Паскаль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озьмем произвольное число а, обозначим его х (а = х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.Обе части этого равенства умножим на -4а.(-4ах=4а 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3. К обеим частям этого равенства прибавим 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(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-4ах+4а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= 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4.Получим:(х-2а)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= 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х-2а=х,но х =  а ,поэтому а-2а=а,или а = -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5672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48960" y="692280"/>
            <a:ext cx="76611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СОФИЗМ "СПИЧКА ВДВОЕ ДЛИННЕЕ ТЕЛЕГРАФНОГО СТОЛБА«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усть 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а дм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- длина спички и b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дм -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лина столба. Разность между b и  a  обозначим через c 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меем  b - a = c, b = a + c. Перемножаем два эти равенства по частям, находим: b2 - ab = ca + c2. Вычтем из обеих частей bc. Получим: b2- ab - bc = ca + c2 - bc, или b(b - a - c) = - c(b - a - c), откуда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b = - c, но c = b - a, поэтому b = a - b, или a = 2b.    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ДОКАЗАТЕЛЬСТВО СОФИЗМА</a:t>
            </a:r>
            <a:br>
              <a:rPr sz="2000"/>
            </a:b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"СПИЧКА ВДВОЕ ДЛИННЕЕ ТЕЛЕГРАФНОГО СТОЛБА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 выражении b(b-a-c )= -c(b-a-c) производится деление на (b-a-c), а этого делать нельзя, так как b-a-c=0.Значит, спичка не может быть вдвое длиннее телеграфного столб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9:56:45Z</dcterms:created>
  <dc:creator>user</dc:creator>
  <dc:description/>
  <dc:language>en-US</dc:language>
  <cp:lastModifiedBy>Танюляr</cp:lastModifiedBy>
  <dcterms:modified xsi:type="dcterms:W3CDTF">2009-04-07T14:36:26Z</dcterms:modified>
  <cp:revision>19</cp:revision>
  <dc:subject/>
  <dc:title>Презентация</dc:title>
</cp:coreProperties>
</file>