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6C64-0D3C-4EE3-A972-C06B7EC07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Educational Technology Network. www.edtechnetwork.com 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6A06-36BC-437F-BA8B-FD4ED24A80B1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FF20-F922-4073-8DFE-DBD5A6CE3A82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A61-FFCE-400E-94CD-74F258AA1943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A19C-F6CB-493A-9433-97DEB99DE3BF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9D94-3D23-4371-A02F-048E60249C78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671A-111A-4493-B23D-123EEB5AE188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966E-F68B-4B5B-A6B0-93787D9FE0B9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B7C5-7DF0-4382-A89A-B9EA2C980E8E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1058-A84E-40EA-8E45-68E46DF18B5F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10F-B59D-414F-8B85-EAB0DE69556C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FAA5-D9DC-424F-917E-96B4303085CB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F8E1-0845-4367-B400-B8D3F5AECD9E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B977-0158-46B0-9389-6CC165C7E058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2C8-AE8A-4801-B2B3-C17D8B1BA2D3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92B0-3BBE-4339-A43A-65B7CB5ACEF1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D4BF-4B58-404B-8F15-546F9A512535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0060-D882-41C2-9668-DA1604DFF6AD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58E8-B724-445B-A6FB-1690BA8E5C79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78E8-D832-439A-9691-49FB676CAFEB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0513-5FF8-4CCB-8298-FEBDCA389D80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901-19D5-433E-9313-AA525D70C61D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7B4F-A228-4713-BFF6-61833B4C91B6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7831-82FF-42AE-9F56-0259A8560A9B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DD2-872E-41E7-ADDF-8B1BFD807D5D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5943-25BE-4F5D-9C78-F6623DC9DB68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C9BC-E671-4273-8E33-504780D1BA3A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9C47-9679-4943-A832-BDB711C59FF3}" type="slidenum">
              <a:rPr b="0" lang="en-US" sz="1200" spc="-1" strike="noStrike">
                <a:solidFill>
                  <a:srgbClr val="f8f8f8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8B3C-D551-4EF3-A71C-3BC3D52D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DC4-6A08-4921-B263-7FBE367D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897-0B5F-4698-A99E-1CFB6C37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AE4-9151-4C37-9008-818181D0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F4CE-CD2E-4D62-A02F-A5EE9E38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46D-2093-4A32-AB76-FCF8A58E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BA9C-2BC5-4874-8088-248268BD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49EE-178B-477C-8F10-D2069397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F977-FB10-4193-99B5-5C2280A9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37649-2D27-41C1-BF75-8F375B9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D108-E014-47B3-A79A-E607F5EC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E08-9CCB-4810-BC1F-6B710B9E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A324-C87E-42D2-8166-A692793F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25F7-40C3-4DCD-A067-BD0E287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C978-8C01-4599-B670-4A04577A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9894-5C91-42F7-9985-F1E5175F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3C8A-DE03-48C5-9B9C-B5921338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FE6-A144-46EB-925A-4DE4E598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6FAD-20B1-433C-9CFA-6A4EECAE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6125-CBE9-4B2C-B4AD-C4AD4CF2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A7A-2DD0-4F34-B80C-958798CB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1B40-7990-49AD-89A9-0B433D5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C981-1BBC-4AA7-BA37-31AEE495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6A27-D760-4D04-A096-9658FFB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121-82D9-4468-912F-1A7F2D42F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A023-D38F-449F-B70C-2F20849E507B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" Target="slide3.xml"/><Relationship Id="rId7" Type="http://schemas.openxmlformats.org/officeDocument/2006/relationships/image" Target="../media/image7.png"/><Relationship Id="rId8" Type="http://schemas.openxmlformats.org/officeDocument/2006/relationships/slide" Target="slide4.xml"/><Relationship Id="rId9" Type="http://schemas.openxmlformats.org/officeDocument/2006/relationships/image" Target="../media/image8.png"/><Relationship Id="rId10" Type="http://schemas.openxmlformats.org/officeDocument/2006/relationships/slide" Target="slide5.xml"/><Relationship Id="rId11" Type="http://schemas.openxmlformats.org/officeDocument/2006/relationships/image" Target="../media/image7.png"/><Relationship Id="rId12" Type="http://schemas.openxmlformats.org/officeDocument/2006/relationships/slide" Target="slide6.xml"/><Relationship Id="rId13" Type="http://schemas.openxmlformats.org/officeDocument/2006/relationships/image" Target="../media/image8.png"/><Relationship Id="rId14" Type="http://schemas.openxmlformats.org/officeDocument/2006/relationships/slide" Target="slide7.xml"/><Relationship Id="rId15" Type="http://schemas.openxmlformats.org/officeDocument/2006/relationships/image" Target="../media/image7.png"/><Relationship Id="rId16" Type="http://schemas.openxmlformats.org/officeDocument/2006/relationships/slide" Target="slide11.xml"/><Relationship Id="rId17" Type="http://schemas.openxmlformats.org/officeDocument/2006/relationships/image" Target="../media/image9.png"/><Relationship Id="rId18" Type="http://schemas.openxmlformats.org/officeDocument/2006/relationships/slide" Target="slide10.xml"/><Relationship Id="rId19" Type="http://schemas.openxmlformats.org/officeDocument/2006/relationships/image" Target="../media/image10.png"/><Relationship Id="rId20" Type="http://schemas.openxmlformats.org/officeDocument/2006/relationships/slide" Target="slide9.xml"/><Relationship Id="rId21" Type="http://schemas.openxmlformats.org/officeDocument/2006/relationships/image" Target="../media/image9.png"/><Relationship Id="rId22" Type="http://schemas.openxmlformats.org/officeDocument/2006/relationships/slide" Target="slide8.xml"/><Relationship Id="rId23" Type="http://schemas.openxmlformats.org/officeDocument/2006/relationships/image" Target="../media/image10.png"/><Relationship Id="rId24" Type="http://schemas.openxmlformats.org/officeDocument/2006/relationships/slide" Target="slide12.xml"/><Relationship Id="rId25" Type="http://schemas.openxmlformats.org/officeDocument/2006/relationships/image" Target="../media/image10.png"/><Relationship Id="rId26" Type="http://schemas.openxmlformats.org/officeDocument/2006/relationships/slide" Target="slide17.xml"/><Relationship Id="rId27" Type="http://schemas.openxmlformats.org/officeDocument/2006/relationships/image" Target="../media/image7.png"/><Relationship Id="rId28" Type="http://schemas.openxmlformats.org/officeDocument/2006/relationships/slide" Target="slide16.xml"/><Relationship Id="rId29" Type="http://schemas.openxmlformats.org/officeDocument/2006/relationships/image" Target="../media/image8.png"/><Relationship Id="rId30" Type="http://schemas.openxmlformats.org/officeDocument/2006/relationships/slide" Target="slide15.xml"/><Relationship Id="rId31" Type="http://schemas.openxmlformats.org/officeDocument/2006/relationships/image" Target="../media/image7.png"/><Relationship Id="rId32" Type="http://schemas.openxmlformats.org/officeDocument/2006/relationships/slide" Target="slide14.xml"/><Relationship Id="rId33" Type="http://schemas.openxmlformats.org/officeDocument/2006/relationships/image" Target="../media/image8.png"/><Relationship Id="rId34" Type="http://schemas.openxmlformats.org/officeDocument/2006/relationships/slide" Target="slide13.xml"/><Relationship Id="rId35" Type="http://schemas.openxmlformats.org/officeDocument/2006/relationships/image" Target="../media/image7.png"/><Relationship Id="rId36" Type="http://schemas.openxmlformats.org/officeDocument/2006/relationships/slide" Target="slide22.xml"/><Relationship Id="rId37" Type="http://schemas.openxmlformats.org/officeDocument/2006/relationships/image" Target="../media/image10.png"/><Relationship Id="rId38" Type="http://schemas.openxmlformats.org/officeDocument/2006/relationships/slide" Target="slide21.xml"/><Relationship Id="rId39" Type="http://schemas.openxmlformats.org/officeDocument/2006/relationships/image" Target="../media/image9.png"/><Relationship Id="rId40" Type="http://schemas.openxmlformats.org/officeDocument/2006/relationships/slide" Target="slide20.xml"/><Relationship Id="rId41" Type="http://schemas.openxmlformats.org/officeDocument/2006/relationships/image" Target="../media/image10.png"/><Relationship Id="rId42" Type="http://schemas.openxmlformats.org/officeDocument/2006/relationships/slide" Target="slide19.xml"/><Relationship Id="rId43" Type="http://schemas.openxmlformats.org/officeDocument/2006/relationships/image" Target="../media/image9.png"/><Relationship Id="rId44" Type="http://schemas.openxmlformats.org/officeDocument/2006/relationships/slide" Target="slide18.xml"/><Relationship Id="rId45" Type="http://schemas.openxmlformats.org/officeDocument/2006/relationships/image" Target="../media/image10.png"/><Relationship Id="rId46" Type="http://schemas.openxmlformats.org/officeDocument/2006/relationships/slide" Target="slide27.xml"/><Relationship Id="rId47" Type="http://schemas.openxmlformats.org/officeDocument/2006/relationships/image" Target="../media/image7.png"/><Relationship Id="rId48" Type="http://schemas.openxmlformats.org/officeDocument/2006/relationships/slide" Target="slide26.xml"/><Relationship Id="rId49" Type="http://schemas.openxmlformats.org/officeDocument/2006/relationships/image" Target="../media/image8.png"/><Relationship Id="rId50" Type="http://schemas.openxmlformats.org/officeDocument/2006/relationships/slide" Target="slide25.xml"/><Relationship Id="rId51" Type="http://schemas.openxmlformats.org/officeDocument/2006/relationships/image" Target="../media/image7.png"/><Relationship Id="rId52" Type="http://schemas.openxmlformats.org/officeDocument/2006/relationships/slide" Target="slide24.xml"/><Relationship Id="rId53" Type="http://schemas.openxmlformats.org/officeDocument/2006/relationships/image" Target="../media/image8.png"/><Relationship Id="rId54" Type="http://schemas.openxmlformats.org/officeDocument/2006/relationships/slide" Target="slide23.xml"/><Relationship Id="rId55" Type="http://schemas.openxmlformats.org/officeDocument/2006/relationships/image" Target="../media/image7.png"/><Relationship Id="rId56" Type="http://schemas.openxmlformats.org/officeDocument/2006/relationships/slideLayout" Target="../slideLayouts/slideLayout1.xml"/><Relationship Id="rId5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TextBox 2" descr=""/>
          <p:cNvPicPr/>
          <p:nvPr/>
        </p:nvPicPr>
        <p:blipFill>
          <a:blip r:embed="rId1"/>
          <a:stretch/>
        </p:blipFill>
        <p:spPr>
          <a:xfrm>
            <a:off x="804960" y="609480"/>
            <a:ext cx="7619760" cy="14511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Users\Амалия\Desktop\Анимашки\АНИМАЦИИ\starr_7_200.gif"/>
          <p:cNvPicPr/>
          <p:nvPr/>
        </p:nvPicPr>
        <p:blipFill>
          <a:blip r:embed="rId2"/>
          <a:stretch/>
        </p:blipFill>
        <p:spPr>
          <a:xfrm>
            <a:off x="3533760" y="25131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Амалия\Desktop\Анимашки\Звёзды\star2.gif"/>
          <p:cNvPicPr/>
          <p:nvPr/>
        </p:nvPicPr>
        <p:blipFill>
          <a:blip r:embed="rId3"/>
          <a:stretch/>
        </p:blipFill>
        <p:spPr>
          <a:xfrm>
            <a:off x="4230720" y="23004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Амалия\Desktop\Анимашки\Звёзды\star2.gif"/>
          <p:cNvPicPr/>
          <p:nvPr/>
        </p:nvPicPr>
        <p:blipFill>
          <a:blip r:embed="rId4"/>
          <a:stretch/>
        </p:blipFill>
        <p:spPr>
          <a:xfrm>
            <a:off x="5818320" y="403704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Users\Амалия\Desktop\Анимашки\Звёзды\star2.gif"/>
          <p:cNvPicPr/>
          <p:nvPr/>
        </p:nvPicPr>
        <p:blipFill>
          <a:blip r:embed="rId5"/>
          <a:stretch/>
        </p:blipFill>
        <p:spPr>
          <a:xfrm>
            <a:off x="3008160" y="403704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C:\Users\Амалия\Desktop\Анимашки\Звёзды\star2.gif"/>
          <p:cNvPicPr/>
          <p:nvPr/>
        </p:nvPicPr>
        <p:blipFill>
          <a:blip r:embed="rId6"/>
          <a:stretch/>
        </p:blipFill>
        <p:spPr>
          <a:xfrm>
            <a:off x="2627280" y="25131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C:\Users\Амалия\Desktop\Анимашки\Звёзды\star2.gif"/>
          <p:cNvPicPr/>
          <p:nvPr/>
        </p:nvPicPr>
        <p:blipFill>
          <a:blip r:embed="rId7"/>
          <a:stretch/>
        </p:blipFill>
        <p:spPr>
          <a:xfrm>
            <a:off x="6199200" y="254016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C:\Users\Амалия\Desktop\Анимашки\Звёзды\star2.gif"/>
          <p:cNvPicPr/>
          <p:nvPr/>
        </p:nvPicPr>
        <p:blipFill>
          <a:blip r:embed="rId8"/>
          <a:stretch/>
        </p:blipFill>
        <p:spPr>
          <a:xfrm>
            <a:off x="7370640" y="611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C:\Users\Амалия\Desktop\Анимашки\Звёзды\star2.gif"/>
          <p:cNvPicPr/>
          <p:nvPr/>
        </p:nvPicPr>
        <p:blipFill>
          <a:blip r:embed="rId9"/>
          <a:stretch/>
        </p:blipFill>
        <p:spPr>
          <a:xfrm>
            <a:off x="1353960" y="61128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C:\Users\Амалия\Desktop\Анимашки\Звёзды\star2.gif"/>
          <p:cNvPicPr/>
          <p:nvPr/>
        </p:nvPicPr>
        <p:blipFill>
          <a:blip r:embed="rId10"/>
          <a:stretch/>
        </p:blipFill>
        <p:spPr>
          <a:xfrm>
            <a:off x="4408560" y="57690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C:\Users\Амалия\Desktop\Анимашки\Звёзды\star2.gif"/>
          <p:cNvPicPr/>
          <p:nvPr/>
        </p:nvPicPr>
        <p:blipFill>
          <a:blip r:embed="rId11"/>
          <a:stretch/>
        </p:blipFill>
        <p:spPr>
          <a:xfrm>
            <a:off x="8040600" y="11430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C:\Users\Амалия\Desktop\Анимашки\Звёзды\star2.gif"/>
          <p:cNvPicPr/>
          <p:nvPr/>
        </p:nvPicPr>
        <p:blipFill>
          <a:blip r:embed="rId12"/>
          <a:stretch/>
        </p:blipFill>
        <p:spPr>
          <a:xfrm>
            <a:off x="1544760" y="32749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C:\Users\Амалия\Desktop\Анимашки\Звёзды\star2.gif"/>
          <p:cNvPicPr/>
          <p:nvPr/>
        </p:nvPicPr>
        <p:blipFill>
          <a:blip r:embed="rId13"/>
          <a:stretch/>
        </p:blipFill>
        <p:spPr>
          <a:xfrm>
            <a:off x="7348680" y="327492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C:\Users\Амалия\Desktop\Анимашки\Звёзды\star2.gif"/>
          <p:cNvPicPr/>
          <p:nvPr/>
        </p:nvPicPr>
        <p:blipFill>
          <a:blip r:embed="rId14"/>
          <a:stretch/>
        </p:blipFill>
        <p:spPr>
          <a:xfrm>
            <a:off x="2057400" y="53881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C:\Users\Амалия\Desktop\Анимашки\Звёзды\star2.gif"/>
          <p:cNvPicPr/>
          <p:nvPr/>
        </p:nvPicPr>
        <p:blipFill>
          <a:blip r:embed="rId15"/>
          <a:stretch/>
        </p:blipFill>
        <p:spPr>
          <a:xfrm>
            <a:off x="6580080" y="538812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C:\Users\Амалия\Desktop\Анимашки\Звёзды\star2.gif"/>
          <p:cNvPicPr/>
          <p:nvPr/>
        </p:nvPicPr>
        <p:blipFill>
          <a:blip r:embed="rId16"/>
          <a:stretch/>
        </p:blipFill>
        <p:spPr>
          <a:xfrm>
            <a:off x="611280" y="1177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2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2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2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n exam taken at the age of 16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n British schools is …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GCSE exam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3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3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33" name="TextBox 4"/>
          <p:cNvSpPr/>
          <p:nvPr/>
        </p:nvSpPr>
        <p:spPr>
          <a:xfrm>
            <a:off x="838080" y="1371600"/>
            <a:ext cx="75438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…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re highly prestigious private fee-paying boarding schools for pupils aged 13-18 in Britai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Public  school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3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3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38" name="TextBox 4"/>
          <p:cNvSpPr/>
          <p:nvPr/>
        </p:nvSpPr>
        <p:spPr>
          <a:xfrm>
            <a:off x="838080" y="1371600"/>
            <a:ext cx="75438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…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re small groups of children formed according to ability in each subject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et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4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4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43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teacher handed … coloured pencils to the class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ou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4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4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48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child looked at the picture and broke … laughter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nto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5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5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5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skill of making violins was handed … from father to su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down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5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5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5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lot of local wars break … in modern world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ou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rasal Verb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6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6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6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missing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“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nd … that knife!” shouted the policeman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over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6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6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6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Ann (know) English , she (speak) it now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knew,     would spea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7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7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Bob (learn) the poem by heart, he (not get) a bad mark yesterda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d learnt, wouldn’t have go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Rounded Rectangle 5"/>
          <p:cNvGrpSpPr/>
          <p:nvPr/>
        </p:nvGrpSpPr>
        <p:grpSpPr>
          <a:xfrm>
            <a:off x="7132680" y="426960"/>
            <a:ext cx="1809720" cy="743040"/>
            <a:chOff x="7132680" y="426960"/>
            <a:chExt cx="1809720" cy="743040"/>
          </a:xfrm>
        </p:grpSpPr>
        <p:pic>
          <p:nvPicPr>
            <p:cNvPr id="20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7132680" y="426960"/>
              <a:ext cx="18097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7196040" y="490680"/>
              <a:ext cx="168588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Animal Sounds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201600" y="426960"/>
            <a:ext cx="1730520" cy="743040"/>
            <a:chOff x="201600" y="426960"/>
            <a:chExt cx="1730520" cy="743040"/>
          </a:xfrm>
        </p:grpSpPr>
        <p:pic>
          <p:nvPicPr>
            <p:cNvPr id="20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01600" y="426960"/>
              <a:ext cx="17305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262080" y="490680"/>
              <a:ext cx="16095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Profession Words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5" name="Rounded Rectangle 7"/>
          <p:cNvGrpSpPr/>
          <p:nvPr/>
        </p:nvGrpSpPr>
        <p:grpSpPr>
          <a:xfrm>
            <a:off x="1951200" y="426960"/>
            <a:ext cx="1736640" cy="743040"/>
            <a:chOff x="1951200" y="426960"/>
            <a:chExt cx="1736640" cy="743040"/>
          </a:xfrm>
        </p:grpSpPr>
        <p:pic>
          <p:nvPicPr>
            <p:cNvPr id="206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1951200" y="426960"/>
              <a:ext cx="173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2014560" y="490680"/>
              <a:ext cx="16095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Education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08" name="Rounded Rectangle 8"/>
          <p:cNvGrpSpPr/>
          <p:nvPr/>
        </p:nvGrpSpPr>
        <p:grpSpPr>
          <a:xfrm>
            <a:off x="3706920" y="426960"/>
            <a:ext cx="1730160" cy="743040"/>
            <a:chOff x="3706920" y="426960"/>
            <a:chExt cx="1730160" cy="743040"/>
          </a:xfrm>
        </p:grpSpPr>
        <p:pic>
          <p:nvPicPr>
            <p:cNvPr id="209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3706920" y="426960"/>
              <a:ext cx="173016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3767040" y="490680"/>
              <a:ext cx="16099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Phrasal Verbs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1" name="Rounded Rectangle 9"/>
          <p:cNvGrpSpPr/>
          <p:nvPr/>
        </p:nvGrpSpPr>
        <p:grpSpPr>
          <a:xfrm>
            <a:off x="5456160" y="426960"/>
            <a:ext cx="1736640" cy="743040"/>
            <a:chOff x="5456160" y="426960"/>
            <a:chExt cx="1736640" cy="743040"/>
          </a:xfrm>
        </p:grpSpPr>
        <p:pic>
          <p:nvPicPr>
            <p:cNvPr id="212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5456160" y="426960"/>
              <a:ext cx="17366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519880" y="490680"/>
              <a:ext cx="160956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5b"/>
                  </a:solidFill>
                  <a:latin typeface="Times New Roman"/>
                </a:rPr>
                <a:t>Grammar </a:t>
              </a:r>
              <a:endParaRPr b="0" lang="en-US" sz="20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4" name="Rounded Rectangle 10"/>
          <p:cNvGrpSpPr/>
          <p:nvPr/>
        </p:nvGrpSpPr>
        <p:grpSpPr>
          <a:xfrm>
            <a:off x="201600" y="1189080"/>
            <a:ext cx="1730520" cy="1127160"/>
            <a:chOff x="201600" y="1189080"/>
            <a:chExt cx="1730520" cy="1127160"/>
          </a:xfrm>
        </p:grpSpPr>
        <p:pic>
          <p:nvPicPr>
            <p:cNvPr id="215" name="Rounded Rectangle 10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201600" y="1189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2811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17" name="Rounded Rectangle 11"/>
          <p:cNvGrpSpPr/>
          <p:nvPr/>
        </p:nvGrpSpPr>
        <p:grpSpPr>
          <a:xfrm>
            <a:off x="201600" y="2335320"/>
            <a:ext cx="1730520" cy="1120680"/>
            <a:chOff x="201600" y="2335320"/>
            <a:chExt cx="1730520" cy="1120680"/>
          </a:xfrm>
        </p:grpSpPr>
        <p:pic>
          <p:nvPicPr>
            <p:cNvPr id="218" name="Rounded Rectangle 1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201600" y="2335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2811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0" name="Rounded Rectangle 12"/>
          <p:cNvGrpSpPr/>
          <p:nvPr/>
        </p:nvGrpSpPr>
        <p:grpSpPr>
          <a:xfrm>
            <a:off x="201600" y="3475080"/>
            <a:ext cx="1730520" cy="1127160"/>
            <a:chOff x="201600" y="3475080"/>
            <a:chExt cx="1730520" cy="1127160"/>
          </a:xfrm>
        </p:grpSpPr>
        <p:pic>
          <p:nvPicPr>
            <p:cNvPr id="221" name="Rounded Rectangle 1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201600" y="3475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2811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3" name="Rounded Rectangle 13"/>
          <p:cNvGrpSpPr/>
          <p:nvPr/>
        </p:nvGrpSpPr>
        <p:grpSpPr>
          <a:xfrm>
            <a:off x="201600" y="4621320"/>
            <a:ext cx="1730520" cy="1120680"/>
            <a:chOff x="201600" y="4621320"/>
            <a:chExt cx="1730520" cy="1120680"/>
          </a:xfrm>
        </p:grpSpPr>
        <p:pic>
          <p:nvPicPr>
            <p:cNvPr id="224" name="Rounded Rectangle 13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201600" y="4621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2811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6" name="Rounded Rectangle 14"/>
          <p:cNvGrpSpPr/>
          <p:nvPr/>
        </p:nvGrpSpPr>
        <p:grpSpPr>
          <a:xfrm>
            <a:off x="201600" y="5761080"/>
            <a:ext cx="1730520" cy="1127160"/>
            <a:chOff x="201600" y="5761080"/>
            <a:chExt cx="1730520" cy="1127160"/>
          </a:xfrm>
        </p:grpSpPr>
        <p:pic>
          <p:nvPicPr>
            <p:cNvPr id="227" name="Rounded Rectangle 14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201600" y="5761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2811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29" name="Rounded Rectangle 15"/>
          <p:cNvGrpSpPr/>
          <p:nvPr/>
        </p:nvGrpSpPr>
        <p:grpSpPr>
          <a:xfrm>
            <a:off x="1951200" y="4621320"/>
            <a:ext cx="1736640" cy="1120680"/>
            <a:chOff x="1951200" y="4621320"/>
            <a:chExt cx="1736640" cy="1120680"/>
          </a:xfrm>
        </p:grpSpPr>
        <p:pic>
          <p:nvPicPr>
            <p:cNvPr id="230" name="Rounded Rectangle 15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951200" y="4621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0336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2" name="Rounded Rectangle 16"/>
          <p:cNvGrpSpPr/>
          <p:nvPr/>
        </p:nvGrpSpPr>
        <p:grpSpPr>
          <a:xfrm>
            <a:off x="1951200" y="3475080"/>
            <a:ext cx="1736640" cy="1127160"/>
            <a:chOff x="1951200" y="3475080"/>
            <a:chExt cx="1736640" cy="1127160"/>
          </a:xfrm>
        </p:grpSpPr>
        <p:pic>
          <p:nvPicPr>
            <p:cNvPr id="233" name="Rounded Rectangle 16" descr="">
              <a:hlinkClick r:id="rId18" action="ppaction://hlinksldjump"/>
            </p:cNvPr>
            <p:cNvPicPr/>
            <p:nvPr/>
          </p:nvPicPr>
          <p:blipFill>
            <a:blip r:embed="rId19"/>
            <a:stretch/>
          </p:blipFill>
          <p:spPr>
            <a:xfrm>
              <a:off x="1951200" y="3475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20336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5" name="Rounded Rectangle 17"/>
          <p:cNvGrpSpPr/>
          <p:nvPr/>
        </p:nvGrpSpPr>
        <p:grpSpPr>
          <a:xfrm>
            <a:off x="1951200" y="2335320"/>
            <a:ext cx="1736640" cy="1120680"/>
            <a:chOff x="1951200" y="2335320"/>
            <a:chExt cx="1736640" cy="1120680"/>
          </a:xfrm>
        </p:grpSpPr>
        <p:pic>
          <p:nvPicPr>
            <p:cNvPr id="236" name="Rounded Rectangle 17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1951200" y="2335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0336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38" name="Rounded Rectangle 18"/>
          <p:cNvGrpSpPr/>
          <p:nvPr/>
        </p:nvGrpSpPr>
        <p:grpSpPr>
          <a:xfrm>
            <a:off x="1951200" y="1189080"/>
            <a:ext cx="1736640" cy="1127160"/>
            <a:chOff x="1951200" y="1189080"/>
            <a:chExt cx="1736640" cy="1127160"/>
          </a:xfrm>
        </p:grpSpPr>
        <p:pic>
          <p:nvPicPr>
            <p:cNvPr id="239" name="Rounded Rectangle 18" descr="">
              <a:hlinkClick r:id="rId22" action="ppaction://hlinksldjump"/>
            </p:cNvPr>
            <p:cNvPicPr/>
            <p:nvPr/>
          </p:nvPicPr>
          <p:blipFill>
            <a:blip r:embed="rId23"/>
            <a:stretch/>
          </p:blipFill>
          <p:spPr>
            <a:xfrm>
              <a:off x="1951200" y="1189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0336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1" name="Rounded Rectangle 19"/>
          <p:cNvGrpSpPr/>
          <p:nvPr/>
        </p:nvGrpSpPr>
        <p:grpSpPr>
          <a:xfrm>
            <a:off x="1951200" y="5761080"/>
            <a:ext cx="1736640" cy="1127160"/>
            <a:chOff x="1951200" y="5761080"/>
            <a:chExt cx="1736640" cy="1127160"/>
          </a:xfrm>
        </p:grpSpPr>
        <p:pic>
          <p:nvPicPr>
            <p:cNvPr id="242" name="Rounded Rectangle 19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951200" y="5761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20336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4" name="Rounded Rectangle 20"/>
          <p:cNvGrpSpPr/>
          <p:nvPr/>
        </p:nvGrpSpPr>
        <p:grpSpPr>
          <a:xfrm>
            <a:off x="3706920" y="5761080"/>
            <a:ext cx="1730160" cy="1127160"/>
            <a:chOff x="3706920" y="5761080"/>
            <a:chExt cx="1730160" cy="1127160"/>
          </a:xfrm>
        </p:grpSpPr>
        <p:pic>
          <p:nvPicPr>
            <p:cNvPr id="245" name="Rounded Rectangle 20" descr="">
              <a:hlinkClick r:id="rId26" action="ppaction://hlinksldjump"/>
            </p:cNvPr>
            <p:cNvPicPr/>
            <p:nvPr/>
          </p:nvPicPr>
          <p:blipFill>
            <a:blip r:embed="rId27"/>
            <a:stretch/>
          </p:blipFill>
          <p:spPr>
            <a:xfrm>
              <a:off x="3706920" y="5761080"/>
              <a:ext cx="1730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786120" y="5843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47" name="Rounded Rectangle 21"/>
          <p:cNvGrpSpPr/>
          <p:nvPr/>
        </p:nvGrpSpPr>
        <p:grpSpPr>
          <a:xfrm>
            <a:off x="3706920" y="4621320"/>
            <a:ext cx="1730160" cy="1120680"/>
            <a:chOff x="3706920" y="4621320"/>
            <a:chExt cx="1730160" cy="1120680"/>
          </a:xfrm>
        </p:grpSpPr>
        <p:pic>
          <p:nvPicPr>
            <p:cNvPr id="248" name="Rounded Rectangle 21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3706920" y="4621320"/>
              <a:ext cx="1730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3786120" y="4700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0" name="Rounded Rectangle 22"/>
          <p:cNvGrpSpPr/>
          <p:nvPr/>
        </p:nvGrpSpPr>
        <p:grpSpPr>
          <a:xfrm>
            <a:off x="3706920" y="3475080"/>
            <a:ext cx="1730160" cy="1127160"/>
            <a:chOff x="3706920" y="3475080"/>
            <a:chExt cx="1730160" cy="1127160"/>
          </a:xfrm>
        </p:grpSpPr>
        <p:pic>
          <p:nvPicPr>
            <p:cNvPr id="251" name="Rounded Rectangle 22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706920" y="3475080"/>
              <a:ext cx="1730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3786120" y="3557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3" name="Rounded Rectangle 23"/>
          <p:cNvGrpSpPr/>
          <p:nvPr/>
        </p:nvGrpSpPr>
        <p:grpSpPr>
          <a:xfrm>
            <a:off x="3706920" y="2335320"/>
            <a:ext cx="1730160" cy="1120680"/>
            <a:chOff x="3706920" y="2335320"/>
            <a:chExt cx="1730160" cy="1120680"/>
          </a:xfrm>
        </p:grpSpPr>
        <p:pic>
          <p:nvPicPr>
            <p:cNvPr id="254" name="Rounded Rectangle 23" descr="">
              <a:hlinkClick r:id="rId32" action="ppaction://hlinksldjump"/>
            </p:cNvPr>
            <p:cNvPicPr/>
            <p:nvPr/>
          </p:nvPicPr>
          <p:blipFill>
            <a:blip r:embed="rId33"/>
            <a:stretch/>
          </p:blipFill>
          <p:spPr>
            <a:xfrm>
              <a:off x="3706920" y="2335320"/>
              <a:ext cx="173016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3786120" y="2414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6" name="Rounded Rectangle 24"/>
          <p:cNvGrpSpPr/>
          <p:nvPr/>
        </p:nvGrpSpPr>
        <p:grpSpPr>
          <a:xfrm>
            <a:off x="3706920" y="1189080"/>
            <a:ext cx="1730160" cy="1127160"/>
            <a:chOff x="3706920" y="1189080"/>
            <a:chExt cx="1730160" cy="1127160"/>
          </a:xfrm>
        </p:grpSpPr>
        <p:pic>
          <p:nvPicPr>
            <p:cNvPr id="257" name="Rounded Rectangle 24" descr="">
              <a:hlinkClick r:id="rId34" action="ppaction://hlinksldjump"/>
            </p:cNvPr>
            <p:cNvPicPr/>
            <p:nvPr/>
          </p:nvPicPr>
          <p:blipFill>
            <a:blip r:embed="rId35"/>
            <a:stretch/>
          </p:blipFill>
          <p:spPr>
            <a:xfrm>
              <a:off x="3706920" y="1189080"/>
              <a:ext cx="17301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3786120" y="1271520"/>
              <a:ext cx="157176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59" name="Rounded Rectangle 25"/>
          <p:cNvGrpSpPr/>
          <p:nvPr/>
        </p:nvGrpSpPr>
        <p:grpSpPr>
          <a:xfrm>
            <a:off x="5456160" y="5761080"/>
            <a:ext cx="1736640" cy="1127160"/>
            <a:chOff x="5456160" y="5761080"/>
            <a:chExt cx="1736640" cy="1127160"/>
          </a:xfrm>
        </p:grpSpPr>
        <p:pic>
          <p:nvPicPr>
            <p:cNvPr id="260" name="Rounded Rectangle 25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5456160" y="5761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53896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2" name="Rounded Rectangle 26"/>
          <p:cNvGrpSpPr/>
          <p:nvPr/>
        </p:nvGrpSpPr>
        <p:grpSpPr>
          <a:xfrm>
            <a:off x="5456160" y="4621320"/>
            <a:ext cx="1736640" cy="1120680"/>
            <a:chOff x="5456160" y="4621320"/>
            <a:chExt cx="1736640" cy="1120680"/>
          </a:xfrm>
        </p:grpSpPr>
        <p:pic>
          <p:nvPicPr>
            <p:cNvPr id="263" name="Rounded Rectangle 26" descr="">
              <a:hlinkClick r:id="rId38" action="ppaction://hlinksldjump"/>
            </p:cNvPr>
            <p:cNvPicPr/>
            <p:nvPr/>
          </p:nvPicPr>
          <p:blipFill>
            <a:blip r:embed="rId39"/>
            <a:stretch/>
          </p:blipFill>
          <p:spPr>
            <a:xfrm>
              <a:off x="5456160" y="4621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53896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5" name="Rounded Rectangle 27"/>
          <p:cNvGrpSpPr/>
          <p:nvPr/>
        </p:nvGrpSpPr>
        <p:grpSpPr>
          <a:xfrm>
            <a:off x="5456160" y="3475080"/>
            <a:ext cx="1736640" cy="1127160"/>
            <a:chOff x="5456160" y="3475080"/>
            <a:chExt cx="1736640" cy="1127160"/>
          </a:xfrm>
        </p:grpSpPr>
        <p:pic>
          <p:nvPicPr>
            <p:cNvPr id="266" name="Rounded Rectangle 27" descr="">
              <a:hlinkClick r:id="rId40" action="ppaction://hlinksldjump"/>
            </p:cNvPr>
            <p:cNvPicPr/>
            <p:nvPr/>
          </p:nvPicPr>
          <p:blipFill>
            <a:blip r:embed="rId41"/>
            <a:stretch/>
          </p:blipFill>
          <p:spPr>
            <a:xfrm>
              <a:off x="5456160" y="3475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53896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68" name="Rounded Rectangle 28"/>
          <p:cNvGrpSpPr/>
          <p:nvPr/>
        </p:nvGrpSpPr>
        <p:grpSpPr>
          <a:xfrm>
            <a:off x="5456160" y="2335320"/>
            <a:ext cx="1736640" cy="1120680"/>
            <a:chOff x="5456160" y="2335320"/>
            <a:chExt cx="1736640" cy="1120680"/>
          </a:xfrm>
        </p:grpSpPr>
        <p:pic>
          <p:nvPicPr>
            <p:cNvPr id="269" name="Rounded Rectangle 28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56160" y="2335320"/>
              <a:ext cx="173664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53896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1" name="Rounded Rectangle 29"/>
          <p:cNvGrpSpPr/>
          <p:nvPr/>
        </p:nvGrpSpPr>
        <p:grpSpPr>
          <a:xfrm>
            <a:off x="5456160" y="1189080"/>
            <a:ext cx="1736640" cy="1127160"/>
            <a:chOff x="5456160" y="1189080"/>
            <a:chExt cx="1736640" cy="1127160"/>
          </a:xfrm>
        </p:grpSpPr>
        <p:pic>
          <p:nvPicPr>
            <p:cNvPr id="272" name="Rounded Rectangle 29" descr="">
              <a:hlinkClick r:id="rId44" action="ppaction://hlinksldjump"/>
            </p:cNvPr>
            <p:cNvPicPr/>
            <p:nvPr/>
          </p:nvPicPr>
          <p:blipFill>
            <a:blip r:embed="rId45"/>
            <a:stretch/>
          </p:blipFill>
          <p:spPr>
            <a:xfrm>
              <a:off x="5456160" y="1189080"/>
              <a:ext cx="173664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53896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4" name="Rounded Rectangle 30"/>
          <p:cNvGrpSpPr/>
          <p:nvPr/>
        </p:nvGrpSpPr>
        <p:grpSpPr>
          <a:xfrm>
            <a:off x="7211880" y="5761080"/>
            <a:ext cx="1730520" cy="1127160"/>
            <a:chOff x="7211880" y="5761080"/>
            <a:chExt cx="1730520" cy="1127160"/>
          </a:xfrm>
        </p:grpSpPr>
        <p:pic>
          <p:nvPicPr>
            <p:cNvPr id="275" name="Rounded Rectangle 30" descr="">
              <a:hlinkClick r:id="rId46" action="ppaction://hlinksldjump"/>
            </p:cNvPr>
            <p:cNvPicPr/>
            <p:nvPr/>
          </p:nvPicPr>
          <p:blipFill>
            <a:blip r:embed="rId47"/>
            <a:stretch/>
          </p:blipFill>
          <p:spPr>
            <a:xfrm>
              <a:off x="7211880" y="5761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7291440" y="5843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5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77" name="Rounded Rectangle 31"/>
          <p:cNvGrpSpPr/>
          <p:nvPr/>
        </p:nvGrpSpPr>
        <p:grpSpPr>
          <a:xfrm>
            <a:off x="7211880" y="4621320"/>
            <a:ext cx="1730520" cy="1120680"/>
            <a:chOff x="7211880" y="4621320"/>
            <a:chExt cx="1730520" cy="1120680"/>
          </a:xfrm>
        </p:grpSpPr>
        <p:pic>
          <p:nvPicPr>
            <p:cNvPr id="278" name="Rounded Rectangle 31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7211880" y="4621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7291440" y="4700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4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0" name="Rounded Rectangle 32"/>
          <p:cNvGrpSpPr/>
          <p:nvPr/>
        </p:nvGrpSpPr>
        <p:grpSpPr>
          <a:xfrm>
            <a:off x="7211880" y="3475080"/>
            <a:ext cx="1730520" cy="1127160"/>
            <a:chOff x="7211880" y="3475080"/>
            <a:chExt cx="1730520" cy="1127160"/>
          </a:xfrm>
        </p:grpSpPr>
        <p:pic>
          <p:nvPicPr>
            <p:cNvPr id="281" name="Rounded Rectangle 32" descr="">
              <a:hlinkClick r:id="rId50" action="ppaction://hlinksldjump"/>
            </p:cNvPr>
            <p:cNvPicPr/>
            <p:nvPr/>
          </p:nvPicPr>
          <p:blipFill>
            <a:blip r:embed="rId51"/>
            <a:stretch/>
          </p:blipFill>
          <p:spPr>
            <a:xfrm>
              <a:off x="7211880" y="3475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7291440" y="3557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3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3" name="Rounded Rectangle 33"/>
          <p:cNvGrpSpPr/>
          <p:nvPr/>
        </p:nvGrpSpPr>
        <p:grpSpPr>
          <a:xfrm>
            <a:off x="7211880" y="2335320"/>
            <a:ext cx="1730520" cy="1120680"/>
            <a:chOff x="7211880" y="2335320"/>
            <a:chExt cx="1730520" cy="1120680"/>
          </a:xfrm>
        </p:grpSpPr>
        <p:pic>
          <p:nvPicPr>
            <p:cNvPr id="284" name="Rounded Rectangle 33" descr="">
              <a:hlinkClick r:id="rId52" action="ppaction://hlinksldjump"/>
            </p:cNvPr>
            <p:cNvPicPr/>
            <p:nvPr/>
          </p:nvPicPr>
          <p:blipFill>
            <a:blip r:embed="rId53"/>
            <a:stretch/>
          </p:blipFill>
          <p:spPr>
            <a:xfrm>
              <a:off x="7211880" y="2335320"/>
              <a:ext cx="1730520" cy="11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291440" y="2414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286" name="Rounded Rectangle 34"/>
          <p:cNvGrpSpPr/>
          <p:nvPr/>
        </p:nvGrpSpPr>
        <p:grpSpPr>
          <a:xfrm>
            <a:off x="7211880" y="1189080"/>
            <a:ext cx="1730520" cy="1127160"/>
            <a:chOff x="7211880" y="1189080"/>
            <a:chExt cx="1730520" cy="1127160"/>
          </a:xfrm>
        </p:grpSpPr>
        <p:pic>
          <p:nvPicPr>
            <p:cNvPr id="287" name="Rounded Rectangle 34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7211880" y="1189080"/>
              <a:ext cx="17305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291440" y="1271520"/>
              <a:ext cx="1571400" cy="96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5b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7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7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78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John (go) to university when he was younger, he (be) a lawyer now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d gone,     would b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8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8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hoose the right  verb form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f he (be) a real friend, he (help)  me yesterday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were,    would have helped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rammar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8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8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88" name="TextBox 4"/>
          <p:cNvSpPr/>
          <p:nvPr/>
        </p:nvSpPr>
        <p:spPr>
          <a:xfrm>
            <a:off x="838080" y="1371600"/>
            <a:ext cx="75438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Express the same in English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We didn’t meet yesterday because of rain.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…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we would have met  yesterday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ut for the rain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9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9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93" name="TextBox 4"/>
          <p:cNvSpPr/>
          <p:nvPr/>
        </p:nvSpPr>
        <p:spPr>
          <a:xfrm>
            <a:off x="838080" y="1371600"/>
            <a:ext cx="75438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nakes ….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iss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9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9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9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Mice and  bats …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squea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0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40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0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Ducks … 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quack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0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406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08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Little birds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witter / chirp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imal soun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41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411" name="Left Arrow 3" descr=""/>
            <p:cNvPicPr/>
            <p:nvPr/>
          </p:nvPicPr>
          <p:blipFill>
            <a:blip r:embed="rId1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41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What’s the sound? 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ees and bumble-bees … .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uzz / drone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e Animal Sounds So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15" name="The Animal Sounds Song.mp4" descr=""/>
          <p:cNvPicPr/>
          <p:nvPr/>
        </p:nvPicPr>
        <p:blipFill>
          <a:blip r:embed="rId1"/>
          <a:stretch/>
        </p:blipFill>
        <p:spPr>
          <a:xfrm>
            <a:off x="3809880" y="3219480"/>
            <a:ext cx="1524240" cy="8589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" descr="C:\Users\Амалия\Desktop\Анимашки\АНИМАЦИИ\starr_7_200.gif"/>
          <p:cNvPicPr/>
          <p:nvPr/>
        </p:nvPicPr>
        <p:blipFill>
          <a:blip r:embed="rId2"/>
          <a:stretch/>
        </p:blipFill>
        <p:spPr>
          <a:xfrm rot="903600">
            <a:off x="6090840" y="2057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Амалия\Desktop\Анимашки\АНИМАЦИИ\starr_7_200.gif"/>
          <p:cNvPicPr/>
          <p:nvPr/>
        </p:nvPicPr>
        <p:blipFill>
          <a:blip r:embed="rId3"/>
          <a:stretch/>
        </p:blipFill>
        <p:spPr>
          <a:xfrm rot="903600">
            <a:off x="3677760" y="44683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Амалия\Desktop\Анимашки\АНИМАЦИИ\starr_7_200.gif"/>
          <p:cNvPicPr/>
          <p:nvPr/>
        </p:nvPicPr>
        <p:blipFill>
          <a:blip r:embed="rId4"/>
          <a:stretch/>
        </p:blipFill>
        <p:spPr>
          <a:xfrm>
            <a:off x="1066680" y="20574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44042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462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5" dur="1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hank you!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You are very smart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0" name="Picture 2" descr="C:\Users\Амалия\Desktop\Анимашки\Анимационные картинки для презентаций\Новый год\bestgif.narod.ru_10177.gif"/>
          <p:cNvPicPr/>
          <p:nvPr/>
        </p:nvPicPr>
        <p:blipFill>
          <a:blip r:embed="rId1"/>
          <a:stretch/>
        </p:blipFill>
        <p:spPr>
          <a:xfrm>
            <a:off x="2852640" y="2624040"/>
            <a:ext cx="34387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0" name="TextBox 2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cuts men’s hair is a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arber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grpSp>
        <p:nvGrpSpPr>
          <p:cNvPr id="291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92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erry Christmas!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d 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Happy New Year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422" name="Picture 9" descr="C:\Users\Амалия\Desktop\Анимашки\NATURE ANIMALS\ПРИРОДА\8879b34da18bc8bbf0e9f1a097d61966.gif"/>
          <p:cNvPicPr/>
          <p:nvPr/>
        </p:nvPicPr>
        <p:blipFill>
          <a:blip r:embed="rId1"/>
          <a:stretch/>
        </p:blipFill>
        <p:spPr>
          <a:xfrm>
            <a:off x="3333600" y="3297240"/>
            <a:ext cx="2421000" cy="4786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C:\Users\Амалия\Desktop\Анимашки\NATURE ANIMALS\ПРИРОДА\414650220.gif"/>
          <p:cNvPicPr/>
          <p:nvPr/>
        </p:nvPicPr>
        <p:blipFill>
          <a:blip r:embed="rId2"/>
          <a:stretch/>
        </p:blipFill>
        <p:spPr>
          <a:xfrm>
            <a:off x="895320" y="3297240"/>
            <a:ext cx="2421000" cy="4786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C:\Users\Амалия\Desktop\Анимашки\NATURE ANIMALS\ПРИРОДА\f39225ee0d0b1b26456786f6afc257ea.gif"/>
          <p:cNvPicPr/>
          <p:nvPr/>
        </p:nvPicPr>
        <p:blipFill>
          <a:blip r:embed="rId3"/>
          <a:stretch/>
        </p:blipFill>
        <p:spPr>
          <a:xfrm>
            <a:off x="5851440" y="3297240"/>
            <a:ext cx="2438640" cy="4822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"/>
          <a:stretch/>
        </p:blipFill>
        <p:spPr>
          <a:xfrm>
            <a:off x="685800" y="2286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29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29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98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cuts, washes and styles  women’s hair is a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hairdresser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3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0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0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0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The work that a person does regularly in order to earn money is a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job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4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0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0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08" name="TextBox 4"/>
          <p:cNvSpPr/>
          <p:nvPr/>
        </p:nvSpPr>
        <p:spPr>
          <a:xfrm>
            <a:off x="838080" y="1371600"/>
            <a:ext cx="7543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s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can’t hear and talk from birth is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deaf and dumb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rofession Words – 5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1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1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13" name="TextBox 4"/>
          <p:cNvSpPr/>
          <p:nvPr/>
        </p:nvSpPr>
        <p:spPr>
          <a:xfrm>
            <a:off x="838080" y="1371600"/>
            <a:ext cx="754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Guess the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person who buys and sells houses, flats and offices is an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estate agent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– 1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15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16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18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In Great Britain school begins at the age of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4-5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ducation 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– 20 Point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320" name="Left Arrow 3"/>
          <p:cNvGrpSpPr/>
          <p:nvPr/>
        </p:nvGrpSpPr>
        <p:grpSpPr>
          <a:xfrm>
            <a:off x="785880" y="5840280"/>
            <a:ext cx="1098360" cy="719280"/>
            <a:chOff x="785880" y="5840280"/>
            <a:chExt cx="1098360" cy="719280"/>
          </a:xfrm>
        </p:grpSpPr>
        <p:pic>
          <p:nvPicPr>
            <p:cNvPr id="321" name="Left Arrow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5880" y="5840280"/>
              <a:ext cx="109836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990720" y="6019920"/>
              <a:ext cx="8380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323" name="TextBox 4"/>
          <p:cNvSpPr/>
          <p:nvPr/>
        </p:nvSpPr>
        <p:spPr>
          <a:xfrm>
            <a:off x="838080" y="1371600"/>
            <a:ext cx="75438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QUESTION: Complete the sentence using the missing word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A school at which pupils live as well as study is called a …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Arial"/>
              </a:rPr>
              <a:t>ANSWER: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Arial"/>
              </a:rPr>
              <a:t>boarding school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10:43:48Z</dcterms:created>
  <dc:creator>Educational Technology Network</dc:creator>
  <dc:description>www.edtechnetwork.com</dc:description>
  <cp:keywords>Jeopardy Powerpoint Template;Education Technology</cp:keywords>
  <dc:language>en-US</dc:language>
  <cp:lastModifiedBy>Амалия</cp:lastModifiedBy>
  <dcterms:modified xsi:type="dcterms:W3CDTF">2016-12-12T17:16:38Z</dcterms:modified>
  <cp:revision>38</cp:revision>
  <dc:subject>Jeopardy Template</dc:subject>
  <dc:title>POWERPOINT JEOPARDY</dc:title>
</cp:coreProperties>
</file>