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9.png" ContentType="image/png"/>
  <Override PartName="/ppt/media/image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7.png" ContentType="image/png"/>
  <Override PartName="/ppt/media/image12.png" ContentType="image/png"/>
  <Override PartName="/ppt/media/image4.png" ContentType="image/png"/>
  <Override PartName="/ppt/media/image2.gif" ContentType="image/gif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6476-D29A-4C3C-B871-8DC978A61F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by Educational Technology Network. www.edtechnetwork.com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B94C-539F-4A25-8AB1-E541AD2BB627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9D11-1A23-4AF6-BEC9-DB5DBFFACF30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87BF-D089-48DE-B8BF-64E2745AD48D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E5FD-2B29-4081-B0DC-8EB3EF28FF53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2C5F-12FA-48AE-BE34-C7956C88F170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791B-E030-4227-AEDB-B47CD172C17C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D2EF-B75B-467D-AEF6-6791D319519D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7874-911E-441F-830C-9BBC6377DA46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0560-82EE-4F3F-A5BC-98E897C72697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AAE3-559D-46AE-9921-DBCAE907DD79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FD09-3987-42EF-BEF2-E3C1FD60E5B7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5D26-A62B-4D58-AC5A-6D18A4A5E2B6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CA63-5A39-4719-B5ED-5266ABCAFC9B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95C4-92F3-4AD1-8707-EE808A44FA5B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05E7-CBA5-4DA8-A5AC-02DE3249416F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E041-7E0A-4FE4-B063-44D293DDBC70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71C7-A7F5-4284-810A-ABFC87BFFDCC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590A-2CEA-4EAF-8EC4-8FCD9418145C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42FD-8D5F-49D9-B6FF-EE63CFD1B652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2B25-2697-45F8-93A6-3999F1E94DC7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C55D-588D-4C38-9B65-E68492A4B3DF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8F18-ED9E-4A9D-85A5-7907F6E0F0EB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80ED-38C7-4D84-9304-D0426725D523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79D3-88B4-44B1-9D96-E23BCF449031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3A86-E1AE-4E2B-95BE-18691F0A6F8D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F3FF-541A-4C0A-A865-4CA85416C731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9E2D-FCCA-4E35-80F5-29C1E78030E9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4653-2660-4BCE-A461-04C299822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0FBF-F796-4B54-A530-4BED64DE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C55A-09D4-4BF4-946D-3DB067FC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0C1C-A74C-4862-B5C0-491321F67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E1BF-0E92-4036-8151-7A1F7F701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3E81-7689-432E-B14E-65522BBB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0A96-D4F3-43FF-B9AE-7A1C003E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08E1-0394-4EBD-AB30-FC8606FE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1A6B-98B0-47FB-8130-58CE40F7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5A70-3823-4B2B-A8C7-69337B63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ADD8-A2D0-4B67-9E42-7BCD6A48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195B-D4A9-43CC-AD47-91EFCA39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DF61-F1E8-4FC8-800C-C0DF9498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2D06-1D1E-4BBB-83F3-A5259AFE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53C5-180D-46B5-8CF6-38534964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80CE-0A98-47E5-96AD-0C45EE2C5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1121-7D67-414F-B05F-561B27689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35C1-9A94-425B-A151-E495F0D3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00CB-069A-4EA0-88F3-F565FCAB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6796-2527-4305-AC96-F7279560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1C50-377B-45B3-B259-2D50BFE4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CCA7-1634-4E88-A29F-4FC0B530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19D3-16B6-4633-8AE3-6A113545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080F-9202-4E33-BCD0-0F83EA8A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Rectangle 3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grpSp>
          <p:nvGrpSpPr>
            <p:cNvPr id="6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Group 12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Freeform 13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3" name="Freeform 15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4" name="Freeform 16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7" name="Freeform 19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8" name="Freeform 20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4" name="Freeform 26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" name="Freeform 31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BB15-4DD6-425D-A674-BC30267A5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Rectangle 3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0" name="Rectangle 4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91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93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96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1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Group 12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Freeform 13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14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1" name="Freeform 15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2" name="Freeform 16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3" name="Line 17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18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5" name="Freeform 19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20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21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22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23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24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25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26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27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28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29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30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Freeform 31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18" name="Freeform 32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19" name="Freeform 33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0" name="Freeform 34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1" name="Line 35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2" name="Freeform 36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3" name="Freeform 37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4" name="Freeform 38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5" name="Freeform 39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6" name="Freeform 40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7" name="Freeform 41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8" name="Freeform 42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9" name="Freeform 43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30" name="Freeform 44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31" name="Freeform 45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32" name="Freeform 46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33" name="Freeform 47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34" name="Freeform 48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5799-621E-40FC-A5A9-22EBD0979F8D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3.xml"/><Relationship Id="rId7" Type="http://schemas.openxmlformats.org/officeDocument/2006/relationships/image" Target="../media/image7.png"/><Relationship Id="rId8" Type="http://schemas.openxmlformats.org/officeDocument/2006/relationships/slide" Target="slide4.xml"/><Relationship Id="rId9" Type="http://schemas.openxmlformats.org/officeDocument/2006/relationships/image" Target="../media/image8.png"/><Relationship Id="rId10" Type="http://schemas.openxmlformats.org/officeDocument/2006/relationships/slide" Target="slide5.xml"/><Relationship Id="rId11" Type="http://schemas.openxmlformats.org/officeDocument/2006/relationships/image" Target="../media/image7.png"/><Relationship Id="rId12" Type="http://schemas.openxmlformats.org/officeDocument/2006/relationships/slide" Target="slide6.xml"/><Relationship Id="rId13" Type="http://schemas.openxmlformats.org/officeDocument/2006/relationships/image" Target="../media/image8.png"/><Relationship Id="rId14" Type="http://schemas.openxmlformats.org/officeDocument/2006/relationships/slide" Target="slide7.xml"/><Relationship Id="rId15" Type="http://schemas.openxmlformats.org/officeDocument/2006/relationships/image" Target="../media/image7.png"/><Relationship Id="rId16" Type="http://schemas.openxmlformats.org/officeDocument/2006/relationships/slide" Target="slide11.xml"/><Relationship Id="rId17" Type="http://schemas.openxmlformats.org/officeDocument/2006/relationships/image" Target="../media/image9.png"/><Relationship Id="rId18" Type="http://schemas.openxmlformats.org/officeDocument/2006/relationships/slide" Target="slide10.xml"/><Relationship Id="rId19" Type="http://schemas.openxmlformats.org/officeDocument/2006/relationships/image" Target="../media/image10.png"/><Relationship Id="rId20" Type="http://schemas.openxmlformats.org/officeDocument/2006/relationships/slide" Target="slide9.xml"/><Relationship Id="rId21" Type="http://schemas.openxmlformats.org/officeDocument/2006/relationships/image" Target="../media/image9.png"/><Relationship Id="rId22" Type="http://schemas.openxmlformats.org/officeDocument/2006/relationships/slide" Target="slide8.xml"/><Relationship Id="rId23" Type="http://schemas.openxmlformats.org/officeDocument/2006/relationships/image" Target="../media/image10.png"/><Relationship Id="rId24" Type="http://schemas.openxmlformats.org/officeDocument/2006/relationships/slide" Target="slide12.xml"/><Relationship Id="rId25" Type="http://schemas.openxmlformats.org/officeDocument/2006/relationships/image" Target="../media/image10.png"/><Relationship Id="rId26" Type="http://schemas.openxmlformats.org/officeDocument/2006/relationships/slide" Target="slide17.xml"/><Relationship Id="rId27" Type="http://schemas.openxmlformats.org/officeDocument/2006/relationships/image" Target="../media/image7.png"/><Relationship Id="rId28" Type="http://schemas.openxmlformats.org/officeDocument/2006/relationships/slide" Target="slide16.xml"/><Relationship Id="rId29" Type="http://schemas.openxmlformats.org/officeDocument/2006/relationships/image" Target="../media/image8.png"/><Relationship Id="rId30" Type="http://schemas.openxmlformats.org/officeDocument/2006/relationships/slide" Target="slide15.xml"/><Relationship Id="rId31" Type="http://schemas.openxmlformats.org/officeDocument/2006/relationships/image" Target="../media/image7.png"/><Relationship Id="rId32" Type="http://schemas.openxmlformats.org/officeDocument/2006/relationships/slide" Target="slide14.xml"/><Relationship Id="rId33" Type="http://schemas.openxmlformats.org/officeDocument/2006/relationships/image" Target="../media/image8.png"/><Relationship Id="rId34" Type="http://schemas.openxmlformats.org/officeDocument/2006/relationships/slide" Target="slide13.xml"/><Relationship Id="rId35" Type="http://schemas.openxmlformats.org/officeDocument/2006/relationships/image" Target="../media/image7.png"/><Relationship Id="rId36" Type="http://schemas.openxmlformats.org/officeDocument/2006/relationships/slide" Target="slide22.xml"/><Relationship Id="rId37" Type="http://schemas.openxmlformats.org/officeDocument/2006/relationships/image" Target="../media/image10.png"/><Relationship Id="rId38" Type="http://schemas.openxmlformats.org/officeDocument/2006/relationships/slide" Target="slide21.xml"/><Relationship Id="rId39" Type="http://schemas.openxmlformats.org/officeDocument/2006/relationships/image" Target="../media/image9.png"/><Relationship Id="rId40" Type="http://schemas.openxmlformats.org/officeDocument/2006/relationships/slide" Target="slide20.xml"/><Relationship Id="rId41" Type="http://schemas.openxmlformats.org/officeDocument/2006/relationships/image" Target="../media/image10.png"/><Relationship Id="rId42" Type="http://schemas.openxmlformats.org/officeDocument/2006/relationships/slide" Target="slide19.xml"/><Relationship Id="rId43" Type="http://schemas.openxmlformats.org/officeDocument/2006/relationships/image" Target="../media/image9.png"/><Relationship Id="rId44" Type="http://schemas.openxmlformats.org/officeDocument/2006/relationships/slide" Target="slide18.xml"/><Relationship Id="rId45" Type="http://schemas.openxmlformats.org/officeDocument/2006/relationships/image" Target="../media/image10.png"/><Relationship Id="rId46" Type="http://schemas.openxmlformats.org/officeDocument/2006/relationships/slide" Target="slide27.xml"/><Relationship Id="rId47" Type="http://schemas.openxmlformats.org/officeDocument/2006/relationships/image" Target="../media/image7.png"/><Relationship Id="rId48" Type="http://schemas.openxmlformats.org/officeDocument/2006/relationships/slide" Target="slide26.xml"/><Relationship Id="rId49" Type="http://schemas.openxmlformats.org/officeDocument/2006/relationships/image" Target="../media/image8.png"/><Relationship Id="rId50" Type="http://schemas.openxmlformats.org/officeDocument/2006/relationships/slide" Target="slide25.xml"/><Relationship Id="rId51" Type="http://schemas.openxmlformats.org/officeDocument/2006/relationships/image" Target="../media/image7.png"/><Relationship Id="rId52" Type="http://schemas.openxmlformats.org/officeDocument/2006/relationships/slide" Target="slide24.xml"/><Relationship Id="rId53" Type="http://schemas.openxmlformats.org/officeDocument/2006/relationships/image" Target="../media/image8.png"/><Relationship Id="rId54" Type="http://schemas.openxmlformats.org/officeDocument/2006/relationships/slide" Target="slide23.xml"/><Relationship Id="rId55" Type="http://schemas.openxmlformats.org/officeDocument/2006/relationships/image" Target="../media/image7.png"/><Relationship Id="rId56" Type="http://schemas.openxmlformats.org/officeDocument/2006/relationships/slideLayout" Target="../slideLayouts/slideLayout1.xml"/><Relationship Id="rId5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TextBox 2" descr=""/>
          <p:cNvPicPr/>
          <p:nvPr/>
        </p:nvPicPr>
        <p:blipFill>
          <a:blip r:embed="rId1"/>
          <a:stretch/>
        </p:blipFill>
        <p:spPr>
          <a:xfrm>
            <a:off x="804960" y="609480"/>
            <a:ext cx="7619760" cy="1451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C:\Users\Амалия\Desktop\Анимашки\АНИМАЦИИ\starr_7_200.gif"/>
          <p:cNvPicPr/>
          <p:nvPr/>
        </p:nvPicPr>
        <p:blipFill>
          <a:blip r:embed="rId2"/>
          <a:stretch/>
        </p:blipFill>
        <p:spPr>
          <a:xfrm>
            <a:off x="3533760" y="251316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C:\Users\Амалия\Desktop\Анимашки\Звёзды\star2.gif"/>
          <p:cNvPicPr/>
          <p:nvPr/>
        </p:nvPicPr>
        <p:blipFill>
          <a:blip r:embed="rId3"/>
          <a:stretch/>
        </p:blipFill>
        <p:spPr>
          <a:xfrm>
            <a:off x="4230720" y="23004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C:\Users\Амалия\Desktop\Анимашки\Звёзды\star2.gif"/>
          <p:cNvPicPr/>
          <p:nvPr/>
        </p:nvPicPr>
        <p:blipFill>
          <a:blip r:embed="rId4"/>
          <a:stretch/>
        </p:blipFill>
        <p:spPr>
          <a:xfrm>
            <a:off x="5818320" y="403704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C:\Users\Амалия\Desktop\Анимашки\Звёзды\star2.gif"/>
          <p:cNvPicPr/>
          <p:nvPr/>
        </p:nvPicPr>
        <p:blipFill>
          <a:blip r:embed="rId5"/>
          <a:stretch/>
        </p:blipFill>
        <p:spPr>
          <a:xfrm>
            <a:off x="3008160" y="403704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C:\Users\Амалия\Desktop\Анимашки\Звёзды\star2.gif"/>
          <p:cNvPicPr/>
          <p:nvPr/>
        </p:nvPicPr>
        <p:blipFill>
          <a:blip r:embed="rId6"/>
          <a:stretch/>
        </p:blipFill>
        <p:spPr>
          <a:xfrm>
            <a:off x="2627280" y="25131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C:\Users\Амалия\Desktop\Анимашки\Звёзды\star2.gif"/>
          <p:cNvPicPr/>
          <p:nvPr/>
        </p:nvPicPr>
        <p:blipFill>
          <a:blip r:embed="rId7"/>
          <a:stretch/>
        </p:blipFill>
        <p:spPr>
          <a:xfrm>
            <a:off x="6199200" y="25401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C:\Users\Амалия\Desktop\Анимашки\Звёзды\star2.gif"/>
          <p:cNvPicPr/>
          <p:nvPr/>
        </p:nvPicPr>
        <p:blipFill>
          <a:blip r:embed="rId8"/>
          <a:stretch/>
        </p:blipFill>
        <p:spPr>
          <a:xfrm>
            <a:off x="7370640" y="61128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C:\Users\Амалия\Desktop\Анимашки\Звёзды\star2.gif"/>
          <p:cNvPicPr/>
          <p:nvPr/>
        </p:nvPicPr>
        <p:blipFill>
          <a:blip r:embed="rId9"/>
          <a:stretch/>
        </p:blipFill>
        <p:spPr>
          <a:xfrm>
            <a:off x="1353960" y="61128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C:\Users\Амалия\Desktop\Анимашки\Звёзды\star2.gif"/>
          <p:cNvPicPr/>
          <p:nvPr/>
        </p:nvPicPr>
        <p:blipFill>
          <a:blip r:embed="rId10"/>
          <a:stretch/>
        </p:blipFill>
        <p:spPr>
          <a:xfrm>
            <a:off x="4408560" y="5769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C:\Users\Амалия\Desktop\Анимашки\Звёзды\star2.gif"/>
          <p:cNvPicPr/>
          <p:nvPr/>
        </p:nvPicPr>
        <p:blipFill>
          <a:blip r:embed="rId11"/>
          <a:stretch/>
        </p:blipFill>
        <p:spPr>
          <a:xfrm>
            <a:off x="8040600" y="11430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" descr="C:\Users\Амалия\Desktop\Анимашки\Звёзды\star2.gif"/>
          <p:cNvPicPr/>
          <p:nvPr/>
        </p:nvPicPr>
        <p:blipFill>
          <a:blip r:embed="rId12"/>
          <a:stretch/>
        </p:blipFill>
        <p:spPr>
          <a:xfrm>
            <a:off x="1544760" y="327492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6" descr="C:\Users\Амалия\Desktop\Анимашки\Звёзды\star2.gif"/>
          <p:cNvPicPr/>
          <p:nvPr/>
        </p:nvPicPr>
        <p:blipFill>
          <a:blip r:embed="rId13"/>
          <a:stretch/>
        </p:blipFill>
        <p:spPr>
          <a:xfrm>
            <a:off x="7348680" y="327492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7" descr="C:\Users\Амалия\Desktop\Анимашки\Звёзды\star2.gif"/>
          <p:cNvPicPr/>
          <p:nvPr/>
        </p:nvPicPr>
        <p:blipFill>
          <a:blip r:embed="rId14"/>
          <a:stretch/>
        </p:blipFill>
        <p:spPr>
          <a:xfrm>
            <a:off x="2057400" y="53881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8" descr="C:\Users\Амалия\Desktop\Анимашки\Звёзды\star2.gif"/>
          <p:cNvPicPr/>
          <p:nvPr/>
        </p:nvPicPr>
        <p:blipFill>
          <a:blip r:embed="rId15"/>
          <a:stretch/>
        </p:blipFill>
        <p:spPr>
          <a:xfrm>
            <a:off x="6580080" y="53881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9" descr="C:\Users\Амалия\Desktop\Анимашки\Звёзды\star2.gif"/>
          <p:cNvPicPr/>
          <p:nvPr/>
        </p:nvPicPr>
        <p:blipFill>
          <a:blip r:embed="rId16"/>
          <a:stretch/>
        </p:blipFill>
        <p:spPr>
          <a:xfrm>
            <a:off x="611280" y="11779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ducation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– 30 Poi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325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326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28" name="TextBox 4"/>
          <p:cNvSpPr/>
          <p:nvPr/>
        </p:nvSpPr>
        <p:spPr>
          <a:xfrm>
            <a:off x="838080" y="1371600"/>
            <a:ext cx="75438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QUESTION: Complete the sentence using the missing word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An exam taken at the age of 16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in British schools is …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ANSWER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GCSE exam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ducation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– 40 Poi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330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331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33" name="TextBox 4"/>
          <p:cNvSpPr/>
          <p:nvPr/>
        </p:nvSpPr>
        <p:spPr>
          <a:xfrm>
            <a:off x="838080" y="1371600"/>
            <a:ext cx="754380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QUESTION: Complete the sentence using the missing word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…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are highly prestigious private fee-paying boarding schools for pupils aged 13-18 in Britain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ANSWER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Public  school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ducation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– 50 Poi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335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336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38" name="TextBox 4"/>
          <p:cNvSpPr/>
          <p:nvPr/>
        </p:nvSpPr>
        <p:spPr>
          <a:xfrm>
            <a:off x="838080" y="1371600"/>
            <a:ext cx="754380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QUESTION: Complete the sentence using the missing word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…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are small groups of children formed according to ability in each subject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ANSWER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Set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hrasal Verbs – 10 Poi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340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341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43" name="TextBox 4"/>
          <p:cNvSpPr/>
          <p:nvPr/>
        </p:nvSpPr>
        <p:spPr>
          <a:xfrm>
            <a:off x="838080" y="1371600"/>
            <a:ext cx="75438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QUESTION: What’s missing?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The teacher handed … coloured pencils to the class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ANSWER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out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hrasal Verbs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– 20 Poi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345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346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48" name="TextBox 4"/>
          <p:cNvSpPr/>
          <p:nvPr/>
        </p:nvSpPr>
        <p:spPr>
          <a:xfrm>
            <a:off x="838080" y="1371600"/>
            <a:ext cx="75438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QUESTION: What’s missing?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The child looked at the picture and broke … laughter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ANSWER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into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hrasal Verbs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– 30 Poi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350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351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53" name="TextBox 4"/>
          <p:cNvSpPr/>
          <p:nvPr/>
        </p:nvSpPr>
        <p:spPr>
          <a:xfrm>
            <a:off x="838080" y="1371600"/>
            <a:ext cx="7543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QUESTION: What’s missing?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The skill of making violins was handed … from father to sun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ANSWER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down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hrasal Verbs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– 40 Poi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355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356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58" name="TextBox 4"/>
          <p:cNvSpPr/>
          <p:nvPr/>
        </p:nvSpPr>
        <p:spPr>
          <a:xfrm>
            <a:off x="838080" y="1371600"/>
            <a:ext cx="75438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QUESTION: What’s missing?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A lot of local wars break … in modern world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ANSWER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out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hrasal Verbs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– 50 Poi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360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361" name="Left Arrow 3" descr=""/>
            <p:cNvPicPr/>
            <p:nvPr/>
          </p:nvPicPr>
          <p:blipFill>
            <a:blip r:embed="rId1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63" name="TextBox 4"/>
          <p:cNvSpPr/>
          <p:nvPr/>
        </p:nvSpPr>
        <p:spPr>
          <a:xfrm>
            <a:off x="838080" y="1371600"/>
            <a:ext cx="75438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QUESTION: What’s missing?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“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Hand … that knife!” shouted the policeman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ANSWER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over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rammar  – 10 Poi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365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366" name="Left Arrow 3" descr=""/>
            <p:cNvPicPr/>
            <p:nvPr/>
          </p:nvPicPr>
          <p:blipFill>
            <a:blip r:embed="rId1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68" name="TextBox 4"/>
          <p:cNvSpPr/>
          <p:nvPr/>
        </p:nvSpPr>
        <p:spPr>
          <a:xfrm>
            <a:off x="838080" y="1371600"/>
            <a:ext cx="75438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QUESTION: Choose the right  verb form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If Ann (know) English , she (speak) it now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ANSWER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knew,     would speak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rammar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– 20 Poi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370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371" name="Left Arrow 3" descr=""/>
            <p:cNvPicPr/>
            <p:nvPr/>
          </p:nvPicPr>
          <p:blipFill>
            <a:blip r:embed="rId1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73" name="TextBox 4"/>
          <p:cNvSpPr/>
          <p:nvPr/>
        </p:nvSpPr>
        <p:spPr>
          <a:xfrm>
            <a:off x="838080" y="1371600"/>
            <a:ext cx="7543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QUESTION: Choose the right  verb form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If Bob (learn) the poem by heart, he (not get) a bad mark yesterday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ANSWER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Had learnt, wouldn’t have got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Rounded Rectangle 5"/>
          <p:cNvGrpSpPr/>
          <p:nvPr/>
        </p:nvGrpSpPr>
        <p:grpSpPr>
          <a:xfrm>
            <a:off x="7132680" y="426960"/>
            <a:ext cx="1809720" cy="743040"/>
            <a:chOff x="7132680" y="426960"/>
            <a:chExt cx="1809720" cy="743040"/>
          </a:xfrm>
        </p:grpSpPr>
        <p:pic>
          <p:nvPicPr>
            <p:cNvPr id="200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7132680" y="426960"/>
              <a:ext cx="180972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7196040" y="490680"/>
              <a:ext cx="168588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5b"/>
                  </a:solidFill>
                  <a:latin typeface="Times New Roman"/>
                </a:rPr>
                <a:t>Animal Sounds</a:t>
              </a:r>
              <a:endParaRPr b="0" lang="en-US" sz="20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02" name="Rounded Rectangle 6"/>
          <p:cNvGrpSpPr/>
          <p:nvPr/>
        </p:nvGrpSpPr>
        <p:grpSpPr>
          <a:xfrm>
            <a:off x="201600" y="426960"/>
            <a:ext cx="1730520" cy="743040"/>
            <a:chOff x="201600" y="426960"/>
            <a:chExt cx="1730520" cy="743040"/>
          </a:xfrm>
        </p:grpSpPr>
        <p:pic>
          <p:nvPicPr>
            <p:cNvPr id="203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201600" y="426960"/>
              <a:ext cx="173052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262080" y="490680"/>
              <a:ext cx="160956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5b"/>
                  </a:solidFill>
                  <a:latin typeface="Times New Roman"/>
                </a:rPr>
                <a:t>Profession Words </a:t>
              </a:r>
              <a:endParaRPr b="0" lang="en-US" sz="20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05" name="Rounded Rectangle 7"/>
          <p:cNvGrpSpPr/>
          <p:nvPr/>
        </p:nvGrpSpPr>
        <p:grpSpPr>
          <a:xfrm>
            <a:off x="1951200" y="426960"/>
            <a:ext cx="1736640" cy="743040"/>
            <a:chOff x="1951200" y="426960"/>
            <a:chExt cx="1736640" cy="743040"/>
          </a:xfrm>
        </p:grpSpPr>
        <p:pic>
          <p:nvPicPr>
            <p:cNvPr id="206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1951200" y="426960"/>
              <a:ext cx="173664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2014560" y="490680"/>
              <a:ext cx="160956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5b"/>
                  </a:solidFill>
                  <a:latin typeface="Times New Roman"/>
                </a:rPr>
                <a:t>Education </a:t>
              </a:r>
              <a:endParaRPr b="0" lang="en-US" sz="20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08" name="Rounded Rectangle 8"/>
          <p:cNvGrpSpPr/>
          <p:nvPr/>
        </p:nvGrpSpPr>
        <p:grpSpPr>
          <a:xfrm>
            <a:off x="3706920" y="426960"/>
            <a:ext cx="1730160" cy="743040"/>
            <a:chOff x="3706920" y="426960"/>
            <a:chExt cx="1730160" cy="743040"/>
          </a:xfrm>
        </p:grpSpPr>
        <p:pic>
          <p:nvPicPr>
            <p:cNvPr id="209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3706920" y="426960"/>
              <a:ext cx="173016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3767040" y="490680"/>
              <a:ext cx="160992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5b"/>
                  </a:solidFill>
                  <a:latin typeface="Times New Roman"/>
                </a:rPr>
                <a:t>Phrasal Verbs </a:t>
              </a:r>
              <a:endParaRPr b="0" lang="en-US" sz="20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11" name="Rounded Rectangle 9"/>
          <p:cNvGrpSpPr/>
          <p:nvPr/>
        </p:nvGrpSpPr>
        <p:grpSpPr>
          <a:xfrm>
            <a:off x="5456160" y="426960"/>
            <a:ext cx="1736640" cy="743040"/>
            <a:chOff x="5456160" y="426960"/>
            <a:chExt cx="1736640" cy="743040"/>
          </a:xfrm>
        </p:grpSpPr>
        <p:pic>
          <p:nvPicPr>
            <p:cNvPr id="212" name="Rounded Rectangle 9" descr=""/>
            <p:cNvPicPr/>
            <p:nvPr/>
          </p:nvPicPr>
          <p:blipFill>
            <a:blip r:embed="rId5"/>
            <a:stretch/>
          </p:blipFill>
          <p:spPr>
            <a:xfrm>
              <a:off x="5456160" y="426960"/>
              <a:ext cx="173664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5519880" y="490680"/>
              <a:ext cx="160956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5b"/>
                  </a:solidFill>
                  <a:latin typeface="Times New Roman"/>
                </a:rPr>
                <a:t>Grammar </a:t>
              </a:r>
              <a:endParaRPr b="0" lang="en-US" sz="20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14" name="Rounded Rectangle 10"/>
          <p:cNvGrpSpPr/>
          <p:nvPr/>
        </p:nvGrpSpPr>
        <p:grpSpPr>
          <a:xfrm>
            <a:off x="201600" y="1189080"/>
            <a:ext cx="1730520" cy="1127160"/>
            <a:chOff x="201600" y="1189080"/>
            <a:chExt cx="1730520" cy="1127160"/>
          </a:xfrm>
        </p:grpSpPr>
        <p:pic>
          <p:nvPicPr>
            <p:cNvPr id="215" name="Rounded Rectangle 10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201600" y="1189080"/>
              <a:ext cx="173052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281160" y="1271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5b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17" name="Rounded Rectangle 11"/>
          <p:cNvGrpSpPr/>
          <p:nvPr/>
        </p:nvGrpSpPr>
        <p:grpSpPr>
          <a:xfrm>
            <a:off x="201600" y="2335320"/>
            <a:ext cx="1730520" cy="1120680"/>
            <a:chOff x="201600" y="2335320"/>
            <a:chExt cx="1730520" cy="1120680"/>
          </a:xfrm>
        </p:grpSpPr>
        <p:pic>
          <p:nvPicPr>
            <p:cNvPr id="218" name="Rounded Rectangle 11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201600" y="2335320"/>
              <a:ext cx="173052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281160" y="2414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5b"/>
                  </a:solidFill>
                  <a:latin typeface="Times New Roman"/>
                </a:rPr>
                <a:t>20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20" name="Rounded Rectangle 12"/>
          <p:cNvGrpSpPr/>
          <p:nvPr/>
        </p:nvGrpSpPr>
        <p:grpSpPr>
          <a:xfrm>
            <a:off x="201600" y="3475080"/>
            <a:ext cx="1730520" cy="1127160"/>
            <a:chOff x="201600" y="3475080"/>
            <a:chExt cx="1730520" cy="1127160"/>
          </a:xfrm>
        </p:grpSpPr>
        <p:pic>
          <p:nvPicPr>
            <p:cNvPr id="221" name="Rounded Rectangle 12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201600" y="3475080"/>
              <a:ext cx="173052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281160" y="3557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5b"/>
                  </a:solidFill>
                  <a:latin typeface="Times New Roman"/>
                </a:rPr>
                <a:t>30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23" name="Rounded Rectangle 13"/>
          <p:cNvGrpSpPr/>
          <p:nvPr/>
        </p:nvGrpSpPr>
        <p:grpSpPr>
          <a:xfrm>
            <a:off x="201600" y="4621320"/>
            <a:ext cx="1730520" cy="1120680"/>
            <a:chOff x="201600" y="4621320"/>
            <a:chExt cx="1730520" cy="1120680"/>
          </a:xfrm>
        </p:grpSpPr>
        <p:pic>
          <p:nvPicPr>
            <p:cNvPr id="224" name="Rounded Rectangle 13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201600" y="4621320"/>
              <a:ext cx="173052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281160" y="4700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5b"/>
                  </a:solidFill>
                  <a:latin typeface="Times New Roman"/>
                </a:rPr>
                <a:t>40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26" name="Rounded Rectangle 14"/>
          <p:cNvGrpSpPr/>
          <p:nvPr/>
        </p:nvGrpSpPr>
        <p:grpSpPr>
          <a:xfrm>
            <a:off x="201600" y="5761080"/>
            <a:ext cx="1730520" cy="1127160"/>
            <a:chOff x="201600" y="5761080"/>
            <a:chExt cx="1730520" cy="1127160"/>
          </a:xfrm>
        </p:grpSpPr>
        <p:pic>
          <p:nvPicPr>
            <p:cNvPr id="227" name="Rounded Rectangle 14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201600" y="5761080"/>
              <a:ext cx="173052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281160" y="5843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5b"/>
                  </a:solidFill>
                  <a:latin typeface="Times New Roman"/>
                </a:rPr>
                <a:t>50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29" name="Rounded Rectangle 15"/>
          <p:cNvGrpSpPr/>
          <p:nvPr/>
        </p:nvGrpSpPr>
        <p:grpSpPr>
          <a:xfrm>
            <a:off x="1951200" y="4621320"/>
            <a:ext cx="1736640" cy="1120680"/>
            <a:chOff x="1951200" y="4621320"/>
            <a:chExt cx="1736640" cy="1120680"/>
          </a:xfrm>
        </p:grpSpPr>
        <p:pic>
          <p:nvPicPr>
            <p:cNvPr id="230" name="Rounded Rectangle 15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1951200" y="4621320"/>
              <a:ext cx="173664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033640" y="4700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5b"/>
                  </a:solidFill>
                  <a:latin typeface="Times New Roman"/>
                </a:rPr>
                <a:t>40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32" name="Rounded Rectangle 16"/>
          <p:cNvGrpSpPr/>
          <p:nvPr/>
        </p:nvGrpSpPr>
        <p:grpSpPr>
          <a:xfrm>
            <a:off x="1951200" y="3475080"/>
            <a:ext cx="1736640" cy="1127160"/>
            <a:chOff x="1951200" y="3475080"/>
            <a:chExt cx="1736640" cy="1127160"/>
          </a:xfrm>
        </p:grpSpPr>
        <p:pic>
          <p:nvPicPr>
            <p:cNvPr id="233" name="Rounded Rectangle 16" descr="">
              <a:hlinkClick r:id="rId18" action="ppaction://hlinksldjump"/>
            </p:cNvPr>
            <p:cNvPicPr/>
            <p:nvPr/>
          </p:nvPicPr>
          <p:blipFill>
            <a:blip r:embed="rId19"/>
            <a:stretch/>
          </p:blipFill>
          <p:spPr>
            <a:xfrm>
              <a:off x="1951200" y="3475080"/>
              <a:ext cx="173664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2033640" y="3557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5b"/>
                  </a:solidFill>
                  <a:latin typeface="Times New Roman"/>
                </a:rPr>
                <a:t>30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35" name="Rounded Rectangle 17"/>
          <p:cNvGrpSpPr/>
          <p:nvPr/>
        </p:nvGrpSpPr>
        <p:grpSpPr>
          <a:xfrm>
            <a:off x="1951200" y="2335320"/>
            <a:ext cx="1736640" cy="1120680"/>
            <a:chOff x="1951200" y="2335320"/>
            <a:chExt cx="1736640" cy="1120680"/>
          </a:xfrm>
        </p:grpSpPr>
        <p:pic>
          <p:nvPicPr>
            <p:cNvPr id="236" name="Rounded Rectangle 17" descr="">
              <a:hlinkClick r:id="rId20" action="ppaction://hlinksldjump"/>
            </p:cNvPr>
            <p:cNvPicPr/>
            <p:nvPr/>
          </p:nvPicPr>
          <p:blipFill>
            <a:blip r:embed="rId21"/>
            <a:stretch/>
          </p:blipFill>
          <p:spPr>
            <a:xfrm>
              <a:off x="1951200" y="2335320"/>
              <a:ext cx="173664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033640" y="2414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5b"/>
                  </a:solidFill>
                  <a:latin typeface="Times New Roman"/>
                </a:rPr>
                <a:t>20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38" name="Rounded Rectangle 18"/>
          <p:cNvGrpSpPr/>
          <p:nvPr/>
        </p:nvGrpSpPr>
        <p:grpSpPr>
          <a:xfrm>
            <a:off x="1951200" y="1189080"/>
            <a:ext cx="1736640" cy="1127160"/>
            <a:chOff x="1951200" y="1189080"/>
            <a:chExt cx="1736640" cy="1127160"/>
          </a:xfrm>
        </p:grpSpPr>
        <p:pic>
          <p:nvPicPr>
            <p:cNvPr id="239" name="Rounded Rectangle 18" descr="">
              <a:hlinkClick r:id="rId22" action="ppaction://hlinksldjump"/>
            </p:cNvPr>
            <p:cNvPicPr/>
            <p:nvPr/>
          </p:nvPicPr>
          <p:blipFill>
            <a:blip r:embed="rId23"/>
            <a:stretch/>
          </p:blipFill>
          <p:spPr>
            <a:xfrm>
              <a:off x="1951200" y="1189080"/>
              <a:ext cx="173664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2033640" y="1271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5b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41" name="Rounded Rectangle 19"/>
          <p:cNvGrpSpPr/>
          <p:nvPr/>
        </p:nvGrpSpPr>
        <p:grpSpPr>
          <a:xfrm>
            <a:off x="1951200" y="5761080"/>
            <a:ext cx="1736640" cy="1127160"/>
            <a:chOff x="1951200" y="5761080"/>
            <a:chExt cx="1736640" cy="1127160"/>
          </a:xfrm>
        </p:grpSpPr>
        <p:pic>
          <p:nvPicPr>
            <p:cNvPr id="242" name="Rounded Rectangle 19" descr="">
              <a:hlinkClick r:id="rId24" action="ppaction://hlinksldjump"/>
            </p:cNvPr>
            <p:cNvPicPr/>
            <p:nvPr/>
          </p:nvPicPr>
          <p:blipFill>
            <a:blip r:embed="rId25"/>
            <a:stretch/>
          </p:blipFill>
          <p:spPr>
            <a:xfrm>
              <a:off x="1951200" y="5761080"/>
              <a:ext cx="173664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2033640" y="5843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5b"/>
                  </a:solidFill>
                  <a:latin typeface="Times New Roman"/>
                </a:rPr>
                <a:t>50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44" name="Rounded Rectangle 20"/>
          <p:cNvGrpSpPr/>
          <p:nvPr/>
        </p:nvGrpSpPr>
        <p:grpSpPr>
          <a:xfrm>
            <a:off x="3706920" y="5761080"/>
            <a:ext cx="1730160" cy="1127160"/>
            <a:chOff x="3706920" y="5761080"/>
            <a:chExt cx="1730160" cy="1127160"/>
          </a:xfrm>
        </p:grpSpPr>
        <p:pic>
          <p:nvPicPr>
            <p:cNvPr id="245" name="Rounded Rectangle 20" descr="">
              <a:hlinkClick r:id="rId26" action="ppaction://hlinksldjump"/>
            </p:cNvPr>
            <p:cNvPicPr/>
            <p:nvPr/>
          </p:nvPicPr>
          <p:blipFill>
            <a:blip r:embed="rId27"/>
            <a:stretch/>
          </p:blipFill>
          <p:spPr>
            <a:xfrm>
              <a:off x="3706920" y="5761080"/>
              <a:ext cx="173016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3786120" y="5843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5b"/>
                  </a:solidFill>
                  <a:latin typeface="Times New Roman"/>
                </a:rPr>
                <a:t>50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47" name="Rounded Rectangle 21"/>
          <p:cNvGrpSpPr/>
          <p:nvPr/>
        </p:nvGrpSpPr>
        <p:grpSpPr>
          <a:xfrm>
            <a:off x="3706920" y="4621320"/>
            <a:ext cx="1730160" cy="1120680"/>
            <a:chOff x="3706920" y="4621320"/>
            <a:chExt cx="1730160" cy="1120680"/>
          </a:xfrm>
        </p:grpSpPr>
        <p:pic>
          <p:nvPicPr>
            <p:cNvPr id="248" name="Rounded Rectangle 21" descr="">
              <a:hlinkClick r:id="rId28" action="ppaction://hlinksldjump"/>
            </p:cNvPr>
            <p:cNvPicPr/>
            <p:nvPr/>
          </p:nvPicPr>
          <p:blipFill>
            <a:blip r:embed="rId29"/>
            <a:stretch/>
          </p:blipFill>
          <p:spPr>
            <a:xfrm>
              <a:off x="3706920" y="4621320"/>
              <a:ext cx="173016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3786120" y="4700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5b"/>
                  </a:solidFill>
                  <a:latin typeface="Times New Roman"/>
                </a:rPr>
                <a:t>40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50" name="Rounded Rectangle 22"/>
          <p:cNvGrpSpPr/>
          <p:nvPr/>
        </p:nvGrpSpPr>
        <p:grpSpPr>
          <a:xfrm>
            <a:off x="3706920" y="3475080"/>
            <a:ext cx="1730160" cy="1127160"/>
            <a:chOff x="3706920" y="3475080"/>
            <a:chExt cx="1730160" cy="1127160"/>
          </a:xfrm>
        </p:grpSpPr>
        <p:pic>
          <p:nvPicPr>
            <p:cNvPr id="251" name="Rounded Rectangle 22" descr="">
              <a:hlinkClick r:id="rId30" action="ppaction://hlinksldjump"/>
            </p:cNvPr>
            <p:cNvPicPr/>
            <p:nvPr/>
          </p:nvPicPr>
          <p:blipFill>
            <a:blip r:embed="rId31"/>
            <a:stretch/>
          </p:blipFill>
          <p:spPr>
            <a:xfrm>
              <a:off x="3706920" y="3475080"/>
              <a:ext cx="173016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3786120" y="3557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5b"/>
                  </a:solidFill>
                  <a:latin typeface="Times New Roman"/>
                </a:rPr>
                <a:t>30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53" name="Rounded Rectangle 23"/>
          <p:cNvGrpSpPr/>
          <p:nvPr/>
        </p:nvGrpSpPr>
        <p:grpSpPr>
          <a:xfrm>
            <a:off x="3706920" y="2335320"/>
            <a:ext cx="1730160" cy="1120680"/>
            <a:chOff x="3706920" y="2335320"/>
            <a:chExt cx="1730160" cy="1120680"/>
          </a:xfrm>
        </p:grpSpPr>
        <p:pic>
          <p:nvPicPr>
            <p:cNvPr id="254" name="Rounded Rectangle 23" descr="">
              <a:hlinkClick r:id="rId32" action="ppaction://hlinksldjump"/>
            </p:cNvPr>
            <p:cNvPicPr/>
            <p:nvPr/>
          </p:nvPicPr>
          <p:blipFill>
            <a:blip r:embed="rId33"/>
            <a:stretch/>
          </p:blipFill>
          <p:spPr>
            <a:xfrm>
              <a:off x="3706920" y="2335320"/>
              <a:ext cx="173016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3786120" y="2414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5b"/>
                  </a:solidFill>
                  <a:latin typeface="Times New Roman"/>
                </a:rPr>
                <a:t>20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56" name="Rounded Rectangle 24"/>
          <p:cNvGrpSpPr/>
          <p:nvPr/>
        </p:nvGrpSpPr>
        <p:grpSpPr>
          <a:xfrm>
            <a:off x="3706920" y="1189080"/>
            <a:ext cx="1730160" cy="1127160"/>
            <a:chOff x="3706920" y="1189080"/>
            <a:chExt cx="1730160" cy="1127160"/>
          </a:xfrm>
        </p:grpSpPr>
        <p:pic>
          <p:nvPicPr>
            <p:cNvPr id="257" name="Rounded Rectangle 24" descr="">
              <a:hlinkClick r:id="rId34" action="ppaction://hlinksldjump"/>
            </p:cNvPr>
            <p:cNvPicPr/>
            <p:nvPr/>
          </p:nvPicPr>
          <p:blipFill>
            <a:blip r:embed="rId35"/>
            <a:stretch/>
          </p:blipFill>
          <p:spPr>
            <a:xfrm>
              <a:off x="3706920" y="1189080"/>
              <a:ext cx="173016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3786120" y="1271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5b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59" name="Rounded Rectangle 25"/>
          <p:cNvGrpSpPr/>
          <p:nvPr/>
        </p:nvGrpSpPr>
        <p:grpSpPr>
          <a:xfrm>
            <a:off x="5456160" y="5761080"/>
            <a:ext cx="1736640" cy="1127160"/>
            <a:chOff x="5456160" y="5761080"/>
            <a:chExt cx="1736640" cy="1127160"/>
          </a:xfrm>
        </p:grpSpPr>
        <p:pic>
          <p:nvPicPr>
            <p:cNvPr id="260" name="Rounded Rectangle 25" descr="">
              <a:hlinkClick r:id="rId36" action="ppaction://hlinksldjump"/>
            </p:cNvPr>
            <p:cNvPicPr/>
            <p:nvPr/>
          </p:nvPicPr>
          <p:blipFill>
            <a:blip r:embed="rId37"/>
            <a:stretch/>
          </p:blipFill>
          <p:spPr>
            <a:xfrm>
              <a:off x="5456160" y="5761080"/>
              <a:ext cx="173664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538960" y="5843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5b"/>
                  </a:solidFill>
                  <a:latin typeface="Times New Roman"/>
                </a:rPr>
                <a:t>50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62" name="Rounded Rectangle 26"/>
          <p:cNvGrpSpPr/>
          <p:nvPr/>
        </p:nvGrpSpPr>
        <p:grpSpPr>
          <a:xfrm>
            <a:off x="5456160" y="4621320"/>
            <a:ext cx="1736640" cy="1120680"/>
            <a:chOff x="5456160" y="4621320"/>
            <a:chExt cx="1736640" cy="1120680"/>
          </a:xfrm>
        </p:grpSpPr>
        <p:pic>
          <p:nvPicPr>
            <p:cNvPr id="263" name="Rounded Rectangle 26" descr="">
              <a:hlinkClick r:id="rId38" action="ppaction://hlinksldjump"/>
            </p:cNvPr>
            <p:cNvPicPr/>
            <p:nvPr/>
          </p:nvPicPr>
          <p:blipFill>
            <a:blip r:embed="rId39"/>
            <a:stretch/>
          </p:blipFill>
          <p:spPr>
            <a:xfrm>
              <a:off x="5456160" y="4621320"/>
              <a:ext cx="173664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538960" y="4700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5b"/>
                  </a:solidFill>
                  <a:latin typeface="Times New Roman"/>
                </a:rPr>
                <a:t>40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65" name="Rounded Rectangle 27"/>
          <p:cNvGrpSpPr/>
          <p:nvPr/>
        </p:nvGrpSpPr>
        <p:grpSpPr>
          <a:xfrm>
            <a:off x="5456160" y="3475080"/>
            <a:ext cx="1736640" cy="1127160"/>
            <a:chOff x="5456160" y="3475080"/>
            <a:chExt cx="1736640" cy="1127160"/>
          </a:xfrm>
        </p:grpSpPr>
        <p:pic>
          <p:nvPicPr>
            <p:cNvPr id="266" name="Rounded Rectangle 27" descr="">
              <a:hlinkClick r:id="rId40" action="ppaction://hlinksldjump"/>
            </p:cNvPr>
            <p:cNvPicPr/>
            <p:nvPr/>
          </p:nvPicPr>
          <p:blipFill>
            <a:blip r:embed="rId41"/>
            <a:stretch/>
          </p:blipFill>
          <p:spPr>
            <a:xfrm>
              <a:off x="5456160" y="3475080"/>
              <a:ext cx="173664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538960" y="3557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5b"/>
                  </a:solidFill>
                  <a:latin typeface="Times New Roman"/>
                </a:rPr>
                <a:t>30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68" name="Rounded Rectangle 28"/>
          <p:cNvGrpSpPr/>
          <p:nvPr/>
        </p:nvGrpSpPr>
        <p:grpSpPr>
          <a:xfrm>
            <a:off x="5456160" y="2335320"/>
            <a:ext cx="1736640" cy="1120680"/>
            <a:chOff x="5456160" y="2335320"/>
            <a:chExt cx="1736640" cy="1120680"/>
          </a:xfrm>
        </p:grpSpPr>
        <p:pic>
          <p:nvPicPr>
            <p:cNvPr id="269" name="Rounded Rectangle 28" descr="">
              <a:hlinkClick r:id="rId42" action="ppaction://hlinksldjump"/>
            </p:cNvPr>
            <p:cNvPicPr/>
            <p:nvPr/>
          </p:nvPicPr>
          <p:blipFill>
            <a:blip r:embed="rId43"/>
            <a:stretch/>
          </p:blipFill>
          <p:spPr>
            <a:xfrm>
              <a:off x="5456160" y="2335320"/>
              <a:ext cx="173664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538960" y="2414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5b"/>
                  </a:solidFill>
                  <a:latin typeface="Times New Roman"/>
                </a:rPr>
                <a:t>20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71" name="Rounded Rectangle 29"/>
          <p:cNvGrpSpPr/>
          <p:nvPr/>
        </p:nvGrpSpPr>
        <p:grpSpPr>
          <a:xfrm>
            <a:off x="5456160" y="1189080"/>
            <a:ext cx="1736640" cy="1127160"/>
            <a:chOff x="5456160" y="1189080"/>
            <a:chExt cx="1736640" cy="1127160"/>
          </a:xfrm>
        </p:grpSpPr>
        <p:pic>
          <p:nvPicPr>
            <p:cNvPr id="272" name="Rounded Rectangle 29" descr="">
              <a:hlinkClick r:id="rId44" action="ppaction://hlinksldjump"/>
            </p:cNvPr>
            <p:cNvPicPr/>
            <p:nvPr/>
          </p:nvPicPr>
          <p:blipFill>
            <a:blip r:embed="rId45"/>
            <a:stretch/>
          </p:blipFill>
          <p:spPr>
            <a:xfrm>
              <a:off x="5456160" y="1189080"/>
              <a:ext cx="173664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5538960" y="1271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5b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74" name="Rounded Rectangle 30"/>
          <p:cNvGrpSpPr/>
          <p:nvPr/>
        </p:nvGrpSpPr>
        <p:grpSpPr>
          <a:xfrm>
            <a:off x="7211880" y="5761080"/>
            <a:ext cx="1730520" cy="1127160"/>
            <a:chOff x="7211880" y="5761080"/>
            <a:chExt cx="1730520" cy="1127160"/>
          </a:xfrm>
        </p:grpSpPr>
        <p:pic>
          <p:nvPicPr>
            <p:cNvPr id="275" name="Rounded Rectangle 30" descr="">
              <a:hlinkClick r:id="rId46" action="ppaction://hlinksldjump"/>
            </p:cNvPr>
            <p:cNvPicPr/>
            <p:nvPr/>
          </p:nvPicPr>
          <p:blipFill>
            <a:blip r:embed="rId47"/>
            <a:stretch/>
          </p:blipFill>
          <p:spPr>
            <a:xfrm>
              <a:off x="7211880" y="5761080"/>
              <a:ext cx="173052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7291440" y="5843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5b"/>
                  </a:solidFill>
                  <a:latin typeface="Times New Roman"/>
                </a:rPr>
                <a:t>50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77" name="Rounded Rectangle 31"/>
          <p:cNvGrpSpPr/>
          <p:nvPr/>
        </p:nvGrpSpPr>
        <p:grpSpPr>
          <a:xfrm>
            <a:off x="7211880" y="4621320"/>
            <a:ext cx="1730520" cy="1120680"/>
            <a:chOff x="7211880" y="4621320"/>
            <a:chExt cx="1730520" cy="1120680"/>
          </a:xfrm>
        </p:grpSpPr>
        <p:pic>
          <p:nvPicPr>
            <p:cNvPr id="278" name="Rounded Rectangle 31" descr="">
              <a:hlinkClick r:id="rId48" action="ppaction://hlinksldjump"/>
            </p:cNvPr>
            <p:cNvPicPr/>
            <p:nvPr/>
          </p:nvPicPr>
          <p:blipFill>
            <a:blip r:embed="rId49"/>
            <a:stretch/>
          </p:blipFill>
          <p:spPr>
            <a:xfrm>
              <a:off x="7211880" y="4621320"/>
              <a:ext cx="173052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7291440" y="4700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5b"/>
                  </a:solidFill>
                  <a:latin typeface="Times New Roman"/>
                </a:rPr>
                <a:t>40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80" name="Rounded Rectangle 32"/>
          <p:cNvGrpSpPr/>
          <p:nvPr/>
        </p:nvGrpSpPr>
        <p:grpSpPr>
          <a:xfrm>
            <a:off x="7211880" y="3475080"/>
            <a:ext cx="1730520" cy="1127160"/>
            <a:chOff x="7211880" y="3475080"/>
            <a:chExt cx="1730520" cy="1127160"/>
          </a:xfrm>
        </p:grpSpPr>
        <p:pic>
          <p:nvPicPr>
            <p:cNvPr id="281" name="Rounded Rectangle 32" descr="">
              <a:hlinkClick r:id="rId50" action="ppaction://hlinksldjump"/>
            </p:cNvPr>
            <p:cNvPicPr/>
            <p:nvPr/>
          </p:nvPicPr>
          <p:blipFill>
            <a:blip r:embed="rId51"/>
            <a:stretch/>
          </p:blipFill>
          <p:spPr>
            <a:xfrm>
              <a:off x="7211880" y="3475080"/>
              <a:ext cx="173052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7291440" y="3557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5b"/>
                  </a:solidFill>
                  <a:latin typeface="Times New Roman"/>
                </a:rPr>
                <a:t>30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83" name="Rounded Rectangle 33"/>
          <p:cNvGrpSpPr/>
          <p:nvPr/>
        </p:nvGrpSpPr>
        <p:grpSpPr>
          <a:xfrm>
            <a:off x="7211880" y="2335320"/>
            <a:ext cx="1730520" cy="1120680"/>
            <a:chOff x="7211880" y="2335320"/>
            <a:chExt cx="1730520" cy="1120680"/>
          </a:xfrm>
        </p:grpSpPr>
        <p:pic>
          <p:nvPicPr>
            <p:cNvPr id="284" name="Rounded Rectangle 33" descr="">
              <a:hlinkClick r:id="rId52" action="ppaction://hlinksldjump"/>
            </p:cNvPr>
            <p:cNvPicPr/>
            <p:nvPr/>
          </p:nvPicPr>
          <p:blipFill>
            <a:blip r:embed="rId53"/>
            <a:stretch/>
          </p:blipFill>
          <p:spPr>
            <a:xfrm>
              <a:off x="7211880" y="2335320"/>
              <a:ext cx="173052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7291440" y="2414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5b"/>
                  </a:solidFill>
                  <a:latin typeface="Times New Roman"/>
                </a:rPr>
                <a:t>20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86" name="Rounded Rectangle 34"/>
          <p:cNvGrpSpPr/>
          <p:nvPr/>
        </p:nvGrpSpPr>
        <p:grpSpPr>
          <a:xfrm>
            <a:off x="7211880" y="1189080"/>
            <a:ext cx="1730520" cy="1127160"/>
            <a:chOff x="7211880" y="1189080"/>
            <a:chExt cx="1730520" cy="1127160"/>
          </a:xfrm>
        </p:grpSpPr>
        <p:pic>
          <p:nvPicPr>
            <p:cNvPr id="287" name="Rounded Rectangle 34" descr="">
              <a:hlinkClick r:id="rId54" action="ppaction://hlinksldjump"/>
            </p:cNvPr>
            <p:cNvPicPr/>
            <p:nvPr/>
          </p:nvPicPr>
          <p:blipFill>
            <a:blip r:embed="rId55"/>
            <a:stretch/>
          </p:blipFill>
          <p:spPr>
            <a:xfrm>
              <a:off x="7211880" y="1189080"/>
              <a:ext cx="173052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7291440" y="1271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5b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rammar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– 30 Poi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375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376" name="Left Arrow 3" descr=""/>
            <p:cNvPicPr/>
            <p:nvPr/>
          </p:nvPicPr>
          <p:blipFill>
            <a:blip r:embed="rId1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78" name="TextBox 4"/>
          <p:cNvSpPr/>
          <p:nvPr/>
        </p:nvSpPr>
        <p:spPr>
          <a:xfrm>
            <a:off x="838080" y="1371600"/>
            <a:ext cx="7543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QUESTION: Choose the right  verb form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If John (go) to university when he was younger, he (be) a lawyer now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ANSWER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had gone,     would b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rammar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– 40 Poi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380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381" name="Left Arrow 3" descr=""/>
            <p:cNvPicPr/>
            <p:nvPr/>
          </p:nvPicPr>
          <p:blipFill>
            <a:blip r:embed="rId1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83" name="TextBox 4"/>
          <p:cNvSpPr/>
          <p:nvPr/>
        </p:nvSpPr>
        <p:spPr>
          <a:xfrm>
            <a:off x="838080" y="1371600"/>
            <a:ext cx="75438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QUESTION: Choose the right  verb form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If he (be) a real friend, he (help)  me yesterday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ANSWER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were,    would have helped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rammar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– 50 Poi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385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386" name="Left Arrow 3" descr=""/>
            <p:cNvPicPr/>
            <p:nvPr/>
          </p:nvPicPr>
          <p:blipFill>
            <a:blip r:embed="rId1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88" name="TextBox 4"/>
          <p:cNvSpPr/>
          <p:nvPr/>
        </p:nvSpPr>
        <p:spPr>
          <a:xfrm>
            <a:off x="838080" y="1371600"/>
            <a:ext cx="75438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QUESTION: Express the same in English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We didn’t meet yesterday because of rain.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…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we would have met  yesterday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ANSWER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But for the rain</a:t>
            </a:r>
            <a:r>
              <a:rPr b="0" lang="ru-RU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…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nimal sounds – 10 Poi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390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391" name="Left Arrow 3" descr=""/>
            <p:cNvPicPr/>
            <p:nvPr/>
          </p:nvPicPr>
          <p:blipFill>
            <a:blip r:embed="rId1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93" name="TextBox 4"/>
          <p:cNvSpPr/>
          <p:nvPr/>
        </p:nvSpPr>
        <p:spPr>
          <a:xfrm>
            <a:off x="838080" y="1371600"/>
            <a:ext cx="75438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QUESTION: What’s the sound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Snakes …. 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ANSWER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his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nimal sounds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– 20 Poi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395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396" name="Left Arrow 3" descr=""/>
            <p:cNvPicPr/>
            <p:nvPr/>
          </p:nvPicPr>
          <p:blipFill>
            <a:blip r:embed="rId1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98" name="TextBox 4"/>
          <p:cNvSpPr/>
          <p:nvPr/>
        </p:nvSpPr>
        <p:spPr>
          <a:xfrm>
            <a:off x="838080" y="1371600"/>
            <a:ext cx="75438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QUESTION: What’s the sound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Mice and  bats … 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ANSWER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squeak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nimal sounds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– 30 Poi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400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401" name="Left Arrow 3" descr=""/>
            <p:cNvPicPr/>
            <p:nvPr/>
          </p:nvPicPr>
          <p:blipFill>
            <a:blip r:embed="rId1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403" name="TextBox 4"/>
          <p:cNvSpPr/>
          <p:nvPr/>
        </p:nvSpPr>
        <p:spPr>
          <a:xfrm>
            <a:off x="838080" y="1371600"/>
            <a:ext cx="7543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QUESTION: What’s the sound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Ducks … 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ANSWER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quack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nimal sounds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– 40 Poi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405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406" name="Left Arrow 3" descr=""/>
            <p:cNvPicPr/>
            <p:nvPr/>
          </p:nvPicPr>
          <p:blipFill>
            <a:blip r:embed="rId1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408" name="TextBox 4"/>
          <p:cNvSpPr/>
          <p:nvPr/>
        </p:nvSpPr>
        <p:spPr>
          <a:xfrm>
            <a:off x="838080" y="1371600"/>
            <a:ext cx="7543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QUESTION: What’s the sound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Little birds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ANSWER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twitter / chirp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nimal sounds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– 50 Poi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410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411" name="Left Arrow 3" descr=""/>
            <p:cNvPicPr/>
            <p:nvPr/>
          </p:nvPicPr>
          <p:blipFill>
            <a:blip r:embed="rId1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413" name="TextBox 4"/>
          <p:cNvSpPr/>
          <p:nvPr/>
        </p:nvSpPr>
        <p:spPr>
          <a:xfrm>
            <a:off x="838080" y="1371600"/>
            <a:ext cx="75438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QUESTION: What’s the sound?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Bees and bumble-bees … .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ANSWER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buzz / dron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Animal Sounds So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15" name="The Animal Sounds Song.mp4" descr=""/>
          <p:cNvPicPr/>
          <p:nvPr/>
        </p:nvPicPr>
        <p:blipFill>
          <a:blip r:embed="rId1"/>
          <a:stretch/>
        </p:blipFill>
        <p:spPr>
          <a:xfrm>
            <a:off x="3809880" y="3219480"/>
            <a:ext cx="1524240" cy="8589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" descr="C:\Users\Амалия\Desktop\Анимашки\АНИМАЦИИ\starr_7_200.gif"/>
          <p:cNvPicPr/>
          <p:nvPr/>
        </p:nvPicPr>
        <p:blipFill>
          <a:blip r:embed="rId2"/>
          <a:stretch/>
        </p:blipFill>
        <p:spPr>
          <a:xfrm rot="903600">
            <a:off x="6090840" y="205704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C:\Users\Амалия\Desktop\Анимашки\АНИМАЦИИ\starr_7_200.gif"/>
          <p:cNvPicPr/>
          <p:nvPr/>
        </p:nvPicPr>
        <p:blipFill>
          <a:blip r:embed="rId3"/>
          <a:stretch/>
        </p:blipFill>
        <p:spPr>
          <a:xfrm rot="903600">
            <a:off x="3677760" y="446832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C:\Users\Амалия\Desktop\Анимашки\АНИМАЦИИ\starr_7_200.gif"/>
          <p:cNvPicPr/>
          <p:nvPr/>
        </p:nvPicPr>
        <p:blipFill>
          <a:blip r:embed="rId4"/>
          <a:stretch/>
        </p:blipFill>
        <p:spPr>
          <a:xfrm>
            <a:off x="1066680" y="20574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144042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462" nodeType="clickEffect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5" dur="1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ank you!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You are very smart!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20" name="Picture 2" descr="C:\Users\Амалия\Desktop\Анимашки\Анимационные картинки для презентаций\Новый год\bestgif.narod.ru_10177.gif"/>
          <p:cNvPicPr/>
          <p:nvPr/>
        </p:nvPicPr>
        <p:blipFill>
          <a:blip r:embed="rId1"/>
          <a:stretch/>
        </p:blipFill>
        <p:spPr>
          <a:xfrm>
            <a:off x="2852640" y="2624040"/>
            <a:ext cx="343872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ofession Words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– 10 Poi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0" name="TextBox 2"/>
          <p:cNvSpPr/>
          <p:nvPr/>
        </p:nvSpPr>
        <p:spPr>
          <a:xfrm>
            <a:off x="838080" y="1371600"/>
            <a:ext cx="75438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QUESTION: Guess the word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A person who cuts men’s hair is a…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ANSWER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barber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291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92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erry Christmas!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nd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appy New Year!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22" name="Picture 9" descr="C:\Users\Амалия\Desktop\Анимашки\NATURE ANIMALS\ПРИРОДА\8879b34da18bc8bbf0e9f1a097d61966.gif"/>
          <p:cNvPicPr/>
          <p:nvPr/>
        </p:nvPicPr>
        <p:blipFill>
          <a:blip r:embed="rId1"/>
          <a:stretch/>
        </p:blipFill>
        <p:spPr>
          <a:xfrm>
            <a:off x="3333600" y="3297240"/>
            <a:ext cx="2421000" cy="47862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0" descr="C:\Users\Амалия\Desktop\Анимашки\NATURE ANIMALS\ПРИРОДА\414650220.gif"/>
          <p:cNvPicPr/>
          <p:nvPr/>
        </p:nvPicPr>
        <p:blipFill>
          <a:blip r:embed="rId2"/>
          <a:stretch/>
        </p:blipFill>
        <p:spPr>
          <a:xfrm>
            <a:off x="895320" y="3297240"/>
            <a:ext cx="2421000" cy="47862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1" descr="C:\Users\Амалия\Desktop\Анимашки\NATURE ANIMALS\ПРИРОДА\f39225ee0d0b1b26456786f6afc257ea.gif"/>
          <p:cNvPicPr/>
          <p:nvPr/>
        </p:nvPicPr>
        <p:blipFill>
          <a:blip r:embed="rId3"/>
          <a:stretch/>
        </p:blipFill>
        <p:spPr>
          <a:xfrm>
            <a:off x="5851440" y="3297240"/>
            <a:ext cx="2438640" cy="482292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4"/>
          <a:stretch/>
        </p:blipFill>
        <p:spPr>
          <a:xfrm>
            <a:off x="685800" y="22860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ofession Words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– 20 Poi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295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96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298" name="TextBox 4"/>
          <p:cNvSpPr/>
          <p:nvPr/>
        </p:nvSpPr>
        <p:spPr>
          <a:xfrm>
            <a:off x="838080" y="1371600"/>
            <a:ext cx="75438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QUESTION: Guess the word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A person who cuts, washes and styles  women’s hair is a…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ANSWER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hairdresser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ofession Words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– 30 Poi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300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301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03" name="TextBox 4"/>
          <p:cNvSpPr/>
          <p:nvPr/>
        </p:nvSpPr>
        <p:spPr>
          <a:xfrm>
            <a:off x="838080" y="1371600"/>
            <a:ext cx="7543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QUESTION: Guess the word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The work that a person does regularly in order to earn money is a …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ANSWER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job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ofession Words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– 40 Poi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305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306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08" name="TextBox 4"/>
          <p:cNvSpPr/>
          <p:nvPr/>
        </p:nvSpPr>
        <p:spPr>
          <a:xfrm>
            <a:off x="838080" y="1371600"/>
            <a:ext cx="75438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QUESTION: Guess the words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A person who can’t hear and talk from birth is …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ANSWER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deaf and dumb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ofession Words – 50 Poi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310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311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13" name="TextBox 4"/>
          <p:cNvSpPr/>
          <p:nvPr/>
        </p:nvSpPr>
        <p:spPr>
          <a:xfrm>
            <a:off x="838080" y="1371600"/>
            <a:ext cx="7543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QUESTION: Guess the word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A person who buys and sells houses, flats and offices is an …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ANSWER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estate agent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ducation – 10 Poi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315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316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18" name="TextBox 4"/>
          <p:cNvSpPr/>
          <p:nvPr/>
        </p:nvSpPr>
        <p:spPr>
          <a:xfrm>
            <a:off x="838080" y="1371600"/>
            <a:ext cx="75438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QUESTION: Complete the sentence using the missing word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In Great Britain school begins at the age of …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ANSWER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4-5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ducation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– 20 Poi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320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321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23" name="TextBox 4"/>
          <p:cNvSpPr/>
          <p:nvPr/>
        </p:nvSpPr>
        <p:spPr>
          <a:xfrm>
            <a:off x="838080" y="1371600"/>
            <a:ext cx="75438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QUESTION: Complete the sentence using the missing word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A school at which pupils live as well as study is called a …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ANSWER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boarding schoo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10:43:48Z</dcterms:created>
  <dc:creator>Educational Technology Network</dc:creator>
  <dc:description>www.edtechnetwork.com</dc:description>
  <cp:keywords>Jeopardy Powerpoint Template;Education Technology</cp:keywords>
  <dc:language>en-US</dc:language>
  <cp:lastModifiedBy>Амалия</cp:lastModifiedBy>
  <dcterms:modified xsi:type="dcterms:W3CDTF">2016-12-12T17:16:38Z</dcterms:modified>
  <cp:revision>38</cp:revision>
  <dc:subject>Jeopardy Template</dc:subject>
  <dc:title>POWERPOINT JEOPARDY</dc:title>
</cp:coreProperties>
</file>