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2DC1-3615-4926-AB3A-2A6A4C15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3094-85F8-4821-BC71-8CEC2FE7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C208-A88A-4068-8419-ADA929BE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0742-9A85-4CDF-8BC7-A8C891DF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71DD-3A79-416F-AF7A-A89C18B1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CFD7-DAD9-4109-A4B6-0CE47E2C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97F8-8576-4194-B875-9FFEC205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5F0A-46EE-426C-9263-E4787636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0B08-B9CA-4AC7-809E-267C4535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330B-F90F-4C17-810A-C740D01F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5E84-1EC6-4AE1-96D5-81E5B72A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370D-0308-4637-B442-E56BBCBA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1ACF-7384-4DC2-8B7F-3B47E9AF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B54E-183D-43F0-AF55-0FA44E1F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7D43-7CFD-4E3E-BEF3-837E1420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F2DC-DDAF-4740-9B3C-DAE3EE5D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0EDB-D899-4C09-AE43-BCB6C294A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82B-B6FC-4EC8-8B5A-4EB6CCD4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AB03-8038-46E0-AC82-D944FBF3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60F4-19BF-4F10-B328-0049DA94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8ECC-5860-449F-BC12-A647B988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48A3-98AB-4F75-8EF1-067397E3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05CE-BE75-4A06-B344-32677D4C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F00A-6D23-4AD2-A6C0-779FEE3F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3F6A-9C0C-4831-9A9C-A3E382824D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06A4-F2CE-45FB-821E-892D97E5D3C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Sample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 «Шелаболихинская средняя общеобразовательная школа №2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360" y="1341360"/>
            <a:ext cx="86425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неклассное мероприя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нтомологическая викторина «Маленькая стран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: Евтюхина Галина Геннадьевн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. Шелаболих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3781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132408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Правильный ответ:</a:t>
            </a:r>
            <a:br>
              <a:rPr sz="44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ньше появляются насекомые. А уже после их вылета появляются летучие мыши, для которых насекомые служат пищей.</a:t>
            </a:r>
            <a:endParaRPr b="0" lang="en-US" sz="36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ff99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914400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ие жуки носят названия тех месяцев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которых сами появляютс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7" descr="3849"/>
          <p:cNvPicPr/>
          <p:nvPr/>
        </p:nvPicPr>
        <p:blipFill>
          <a:blip r:embed="rId1"/>
          <a:stretch/>
        </p:blipFill>
        <p:spPr>
          <a:xfrm>
            <a:off x="1692360" y="2492280"/>
            <a:ext cx="57610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Tahoma"/>
              </a:rPr>
              <a:t>Правильный отве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8" name="Picture 11" descr="3850"/>
          <p:cNvPicPr/>
          <p:nvPr/>
        </p:nvPicPr>
        <p:blipFill>
          <a:blip r:embed="rId1"/>
          <a:stretch/>
        </p:blipFill>
        <p:spPr>
          <a:xfrm>
            <a:off x="0" y="1052640"/>
            <a:ext cx="5508720" cy="5805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3849"/>
          <p:cNvPicPr/>
          <p:nvPr/>
        </p:nvPicPr>
        <p:blipFill>
          <a:blip r:embed="rId2"/>
          <a:stretch/>
        </p:blipFill>
        <p:spPr>
          <a:xfrm>
            <a:off x="3995640" y="836640"/>
            <a:ext cx="5148360" cy="5472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-360" y="836280"/>
            <a:ext cx="939636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ти насекомые – майские и июньские жуки, другое их название «хрущи»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28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ff99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96472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Если наблюдать за муравейником, как можно узнать о приближении дожд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Правильный ответ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еред дождём муравьи прячутся в муравейник и закупоривают все входы в него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17" name="Picture 13" descr="butterfly1-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939636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уда осенью деваются бабочк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Правильный ответ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68000" y="1484280"/>
            <a:ext cx="828036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ольшинство из них гибнет с первыми же холодами. Но некоторые бабочки забираются под кору деревьев, в щели заборов, домов и там перезимовываю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0755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ff99"/>
                </a:solidFill>
                <a:latin typeface="Tahoma"/>
              </a:rPr>
              <a:t>2 раунд –Игровой</a:t>
            </a:r>
            <a:br>
              <a:rPr sz="4400"/>
            </a:br>
            <a:r>
              <a:rPr b="1" i="1" lang="ru-RU" sz="4000" spc="-1" strike="noStrike">
                <a:solidFill>
                  <a:srgbClr val="ccff99"/>
                </a:solidFill>
                <a:latin typeface="Tahoma"/>
              </a:rPr>
              <a:t>1.Рассыпалось слово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403848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О  М  К  А  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2   3  1  4  5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2708280"/>
            <a:ext cx="403848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Ч  Л  А П 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2  4  5  1 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25" name="Picture 6" descr="1220"/>
          <p:cNvPicPr/>
          <p:nvPr/>
        </p:nvPicPr>
        <p:blipFill>
          <a:blip r:embed="rId1"/>
          <a:stretch/>
        </p:blipFill>
        <p:spPr>
          <a:xfrm>
            <a:off x="0" y="1844640"/>
            <a:ext cx="4289400" cy="3560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insects06"/>
          <p:cNvPicPr/>
          <p:nvPr/>
        </p:nvPicPr>
        <p:blipFill>
          <a:blip r:embed="rId2"/>
          <a:stretch/>
        </p:blipFill>
        <p:spPr>
          <a:xfrm>
            <a:off x="4211640" y="1484280"/>
            <a:ext cx="4932360" cy="49690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Комар                                  2.Пче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2.Разгадайте ребус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ffff"/>
                </a:solidFill>
                <a:latin typeface="Tahoma"/>
              </a:rPr>
              <a:t>БА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9" descr="img100"/>
          <p:cNvPicPr/>
          <p:nvPr/>
        </p:nvPicPr>
        <p:blipFill>
          <a:blip r:embed="rId1"/>
          <a:stretch/>
        </p:blipFill>
        <p:spPr>
          <a:xfrm>
            <a:off x="4572000" y="1916280"/>
            <a:ext cx="45720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260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99"/>
                </a:solidFill>
                <a:latin typeface="Times New Roman"/>
              </a:rPr>
              <a:t>                                </a:t>
            </a:r>
            <a:r>
              <a:rPr b="1" lang="ru-RU" sz="2400" spc="-1" strike="noStrike">
                <a:solidFill>
                  <a:srgbClr val="ccff99"/>
                </a:solidFill>
                <a:latin typeface="Times New Roman"/>
              </a:rPr>
              <a:t>Пояснительная записка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ff99"/>
                </a:solidFill>
                <a:latin typeface="Times New Roman"/>
              </a:rPr>
              <a:t>Один из непременных залогов успешного труда учащихся – разумная организация их досугового времени. Пусть ученик, старательно корпевший над учебниками целую четверть, закрепит свои успехи, пройдя через маленький праздник, в котором он сам выступает либо как участник, либо как зритель. Ведь общеизвестно – в игровой занимательной форме ребята могут без особого напряжения повторить элементы пройденного на уроках материала, расширить горизонты уже имеющихся знаний.</a:t>
            </a:r>
            <a:br>
              <a:rPr sz="2400"/>
            </a:br>
            <a:r>
              <a:rPr b="1" lang="ru-RU" sz="2400" spc="-1" strike="noStrike">
                <a:solidFill>
                  <a:srgbClr val="ccff99"/>
                </a:solidFill>
                <a:latin typeface="Times New Roman"/>
              </a:rPr>
              <a:t>Пожалуй, главная цель мероприятия, с которым сейчас знакомится уважаемый читатель, можно сформулировать так – формирование интеллекта учащихся с помощью разумно организованного досуг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7" descr="img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544500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равильный ответ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ff99"/>
                </a:solidFill>
                <a:latin typeface="Tahoma"/>
              </a:rPr>
              <a:t>3 раунд</a:t>
            </a:r>
            <a:endParaRPr b="0" lang="en-US" sz="4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«Энтомология в сказках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1. В кого превращала князя Гвидона царевна Лебедь в сказке А.С. Пушкина «Сказка о царе Салтане»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2. Один из лесных докторов, лечивших Буратино, был насекомым. Назовите его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3781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37" name="Picture 9" descr="1239"/>
          <p:cNvPicPr/>
          <p:nvPr/>
        </p:nvPicPr>
        <p:blipFill>
          <a:blip r:embed="rId2"/>
          <a:stretch/>
        </p:blipFill>
        <p:spPr>
          <a:xfrm>
            <a:off x="0" y="2924280"/>
            <a:ext cx="4038480" cy="2793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insects05"/>
          <p:cNvPicPr/>
          <p:nvPr/>
        </p:nvPicPr>
        <p:blipFill>
          <a:blip r:embed="rId3"/>
          <a:stretch/>
        </p:blipFill>
        <p:spPr>
          <a:xfrm>
            <a:off x="5724360" y="1844640"/>
            <a:ext cx="2971800" cy="1981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комара, муху, шмеля.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огомо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15" descr="insects02"/>
          <p:cNvPicPr/>
          <p:nvPr/>
        </p:nvPicPr>
        <p:blipFill>
          <a:blip r:embed="rId4"/>
          <a:stretch/>
        </p:blipFill>
        <p:spPr>
          <a:xfrm>
            <a:off x="3059280" y="487692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Tahoma"/>
              </a:rPr>
              <a:t>3.Один из женихов Дюймовочки тоже был насекомым. Кто он?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4. В книге Р.Киплинга «Маугли» был Маленький народ, который не переносил запах чеснока. Что за насекомые скрываются под этим названием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0" descr="3849"/>
          <p:cNvPicPr/>
          <p:nvPr/>
        </p:nvPicPr>
        <p:blipFill>
          <a:blip r:embed="rId1"/>
          <a:stretch/>
        </p:blipFill>
        <p:spPr>
          <a:xfrm>
            <a:off x="0" y="0"/>
            <a:ext cx="5435640" cy="46864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0" y="1052280"/>
            <a:ext cx="9144000" cy="45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Майский жук                     4.Дикие пчёл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15" descr="insects06"/>
          <p:cNvPicPr/>
          <p:nvPr/>
        </p:nvPicPr>
        <p:blipFill>
          <a:blip r:embed="rId2"/>
          <a:stretch/>
        </p:blipFill>
        <p:spPr>
          <a:xfrm>
            <a:off x="4816440" y="2957400"/>
            <a:ext cx="432756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48" name="Picture 19" descr="4084"/>
          <p:cNvPicPr/>
          <p:nvPr/>
        </p:nvPicPr>
        <p:blipFill>
          <a:blip r:embed="rId1"/>
          <a:stretch/>
        </p:blipFill>
        <p:spPr>
          <a:xfrm>
            <a:off x="0" y="1413000"/>
            <a:ext cx="3780000" cy="3220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2814"/>
          <p:cNvPicPr/>
          <p:nvPr/>
        </p:nvPicPr>
        <p:blipFill>
          <a:blip r:embed="rId2"/>
          <a:stretch/>
        </p:blipFill>
        <p:spPr>
          <a:xfrm>
            <a:off x="755640" y="382896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50" name="WordArt 5"/>
          <p:cNvSpPr txBox="1"/>
          <p:nvPr/>
        </p:nvSpPr>
        <p:spPr>
          <a:xfrm>
            <a:off x="1187280" y="189000"/>
            <a:ext cx="6912000" cy="12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3300"/>
                  </a:solidFill>
                  <a:miter/>
                </a:ln>
                <a:blipFill rotWithShape="0">
                  <a:blip r:embed="rId3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оопарк из насекомых</a:t>
            </a:r>
            <a:endParaRPr b="1" lang="en-US" sz="2400" spc="1" strike="noStrike">
              <a:ln w="12600">
                <a:solidFill>
                  <a:srgbClr val="003300"/>
                </a:solidFill>
                <a:miter/>
              </a:ln>
              <a:blipFill rotWithShape="0">
                <a:blip r:embed="rId4">
                  <a:alphaModFix amt="5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0" y="162864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Жук – олень(рогач)</a:t>
            </a:r>
            <a:r>
              <a:rPr b="0" lang="ru-RU" sz="2400" spc="-1" strike="noStrike">
                <a:solidFill>
                  <a:srgbClr val="ccff99"/>
                </a:solidFill>
                <a:latin typeface="Times New Roman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Жук – сосновый сло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Жук - носорог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1" descr="3089"/>
          <p:cNvPicPr/>
          <p:nvPr/>
        </p:nvPicPr>
        <p:blipFill>
          <a:blip r:embed="rId5"/>
          <a:stretch/>
        </p:blipFill>
        <p:spPr>
          <a:xfrm>
            <a:off x="4319640" y="2421000"/>
            <a:ext cx="482436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54" name="Picture 6" descr="img0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6" name="WordArt 5"/>
          <p:cNvSpPr txBox="1"/>
          <p:nvPr/>
        </p:nvSpPr>
        <p:spPr>
          <a:xfrm>
            <a:off x="250920" y="2060640"/>
            <a:ext cx="849780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ГРАДА</a:t>
            </a:r>
            <a:endParaRPr b="1" lang="en-US" sz="7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Цель:</a:t>
            </a:r>
            <a:r>
              <a:rPr b="0" lang="ru-RU" sz="40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ccff99"/>
                </a:solidFill>
                <a:latin typeface="Tahoma"/>
              </a:rPr>
              <a:t>познакомить детей с некоторыми   понятиями науки энтомологии и книгами о</a:t>
            </a:r>
            <a:br>
              <a:rPr sz="3200"/>
            </a:br>
            <a:r>
              <a:rPr b="0" lang="ru-RU" sz="3200" spc="-1" strike="noStrike">
                <a:solidFill>
                  <a:srgbClr val="ccff99"/>
                </a:solidFill>
                <a:latin typeface="Tahoma"/>
              </a:rPr>
              <a:t> насекомых.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чи: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вивать творческие    способности учащихс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мение работать в группе (команде), навыки самостоятельной работы и умение организовать работу друг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99"/>
                </a:solidFill>
                <a:latin typeface="Tahoma"/>
              </a:rPr>
              <a:t>Предварительная подготовка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Чтение детьми книги В.Бианки «Лесная газет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Оформить книжную выставку с научно-популярными и     художественными книгами о насекомых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.Бианки «Лесная газета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Зоопарк в твоей книжке».Харьков: Панорама,1992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.Танасийчуков «Энтомология в картинках». - М.:Просвещение,1980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ж.Бульванкер «От кита до кота». – Л.: Детская литература,1991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.С. Пушкин «Сказки» (любое издани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.И. Чуковский «Сказки» (любое издани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. Киплинг « Маугли» ( любое издани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. Толстой «Золотой ключик, или Приключения Буратино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Вырезание жетонов для правильных ответов(в форме бабочки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8291520" cy="700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Tahoma"/>
              </a:rPr>
              <a:t>Оборудование: </a:t>
            </a:r>
            <a:r>
              <a:rPr b="0" lang="ru-RU" sz="2800" spc="-1" strike="noStrike">
                <a:solidFill>
                  <a:srgbClr val="ccff99"/>
                </a:solidFill>
                <a:latin typeface="Tahoma"/>
              </a:rPr>
              <a:t>колокольчик для подачи сигналов времени, книжная выставка с научно – популярными и художественными книгами о насекомых, компьютер, магнитофон (запись «Маленькая страна»).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4" descr="P81528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Энтомологическая викторина «Маленькая страна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Tahoma"/>
              </a:rPr>
              <a:t>Разминка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549000"/>
            <a:ext cx="914400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Вспомните наиболее популярную книгу о насекомых. В ней рассказывается о том, как именинница муха вышла замуж за лихого, удалого, молодого комара. Скажите все вместе – как называется эта книжк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А  вот в другой книге этого же автора злое насекомое   выглядит так грозно, что его боятся медведи, собаки, волки, бегемоты и слоны. Что эта за книга? Кто же его победил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В какой книге К. Чуковского есть такие строчк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бочка прилетел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ылышками помаха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ало море потуха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потухл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ccff99"/>
                </a:solidFill>
                <a:latin typeface="Tahoma"/>
              </a:rPr>
              <a:t>Правильные ответы</a:t>
            </a:r>
            <a:br>
              <a:rPr sz="4000"/>
            </a:b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. Корней Иванович Чуковский «Муха – Цокотуха»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. К.И. Чуковский  «Тараканище»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(Воробей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. К.И.Чуковский «Путаниц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4594"/>
          <p:cNvPicPr/>
          <p:nvPr/>
        </p:nvPicPr>
        <p:blipFill>
          <a:blip r:embed="rId1"/>
          <a:stretch/>
        </p:blipFill>
        <p:spPr>
          <a:xfrm>
            <a:off x="0" y="2349360"/>
            <a:ext cx="5184720" cy="3600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ff99"/>
                </a:solidFill>
                <a:latin typeface="Tahoma"/>
              </a:rPr>
              <a:t>           </a:t>
            </a:r>
            <a:r>
              <a:rPr b="1" i="1" lang="ru-RU" sz="4800" spc="-1" strike="noStrike">
                <a:solidFill>
                  <a:srgbClr val="ccff99"/>
                </a:solidFill>
                <a:latin typeface="Tahoma"/>
              </a:rPr>
              <a:t>1</a:t>
            </a:r>
            <a:r>
              <a:rPr b="0" lang="ru-RU" sz="4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ru-RU" sz="4800" spc="-1" strike="noStrike">
                <a:solidFill>
                  <a:srgbClr val="ccff99"/>
                </a:solidFill>
                <a:latin typeface="Tahoma"/>
              </a:rPr>
              <a:t>раунд.</a:t>
            </a:r>
            <a:endParaRPr b="0" lang="en-US" sz="4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-360" y="1125000"/>
            <a:ext cx="932508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. Кто раньше появляется весной- летучие мыши или летучие насекомые, и почему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Летучая мышь                                             2.Ком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8" descr="3781"/>
          <p:cNvPicPr/>
          <p:nvPr/>
        </p:nvPicPr>
        <p:blipFill>
          <a:blip r:embed="rId2"/>
          <a:stretch/>
        </p:blipFill>
        <p:spPr>
          <a:xfrm>
            <a:off x="4284720" y="3068640"/>
            <a:ext cx="4716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7-01-10T06:37:00Z</dcterms:modified>
  <cp:revision>32</cp:revision>
  <dc:subject/>
  <dc:title>PowerPoint Presentation</dc:title>
</cp:coreProperties>
</file>