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52EA-47C8-4CFF-8911-2283171F5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D190-9FA3-4C11-92CE-DB43667B1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8A57-76FF-4EB8-A76F-DB43FA7A2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C3FD-586F-42F9-8112-33D90AA93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4EE07-8D19-4039-80F0-B0F787AC4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0506E-CD50-49FB-A2DD-DC7277AFF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5B7C2-DECB-4B2A-8FF6-500B12E35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76D61-65AC-4BC4-B93F-6F542C3B1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BA1AD-67D0-444A-A9D9-B20C3FA6A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9F17D-7FE6-455A-971B-4E39FBD4A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16F62-9B50-40C1-8174-A9410392E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EA64-D62D-4442-ACA6-36895F85F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9817E-CAAD-4567-B952-244501B51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CB970-C701-464F-B9FF-CEA3884CB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F83B1-A365-496D-B7C0-A8A04731F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ADB98-B41C-4812-9562-F71F96D05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1AF01-446A-4E8F-97BD-0B7C8D83E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53E9-1979-48E2-B208-A9B67851B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6FF1-7F72-476E-8B33-4150EECFC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C3C2-7D19-435D-89E8-603C198F7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4F56-9BA3-4BA0-B602-0A95AC965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9242-E9BF-42E0-84CB-FD5548FDE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7B04-005B-4540-B7CE-08A97FB48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D6BF-6A1B-4BAD-8A11-1DBE82FB3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haparral Pro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haparral Pro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haparral Pro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57FEA-9554-466A-A8B1-1BC0A3D32CBE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haparral Pro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haparral Pro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haparral Pro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haparral Pro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haparral Pro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haparral Pro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haparral Pro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haparral Pro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haparral Pro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haparral Pro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haparral Pro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haparral Pro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haparral Pro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haparral Pro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haparral Pro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haparral Pro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haparral Pro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haparral Pro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haparral Pro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haparral Pro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haparral Pro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haparral Pro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haparral Pro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haparral Pro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haparral Pro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haparral Pro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haparral Pro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haparral Pro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haparral Pro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haparral Pro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haparral Pro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haparral Pro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haparral Pro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haparral Pro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haparral Pro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haparral Pro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haparral Pro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haparral Pro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haparral Pro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haparral Pro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haparral Pro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haparral Pro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haparral Pro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haparral Pro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haparral Pro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haparral Pro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haparral Pro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haparral Pro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haparral Pro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haparral Pro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haparral Pro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haparral Pro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haparral Pro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haparral Pro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haparral Pro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haparral Pro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haparral Pro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haparral Pro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haparral Pro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67C80-D4AD-4B18-8A2E-6E49DDFCEA45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haparral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685800" y="83808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Comic Sans MS"/>
              </a:rPr>
              <a:t>17 ноября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6000" spc="-1" strike="noStrike">
                <a:solidFill>
                  <a:srgbClr val="000000"/>
                </a:solidFill>
                <a:latin typeface="Comic Sans MS"/>
              </a:rPr>
              <a:t>Классная работа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6870600" cy="411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omic Sans MS"/>
              </a:rPr>
              <a:t>Цель:</a:t>
            </a:r>
            <a:br>
              <a:rPr sz="6000"/>
            </a:b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Уметь проверять написание слов с безударным гласным звуком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7924680" cy="175248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Kozuka Gothic Pro L"/>
              </a:rPr>
              <a:t>Итог урок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320" y="251460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акие гласные буквы нужно проверять? Почему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ак проверим безударную гласную в слове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ПРАВИЛО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Чтобы найти проверочное слово,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нужно изменить слово так, чтобы </a:t>
            </a: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безударный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гласный звук </a:t>
            </a:r>
            <a:r>
              <a:rPr b="0" lang="ru-RU" sz="4400" spc="-1" strike="noStrike">
                <a:solidFill>
                  <a:srgbClr val="00b200"/>
                </a:solidFill>
                <a:latin typeface="Comic Sans MS"/>
              </a:rPr>
              <a:t>стал ударным,</a:t>
            </a:r>
            <a:r>
              <a:rPr b="0" lang="ru-RU" sz="44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68706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7200" spc="-1" strike="noStrike">
                <a:solidFill>
                  <a:srgbClr val="000000"/>
                </a:solidFill>
                <a:latin typeface="Comic Sans MS"/>
              </a:rPr>
              <a:t>З</a:t>
            </a:r>
            <a:r>
              <a:rPr b="0" lang="ru-RU" sz="7200" spc="-1" strike="noStrike">
                <a:solidFill>
                  <a:srgbClr val="ff0000"/>
                </a:solidFill>
                <a:latin typeface="Comic Sans MS"/>
              </a:rPr>
              <a:t>а</a:t>
            </a:r>
            <a:r>
              <a:rPr b="0" lang="ru-RU" sz="7200" spc="-1" strike="noStrike">
                <a:solidFill>
                  <a:srgbClr val="000000"/>
                </a:solidFill>
                <a:latin typeface="Comic Sans MS"/>
              </a:rPr>
              <a:t>мок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3048120" y="1905120"/>
            <a:ext cx="434340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omic Sans MS"/>
              </a:rPr>
              <a:t>Зам</a:t>
            </a:r>
            <a:r>
              <a:rPr b="0" lang="ru-RU" sz="7200" spc="-1" strike="noStrike">
                <a:solidFill>
                  <a:srgbClr val="ff0000"/>
                </a:solidFill>
                <a:latin typeface="Comic Sans MS"/>
              </a:rPr>
              <a:t>о</a:t>
            </a:r>
            <a:r>
              <a:rPr b="0" lang="ru-RU" sz="7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tretch/>
        </p:blipFill>
        <p:spPr>
          <a:xfrm>
            <a:off x="3581280" y="1703520"/>
            <a:ext cx="4292640" cy="380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6870600" cy="190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Спиши слова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Вставь пропущенные буквы. Поставь ударени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85800" y="25909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Уч__ник, з__вод, с__ва,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д___жди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68706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ПРОВЕРЬ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182844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mic Sans MS"/>
              </a:rPr>
              <a:t>Уч</a:t>
            </a:r>
            <a:r>
              <a:rPr b="0" lang="ru-RU" sz="6000" spc="-1" strike="noStrike">
                <a:solidFill>
                  <a:srgbClr val="c00000"/>
                </a:solidFill>
                <a:latin typeface="Comic Sans MS"/>
              </a:rPr>
              <a:t>е</a:t>
            </a:r>
            <a:r>
              <a:rPr b="0" lang="ru-RU" sz="6000" spc="-1" strike="noStrike">
                <a:solidFill>
                  <a:srgbClr val="000000"/>
                </a:solidFill>
                <a:latin typeface="Comic Sans MS"/>
              </a:rPr>
              <a:t>ник, з</a:t>
            </a:r>
            <a:r>
              <a:rPr b="0" lang="ru-RU" sz="6000" spc="-1" strike="noStrike">
                <a:solidFill>
                  <a:srgbClr val="c00000"/>
                </a:solidFill>
                <a:latin typeface="Comic Sans MS"/>
              </a:rPr>
              <a:t>а</a:t>
            </a:r>
            <a:r>
              <a:rPr b="0" lang="ru-RU" sz="6000" spc="-1" strike="noStrike">
                <a:solidFill>
                  <a:srgbClr val="000000"/>
                </a:solidFill>
                <a:latin typeface="Comic Sans MS"/>
              </a:rPr>
              <a:t>вод, с</a:t>
            </a:r>
            <a:r>
              <a:rPr b="0" lang="ru-RU" sz="6000" spc="-1" strike="noStrike">
                <a:solidFill>
                  <a:srgbClr val="c00000"/>
                </a:solidFill>
                <a:latin typeface="Comic Sans MS"/>
              </a:rPr>
              <a:t>о</a:t>
            </a:r>
            <a:r>
              <a:rPr b="0" lang="ru-RU" sz="6000" spc="-1" strike="noStrike">
                <a:solidFill>
                  <a:srgbClr val="000000"/>
                </a:solidFill>
                <a:latin typeface="Comic Sans MS"/>
              </a:rPr>
              <a:t>ва, 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mic Sans MS"/>
              </a:rPr>
              <a:t>д</a:t>
            </a:r>
            <a:r>
              <a:rPr b="0" lang="ru-RU" sz="6000" spc="-1" strike="noStrike">
                <a:solidFill>
                  <a:srgbClr val="c00000"/>
                </a:solidFill>
                <a:latin typeface="Comic Sans MS"/>
              </a:rPr>
              <a:t>о</a:t>
            </a:r>
            <a:r>
              <a:rPr b="0" lang="ru-RU" sz="6000" spc="-1" strike="noStrike">
                <a:solidFill>
                  <a:srgbClr val="000000"/>
                </a:solidFill>
                <a:latin typeface="Comic Sans MS"/>
              </a:rPr>
              <a:t>жди.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35942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Тема урока: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равописание слов с безударным гласным звуком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1760" y="762120"/>
            <a:ext cx="6870600" cy="411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omic Sans MS"/>
              </a:rPr>
              <a:t>Цель:</a:t>
            </a:r>
            <a:br>
              <a:rPr sz="6000"/>
            </a:b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Уметь проверять написание слов с безударным гласным звуком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380880" y="1828800"/>
            <a:ext cx="83822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рочитаю слово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Выясню его значен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оставлю ударен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Выделю безударный гласны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одберу проверочное слово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Вставлю букву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685440" y="304920"/>
            <a:ext cx="68706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План проверк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Comic Sans MS"/>
              </a:rPr>
              <a:t>Слова – подсказки называют </a:t>
            </a:r>
            <a:r>
              <a:rPr b="1" lang="ru-RU" sz="6000" spc="-1" strike="noStrike">
                <a:solidFill>
                  <a:srgbClr val="ff0000"/>
                </a:solidFill>
                <a:latin typeface="Comic Sans MS"/>
              </a:rPr>
              <a:t>проверочными </a:t>
            </a:r>
            <a:r>
              <a:rPr b="1" lang="ru-RU" sz="6000" spc="-1" strike="noStrike">
                <a:solidFill>
                  <a:srgbClr val="000000"/>
                </a:solidFill>
                <a:latin typeface="Comic Sans MS"/>
              </a:rPr>
              <a:t>словами, а их подбор </a:t>
            </a:r>
            <a:r>
              <a:rPr b="1" lang="ru-RU" sz="6000" spc="-1" strike="noStrike">
                <a:solidFill>
                  <a:srgbClr val="ff0000"/>
                </a:solidFill>
                <a:latin typeface="Comic Sans MS"/>
              </a:rPr>
              <a:t>проверкой</a:t>
            </a:r>
            <a:r>
              <a:rPr b="1" lang="ru-RU" sz="6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рина</cp:lastModifiedBy>
  <dcterms:modified xsi:type="dcterms:W3CDTF">2015-11-16T19:44:40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