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B3D-7679-47D2-A674-044CB740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431-3248-4433-BBE2-F7E59275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243-4B1B-4DB3-8252-32249AEC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E6A-2ABD-45D7-A388-C8488D2F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B294-6FA1-4252-8E68-C196EE7C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1CC-CA38-4231-A2AF-C79CD44B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4931-F184-441D-8C89-DC3CF657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4705-75DC-4DC0-8184-9C237FB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27B0-0160-453D-AE2A-0FF172D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816B-13E8-487A-95D2-C2C39331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0310-0B58-435F-B05D-131B4B8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247-F393-4C55-AD6E-9771253B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6A8-5A47-4B26-AC9F-BB6786F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516E-E826-4112-8953-7FFBF2E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AF3B-4A2C-4E58-A928-D93FEEC9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B09C-805B-477D-A997-7FE69742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15CB-6975-4A5C-8F0A-6973E6B9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B45-AEED-4D86-9567-CFCE5A5C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061-9678-40C4-8B66-A03897B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E0E-FC41-4F4B-B095-93FF758D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53B-8A8E-4E33-87A2-58E474A7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478-4E86-40C8-97DD-20685959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3EB-5508-4A12-BB50-6D3C484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862-5528-4EF5-9444-524A52B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AD2C-BC56-4E41-9AEB-36430310068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7A5F-669A-4D1D-9388-0180DF90B9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aparral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7 ноябр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br>
              <a:rPr sz="6000"/>
            </a:b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Уметь проверять написание слов с безударным гласным звук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924680" cy="17524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Kozuka Gothic Pro 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гласные буквы нужно проверять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проверим безударную гласную в слов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АВИ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бы найти проверочное слово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ужно изменить слово так, чтобы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езударны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гласный звук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стал ударным,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мок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ам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581280" y="1703520"/>
            <a:ext cx="42926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иши сло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Вставь пропущенные буквы. Поставь удар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2590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ч__ник, з__вод, с__ва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___жд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Уч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е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ник, з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од, с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а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жди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594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описание слов с безударным гласным звук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br>
              <a:rPr sz="6000"/>
            </a:b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Уметь проверять написание слов с безударным гласным звук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итаю сло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ясню его зна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ставлю удар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делю безударный глас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у проверочное сло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тавлю букв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лан провер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лова – подсказки называют </a:t>
            </a: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верочными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ловами, а их подбор </a:t>
            </a: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веркой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5-11-16T19:44:4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