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A2338-6833-4DAF-9CF3-702D0C681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483ED-AC45-42FB-B20E-0E4FFBE77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90475-FFD1-429C-B501-7C4219A9B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499CF-A83E-4993-9CB4-E756EBE35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FD82-EF80-4480-80CE-E72334D4F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3BBB-8A65-4C75-94E3-C9D2A5240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AFF6A-2C96-4584-BF97-41EAED9BD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406DD-61CB-4277-BD24-0E0B3171E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D6AC8-E53A-4666-B1FE-7D523B47D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833D-94F9-45F7-B685-AFD8C567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320A-3097-4269-A2B5-C97B4143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1399-E534-4136-BE44-54A3ED723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3D86-9097-42BF-94CF-0D23E2AC935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Light"/>
              </a:rPr>
              <a:t>Членистоногие</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142640" y="4508640"/>
            <a:ext cx="4653000" cy="17287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ставил: Хабирова Тамара Николаевна учитель биологии и химии МБОУ СОШ№1 с. Новобелокатай</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Многообразие видоов</a:t>
            </a:r>
            <a:endParaRPr b="0" lang="en-US" sz="4400" spc="-1" strike="noStrike">
              <a:solidFill>
                <a:srgbClr val="000000"/>
              </a:solidFill>
              <a:latin typeface="Calibri Light"/>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ea typeface="Tahoma"/>
              </a:rPr>
              <a:t>Членистоногие</a:t>
            </a:r>
            <a:r>
              <a:rPr b="0" lang="ru-RU" sz="2800" spc="-1" strike="noStrike">
                <a:solidFill>
                  <a:srgbClr val="172c07"/>
                </a:solidFill>
                <a:latin typeface="Tahoma"/>
                <a:ea typeface="Tahoma"/>
              </a:rPr>
              <a:t> – это крупнейший тип животных, объединяющий сегментированных высших беспозвоночных.</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Рисунок 6" descr="C:\Documents and Settings\LG\Рабочий стол\биология\05060101.gif"/>
          <p:cNvPicPr/>
          <p:nvPr/>
        </p:nvPicPr>
        <p:blipFill>
          <a:blip r:embed="rId1"/>
          <a:stretch/>
        </p:blipFill>
        <p:spPr>
          <a:xfrm>
            <a:off x="4648320" y="2209680"/>
            <a:ext cx="3809880" cy="277020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Строение</a:t>
            </a:r>
            <a:endParaRPr b="0" lang="en-US" sz="44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Двусторонне-симметричное тело этих животных обычно состоит из головы, груди и брюшка. Иногда грудь сливается с головой, образуя головогрудь. Членистые конечности (ножки) устроены по принципу рычага. Тело покрыто плотной хитиновой оболочкой, образующей наружный скелет, к ней присоединяются внутренние мышцы. Независимые движения отдельных конечностей осуществляются парами мышц-антагонистов. Оболочка состоит из нескольких слоёв и у большинства видов водонепроницаема, что позволило членистоногим заселить сушу.</a:t>
            </a:r>
            <a:endParaRPr b="0" lang="en-US" sz="2000" spc="-1" strike="noStrike">
              <a:solidFill>
                <a:srgbClr val="000000"/>
              </a:solidFill>
              <a:latin typeface="Calibri"/>
            </a:endParaRPr>
          </a:p>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Внутреннее строение</a:t>
            </a:r>
            <a:endParaRPr b="0" lang="en-US" sz="4400" spc="-1" strike="noStrike">
              <a:solidFill>
                <a:srgbClr val="000000"/>
              </a:solidFill>
              <a:latin typeface="Calibri Light"/>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Развивающиеся у животных этого типа в эмбриональный период парные целомические полости впоследствии разрушаются, сливаясь с остатками первичной полости; в результате формируется смешанная полость тела, содержащая внутренние органы и наполненная </a:t>
            </a:r>
            <a:r>
              <a:rPr b="1" lang="ru-RU" sz="2000" spc="-1" strike="noStrike">
                <a:solidFill>
                  <a:srgbClr val="000000"/>
                </a:solidFill>
                <a:latin typeface="Tahoma"/>
                <a:ea typeface="Tahoma"/>
              </a:rPr>
              <a:t>гемолимфой</a:t>
            </a:r>
            <a:r>
              <a:rPr b="0" lang="ru-RU" sz="2000" spc="-1" strike="noStrike">
                <a:solidFill>
                  <a:srgbClr val="172c07"/>
                </a:solidFill>
                <a:latin typeface="Tahoma"/>
                <a:ea typeface="Tahoma"/>
              </a:rPr>
              <a:t>. </a:t>
            </a: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Рисунок 6" descr="C:\Documents and Settings\LG\Рабочий стол\биология\05060404.gif"/>
          <p:cNvPicPr/>
          <p:nvPr/>
        </p:nvPicPr>
        <p:blipFill>
          <a:blip r:embed="rId1"/>
          <a:stretch/>
        </p:blipFill>
        <p:spPr>
          <a:xfrm>
            <a:off x="4648320" y="3086280"/>
            <a:ext cx="3809880" cy="190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азмножение</a:t>
            </a:r>
            <a:endParaRPr b="0" lang="en-US" sz="4400" spc="-1" strike="noStrike">
              <a:solidFill>
                <a:srgbClr val="000000"/>
              </a:solidFill>
              <a:latin typeface="Calibri Light"/>
            </a:endParaRPr>
          </a:p>
        </p:txBody>
      </p:sp>
      <p:sp>
        <p:nvSpPr>
          <p:cNvPr id="52" name="PlaceHolder 2"/>
          <p:cNvSpPr>
            <a:spLocks noGrp="1"/>
          </p:cNvSpPr>
          <p:nvPr>
            <p:ph/>
          </p:nvPr>
        </p:nvSpPr>
        <p:spPr>
          <a:xfrm>
            <a:off x="685440" y="2285640"/>
            <a:ext cx="3809880" cy="3809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ленистоногие раздельнополы; у некоторых видов наблюдается партеногенез. </a:t>
            </a:r>
            <a:endParaRPr b="0" lang="en-US" sz="2800" spc="-1" strike="noStrike">
              <a:solidFill>
                <a:srgbClr val="000000"/>
              </a:solidFill>
              <a:latin typeface="Calibri"/>
            </a:endParaRPr>
          </a:p>
        </p:txBody>
      </p:sp>
      <p:pic>
        <p:nvPicPr>
          <p:cNvPr id="53" name="Рисунок 6" descr="C:\Documents and Settings\LG\Рабочий стол\биология\05060403.gif"/>
          <p:cNvPicPr/>
          <p:nvPr/>
        </p:nvPicPr>
        <p:blipFill>
          <a:blip r:embed="rId1"/>
          <a:stretch/>
        </p:blipFill>
        <p:spPr>
          <a:xfrm>
            <a:off x="4495680" y="213372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ровеносная система</a:t>
            </a:r>
            <a:endParaRPr b="0" lang="en-US" sz="4400" spc="-1" strike="noStrike">
              <a:solidFill>
                <a:srgbClr val="000000"/>
              </a:solidFill>
              <a:latin typeface="Calibri Light"/>
            </a:endParaRPr>
          </a:p>
        </p:txBody>
      </p:sp>
      <p:sp>
        <p:nvSpPr>
          <p:cNvPr id="55"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веносная система не замкнута, артерии и вены отсутствуют. Сердце перекачивает по сосудам кровь из полости тела и обратно. Органы дыхания – жабры, лёгочные мешки либо трахеи. Передняя и задняя кишки выстланы хитином, в среднюю открываются протоки печени. Органы выделения – видоизменённые железы (почки) или мальпигиевы сосуды (у наземных форм).</a:t>
            </a:r>
            <a:endParaRPr b="0" lang="en-US" sz="20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Рисунок 6" descr="C:\Documents and Settings\LG\Рабочий стол\биология\05060201.gif"/>
          <p:cNvPicPr/>
          <p:nvPr/>
        </p:nvPicPr>
        <p:blipFill>
          <a:blip r:embed="rId1"/>
          <a:stretch/>
        </p:blipFill>
        <p:spPr>
          <a:xfrm>
            <a:off x="4648320" y="3224160"/>
            <a:ext cx="3809880" cy="16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Нервная система</a:t>
            </a:r>
            <a:endParaRPr b="0" lang="en-US" sz="4400" spc="-1" strike="noStrike">
              <a:solidFill>
                <a:srgbClr val="000000"/>
              </a:solidFill>
              <a:latin typeface="Calibri Light"/>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рвная система состоит из головного мозга (слившихся надглоточных нервных ганглиев) и брюшной нервной цепочки. Мозг членистоногих достигает высокой степени развития, что связано со сложным поведением. Из органов чувств характерны фасеточные глаза, чувствительные органы обоняния и вкуса.</a:t>
            </a: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Рисунок 6" descr="C:\Documents and Settings\LG\Рабочий стол\биология\21.jpg"/>
          <p:cNvPicPr/>
          <p:nvPr/>
        </p:nvPicPr>
        <p:blipFill>
          <a:blip r:embed="rId1"/>
          <a:stretch/>
        </p:blipFill>
        <p:spPr>
          <a:xfrm>
            <a:off x="5626080" y="2895480"/>
            <a:ext cx="18543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роисхождение</a:t>
            </a:r>
            <a:endParaRPr b="0" lang="en-US" sz="4400" spc="-1" strike="noStrike">
              <a:solidFill>
                <a:srgbClr val="000000"/>
              </a:solidFill>
              <a:latin typeface="Calibri Light"/>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ленистоногие происходят от примитивных морских кольчатых червей. Учёные до сих пор не установили, произошли ли все членистоногие от общего предка или каждая группа животных этого типа произошла независимо от других групп.</a:t>
            </a:r>
            <a:endParaRPr b="0" lang="en-US" sz="2400" spc="-1" strike="noStrike">
              <a:solidFill>
                <a:srgbClr val="000000"/>
              </a:solidFill>
              <a:latin typeface="Calibri"/>
            </a:endParaRPr>
          </a:p>
        </p:txBody>
      </p:sp>
      <p:pic>
        <p:nvPicPr>
          <p:cNvPr id="62" name="Рисунок 6" descr="C:\Documents and Settings\LG\Рабочий стол\биология\22.jpg"/>
          <p:cNvPicPr/>
          <p:nvPr/>
        </p:nvPicPr>
        <p:blipFill>
          <a:blip r:embed="rId1"/>
          <a:stretch/>
        </p:blipFill>
        <p:spPr>
          <a:xfrm>
            <a:off x="4857840" y="1981080"/>
            <a:ext cx="3390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битание</a:t>
            </a:r>
            <a:endParaRPr b="0" lang="en-US" sz="4400" spc="-1" strike="noStrike">
              <a:solidFill>
                <a:srgbClr val="000000"/>
              </a:solidFill>
              <a:latin typeface="Calibri Light"/>
            </a:endParaRPr>
          </a:p>
        </p:txBody>
      </p:sp>
      <p:sp>
        <p:nvSpPr>
          <p:cNvPr id="64"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8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172c07"/>
                </a:solidFill>
                <a:latin typeface="Tahoma"/>
                <a:ea typeface="Tahoma"/>
              </a:rPr>
              <a:t>В настоящее время членистоногие встречаются во всех природных экосистемах: от высокогорных пустынь до глубоководных впадин. </a:t>
            </a:r>
            <a:endParaRPr b="0" lang="en-US" sz="1900" spc="-1" strike="noStrike">
              <a:solidFill>
                <a:srgbClr val="000000"/>
              </a:solidFill>
              <a:latin typeface="Calibri"/>
            </a:endParaRPr>
          </a:p>
          <a:p>
            <a:pPr marL="228600" indent="-228600">
              <a:lnSpc>
                <a:spcPct val="8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172c07"/>
                </a:solidFill>
                <a:latin typeface="Tahoma"/>
                <a:ea typeface="Tahoma"/>
              </a:rPr>
              <a:t>Особенности организации сделали этот тип одним из наиболее приспособленных к жизни на Земле. Об этом, в частности, свидетельствует количество современных видов членистоногих, составляющее несколько миллионов. </a:t>
            </a:r>
            <a:endParaRPr b="0" lang="en-US" sz="19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5" name="Рисунок 6" descr="C:\Documents and Settings\LG\Рабочий стол\биология\23.jpg"/>
          <p:cNvPicPr/>
          <p:nvPr/>
        </p:nvPicPr>
        <p:blipFill>
          <a:blip r:embed="rId1"/>
          <a:stretch/>
        </p:blipFill>
        <p:spPr>
          <a:xfrm>
            <a:off x="4857840" y="1981080"/>
            <a:ext cx="33908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2:04:40Z</dcterms:created>
  <dc:creator>Lussia</dc:creator>
  <dc:description/>
  <dc:language>en-US</dc:language>
  <cp:lastModifiedBy>марина</cp:lastModifiedBy>
  <dcterms:modified xsi:type="dcterms:W3CDTF">2017-01-11T06:36:24Z</dcterms:modified>
  <cp:revision>4</cp:revision>
  <dc:subject/>
  <dc:title>Членистоногие</dc:title>
</cp:coreProperties>
</file>